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5295-E133-45E9-A3A7-D15CE6BAA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109D-CEE4-4E61-B109-495C1945E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CD13-38B8-4856-9408-CA9BF576E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5D49-99CB-46BE-A9AD-0F49D3163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A1AB-09F0-4F1D-86FB-E647D0A6A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DC02-6B02-4ADB-9377-FC47D03DB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402C-8C5F-4DF7-8AC2-90670554E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77DD-9F8C-4F79-A7BA-FF98E7C0E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1F9A-4592-47FE-87D8-42910BBA3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6758-BD3A-4D8B-A538-572801A0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982A-AC6B-429A-B336-3A6C5864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3CE0-15D0-421E-A2B7-546AB4D9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5952D-729C-4636-A370-EB5A30934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1943280"/>
            <a:ext cx="787212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4500" spc="-1" strike="noStrike">
                <a:solidFill>
                  <a:srgbClr val="000066"/>
                </a:solidFill>
                <a:latin typeface="Comic Sans MS"/>
              </a:rPr>
              <a:t>Météorologie et Vol à Voile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45520" y="3429000"/>
            <a:ext cx="7167240" cy="15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920" rIns="97920" tIns="48960" bIns="48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Comic Sans MS"/>
              </a:rPr>
              <a:t>Eléments de Météorologie Généra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Comic Sans MS"/>
              </a:rPr>
              <a:t>et d’aérolo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792920" y="5275440"/>
            <a:ext cx="18432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08000" y="189000"/>
            <a:ext cx="1224000" cy="1143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4960" y="1341360"/>
            <a:ext cx="10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Bradley Hand ITC"/>
                <a:ea typeface="Lucida Sans Unicode"/>
              </a:rPr>
              <a:t>F.F.V.V</a:t>
            </a:r>
            <a:r>
              <a:rPr b="0" lang="fr-FR" sz="2000" spc="-1" strike="noStrike">
                <a:solidFill>
                  <a:srgbClr val="ffffff"/>
                </a:solidFill>
                <a:latin typeface="Bradley Hand ITC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09480" y="6189840"/>
            <a:ext cx="250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novembre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08000" y="5373720"/>
            <a:ext cx="8692560" cy="1527120"/>
            <a:chOff x="108000" y="5373720"/>
            <a:chExt cx="8692560" cy="1527120"/>
          </a:xfrm>
        </p:grpSpPr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108000" y="5373720"/>
              <a:ext cx="1468440" cy="137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7618680" y="6502320"/>
              <a:ext cx="11818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000" spc="-1" strike="noStrike">
                  <a:solidFill>
                    <a:srgbClr val="000066"/>
                  </a:solidFill>
                  <a:latin typeface="Comic Sans MS"/>
                </a:rPr>
                <a:t>Cliché D. Cruet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000" spc="-1" strike="noStrike">
                  <a:solidFill>
                    <a:srgbClr val="000066"/>
                  </a:solidFill>
                  <a:latin typeface="Comic Sans MS"/>
                </a:rPr>
                <a:t>Espagne 199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3418200" y="4727520"/>
            <a:ext cx="229752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333399"/>
                </a:solidFill>
                <a:latin typeface="Comic Sans MS"/>
              </a:rPr>
              <a:t>M. Mioche</a:t>
            </a:r>
            <a:r>
              <a:rPr b="0" i="1" lang="fr-FR" sz="1200" spc="-1" strike="noStrike">
                <a:solidFill>
                  <a:srgbClr val="333399"/>
                </a:solidFill>
                <a:latin typeface="Comic Sans MS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333399"/>
                </a:solidFill>
                <a:latin typeface="Comic Sans MS"/>
              </a:rPr>
              <a:t>D. Cruette, H. Hallo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333399"/>
                </a:solidFill>
                <a:latin typeface="Comic Sans MS"/>
              </a:rPr>
              <a:t>G. Sennequier et</a:t>
            </a:r>
            <a:r>
              <a:rPr b="0" lang="fr-FR" sz="12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i="1" lang="fr-FR" sz="1200" spc="-1" strike="noStrike">
                <a:solidFill>
                  <a:srgbClr val="333399"/>
                </a:solidFill>
                <a:latin typeface="Comic Sans MS"/>
              </a:rPr>
              <a:t>N. Siacchita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15920"/>
            <a:ext cx="9144000" cy="585720"/>
          </a:xfrm>
          <a:prstGeom prst="rect">
            <a:avLst/>
          </a:prstGeom>
          <a:solidFill>
            <a:srgbClr val="ffff99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Préamb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303640"/>
            <a:ext cx="9144000" cy="25333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fr-FR" sz="2000" spc="-1" strike="noStrike">
                <a:solidFill>
                  <a:srgbClr val="000099"/>
                </a:solidFill>
                <a:latin typeface="Comic Sans MS"/>
              </a:rPr>
              <a:t>Les diapositives contenues dans ce cédér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Comic Sans MS"/>
              </a:rPr>
              <a:t>ont, pour l’essentiel, été créées p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Comic Sans MS"/>
              </a:rPr>
              <a:t>Michel Mioch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Comic Sans MS"/>
              </a:rPr>
              <a:t>Conseiller Technique SEFA auprès du C.N.V.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Comic Sans MS"/>
              </a:rPr>
              <a:t>Pédagogue dans l’âm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Comic Sans MS"/>
              </a:rPr>
              <a:t>il lui revient tout le mérite d’avoir imaginé et réalis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Comic Sans MS"/>
              </a:rPr>
              <a:t>une présentation vivante et origina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Comic Sans MS"/>
              </a:rPr>
              <a:t>de notions souvent considérées comme « indigestes »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4781520"/>
            <a:ext cx="9144000" cy="131364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Comic Sans MS"/>
              </a:rPr>
              <a:t>Le travail de Michel Mioche a été complét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Comic Sans MS"/>
              </a:rPr>
              <a:t>par des apports de plusieurs memb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Comic Sans MS"/>
              </a:rPr>
              <a:t>de la commission météorologie de la F.F.V.V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fr-FR" sz="2000" spc="-1" strike="noStrike">
                <a:solidFill>
                  <a:srgbClr val="000099"/>
                </a:solidFill>
                <a:latin typeface="Comic Sans MS"/>
              </a:rPr>
              <a:t>Denise Cruette, Hervé Hallot, Guy Sennequier, Norbert Siacchitano</a:t>
            </a:r>
            <a:r>
              <a:rPr b="1" lang="fr-FR" sz="1800" spc="-1" strike="noStrike">
                <a:solidFill>
                  <a:srgbClr val="000099"/>
                </a:solidFill>
                <a:latin typeface="Comic Sans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765000"/>
            <a:ext cx="9144000" cy="161856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Ce cédérom s’adresse surtout aux « formateurs 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auxquels il fourn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un ensemble de supports de cours inéd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Il peut également être consulté avec profit par tous les véliv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désireux d’approfondir leurs connaissance en météor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440" y="44280"/>
            <a:ext cx="9088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1280" y="6172200"/>
            <a:ext cx="8964720" cy="64260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Comic Sans MS"/>
              </a:rPr>
              <a:t>Il s’agit d’un travail entièrement bénévo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Comic Sans MS"/>
              </a:rPr>
              <a:t>qui ne doit pas être utilisé à des fins commer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4920" y="1198440"/>
            <a:ext cx="9144000" cy="1008720"/>
          </a:xfrm>
          <a:prstGeom prst="rect">
            <a:avLst/>
          </a:prstGeom>
          <a:solidFill>
            <a:srgbClr val="ffff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Les sujets traités dans ce cédérom ne constituent enc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qu’une petite partie de la « science météorologique » nécessaire au vélivole rêvant de grands vo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9240" y="216684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Kristen IT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927520"/>
            <a:ext cx="9144000" cy="1008720"/>
          </a:xfrm>
          <a:prstGeom prst="rect">
            <a:avLst/>
          </a:prstGeom>
          <a:solidFill>
            <a:srgbClr val="ffff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Tout le reste est à faire… et ceux d’entre vous qui voudront bien contribuer au travail de rédaction des fiches suivantes seront les bienvenus !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460760"/>
            <a:ext cx="9144000" cy="1923480"/>
          </a:xfrm>
          <a:prstGeom prst="rect">
            <a:avLst/>
          </a:prstGeom>
          <a:solidFill>
            <a:srgbClr val="ffff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99"/>
                </a:solidFill>
                <a:latin typeface="Comic Sans MS"/>
              </a:rPr>
              <a:t>Contrairement à un ouvrage imprimé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99"/>
                </a:solidFill>
                <a:latin typeface="Comic Sans MS"/>
              </a:rPr>
              <a:t>ce type de support est facilement évoluti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99"/>
                </a:solidFill>
                <a:latin typeface="Comic Sans MS"/>
              </a:rPr>
              <a:t>t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o</a:t>
            </a:r>
            <a:r>
              <a:rPr b="1" lang="fr-FR" sz="2000" spc="-1" strike="noStrike">
                <a:solidFill>
                  <a:srgbClr val="333399"/>
                </a:solidFill>
                <a:latin typeface="Comic Sans MS"/>
              </a:rPr>
              <a:t>us ceux qui voudront bi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99"/>
                </a:solidFill>
                <a:latin typeface="Comic Sans MS"/>
              </a:rPr>
              <a:t>nous communiquer leurs remarqu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99"/>
                </a:solidFill>
                <a:latin typeface="Comic Sans MS"/>
              </a:rPr>
              <a:t>ou enrichir cette coll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99"/>
                </a:solidFill>
                <a:latin typeface="Comic Sans MS"/>
              </a:rPr>
              <a:t>seront également les bienven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52488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Organisation et utilisation du cédé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5016600"/>
            <a:ext cx="9144000" cy="131364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Dans chaque chapitre à partir du sommair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des « boutons » permettent d’atteind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la série de diapositives corresponda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à un chapitre ou à un sujet ou à une annex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449520"/>
            <a:ext cx="9144000" cy="10087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Pour faciliter la consultation de ce cédérom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les diapositives sont réparties en trois chapit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dont le contenu est donné ci-aprè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041480"/>
            <a:ext cx="9144000" cy="192348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Cet ensemble de diapositives  n’est pas à considér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comme un « tout », non fractionnable, bien au contraire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Chaque conférencier pourr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en fonction de son auditoire et du sujet à traite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constituer sa propre présentation, en extrayant les diapositiv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qui l’intéressent, de manière à bâtir son propre cour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52488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Organisation et utilisation du cédé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-36360" y="6232680"/>
            <a:ext cx="9180360" cy="58068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Comic Sans MS"/>
              </a:rPr>
              <a:t>Les  commissions « Formation et sécurité » et « Météorologie » de la FFV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Comic Sans MS"/>
              </a:rPr>
              <a:t>Novembre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43720" y="5157720"/>
            <a:ext cx="2939040" cy="4597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Comic Sans MS"/>
              </a:rPr>
              <a:t>Bonne découverte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2060640"/>
            <a:ext cx="8070840" cy="161856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fr-FR" sz="2000" spc="-1" strike="noStrike">
                <a:solidFill>
                  <a:srgbClr val="333399"/>
                </a:solidFill>
                <a:latin typeface="Comic Sans MS"/>
              </a:rPr>
              <a:t>Pour</a:t>
            </a:r>
            <a:r>
              <a:rPr b="1" lang="fr-FR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fr-FR" sz="2000" spc="-1" strike="noStrike">
                <a:solidFill>
                  <a:srgbClr val="333399"/>
                </a:solidFill>
                <a:latin typeface="Comic Sans MS"/>
              </a:rPr>
              <a:t>ceux qui ne disposeraient p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99"/>
                </a:solidFill>
                <a:latin typeface="Comic Sans MS"/>
              </a:rPr>
              <a:t>du logiciel POWERPOIN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99"/>
                </a:solidFill>
                <a:latin typeface="Comic Sans MS"/>
              </a:rPr>
              <a:t>une « visionneuse » Powerpoint a été placée dans ce cédérom. Il suffit de l’installer à partir du cédérom, puis d’ouvrir les différents fich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280" y="3789360"/>
            <a:ext cx="8964720" cy="9475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Pour une lecture avec animations,</a:t>
            </a:r>
            <a:r>
              <a:rPr b="1" lang="en-US" sz="3600" spc="-1" strike="noStrike">
                <a:solidFill>
                  <a:srgbClr val="333399"/>
                </a:solidFill>
                <a:latin typeface="Kristen IT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allez ensuite à  : Affichage/diaporama  …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08040" y="228600"/>
            <a:ext cx="777384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Somma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4480" y="1679400"/>
            <a:ext cx="8850240" cy="48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Chapitre I : Quelques propriétés de l’atmosph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I-1: Composition de l’air atmosphéri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I-2: la température et transmission de la chal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I-2-1: Les processus mis en j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A - la co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Kristen ITC"/>
              </a:rPr>
              <a:t>	</a:t>
            </a:r>
            <a:r>
              <a:rPr b="1" lang="fr-FR" sz="2400" spc="-1" strike="noStrike">
                <a:solidFill>
                  <a:srgbClr val="000066"/>
                </a:solidFill>
                <a:latin typeface="Kristen ITC"/>
              </a:rPr>
              <a:t>	</a:t>
            </a: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B - La convection </a:t>
            </a: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C - le rayonnement therm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I-2-2: Bilan radiatif-convecti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de la Terre et de son atmosph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I-2-3: Répartition verticale de la tempé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et atmosphère « standard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I-3: La pression atmosphér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9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9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9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9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9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900" fill="hold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900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900" fill="hold"/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900" fill="hold"/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900" fill="hold"/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-192960" y="189000"/>
            <a:ext cx="9450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hapitre II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Les principales transformations de l’air atmosphér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II-1: Détente adiabatique de l’air 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II-2: Phénomènes liés à la condensation de la vapeur d ’e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II-2-1: La vapeur d ’eau dans l’atmosphè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Définition de l’humidité de l’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II-2-2: la condensation de la vapeur d’e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A: Une analogie  « parlant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B: Comment cela se passe-t-il dans l’atmosph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C: Humidité relative, son expression en fo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du rapport de mélange satur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D: Notion de chaleur lat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II-3: Détente adiabatique de l’air satur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II-4: Stabilité et instabilité de particules d’ai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d’échelle aérolog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-181080" y="-27000"/>
            <a:ext cx="11153520" cy="72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Chapitre</a:t>
            </a:r>
            <a:r>
              <a:rPr b="1" lang="fr-FR" sz="6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III: </a:t>
            </a:r>
            <a:r>
              <a:rPr b="1" lang="fr-FR" sz="2400" spc="-1" strike="noStrike">
                <a:solidFill>
                  <a:srgbClr val="000099"/>
                </a:solidFill>
                <a:latin typeface="Comic Sans MS"/>
              </a:rPr>
              <a:t>L’émagramme</a:t>
            </a: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        </a:t>
            </a:r>
            <a:r>
              <a:rPr b="1" lang="fr-FR" sz="2400" spc="-1" strike="noStrike">
                <a:solidFill>
                  <a:srgbClr val="ffffff"/>
                </a:solidFill>
                <a:latin typeface="Comic Sans MS"/>
              </a:rPr>
              <a:t>et ses applications</a:t>
            </a: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 pour la prévision Vol à Vo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III-1: Présentation de l’éma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III-2: La Prévision des ascend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III-3: Représentation de l’humidité de l’air et prévi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        </a:t>
            </a: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de la condensation de la vapeur d ’e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III-4: Mesure de l’humidité et détermination du poi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de rosée et du point de condensation (base 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cumul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III-5: La masse d’air en un « clin d ’œil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III-6: L’émagramme 761 de Météo-France et quelques </a:t>
            </a: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fr-FR" sz="2400" spc="-1" strike="noStrike">
                <a:solidFill>
                  <a:srgbClr val="000066"/>
                </a:solidFill>
                <a:latin typeface="Comic Sans MS"/>
              </a:rPr>
              <a:t>exemples typiques de sondages basses cou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89000"/>
            <a:ext cx="16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0T11:09:44Z</dcterms:created>
  <dc:creator>Denise Cruette</dc:creator>
  <dc:description/>
  <dc:language>en-US</dc:language>
  <cp:lastModifiedBy>denise cruette</cp:lastModifiedBy>
  <dcterms:modified xsi:type="dcterms:W3CDTF">2003-11-28T05:08:38Z</dcterms:modified>
  <cp:revision>41</cp:revision>
  <dc:subject/>
  <dc:title>Diapositive 1</dc:title>
</cp:coreProperties>
</file>