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EC4D-762D-4A51-BA9A-16C46502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96B-4308-4A41-80E7-A66BDC18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248-374D-405B-803D-969F6CF7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B54-D8D1-45E2-A736-534BA707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654-2DE8-4812-8068-F3795B1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060-752D-48B5-A436-EDBEF834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159-D15D-45CE-A7BF-C5891C02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F80-88D3-45A2-9F1D-E6F3EB22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829-7C61-4E80-9A22-EE3CC2D0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259-FD44-4D88-8475-16DAD49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D93-57C2-4253-9FE2-A9B5CFAF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FB95-5189-4DAD-B3DD-8A6A0D6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4729-0EC8-4BF5-9E0C-C95281385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Comic Sans MS"/>
              </a:rPr>
              <a:t>Références bibliographiques et res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-36360" y="2658960"/>
          <a:ext cx="9171000" cy="192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2658960"/>
                    <a:ext cx="917100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87720" y="77796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Références bibliographi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et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9:10:21Z</dcterms:created>
  <dc:creator>CRUETTE</dc:creator>
  <dc:description/>
  <dc:language>en-US</dc:language>
  <cp:lastModifiedBy>denise cruette</cp:lastModifiedBy>
  <dcterms:modified xsi:type="dcterms:W3CDTF">2003-11-21T17:23:40Z</dcterms:modified>
  <cp:revision>5</cp:revision>
  <dc:subject/>
  <dc:title>Références bibliographiques et ressources</dc:title>
</cp:coreProperties>
</file>