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wmf" ContentType="image/x-wmf"/>
  <Override PartName="/ppt/media/image8.png" ContentType="image/png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5.wmf" ContentType="image/x-wmf"/>
  <Override PartName="/ppt/media/image13.gif" ContentType="image/gif"/>
  <Override PartName="/ppt/media/image16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8.png" ContentType="image/png"/>
  <Override PartName="/ppt/media/image27.png" ContentType="image/png"/>
  <Override PartName="/ppt/media/image24.png" ContentType="image/png"/>
  <Override PartName="/ppt/media/image23.wmf" ContentType="image/x-wmf"/>
  <Override PartName="/ppt/media/image22.wmf" ContentType="image/x-wmf"/>
  <Override PartName="/ppt/media/image15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8F18-8DF7-4CCA-9154-5E130AC4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79280"/>
            <a:ext cx="874404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280"/>
            <a:ext cx="874404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176D-84C8-43F5-A45B-9F49A32C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79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79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35B-52F6-4B04-8BB6-9F596759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79280"/>
            <a:ext cx="281520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79280"/>
            <a:ext cx="281520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79280"/>
            <a:ext cx="281520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280"/>
            <a:ext cx="281520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280"/>
            <a:ext cx="281520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280"/>
            <a:ext cx="281520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B8E-F079-4CD7-85F2-350EAD31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79280"/>
            <a:ext cx="874404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B82-1405-4BA7-9CAF-BB3183AA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79280"/>
            <a:ext cx="8744040" cy="41180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F8EE-1CF1-4ADC-9FFF-5B1B9BDD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79280"/>
            <a:ext cx="4267080" cy="41180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79280"/>
            <a:ext cx="4267080" cy="41180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9BA-0D45-4A85-931B-8CDB3FF1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C79-C168-43B6-B6D9-97B6388B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480"/>
            <a:ext cx="8744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463-229E-4053-A553-F90C4B88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79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79280"/>
            <a:ext cx="4267080" cy="41180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FDA-1F95-4E6F-9215-BA9CDA6B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79280"/>
            <a:ext cx="4267080" cy="41180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79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368-6CD5-4CB4-A422-297AA422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79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79280"/>
            <a:ext cx="426708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280"/>
            <a:ext cx="8744040" cy="1964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7BC-CD36-44A4-88B9-7EB40322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480"/>
            <a:ext cx="8744040" cy="114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79280"/>
            <a:ext cx="8744040" cy="41180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4000"/>
          </a:bodyPr>
          <a:p>
            <a:pPr marL="345960" indent="-3459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876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51640" indent="-23112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92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72520" indent="-23112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72520" indent="-23112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72520" indent="-23112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1640" cy="458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fr-FR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5906ACA-DF08-4327-852B-5B1418245859}" type="datetime"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8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fr-FR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3520" y="6248520"/>
            <a:ext cx="2141640" cy="458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fr-FR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B51DC2A-6937-4E3B-BB40-05810CC2A054}" type="slidenum"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8.xml"/><Relationship Id="rId3" Type="http://schemas.openxmlformats.org/officeDocument/2006/relationships/slide" Target="slide89.xml"/><Relationship Id="rId4" Type="http://schemas.openxmlformats.org/officeDocument/2006/relationships/slide" Target="slide5.xml"/><Relationship Id="rId5" Type="http://schemas.openxmlformats.org/officeDocument/2006/relationships/slide" Target="slide64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image" Target="../media/image12.gif"/><Relationship Id="rId10" Type="http://schemas.openxmlformats.org/officeDocument/2006/relationships/image" Target="../media/image14.gif"/><Relationship Id="rId11" Type="http://schemas.openxmlformats.org/officeDocument/2006/relationships/image" Target="../media/image14.gif"/><Relationship Id="rId12" Type="http://schemas.openxmlformats.org/officeDocument/2006/relationships/image" Target="../media/image14.gif"/><Relationship Id="rId13" Type="http://schemas.openxmlformats.org/officeDocument/2006/relationships/image" Target="../media/image14.gif"/><Relationship Id="rId14" Type="http://schemas.openxmlformats.org/officeDocument/2006/relationships/image" Target="../media/image14.gif"/><Relationship Id="rId15" Type="http://schemas.openxmlformats.org/officeDocument/2006/relationships/image" Target="../media/image14.gi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" Target="slide78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" Target="slide11.xml"/><Relationship Id="rId4" Type="http://schemas.openxmlformats.org/officeDocument/2006/relationships/slide" Target="slide16.xml"/><Relationship Id="rId5" Type="http://schemas.openxmlformats.org/officeDocument/2006/relationships/slide" Target="slide59.xml"/><Relationship Id="rId6" Type="http://schemas.openxmlformats.org/officeDocument/2006/relationships/slide" Target="slide30.xml"/><Relationship Id="rId7" Type="http://schemas.openxmlformats.org/officeDocument/2006/relationships/slide" Target="slide54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320040" y="227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228240" y="3819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320040" y="45021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320040" y="46116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20040" y="515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9080" y="139680"/>
            <a:ext cx="10363320" cy="72302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omic Sans MS"/>
              </a:rPr>
              <a:t>Chapitre I : Quelques propriétés de l ’atmosph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I-1: Composition de l ’air atmosph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I-2: la température et transmission de la ch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I-3: La pression atmosph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Comic Sans MS"/>
              </a:rPr>
              <a:t>Annexe 1 : Quelques compléments sur les lois du </a:t>
            </a:r>
            <a:r>
              <a:rPr b="1" i="1" lang="fr-FR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Comic Sans MS"/>
              </a:rPr>
              <a:t>      rayonnement et sur le rayonnement so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fr-FR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Comic Sans MS"/>
              </a:rPr>
              <a:t>Annexe 2 : Bilan radiatif et effet de se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496440" y="1633680"/>
            <a:ext cx="523800" cy="3784320"/>
            <a:chOff x="9496440" y="1633680"/>
            <a:chExt cx="523800" cy="3784320"/>
          </a:xfrm>
        </p:grpSpPr>
        <p:sp>
          <p:nvSpPr>
            <p:cNvPr id="48" name="">
              <a:hlinkClick r:id="rId2" action="ppaction://hlinksldjump"/>
            </p:cNvPr>
            <p:cNvSpPr/>
            <p:nvPr/>
          </p:nvSpPr>
          <p:spPr>
            <a:xfrm>
              <a:off x="9515520" y="3876840"/>
              <a:ext cx="503280" cy="519120"/>
            </a:xfrm>
            <a:custGeom>
              <a:avLst/>
              <a:gdLst>
                <a:gd name="textAreaLeft" fmla="*/ 32400 w 503280"/>
                <a:gd name="textAreaRight" fmla="*/ 470880 w 503280"/>
                <a:gd name="textAreaTop" fmla="*/ 32400 h 519120"/>
                <a:gd name="textAreaBottom" fmla="*/ 486720 h 519120"/>
              </a:gdLst>
              <a:ahLst/>
              <a:rect l="textAreaLeft" t="textAreaTop" r="textAreaRight" b="textAreaBottom"/>
              <a:pathLst>
                <a:path w="21600" h="22279">
                  <a:moveTo>
                    <a:pt x="0" y="0"/>
                  </a:moveTo>
                  <a:lnTo>
                    <a:pt x="21600" y="0"/>
                  </a:lnTo>
                  <a:lnTo>
                    <a:pt x="21600" y="22279"/>
                  </a:lnTo>
                  <a:lnTo>
                    <a:pt x="0" y="22279"/>
                  </a:lnTo>
                  <a:close/>
                </a:path>
                <a:path fill="lightenLess" w="21600" h="2227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279">
                  <a:moveTo>
                    <a:pt x="21600" y="0"/>
                  </a:moveTo>
                  <a:lnTo>
                    <a:pt x="21600" y="22279"/>
                  </a:lnTo>
                  <a:lnTo>
                    <a:pt x="20200" y="20879"/>
                  </a:lnTo>
                  <a:lnTo>
                    <a:pt x="20200" y="1400"/>
                  </a:lnTo>
                  <a:close/>
                </a:path>
                <a:path fill="darkenLess" w="21600" h="22279">
                  <a:moveTo>
                    <a:pt x="21600" y="22279"/>
                  </a:moveTo>
                  <a:lnTo>
                    <a:pt x="0" y="22279"/>
                  </a:lnTo>
                  <a:lnTo>
                    <a:pt x="1400" y="20879"/>
                  </a:lnTo>
                  <a:lnTo>
                    <a:pt x="20200" y="20879"/>
                  </a:lnTo>
                  <a:close/>
                </a:path>
                <a:path fill="lighten" w="21600" h="22279">
                  <a:moveTo>
                    <a:pt x="0" y="2227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879"/>
                  </a:lnTo>
                  <a:close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7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>
              <a:hlinkClick r:id="rId3" action="ppaction://hlinksldjump"/>
            </p:cNvPr>
            <p:cNvSpPr/>
            <p:nvPr/>
          </p:nvSpPr>
          <p:spPr>
            <a:xfrm>
              <a:off x="9516960" y="4898880"/>
              <a:ext cx="503280" cy="519120"/>
            </a:xfrm>
            <a:custGeom>
              <a:avLst/>
              <a:gdLst>
                <a:gd name="textAreaLeft" fmla="*/ 32400 w 503280"/>
                <a:gd name="textAreaRight" fmla="*/ 470880 w 503280"/>
                <a:gd name="textAreaTop" fmla="*/ 32400 h 519120"/>
                <a:gd name="textAreaBottom" fmla="*/ 486720 h 519120"/>
              </a:gdLst>
              <a:ahLst/>
              <a:rect l="textAreaLeft" t="textAreaTop" r="textAreaRight" b="textAreaBottom"/>
              <a:pathLst>
                <a:path w="21600" h="22279">
                  <a:moveTo>
                    <a:pt x="0" y="0"/>
                  </a:moveTo>
                  <a:lnTo>
                    <a:pt x="21600" y="0"/>
                  </a:lnTo>
                  <a:lnTo>
                    <a:pt x="21600" y="22279"/>
                  </a:lnTo>
                  <a:lnTo>
                    <a:pt x="0" y="22279"/>
                  </a:lnTo>
                  <a:close/>
                </a:path>
                <a:path fill="lightenLess" w="21600" h="2227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279">
                  <a:moveTo>
                    <a:pt x="21600" y="0"/>
                  </a:moveTo>
                  <a:lnTo>
                    <a:pt x="21600" y="22279"/>
                  </a:lnTo>
                  <a:lnTo>
                    <a:pt x="20200" y="20879"/>
                  </a:lnTo>
                  <a:lnTo>
                    <a:pt x="20200" y="1400"/>
                  </a:lnTo>
                  <a:close/>
                </a:path>
                <a:path fill="darkenLess" w="21600" h="22279">
                  <a:moveTo>
                    <a:pt x="21600" y="22279"/>
                  </a:moveTo>
                  <a:lnTo>
                    <a:pt x="0" y="22279"/>
                  </a:lnTo>
                  <a:lnTo>
                    <a:pt x="1400" y="20879"/>
                  </a:lnTo>
                  <a:lnTo>
                    <a:pt x="20200" y="20879"/>
                  </a:lnTo>
                  <a:close/>
                </a:path>
                <a:path fill="lighten" w="21600" h="22279">
                  <a:moveTo>
                    <a:pt x="0" y="2227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879"/>
                  </a:lnTo>
                  <a:close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8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>
              <a:hlinkClick r:id="" action="ppaction://hlinkshowjump?jump=nextslide"/>
            </p:cNvPr>
            <p:cNvSpPr/>
            <p:nvPr/>
          </p:nvSpPr>
          <p:spPr>
            <a:xfrm>
              <a:off x="9496440" y="1633680"/>
              <a:ext cx="503280" cy="520560"/>
            </a:xfrm>
            <a:custGeom>
              <a:avLst/>
              <a:gdLst>
                <a:gd name="textAreaLeft" fmla="*/ 32400 w 503280"/>
                <a:gd name="textAreaRight" fmla="*/ 470880 w 503280"/>
                <a:gd name="textAreaTop" fmla="*/ 32400 h 520560"/>
                <a:gd name="textAreaBottom" fmla="*/ 488160 h 520560"/>
              </a:gdLst>
              <a:ahLst/>
              <a:rect l="textAreaLeft" t="textAreaTop" r="textAreaRight" b="textAreaBottom"/>
              <a:pathLst>
                <a:path w="21600" h="22341">
                  <a:moveTo>
                    <a:pt x="0" y="0"/>
                  </a:moveTo>
                  <a:lnTo>
                    <a:pt x="21600" y="0"/>
                  </a:lnTo>
                  <a:lnTo>
                    <a:pt x="21600" y="22341"/>
                  </a:lnTo>
                  <a:lnTo>
                    <a:pt x="0" y="22341"/>
                  </a:lnTo>
                  <a:close/>
                </a:path>
                <a:path fill="lightenLess" w="21600" h="2234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41">
                  <a:moveTo>
                    <a:pt x="21600" y="0"/>
                  </a:moveTo>
                  <a:lnTo>
                    <a:pt x="21600" y="22341"/>
                  </a:lnTo>
                  <a:lnTo>
                    <a:pt x="20200" y="20941"/>
                  </a:lnTo>
                  <a:lnTo>
                    <a:pt x="20200" y="1400"/>
                  </a:lnTo>
                  <a:close/>
                </a:path>
                <a:path fill="darkenLess" w="21600" h="22341">
                  <a:moveTo>
                    <a:pt x="21600" y="22341"/>
                  </a:moveTo>
                  <a:lnTo>
                    <a:pt x="0" y="22341"/>
                  </a:lnTo>
                  <a:lnTo>
                    <a:pt x="1400" y="20941"/>
                  </a:lnTo>
                  <a:lnTo>
                    <a:pt x="20200" y="20941"/>
                  </a:lnTo>
                  <a:close/>
                </a:path>
                <a:path fill="lighten" w="21600" h="22341">
                  <a:moveTo>
                    <a:pt x="0" y="2234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41"/>
                  </a:lnTo>
                  <a:close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>
              <a:hlinkClick r:id="rId4" action="ppaction://hlinksldjump"/>
            </p:cNvPr>
            <p:cNvSpPr/>
            <p:nvPr/>
          </p:nvSpPr>
          <p:spPr>
            <a:xfrm>
              <a:off x="9497880" y="2398680"/>
              <a:ext cx="503280" cy="520560"/>
            </a:xfrm>
            <a:custGeom>
              <a:avLst/>
              <a:gdLst>
                <a:gd name="textAreaLeft" fmla="*/ 32400 w 503280"/>
                <a:gd name="textAreaRight" fmla="*/ 470880 w 503280"/>
                <a:gd name="textAreaTop" fmla="*/ 32400 h 520560"/>
                <a:gd name="textAreaBottom" fmla="*/ 488160 h 520560"/>
              </a:gdLst>
              <a:ahLst/>
              <a:rect l="textAreaLeft" t="textAreaTop" r="textAreaRight" b="textAreaBottom"/>
              <a:pathLst>
                <a:path w="21600" h="22341">
                  <a:moveTo>
                    <a:pt x="0" y="0"/>
                  </a:moveTo>
                  <a:lnTo>
                    <a:pt x="21600" y="0"/>
                  </a:lnTo>
                  <a:lnTo>
                    <a:pt x="21600" y="22341"/>
                  </a:lnTo>
                  <a:lnTo>
                    <a:pt x="0" y="22341"/>
                  </a:lnTo>
                  <a:close/>
                </a:path>
                <a:path fill="lightenLess" w="21600" h="22341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41">
                  <a:moveTo>
                    <a:pt x="21600" y="0"/>
                  </a:moveTo>
                  <a:lnTo>
                    <a:pt x="21600" y="22341"/>
                  </a:lnTo>
                  <a:lnTo>
                    <a:pt x="20200" y="20941"/>
                  </a:lnTo>
                  <a:lnTo>
                    <a:pt x="20200" y="1400"/>
                  </a:lnTo>
                  <a:close/>
                </a:path>
                <a:path fill="darkenLess" w="21600" h="22341">
                  <a:moveTo>
                    <a:pt x="21600" y="22341"/>
                  </a:moveTo>
                  <a:lnTo>
                    <a:pt x="0" y="22341"/>
                  </a:lnTo>
                  <a:lnTo>
                    <a:pt x="1400" y="20941"/>
                  </a:lnTo>
                  <a:lnTo>
                    <a:pt x="20200" y="20941"/>
                  </a:lnTo>
                  <a:close/>
                </a:path>
                <a:path fill="lighten" w="21600" h="22341">
                  <a:moveTo>
                    <a:pt x="0" y="22341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41"/>
                  </a:lnTo>
                  <a:close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>
              <a:hlinkClick r:id="rId5" action="ppaction://hlinksldjump"/>
            </p:cNvPr>
            <p:cNvSpPr/>
            <p:nvPr/>
          </p:nvSpPr>
          <p:spPr>
            <a:xfrm>
              <a:off x="9497880" y="3127320"/>
              <a:ext cx="503280" cy="520920"/>
            </a:xfrm>
            <a:custGeom>
              <a:avLst/>
              <a:gdLst>
                <a:gd name="textAreaLeft" fmla="*/ 32400 w 503280"/>
                <a:gd name="textAreaRight" fmla="*/ 470880 w 503280"/>
                <a:gd name="textAreaTop" fmla="*/ 32400 h 520920"/>
                <a:gd name="textAreaBottom" fmla="*/ 488520 h 520920"/>
              </a:gdLst>
              <a:ahLst/>
              <a:rect l="textAreaLeft" t="textAreaTop" r="textAreaRight" b="textAreaBottom"/>
              <a:pathLst>
                <a:path w="21600" h="22357">
                  <a:moveTo>
                    <a:pt x="0" y="0"/>
                  </a:moveTo>
                  <a:lnTo>
                    <a:pt x="21600" y="0"/>
                  </a:lnTo>
                  <a:lnTo>
                    <a:pt x="21600" y="22357"/>
                  </a:lnTo>
                  <a:lnTo>
                    <a:pt x="0" y="22357"/>
                  </a:lnTo>
                  <a:close/>
                </a:path>
                <a:path fill="lightenLess" w="21600" h="2235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357">
                  <a:moveTo>
                    <a:pt x="21600" y="0"/>
                  </a:moveTo>
                  <a:lnTo>
                    <a:pt x="21600" y="22357"/>
                  </a:lnTo>
                  <a:lnTo>
                    <a:pt x="20200" y="20957"/>
                  </a:lnTo>
                  <a:lnTo>
                    <a:pt x="20200" y="1400"/>
                  </a:lnTo>
                  <a:close/>
                </a:path>
                <a:path fill="darkenLess" w="21600" h="22357">
                  <a:moveTo>
                    <a:pt x="21600" y="22357"/>
                  </a:moveTo>
                  <a:lnTo>
                    <a:pt x="0" y="22357"/>
                  </a:lnTo>
                  <a:lnTo>
                    <a:pt x="1400" y="20957"/>
                  </a:lnTo>
                  <a:lnTo>
                    <a:pt x="20200" y="20957"/>
                  </a:lnTo>
                  <a:close/>
                </a:path>
                <a:path fill="lighten" w="21600" h="22357">
                  <a:moveTo>
                    <a:pt x="0" y="2235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957"/>
                  </a:lnTo>
                  <a:close/>
                </a:path>
              </a:pathLst>
            </a:cu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6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D59-06A4-4267-BF8A-82203BD9BF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91240" y="44280"/>
            <a:ext cx="9744480" cy="18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Comic Sans MS"/>
              </a:rPr>
              <a:t>Pour élever la température d ’un corps,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Comic Sans MS"/>
              </a:rPr>
              <a:t>il faut lui fournir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Comic Sans MS"/>
              </a:rPr>
              <a:t>une certaine </a:t>
            </a:r>
            <a:r>
              <a:rPr b="1" lang="en-US" sz="3800" spc="-1" strike="noStrike">
                <a:solidFill>
                  <a:srgbClr val="ff0000"/>
                </a:solidFill>
                <a:latin typeface="Comic Sans MS"/>
              </a:rPr>
              <a:t>quantité de  chaleur</a:t>
            </a:r>
            <a:r>
              <a:rPr b="1" lang="en-US" sz="3800" spc="-1" strike="noStrike">
                <a:solidFill>
                  <a:srgbClr val="ffcc00"/>
                </a:solidFill>
                <a:latin typeface="Comic Sans MS"/>
              </a:rPr>
              <a:t>,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81520" y="2492280"/>
            <a:ext cx="7985520" cy="1438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Les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quantités de chaleur</a:t>
            </a: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s ’expriment donc en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Jou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9040" y="1916280"/>
            <a:ext cx="911196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cc00"/>
                </a:solidFill>
                <a:latin typeface="Comic Sans MS"/>
              </a:rPr>
              <a:t>c ’est à dire lui apporter de </a:t>
            </a:r>
            <a:r>
              <a:rPr b="1" lang="en-US" sz="3800" spc="-1" strike="noStrike">
                <a:solidFill>
                  <a:srgbClr val="ff0000"/>
                </a:solidFill>
                <a:latin typeface="Comic Sans MS"/>
              </a:rPr>
              <a:t>l ’énergi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7160" y="4038480"/>
            <a:ext cx="8766000" cy="27795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Les quantités de chaleu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 u="sng">
                <a:solidFill>
                  <a:srgbClr val="000099"/>
                </a:solidFill>
                <a:uFillTx/>
                <a:latin typeface="Comic Sans MS"/>
              </a:rPr>
              <a:t>échangées par unité de temps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s ’expriment en</a:t>
            </a: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Watts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.</a:t>
            </a: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On parle de «</a:t>
            </a: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 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puissance</a:t>
            </a: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 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51A-378E-4234-83EE-75FB44D62F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5C1-91E9-4C02-AA08-6EBE4643141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AA4-5F99-42B2-903A-9A1B6C1533C7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E67-D7E9-4146-8E1F-9D7D5E64E77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0" y="0"/>
            <a:ext cx="10390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10390320" cy="7108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I-2 : la température et transmission de la cha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-2-1 : Définitions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-2-2: Les processus mis en j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- La con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B- La conv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C- le rayonnement ther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-2-3: Bilan radiatif-convecti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de la Terre et de son atmosph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-2-4: Répartition verticale de la tempé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t atmosphère « standard 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88B4-5EFC-46F0-A3B4-8BF186DBF3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500"/>
                            </p:stCondLst>
                            <p:childTnLst>
                              <p:par>
                                <p:cTn id="29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00"/>
            </a:gs>
            <a:gs pos="100000">
              <a:srgbClr val="3333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26960" y="3124080"/>
            <a:ext cx="9860040" cy="3048120"/>
          </a:xfrm>
          <a:custGeom>
            <a:avLst/>
            <a:gdLst>
              <a:gd name="textAreaLeft" fmla="*/ 2250720 w 9860040"/>
              <a:gd name="textAreaRight" fmla="*/ 7609320 w 9860040"/>
              <a:gd name="textAreaTop" fmla="*/ 695880 h 3048120"/>
              <a:gd name="textAreaBottom" fmla="*/ 235224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84120" y="3962520"/>
            <a:ext cx="78883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Comic Sans MS"/>
              </a:rPr>
              <a:t>La chaleur se propage selon trois modes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FF2-FAC6-4140-9E56-99B709CEFB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6427800" y="2438280"/>
            <a:ext cx="1099800" cy="1446480"/>
            <a:chOff x="6427800" y="2438280"/>
            <a:chExt cx="1099800" cy="1446480"/>
          </a:xfrm>
        </p:grpSpPr>
        <p:sp>
          <p:nvSpPr>
            <p:cNvPr id="131" name=""/>
            <p:cNvSpPr/>
            <p:nvPr/>
          </p:nvSpPr>
          <p:spPr>
            <a:xfrm>
              <a:off x="6427800" y="2438280"/>
              <a:ext cx="1099800" cy="1446480"/>
            </a:xfrm>
            <a:custGeom>
              <a:avLst/>
              <a:gdLst/>
              <a:ahLst/>
              <a:rect l="l" t="t" r="r" b="b"/>
              <a:pathLst>
                <a:path w="615" h="912">
                  <a:moveTo>
                    <a:pt x="0" y="627"/>
                  </a:moveTo>
                  <a:lnTo>
                    <a:pt x="0" y="739"/>
                  </a:lnTo>
                  <a:lnTo>
                    <a:pt x="21" y="797"/>
                  </a:lnTo>
                  <a:lnTo>
                    <a:pt x="21" y="798"/>
                  </a:lnTo>
                  <a:lnTo>
                    <a:pt x="23" y="800"/>
                  </a:lnTo>
                  <a:lnTo>
                    <a:pt x="23" y="802"/>
                  </a:lnTo>
                  <a:lnTo>
                    <a:pt x="23" y="802"/>
                  </a:lnTo>
                  <a:lnTo>
                    <a:pt x="29" y="810"/>
                  </a:lnTo>
                  <a:lnTo>
                    <a:pt x="35" y="820"/>
                  </a:lnTo>
                  <a:lnTo>
                    <a:pt x="41" y="827"/>
                  </a:lnTo>
                  <a:lnTo>
                    <a:pt x="48" y="833"/>
                  </a:lnTo>
                  <a:lnTo>
                    <a:pt x="54" y="841"/>
                  </a:lnTo>
                  <a:lnTo>
                    <a:pt x="62" y="849"/>
                  </a:lnTo>
                  <a:lnTo>
                    <a:pt x="70" y="854"/>
                  </a:lnTo>
                  <a:lnTo>
                    <a:pt x="79" y="860"/>
                  </a:lnTo>
                  <a:lnTo>
                    <a:pt x="81" y="860"/>
                  </a:lnTo>
                  <a:lnTo>
                    <a:pt x="83" y="862"/>
                  </a:lnTo>
                  <a:lnTo>
                    <a:pt x="83" y="864"/>
                  </a:lnTo>
                  <a:lnTo>
                    <a:pt x="85" y="866"/>
                  </a:lnTo>
                  <a:lnTo>
                    <a:pt x="89" y="866"/>
                  </a:lnTo>
                  <a:lnTo>
                    <a:pt x="91" y="866"/>
                  </a:lnTo>
                  <a:lnTo>
                    <a:pt x="93" y="868"/>
                  </a:lnTo>
                  <a:lnTo>
                    <a:pt x="95" y="870"/>
                  </a:lnTo>
                  <a:lnTo>
                    <a:pt x="110" y="883"/>
                  </a:lnTo>
                  <a:lnTo>
                    <a:pt x="128" y="893"/>
                  </a:lnTo>
                  <a:lnTo>
                    <a:pt x="147" y="899"/>
                  </a:lnTo>
                  <a:lnTo>
                    <a:pt x="168" y="904"/>
                  </a:lnTo>
                  <a:lnTo>
                    <a:pt x="190" y="908"/>
                  </a:lnTo>
                  <a:lnTo>
                    <a:pt x="211" y="910"/>
                  </a:lnTo>
                  <a:lnTo>
                    <a:pt x="234" y="912"/>
                  </a:lnTo>
                  <a:lnTo>
                    <a:pt x="255" y="912"/>
                  </a:lnTo>
                  <a:lnTo>
                    <a:pt x="267" y="912"/>
                  </a:lnTo>
                  <a:lnTo>
                    <a:pt x="275" y="910"/>
                  </a:lnTo>
                  <a:lnTo>
                    <a:pt x="286" y="908"/>
                  </a:lnTo>
                  <a:lnTo>
                    <a:pt x="296" y="908"/>
                  </a:lnTo>
                  <a:lnTo>
                    <a:pt x="310" y="902"/>
                  </a:lnTo>
                  <a:lnTo>
                    <a:pt x="352" y="891"/>
                  </a:lnTo>
                  <a:lnTo>
                    <a:pt x="443" y="827"/>
                  </a:lnTo>
                  <a:lnTo>
                    <a:pt x="443" y="825"/>
                  </a:lnTo>
                  <a:lnTo>
                    <a:pt x="447" y="825"/>
                  </a:lnTo>
                  <a:lnTo>
                    <a:pt x="449" y="823"/>
                  </a:lnTo>
                  <a:lnTo>
                    <a:pt x="449" y="822"/>
                  </a:lnTo>
                  <a:lnTo>
                    <a:pt x="470" y="800"/>
                  </a:lnTo>
                  <a:lnTo>
                    <a:pt x="482" y="785"/>
                  </a:lnTo>
                  <a:lnTo>
                    <a:pt x="495" y="772"/>
                  </a:lnTo>
                  <a:lnTo>
                    <a:pt x="505" y="756"/>
                  </a:lnTo>
                  <a:lnTo>
                    <a:pt x="517" y="741"/>
                  </a:lnTo>
                  <a:lnTo>
                    <a:pt x="528" y="725"/>
                  </a:lnTo>
                  <a:lnTo>
                    <a:pt x="538" y="708"/>
                  </a:lnTo>
                  <a:lnTo>
                    <a:pt x="548" y="691"/>
                  </a:lnTo>
                  <a:lnTo>
                    <a:pt x="559" y="673"/>
                  </a:lnTo>
                  <a:lnTo>
                    <a:pt x="575" y="639"/>
                  </a:lnTo>
                  <a:lnTo>
                    <a:pt x="590" y="602"/>
                  </a:lnTo>
                  <a:lnTo>
                    <a:pt x="600" y="566"/>
                  </a:lnTo>
                  <a:lnTo>
                    <a:pt x="609" y="527"/>
                  </a:lnTo>
                  <a:lnTo>
                    <a:pt x="613" y="489"/>
                  </a:lnTo>
                  <a:lnTo>
                    <a:pt x="615" y="450"/>
                  </a:lnTo>
                  <a:lnTo>
                    <a:pt x="615" y="412"/>
                  </a:lnTo>
                  <a:lnTo>
                    <a:pt x="611" y="373"/>
                  </a:lnTo>
                  <a:lnTo>
                    <a:pt x="611" y="371"/>
                  </a:lnTo>
                  <a:lnTo>
                    <a:pt x="609" y="369"/>
                  </a:lnTo>
                  <a:lnTo>
                    <a:pt x="609" y="366"/>
                  </a:lnTo>
                  <a:lnTo>
                    <a:pt x="606" y="366"/>
                  </a:lnTo>
                  <a:lnTo>
                    <a:pt x="604" y="348"/>
                  </a:lnTo>
                  <a:lnTo>
                    <a:pt x="600" y="333"/>
                  </a:lnTo>
                  <a:lnTo>
                    <a:pt x="596" y="316"/>
                  </a:lnTo>
                  <a:lnTo>
                    <a:pt x="590" y="300"/>
                  </a:lnTo>
                  <a:lnTo>
                    <a:pt x="584" y="285"/>
                  </a:lnTo>
                  <a:lnTo>
                    <a:pt x="577" y="271"/>
                  </a:lnTo>
                  <a:lnTo>
                    <a:pt x="571" y="256"/>
                  </a:lnTo>
                  <a:lnTo>
                    <a:pt x="565" y="242"/>
                  </a:lnTo>
                  <a:lnTo>
                    <a:pt x="563" y="241"/>
                  </a:lnTo>
                  <a:lnTo>
                    <a:pt x="561" y="239"/>
                  </a:lnTo>
                  <a:lnTo>
                    <a:pt x="559" y="237"/>
                  </a:lnTo>
                  <a:lnTo>
                    <a:pt x="559" y="237"/>
                  </a:lnTo>
                  <a:lnTo>
                    <a:pt x="532" y="200"/>
                  </a:lnTo>
                  <a:lnTo>
                    <a:pt x="505" y="165"/>
                  </a:lnTo>
                  <a:lnTo>
                    <a:pt x="474" y="133"/>
                  </a:lnTo>
                  <a:lnTo>
                    <a:pt x="441" y="104"/>
                  </a:lnTo>
                  <a:lnTo>
                    <a:pt x="404" y="79"/>
                  </a:lnTo>
                  <a:lnTo>
                    <a:pt x="366" y="54"/>
                  </a:lnTo>
                  <a:lnTo>
                    <a:pt x="325" y="33"/>
                  </a:lnTo>
                  <a:lnTo>
                    <a:pt x="284" y="13"/>
                  </a:lnTo>
                  <a:lnTo>
                    <a:pt x="250" y="0"/>
                  </a:lnTo>
                  <a:lnTo>
                    <a:pt x="248" y="0"/>
                  </a:lnTo>
                  <a:lnTo>
                    <a:pt x="248" y="2"/>
                  </a:lnTo>
                  <a:lnTo>
                    <a:pt x="246" y="4"/>
                  </a:lnTo>
                  <a:lnTo>
                    <a:pt x="244" y="6"/>
                  </a:lnTo>
                  <a:lnTo>
                    <a:pt x="244" y="6"/>
                  </a:lnTo>
                  <a:lnTo>
                    <a:pt x="246" y="8"/>
                  </a:lnTo>
                  <a:lnTo>
                    <a:pt x="248" y="10"/>
                  </a:lnTo>
                  <a:lnTo>
                    <a:pt x="248" y="12"/>
                  </a:lnTo>
                  <a:lnTo>
                    <a:pt x="290" y="58"/>
                  </a:lnTo>
                  <a:lnTo>
                    <a:pt x="304" y="83"/>
                  </a:lnTo>
                  <a:lnTo>
                    <a:pt x="313" y="110"/>
                  </a:lnTo>
                  <a:lnTo>
                    <a:pt x="315" y="139"/>
                  </a:lnTo>
                  <a:lnTo>
                    <a:pt x="315" y="165"/>
                  </a:lnTo>
                  <a:lnTo>
                    <a:pt x="308" y="194"/>
                  </a:lnTo>
                  <a:lnTo>
                    <a:pt x="298" y="223"/>
                  </a:lnTo>
                  <a:lnTo>
                    <a:pt x="286" y="248"/>
                  </a:lnTo>
                  <a:lnTo>
                    <a:pt x="269" y="273"/>
                  </a:lnTo>
                  <a:lnTo>
                    <a:pt x="265" y="279"/>
                  </a:lnTo>
                  <a:lnTo>
                    <a:pt x="259" y="285"/>
                  </a:lnTo>
                  <a:lnTo>
                    <a:pt x="255" y="291"/>
                  </a:lnTo>
                  <a:lnTo>
                    <a:pt x="248" y="298"/>
                  </a:lnTo>
                  <a:lnTo>
                    <a:pt x="89" y="450"/>
                  </a:lnTo>
                  <a:lnTo>
                    <a:pt x="75" y="468"/>
                  </a:lnTo>
                  <a:lnTo>
                    <a:pt x="60" y="487"/>
                  </a:lnTo>
                  <a:lnTo>
                    <a:pt x="48" y="508"/>
                  </a:lnTo>
                  <a:lnTo>
                    <a:pt x="35" y="531"/>
                  </a:lnTo>
                  <a:lnTo>
                    <a:pt x="23" y="554"/>
                  </a:lnTo>
                  <a:lnTo>
                    <a:pt x="14" y="579"/>
                  </a:lnTo>
                  <a:lnTo>
                    <a:pt x="6" y="602"/>
                  </a:lnTo>
                  <a:lnTo>
                    <a:pt x="0" y="6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1840" y="2487240"/>
              <a:ext cx="1069560" cy="1381320"/>
            </a:xfrm>
            <a:custGeom>
              <a:avLst/>
              <a:gdLst/>
              <a:ahLst/>
              <a:rect l="l" t="t" r="r" b="b"/>
              <a:pathLst>
                <a:path w="598" h="871">
                  <a:moveTo>
                    <a:pt x="0" y="602"/>
                  </a:moveTo>
                  <a:lnTo>
                    <a:pt x="0" y="694"/>
                  </a:lnTo>
                  <a:lnTo>
                    <a:pt x="4" y="708"/>
                  </a:lnTo>
                  <a:lnTo>
                    <a:pt x="21" y="756"/>
                  </a:lnTo>
                  <a:lnTo>
                    <a:pt x="21" y="758"/>
                  </a:lnTo>
                  <a:lnTo>
                    <a:pt x="23" y="758"/>
                  </a:lnTo>
                  <a:lnTo>
                    <a:pt x="25" y="760"/>
                  </a:lnTo>
                  <a:lnTo>
                    <a:pt x="25" y="762"/>
                  </a:lnTo>
                  <a:lnTo>
                    <a:pt x="42" y="787"/>
                  </a:lnTo>
                  <a:lnTo>
                    <a:pt x="64" y="808"/>
                  </a:lnTo>
                  <a:lnTo>
                    <a:pt x="89" y="827"/>
                  </a:lnTo>
                  <a:lnTo>
                    <a:pt x="116" y="843"/>
                  </a:lnTo>
                  <a:lnTo>
                    <a:pt x="145" y="856"/>
                  </a:lnTo>
                  <a:lnTo>
                    <a:pt x="178" y="864"/>
                  </a:lnTo>
                  <a:lnTo>
                    <a:pt x="211" y="869"/>
                  </a:lnTo>
                  <a:lnTo>
                    <a:pt x="247" y="871"/>
                  </a:lnTo>
                  <a:lnTo>
                    <a:pt x="257" y="868"/>
                  </a:lnTo>
                  <a:lnTo>
                    <a:pt x="267" y="866"/>
                  </a:lnTo>
                  <a:lnTo>
                    <a:pt x="278" y="862"/>
                  </a:lnTo>
                  <a:lnTo>
                    <a:pt x="288" y="862"/>
                  </a:lnTo>
                  <a:lnTo>
                    <a:pt x="302" y="860"/>
                  </a:lnTo>
                  <a:lnTo>
                    <a:pt x="302" y="860"/>
                  </a:lnTo>
                  <a:lnTo>
                    <a:pt x="305" y="860"/>
                  </a:lnTo>
                  <a:lnTo>
                    <a:pt x="307" y="860"/>
                  </a:lnTo>
                  <a:lnTo>
                    <a:pt x="309" y="860"/>
                  </a:lnTo>
                  <a:lnTo>
                    <a:pt x="340" y="848"/>
                  </a:lnTo>
                  <a:lnTo>
                    <a:pt x="342" y="848"/>
                  </a:lnTo>
                  <a:lnTo>
                    <a:pt x="344" y="846"/>
                  </a:lnTo>
                  <a:lnTo>
                    <a:pt x="346" y="846"/>
                  </a:lnTo>
                  <a:lnTo>
                    <a:pt x="346" y="846"/>
                  </a:lnTo>
                  <a:lnTo>
                    <a:pt x="362" y="837"/>
                  </a:lnTo>
                  <a:lnTo>
                    <a:pt x="377" y="825"/>
                  </a:lnTo>
                  <a:lnTo>
                    <a:pt x="394" y="816"/>
                  </a:lnTo>
                  <a:lnTo>
                    <a:pt x="408" y="804"/>
                  </a:lnTo>
                  <a:lnTo>
                    <a:pt x="423" y="792"/>
                  </a:lnTo>
                  <a:lnTo>
                    <a:pt x="437" y="779"/>
                  </a:lnTo>
                  <a:lnTo>
                    <a:pt x="449" y="766"/>
                  </a:lnTo>
                  <a:lnTo>
                    <a:pt x="462" y="752"/>
                  </a:lnTo>
                  <a:lnTo>
                    <a:pt x="474" y="739"/>
                  </a:lnTo>
                  <a:lnTo>
                    <a:pt x="491" y="721"/>
                  </a:lnTo>
                  <a:lnTo>
                    <a:pt x="505" y="702"/>
                  </a:lnTo>
                  <a:lnTo>
                    <a:pt x="518" y="681"/>
                  </a:lnTo>
                  <a:lnTo>
                    <a:pt x="532" y="660"/>
                  </a:lnTo>
                  <a:lnTo>
                    <a:pt x="545" y="639"/>
                  </a:lnTo>
                  <a:lnTo>
                    <a:pt x="555" y="615"/>
                  </a:lnTo>
                  <a:lnTo>
                    <a:pt x="565" y="592"/>
                  </a:lnTo>
                  <a:lnTo>
                    <a:pt x="574" y="567"/>
                  </a:lnTo>
                  <a:lnTo>
                    <a:pt x="582" y="542"/>
                  </a:lnTo>
                  <a:lnTo>
                    <a:pt x="588" y="517"/>
                  </a:lnTo>
                  <a:lnTo>
                    <a:pt x="592" y="492"/>
                  </a:lnTo>
                  <a:lnTo>
                    <a:pt x="596" y="467"/>
                  </a:lnTo>
                  <a:lnTo>
                    <a:pt x="598" y="442"/>
                  </a:lnTo>
                  <a:lnTo>
                    <a:pt x="598" y="415"/>
                  </a:lnTo>
                  <a:lnTo>
                    <a:pt x="596" y="390"/>
                  </a:lnTo>
                  <a:lnTo>
                    <a:pt x="594" y="365"/>
                  </a:lnTo>
                  <a:lnTo>
                    <a:pt x="586" y="321"/>
                  </a:lnTo>
                  <a:lnTo>
                    <a:pt x="574" y="279"/>
                  </a:lnTo>
                  <a:lnTo>
                    <a:pt x="555" y="240"/>
                  </a:lnTo>
                  <a:lnTo>
                    <a:pt x="534" y="204"/>
                  </a:lnTo>
                  <a:lnTo>
                    <a:pt x="509" y="169"/>
                  </a:lnTo>
                  <a:lnTo>
                    <a:pt x="483" y="136"/>
                  </a:lnTo>
                  <a:lnTo>
                    <a:pt x="451" y="106"/>
                  </a:lnTo>
                  <a:lnTo>
                    <a:pt x="418" y="77"/>
                  </a:lnTo>
                  <a:lnTo>
                    <a:pt x="402" y="65"/>
                  </a:lnTo>
                  <a:lnTo>
                    <a:pt x="383" y="56"/>
                  </a:lnTo>
                  <a:lnTo>
                    <a:pt x="367" y="44"/>
                  </a:lnTo>
                  <a:lnTo>
                    <a:pt x="350" y="34"/>
                  </a:lnTo>
                  <a:lnTo>
                    <a:pt x="334" y="25"/>
                  </a:lnTo>
                  <a:lnTo>
                    <a:pt x="315" y="17"/>
                  </a:lnTo>
                  <a:lnTo>
                    <a:pt x="296" y="7"/>
                  </a:lnTo>
                  <a:lnTo>
                    <a:pt x="278" y="0"/>
                  </a:lnTo>
                  <a:lnTo>
                    <a:pt x="290" y="17"/>
                  </a:lnTo>
                  <a:lnTo>
                    <a:pt x="298" y="34"/>
                  </a:lnTo>
                  <a:lnTo>
                    <a:pt x="305" y="52"/>
                  </a:lnTo>
                  <a:lnTo>
                    <a:pt x="311" y="71"/>
                  </a:lnTo>
                  <a:lnTo>
                    <a:pt x="315" y="90"/>
                  </a:lnTo>
                  <a:lnTo>
                    <a:pt x="317" y="109"/>
                  </a:lnTo>
                  <a:lnTo>
                    <a:pt x="319" y="131"/>
                  </a:lnTo>
                  <a:lnTo>
                    <a:pt x="317" y="150"/>
                  </a:lnTo>
                  <a:lnTo>
                    <a:pt x="311" y="171"/>
                  </a:lnTo>
                  <a:lnTo>
                    <a:pt x="302" y="184"/>
                  </a:lnTo>
                  <a:lnTo>
                    <a:pt x="294" y="204"/>
                  </a:lnTo>
                  <a:lnTo>
                    <a:pt x="284" y="221"/>
                  </a:lnTo>
                  <a:lnTo>
                    <a:pt x="273" y="238"/>
                  </a:lnTo>
                  <a:lnTo>
                    <a:pt x="263" y="252"/>
                  </a:lnTo>
                  <a:lnTo>
                    <a:pt x="251" y="267"/>
                  </a:lnTo>
                  <a:lnTo>
                    <a:pt x="238" y="281"/>
                  </a:lnTo>
                  <a:lnTo>
                    <a:pt x="226" y="296"/>
                  </a:lnTo>
                  <a:lnTo>
                    <a:pt x="211" y="310"/>
                  </a:lnTo>
                  <a:lnTo>
                    <a:pt x="209" y="313"/>
                  </a:lnTo>
                  <a:lnTo>
                    <a:pt x="207" y="313"/>
                  </a:lnTo>
                  <a:lnTo>
                    <a:pt x="205" y="315"/>
                  </a:lnTo>
                  <a:lnTo>
                    <a:pt x="205" y="319"/>
                  </a:lnTo>
                  <a:lnTo>
                    <a:pt x="91" y="419"/>
                  </a:lnTo>
                  <a:lnTo>
                    <a:pt x="25" y="525"/>
                  </a:lnTo>
                  <a:lnTo>
                    <a:pt x="0" y="602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04840" y="3042360"/>
              <a:ext cx="318240" cy="647280"/>
            </a:xfrm>
            <a:custGeom>
              <a:avLst/>
              <a:gdLst/>
              <a:ahLst/>
              <a:rect l="l" t="t" r="r" b="b"/>
              <a:pathLst>
                <a:path w="178" h="408">
                  <a:moveTo>
                    <a:pt x="0" y="239"/>
                  </a:moveTo>
                  <a:lnTo>
                    <a:pt x="0" y="254"/>
                  </a:lnTo>
                  <a:lnTo>
                    <a:pt x="0" y="267"/>
                  </a:lnTo>
                  <a:lnTo>
                    <a:pt x="0" y="283"/>
                  </a:lnTo>
                  <a:lnTo>
                    <a:pt x="0" y="296"/>
                  </a:lnTo>
                  <a:lnTo>
                    <a:pt x="3" y="312"/>
                  </a:lnTo>
                  <a:lnTo>
                    <a:pt x="5" y="327"/>
                  </a:lnTo>
                  <a:lnTo>
                    <a:pt x="9" y="342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3" y="358"/>
                  </a:lnTo>
                  <a:lnTo>
                    <a:pt x="13" y="360"/>
                  </a:lnTo>
                  <a:lnTo>
                    <a:pt x="15" y="364"/>
                  </a:lnTo>
                  <a:lnTo>
                    <a:pt x="48" y="408"/>
                  </a:lnTo>
                  <a:lnTo>
                    <a:pt x="52" y="402"/>
                  </a:lnTo>
                  <a:lnTo>
                    <a:pt x="52" y="396"/>
                  </a:lnTo>
                  <a:lnTo>
                    <a:pt x="52" y="389"/>
                  </a:lnTo>
                  <a:lnTo>
                    <a:pt x="50" y="381"/>
                  </a:lnTo>
                  <a:lnTo>
                    <a:pt x="50" y="371"/>
                  </a:lnTo>
                  <a:lnTo>
                    <a:pt x="48" y="362"/>
                  </a:lnTo>
                  <a:lnTo>
                    <a:pt x="50" y="354"/>
                  </a:lnTo>
                  <a:lnTo>
                    <a:pt x="54" y="344"/>
                  </a:lnTo>
                  <a:lnTo>
                    <a:pt x="54" y="335"/>
                  </a:lnTo>
                  <a:lnTo>
                    <a:pt x="56" y="325"/>
                  </a:lnTo>
                  <a:lnTo>
                    <a:pt x="58" y="316"/>
                  </a:lnTo>
                  <a:lnTo>
                    <a:pt x="63" y="306"/>
                  </a:lnTo>
                  <a:lnTo>
                    <a:pt x="110" y="227"/>
                  </a:lnTo>
                  <a:lnTo>
                    <a:pt x="112" y="225"/>
                  </a:lnTo>
                  <a:lnTo>
                    <a:pt x="114" y="223"/>
                  </a:lnTo>
                  <a:lnTo>
                    <a:pt x="114" y="221"/>
                  </a:lnTo>
                  <a:lnTo>
                    <a:pt x="114" y="221"/>
                  </a:lnTo>
                  <a:lnTo>
                    <a:pt x="178" y="158"/>
                  </a:lnTo>
                  <a:lnTo>
                    <a:pt x="166" y="164"/>
                  </a:lnTo>
                  <a:lnTo>
                    <a:pt x="156" y="169"/>
                  </a:lnTo>
                  <a:lnTo>
                    <a:pt x="143" y="179"/>
                  </a:lnTo>
                  <a:lnTo>
                    <a:pt x="133" y="189"/>
                  </a:lnTo>
                  <a:lnTo>
                    <a:pt x="125" y="198"/>
                  </a:lnTo>
                  <a:lnTo>
                    <a:pt x="114" y="208"/>
                  </a:lnTo>
                  <a:lnTo>
                    <a:pt x="106" y="217"/>
                  </a:lnTo>
                  <a:lnTo>
                    <a:pt x="98" y="227"/>
                  </a:lnTo>
                  <a:lnTo>
                    <a:pt x="63" y="285"/>
                  </a:lnTo>
                  <a:lnTo>
                    <a:pt x="48" y="298"/>
                  </a:lnTo>
                  <a:lnTo>
                    <a:pt x="48" y="298"/>
                  </a:lnTo>
                  <a:lnTo>
                    <a:pt x="48" y="298"/>
                  </a:lnTo>
                  <a:lnTo>
                    <a:pt x="46" y="298"/>
                  </a:lnTo>
                  <a:lnTo>
                    <a:pt x="46" y="298"/>
                  </a:lnTo>
                  <a:lnTo>
                    <a:pt x="63" y="246"/>
                  </a:lnTo>
                  <a:lnTo>
                    <a:pt x="69" y="233"/>
                  </a:lnTo>
                  <a:lnTo>
                    <a:pt x="98" y="177"/>
                  </a:lnTo>
                  <a:lnTo>
                    <a:pt x="100" y="175"/>
                  </a:lnTo>
                  <a:lnTo>
                    <a:pt x="102" y="175"/>
                  </a:lnTo>
                  <a:lnTo>
                    <a:pt x="102" y="173"/>
                  </a:lnTo>
                  <a:lnTo>
                    <a:pt x="104" y="171"/>
                  </a:lnTo>
                  <a:lnTo>
                    <a:pt x="114" y="162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8"/>
                  </a:lnTo>
                  <a:lnTo>
                    <a:pt x="118" y="156"/>
                  </a:lnTo>
                  <a:lnTo>
                    <a:pt x="129" y="142"/>
                  </a:lnTo>
                  <a:lnTo>
                    <a:pt x="129" y="140"/>
                  </a:lnTo>
                  <a:lnTo>
                    <a:pt x="129" y="138"/>
                  </a:lnTo>
                  <a:lnTo>
                    <a:pt x="129" y="137"/>
                  </a:lnTo>
                  <a:lnTo>
                    <a:pt x="129" y="137"/>
                  </a:lnTo>
                  <a:lnTo>
                    <a:pt x="129" y="137"/>
                  </a:lnTo>
                  <a:lnTo>
                    <a:pt x="127" y="137"/>
                  </a:lnTo>
                  <a:lnTo>
                    <a:pt x="123" y="138"/>
                  </a:lnTo>
                  <a:lnTo>
                    <a:pt x="118" y="142"/>
                  </a:lnTo>
                  <a:lnTo>
                    <a:pt x="108" y="154"/>
                  </a:lnTo>
                  <a:lnTo>
                    <a:pt x="98" y="167"/>
                  </a:lnTo>
                  <a:lnTo>
                    <a:pt x="87" y="183"/>
                  </a:lnTo>
                  <a:lnTo>
                    <a:pt x="77" y="198"/>
                  </a:lnTo>
                  <a:lnTo>
                    <a:pt x="69" y="214"/>
                  </a:lnTo>
                  <a:lnTo>
                    <a:pt x="58" y="229"/>
                  </a:lnTo>
                  <a:lnTo>
                    <a:pt x="50" y="244"/>
                  </a:lnTo>
                  <a:lnTo>
                    <a:pt x="40" y="260"/>
                  </a:lnTo>
                  <a:lnTo>
                    <a:pt x="38" y="260"/>
                  </a:lnTo>
                  <a:lnTo>
                    <a:pt x="36" y="260"/>
                  </a:lnTo>
                  <a:lnTo>
                    <a:pt x="34" y="260"/>
                  </a:lnTo>
                  <a:lnTo>
                    <a:pt x="32" y="260"/>
                  </a:lnTo>
                  <a:lnTo>
                    <a:pt x="38" y="233"/>
                  </a:lnTo>
                  <a:lnTo>
                    <a:pt x="48" y="206"/>
                  </a:lnTo>
                  <a:lnTo>
                    <a:pt x="60" y="181"/>
                  </a:lnTo>
                  <a:lnTo>
                    <a:pt x="73" y="158"/>
                  </a:lnTo>
                  <a:lnTo>
                    <a:pt x="87" y="135"/>
                  </a:lnTo>
                  <a:lnTo>
                    <a:pt x="104" y="113"/>
                  </a:lnTo>
                  <a:lnTo>
                    <a:pt x="121" y="94"/>
                  </a:lnTo>
                  <a:lnTo>
                    <a:pt x="137" y="75"/>
                  </a:lnTo>
                  <a:lnTo>
                    <a:pt x="137" y="73"/>
                  </a:lnTo>
                  <a:lnTo>
                    <a:pt x="135" y="73"/>
                  </a:lnTo>
                  <a:lnTo>
                    <a:pt x="131" y="75"/>
                  </a:lnTo>
                  <a:lnTo>
                    <a:pt x="129" y="75"/>
                  </a:lnTo>
                  <a:lnTo>
                    <a:pt x="129" y="77"/>
                  </a:lnTo>
                  <a:lnTo>
                    <a:pt x="127" y="79"/>
                  </a:lnTo>
                  <a:lnTo>
                    <a:pt x="125" y="83"/>
                  </a:lnTo>
                  <a:lnTo>
                    <a:pt x="125" y="85"/>
                  </a:lnTo>
                  <a:lnTo>
                    <a:pt x="108" y="100"/>
                  </a:lnTo>
                  <a:lnTo>
                    <a:pt x="94" y="119"/>
                  </a:lnTo>
                  <a:lnTo>
                    <a:pt x="79" y="138"/>
                  </a:lnTo>
                  <a:lnTo>
                    <a:pt x="67" y="160"/>
                  </a:lnTo>
                  <a:lnTo>
                    <a:pt x="52" y="179"/>
                  </a:lnTo>
                  <a:lnTo>
                    <a:pt x="40" y="200"/>
                  </a:lnTo>
                  <a:lnTo>
                    <a:pt x="27" y="221"/>
                  </a:lnTo>
                  <a:lnTo>
                    <a:pt x="13" y="240"/>
                  </a:lnTo>
                  <a:lnTo>
                    <a:pt x="19" y="190"/>
                  </a:lnTo>
                  <a:lnTo>
                    <a:pt x="75" y="106"/>
                  </a:lnTo>
                  <a:lnTo>
                    <a:pt x="176" y="4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139" y="27"/>
                  </a:lnTo>
                  <a:lnTo>
                    <a:pt x="112" y="52"/>
                  </a:lnTo>
                  <a:lnTo>
                    <a:pt x="87" y="79"/>
                  </a:lnTo>
                  <a:lnTo>
                    <a:pt x="65" y="106"/>
                  </a:lnTo>
                  <a:lnTo>
                    <a:pt x="42" y="135"/>
                  </a:lnTo>
                  <a:lnTo>
                    <a:pt x="25" y="165"/>
                  </a:lnTo>
                  <a:lnTo>
                    <a:pt x="11" y="200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63600" y="3069360"/>
              <a:ext cx="493560" cy="709200"/>
            </a:xfrm>
            <a:custGeom>
              <a:avLst/>
              <a:gdLst/>
              <a:ahLst/>
              <a:rect l="l" t="t" r="r" b="b"/>
              <a:pathLst>
                <a:path w="276" h="447">
                  <a:moveTo>
                    <a:pt x="0" y="318"/>
                  </a:moveTo>
                  <a:lnTo>
                    <a:pt x="0" y="372"/>
                  </a:lnTo>
                  <a:lnTo>
                    <a:pt x="40" y="433"/>
                  </a:lnTo>
                  <a:lnTo>
                    <a:pt x="56" y="441"/>
                  </a:lnTo>
                  <a:lnTo>
                    <a:pt x="71" y="445"/>
                  </a:lnTo>
                  <a:lnTo>
                    <a:pt x="85" y="447"/>
                  </a:lnTo>
                  <a:lnTo>
                    <a:pt x="100" y="447"/>
                  </a:lnTo>
                  <a:lnTo>
                    <a:pt x="114" y="445"/>
                  </a:lnTo>
                  <a:lnTo>
                    <a:pt x="127" y="441"/>
                  </a:lnTo>
                  <a:lnTo>
                    <a:pt x="139" y="437"/>
                  </a:lnTo>
                  <a:lnTo>
                    <a:pt x="152" y="431"/>
                  </a:lnTo>
                  <a:lnTo>
                    <a:pt x="164" y="424"/>
                  </a:lnTo>
                  <a:lnTo>
                    <a:pt x="191" y="397"/>
                  </a:lnTo>
                  <a:lnTo>
                    <a:pt x="214" y="366"/>
                  </a:lnTo>
                  <a:lnTo>
                    <a:pt x="230" y="333"/>
                  </a:lnTo>
                  <a:lnTo>
                    <a:pt x="245" y="297"/>
                  </a:lnTo>
                  <a:lnTo>
                    <a:pt x="255" y="260"/>
                  </a:lnTo>
                  <a:lnTo>
                    <a:pt x="263" y="222"/>
                  </a:lnTo>
                  <a:lnTo>
                    <a:pt x="272" y="185"/>
                  </a:lnTo>
                  <a:lnTo>
                    <a:pt x="276" y="148"/>
                  </a:lnTo>
                  <a:lnTo>
                    <a:pt x="276" y="147"/>
                  </a:lnTo>
                  <a:lnTo>
                    <a:pt x="276" y="145"/>
                  </a:lnTo>
                  <a:lnTo>
                    <a:pt x="276" y="143"/>
                  </a:lnTo>
                  <a:lnTo>
                    <a:pt x="274" y="139"/>
                  </a:lnTo>
                  <a:lnTo>
                    <a:pt x="274" y="121"/>
                  </a:lnTo>
                  <a:lnTo>
                    <a:pt x="274" y="104"/>
                  </a:lnTo>
                  <a:lnTo>
                    <a:pt x="274" y="87"/>
                  </a:lnTo>
                  <a:lnTo>
                    <a:pt x="270" y="70"/>
                  </a:lnTo>
                  <a:lnTo>
                    <a:pt x="267" y="52"/>
                  </a:lnTo>
                  <a:lnTo>
                    <a:pt x="263" y="35"/>
                  </a:lnTo>
                  <a:lnTo>
                    <a:pt x="259" y="18"/>
                  </a:lnTo>
                  <a:lnTo>
                    <a:pt x="253" y="0"/>
                  </a:lnTo>
                  <a:lnTo>
                    <a:pt x="251" y="0"/>
                  </a:lnTo>
                  <a:lnTo>
                    <a:pt x="249" y="2"/>
                  </a:lnTo>
                  <a:lnTo>
                    <a:pt x="247" y="6"/>
                  </a:lnTo>
                  <a:lnTo>
                    <a:pt x="247" y="10"/>
                  </a:lnTo>
                  <a:lnTo>
                    <a:pt x="247" y="20"/>
                  </a:lnTo>
                  <a:lnTo>
                    <a:pt x="243" y="29"/>
                  </a:lnTo>
                  <a:lnTo>
                    <a:pt x="241" y="39"/>
                  </a:lnTo>
                  <a:lnTo>
                    <a:pt x="234" y="48"/>
                  </a:lnTo>
                  <a:lnTo>
                    <a:pt x="230" y="60"/>
                  </a:lnTo>
                  <a:lnTo>
                    <a:pt x="224" y="70"/>
                  </a:lnTo>
                  <a:lnTo>
                    <a:pt x="218" y="79"/>
                  </a:lnTo>
                  <a:lnTo>
                    <a:pt x="214" y="89"/>
                  </a:lnTo>
                  <a:lnTo>
                    <a:pt x="212" y="89"/>
                  </a:lnTo>
                  <a:lnTo>
                    <a:pt x="212" y="91"/>
                  </a:lnTo>
                  <a:lnTo>
                    <a:pt x="210" y="93"/>
                  </a:lnTo>
                  <a:lnTo>
                    <a:pt x="207" y="95"/>
                  </a:lnTo>
                  <a:lnTo>
                    <a:pt x="183" y="121"/>
                  </a:lnTo>
                  <a:lnTo>
                    <a:pt x="154" y="145"/>
                  </a:lnTo>
                  <a:lnTo>
                    <a:pt x="123" y="170"/>
                  </a:lnTo>
                  <a:lnTo>
                    <a:pt x="92" y="193"/>
                  </a:lnTo>
                  <a:lnTo>
                    <a:pt x="65" y="218"/>
                  </a:lnTo>
                  <a:lnTo>
                    <a:pt x="40" y="245"/>
                  </a:lnTo>
                  <a:lnTo>
                    <a:pt x="19" y="273"/>
                  </a:lnTo>
                  <a:lnTo>
                    <a:pt x="7" y="308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83760" y="3121920"/>
              <a:ext cx="450360" cy="643680"/>
            </a:xfrm>
            <a:custGeom>
              <a:avLst/>
              <a:gdLst/>
              <a:ahLst/>
              <a:rect l="l" t="t" r="r" b="b"/>
              <a:pathLst>
                <a:path w="252" h="406">
                  <a:moveTo>
                    <a:pt x="4" y="285"/>
                  </a:moveTo>
                  <a:lnTo>
                    <a:pt x="2" y="296"/>
                  </a:lnTo>
                  <a:lnTo>
                    <a:pt x="0" y="306"/>
                  </a:lnTo>
                  <a:lnTo>
                    <a:pt x="0" y="317"/>
                  </a:lnTo>
                  <a:lnTo>
                    <a:pt x="2" y="329"/>
                  </a:lnTo>
                  <a:lnTo>
                    <a:pt x="4" y="339"/>
                  </a:lnTo>
                  <a:lnTo>
                    <a:pt x="6" y="350"/>
                  </a:lnTo>
                  <a:lnTo>
                    <a:pt x="12" y="360"/>
                  </a:lnTo>
                  <a:lnTo>
                    <a:pt x="18" y="369"/>
                  </a:lnTo>
                  <a:lnTo>
                    <a:pt x="35" y="389"/>
                  </a:lnTo>
                  <a:lnTo>
                    <a:pt x="52" y="400"/>
                  </a:lnTo>
                  <a:lnTo>
                    <a:pt x="64" y="404"/>
                  </a:lnTo>
                  <a:lnTo>
                    <a:pt x="78" y="406"/>
                  </a:lnTo>
                  <a:lnTo>
                    <a:pt x="91" y="404"/>
                  </a:lnTo>
                  <a:lnTo>
                    <a:pt x="105" y="402"/>
                  </a:lnTo>
                  <a:lnTo>
                    <a:pt x="118" y="398"/>
                  </a:lnTo>
                  <a:lnTo>
                    <a:pt x="128" y="392"/>
                  </a:lnTo>
                  <a:lnTo>
                    <a:pt x="141" y="387"/>
                  </a:lnTo>
                  <a:lnTo>
                    <a:pt x="149" y="381"/>
                  </a:lnTo>
                  <a:lnTo>
                    <a:pt x="157" y="373"/>
                  </a:lnTo>
                  <a:lnTo>
                    <a:pt x="161" y="367"/>
                  </a:lnTo>
                  <a:lnTo>
                    <a:pt x="167" y="362"/>
                  </a:lnTo>
                  <a:lnTo>
                    <a:pt x="174" y="356"/>
                  </a:lnTo>
                  <a:lnTo>
                    <a:pt x="186" y="339"/>
                  </a:lnTo>
                  <a:lnTo>
                    <a:pt x="196" y="321"/>
                  </a:lnTo>
                  <a:lnTo>
                    <a:pt x="207" y="302"/>
                  </a:lnTo>
                  <a:lnTo>
                    <a:pt x="217" y="283"/>
                  </a:lnTo>
                  <a:lnTo>
                    <a:pt x="225" y="262"/>
                  </a:lnTo>
                  <a:lnTo>
                    <a:pt x="232" y="240"/>
                  </a:lnTo>
                  <a:lnTo>
                    <a:pt x="238" y="219"/>
                  </a:lnTo>
                  <a:lnTo>
                    <a:pt x="242" y="198"/>
                  </a:lnTo>
                  <a:lnTo>
                    <a:pt x="246" y="177"/>
                  </a:lnTo>
                  <a:lnTo>
                    <a:pt x="250" y="156"/>
                  </a:lnTo>
                  <a:lnTo>
                    <a:pt x="252" y="133"/>
                  </a:lnTo>
                  <a:lnTo>
                    <a:pt x="252" y="112"/>
                  </a:lnTo>
                  <a:lnTo>
                    <a:pt x="252" y="88"/>
                  </a:lnTo>
                  <a:lnTo>
                    <a:pt x="250" y="67"/>
                  </a:lnTo>
                  <a:lnTo>
                    <a:pt x="248" y="44"/>
                  </a:lnTo>
                  <a:lnTo>
                    <a:pt x="246" y="23"/>
                  </a:lnTo>
                  <a:lnTo>
                    <a:pt x="242" y="10"/>
                  </a:lnTo>
                  <a:lnTo>
                    <a:pt x="242" y="8"/>
                  </a:lnTo>
                  <a:lnTo>
                    <a:pt x="242" y="4"/>
                  </a:lnTo>
                  <a:lnTo>
                    <a:pt x="242" y="2"/>
                  </a:lnTo>
                  <a:lnTo>
                    <a:pt x="242" y="0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6" y="6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36" y="10"/>
                  </a:lnTo>
                  <a:lnTo>
                    <a:pt x="236" y="12"/>
                  </a:lnTo>
                  <a:lnTo>
                    <a:pt x="217" y="48"/>
                  </a:lnTo>
                  <a:lnTo>
                    <a:pt x="190" y="81"/>
                  </a:lnTo>
                  <a:lnTo>
                    <a:pt x="159" y="110"/>
                  </a:lnTo>
                  <a:lnTo>
                    <a:pt x="126" y="139"/>
                  </a:lnTo>
                  <a:lnTo>
                    <a:pt x="93" y="165"/>
                  </a:lnTo>
                  <a:lnTo>
                    <a:pt x="62" y="194"/>
                  </a:lnTo>
                  <a:lnTo>
                    <a:pt x="35" y="225"/>
                  </a:lnTo>
                  <a:lnTo>
                    <a:pt x="14" y="260"/>
                  </a:lnTo>
                  <a:lnTo>
                    <a:pt x="4" y="28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20840" y="3405600"/>
              <a:ext cx="339840" cy="323640"/>
            </a:xfrm>
            <a:custGeom>
              <a:avLst/>
              <a:gdLst/>
              <a:ahLst/>
              <a:rect l="l" t="t" r="r" b="b"/>
              <a:pathLst>
                <a:path w="190" h="204">
                  <a:moveTo>
                    <a:pt x="2" y="110"/>
                  </a:moveTo>
                  <a:lnTo>
                    <a:pt x="0" y="121"/>
                  </a:lnTo>
                  <a:lnTo>
                    <a:pt x="0" y="133"/>
                  </a:lnTo>
                  <a:lnTo>
                    <a:pt x="2" y="144"/>
                  </a:lnTo>
                  <a:lnTo>
                    <a:pt x="4" y="154"/>
                  </a:lnTo>
                  <a:lnTo>
                    <a:pt x="6" y="165"/>
                  </a:lnTo>
                  <a:lnTo>
                    <a:pt x="10" y="175"/>
                  </a:lnTo>
                  <a:lnTo>
                    <a:pt x="16" y="183"/>
                  </a:lnTo>
                  <a:lnTo>
                    <a:pt x="24" y="190"/>
                  </a:lnTo>
                  <a:lnTo>
                    <a:pt x="33" y="198"/>
                  </a:lnTo>
                  <a:lnTo>
                    <a:pt x="43" y="202"/>
                  </a:lnTo>
                  <a:lnTo>
                    <a:pt x="55" y="204"/>
                  </a:lnTo>
                  <a:lnTo>
                    <a:pt x="66" y="204"/>
                  </a:lnTo>
                  <a:lnTo>
                    <a:pt x="91" y="190"/>
                  </a:lnTo>
                  <a:lnTo>
                    <a:pt x="111" y="177"/>
                  </a:lnTo>
                  <a:lnTo>
                    <a:pt x="130" y="162"/>
                  </a:lnTo>
                  <a:lnTo>
                    <a:pt x="144" y="144"/>
                  </a:lnTo>
                  <a:lnTo>
                    <a:pt x="159" y="125"/>
                  </a:lnTo>
                  <a:lnTo>
                    <a:pt x="169" y="104"/>
                  </a:lnTo>
                  <a:lnTo>
                    <a:pt x="178" y="81"/>
                  </a:lnTo>
                  <a:lnTo>
                    <a:pt x="186" y="56"/>
                  </a:lnTo>
                  <a:lnTo>
                    <a:pt x="190" y="31"/>
                  </a:lnTo>
                  <a:lnTo>
                    <a:pt x="142" y="110"/>
                  </a:lnTo>
                  <a:lnTo>
                    <a:pt x="161" y="38"/>
                  </a:lnTo>
                  <a:lnTo>
                    <a:pt x="132" y="100"/>
                  </a:lnTo>
                  <a:lnTo>
                    <a:pt x="130" y="102"/>
                  </a:lnTo>
                  <a:lnTo>
                    <a:pt x="128" y="102"/>
                  </a:lnTo>
                  <a:lnTo>
                    <a:pt x="128" y="104"/>
                  </a:lnTo>
                  <a:lnTo>
                    <a:pt x="126" y="106"/>
                  </a:lnTo>
                  <a:lnTo>
                    <a:pt x="84" y="144"/>
                  </a:lnTo>
                  <a:lnTo>
                    <a:pt x="84" y="131"/>
                  </a:lnTo>
                  <a:lnTo>
                    <a:pt x="86" y="117"/>
                  </a:lnTo>
                  <a:lnTo>
                    <a:pt x="89" y="104"/>
                  </a:lnTo>
                  <a:lnTo>
                    <a:pt x="93" y="90"/>
                  </a:lnTo>
                  <a:lnTo>
                    <a:pt x="99" y="77"/>
                  </a:lnTo>
                  <a:lnTo>
                    <a:pt x="105" y="63"/>
                  </a:lnTo>
                  <a:lnTo>
                    <a:pt x="113" y="52"/>
                  </a:lnTo>
                  <a:lnTo>
                    <a:pt x="120" y="38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17" y="36"/>
                  </a:lnTo>
                  <a:lnTo>
                    <a:pt x="113" y="38"/>
                  </a:lnTo>
                  <a:lnTo>
                    <a:pt x="55" y="127"/>
                  </a:lnTo>
                  <a:lnTo>
                    <a:pt x="55" y="127"/>
                  </a:lnTo>
                  <a:lnTo>
                    <a:pt x="53" y="127"/>
                  </a:lnTo>
                  <a:lnTo>
                    <a:pt x="51" y="127"/>
                  </a:lnTo>
                  <a:lnTo>
                    <a:pt x="49" y="127"/>
                  </a:lnTo>
                  <a:lnTo>
                    <a:pt x="51" y="115"/>
                  </a:lnTo>
                  <a:lnTo>
                    <a:pt x="53" y="102"/>
                  </a:lnTo>
                  <a:lnTo>
                    <a:pt x="57" y="90"/>
                  </a:lnTo>
                  <a:lnTo>
                    <a:pt x="64" y="79"/>
                  </a:lnTo>
                  <a:lnTo>
                    <a:pt x="70" y="67"/>
                  </a:lnTo>
                  <a:lnTo>
                    <a:pt x="76" y="56"/>
                  </a:lnTo>
                  <a:lnTo>
                    <a:pt x="84" y="46"/>
                  </a:lnTo>
                  <a:lnTo>
                    <a:pt x="91" y="36"/>
                  </a:lnTo>
                  <a:lnTo>
                    <a:pt x="91" y="35"/>
                  </a:lnTo>
                  <a:lnTo>
                    <a:pt x="89" y="33"/>
                  </a:lnTo>
                  <a:lnTo>
                    <a:pt x="84" y="35"/>
                  </a:lnTo>
                  <a:lnTo>
                    <a:pt x="84" y="36"/>
                  </a:lnTo>
                  <a:lnTo>
                    <a:pt x="35" y="102"/>
                  </a:lnTo>
                  <a:lnTo>
                    <a:pt x="35" y="102"/>
                  </a:lnTo>
                  <a:lnTo>
                    <a:pt x="33" y="102"/>
                  </a:lnTo>
                  <a:lnTo>
                    <a:pt x="31" y="102"/>
                  </a:lnTo>
                  <a:lnTo>
                    <a:pt x="31" y="102"/>
                  </a:lnTo>
                  <a:lnTo>
                    <a:pt x="37" y="67"/>
                  </a:lnTo>
                  <a:lnTo>
                    <a:pt x="57" y="3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4" y="6"/>
                  </a:lnTo>
                  <a:lnTo>
                    <a:pt x="68" y="11"/>
                  </a:lnTo>
                  <a:lnTo>
                    <a:pt x="60" y="17"/>
                  </a:lnTo>
                  <a:lnTo>
                    <a:pt x="57" y="19"/>
                  </a:lnTo>
                  <a:lnTo>
                    <a:pt x="57" y="21"/>
                  </a:lnTo>
                  <a:lnTo>
                    <a:pt x="55" y="25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1" y="31"/>
                  </a:lnTo>
                  <a:lnTo>
                    <a:pt x="49" y="31"/>
                  </a:lnTo>
                  <a:lnTo>
                    <a:pt x="49" y="33"/>
                  </a:lnTo>
                  <a:lnTo>
                    <a:pt x="39" y="44"/>
                  </a:lnTo>
                  <a:lnTo>
                    <a:pt x="39" y="44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5" y="48"/>
                  </a:lnTo>
                  <a:lnTo>
                    <a:pt x="2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60080" y="3213720"/>
              <a:ext cx="3024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7"/>
                  </a:moveTo>
                  <a:lnTo>
                    <a:pt x="0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6" y="17"/>
                  </a:lnTo>
                  <a:lnTo>
                    <a:pt x="11" y="15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9" y="7"/>
                  </a:lnTo>
                  <a:lnTo>
                    <a:pt x="2" y="1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83840" y="3118680"/>
              <a:ext cx="35640" cy="2988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7"/>
                  </a:moveTo>
                  <a:lnTo>
                    <a:pt x="0" y="17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8" y="17"/>
                  </a:lnTo>
                  <a:lnTo>
                    <a:pt x="12" y="12"/>
                  </a:lnTo>
                  <a:lnTo>
                    <a:pt x="16" y="6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35320" y="3173760"/>
              <a:ext cx="10800" cy="75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6920" y="2956680"/>
              <a:ext cx="55440" cy="522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0" y="31"/>
                  </a:moveTo>
                  <a:lnTo>
                    <a:pt x="0" y="31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0" y="29"/>
                  </a:lnTo>
                  <a:lnTo>
                    <a:pt x="19" y="21"/>
                  </a:lnTo>
                  <a:lnTo>
                    <a:pt x="25" y="10"/>
                  </a:lnTo>
                  <a:lnTo>
                    <a:pt x="3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6920" y="3072600"/>
              <a:ext cx="14400" cy="154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8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46120" y="3261240"/>
              <a:ext cx="37080" cy="187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" y="12"/>
                  </a:move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5400" y="2910600"/>
              <a:ext cx="288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2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12360" y="3221640"/>
              <a:ext cx="17640" cy="154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6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98400" y="3259800"/>
              <a:ext cx="429120" cy="518400"/>
            </a:xfrm>
            <a:custGeom>
              <a:avLst/>
              <a:gdLst/>
              <a:ahLst/>
              <a:rect l="l" t="t" r="r" b="b"/>
              <a:pathLst>
                <a:path w="240" h="327">
                  <a:moveTo>
                    <a:pt x="0" y="327"/>
                  </a:moveTo>
                  <a:lnTo>
                    <a:pt x="0" y="327"/>
                  </a:lnTo>
                  <a:lnTo>
                    <a:pt x="2" y="327"/>
                  </a:lnTo>
                  <a:lnTo>
                    <a:pt x="4" y="325"/>
                  </a:lnTo>
                  <a:lnTo>
                    <a:pt x="4" y="323"/>
                  </a:lnTo>
                  <a:lnTo>
                    <a:pt x="20" y="315"/>
                  </a:lnTo>
                  <a:lnTo>
                    <a:pt x="23" y="315"/>
                  </a:lnTo>
                  <a:lnTo>
                    <a:pt x="25" y="315"/>
                  </a:lnTo>
                  <a:lnTo>
                    <a:pt x="27" y="315"/>
                  </a:lnTo>
                  <a:lnTo>
                    <a:pt x="29" y="313"/>
                  </a:lnTo>
                  <a:lnTo>
                    <a:pt x="39" y="305"/>
                  </a:lnTo>
                  <a:lnTo>
                    <a:pt x="49" y="298"/>
                  </a:lnTo>
                  <a:lnTo>
                    <a:pt x="60" y="290"/>
                  </a:lnTo>
                  <a:lnTo>
                    <a:pt x="70" y="282"/>
                  </a:lnTo>
                  <a:lnTo>
                    <a:pt x="83" y="277"/>
                  </a:lnTo>
                  <a:lnTo>
                    <a:pt x="93" y="269"/>
                  </a:lnTo>
                  <a:lnTo>
                    <a:pt x="105" y="261"/>
                  </a:lnTo>
                  <a:lnTo>
                    <a:pt x="116" y="252"/>
                  </a:lnTo>
                  <a:lnTo>
                    <a:pt x="130" y="236"/>
                  </a:lnTo>
                  <a:lnTo>
                    <a:pt x="145" y="223"/>
                  </a:lnTo>
                  <a:lnTo>
                    <a:pt x="157" y="207"/>
                  </a:lnTo>
                  <a:lnTo>
                    <a:pt x="169" y="192"/>
                  </a:lnTo>
                  <a:lnTo>
                    <a:pt x="180" y="175"/>
                  </a:lnTo>
                  <a:lnTo>
                    <a:pt x="190" y="159"/>
                  </a:lnTo>
                  <a:lnTo>
                    <a:pt x="201" y="142"/>
                  </a:lnTo>
                  <a:lnTo>
                    <a:pt x="211" y="123"/>
                  </a:lnTo>
                  <a:lnTo>
                    <a:pt x="240" y="27"/>
                  </a:lnTo>
                  <a:lnTo>
                    <a:pt x="234" y="44"/>
                  </a:lnTo>
                  <a:lnTo>
                    <a:pt x="227" y="63"/>
                  </a:lnTo>
                  <a:lnTo>
                    <a:pt x="219" y="84"/>
                  </a:lnTo>
                  <a:lnTo>
                    <a:pt x="211" y="105"/>
                  </a:lnTo>
                  <a:lnTo>
                    <a:pt x="203" y="127"/>
                  </a:lnTo>
                  <a:lnTo>
                    <a:pt x="192" y="146"/>
                  </a:lnTo>
                  <a:lnTo>
                    <a:pt x="180" y="163"/>
                  </a:lnTo>
                  <a:lnTo>
                    <a:pt x="169" y="180"/>
                  </a:lnTo>
                  <a:lnTo>
                    <a:pt x="169" y="180"/>
                  </a:lnTo>
                  <a:lnTo>
                    <a:pt x="167" y="180"/>
                  </a:lnTo>
                  <a:lnTo>
                    <a:pt x="165" y="180"/>
                  </a:lnTo>
                  <a:lnTo>
                    <a:pt x="163" y="180"/>
                  </a:lnTo>
                  <a:lnTo>
                    <a:pt x="163" y="179"/>
                  </a:lnTo>
                  <a:lnTo>
                    <a:pt x="163" y="177"/>
                  </a:lnTo>
                  <a:lnTo>
                    <a:pt x="163" y="175"/>
                  </a:lnTo>
                  <a:lnTo>
                    <a:pt x="163" y="173"/>
                  </a:lnTo>
                  <a:lnTo>
                    <a:pt x="169" y="159"/>
                  </a:lnTo>
                  <a:lnTo>
                    <a:pt x="201" y="53"/>
                  </a:lnTo>
                  <a:lnTo>
                    <a:pt x="201" y="52"/>
                  </a:lnTo>
                  <a:lnTo>
                    <a:pt x="198" y="50"/>
                  </a:lnTo>
                  <a:lnTo>
                    <a:pt x="194" y="50"/>
                  </a:lnTo>
                  <a:lnTo>
                    <a:pt x="194" y="53"/>
                  </a:lnTo>
                  <a:lnTo>
                    <a:pt x="190" y="73"/>
                  </a:lnTo>
                  <a:lnTo>
                    <a:pt x="184" y="92"/>
                  </a:lnTo>
                  <a:lnTo>
                    <a:pt x="176" y="113"/>
                  </a:lnTo>
                  <a:lnTo>
                    <a:pt x="167" y="132"/>
                  </a:lnTo>
                  <a:lnTo>
                    <a:pt x="159" y="152"/>
                  </a:lnTo>
                  <a:lnTo>
                    <a:pt x="149" y="171"/>
                  </a:lnTo>
                  <a:lnTo>
                    <a:pt x="138" y="188"/>
                  </a:lnTo>
                  <a:lnTo>
                    <a:pt x="128" y="205"/>
                  </a:lnTo>
                  <a:lnTo>
                    <a:pt x="128" y="205"/>
                  </a:lnTo>
                  <a:lnTo>
                    <a:pt x="126" y="205"/>
                  </a:lnTo>
                  <a:lnTo>
                    <a:pt x="124" y="205"/>
                  </a:lnTo>
                  <a:lnTo>
                    <a:pt x="124" y="205"/>
                  </a:lnTo>
                  <a:lnTo>
                    <a:pt x="124" y="205"/>
                  </a:lnTo>
                  <a:lnTo>
                    <a:pt x="124" y="204"/>
                  </a:lnTo>
                  <a:lnTo>
                    <a:pt x="124" y="200"/>
                  </a:lnTo>
                  <a:lnTo>
                    <a:pt x="124" y="198"/>
                  </a:lnTo>
                  <a:lnTo>
                    <a:pt x="130" y="182"/>
                  </a:lnTo>
                  <a:lnTo>
                    <a:pt x="134" y="165"/>
                  </a:lnTo>
                  <a:lnTo>
                    <a:pt x="140" y="148"/>
                  </a:lnTo>
                  <a:lnTo>
                    <a:pt x="145" y="130"/>
                  </a:lnTo>
                  <a:lnTo>
                    <a:pt x="151" y="113"/>
                  </a:lnTo>
                  <a:lnTo>
                    <a:pt x="155" y="94"/>
                  </a:lnTo>
                  <a:lnTo>
                    <a:pt x="159" y="77"/>
                  </a:lnTo>
                  <a:lnTo>
                    <a:pt x="163" y="57"/>
                  </a:lnTo>
                  <a:lnTo>
                    <a:pt x="165" y="38"/>
                  </a:lnTo>
                  <a:lnTo>
                    <a:pt x="163" y="38"/>
                  </a:lnTo>
                  <a:lnTo>
                    <a:pt x="163" y="38"/>
                  </a:lnTo>
                  <a:lnTo>
                    <a:pt x="161" y="38"/>
                  </a:lnTo>
                  <a:lnTo>
                    <a:pt x="159" y="38"/>
                  </a:lnTo>
                  <a:lnTo>
                    <a:pt x="132" y="155"/>
                  </a:lnTo>
                  <a:lnTo>
                    <a:pt x="103" y="205"/>
                  </a:lnTo>
                  <a:lnTo>
                    <a:pt x="130" y="53"/>
                  </a:lnTo>
                  <a:lnTo>
                    <a:pt x="130" y="52"/>
                  </a:lnTo>
                  <a:lnTo>
                    <a:pt x="130" y="52"/>
                  </a:lnTo>
                  <a:lnTo>
                    <a:pt x="130" y="50"/>
                  </a:lnTo>
                  <a:lnTo>
                    <a:pt x="128" y="46"/>
                  </a:lnTo>
                  <a:lnTo>
                    <a:pt x="128" y="0"/>
                  </a:lnTo>
                  <a:lnTo>
                    <a:pt x="126" y="21"/>
                  </a:lnTo>
                  <a:lnTo>
                    <a:pt x="124" y="42"/>
                  </a:lnTo>
                  <a:lnTo>
                    <a:pt x="122" y="65"/>
                  </a:lnTo>
                  <a:lnTo>
                    <a:pt x="118" y="86"/>
                  </a:lnTo>
                  <a:lnTo>
                    <a:pt x="112" y="107"/>
                  </a:lnTo>
                  <a:lnTo>
                    <a:pt x="107" y="130"/>
                  </a:lnTo>
                  <a:lnTo>
                    <a:pt x="99" y="152"/>
                  </a:lnTo>
                  <a:lnTo>
                    <a:pt x="93" y="173"/>
                  </a:lnTo>
                  <a:lnTo>
                    <a:pt x="85" y="194"/>
                  </a:lnTo>
                  <a:lnTo>
                    <a:pt x="74" y="215"/>
                  </a:lnTo>
                  <a:lnTo>
                    <a:pt x="66" y="236"/>
                  </a:lnTo>
                  <a:lnTo>
                    <a:pt x="54" y="255"/>
                  </a:lnTo>
                  <a:lnTo>
                    <a:pt x="41" y="273"/>
                  </a:lnTo>
                  <a:lnTo>
                    <a:pt x="29" y="290"/>
                  </a:lnTo>
                  <a:lnTo>
                    <a:pt x="14" y="307"/>
                  </a:lnTo>
                  <a:lnTo>
                    <a:pt x="0" y="323"/>
                  </a:lnTo>
                  <a:lnTo>
                    <a:pt x="0" y="325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9360" y="3141000"/>
              <a:ext cx="720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16560" y="3181680"/>
              <a:ext cx="10440" cy="3168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0" y="4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6" y="18"/>
                  </a:lnTo>
                  <a:lnTo>
                    <a:pt x="6" y="14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293240" y="3253320"/>
              <a:ext cx="7200" cy="20160"/>
            </a:xfrm>
            <a:custGeom>
              <a:avLst/>
              <a:gdLst/>
              <a:ahLst/>
              <a:rect l="l" t="t" r="r" b="b"/>
              <a:pathLst>
                <a:path w="4" h="13">
                  <a:moveTo>
                    <a:pt x="0" y="4"/>
                  </a:move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357680" y="3283560"/>
              <a:ext cx="10800" cy="201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37960" y="3240720"/>
              <a:ext cx="7200" cy="18720"/>
            </a:xfrm>
            <a:custGeom>
              <a:avLst/>
              <a:gdLst/>
              <a:ahLst/>
              <a:rect l="l" t="t" r="r" b="b"/>
              <a:pathLst>
                <a:path w="4" h="12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52720" y="3170880"/>
              <a:ext cx="684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flipH="1">
            <a:off x="5400720" y="685800"/>
            <a:ext cx="2055600" cy="304920"/>
          </a:xfrm>
          <a:custGeom>
            <a:avLst/>
            <a:gdLst>
              <a:gd name="textAreaLeft" fmla="*/ 321480 w 2055600"/>
              <a:gd name="textAreaRight" fmla="*/ 1799280 w 20556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43680" y="3884760"/>
            <a:ext cx="2550600" cy="2287080"/>
            <a:chOff x="5143680" y="3884760"/>
            <a:chExt cx="2550600" cy="2287080"/>
          </a:xfrm>
        </p:grpSpPr>
        <p:sp>
          <p:nvSpPr>
            <p:cNvPr id="154" name=""/>
            <p:cNvSpPr/>
            <p:nvPr/>
          </p:nvSpPr>
          <p:spPr>
            <a:xfrm>
              <a:off x="6743880" y="5838480"/>
              <a:ext cx="20160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3880" y="5838480"/>
              <a:ext cx="201600" cy="73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46040" y="5762160"/>
              <a:ext cx="199440" cy="76320"/>
            </a:xfrm>
            <a:custGeom>
              <a:avLst/>
              <a:gdLst/>
              <a:ahLst/>
              <a:rect l="l" t="t" r="r" b="b"/>
              <a:pathLst>
                <a:path w="224" h="95">
                  <a:moveTo>
                    <a:pt x="224" y="95"/>
                  </a:moveTo>
                  <a:lnTo>
                    <a:pt x="132" y="0"/>
                  </a:lnTo>
                  <a:lnTo>
                    <a:pt x="92" y="0"/>
                  </a:lnTo>
                  <a:lnTo>
                    <a:pt x="0" y="95"/>
                  </a:lnTo>
                  <a:lnTo>
                    <a:pt x="224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46040" y="5762160"/>
              <a:ext cx="199440" cy="76320"/>
            </a:xfrm>
            <a:custGeom>
              <a:avLst/>
              <a:gdLst/>
              <a:ahLst/>
              <a:rect l="l" t="t" r="r" b="b"/>
              <a:pathLst>
                <a:path w="224" h="95">
                  <a:moveTo>
                    <a:pt x="224" y="95"/>
                  </a:moveTo>
                  <a:lnTo>
                    <a:pt x="132" y="0"/>
                  </a:lnTo>
                  <a:lnTo>
                    <a:pt x="92" y="0"/>
                  </a:lnTo>
                  <a:lnTo>
                    <a:pt x="0" y="95"/>
                  </a:lnTo>
                  <a:lnTo>
                    <a:pt x="224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81600" y="3894120"/>
              <a:ext cx="317880" cy="1130760"/>
            </a:xfrm>
            <a:prstGeom prst="rect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81600" y="5024880"/>
              <a:ext cx="317880" cy="648000"/>
            </a:xfrm>
            <a:custGeom>
              <a:avLst/>
              <a:gdLst/>
              <a:ahLst/>
              <a:rect l="l" t="t" r="r" b="b"/>
              <a:pathLst>
                <a:path w="357" h="815">
                  <a:moveTo>
                    <a:pt x="0" y="815"/>
                  </a:moveTo>
                  <a:lnTo>
                    <a:pt x="0" y="0"/>
                  </a:lnTo>
                  <a:lnTo>
                    <a:pt x="357" y="0"/>
                  </a:lnTo>
                  <a:lnTo>
                    <a:pt x="357" y="815"/>
                  </a:lnTo>
                  <a:lnTo>
                    <a:pt x="301" y="815"/>
                  </a:lnTo>
                  <a:lnTo>
                    <a:pt x="301" y="703"/>
                  </a:lnTo>
                  <a:lnTo>
                    <a:pt x="300" y="675"/>
                  </a:lnTo>
                  <a:lnTo>
                    <a:pt x="292" y="649"/>
                  </a:lnTo>
                  <a:lnTo>
                    <a:pt x="282" y="626"/>
                  </a:lnTo>
                  <a:lnTo>
                    <a:pt x="265" y="604"/>
                  </a:lnTo>
                  <a:lnTo>
                    <a:pt x="247" y="589"/>
                  </a:lnTo>
                  <a:lnTo>
                    <a:pt x="228" y="576"/>
                  </a:lnTo>
                  <a:lnTo>
                    <a:pt x="204" y="567"/>
                  </a:lnTo>
                  <a:lnTo>
                    <a:pt x="179" y="564"/>
                  </a:lnTo>
                  <a:lnTo>
                    <a:pt x="177" y="564"/>
                  </a:lnTo>
                  <a:lnTo>
                    <a:pt x="152" y="567"/>
                  </a:lnTo>
                  <a:lnTo>
                    <a:pt x="130" y="576"/>
                  </a:lnTo>
                  <a:lnTo>
                    <a:pt x="108" y="589"/>
                  </a:lnTo>
                  <a:lnTo>
                    <a:pt x="90" y="604"/>
                  </a:lnTo>
                  <a:lnTo>
                    <a:pt x="76" y="626"/>
                  </a:lnTo>
                  <a:lnTo>
                    <a:pt x="63" y="649"/>
                  </a:lnTo>
                  <a:lnTo>
                    <a:pt x="56" y="675"/>
                  </a:lnTo>
                  <a:lnTo>
                    <a:pt x="54" y="703"/>
                  </a:lnTo>
                  <a:lnTo>
                    <a:pt x="54" y="815"/>
                  </a:lnTo>
                  <a:lnTo>
                    <a:pt x="0" y="815"/>
                  </a:ln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50000">
                  <a:srgbClr val="777777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1600" y="5673240"/>
              <a:ext cx="317880" cy="282600"/>
            </a:xfrm>
            <a:custGeom>
              <a:avLst/>
              <a:gdLst/>
              <a:ahLst/>
              <a:rect l="l" t="t" r="r" b="b"/>
              <a:pathLst>
                <a:path w="357" h="357">
                  <a:moveTo>
                    <a:pt x="0" y="0"/>
                  </a:moveTo>
                  <a:lnTo>
                    <a:pt x="0" y="357"/>
                  </a:lnTo>
                  <a:lnTo>
                    <a:pt x="357" y="357"/>
                  </a:lnTo>
                  <a:lnTo>
                    <a:pt x="357" y="0"/>
                  </a:lnTo>
                  <a:lnTo>
                    <a:pt x="301" y="0"/>
                  </a:lnTo>
                  <a:lnTo>
                    <a:pt x="301" y="112"/>
                  </a:lnTo>
                  <a:lnTo>
                    <a:pt x="300" y="141"/>
                  </a:lnTo>
                  <a:lnTo>
                    <a:pt x="292" y="168"/>
                  </a:lnTo>
                  <a:lnTo>
                    <a:pt x="282" y="191"/>
                  </a:lnTo>
                  <a:lnTo>
                    <a:pt x="265" y="213"/>
                  </a:lnTo>
                  <a:lnTo>
                    <a:pt x="247" y="229"/>
                  </a:lnTo>
                  <a:lnTo>
                    <a:pt x="228" y="242"/>
                  </a:lnTo>
                  <a:lnTo>
                    <a:pt x="204" y="250"/>
                  </a:lnTo>
                  <a:lnTo>
                    <a:pt x="179" y="253"/>
                  </a:lnTo>
                  <a:lnTo>
                    <a:pt x="177" y="253"/>
                  </a:lnTo>
                  <a:lnTo>
                    <a:pt x="152" y="250"/>
                  </a:lnTo>
                  <a:lnTo>
                    <a:pt x="130" y="242"/>
                  </a:lnTo>
                  <a:lnTo>
                    <a:pt x="108" y="229"/>
                  </a:lnTo>
                  <a:lnTo>
                    <a:pt x="90" y="213"/>
                  </a:lnTo>
                  <a:lnTo>
                    <a:pt x="76" y="191"/>
                  </a:lnTo>
                  <a:lnTo>
                    <a:pt x="63" y="168"/>
                  </a:lnTo>
                  <a:lnTo>
                    <a:pt x="56" y="141"/>
                  </a:lnTo>
                  <a:lnTo>
                    <a:pt x="54" y="112"/>
                  </a:lnTo>
                  <a:lnTo>
                    <a:pt x="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81600" y="3894120"/>
              <a:ext cx="317880" cy="2061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29840" y="5473080"/>
              <a:ext cx="219240" cy="399960"/>
            </a:xfrm>
            <a:custGeom>
              <a:avLst/>
              <a:gdLst/>
              <a:ahLst/>
              <a:rect l="l" t="t" r="r" b="b"/>
              <a:pathLst>
                <a:path w="247" h="504">
                  <a:moveTo>
                    <a:pt x="123" y="0"/>
                  </a:moveTo>
                  <a:lnTo>
                    <a:pt x="125" y="0"/>
                  </a:lnTo>
                  <a:lnTo>
                    <a:pt x="150" y="3"/>
                  </a:lnTo>
                  <a:lnTo>
                    <a:pt x="174" y="12"/>
                  </a:lnTo>
                  <a:lnTo>
                    <a:pt x="193" y="25"/>
                  </a:lnTo>
                  <a:lnTo>
                    <a:pt x="211" y="40"/>
                  </a:lnTo>
                  <a:lnTo>
                    <a:pt x="228" y="62"/>
                  </a:lnTo>
                  <a:lnTo>
                    <a:pt x="238" y="85"/>
                  </a:lnTo>
                  <a:lnTo>
                    <a:pt x="246" y="111"/>
                  </a:lnTo>
                  <a:lnTo>
                    <a:pt x="247" y="139"/>
                  </a:lnTo>
                  <a:lnTo>
                    <a:pt x="247" y="363"/>
                  </a:lnTo>
                  <a:lnTo>
                    <a:pt x="246" y="392"/>
                  </a:lnTo>
                  <a:lnTo>
                    <a:pt x="238" y="419"/>
                  </a:lnTo>
                  <a:lnTo>
                    <a:pt x="228" y="442"/>
                  </a:lnTo>
                  <a:lnTo>
                    <a:pt x="211" y="464"/>
                  </a:lnTo>
                  <a:lnTo>
                    <a:pt x="193" y="480"/>
                  </a:lnTo>
                  <a:lnTo>
                    <a:pt x="174" y="493"/>
                  </a:lnTo>
                  <a:lnTo>
                    <a:pt x="150" y="501"/>
                  </a:lnTo>
                  <a:lnTo>
                    <a:pt x="125" y="504"/>
                  </a:lnTo>
                  <a:lnTo>
                    <a:pt x="123" y="504"/>
                  </a:lnTo>
                  <a:lnTo>
                    <a:pt x="98" y="501"/>
                  </a:lnTo>
                  <a:lnTo>
                    <a:pt x="76" y="493"/>
                  </a:lnTo>
                  <a:lnTo>
                    <a:pt x="54" y="480"/>
                  </a:lnTo>
                  <a:lnTo>
                    <a:pt x="36" y="464"/>
                  </a:lnTo>
                  <a:lnTo>
                    <a:pt x="22" y="442"/>
                  </a:lnTo>
                  <a:lnTo>
                    <a:pt x="9" y="419"/>
                  </a:lnTo>
                  <a:lnTo>
                    <a:pt x="2" y="392"/>
                  </a:lnTo>
                  <a:lnTo>
                    <a:pt x="0" y="363"/>
                  </a:lnTo>
                  <a:lnTo>
                    <a:pt x="0" y="139"/>
                  </a:lnTo>
                  <a:lnTo>
                    <a:pt x="2" y="111"/>
                  </a:lnTo>
                  <a:lnTo>
                    <a:pt x="9" y="85"/>
                  </a:lnTo>
                  <a:lnTo>
                    <a:pt x="22" y="62"/>
                  </a:lnTo>
                  <a:lnTo>
                    <a:pt x="36" y="40"/>
                  </a:lnTo>
                  <a:lnTo>
                    <a:pt x="54" y="25"/>
                  </a:lnTo>
                  <a:lnTo>
                    <a:pt x="76" y="12"/>
                  </a:lnTo>
                  <a:lnTo>
                    <a:pt x="98" y="3"/>
                  </a:lnTo>
                  <a:lnTo>
                    <a:pt x="1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38120" y="6021000"/>
              <a:ext cx="2178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38120" y="6021000"/>
              <a:ext cx="217800" cy="108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54120" y="6022440"/>
              <a:ext cx="541440" cy="109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54120" y="6022440"/>
              <a:ext cx="541440" cy="109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54480" y="5951160"/>
              <a:ext cx="1627200" cy="211320"/>
            </a:xfrm>
            <a:custGeom>
              <a:avLst/>
              <a:gdLst/>
              <a:ahLst/>
              <a:rect l="l" t="t" r="r" b="b"/>
              <a:pathLst>
                <a:path w="1823" h="267">
                  <a:moveTo>
                    <a:pt x="49" y="267"/>
                  </a:moveTo>
                  <a:lnTo>
                    <a:pt x="1774" y="267"/>
                  </a:lnTo>
                  <a:lnTo>
                    <a:pt x="1794" y="265"/>
                  </a:lnTo>
                  <a:lnTo>
                    <a:pt x="1808" y="256"/>
                  </a:lnTo>
                  <a:lnTo>
                    <a:pt x="1819" y="243"/>
                  </a:lnTo>
                  <a:lnTo>
                    <a:pt x="1823" y="228"/>
                  </a:lnTo>
                  <a:lnTo>
                    <a:pt x="1823" y="78"/>
                  </a:lnTo>
                  <a:lnTo>
                    <a:pt x="1819" y="58"/>
                  </a:lnTo>
                  <a:lnTo>
                    <a:pt x="1808" y="32"/>
                  </a:lnTo>
                  <a:lnTo>
                    <a:pt x="1794" y="9"/>
                  </a:lnTo>
                  <a:lnTo>
                    <a:pt x="1774" y="0"/>
                  </a:lnTo>
                  <a:lnTo>
                    <a:pt x="49" y="0"/>
                  </a:lnTo>
                  <a:lnTo>
                    <a:pt x="29" y="9"/>
                  </a:lnTo>
                  <a:lnTo>
                    <a:pt x="15" y="32"/>
                  </a:lnTo>
                  <a:lnTo>
                    <a:pt x="4" y="58"/>
                  </a:lnTo>
                  <a:lnTo>
                    <a:pt x="0" y="78"/>
                  </a:lnTo>
                  <a:lnTo>
                    <a:pt x="0" y="228"/>
                  </a:lnTo>
                  <a:lnTo>
                    <a:pt x="4" y="243"/>
                  </a:lnTo>
                  <a:lnTo>
                    <a:pt x="15" y="256"/>
                  </a:lnTo>
                  <a:lnTo>
                    <a:pt x="29" y="265"/>
                  </a:lnTo>
                  <a:lnTo>
                    <a:pt x="49" y="26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d4d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54480" y="5951160"/>
              <a:ext cx="1627200" cy="211320"/>
            </a:xfrm>
            <a:custGeom>
              <a:avLst/>
              <a:gdLst/>
              <a:ahLst/>
              <a:rect l="l" t="t" r="r" b="b"/>
              <a:pathLst>
                <a:path w="1823" h="267">
                  <a:moveTo>
                    <a:pt x="49" y="267"/>
                  </a:moveTo>
                  <a:lnTo>
                    <a:pt x="1774" y="267"/>
                  </a:lnTo>
                  <a:lnTo>
                    <a:pt x="1794" y="265"/>
                  </a:lnTo>
                  <a:lnTo>
                    <a:pt x="1808" y="256"/>
                  </a:lnTo>
                  <a:lnTo>
                    <a:pt x="1819" y="243"/>
                  </a:lnTo>
                  <a:lnTo>
                    <a:pt x="1823" y="228"/>
                  </a:lnTo>
                  <a:lnTo>
                    <a:pt x="1823" y="78"/>
                  </a:lnTo>
                  <a:lnTo>
                    <a:pt x="1819" y="58"/>
                  </a:lnTo>
                  <a:lnTo>
                    <a:pt x="1808" y="32"/>
                  </a:lnTo>
                  <a:lnTo>
                    <a:pt x="1794" y="9"/>
                  </a:lnTo>
                  <a:lnTo>
                    <a:pt x="1774" y="0"/>
                  </a:lnTo>
                  <a:lnTo>
                    <a:pt x="49" y="0"/>
                  </a:lnTo>
                  <a:lnTo>
                    <a:pt x="29" y="9"/>
                  </a:lnTo>
                  <a:lnTo>
                    <a:pt x="15" y="32"/>
                  </a:lnTo>
                  <a:lnTo>
                    <a:pt x="4" y="58"/>
                  </a:lnTo>
                  <a:lnTo>
                    <a:pt x="0" y="78"/>
                  </a:lnTo>
                  <a:lnTo>
                    <a:pt x="0" y="228"/>
                  </a:lnTo>
                  <a:lnTo>
                    <a:pt x="4" y="243"/>
                  </a:lnTo>
                  <a:lnTo>
                    <a:pt x="15" y="256"/>
                  </a:lnTo>
                  <a:lnTo>
                    <a:pt x="29" y="265"/>
                  </a:lnTo>
                  <a:lnTo>
                    <a:pt x="49" y="26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99200" y="6001920"/>
              <a:ext cx="144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99200" y="6001920"/>
              <a:ext cx="144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68880" y="6146280"/>
              <a:ext cx="1612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68880" y="6146280"/>
              <a:ext cx="16128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36960" y="3918240"/>
              <a:ext cx="412200" cy="253800"/>
            </a:xfrm>
            <a:custGeom>
              <a:avLst/>
              <a:gdLst/>
              <a:ahLst/>
              <a:rect l="l" t="t" r="r" b="b"/>
              <a:pathLst>
                <a:path w="462" h="319">
                  <a:moveTo>
                    <a:pt x="33" y="0"/>
                  </a:moveTo>
                  <a:lnTo>
                    <a:pt x="430" y="0"/>
                  </a:lnTo>
                  <a:lnTo>
                    <a:pt x="442" y="1"/>
                  </a:lnTo>
                  <a:lnTo>
                    <a:pt x="453" y="7"/>
                  </a:lnTo>
                  <a:lnTo>
                    <a:pt x="461" y="16"/>
                  </a:lnTo>
                  <a:lnTo>
                    <a:pt x="462" y="26"/>
                  </a:lnTo>
                  <a:lnTo>
                    <a:pt x="462" y="293"/>
                  </a:lnTo>
                  <a:lnTo>
                    <a:pt x="461" y="303"/>
                  </a:lnTo>
                  <a:lnTo>
                    <a:pt x="453" y="312"/>
                  </a:lnTo>
                  <a:lnTo>
                    <a:pt x="442" y="318"/>
                  </a:lnTo>
                  <a:lnTo>
                    <a:pt x="430" y="319"/>
                  </a:lnTo>
                  <a:lnTo>
                    <a:pt x="33" y="319"/>
                  </a:lnTo>
                  <a:lnTo>
                    <a:pt x="20" y="318"/>
                  </a:lnTo>
                  <a:lnTo>
                    <a:pt x="9" y="312"/>
                  </a:lnTo>
                  <a:lnTo>
                    <a:pt x="2" y="303"/>
                  </a:lnTo>
                  <a:lnTo>
                    <a:pt x="0" y="293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9" y="7"/>
                  </a:lnTo>
                  <a:lnTo>
                    <a:pt x="20" y="1"/>
                  </a:ln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969696"/>
                </a:gs>
                <a:gs pos="100000">
                  <a:srgbClr val="4d4d4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36960" y="3918240"/>
              <a:ext cx="412200" cy="253800"/>
            </a:xfrm>
            <a:custGeom>
              <a:avLst/>
              <a:gdLst/>
              <a:ahLst/>
              <a:rect l="l" t="t" r="r" b="b"/>
              <a:pathLst>
                <a:path w="462" h="319">
                  <a:moveTo>
                    <a:pt x="33" y="0"/>
                  </a:moveTo>
                  <a:lnTo>
                    <a:pt x="430" y="0"/>
                  </a:lnTo>
                  <a:lnTo>
                    <a:pt x="442" y="1"/>
                  </a:lnTo>
                  <a:lnTo>
                    <a:pt x="453" y="7"/>
                  </a:lnTo>
                  <a:lnTo>
                    <a:pt x="461" y="16"/>
                  </a:lnTo>
                  <a:lnTo>
                    <a:pt x="462" y="26"/>
                  </a:lnTo>
                  <a:lnTo>
                    <a:pt x="462" y="293"/>
                  </a:lnTo>
                  <a:lnTo>
                    <a:pt x="461" y="303"/>
                  </a:lnTo>
                  <a:lnTo>
                    <a:pt x="453" y="312"/>
                  </a:lnTo>
                  <a:lnTo>
                    <a:pt x="442" y="318"/>
                  </a:lnTo>
                  <a:lnTo>
                    <a:pt x="430" y="319"/>
                  </a:lnTo>
                  <a:lnTo>
                    <a:pt x="33" y="319"/>
                  </a:lnTo>
                  <a:lnTo>
                    <a:pt x="20" y="318"/>
                  </a:lnTo>
                  <a:lnTo>
                    <a:pt x="9" y="312"/>
                  </a:lnTo>
                  <a:lnTo>
                    <a:pt x="2" y="303"/>
                  </a:lnTo>
                  <a:lnTo>
                    <a:pt x="0" y="293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9" y="7"/>
                  </a:lnTo>
                  <a:lnTo>
                    <a:pt x="20" y="1"/>
                  </a:lnTo>
                  <a:lnTo>
                    <a:pt x="3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4720" y="5401440"/>
              <a:ext cx="433800" cy="271440"/>
            </a:xfrm>
            <a:custGeom>
              <a:avLst/>
              <a:gdLst/>
              <a:ahLst/>
              <a:rect l="l" t="t" r="r" b="b"/>
              <a:pathLst>
                <a:path w="485" h="341">
                  <a:moveTo>
                    <a:pt x="0" y="341"/>
                  </a:moveTo>
                  <a:lnTo>
                    <a:pt x="0" y="45"/>
                  </a:lnTo>
                  <a:lnTo>
                    <a:pt x="2" y="35"/>
                  </a:lnTo>
                  <a:lnTo>
                    <a:pt x="4" y="28"/>
                  </a:lnTo>
                  <a:lnTo>
                    <a:pt x="9" y="19"/>
                  </a:lnTo>
                  <a:lnTo>
                    <a:pt x="16" y="13"/>
                  </a:lnTo>
                  <a:lnTo>
                    <a:pt x="25" y="8"/>
                  </a:lnTo>
                  <a:lnTo>
                    <a:pt x="34" y="3"/>
                  </a:lnTo>
                  <a:lnTo>
                    <a:pt x="45" y="2"/>
                  </a:lnTo>
                  <a:lnTo>
                    <a:pt x="58" y="0"/>
                  </a:lnTo>
                  <a:lnTo>
                    <a:pt x="428" y="0"/>
                  </a:lnTo>
                  <a:lnTo>
                    <a:pt x="440" y="2"/>
                  </a:lnTo>
                  <a:lnTo>
                    <a:pt x="451" y="3"/>
                  </a:lnTo>
                  <a:lnTo>
                    <a:pt x="460" y="8"/>
                  </a:lnTo>
                  <a:lnTo>
                    <a:pt x="469" y="13"/>
                  </a:lnTo>
                  <a:lnTo>
                    <a:pt x="476" y="19"/>
                  </a:lnTo>
                  <a:lnTo>
                    <a:pt x="482" y="28"/>
                  </a:lnTo>
                  <a:lnTo>
                    <a:pt x="484" y="35"/>
                  </a:lnTo>
                  <a:lnTo>
                    <a:pt x="485" y="45"/>
                  </a:lnTo>
                  <a:lnTo>
                    <a:pt x="485" y="341"/>
                  </a:lnTo>
                  <a:lnTo>
                    <a:pt x="388" y="341"/>
                  </a:lnTo>
                  <a:lnTo>
                    <a:pt x="388" y="229"/>
                  </a:lnTo>
                  <a:lnTo>
                    <a:pt x="386" y="201"/>
                  </a:lnTo>
                  <a:lnTo>
                    <a:pt x="379" y="175"/>
                  </a:lnTo>
                  <a:lnTo>
                    <a:pt x="368" y="152"/>
                  </a:lnTo>
                  <a:lnTo>
                    <a:pt x="352" y="130"/>
                  </a:lnTo>
                  <a:lnTo>
                    <a:pt x="334" y="115"/>
                  </a:lnTo>
                  <a:lnTo>
                    <a:pt x="314" y="102"/>
                  </a:lnTo>
                  <a:lnTo>
                    <a:pt x="291" y="93"/>
                  </a:lnTo>
                  <a:lnTo>
                    <a:pt x="265" y="90"/>
                  </a:lnTo>
                  <a:lnTo>
                    <a:pt x="263" y="90"/>
                  </a:lnTo>
                  <a:lnTo>
                    <a:pt x="238" y="93"/>
                  </a:lnTo>
                  <a:lnTo>
                    <a:pt x="217" y="102"/>
                  </a:lnTo>
                  <a:lnTo>
                    <a:pt x="195" y="115"/>
                  </a:lnTo>
                  <a:lnTo>
                    <a:pt x="177" y="130"/>
                  </a:lnTo>
                  <a:lnTo>
                    <a:pt x="162" y="152"/>
                  </a:lnTo>
                  <a:lnTo>
                    <a:pt x="150" y="175"/>
                  </a:lnTo>
                  <a:lnTo>
                    <a:pt x="143" y="201"/>
                  </a:lnTo>
                  <a:lnTo>
                    <a:pt x="141" y="229"/>
                  </a:lnTo>
                  <a:lnTo>
                    <a:pt x="141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4720" y="5673240"/>
              <a:ext cx="433800" cy="263520"/>
            </a:xfrm>
            <a:custGeom>
              <a:avLst/>
              <a:gdLst/>
              <a:ahLst/>
              <a:rect l="l" t="t" r="r" b="b"/>
              <a:pathLst>
                <a:path w="485" h="333">
                  <a:moveTo>
                    <a:pt x="0" y="0"/>
                  </a:moveTo>
                  <a:lnTo>
                    <a:pt x="0" y="287"/>
                  </a:lnTo>
                  <a:lnTo>
                    <a:pt x="2" y="297"/>
                  </a:lnTo>
                  <a:lnTo>
                    <a:pt x="4" y="305"/>
                  </a:lnTo>
                  <a:lnTo>
                    <a:pt x="9" y="313"/>
                  </a:lnTo>
                  <a:lnTo>
                    <a:pt x="16" y="320"/>
                  </a:lnTo>
                  <a:lnTo>
                    <a:pt x="25" y="326"/>
                  </a:lnTo>
                  <a:lnTo>
                    <a:pt x="34" y="330"/>
                  </a:lnTo>
                  <a:lnTo>
                    <a:pt x="45" y="331"/>
                  </a:lnTo>
                  <a:lnTo>
                    <a:pt x="58" y="333"/>
                  </a:lnTo>
                  <a:lnTo>
                    <a:pt x="428" y="333"/>
                  </a:lnTo>
                  <a:lnTo>
                    <a:pt x="440" y="331"/>
                  </a:lnTo>
                  <a:lnTo>
                    <a:pt x="451" y="330"/>
                  </a:lnTo>
                  <a:lnTo>
                    <a:pt x="460" y="326"/>
                  </a:lnTo>
                  <a:lnTo>
                    <a:pt x="469" y="320"/>
                  </a:lnTo>
                  <a:lnTo>
                    <a:pt x="476" y="313"/>
                  </a:lnTo>
                  <a:lnTo>
                    <a:pt x="482" y="305"/>
                  </a:lnTo>
                  <a:lnTo>
                    <a:pt x="484" y="297"/>
                  </a:lnTo>
                  <a:lnTo>
                    <a:pt x="485" y="287"/>
                  </a:lnTo>
                  <a:lnTo>
                    <a:pt x="485" y="0"/>
                  </a:lnTo>
                  <a:lnTo>
                    <a:pt x="388" y="0"/>
                  </a:lnTo>
                  <a:lnTo>
                    <a:pt x="388" y="112"/>
                  </a:lnTo>
                  <a:lnTo>
                    <a:pt x="386" y="141"/>
                  </a:lnTo>
                  <a:lnTo>
                    <a:pt x="379" y="168"/>
                  </a:lnTo>
                  <a:lnTo>
                    <a:pt x="368" y="191"/>
                  </a:lnTo>
                  <a:lnTo>
                    <a:pt x="352" y="213"/>
                  </a:lnTo>
                  <a:lnTo>
                    <a:pt x="334" y="229"/>
                  </a:lnTo>
                  <a:lnTo>
                    <a:pt x="314" y="242"/>
                  </a:lnTo>
                  <a:lnTo>
                    <a:pt x="291" y="250"/>
                  </a:lnTo>
                  <a:lnTo>
                    <a:pt x="265" y="253"/>
                  </a:lnTo>
                  <a:lnTo>
                    <a:pt x="263" y="253"/>
                  </a:lnTo>
                  <a:lnTo>
                    <a:pt x="238" y="250"/>
                  </a:lnTo>
                  <a:lnTo>
                    <a:pt x="217" y="242"/>
                  </a:lnTo>
                  <a:lnTo>
                    <a:pt x="195" y="229"/>
                  </a:lnTo>
                  <a:lnTo>
                    <a:pt x="177" y="213"/>
                  </a:lnTo>
                  <a:lnTo>
                    <a:pt x="162" y="191"/>
                  </a:lnTo>
                  <a:lnTo>
                    <a:pt x="150" y="168"/>
                  </a:lnTo>
                  <a:lnTo>
                    <a:pt x="143" y="141"/>
                  </a:lnTo>
                  <a:lnTo>
                    <a:pt x="141" y="112"/>
                  </a:lnTo>
                  <a:lnTo>
                    <a:pt x="14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24720" y="5401440"/>
              <a:ext cx="433800" cy="534960"/>
            </a:xfrm>
            <a:custGeom>
              <a:avLst/>
              <a:gdLst/>
              <a:ahLst/>
              <a:rect l="l" t="t" r="r" b="b"/>
              <a:pathLst>
                <a:path w="485" h="674">
                  <a:moveTo>
                    <a:pt x="58" y="0"/>
                  </a:moveTo>
                  <a:lnTo>
                    <a:pt x="428" y="0"/>
                  </a:lnTo>
                  <a:lnTo>
                    <a:pt x="440" y="2"/>
                  </a:lnTo>
                  <a:lnTo>
                    <a:pt x="451" y="3"/>
                  </a:lnTo>
                  <a:lnTo>
                    <a:pt x="460" y="8"/>
                  </a:lnTo>
                  <a:lnTo>
                    <a:pt x="469" y="13"/>
                  </a:lnTo>
                  <a:lnTo>
                    <a:pt x="476" y="19"/>
                  </a:lnTo>
                  <a:lnTo>
                    <a:pt x="482" y="28"/>
                  </a:lnTo>
                  <a:lnTo>
                    <a:pt x="484" y="35"/>
                  </a:lnTo>
                  <a:lnTo>
                    <a:pt x="485" y="45"/>
                  </a:lnTo>
                  <a:lnTo>
                    <a:pt x="485" y="628"/>
                  </a:lnTo>
                  <a:lnTo>
                    <a:pt x="484" y="638"/>
                  </a:lnTo>
                  <a:lnTo>
                    <a:pt x="482" y="646"/>
                  </a:lnTo>
                  <a:lnTo>
                    <a:pt x="476" y="654"/>
                  </a:lnTo>
                  <a:lnTo>
                    <a:pt x="469" y="661"/>
                  </a:lnTo>
                  <a:lnTo>
                    <a:pt x="460" y="667"/>
                  </a:lnTo>
                  <a:lnTo>
                    <a:pt x="451" y="671"/>
                  </a:lnTo>
                  <a:lnTo>
                    <a:pt x="440" y="672"/>
                  </a:lnTo>
                  <a:lnTo>
                    <a:pt x="428" y="674"/>
                  </a:lnTo>
                  <a:lnTo>
                    <a:pt x="58" y="674"/>
                  </a:lnTo>
                  <a:lnTo>
                    <a:pt x="45" y="672"/>
                  </a:lnTo>
                  <a:lnTo>
                    <a:pt x="34" y="671"/>
                  </a:lnTo>
                  <a:lnTo>
                    <a:pt x="25" y="667"/>
                  </a:lnTo>
                  <a:lnTo>
                    <a:pt x="16" y="661"/>
                  </a:lnTo>
                  <a:lnTo>
                    <a:pt x="9" y="654"/>
                  </a:lnTo>
                  <a:lnTo>
                    <a:pt x="4" y="646"/>
                  </a:lnTo>
                  <a:lnTo>
                    <a:pt x="2" y="638"/>
                  </a:lnTo>
                  <a:lnTo>
                    <a:pt x="0" y="628"/>
                  </a:lnTo>
                  <a:lnTo>
                    <a:pt x="0" y="45"/>
                  </a:lnTo>
                  <a:lnTo>
                    <a:pt x="2" y="35"/>
                  </a:lnTo>
                  <a:lnTo>
                    <a:pt x="4" y="28"/>
                  </a:lnTo>
                  <a:lnTo>
                    <a:pt x="9" y="19"/>
                  </a:lnTo>
                  <a:lnTo>
                    <a:pt x="16" y="13"/>
                  </a:lnTo>
                  <a:lnTo>
                    <a:pt x="25" y="8"/>
                  </a:lnTo>
                  <a:lnTo>
                    <a:pt x="34" y="3"/>
                  </a:lnTo>
                  <a:lnTo>
                    <a:pt x="45" y="2"/>
                  </a:lnTo>
                  <a:lnTo>
                    <a:pt x="58" y="0"/>
                  </a:lnTo>
                </a:path>
              </a:pathLst>
            </a:custGeom>
            <a:gradFill rotWithShape="0">
              <a:gsLst>
                <a:gs pos="0">
                  <a:srgbClr val="4d4d4d"/>
                </a:gs>
                <a:gs pos="50000">
                  <a:srgbClr val="777777"/>
                </a:gs>
                <a:gs pos="100000">
                  <a:srgbClr val="4d4d4d"/>
                </a:gs>
              </a:gsLst>
              <a:lin ang="10800000"/>
            </a:gra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49280" y="5473080"/>
              <a:ext cx="221400" cy="399960"/>
            </a:xfrm>
            <a:custGeom>
              <a:avLst/>
              <a:gdLst/>
              <a:ahLst/>
              <a:rect l="l" t="t" r="r" b="b"/>
              <a:pathLst>
                <a:path w="247" h="504">
                  <a:moveTo>
                    <a:pt x="122" y="0"/>
                  </a:moveTo>
                  <a:lnTo>
                    <a:pt x="124" y="0"/>
                  </a:lnTo>
                  <a:lnTo>
                    <a:pt x="150" y="3"/>
                  </a:lnTo>
                  <a:lnTo>
                    <a:pt x="173" y="12"/>
                  </a:lnTo>
                  <a:lnTo>
                    <a:pt x="193" y="25"/>
                  </a:lnTo>
                  <a:lnTo>
                    <a:pt x="211" y="40"/>
                  </a:lnTo>
                  <a:lnTo>
                    <a:pt x="227" y="62"/>
                  </a:lnTo>
                  <a:lnTo>
                    <a:pt x="238" y="85"/>
                  </a:lnTo>
                  <a:lnTo>
                    <a:pt x="245" y="111"/>
                  </a:lnTo>
                  <a:lnTo>
                    <a:pt x="247" y="139"/>
                  </a:lnTo>
                  <a:lnTo>
                    <a:pt x="247" y="363"/>
                  </a:lnTo>
                  <a:lnTo>
                    <a:pt x="245" y="392"/>
                  </a:lnTo>
                  <a:lnTo>
                    <a:pt x="238" y="419"/>
                  </a:lnTo>
                  <a:lnTo>
                    <a:pt x="227" y="442"/>
                  </a:lnTo>
                  <a:lnTo>
                    <a:pt x="211" y="464"/>
                  </a:lnTo>
                  <a:lnTo>
                    <a:pt x="193" y="480"/>
                  </a:lnTo>
                  <a:lnTo>
                    <a:pt x="173" y="493"/>
                  </a:lnTo>
                  <a:lnTo>
                    <a:pt x="150" y="501"/>
                  </a:lnTo>
                  <a:lnTo>
                    <a:pt x="124" y="504"/>
                  </a:lnTo>
                  <a:lnTo>
                    <a:pt x="122" y="504"/>
                  </a:lnTo>
                  <a:lnTo>
                    <a:pt x="97" y="501"/>
                  </a:lnTo>
                  <a:lnTo>
                    <a:pt x="76" y="493"/>
                  </a:lnTo>
                  <a:lnTo>
                    <a:pt x="54" y="480"/>
                  </a:lnTo>
                  <a:lnTo>
                    <a:pt x="36" y="464"/>
                  </a:lnTo>
                  <a:lnTo>
                    <a:pt x="21" y="442"/>
                  </a:lnTo>
                  <a:lnTo>
                    <a:pt x="9" y="419"/>
                  </a:lnTo>
                  <a:lnTo>
                    <a:pt x="2" y="392"/>
                  </a:lnTo>
                  <a:lnTo>
                    <a:pt x="0" y="363"/>
                  </a:lnTo>
                  <a:lnTo>
                    <a:pt x="0" y="139"/>
                  </a:lnTo>
                  <a:lnTo>
                    <a:pt x="2" y="111"/>
                  </a:lnTo>
                  <a:lnTo>
                    <a:pt x="9" y="85"/>
                  </a:lnTo>
                  <a:lnTo>
                    <a:pt x="21" y="62"/>
                  </a:lnTo>
                  <a:lnTo>
                    <a:pt x="36" y="40"/>
                  </a:lnTo>
                  <a:lnTo>
                    <a:pt x="54" y="25"/>
                  </a:lnTo>
                  <a:lnTo>
                    <a:pt x="76" y="12"/>
                  </a:lnTo>
                  <a:lnTo>
                    <a:pt x="97" y="3"/>
                  </a:lnTo>
                  <a:lnTo>
                    <a:pt x="1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91960" y="6001920"/>
              <a:ext cx="144360" cy="150840"/>
            </a:xfrm>
            <a:custGeom>
              <a:avLst/>
              <a:gdLst/>
              <a:ahLst/>
              <a:rect l="l" t="t" r="r" b="b"/>
              <a:pathLst>
                <a:path w="163" h="189">
                  <a:moveTo>
                    <a:pt x="26" y="0"/>
                  </a:moveTo>
                  <a:lnTo>
                    <a:pt x="138" y="0"/>
                  </a:lnTo>
                  <a:lnTo>
                    <a:pt x="148" y="2"/>
                  </a:lnTo>
                  <a:lnTo>
                    <a:pt x="156" y="6"/>
                  </a:lnTo>
                  <a:lnTo>
                    <a:pt x="161" y="12"/>
                  </a:lnTo>
                  <a:lnTo>
                    <a:pt x="163" y="20"/>
                  </a:lnTo>
                  <a:lnTo>
                    <a:pt x="163" y="169"/>
                  </a:lnTo>
                  <a:lnTo>
                    <a:pt x="161" y="178"/>
                  </a:lnTo>
                  <a:lnTo>
                    <a:pt x="156" y="184"/>
                  </a:lnTo>
                  <a:lnTo>
                    <a:pt x="148" y="188"/>
                  </a:lnTo>
                  <a:lnTo>
                    <a:pt x="138" y="189"/>
                  </a:lnTo>
                  <a:lnTo>
                    <a:pt x="26" y="189"/>
                  </a:lnTo>
                  <a:lnTo>
                    <a:pt x="15" y="188"/>
                  </a:lnTo>
                  <a:lnTo>
                    <a:pt x="8" y="184"/>
                  </a:lnTo>
                  <a:lnTo>
                    <a:pt x="2" y="178"/>
                  </a:lnTo>
                  <a:lnTo>
                    <a:pt x="0" y="169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91960" y="6001920"/>
              <a:ext cx="144360" cy="150840"/>
            </a:xfrm>
            <a:custGeom>
              <a:avLst/>
              <a:gdLst/>
              <a:ahLst/>
              <a:rect l="l" t="t" r="r" b="b"/>
              <a:pathLst>
                <a:path w="163" h="189">
                  <a:moveTo>
                    <a:pt x="26" y="0"/>
                  </a:moveTo>
                  <a:lnTo>
                    <a:pt x="138" y="0"/>
                  </a:lnTo>
                  <a:lnTo>
                    <a:pt x="148" y="2"/>
                  </a:lnTo>
                  <a:lnTo>
                    <a:pt x="156" y="6"/>
                  </a:lnTo>
                  <a:lnTo>
                    <a:pt x="161" y="12"/>
                  </a:lnTo>
                  <a:lnTo>
                    <a:pt x="163" y="20"/>
                  </a:lnTo>
                  <a:lnTo>
                    <a:pt x="163" y="169"/>
                  </a:lnTo>
                  <a:lnTo>
                    <a:pt x="161" y="178"/>
                  </a:lnTo>
                  <a:lnTo>
                    <a:pt x="156" y="184"/>
                  </a:lnTo>
                  <a:lnTo>
                    <a:pt x="148" y="188"/>
                  </a:lnTo>
                  <a:lnTo>
                    <a:pt x="138" y="189"/>
                  </a:lnTo>
                  <a:lnTo>
                    <a:pt x="26" y="189"/>
                  </a:lnTo>
                  <a:lnTo>
                    <a:pt x="15" y="188"/>
                  </a:lnTo>
                  <a:lnTo>
                    <a:pt x="8" y="184"/>
                  </a:lnTo>
                  <a:lnTo>
                    <a:pt x="2" y="178"/>
                  </a:lnTo>
                  <a:lnTo>
                    <a:pt x="0" y="169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5" y="2"/>
                  </a:lnTo>
                  <a:lnTo>
                    <a:pt x="26" y="0"/>
                  </a:lnTo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3680" y="6013080"/>
              <a:ext cx="10440" cy="190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2" y="2"/>
                  </a:lnTo>
                  <a:lnTo>
                    <a:pt x="0" y="11"/>
                  </a:lnTo>
                  <a:lnTo>
                    <a:pt x="2" y="18"/>
                  </a:lnTo>
                  <a:lnTo>
                    <a:pt x="13" y="2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4120" y="6013080"/>
              <a:ext cx="548280" cy="19080"/>
            </a:xfrm>
            <a:custGeom>
              <a:avLst/>
              <a:gdLst/>
              <a:ahLst/>
              <a:rect l="l" t="t" r="r" b="b"/>
              <a:pathLst>
                <a:path w="613" h="23">
                  <a:moveTo>
                    <a:pt x="584" y="11"/>
                  </a:moveTo>
                  <a:lnTo>
                    <a:pt x="599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599" y="23"/>
                  </a:lnTo>
                  <a:lnTo>
                    <a:pt x="613" y="11"/>
                  </a:lnTo>
                  <a:lnTo>
                    <a:pt x="599" y="23"/>
                  </a:lnTo>
                  <a:lnTo>
                    <a:pt x="609" y="18"/>
                  </a:lnTo>
                  <a:lnTo>
                    <a:pt x="613" y="11"/>
                  </a:lnTo>
                  <a:lnTo>
                    <a:pt x="609" y="2"/>
                  </a:lnTo>
                  <a:lnTo>
                    <a:pt x="599" y="0"/>
                  </a:lnTo>
                  <a:lnTo>
                    <a:pt x="58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77920" y="5992560"/>
              <a:ext cx="35640" cy="2988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0"/>
                  </a:moveTo>
                  <a:lnTo>
                    <a:pt x="42" y="0"/>
                  </a:lnTo>
                  <a:lnTo>
                    <a:pt x="29" y="2"/>
                  </a:lnTo>
                  <a:lnTo>
                    <a:pt x="15" y="10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29" y="37"/>
                  </a:lnTo>
                  <a:lnTo>
                    <a:pt x="29" y="28"/>
                  </a:lnTo>
                  <a:lnTo>
                    <a:pt x="33" y="24"/>
                  </a:lnTo>
                  <a:lnTo>
                    <a:pt x="36" y="23"/>
                  </a:lnTo>
                  <a:lnTo>
                    <a:pt x="42" y="23"/>
                  </a:lnTo>
                  <a:lnTo>
                    <a:pt x="42" y="23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3560" y="5992560"/>
              <a:ext cx="99720" cy="190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112" y="0"/>
                  </a:moveTo>
                  <a:lnTo>
                    <a:pt x="11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12" y="23"/>
                  </a:lnTo>
                  <a:lnTo>
                    <a:pt x="112" y="23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13640" y="5992560"/>
              <a:ext cx="33480" cy="39600"/>
            </a:xfrm>
            <a:custGeom>
              <a:avLst/>
              <a:gdLst/>
              <a:ahLst/>
              <a:rect l="l" t="t" r="r" b="b"/>
              <a:pathLst>
                <a:path w="37" h="49">
                  <a:moveTo>
                    <a:pt x="25" y="26"/>
                  </a:moveTo>
                  <a:lnTo>
                    <a:pt x="37" y="37"/>
                  </a:lnTo>
                  <a:lnTo>
                    <a:pt x="36" y="23"/>
                  </a:lnTo>
                  <a:lnTo>
                    <a:pt x="27" y="10"/>
                  </a:lnTo>
                  <a:lnTo>
                    <a:pt x="12" y="2"/>
                  </a:lnTo>
                  <a:lnTo>
                    <a:pt x="0" y="0"/>
                  </a:lnTo>
                  <a:lnTo>
                    <a:pt x="0" y="23"/>
                  </a:lnTo>
                  <a:lnTo>
                    <a:pt x="5" y="23"/>
                  </a:lnTo>
                  <a:lnTo>
                    <a:pt x="9" y="24"/>
                  </a:lnTo>
                  <a:lnTo>
                    <a:pt x="10" y="28"/>
                  </a:lnTo>
                  <a:lnTo>
                    <a:pt x="12" y="37"/>
                  </a:lnTo>
                  <a:lnTo>
                    <a:pt x="25" y="49"/>
                  </a:lnTo>
                  <a:lnTo>
                    <a:pt x="12" y="37"/>
                  </a:lnTo>
                  <a:lnTo>
                    <a:pt x="16" y="44"/>
                  </a:lnTo>
                  <a:lnTo>
                    <a:pt x="25" y="47"/>
                  </a:lnTo>
                  <a:lnTo>
                    <a:pt x="34" y="44"/>
                  </a:lnTo>
                  <a:lnTo>
                    <a:pt x="37" y="37"/>
                  </a:lnTo>
                  <a:lnTo>
                    <a:pt x="25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36680" y="6013080"/>
              <a:ext cx="230400" cy="1908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229" y="11"/>
                  </a:moveTo>
                  <a:lnTo>
                    <a:pt x="243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43" y="23"/>
                  </a:lnTo>
                  <a:lnTo>
                    <a:pt x="258" y="11"/>
                  </a:lnTo>
                  <a:lnTo>
                    <a:pt x="243" y="23"/>
                  </a:lnTo>
                  <a:lnTo>
                    <a:pt x="254" y="18"/>
                  </a:lnTo>
                  <a:lnTo>
                    <a:pt x="258" y="11"/>
                  </a:lnTo>
                  <a:lnTo>
                    <a:pt x="254" y="2"/>
                  </a:lnTo>
                  <a:lnTo>
                    <a:pt x="243" y="0"/>
                  </a:lnTo>
                  <a:lnTo>
                    <a:pt x="2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40440" y="6013080"/>
              <a:ext cx="2664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9" y="13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440" y="5941800"/>
              <a:ext cx="56880" cy="7128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0"/>
                  </a:moveTo>
                  <a:lnTo>
                    <a:pt x="63" y="0"/>
                  </a:lnTo>
                  <a:lnTo>
                    <a:pt x="38" y="13"/>
                  </a:lnTo>
                  <a:lnTo>
                    <a:pt x="18" y="34"/>
                  </a:lnTo>
                  <a:lnTo>
                    <a:pt x="7" y="63"/>
                  </a:lnTo>
                  <a:lnTo>
                    <a:pt x="0" y="89"/>
                  </a:lnTo>
                  <a:lnTo>
                    <a:pt x="29" y="89"/>
                  </a:lnTo>
                  <a:lnTo>
                    <a:pt x="32" y="66"/>
                  </a:lnTo>
                  <a:lnTo>
                    <a:pt x="43" y="43"/>
                  </a:lnTo>
                  <a:lnTo>
                    <a:pt x="56" y="27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7680" y="5941800"/>
              <a:ext cx="596520" cy="17280"/>
            </a:xfrm>
            <a:custGeom>
              <a:avLst/>
              <a:gdLst/>
              <a:ahLst/>
              <a:rect l="l" t="t" r="r" b="b"/>
              <a:pathLst>
                <a:path w="668" h="23">
                  <a:moveTo>
                    <a:pt x="641" y="11"/>
                  </a:moveTo>
                  <a:lnTo>
                    <a:pt x="653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653" y="23"/>
                  </a:lnTo>
                  <a:lnTo>
                    <a:pt x="666" y="11"/>
                  </a:lnTo>
                  <a:lnTo>
                    <a:pt x="653" y="23"/>
                  </a:lnTo>
                  <a:lnTo>
                    <a:pt x="664" y="18"/>
                  </a:lnTo>
                  <a:lnTo>
                    <a:pt x="668" y="11"/>
                  </a:lnTo>
                  <a:lnTo>
                    <a:pt x="664" y="2"/>
                  </a:lnTo>
                  <a:lnTo>
                    <a:pt x="653" y="0"/>
                  </a:lnTo>
                  <a:lnTo>
                    <a:pt x="641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69000" y="5928840"/>
              <a:ext cx="2484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23"/>
                  </a:moveTo>
                  <a:lnTo>
                    <a:pt x="1" y="11"/>
                  </a:lnTo>
                  <a:lnTo>
                    <a:pt x="0" y="27"/>
                  </a:lnTo>
                  <a:lnTo>
                    <a:pt x="25" y="27"/>
                  </a:lnTo>
                  <a:lnTo>
                    <a:pt x="27" y="11"/>
                  </a:lnTo>
                  <a:lnTo>
                    <a:pt x="14" y="0"/>
                  </a:lnTo>
                  <a:lnTo>
                    <a:pt x="27" y="11"/>
                  </a:lnTo>
                  <a:lnTo>
                    <a:pt x="23" y="4"/>
                  </a:lnTo>
                  <a:lnTo>
                    <a:pt x="14" y="1"/>
                  </a:lnTo>
                  <a:lnTo>
                    <a:pt x="5" y="4"/>
                  </a:lnTo>
                  <a:lnTo>
                    <a:pt x="1" y="11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12120" y="5892480"/>
              <a:ext cx="69480" cy="54000"/>
            </a:xfrm>
            <a:custGeom>
              <a:avLst/>
              <a:gdLst/>
              <a:ahLst/>
              <a:rect l="l" t="t" r="r" b="b"/>
              <a:pathLst>
                <a:path w="79" h="70">
                  <a:moveTo>
                    <a:pt x="0" y="11"/>
                  </a:moveTo>
                  <a:lnTo>
                    <a:pt x="1" y="11"/>
                  </a:lnTo>
                  <a:lnTo>
                    <a:pt x="3" y="25"/>
                  </a:lnTo>
                  <a:lnTo>
                    <a:pt x="10" y="39"/>
                  </a:lnTo>
                  <a:lnTo>
                    <a:pt x="18" y="47"/>
                  </a:lnTo>
                  <a:lnTo>
                    <a:pt x="27" y="55"/>
                  </a:lnTo>
                  <a:lnTo>
                    <a:pt x="39" y="63"/>
                  </a:lnTo>
                  <a:lnTo>
                    <a:pt x="52" y="65"/>
                  </a:lnTo>
                  <a:lnTo>
                    <a:pt x="65" y="68"/>
                  </a:lnTo>
                  <a:lnTo>
                    <a:pt x="79" y="70"/>
                  </a:lnTo>
                  <a:lnTo>
                    <a:pt x="79" y="47"/>
                  </a:lnTo>
                  <a:lnTo>
                    <a:pt x="68" y="48"/>
                  </a:lnTo>
                  <a:lnTo>
                    <a:pt x="59" y="45"/>
                  </a:lnTo>
                  <a:lnTo>
                    <a:pt x="50" y="42"/>
                  </a:lnTo>
                  <a:lnTo>
                    <a:pt x="45" y="41"/>
                  </a:lnTo>
                  <a:lnTo>
                    <a:pt x="39" y="35"/>
                  </a:lnTo>
                  <a:lnTo>
                    <a:pt x="32" y="28"/>
                  </a:lnTo>
                  <a:lnTo>
                    <a:pt x="28" y="22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3" y="3"/>
                  </a:lnTo>
                  <a:lnTo>
                    <a:pt x="14" y="0"/>
                  </a:lnTo>
                  <a:lnTo>
                    <a:pt x="5" y="3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12120" y="5428440"/>
              <a:ext cx="24840" cy="471600"/>
            </a:xfrm>
            <a:custGeom>
              <a:avLst/>
              <a:gdLst/>
              <a:ahLst/>
              <a:rect l="l" t="t" r="r" b="b"/>
              <a:pathLst>
                <a:path w="28" h="594">
                  <a:moveTo>
                    <a:pt x="1" y="10"/>
                  </a:moveTo>
                  <a:lnTo>
                    <a:pt x="0" y="11"/>
                  </a:lnTo>
                  <a:lnTo>
                    <a:pt x="0" y="594"/>
                  </a:lnTo>
                  <a:lnTo>
                    <a:pt x="28" y="594"/>
                  </a:lnTo>
                  <a:lnTo>
                    <a:pt x="28" y="11"/>
                  </a:lnTo>
                  <a:lnTo>
                    <a:pt x="27" y="13"/>
                  </a:lnTo>
                  <a:lnTo>
                    <a:pt x="28" y="11"/>
                  </a:lnTo>
                  <a:lnTo>
                    <a:pt x="25" y="2"/>
                  </a:lnTo>
                  <a:lnTo>
                    <a:pt x="14" y="0"/>
                  </a:lnTo>
                  <a:lnTo>
                    <a:pt x="5" y="2"/>
                  </a:lnTo>
                  <a:lnTo>
                    <a:pt x="0" y="11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13560" y="5392080"/>
              <a:ext cx="80280" cy="46080"/>
            </a:xfrm>
            <a:custGeom>
              <a:avLst/>
              <a:gdLst/>
              <a:ahLst/>
              <a:rect l="l" t="t" r="r" b="b"/>
              <a:pathLst>
                <a:path w="91" h="58">
                  <a:moveTo>
                    <a:pt x="62" y="11"/>
                  </a:moveTo>
                  <a:lnTo>
                    <a:pt x="76" y="0"/>
                  </a:lnTo>
                  <a:lnTo>
                    <a:pt x="62" y="1"/>
                  </a:lnTo>
                  <a:lnTo>
                    <a:pt x="49" y="4"/>
                  </a:lnTo>
                  <a:lnTo>
                    <a:pt x="36" y="7"/>
                  </a:lnTo>
                  <a:lnTo>
                    <a:pt x="26" y="13"/>
                  </a:lnTo>
                  <a:lnTo>
                    <a:pt x="18" y="20"/>
                  </a:lnTo>
                  <a:lnTo>
                    <a:pt x="8" y="30"/>
                  </a:lnTo>
                  <a:lnTo>
                    <a:pt x="4" y="42"/>
                  </a:lnTo>
                  <a:lnTo>
                    <a:pt x="0" y="55"/>
                  </a:lnTo>
                  <a:lnTo>
                    <a:pt x="26" y="58"/>
                  </a:lnTo>
                  <a:lnTo>
                    <a:pt x="29" y="47"/>
                  </a:lnTo>
                  <a:lnTo>
                    <a:pt x="33" y="39"/>
                  </a:lnTo>
                  <a:lnTo>
                    <a:pt x="36" y="34"/>
                  </a:lnTo>
                  <a:lnTo>
                    <a:pt x="44" y="30"/>
                  </a:lnTo>
                  <a:lnTo>
                    <a:pt x="47" y="27"/>
                  </a:lnTo>
                  <a:lnTo>
                    <a:pt x="56" y="24"/>
                  </a:lnTo>
                  <a:lnTo>
                    <a:pt x="65" y="21"/>
                  </a:lnTo>
                  <a:lnTo>
                    <a:pt x="76" y="23"/>
                  </a:lnTo>
                  <a:lnTo>
                    <a:pt x="91" y="11"/>
                  </a:lnTo>
                  <a:lnTo>
                    <a:pt x="76" y="23"/>
                  </a:lnTo>
                  <a:lnTo>
                    <a:pt x="87" y="19"/>
                  </a:lnTo>
                  <a:lnTo>
                    <a:pt x="91" y="11"/>
                  </a:lnTo>
                  <a:lnTo>
                    <a:pt x="87" y="3"/>
                  </a:lnTo>
                  <a:lnTo>
                    <a:pt x="76" y="0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67200" y="4162680"/>
              <a:ext cx="27000" cy="1238760"/>
            </a:xfrm>
            <a:custGeom>
              <a:avLst/>
              <a:gdLst/>
              <a:ahLst/>
              <a:rect l="l" t="t" r="r" b="b"/>
              <a:pathLst>
                <a:path w="29" h="1560">
                  <a:moveTo>
                    <a:pt x="14" y="21"/>
                  </a:moveTo>
                  <a:lnTo>
                    <a:pt x="0" y="11"/>
                  </a:lnTo>
                  <a:lnTo>
                    <a:pt x="0" y="1560"/>
                  </a:lnTo>
                  <a:lnTo>
                    <a:pt x="29" y="1560"/>
                  </a:lnTo>
                  <a:lnTo>
                    <a:pt x="29" y="11"/>
                  </a:lnTo>
                  <a:lnTo>
                    <a:pt x="14" y="1"/>
                  </a:lnTo>
                  <a:lnTo>
                    <a:pt x="29" y="11"/>
                  </a:lnTo>
                  <a:lnTo>
                    <a:pt x="25" y="3"/>
                  </a:lnTo>
                  <a:lnTo>
                    <a:pt x="14" y="0"/>
                  </a:lnTo>
                  <a:lnTo>
                    <a:pt x="5" y="3"/>
                  </a:lnTo>
                  <a:lnTo>
                    <a:pt x="0" y="11"/>
                  </a:lnTo>
                  <a:lnTo>
                    <a:pt x="1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24720" y="4143600"/>
              <a:ext cx="56880" cy="3636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0" y="10"/>
                  </a:moveTo>
                  <a:lnTo>
                    <a:pt x="2" y="10"/>
                  </a:lnTo>
                  <a:lnTo>
                    <a:pt x="11" y="30"/>
                  </a:lnTo>
                  <a:lnTo>
                    <a:pt x="29" y="43"/>
                  </a:lnTo>
                  <a:lnTo>
                    <a:pt x="49" y="46"/>
                  </a:lnTo>
                  <a:lnTo>
                    <a:pt x="63" y="46"/>
                  </a:lnTo>
                  <a:lnTo>
                    <a:pt x="63" y="26"/>
                  </a:lnTo>
                  <a:lnTo>
                    <a:pt x="49" y="26"/>
                  </a:lnTo>
                  <a:lnTo>
                    <a:pt x="40" y="23"/>
                  </a:lnTo>
                  <a:lnTo>
                    <a:pt x="33" y="19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3" y="3"/>
                  </a:lnTo>
                  <a:lnTo>
                    <a:pt x="14" y="0"/>
                  </a:lnTo>
                  <a:lnTo>
                    <a:pt x="5" y="3"/>
                  </a:lnTo>
                  <a:lnTo>
                    <a:pt x="2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24720" y="3929040"/>
              <a:ext cx="24480" cy="222480"/>
            </a:xfrm>
            <a:custGeom>
              <a:avLst/>
              <a:gdLst/>
              <a:ahLst/>
              <a:rect l="l" t="t" r="r" b="b"/>
              <a:pathLst>
                <a:path w="29" h="279">
                  <a:moveTo>
                    <a:pt x="2" y="10"/>
                  </a:moveTo>
                  <a:lnTo>
                    <a:pt x="0" y="12"/>
                  </a:lnTo>
                  <a:lnTo>
                    <a:pt x="0" y="279"/>
                  </a:lnTo>
                  <a:lnTo>
                    <a:pt x="29" y="279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9" y="12"/>
                  </a:lnTo>
                  <a:lnTo>
                    <a:pt x="25" y="3"/>
                  </a:lnTo>
                  <a:lnTo>
                    <a:pt x="14" y="0"/>
                  </a:lnTo>
                  <a:lnTo>
                    <a:pt x="5" y="3"/>
                  </a:lnTo>
                  <a:lnTo>
                    <a:pt x="0" y="1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26160" y="3910320"/>
              <a:ext cx="68040" cy="29880"/>
            </a:xfrm>
            <a:custGeom>
              <a:avLst/>
              <a:gdLst/>
              <a:ahLst/>
              <a:rect l="l" t="t" r="r" b="b"/>
              <a:pathLst>
                <a:path w="76" h="37">
                  <a:moveTo>
                    <a:pt x="47" y="10"/>
                  </a:moveTo>
                  <a:lnTo>
                    <a:pt x="63" y="0"/>
                  </a:lnTo>
                  <a:lnTo>
                    <a:pt x="34" y="0"/>
                  </a:lnTo>
                  <a:lnTo>
                    <a:pt x="14" y="8"/>
                  </a:lnTo>
                  <a:lnTo>
                    <a:pt x="3" y="20"/>
                  </a:lnTo>
                  <a:lnTo>
                    <a:pt x="0" y="34"/>
                  </a:lnTo>
                  <a:lnTo>
                    <a:pt x="25" y="37"/>
                  </a:lnTo>
                  <a:lnTo>
                    <a:pt x="29" y="29"/>
                  </a:lnTo>
                  <a:lnTo>
                    <a:pt x="32" y="23"/>
                  </a:lnTo>
                  <a:lnTo>
                    <a:pt x="38" y="20"/>
                  </a:lnTo>
                  <a:lnTo>
                    <a:pt x="59" y="20"/>
                  </a:lnTo>
                  <a:lnTo>
                    <a:pt x="76" y="10"/>
                  </a:lnTo>
                  <a:lnTo>
                    <a:pt x="59" y="20"/>
                  </a:lnTo>
                  <a:lnTo>
                    <a:pt x="68" y="17"/>
                  </a:lnTo>
                  <a:lnTo>
                    <a:pt x="74" y="11"/>
                  </a:lnTo>
                  <a:lnTo>
                    <a:pt x="72" y="4"/>
                  </a:lnTo>
                  <a:lnTo>
                    <a:pt x="63" y="0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67200" y="3884760"/>
              <a:ext cx="27000" cy="3348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14" y="0"/>
                  </a:moveTo>
                  <a:lnTo>
                    <a:pt x="0" y="12"/>
                  </a:lnTo>
                  <a:lnTo>
                    <a:pt x="0" y="42"/>
                  </a:lnTo>
                  <a:lnTo>
                    <a:pt x="29" y="42"/>
                  </a:lnTo>
                  <a:lnTo>
                    <a:pt x="29" y="12"/>
                  </a:lnTo>
                  <a:lnTo>
                    <a:pt x="14" y="23"/>
                  </a:lnTo>
                  <a:lnTo>
                    <a:pt x="29" y="12"/>
                  </a:lnTo>
                  <a:lnTo>
                    <a:pt x="25" y="3"/>
                  </a:lnTo>
                  <a:lnTo>
                    <a:pt x="14" y="0"/>
                  </a:lnTo>
                  <a:lnTo>
                    <a:pt x="5" y="3"/>
                  </a:lnTo>
                  <a:lnTo>
                    <a:pt x="0" y="1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81600" y="3884760"/>
              <a:ext cx="330480" cy="19080"/>
            </a:xfrm>
            <a:custGeom>
              <a:avLst/>
              <a:gdLst/>
              <a:ahLst/>
              <a:rect l="l" t="t" r="r" b="b"/>
              <a:pathLst>
                <a:path w="372" h="23">
                  <a:moveTo>
                    <a:pt x="372" y="12"/>
                  </a:moveTo>
                  <a:lnTo>
                    <a:pt x="357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357" y="23"/>
                  </a:lnTo>
                  <a:lnTo>
                    <a:pt x="343" y="12"/>
                  </a:lnTo>
                  <a:lnTo>
                    <a:pt x="357" y="23"/>
                  </a:lnTo>
                  <a:lnTo>
                    <a:pt x="368" y="19"/>
                  </a:lnTo>
                  <a:lnTo>
                    <a:pt x="372" y="12"/>
                  </a:lnTo>
                  <a:lnTo>
                    <a:pt x="368" y="3"/>
                  </a:lnTo>
                  <a:lnTo>
                    <a:pt x="357" y="0"/>
                  </a:lnTo>
                  <a:lnTo>
                    <a:pt x="37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87240" y="3894120"/>
              <a:ext cx="24840" cy="320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13" y="20"/>
                  </a:moveTo>
                  <a:lnTo>
                    <a:pt x="29" y="3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0"/>
                  </a:lnTo>
                  <a:lnTo>
                    <a:pt x="16" y="40"/>
                  </a:lnTo>
                  <a:lnTo>
                    <a:pt x="0" y="30"/>
                  </a:lnTo>
                  <a:lnTo>
                    <a:pt x="5" y="39"/>
                  </a:lnTo>
                  <a:lnTo>
                    <a:pt x="14" y="40"/>
                  </a:lnTo>
                  <a:lnTo>
                    <a:pt x="25" y="39"/>
                  </a:lnTo>
                  <a:lnTo>
                    <a:pt x="29" y="3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97680" y="3908520"/>
              <a:ext cx="64080" cy="38160"/>
            </a:xfrm>
            <a:custGeom>
              <a:avLst/>
              <a:gdLst/>
              <a:ahLst/>
              <a:rect l="l" t="t" r="r" b="b"/>
              <a:pathLst>
                <a:path w="72" h="48">
                  <a:moveTo>
                    <a:pt x="72" y="38"/>
                  </a:moveTo>
                  <a:lnTo>
                    <a:pt x="72" y="38"/>
                  </a:lnTo>
                  <a:lnTo>
                    <a:pt x="68" y="26"/>
                  </a:lnTo>
                  <a:lnTo>
                    <a:pt x="63" y="16"/>
                  </a:lnTo>
                  <a:lnTo>
                    <a:pt x="52" y="9"/>
                  </a:lnTo>
                  <a:lnTo>
                    <a:pt x="43" y="3"/>
                  </a:lnTo>
                  <a:lnTo>
                    <a:pt x="30" y="2"/>
                  </a:lnTo>
                  <a:lnTo>
                    <a:pt x="19" y="0"/>
                  </a:lnTo>
                  <a:lnTo>
                    <a:pt x="10" y="0"/>
                  </a:lnTo>
                  <a:lnTo>
                    <a:pt x="0" y="2"/>
                  </a:lnTo>
                  <a:lnTo>
                    <a:pt x="3" y="22"/>
                  </a:lnTo>
                  <a:lnTo>
                    <a:pt x="10" y="21"/>
                  </a:lnTo>
                  <a:lnTo>
                    <a:pt x="19" y="21"/>
                  </a:lnTo>
                  <a:lnTo>
                    <a:pt x="27" y="22"/>
                  </a:lnTo>
                  <a:lnTo>
                    <a:pt x="32" y="23"/>
                  </a:lnTo>
                  <a:lnTo>
                    <a:pt x="37" y="26"/>
                  </a:lnTo>
                  <a:lnTo>
                    <a:pt x="41" y="28"/>
                  </a:lnTo>
                  <a:lnTo>
                    <a:pt x="43" y="32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3" y="38"/>
                  </a:lnTo>
                  <a:lnTo>
                    <a:pt x="48" y="47"/>
                  </a:lnTo>
                  <a:lnTo>
                    <a:pt x="57" y="48"/>
                  </a:lnTo>
                  <a:lnTo>
                    <a:pt x="68" y="47"/>
                  </a:lnTo>
                  <a:lnTo>
                    <a:pt x="72" y="38"/>
                  </a:lnTo>
                  <a:lnTo>
                    <a:pt x="72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6920" y="3938760"/>
              <a:ext cx="24840" cy="220680"/>
            </a:xfrm>
            <a:custGeom>
              <a:avLst/>
              <a:gdLst/>
              <a:ahLst/>
              <a:rect l="l" t="t" r="r" b="b"/>
              <a:pathLst>
                <a:path w="29" h="277">
                  <a:moveTo>
                    <a:pt x="27" y="267"/>
                  </a:moveTo>
                  <a:lnTo>
                    <a:pt x="29" y="26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267"/>
                  </a:lnTo>
                  <a:lnTo>
                    <a:pt x="2" y="267"/>
                  </a:lnTo>
                  <a:lnTo>
                    <a:pt x="0" y="267"/>
                  </a:lnTo>
                  <a:lnTo>
                    <a:pt x="5" y="276"/>
                  </a:lnTo>
                  <a:lnTo>
                    <a:pt x="14" y="277"/>
                  </a:lnTo>
                  <a:lnTo>
                    <a:pt x="25" y="276"/>
                  </a:lnTo>
                  <a:lnTo>
                    <a:pt x="29" y="267"/>
                  </a:lnTo>
                  <a:lnTo>
                    <a:pt x="27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10280" y="4151520"/>
              <a:ext cx="50040" cy="28440"/>
            </a:xfrm>
            <a:custGeom>
              <a:avLst/>
              <a:gdLst/>
              <a:ahLst/>
              <a:rect l="l" t="t" r="r" b="b"/>
              <a:pathLst>
                <a:path w="58" h="38">
                  <a:moveTo>
                    <a:pt x="13" y="38"/>
                  </a:moveTo>
                  <a:lnTo>
                    <a:pt x="13" y="38"/>
                  </a:lnTo>
                  <a:lnTo>
                    <a:pt x="33" y="33"/>
                  </a:lnTo>
                  <a:lnTo>
                    <a:pt x="47" y="25"/>
                  </a:lnTo>
                  <a:lnTo>
                    <a:pt x="56" y="13"/>
                  </a:lnTo>
                  <a:lnTo>
                    <a:pt x="58" y="0"/>
                  </a:lnTo>
                  <a:lnTo>
                    <a:pt x="33" y="0"/>
                  </a:lnTo>
                  <a:lnTo>
                    <a:pt x="31" y="7"/>
                  </a:lnTo>
                  <a:lnTo>
                    <a:pt x="29" y="10"/>
                  </a:lnTo>
                  <a:lnTo>
                    <a:pt x="22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2" y="18"/>
                  </a:lnTo>
                  <a:lnTo>
                    <a:pt x="0" y="26"/>
                  </a:lnTo>
                  <a:lnTo>
                    <a:pt x="2" y="33"/>
                  </a:lnTo>
                  <a:lnTo>
                    <a:pt x="13" y="38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87240" y="4162680"/>
              <a:ext cx="33840" cy="1728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29" y="11"/>
                  </a:moveTo>
                  <a:lnTo>
                    <a:pt x="14" y="23"/>
                  </a:lnTo>
                  <a:lnTo>
                    <a:pt x="38" y="23"/>
                  </a:lnTo>
                  <a:lnTo>
                    <a:pt x="38" y="0"/>
                  </a:lnTo>
                  <a:lnTo>
                    <a:pt x="14" y="0"/>
                  </a:lnTo>
                  <a:lnTo>
                    <a:pt x="0" y="11"/>
                  </a:lnTo>
                  <a:lnTo>
                    <a:pt x="14" y="0"/>
                  </a:lnTo>
                  <a:lnTo>
                    <a:pt x="4" y="3"/>
                  </a:lnTo>
                  <a:lnTo>
                    <a:pt x="2" y="11"/>
                  </a:lnTo>
                  <a:lnTo>
                    <a:pt x="4" y="18"/>
                  </a:lnTo>
                  <a:lnTo>
                    <a:pt x="14" y="23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87240" y="4172040"/>
              <a:ext cx="24840" cy="1239120"/>
            </a:xfrm>
            <a:custGeom>
              <a:avLst/>
              <a:gdLst/>
              <a:ahLst/>
              <a:rect l="l" t="t" r="r" b="b"/>
              <a:pathLst>
                <a:path w="29" h="1561">
                  <a:moveTo>
                    <a:pt x="14" y="1538"/>
                  </a:moveTo>
                  <a:lnTo>
                    <a:pt x="29" y="1549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49"/>
                  </a:lnTo>
                  <a:lnTo>
                    <a:pt x="14" y="1561"/>
                  </a:lnTo>
                  <a:lnTo>
                    <a:pt x="0" y="1549"/>
                  </a:lnTo>
                  <a:lnTo>
                    <a:pt x="5" y="1558"/>
                  </a:lnTo>
                  <a:lnTo>
                    <a:pt x="14" y="1559"/>
                  </a:lnTo>
                  <a:lnTo>
                    <a:pt x="25" y="1558"/>
                  </a:lnTo>
                  <a:lnTo>
                    <a:pt x="29" y="1549"/>
                  </a:lnTo>
                  <a:lnTo>
                    <a:pt x="14" y="1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999840" y="5392080"/>
              <a:ext cx="71280" cy="540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80" y="56"/>
                  </a:moveTo>
                  <a:lnTo>
                    <a:pt x="78" y="56"/>
                  </a:lnTo>
                  <a:lnTo>
                    <a:pt x="76" y="45"/>
                  </a:lnTo>
                  <a:lnTo>
                    <a:pt x="73" y="34"/>
                  </a:lnTo>
                  <a:lnTo>
                    <a:pt x="65" y="24"/>
                  </a:lnTo>
                  <a:lnTo>
                    <a:pt x="58" y="17"/>
                  </a:lnTo>
                  <a:lnTo>
                    <a:pt x="47" y="10"/>
                  </a:lnTo>
                  <a:lnTo>
                    <a:pt x="33" y="4"/>
                  </a:lnTo>
                  <a:lnTo>
                    <a:pt x="17" y="3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7" y="23"/>
                  </a:lnTo>
                  <a:lnTo>
                    <a:pt x="26" y="24"/>
                  </a:lnTo>
                  <a:lnTo>
                    <a:pt x="33" y="27"/>
                  </a:lnTo>
                  <a:lnTo>
                    <a:pt x="40" y="32"/>
                  </a:lnTo>
                  <a:lnTo>
                    <a:pt x="44" y="36"/>
                  </a:lnTo>
                  <a:lnTo>
                    <a:pt x="47" y="43"/>
                  </a:lnTo>
                  <a:lnTo>
                    <a:pt x="51" y="47"/>
                  </a:lnTo>
                  <a:lnTo>
                    <a:pt x="53" y="56"/>
                  </a:lnTo>
                  <a:lnTo>
                    <a:pt x="51" y="56"/>
                  </a:lnTo>
                  <a:lnTo>
                    <a:pt x="53" y="56"/>
                  </a:lnTo>
                  <a:lnTo>
                    <a:pt x="56" y="63"/>
                  </a:lnTo>
                  <a:lnTo>
                    <a:pt x="65" y="66"/>
                  </a:lnTo>
                  <a:lnTo>
                    <a:pt x="74" y="63"/>
                  </a:lnTo>
                  <a:lnTo>
                    <a:pt x="78" y="56"/>
                  </a:lnTo>
                  <a:lnTo>
                    <a:pt x="8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44120" y="5438160"/>
              <a:ext cx="26640" cy="469800"/>
            </a:xfrm>
            <a:custGeom>
              <a:avLst/>
              <a:gdLst/>
              <a:ahLst/>
              <a:rect l="l" t="t" r="r" b="b"/>
              <a:pathLst>
                <a:path w="29" h="593">
                  <a:moveTo>
                    <a:pt x="27" y="583"/>
                  </a:moveTo>
                  <a:lnTo>
                    <a:pt x="29" y="583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583"/>
                  </a:lnTo>
                  <a:lnTo>
                    <a:pt x="2" y="583"/>
                  </a:lnTo>
                  <a:lnTo>
                    <a:pt x="0" y="583"/>
                  </a:lnTo>
                  <a:lnTo>
                    <a:pt x="5" y="591"/>
                  </a:lnTo>
                  <a:lnTo>
                    <a:pt x="14" y="593"/>
                  </a:lnTo>
                  <a:lnTo>
                    <a:pt x="25" y="591"/>
                  </a:lnTo>
                  <a:lnTo>
                    <a:pt x="29" y="583"/>
                  </a:lnTo>
                  <a:lnTo>
                    <a:pt x="27" y="5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87240" y="5900400"/>
              <a:ext cx="82080" cy="4608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29" y="46"/>
                  </a:moveTo>
                  <a:lnTo>
                    <a:pt x="14" y="57"/>
                  </a:lnTo>
                  <a:lnTo>
                    <a:pt x="29" y="56"/>
                  </a:lnTo>
                  <a:lnTo>
                    <a:pt x="43" y="53"/>
                  </a:lnTo>
                  <a:lnTo>
                    <a:pt x="56" y="50"/>
                  </a:lnTo>
                  <a:lnTo>
                    <a:pt x="69" y="41"/>
                  </a:lnTo>
                  <a:lnTo>
                    <a:pt x="78" y="34"/>
                  </a:lnTo>
                  <a:lnTo>
                    <a:pt x="87" y="24"/>
                  </a:lnTo>
                  <a:lnTo>
                    <a:pt x="90" y="13"/>
                  </a:lnTo>
                  <a:lnTo>
                    <a:pt x="92" y="0"/>
                  </a:lnTo>
                  <a:lnTo>
                    <a:pt x="67" y="0"/>
                  </a:lnTo>
                  <a:lnTo>
                    <a:pt x="65" y="10"/>
                  </a:lnTo>
                  <a:lnTo>
                    <a:pt x="61" y="15"/>
                  </a:lnTo>
                  <a:lnTo>
                    <a:pt x="56" y="23"/>
                  </a:lnTo>
                  <a:lnTo>
                    <a:pt x="50" y="27"/>
                  </a:lnTo>
                  <a:lnTo>
                    <a:pt x="45" y="30"/>
                  </a:lnTo>
                  <a:lnTo>
                    <a:pt x="36" y="33"/>
                  </a:lnTo>
                  <a:lnTo>
                    <a:pt x="25" y="36"/>
                  </a:lnTo>
                  <a:lnTo>
                    <a:pt x="14" y="34"/>
                  </a:lnTo>
                  <a:lnTo>
                    <a:pt x="0" y="46"/>
                  </a:lnTo>
                  <a:lnTo>
                    <a:pt x="14" y="34"/>
                  </a:lnTo>
                  <a:lnTo>
                    <a:pt x="4" y="37"/>
                  </a:lnTo>
                  <a:lnTo>
                    <a:pt x="2" y="46"/>
                  </a:lnTo>
                  <a:lnTo>
                    <a:pt x="4" y="53"/>
                  </a:lnTo>
                  <a:lnTo>
                    <a:pt x="14" y="57"/>
                  </a:lnTo>
                  <a:lnTo>
                    <a:pt x="2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87240" y="5936760"/>
              <a:ext cx="24840" cy="223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6"/>
                  </a:moveTo>
                  <a:lnTo>
                    <a:pt x="29" y="1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14" y="29"/>
                  </a:lnTo>
                  <a:lnTo>
                    <a:pt x="0" y="17"/>
                  </a:lnTo>
                  <a:lnTo>
                    <a:pt x="5" y="26"/>
                  </a:lnTo>
                  <a:lnTo>
                    <a:pt x="14" y="27"/>
                  </a:lnTo>
                  <a:lnTo>
                    <a:pt x="25" y="26"/>
                  </a:lnTo>
                  <a:lnTo>
                    <a:pt x="29" y="17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99840" y="5941800"/>
              <a:ext cx="637560" cy="17280"/>
            </a:xfrm>
            <a:custGeom>
              <a:avLst/>
              <a:gdLst/>
              <a:ahLst/>
              <a:rect l="l" t="t" r="r" b="b"/>
              <a:pathLst>
                <a:path w="715" h="23">
                  <a:moveTo>
                    <a:pt x="715" y="0"/>
                  </a:moveTo>
                  <a:lnTo>
                    <a:pt x="715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715" y="23"/>
                  </a:lnTo>
                  <a:lnTo>
                    <a:pt x="715" y="23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37400" y="5941800"/>
              <a:ext cx="56880" cy="71280"/>
            </a:xfrm>
            <a:custGeom>
              <a:avLst/>
              <a:gdLst/>
              <a:ahLst/>
              <a:rect l="l" t="t" r="r" b="b"/>
              <a:pathLst>
                <a:path w="63" h="89">
                  <a:moveTo>
                    <a:pt x="63" y="89"/>
                  </a:moveTo>
                  <a:lnTo>
                    <a:pt x="63" y="89"/>
                  </a:lnTo>
                  <a:lnTo>
                    <a:pt x="56" y="62"/>
                  </a:lnTo>
                  <a:lnTo>
                    <a:pt x="43" y="34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23"/>
                  </a:lnTo>
                  <a:lnTo>
                    <a:pt x="5" y="27"/>
                  </a:lnTo>
                  <a:lnTo>
                    <a:pt x="18" y="43"/>
                  </a:lnTo>
                  <a:lnTo>
                    <a:pt x="31" y="67"/>
                  </a:lnTo>
                  <a:lnTo>
                    <a:pt x="34" y="89"/>
                  </a:lnTo>
                  <a:lnTo>
                    <a:pt x="34" y="89"/>
                  </a:lnTo>
                  <a:lnTo>
                    <a:pt x="6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69440" y="6013080"/>
              <a:ext cx="24840" cy="119160"/>
            </a:xfrm>
            <a:custGeom>
              <a:avLst/>
              <a:gdLst/>
              <a:ahLst/>
              <a:rect l="l" t="t" r="r" b="b"/>
              <a:pathLst>
                <a:path w="29" h="150">
                  <a:moveTo>
                    <a:pt x="29" y="150"/>
                  </a:moveTo>
                  <a:lnTo>
                    <a:pt x="29" y="150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9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37400" y="6132240"/>
              <a:ext cx="56880" cy="3960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0" y="51"/>
                  </a:moveTo>
                  <a:lnTo>
                    <a:pt x="0" y="51"/>
                  </a:lnTo>
                  <a:lnTo>
                    <a:pt x="22" y="45"/>
                  </a:lnTo>
                  <a:lnTo>
                    <a:pt x="41" y="34"/>
                  </a:lnTo>
                  <a:lnTo>
                    <a:pt x="56" y="18"/>
                  </a:lnTo>
                  <a:lnTo>
                    <a:pt x="63" y="0"/>
                  </a:lnTo>
                  <a:lnTo>
                    <a:pt x="34" y="0"/>
                  </a:lnTo>
                  <a:lnTo>
                    <a:pt x="31" y="9"/>
                  </a:lnTo>
                  <a:lnTo>
                    <a:pt x="23" y="19"/>
                  </a:lnTo>
                  <a:lnTo>
                    <a:pt x="11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97680" y="6152760"/>
              <a:ext cx="1539720" cy="19080"/>
            </a:xfrm>
            <a:custGeom>
              <a:avLst/>
              <a:gdLst/>
              <a:ahLst/>
              <a:rect l="l" t="t" r="r" b="b"/>
              <a:pathLst>
                <a:path w="1725" h="23">
                  <a:moveTo>
                    <a:pt x="0" y="23"/>
                  </a:moveTo>
                  <a:lnTo>
                    <a:pt x="0" y="23"/>
                  </a:lnTo>
                  <a:lnTo>
                    <a:pt x="1725" y="23"/>
                  </a:lnTo>
                  <a:lnTo>
                    <a:pt x="172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41880" y="6122520"/>
              <a:ext cx="55440" cy="49320"/>
            </a:xfrm>
            <a:custGeom>
              <a:avLst/>
              <a:gdLst/>
              <a:ahLst/>
              <a:rect l="l" t="t" r="r" b="b"/>
              <a:pathLst>
                <a:path w="61" h="62">
                  <a:moveTo>
                    <a:pt x="12" y="23"/>
                  </a:moveTo>
                  <a:lnTo>
                    <a:pt x="0" y="11"/>
                  </a:lnTo>
                  <a:lnTo>
                    <a:pt x="5" y="32"/>
                  </a:lnTo>
                  <a:lnTo>
                    <a:pt x="20" y="46"/>
                  </a:lnTo>
                  <a:lnTo>
                    <a:pt x="39" y="58"/>
                  </a:lnTo>
                  <a:lnTo>
                    <a:pt x="61" y="62"/>
                  </a:lnTo>
                  <a:lnTo>
                    <a:pt x="61" y="39"/>
                  </a:lnTo>
                  <a:lnTo>
                    <a:pt x="50" y="37"/>
                  </a:lnTo>
                  <a:lnTo>
                    <a:pt x="38" y="32"/>
                  </a:lnTo>
                  <a:lnTo>
                    <a:pt x="30" y="23"/>
                  </a:lnTo>
                  <a:lnTo>
                    <a:pt x="25" y="11"/>
                  </a:lnTo>
                  <a:lnTo>
                    <a:pt x="12" y="0"/>
                  </a:lnTo>
                  <a:lnTo>
                    <a:pt x="25" y="11"/>
                  </a:lnTo>
                  <a:lnTo>
                    <a:pt x="21" y="4"/>
                  </a:lnTo>
                  <a:lnTo>
                    <a:pt x="12" y="1"/>
                  </a:lnTo>
                  <a:lnTo>
                    <a:pt x="3" y="4"/>
                  </a:lnTo>
                  <a:lnTo>
                    <a:pt x="0" y="11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24080" y="6122520"/>
              <a:ext cx="230400" cy="17640"/>
            </a:xfrm>
            <a:custGeom>
              <a:avLst/>
              <a:gdLst/>
              <a:ahLst/>
              <a:rect l="l" t="t" r="r" b="b"/>
              <a:pathLst>
                <a:path w="258" h="23">
                  <a:moveTo>
                    <a:pt x="29" y="11"/>
                  </a:moveTo>
                  <a:lnTo>
                    <a:pt x="15" y="23"/>
                  </a:lnTo>
                  <a:lnTo>
                    <a:pt x="258" y="23"/>
                  </a:lnTo>
                  <a:lnTo>
                    <a:pt x="258" y="0"/>
                  </a:lnTo>
                  <a:lnTo>
                    <a:pt x="15" y="0"/>
                  </a:lnTo>
                  <a:lnTo>
                    <a:pt x="0" y="11"/>
                  </a:lnTo>
                  <a:lnTo>
                    <a:pt x="15" y="0"/>
                  </a:lnTo>
                  <a:lnTo>
                    <a:pt x="4" y="3"/>
                  </a:lnTo>
                  <a:lnTo>
                    <a:pt x="2" y="11"/>
                  </a:lnTo>
                  <a:lnTo>
                    <a:pt x="4" y="19"/>
                  </a:lnTo>
                  <a:lnTo>
                    <a:pt x="15" y="23"/>
                  </a:lnTo>
                  <a:lnTo>
                    <a:pt x="2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13640" y="6132240"/>
              <a:ext cx="35640" cy="28440"/>
            </a:xfrm>
            <a:custGeom>
              <a:avLst/>
              <a:gdLst/>
              <a:ahLst/>
              <a:rect l="l" t="t" r="r" b="b"/>
              <a:pathLst>
                <a:path w="39" h="38">
                  <a:moveTo>
                    <a:pt x="0" y="38"/>
                  </a:moveTo>
                  <a:lnTo>
                    <a:pt x="0" y="38"/>
                  </a:lnTo>
                  <a:lnTo>
                    <a:pt x="14" y="35"/>
                  </a:lnTo>
                  <a:lnTo>
                    <a:pt x="28" y="25"/>
                  </a:lnTo>
                  <a:lnTo>
                    <a:pt x="36" y="13"/>
                  </a:lnTo>
                  <a:lnTo>
                    <a:pt x="39" y="0"/>
                  </a:lnTo>
                  <a:lnTo>
                    <a:pt x="10" y="0"/>
                  </a:lnTo>
                  <a:lnTo>
                    <a:pt x="10" y="8"/>
                  </a:lnTo>
                  <a:lnTo>
                    <a:pt x="7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13560" y="6143400"/>
              <a:ext cx="99720" cy="17280"/>
            </a:xfrm>
            <a:custGeom>
              <a:avLst/>
              <a:gdLst/>
              <a:ahLst/>
              <a:rect l="l" t="t" r="r" b="b"/>
              <a:pathLst>
                <a:path w="112" h="23">
                  <a:moveTo>
                    <a:pt x="0" y="23"/>
                  </a:moveTo>
                  <a:lnTo>
                    <a:pt x="0" y="23"/>
                  </a:lnTo>
                  <a:lnTo>
                    <a:pt x="112" y="23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677920" y="6122520"/>
              <a:ext cx="35640" cy="38160"/>
            </a:xfrm>
            <a:custGeom>
              <a:avLst/>
              <a:gdLst/>
              <a:ahLst/>
              <a:rect l="l" t="t" r="r" b="b"/>
              <a:pathLst>
                <a:path w="42" h="49">
                  <a:moveTo>
                    <a:pt x="15" y="23"/>
                  </a:moveTo>
                  <a:lnTo>
                    <a:pt x="0" y="11"/>
                  </a:lnTo>
                  <a:lnTo>
                    <a:pt x="4" y="27"/>
                  </a:lnTo>
                  <a:lnTo>
                    <a:pt x="15" y="39"/>
                  </a:lnTo>
                  <a:lnTo>
                    <a:pt x="29" y="46"/>
                  </a:lnTo>
                  <a:lnTo>
                    <a:pt x="42" y="49"/>
                  </a:lnTo>
                  <a:lnTo>
                    <a:pt x="42" y="26"/>
                  </a:lnTo>
                  <a:lnTo>
                    <a:pt x="36" y="26"/>
                  </a:lnTo>
                  <a:lnTo>
                    <a:pt x="33" y="24"/>
                  </a:lnTo>
                  <a:lnTo>
                    <a:pt x="29" y="22"/>
                  </a:lnTo>
                  <a:lnTo>
                    <a:pt x="29" y="11"/>
                  </a:lnTo>
                  <a:lnTo>
                    <a:pt x="15" y="0"/>
                  </a:lnTo>
                  <a:lnTo>
                    <a:pt x="29" y="11"/>
                  </a:lnTo>
                  <a:lnTo>
                    <a:pt x="25" y="3"/>
                  </a:lnTo>
                  <a:lnTo>
                    <a:pt x="15" y="0"/>
                  </a:lnTo>
                  <a:lnTo>
                    <a:pt x="6" y="3"/>
                  </a:lnTo>
                  <a:lnTo>
                    <a:pt x="0" y="11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54120" y="6122520"/>
              <a:ext cx="535680" cy="17640"/>
            </a:xfrm>
            <a:custGeom>
              <a:avLst/>
              <a:gdLst/>
              <a:ahLst/>
              <a:rect l="l" t="t" r="r" b="b"/>
              <a:pathLst>
                <a:path w="599" h="23">
                  <a:moveTo>
                    <a:pt x="0" y="11"/>
                  </a:moveTo>
                  <a:lnTo>
                    <a:pt x="0" y="23"/>
                  </a:lnTo>
                  <a:lnTo>
                    <a:pt x="599" y="23"/>
                  </a:lnTo>
                  <a:lnTo>
                    <a:pt x="599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43680" y="6122520"/>
              <a:ext cx="10440" cy="176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13" y="0"/>
                  </a:moveTo>
                  <a:lnTo>
                    <a:pt x="2" y="3"/>
                  </a:lnTo>
                  <a:lnTo>
                    <a:pt x="0" y="11"/>
                  </a:lnTo>
                  <a:lnTo>
                    <a:pt x="2" y="19"/>
                  </a:lnTo>
                  <a:lnTo>
                    <a:pt x="13" y="2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201680" y="1449360"/>
            <a:ext cx="6342120" cy="835200"/>
          </a:xfrm>
          <a:prstGeom prst="cube">
            <a:avLst>
              <a:gd name="adj" fmla="val 37902"/>
            </a:avLst>
          </a:prstGeom>
          <a:gradFill rotWithShape="0">
            <a:gsLst>
              <a:gs pos="0">
                <a:srgbClr val="000000"/>
              </a:gs>
              <a:gs pos="50000">
                <a:srgbClr val="808080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01680" y="1449360"/>
            <a:ext cx="6341760" cy="846000"/>
            <a:chOff x="1201680" y="1449360"/>
            <a:chExt cx="6341760" cy="846000"/>
          </a:xfrm>
        </p:grpSpPr>
        <p:sp>
          <p:nvSpPr>
            <p:cNvPr id="224" name=""/>
            <p:cNvSpPr/>
            <p:nvPr/>
          </p:nvSpPr>
          <p:spPr>
            <a:xfrm>
              <a:off x="1201680" y="1753200"/>
              <a:ext cx="5999040" cy="537120"/>
            </a:xfrm>
            <a:custGeom>
              <a:avLst/>
              <a:gdLst/>
              <a:ahLst/>
              <a:rect l="l" t="t" r="r" b="b"/>
              <a:pathLst>
                <a:path w="3360" h="339">
                  <a:moveTo>
                    <a:pt x="0" y="3"/>
                  </a:moveTo>
                  <a:lnTo>
                    <a:pt x="3360" y="0"/>
                  </a:lnTo>
                  <a:lnTo>
                    <a:pt x="3360" y="339"/>
                  </a:lnTo>
                  <a:lnTo>
                    <a:pt x="0" y="33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4d4d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01680" y="1449360"/>
              <a:ext cx="6341760" cy="303840"/>
            </a:xfrm>
            <a:custGeom>
              <a:avLst/>
              <a:gdLst/>
              <a:ahLst/>
              <a:rect l="l" t="t" r="r" b="b"/>
              <a:pathLst>
                <a:path w="3552" h="192">
                  <a:moveTo>
                    <a:pt x="0" y="192"/>
                  </a:moveTo>
                  <a:lnTo>
                    <a:pt x="192" y="0"/>
                  </a:lnTo>
                  <a:lnTo>
                    <a:pt x="3552" y="0"/>
                  </a:lnTo>
                  <a:lnTo>
                    <a:pt x="3360" y="192"/>
                  </a:lnTo>
                  <a:lnTo>
                    <a:pt x="0" y="192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292929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00720" y="1449360"/>
              <a:ext cx="342720" cy="846000"/>
            </a:xfrm>
            <a:custGeom>
              <a:avLst/>
              <a:gdLst/>
              <a:ahLst/>
              <a:rect l="l" t="t" r="r" b="b"/>
              <a:pathLst>
                <a:path w="192" h="534">
                  <a:moveTo>
                    <a:pt x="0" y="192"/>
                  </a:moveTo>
                  <a:lnTo>
                    <a:pt x="0" y="534"/>
                  </a:lnTo>
                  <a:lnTo>
                    <a:pt x="188" y="346"/>
                  </a:lnTo>
                  <a:lnTo>
                    <a:pt x="192" y="0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4360" y="2819520"/>
            <a:ext cx="540360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La conduction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00BB-2EA0-4544-B688-9997327DA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44520" y="304920"/>
            <a:ext cx="942804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Comic Sans MS"/>
              </a:rPr>
              <a:t>L'air est mauvais conducteur de la chaleur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30800" y="2743200"/>
            <a:ext cx="479916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Comic Sans MS"/>
              </a:rPr>
              <a:t>Il peut même être considéré comme un bon isola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4800" y="1295280"/>
            <a:ext cx="591516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à l ’image du polystyrène expansé, de la laine de verre, de la neige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44520" y="2438280"/>
            <a:ext cx="4897440" cy="40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716F-4259-435E-AFC3-898C5DCA13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71480" y="380880"/>
            <a:ext cx="857088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400" spc="-1" strike="noStrike">
                <a:solidFill>
                  <a:srgbClr val="ff9933"/>
                </a:solidFill>
                <a:latin typeface="Comic Sans MS"/>
              </a:rPr>
              <a:t>La conduction s'opèrera toutefois sur de faibles épaisseurs,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26960" y="1754280"/>
            <a:ext cx="4206960" cy="2787120"/>
            <a:chOff x="426960" y="1754280"/>
            <a:chExt cx="4206960" cy="2787120"/>
          </a:xfrm>
        </p:grpSpPr>
        <p:grpSp>
          <p:nvGrpSpPr>
            <p:cNvPr id="234" name=""/>
            <p:cNvGrpSpPr/>
            <p:nvPr/>
          </p:nvGrpSpPr>
          <p:grpSpPr>
            <a:xfrm>
              <a:off x="450360" y="1754280"/>
              <a:ext cx="4166640" cy="2536200"/>
              <a:chOff x="450360" y="1754280"/>
              <a:chExt cx="4166640" cy="2536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50360" y="1754280"/>
                <a:ext cx="4166640" cy="253620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0360" y="2315160"/>
                <a:ext cx="4166640" cy="19753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0360" y="2518560"/>
                <a:ext cx="4166640" cy="17715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0360" y="2900880"/>
                <a:ext cx="4166640" cy="138924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100000">
                    <a:srgbClr val="cce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26960" y="2035440"/>
              <a:ext cx="4206960" cy="2505960"/>
            </a:xfrm>
            <a:custGeom>
              <a:avLst/>
              <a:gdLst/>
              <a:ahLst/>
              <a:rect l="l" t="t" r="r" b="b"/>
              <a:pathLst>
                <a:path w="3219" h="2314">
                  <a:moveTo>
                    <a:pt x="2268" y="8"/>
                  </a:moveTo>
                  <a:lnTo>
                    <a:pt x="2268" y="23"/>
                  </a:lnTo>
                  <a:lnTo>
                    <a:pt x="2244" y="46"/>
                  </a:lnTo>
                  <a:lnTo>
                    <a:pt x="2248" y="54"/>
                  </a:lnTo>
                  <a:lnTo>
                    <a:pt x="2266" y="69"/>
                  </a:lnTo>
                  <a:lnTo>
                    <a:pt x="2266" y="80"/>
                  </a:lnTo>
                  <a:lnTo>
                    <a:pt x="2248" y="93"/>
                  </a:lnTo>
                  <a:lnTo>
                    <a:pt x="2248" y="97"/>
                  </a:lnTo>
                  <a:lnTo>
                    <a:pt x="2250" y="100"/>
                  </a:lnTo>
                  <a:lnTo>
                    <a:pt x="2259" y="100"/>
                  </a:lnTo>
                  <a:lnTo>
                    <a:pt x="2292" y="80"/>
                  </a:lnTo>
                  <a:lnTo>
                    <a:pt x="2297" y="67"/>
                  </a:lnTo>
                  <a:lnTo>
                    <a:pt x="2297" y="57"/>
                  </a:lnTo>
                  <a:lnTo>
                    <a:pt x="2301" y="57"/>
                  </a:lnTo>
                  <a:lnTo>
                    <a:pt x="2303" y="56"/>
                  </a:lnTo>
                  <a:lnTo>
                    <a:pt x="2314" y="69"/>
                  </a:lnTo>
                  <a:lnTo>
                    <a:pt x="2314" y="91"/>
                  </a:lnTo>
                  <a:lnTo>
                    <a:pt x="2306" y="111"/>
                  </a:lnTo>
                  <a:lnTo>
                    <a:pt x="2306" y="118"/>
                  </a:lnTo>
                  <a:lnTo>
                    <a:pt x="2301" y="126"/>
                  </a:lnTo>
                  <a:lnTo>
                    <a:pt x="2283" y="131"/>
                  </a:lnTo>
                  <a:lnTo>
                    <a:pt x="2283" y="142"/>
                  </a:lnTo>
                  <a:lnTo>
                    <a:pt x="2292" y="152"/>
                  </a:lnTo>
                  <a:lnTo>
                    <a:pt x="2288" y="168"/>
                  </a:lnTo>
                  <a:lnTo>
                    <a:pt x="2295" y="172"/>
                  </a:lnTo>
                  <a:lnTo>
                    <a:pt x="2286" y="198"/>
                  </a:lnTo>
                  <a:lnTo>
                    <a:pt x="2268" y="225"/>
                  </a:lnTo>
                  <a:lnTo>
                    <a:pt x="2268" y="230"/>
                  </a:lnTo>
                  <a:lnTo>
                    <a:pt x="2303" y="250"/>
                  </a:lnTo>
                  <a:lnTo>
                    <a:pt x="2303" y="270"/>
                  </a:lnTo>
                  <a:lnTo>
                    <a:pt x="2283" y="288"/>
                  </a:lnTo>
                  <a:lnTo>
                    <a:pt x="2310" y="295"/>
                  </a:lnTo>
                  <a:lnTo>
                    <a:pt x="2319" y="301"/>
                  </a:lnTo>
                  <a:lnTo>
                    <a:pt x="2319" y="325"/>
                  </a:lnTo>
                  <a:lnTo>
                    <a:pt x="2323" y="327"/>
                  </a:lnTo>
                  <a:lnTo>
                    <a:pt x="2381" y="316"/>
                  </a:lnTo>
                  <a:lnTo>
                    <a:pt x="2394" y="306"/>
                  </a:lnTo>
                  <a:lnTo>
                    <a:pt x="2383" y="278"/>
                  </a:lnTo>
                  <a:lnTo>
                    <a:pt x="2377" y="267"/>
                  </a:lnTo>
                  <a:lnTo>
                    <a:pt x="2383" y="232"/>
                  </a:lnTo>
                  <a:lnTo>
                    <a:pt x="2390" y="228"/>
                  </a:lnTo>
                  <a:lnTo>
                    <a:pt x="2410" y="230"/>
                  </a:lnTo>
                  <a:lnTo>
                    <a:pt x="2428" y="247"/>
                  </a:lnTo>
                  <a:lnTo>
                    <a:pt x="2425" y="265"/>
                  </a:lnTo>
                  <a:lnTo>
                    <a:pt x="2430" y="268"/>
                  </a:lnTo>
                  <a:lnTo>
                    <a:pt x="2452" y="268"/>
                  </a:lnTo>
                  <a:lnTo>
                    <a:pt x="2456" y="263"/>
                  </a:lnTo>
                  <a:lnTo>
                    <a:pt x="2456" y="243"/>
                  </a:lnTo>
                  <a:lnTo>
                    <a:pt x="2443" y="196"/>
                  </a:lnTo>
                  <a:lnTo>
                    <a:pt x="2454" y="162"/>
                  </a:lnTo>
                  <a:lnTo>
                    <a:pt x="2470" y="162"/>
                  </a:lnTo>
                  <a:lnTo>
                    <a:pt x="2483" y="171"/>
                  </a:lnTo>
                  <a:lnTo>
                    <a:pt x="2501" y="192"/>
                  </a:lnTo>
                  <a:lnTo>
                    <a:pt x="2501" y="196"/>
                  </a:lnTo>
                  <a:lnTo>
                    <a:pt x="2505" y="197"/>
                  </a:lnTo>
                  <a:lnTo>
                    <a:pt x="2510" y="197"/>
                  </a:lnTo>
                  <a:lnTo>
                    <a:pt x="2518" y="191"/>
                  </a:lnTo>
                  <a:lnTo>
                    <a:pt x="2518" y="186"/>
                  </a:lnTo>
                  <a:lnTo>
                    <a:pt x="2507" y="177"/>
                  </a:lnTo>
                  <a:lnTo>
                    <a:pt x="2510" y="167"/>
                  </a:lnTo>
                  <a:lnTo>
                    <a:pt x="2523" y="151"/>
                  </a:lnTo>
                  <a:lnTo>
                    <a:pt x="2558" y="128"/>
                  </a:lnTo>
                  <a:lnTo>
                    <a:pt x="2563" y="117"/>
                  </a:lnTo>
                  <a:lnTo>
                    <a:pt x="2554" y="87"/>
                  </a:lnTo>
                  <a:lnTo>
                    <a:pt x="2554" y="61"/>
                  </a:lnTo>
                  <a:lnTo>
                    <a:pt x="2587" y="45"/>
                  </a:lnTo>
                  <a:lnTo>
                    <a:pt x="2623" y="45"/>
                  </a:lnTo>
                  <a:lnTo>
                    <a:pt x="2634" y="51"/>
                  </a:lnTo>
                  <a:lnTo>
                    <a:pt x="2640" y="57"/>
                  </a:lnTo>
                  <a:lnTo>
                    <a:pt x="2629" y="108"/>
                  </a:lnTo>
                  <a:lnTo>
                    <a:pt x="2629" y="123"/>
                  </a:lnTo>
                  <a:lnTo>
                    <a:pt x="2647" y="132"/>
                  </a:lnTo>
                  <a:lnTo>
                    <a:pt x="2649" y="143"/>
                  </a:lnTo>
                  <a:lnTo>
                    <a:pt x="2629" y="168"/>
                  </a:lnTo>
                  <a:lnTo>
                    <a:pt x="2632" y="177"/>
                  </a:lnTo>
                  <a:lnTo>
                    <a:pt x="2640" y="186"/>
                  </a:lnTo>
                  <a:lnTo>
                    <a:pt x="2669" y="193"/>
                  </a:lnTo>
                  <a:lnTo>
                    <a:pt x="2680" y="196"/>
                  </a:lnTo>
                  <a:lnTo>
                    <a:pt x="2694" y="203"/>
                  </a:lnTo>
                  <a:lnTo>
                    <a:pt x="2694" y="218"/>
                  </a:lnTo>
                  <a:lnTo>
                    <a:pt x="2676" y="237"/>
                  </a:lnTo>
                  <a:lnTo>
                    <a:pt x="2634" y="257"/>
                  </a:lnTo>
                  <a:lnTo>
                    <a:pt x="2625" y="267"/>
                  </a:lnTo>
                  <a:lnTo>
                    <a:pt x="2647" y="295"/>
                  </a:lnTo>
                  <a:lnTo>
                    <a:pt x="2665" y="306"/>
                  </a:lnTo>
                  <a:lnTo>
                    <a:pt x="2651" y="325"/>
                  </a:lnTo>
                  <a:lnTo>
                    <a:pt x="2649" y="325"/>
                  </a:lnTo>
                  <a:lnTo>
                    <a:pt x="2647" y="337"/>
                  </a:lnTo>
                  <a:lnTo>
                    <a:pt x="2647" y="351"/>
                  </a:lnTo>
                  <a:lnTo>
                    <a:pt x="2654" y="372"/>
                  </a:lnTo>
                  <a:lnTo>
                    <a:pt x="2649" y="387"/>
                  </a:lnTo>
                  <a:lnTo>
                    <a:pt x="2632" y="401"/>
                  </a:lnTo>
                  <a:lnTo>
                    <a:pt x="2541" y="436"/>
                  </a:lnTo>
                  <a:lnTo>
                    <a:pt x="2496" y="452"/>
                  </a:lnTo>
                  <a:lnTo>
                    <a:pt x="2463" y="459"/>
                  </a:lnTo>
                  <a:lnTo>
                    <a:pt x="2454" y="466"/>
                  </a:lnTo>
                  <a:lnTo>
                    <a:pt x="2470" y="472"/>
                  </a:lnTo>
                  <a:lnTo>
                    <a:pt x="2490" y="471"/>
                  </a:lnTo>
                  <a:lnTo>
                    <a:pt x="2501" y="464"/>
                  </a:lnTo>
                  <a:lnTo>
                    <a:pt x="2516" y="464"/>
                  </a:lnTo>
                  <a:lnTo>
                    <a:pt x="2525" y="479"/>
                  </a:lnTo>
                  <a:lnTo>
                    <a:pt x="2518" y="486"/>
                  </a:lnTo>
                  <a:lnTo>
                    <a:pt x="2465" y="502"/>
                  </a:lnTo>
                  <a:lnTo>
                    <a:pt x="2434" y="507"/>
                  </a:lnTo>
                  <a:lnTo>
                    <a:pt x="2430" y="507"/>
                  </a:lnTo>
                  <a:lnTo>
                    <a:pt x="2428" y="508"/>
                  </a:lnTo>
                  <a:lnTo>
                    <a:pt x="2428" y="512"/>
                  </a:lnTo>
                  <a:lnTo>
                    <a:pt x="2436" y="515"/>
                  </a:lnTo>
                  <a:lnTo>
                    <a:pt x="2483" y="515"/>
                  </a:lnTo>
                  <a:lnTo>
                    <a:pt x="2549" y="502"/>
                  </a:lnTo>
                  <a:lnTo>
                    <a:pt x="2581" y="483"/>
                  </a:lnTo>
                  <a:lnTo>
                    <a:pt x="2585" y="476"/>
                  </a:lnTo>
                  <a:lnTo>
                    <a:pt x="2605" y="472"/>
                  </a:lnTo>
                  <a:lnTo>
                    <a:pt x="2632" y="473"/>
                  </a:lnTo>
                  <a:lnTo>
                    <a:pt x="2634" y="479"/>
                  </a:lnTo>
                  <a:lnTo>
                    <a:pt x="2618" y="494"/>
                  </a:lnTo>
                  <a:lnTo>
                    <a:pt x="2616" y="494"/>
                  </a:lnTo>
                  <a:lnTo>
                    <a:pt x="2614" y="497"/>
                  </a:lnTo>
                  <a:lnTo>
                    <a:pt x="2614" y="502"/>
                  </a:lnTo>
                  <a:lnTo>
                    <a:pt x="2632" y="508"/>
                  </a:lnTo>
                  <a:lnTo>
                    <a:pt x="2632" y="527"/>
                  </a:lnTo>
                  <a:lnTo>
                    <a:pt x="2616" y="545"/>
                  </a:lnTo>
                  <a:lnTo>
                    <a:pt x="2605" y="557"/>
                  </a:lnTo>
                  <a:lnTo>
                    <a:pt x="2530" y="583"/>
                  </a:lnTo>
                  <a:lnTo>
                    <a:pt x="2483" y="610"/>
                  </a:lnTo>
                  <a:lnTo>
                    <a:pt x="2483" y="611"/>
                  </a:lnTo>
                  <a:lnTo>
                    <a:pt x="2507" y="611"/>
                  </a:lnTo>
                  <a:lnTo>
                    <a:pt x="2563" y="590"/>
                  </a:lnTo>
                  <a:lnTo>
                    <a:pt x="2569" y="590"/>
                  </a:lnTo>
                  <a:lnTo>
                    <a:pt x="2569" y="595"/>
                  </a:lnTo>
                  <a:lnTo>
                    <a:pt x="2587" y="598"/>
                  </a:lnTo>
                  <a:lnTo>
                    <a:pt x="2654" y="583"/>
                  </a:lnTo>
                  <a:lnTo>
                    <a:pt x="2660" y="576"/>
                  </a:lnTo>
                  <a:lnTo>
                    <a:pt x="2669" y="571"/>
                  </a:lnTo>
                  <a:lnTo>
                    <a:pt x="2678" y="571"/>
                  </a:lnTo>
                  <a:lnTo>
                    <a:pt x="2687" y="564"/>
                  </a:lnTo>
                  <a:lnTo>
                    <a:pt x="2696" y="560"/>
                  </a:lnTo>
                  <a:lnTo>
                    <a:pt x="2705" y="564"/>
                  </a:lnTo>
                  <a:lnTo>
                    <a:pt x="2694" y="583"/>
                  </a:lnTo>
                  <a:lnTo>
                    <a:pt x="2694" y="615"/>
                  </a:lnTo>
                  <a:lnTo>
                    <a:pt x="2685" y="622"/>
                  </a:lnTo>
                  <a:lnTo>
                    <a:pt x="2632" y="637"/>
                  </a:lnTo>
                  <a:lnTo>
                    <a:pt x="2605" y="677"/>
                  </a:lnTo>
                  <a:lnTo>
                    <a:pt x="2592" y="682"/>
                  </a:lnTo>
                  <a:lnTo>
                    <a:pt x="2561" y="691"/>
                  </a:lnTo>
                  <a:lnTo>
                    <a:pt x="2530" y="727"/>
                  </a:lnTo>
                  <a:lnTo>
                    <a:pt x="2516" y="737"/>
                  </a:lnTo>
                  <a:lnTo>
                    <a:pt x="2470" y="737"/>
                  </a:lnTo>
                  <a:lnTo>
                    <a:pt x="2445" y="744"/>
                  </a:lnTo>
                  <a:lnTo>
                    <a:pt x="2445" y="751"/>
                  </a:lnTo>
                  <a:lnTo>
                    <a:pt x="2461" y="756"/>
                  </a:lnTo>
                  <a:lnTo>
                    <a:pt x="2474" y="754"/>
                  </a:lnTo>
                  <a:lnTo>
                    <a:pt x="2490" y="754"/>
                  </a:lnTo>
                  <a:lnTo>
                    <a:pt x="2507" y="761"/>
                  </a:lnTo>
                  <a:lnTo>
                    <a:pt x="2534" y="757"/>
                  </a:lnTo>
                  <a:lnTo>
                    <a:pt x="2536" y="756"/>
                  </a:lnTo>
                  <a:lnTo>
                    <a:pt x="2572" y="746"/>
                  </a:lnTo>
                  <a:lnTo>
                    <a:pt x="2598" y="742"/>
                  </a:lnTo>
                  <a:lnTo>
                    <a:pt x="2625" y="732"/>
                  </a:lnTo>
                  <a:lnTo>
                    <a:pt x="2634" y="732"/>
                  </a:lnTo>
                  <a:lnTo>
                    <a:pt x="2634" y="747"/>
                  </a:lnTo>
                  <a:lnTo>
                    <a:pt x="2625" y="761"/>
                  </a:lnTo>
                  <a:lnTo>
                    <a:pt x="2612" y="767"/>
                  </a:lnTo>
                  <a:lnTo>
                    <a:pt x="2605" y="767"/>
                  </a:lnTo>
                  <a:lnTo>
                    <a:pt x="2585" y="783"/>
                  </a:lnTo>
                  <a:lnTo>
                    <a:pt x="2536" y="789"/>
                  </a:lnTo>
                  <a:lnTo>
                    <a:pt x="2510" y="812"/>
                  </a:lnTo>
                  <a:lnTo>
                    <a:pt x="2518" y="829"/>
                  </a:lnTo>
                  <a:lnTo>
                    <a:pt x="2572" y="822"/>
                  </a:lnTo>
                  <a:lnTo>
                    <a:pt x="2603" y="814"/>
                  </a:lnTo>
                  <a:lnTo>
                    <a:pt x="2612" y="815"/>
                  </a:lnTo>
                  <a:lnTo>
                    <a:pt x="2623" y="825"/>
                  </a:lnTo>
                  <a:lnTo>
                    <a:pt x="2623" y="842"/>
                  </a:lnTo>
                  <a:lnTo>
                    <a:pt x="2607" y="853"/>
                  </a:lnTo>
                  <a:lnTo>
                    <a:pt x="2567" y="870"/>
                  </a:lnTo>
                  <a:lnTo>
                    <a:pt x="2492" y="910"/>
                  </a:lnTo>
                  <a:lnTo>
                    <a:pt x="2481" y="911"/>
                  </a:lnTo>
                  <a:lnTo>
                    <a:pt x="2448" y="930"/>
                  </a:lnTo>
                  <a:lnTo>
                    <a:pt x="2448" y="932"/>
                  </a:lnTo>
                  <a:lnTo>
                    <a:pt x="2487" y="944"/>
                  </a:lnTo>
                  <a:lnTo>
                    <a:pt x="2525" y="947"/>
                  </a:lnTo>
                  <a:lnTo>
                    <a:pt x="2536" y="960"/>
                  </a:lnTo>
                  <a:lnTo>
                    <a:pt x="2518" y="990"/>
                  </a:lnTo>
                  <a:lnTo>
                    <a:pt x="2501" y="995"/>
                  </a:lnTo>
                  <a:lnTo>
                    <a:pt x="2470" y="996"/>
                  </a:lnTo>
                  <a:lnTo>
                    <a:pt x="2463" y="1011"/>
                  </a:lnTo>
                  <a:lnTo>
                    <a:pt x="2448" y="1026"/>
                  </a:lnTo>
                  <a:lnTo>
                    <a:pt x="2436" y="1034"/>
                  </a:lnTo>
                  <a:lnTo>
                    <a:pt x="2436" y="1047"/>
                  </a:lnTo>
                  <a:lnTo>
                    <a:pt x="2452" y="1054"/>
                  </a:lnTo>
                  <a:lnTo>
                    <a:pt x="2472" y="1057"/>
                  </a:lnTo>
                  <a:lnTo>
                    <a:pt x="2479" y="1062"/>
                  </a:lnTo>
                  <a:lnTo>
                    <a:pt x="2463" y="1076"/>
                  </a:lnTo>
                  <a:lnTo>
                    <a:pt x="2456" y="1094"/>
                  </a:lnTo>
                  <a:lnTo>
                    <a:pt x="2456" y="1099"/>
                  </a:lnTo>
                  <a:lnTo>
                    <a:pt x="2436" y="1105"/>
                  </a:lnTo>
                  <a:lnTo>
                    <a:pt x="2408" y="1107"/>
                  </a:lnTo>
                  <a:lnTo>
                    <a:pt x="2401" y="1107"/>
                  </a:lnTo>
                  <a:lnTo>
                    <a:pt x="2392" y="1112"/>
                  </a:lnTo>
                  <a:lnTo>
                    <a:pt x="2392" y="1120"/>
                  </a:lnTo>
                  <a:lnTo>
                    <a:pt x="2416" y="1132"/>
                  </a:lnTo>
                  <a:lnTo>
                    <a:pt x="2430" y="1129"/>
                  </a:lnTo>
                  <a:lnTo>
                    <a:pt x="2439" y="1130"/>
                  </a:lnTo>
                  <a:lnTo>
                    <a:pt x="2445" y="1135"/>
                  </a:lnTo>
                  <a:lnTo>
                    <a:pt x="2443" y="1135"/>
                  </a:lnTo>
                  <a:lnTo>
                    <a:pt x="2430" y="1164"/>
                  </a:lnTo>
                  <a:lnTo>
                    <a:pt x="2425" y="1166"/>
                  </a:lnTo>
                  <a:lnTo>
                    <a:pt x="2410" y="1166"/>
                  </a:lnTo>
                  <a:lnTo>
                    <a:pt x="2392" y="1174"/>
                  </a:lnTo>
                  <a:lnTo>
                    <a:pt x="2390" y="1191"/>
                  </a:lnTo>
                  <a:lnTo>
                    <a:pt x="2381" y="1205"/>
                  </a:lnTo>
                  <a:lnTo>
                    <a:pt x="2383" y="1211"/>
                  </a:lnTo>
                  <a:lnTo>
                    <a:pt x="2385" y="1214"/>
                  </a:lnTo>
                  <a:lnTo>
                    <a:pt x="2392" y="1214"/>
                  </a:lnTo>
                  <a:lnTo>
                    <a:pt x="2401" y="1231"/>
                  </a:lnTo>
                  <a:lnTo>
                    <a:pt x="2394" y="1240"/>
                  </a:lnTo>
                  <a:lnTo>
                    <a:pt x="2374" y="1250"/>
                  </a:lnTo>
                  <a:lnTo>
                    <a:pt x="2368" y="1262"/>
                  </a:lnTo>
                  <a:lnTo>
                    <a:pt x="2348" y="1276"/>
                  </a:lnTo>
                  <a:lnTo>
                    <a:pt x="2445" y="1276"/>
                  </a:lnTo>
                  <a:lnTo>
                    <a:pt x="2452" y="1280"/>
                  </a:lnTo>
                  <a:lnTo>
                    <a:pt x="2456" y="1276"/>
                  </a:lnTo>
                  <a:lnTo>
                    <a:pt x="2616" y="1276"/>
                  </a:lnTo>
                  <a:lnTo>
                    <a:pt x="2634" y="1282"/>
                  </a:lnTo>
                  <a:lnTo>
                    <a:pt x="2820" y="1285"/>
                  </a:lnTo>
                  <a:lnTo>
                    <a:pt x="2873" y="1286"/>
                  </a:lnTo>
                  <a:lnTo>
                    <a:pt x="2880" y="1291"/>
                  </a:lnTo>
                  <a:lnTo>
                    <a:pt x="2909" y="1293"/>
                  </a:lnTo>
                  <a:lnTo>
                    <a:pt x="2926" y="1296"/>
                  </a:lnTo>
                  <a:lnTo>
                    <a:pt x="2944" y="1312"/>
                  </a:lnTo>
                  <a:lnTo>
                    <a:pt x="2962" y="1380"/>
                  </a:lnTo>
                  <a:lnTo>
                    <a:pt x="2960" y="1456"/>
                  </a:lnTo>
                  <a:lnTo>
                    <a:pt x="2951" y="1520"/>
                  </a:lnTo>
                  <a:lnTo>
                    <a:pt x="2955" y="1556"/>
                  </a:lnTo>
                  <a:lnTo>
                    <a:pt x="2955" y="1610"/>
                  </a:lnTo>
                  <a:lnTo>
                    <a:pt x="2962" y="1629"/>
                  </a:lnTo>
                  <a:lnTo>
                    <a:pt x="2960" y="1705"/>
                  </a:lnTo>
                  <a:lnTo>
                    <a:pt x="2953" y="1725"/>
                  </a:lnTo>
                  <a:lnTo>
                    <a:pt x="2951" y="1775"/>
                  </a:lnTo>
                  <a:lnTo>
                    <a:pt x="2944" y="1825"/>
                  </a:lnTo>
                  <a:lnTo>
                    <a:pt x="2953" y="1886"/>
                  </a:lnTo>
                  <a:lnTo>
                    <a:pt x="2953" y="1914"/>
                  </a:lnTo>
                  <a:lnTo>
                    <a:pt x="2962" y="1926"/>
                  </a:lnTo>
                  <a:lnTo>
                    <a:pt x="2962" y="1934"/>
                  </a:lnTo>
                  <a:lnTo>
                    <a:pt x="2986" y="1944"/>
                  </a:lnTo>
                  <a:lnTo>
                    <a:pt x="3035" y="1943"/>
                  </a:lnTo>
                  <a:lnTo>
                    <a:pt x="3062" y="1958"/>
                  </a:lnTo>
                  <a:lnTo>
                    <a:pt x="3070" y="1995"/>
                  </a:lnTo>
                  <a:lnTo>
                    <a:pt x="3068" y="2004"/>
                  </a:lnTo>
                  <a:lnTo>
                    <a:pt x="3066" y="2026"/>
                  </a:lnTo>
                  <a:lnTo>
                    <a:pt x="3086" y="2026"/>
                  </a:lnTo>
                  <a:lnTo>
                    <a:pt x="3150" y="2008"/>
                  </a:lnTo>
                  <a:lnTo>
                    <a:pt x="3150" y="2009"/>
                  </a:lnTo>
                  <a:lnTo>
                    <a:pt x="3155" y="2010"/>
                  </a:lnTo>
                  <a:lnTo>
                    <a:pt x="3166" y="2004"/>
                  </a:lnTo>
                  <a:lnTo>
                    <a:pt x="3190" y="1999"/>
                  </a:lnTo>
                  <a:lnTo>
                    <a:pt x="3199" y="1999"/>
                  </a:lnTo>
                  <a:lnTo>
                    <a:pt x="3195" y="2014"/>
                  </a:lnTo>
                  <a:lnTo>
                    <a:pt x="3137" y="2053"/>
                  </a:lnTo>
                  <a:lnTo>
                    <a:pt x="3115" y="2068"/>
                  </a:lnTo>
                  <a:lnTo>
                    <a:pt x="3115" y="2079"/>
                  </a:lnTo>
                  <a:lnTo>
                    <a:pt x="3121" y="2085"/>
                  </a:lnTo>
                  <a:lnTo>
                    <a:pt x="3150" y="2085"/>
                  </a:lnTo>
                  <a:lnTo>
                    <a:pt x="3177" y="2080"/>
                  </a:lnTo>
                  <a:lnTo>
                    <a:pt x="3177" y="2046"/>
                  </a:lnTo>
                  <a:lnTo>
                    <a:pt x="3184" y="2040"/>
                  </a:lnTo>
                  <a:lnTo>
                    <a:pt x="3203" y="2044"/>
                  </a:lnTo>
                  <a:lnTo>
                    <a:pt x="3212" y="2058"/>
                  </a:lnTo>
                  <a:lnTo>
                    <a:pt x="3219" y="2079"/>
                  </a:lnTo>
                  <a:lnTo>
                    <a:pt x="3195" y="2099"/>
                  </a:lnTo>
                  <a:lnTo>
                    <a:pt x="3210" y="2109"/>
                  </a:lnTo>
                  <a:lnTo>
                    <a:pt x="3190" y="2122"/>
                  </a:lnTo>
                  <a:lnTo>
                    <a:pt x="3141" y="2145"/>
                  </a:lnTo>
                  <a:lnTo>
                    <a:pt x="3137" y="2156"/>
                  </a:lnTo>
                  <a:lnTo>
                    <a:pt x="3148" y="2172"/>
                  </a:lnTo>
                  <a:lnTo>
                    <a:pt x="3168" y="2173"/>
                  </a:lnTo>
                  <a:lnTo>
                    <a:pt x="3181" y="2185"/>
                  </a:lnTo>
                  <a:lnTo>
                    <a:pt x="3172" y="2199"/>
                  </a:lnTo>
                  <a:lnTo>
                    <a:pt x="3141" y="2216"/>
                  </a:lnTo>
                  <a:lnTo>
                    <a:pt x="3124" y="2231"/>
                  </a:lnTo>
                  <a:lnTo>
                    <a:pt x="3110" y="2238"/>
                  </a:lnTo>
                  <a:lnTo>
                    <a:pt x="2991" y="2254"/>
                  </a:lnTo>
                  <a:lnTo>
                    <a:pt x="2935" y="2265"/>
                  </a:lnTo>
                  <a:lnTo>
                    <a:pt x="2864" y="2270"/>
                  </a:lnTo>
                  <a:lnTo>
                    <a:pt x="2722" y="2283"/>
                  </a:lnTo>
                  <a:lnTo>
                    <a:pt x="2647" y="2290"/>
                  </a:lnTo>
                  <a:lnTo>
                    <a:pt x="2587" y="2295"/>
                  </a:lnTo>
                  <a:lnTo>
                    <a:pt x="2545" y="2295"/>
                  </a:lnTo>
                  <a:lnTo>
                    <a:pt x="2474" y="2300"/>
                  </a:lnTo>
                  <a:lnTo>
                    <a:pt x="2372" y="2298"/>
                  </a:lnTo>
                  <a:lnTo>
                    <a:pt x="2232" y="2304"/>
                  </a:lnTo>
                  <a:lnTo>
                    <a:pt x="2115" y="2303"/>
                  </a:lnTo>
                  <a:lnTo>
                    <a:pt x="2077" y="2290"/>
                  </a:lnTo>
                  <a:lnTo>
                    <a:pt x="1984" y="2284"/>
                  </a:lnTo>
                  <a:lnTo>
                    <a:pt x="1911" y="2285"/>
                  </a:lnTo>
                  <a:lnTo>
                    <a:pt x="1858" y="2293"/>
                  </a:lnTo>
                  <a:lnTo>
                    <a:pt x="1840" y="2294"/>
                  </a:lnTo>
                  <a:lnTo>
                    <a:pt x="1785" y="2300"/>
                  </a:lnTo>
                  <a:lnTo>
                    <a:pt x="1769" y="2300"/>
                  </a:lnTo>
                  <a:lnTo>
                    <a:pt x="1656" y="2313"/>
                  </a:lnTo>
                  <a:lnTo>
                    <a:pt x="1590" y="2314"/>
                  </a:lnTo>
                  <a:lnTo>
                    <a:pt x="1581" y="2310"/>
                  </a:lnTo>
                  <a:lnTo>
                    <a:pt x="1559" y="2310"/>
                  </a:lnTo>
                  <a:lnTo>
                    <a:pt x="1514" y="2304"/>
                  </a:lnTo>
                  <a:lnTo>
                    <a:pt x="1476" y="2304"/>
                  </a:lnTo>
                  <a:lnTo>
                    <a:pt x="1452" y="2294"/>
                  </a:lnTo>
                  <a:lnTo>
                    <a:pt x="1377" y="2290"/>
                  </a:lnTo>
                  <a:lnTo>
                    <a:pt x="1359" y="2288"/>
                  </a:lnTo>
                  <a:lnTo>
                    <a:pt x="1328" y="2288"/>
                  </a:lnTo>
                  <a:lnTo>
                    <a:pt x="1264" y="2273"/>
                  </a:lnTo>
                  <a:lnTo>
                    <a:pt x="1226" y="2265"/>
                  </a:lnTo>
                  <a:lnTo>
                    <a:pt x="1182" y="2268"/>
                  </a:lnTo>
                  <a:lnTo>
                    <a:pt x="967" y="2289"/>
                  </a:lnTo>
                  <a:lnTo>
                    <a:pt x="933" y="2289"/>
                  </a:lnTo>
                  <a:lnTo>
                    <a:pt x="905" y="2293"/>
                  </a:lnTo>
                  <a:lnTo>
                    <a:pt x="798" y="2290"/>
                  </a:lnTo>
                  <a:lnTo>
                    <a:pt x="767" y="2284"/>
                  </a:lnTo>
                  <a:lnTo>
                    <a:pt x="758" y="2279"/>
                  </a:lnTo>
                  <a:lnTo>
                    <a:pt x="729" y="2274"/>
                  </a:lnTo>
                  <a:lnTo>
                    <a:pt x="674" y="2263"/>
                  </a:lnTo>
                  <a:lnTo>
                    <a:pt x="641" y="2260"/>
                  </a:lnTo>
                  <a:lnTo>
                    <a:pt x="621" y="2256"/>
                  </a:lnTo>
                  <a:lnTo>
                    <a:pt x="616" y="2256"/>
                  </a:lnTo>
                  <a:lnTo>
                    <a:pt x="607" y="2251"/>
                  </a:lnTo>
                  <a:lnTo>
                    <a:pt x="605" y="2253"/>
                  </a:lnTo>
                  <a:lnTo>
                    <a:pt x="568" y="2233"/>
                  </a:lnTo>
                  <a:lnTo>
                    <a:pt x="528" y="2229"/>
                  </a:lnTo>
                  <a:lnTo>
                    <a:pt x="357" y="2228"/>
                  </a:lnTo>
                  <a:lnTo>
                    <a:pt x="282" y="2226"/>
                  </a:lnTo>
                  <a:lnTo>
                    <a:pt x="237" y="2223"/>
                  </a:lnTo>
                  <a:lnTo>
                    <a:pt x="184" y="2214"/>
                  </a:lnTo>
                  <a:lnTo>
                    <a:pt x="115" y="2201"/>
                  </a:lnTo>
                  <a:lnTo>
                    <a:pt x="62" y="2175"/>
                  </a:lnTo>
                  <a:lnTo>
                    <a:pt x="62" y="2172"/>
                  </a:lnTo>
                  <a:lnTo>
                    <a:pt x="29" y="2152"/>
                  </a:lnTo>
                  <a:lnTo>
                    <a:pt x="24" y="2135"/>
                  </a:lnTo>
                  <a:lnTo>
                    <a:pt x="29" y="2130"/>
                  </a:lnTo>
                  <a:lnTo>
                    <a:pt x="27" y="2087"/>
                  </a:lnTo>
                  <a:lnTo>
                    <a:pt x="27" y="1858"/>
                  </a:lnTo>
                  <a:lnTo>
                    <a:pt x="18" y="1750"/>
                  </a:lnTo>
                  <a:lnTo>
                    <a:pt x="16" y="1654"/>
                  </a:lnTo>
                  <a:lnTo>
                    <a:pt x="18" y="1588"/>
                  </a:lnTo>
                  <a:lnTo>
                    <a:pt x="27" y="1494"/>
                  </a:lnTo>
                  <a:lnTo>
                    <a:pt x="33" y="1440"/>
                  </a:lnTo>
                  <a:lnTo>
                    <a:pt x="29" y="1410"/>
                  </a:lnTo>
                  <a:lnTo>
                    <a:pt x="35" y="1407"/>
                  </a:lnTo>
                  <a:lnTo>
                    <a:pt x="27" y="1395"/>
                  </a:lnTo>
                  <a:lnTo>
                    <a:pt x="33" y="1382"/>
                  </a:lnTo>
                  <a:lnTo>
                    <a:pt x="33" y="1326"/>
                  </a:lnTo>
                  <a:lnTo>
                    <a:pt x="24" y="1235"/>
                  </a:lnTo>
                  <a:lnTo>
                    <a:pt x="11" y="1139"/>
                  </a:lnTo>
                  <a:lnTo>
                    <a:pt x="11" y="1047"/>
                  </a:lnTo>
                  <a:lnTo>
                    <a:pt x="9" y="1021"/>
                  </a:lnTo>
                  <a:lnTo>
                    <a:pt x="11" y="850"/>
                  </a:lnTo>
                  <a:lnTo>
                    <a:pt x="11" y="771"/>
                  </a:lnTo>
                  <a:lnTo>
                    <a:pt x="7" y="702"/>
                  </a:lnTo>
                  <a:lnTo>
                    <a:pt x="0" y="697"/>
                  </a:lnTo>
                  <a:lnTo>
                    <a:pt x="9" y="692"/>
                  </a:lnTo>
                  <a:lnTo>
                    <a:pt x="16" y="697"/>
                  </a:lnTo>
                  <a:lnTo>
                    <a:pt x="27" y="700"/>
                  </a:lnTo>
                  <a:lnTo>
                    <a:pt x="27" y="690"/>
                  </a:lnTo>
                  <a:lnTo>
                    <a:pt x="11" y="665"/>
                  </a:lnTo>
                  <a:lnTo>
                    <a:pt x="18" y="646"/>
                  </a:lnTo>
                  <a:lnTo>
                    <a:pt x="29" y="641"/>
                  </a:lnTo>
                  <a:lnTo>
                    <a:pt x="55" y="640"/>
                  </a:lnTo>
                  <a:lnTo>
                    <a:pt x="78" y="620"/>
                  </a:lnTo>
                  <a:lnTo>
                    <a:pt x="55" y="581"/>
                  </a:lnTo>
                  <a:lnTo>
                    <a:pt x="64" y="568"/>
                  </a:lnTo>
                  <a:lnTo>
                    <a:pt x="64" y="545"/>
                  </a:lnTo>
                  <a:lnTo>
                    <a:pt x="78" y="540"/>
                  </a:lnTo>
                  <a:lnTo>
                    <a:pt x="100" y="542"/>
                  </a:lnTo>
                  <a:lnTo>
                    <a:pt x="115" y="548"/>
                  </a:lnTo>
                  <a:lnTo>
                    <a:pt x="149" y="548"/>
                  </a:lnTo>
                  <a:lnTo>
                    <a:pt x="162" y="560"/>
                  </a:lnTo>
                  <a:lnTo>
                    <a:pt x="166" y="568"/>
                  </a:lnTo>
                  <a:lnTo>
                    <a:pt x="175" y="571"/>
                  </a:lnTo>
                  <a:lnTo>
                    <a:pt x="184" y="571"/>
                  </a:lnTo>
                  <a:lnTo>
                    <a:pt x="204" y="557"/>
                  </a:lnTo>
                  <a:lnTo>
                    <a:pt x="197" y="535"/>
                  </a:lnTo>
                  <a:lnTo>
                    <a:pt x="168" y="514"/>
                  </a:lnTo>
                  <a:lnTo>
                    <a:pt x="168" y="488"/>
                  </a:lnTo>
                  <a:lnTo>
                    <a:pt x="171" y="486"/>
                  </a:lnTo>
                  <a:lnTo>
                    <a:pt x="186" y="477"/>
                  </a:lnTo>
                  <a:lnTo>
                    <a:pt x="168" y="438"/>
                  </a:lnTo>
                  <a:lnTo>
                    <a:pt x="153" y="431"/>
                  </a:lnTo>
                  <a:lnTo>
                    <a:pt x="153" y="410"/>
                  </a:lnTo>
                  <a:lnTo>
                    <a:pt x="180" y="390"/>
                  </a:lnTo>
                  <a:lnTo>
                    <a:pt x="222" y="377"/>
                  </a:lnTo>
                  <a:lnTo>
                    <a:pt x="237" y="377"/>
                  </a:lnTo>
                  <a:lnTo>
                    <a:pt x="239" y="380"/>
                  </a:lnTo>
                  <a:lnTo>
                    <a:pt x="253" y="367"/>
                  </a:lnTo>
                  <a:lnTo>
                    <a:pt x="257" y="310"/>
                  </a:lnTo>
                  <a:lnTo>
                    <a:pt x="302" y="288"/>
                  </a:lnTo>
                  <a:lnTo>
                    <a:pt x="337" y="283"/>
                  </a:lnTo>
                  <a:lnTo>
                    <a:pt x="348" y="283"/>
                  </a:lnTo>
                  <a:lnTo>
                    <a:pt x="355" y="290"/>
                  </a:lnTo>
                  <a:lnTo>
                    <a:pt x="346" y="306"/>
                  </a:lnTo>
                  <a:lnTo>
                    <a:pt x="346" y="308"/>
                  </a:lnTo>
                  <a:lnTo>
                    <a:pt x="355" y="313"/>
                  </a:lnTo>
                  <a:lnTo>
                    <a:pt x="392" y="286"/>
                  </a:lnTo>
                  <a:lnTo>
                    <a:pt x="399" y="276"/>
                  </a:lnTo>
                  <a:lnTo>
                    <a:pt x="399" y="273"/>
                  </a:lnTo>
                  <a:lnTo>
                    <a:pt x="401" y="275"/>
                  </a:lnTo>
                  <a:lnTo>
                    <a:pt x="401" y="252"/>
                  </a:lnTo>
                  <a:lnTo>
                    <a:pt x="408" y="247"/>
                  </a:lnTo>
                  <a:lnTo>
                    <a:pt x="408" y="243"/>
                  </a:lnTo>
                  <a:lnTo>
                    <a:pt x="446" y="235"/>
                  </a:lnTo>
                  <a:lnTo>
                    <a:pt x="457" y="237"/>
                  </a:lnTo>
                  <a:lnTo>
                    <a:pt x="463" y="240"/>
                  </a:lnTo>
                  <a:lnTo>
                    <a:pt x="461" y="257"/>
                  </a:lnTo>
                  <a:lnTo>
                    <a:pt x="452" y="270"/>
                  </a:lnTo>
                  <a:lnTo>
                    <a:pt x="452" y="275"/>
                  </a:lnTo>
                  <a:lnTo>
                    <a:pt x="497" y="280"/>
                  </a:lnTo>
                  <a:lnTo>
                    <a:pt x="505" y="285"/>
                  </a:lnTo>
                  <a:lnTo>
                    <a:pt x="492" y="311"/>
                  </a:lnTo>
                  <a:lnTo>
                    <a:pt x="501" y="316"/>
                  </a:lnTo>
                  <a:lnTo>
                    <a:pt x="541" y="308"/>
                  </a:lnTo>
                  <a:lnTo>
                    <a:pt x="568" y="308"/>
                  </a:lnTo>
                  <a:lnTo>
                    <a:pt x="579" y="315"/>
                  </a:lnTo>
                  <a:lnTo>
                    <a:pt x="585" y="369"/>
                  </a:lnTo>
                  <a:lnTo>
                    <a:pt x="587" y="380"/>
                  </a:lnTo>
                  <a:lnTo>
                    <a:pt x="616" y="391"/>
                  </a:lnTo>
                  <a:lnTo>
                    <a:pt x="616" y="397"/>
                  </a:lnTo>
                  <a:lnTo>
                    <a:pt x="587" y="406"/>
                  </a:lnTo>
                  <a:lnTo>
                    <a:pt x="581" y="410"/>
                  </a:lnTo>
                  <a:lnTo>
                    <a:pt x="587" y="418"/>
                  </a:lnTo>
                  <a:lnTo>
                    <a:pt x="605" y="430"/>
                  </a:lnTo>
                  <a:lnTo>
                    <a:pt x="601" y="438"/>
                  </a:lnTo>
                  <a:lnTo>
                    <a:pt x="543" y="453"/>
                  </a:lnTo>
                  <a:lnTo>
                    <a:pt x="539" y="453"/>
                  </a:lnTo>
                  <a:lnTo>
                    <a:pt x="532" y="459"/>
                  </a:lnTo>
                  <a:lnTo>
                    <a:pt x="514" y="466"/>
                  </a:lnTo>
                  <a:lnTo>
                    <a:pt x="501" y="481"/>
                  </a:lnTo>
                  <a:lnTo>
                    <a:pt x="505" y="488"/>
                  </a:lnTo>
                  <a:lnTo>
                    <a:pt x="539" y="499"/>
                  </a:lnTo>
                  <a:lnTo>
                    <a:pt x="561" y="499"/>
                  </a:lnTo>
                  <a:lnTo>
                    <a:pt x="561" y="503"/>
                  </a:lnTo>
                  <a:lnTo>
                    <a:pt x="532" y="533"/>
                  </a:lnTo>
                  <a:lnTo>
                    <a:pt x="519" y="540"/>
                  </a:lnTo>
                  <a:lnTo>
                    <a:pt x="519" y="545"/>
                  </a:lnTo>
                  <a:lnTo>
                    <a:pt x="545" y="552"/>
                  </a:lnTo>
                  <a:lnTo>
                    <a:pt x="590" y="552"/>
                  </a:lnTo>
                  <a:lnTo>
                    <a:pt x="612" y="547"/>
                  </a:lnTo>
                  <a:lnTo>
                    <a:pt x="634" y="535"/>
                  </a:lnTo>
                  <a:lnTo>
                    <a:pt x="641" y="523"/>
                  </a:lnTo>
                  <a:lnTo>
                    <a:pt x="634" y="508"/>
                  </a:lnTo>
                  <a:lnTo>
                    <a:pt x="623" y="501"/>
                  </a:lnTo>
                  <a:lnTo>
                    <a:pt x="614" y="501"/>
                  </a:lnTo>
                  <a:lnTo>
                    <a:pt x="607" y="488"/>
                  </a:lnTo>
                  <a:lnTo>
                    <a:pt x="612" y="477"/>
                  </a:lnTo>
                  <a:lnTo>
                    <a:pt x="623" y="466"/>
                  </a:lnTo>
                  <a:lnTo>
                    <a:pt x="634" y="464"/>
                  </a:lnTo>
                  <a:lnTo>
                    <a:pt x="641" y="461"/>
                  </a:lnTo>
                  <a:lnTo>
                    <a:pt x="632" y="441"/>
                  </a:lnTo>
                  <a:lnTo>
                    <a:pt x="630" y="438"/>
                  </a:lnTo>
                  <a:lnTo>
                    <a:pt x="627" y="438"/>
                  </a:lnTo>
                  <a:lnTo>
                    <a:pt x="627" y="433"/>
                  </a:lnTo>
                  <a:lnTo>
                    <a:pt x="661" y="425"/>
                  </a:lnTo>
                  <a:lnTo>
                    <a:pt x="692" y="425"/>
                  </a:lnTo>
                  <a:lnTo>
                    <a:pt x="703" y="437"/>
                  </a:lnTo>
                  <a:lnTo>
                    <a:pt x="712" y="447"/>
                  </a:lnTo>
                  <a:lnTo>
                    <a:pt x="718" y="476"/>
                  </a:lnTo>
                  <a:lnTo>
                    <a:pt x="727" y="483"/>
                  </a:lnTo>
                  <a:lnTo>
                    <a:pt x="738" y="487"/>
                  </a:lnTo>
                  <a:lnTo>
                    <a:pt x="763" y="486"/>
                  </a:lnTo>
                  <a:lnTo>
                    <a:pt x="771" y="486"/>
                  </a:lnTo>
                  <a:lnTo>
                    <a:pt x="783" y="494"/>
                  </a:lnTo>
                  <a:lnTo>
                    <a:pt x="783" y="507"/>
                  </a:lnTo>
                  <a:lnTo>
                    <a:pt x="780" y="514"/>
                  </a:lnTo>
                  <a:lnTo>
                    <a:pt x="780" y="518"/>
                  </a:lnTo>
                  <a:lnTo>
                    <a:pt x="809" y="523"/>
                  </a:lnTo>
                  <a:lnTo>
                    <a:pt x="816" y="540"/>
                  </a:lnTo>
                  <a:lnTo>
                    <a:pt x="800" y="558"/>
                  </a:lnTo>
                  <a:lnTo>
                    <a:pt x="800" y="564"/>
                  </a:lnTo>
                  <a:lnTo>
                    <a:pt x="816" y="570"/>
                  </a:lnTo>
                  <a:lnTo>
                    <a:pt x="825" y="578"/>
                  </a:lnTo>
                  <a:lnTo>
                    <a:pt x="818" y="591"/>
                  </a:lnTo>
                  <a:lnTo>
                    <a:pt x="803" y="603"/>
                  </a:lnTo>
                  <a:lnTo>
                    <a:pt x="803" y="605"/>
                  </a:lnTo>
                  <a:lnTo>
                    <a:pt x="816" y="605"/>
                  </a:lnTo>
                  <a:lnTo>
                    <a:pt x="887" y="581"/>
                  </a:lnTo>
                  <a:lnTo>
                    <a:pt x="980" y="561"/>
                  </a:lnTo>
                  <a:lnTo>
                    <a:pt x="1020" y="561"/>
                  </a:lnTo>
                  <a:lnTo>
                    <a:pt x="1069" y="550"/>
                  </a:lnTo>
                  <a:lnTo>
                    <a:pt x="1066" y="548"/>
                  </a:lnTo>
                  <a:lnTo>
                    <a:pt x="1064" y="548"/>
                  </a:lnTo>
                  <a:lnTo>
                    <a:pt x="1084" y="530"/>
                  </a:lnTo>
                  <a:lnTo>
                    <a:pt x="1126" y="510"/>
                  </a:lnTo>
                  <a:lnTo>
                    <a:pt x="1157" y="503"/>
                  </a:lnTo>
                  <a:lnTo>
                    <a:pt x="1173" y="499"/>
                  </a:lnTo>
                  <a:lnTo>
                    <a:pt x="1193" y="472"/>
                  </a:lnTo>
                  <a:lnTo>
                    <a:pt x="1224" y="467"/>
                  </a:lnTo>
                  <a:lnTo>
                    <a:pt x="1219" y="381"/>
                  </a:lnTo>
                  <a:lnTo>
                    <a:pt x="1215" y="331"/>
                  </a:lnTo>
                  <a:lnTo>
                    <a:pt x="1215" y="278"/>
                  </a:lnTo>
                  <a:lnTo>
                    <a:pt x="1197" y="268"/>
                  </a:lnTo>
                  <a:lnTo>
                    <a:pt x="1190" y="268"/>
                  </a:lnTo>
                  <a:lnTo>
                    <a:pt x="1193" y="267"/>
                  </a:lnTo>
                  <a:lnTo>
                    <a:pt x="1148" y="257"/>
                  </a:lnTo>
                  <a:lnTo>
                    <a:pt x="1122" y="257"/>
                  </a:lnTo>
                  <a:lnTo>
                    <a:pt x="1075" y="248"/>
                  </a:lnTo>
                  <a:lnTo>
                    <a:pt x="1049" y="247"/>
                  </a:lnTo>
                  <a:lnTo>
                    <a:pt x="1038" y="238"/>
                  </a:lnTo>
                  <a:lnTo>
                    <a:pt x="1031" y="217"/>
                  </a:lnTo>
                  <a:lnTo>
                    <a:pt x="1031" y="206"/>
                  </a:lnTo>
                  <a:lnTo>
                    <a:pt x="1029" y="197"/>
                  </a:lnTo>
                  <a:lnTo>
                    <a:pt x="1038" y="192"/>
                  </a:lnTo>
                  <a:lnTo>
                    <a:pt x="1049" y="192"/>
                  </a:lnTo>
                  <a:lnTo>
                    <a:pt x="1086" y="172"/>
                  </a:lnTo>
                  <a:lnTo>
                    <a:pt x="1093" y="168"/>
                  </a:lnTo>
                  <a:lnTo>
                    <a:pt x="1135" y="178"/>
                  </a:lnTo>
                  <a:lnTo>
                    <a:pt x="1190" y="186"/>
                  </a:lnTo>
                  <a:lnTo>
                    <a:pt x="1202" y="187"/>
                  </a:lnTo>
                  <a:lnTo>
                    <a:pt x="1210" y="143"/>
                  </a:lnTo>
                  <a:lnTo>
                    <a:pt x="1208" y="121"/>
                  </a:lnTo>
                  <a:lnTo>
                    <a:pt x="1244" y="111"/>
                  </a:lnTo>
                  <a:lnTo>
                    <a:pt x="1253" y="106"/>
                  </a:lnTo>
                  <a:lnTo>
                    <a:pt x="1253" y="100"/>
                  </a:lnTo>
                  <a:lnTo>
                    <a:pt x="1277" y="97"/>
                  </a:lnTo>
                  <a:lnTo>
                    <a:pt x="1326" y="101"/>
                  </a:lnTo>
                  <a:lnTo>
                    <a:pt x="1339" y="97"/>
                  </a:lnTo>
                  <a:lnTo>
                    <a:pt x="1341" y="100"/>
                  </a:lnTo>
                  <a:lnTo>
                    <a:pt x="1346" y="100"/>
                  </a:lnTo>
                  <a:lnTo>
                    <a:pt x="1352" y="118"/>
                  </a:lnTo>
                  <a:lnTo>
                    <a:pt x="1352" y="207"/>
                  </a:lnTo>
                  <a:lnTo>
                    <a:pt x="1390" y="222"/>
                  </a:lnTo>
                  <a:lnTo>
                    <a:pt x="1423" y="228"/>
                  </a:lnTo>
                  <a:lnTo>
                    <a:pt x="1439" y="228"/>
                  </a:lnTo>
                  <a:lnTo>
                    <a:pt x="1439" y="230"/>
                  </a:lnTo>
                  <a:lnTo>
                    <a:pt x="1485" y="238"/>
                  </a:lnTo>
                  <a:lnTo>
                    <a:pt x="1505" y="247"/>
                  </a:lnTo>
                  <a:lnTo>
                    <a:pt x="1514" y="247"/>
                  </a:lnTo>
                  <a:lnTo>
                    <a:pt x="1512" y="291"/>
                  </a:lnTo>
                  <a:lnTo>
                    <a:pt x="1468" y="313"/>
                  </a:lnTo>
                  <a:lnTo>
                    <a:pt x="1430" y="301"/>
                  </a:lnTo>
                  <a:lnTo>
                    <a:pt x="1352" y="286"/>
                  </a:lnTo>
                  <a:lnTo>
                    <a:pt x="1346" y="321"/>
                  </a:lnTo>
                  <a:lnTo>
                    <a:pt x="1346" y="441"/>
                  </a:lnTo>
                  <a:lnTo>
                    <a:pt x="1368" y="451"/>
                  </a:lnTo>
                  <a:lnTo>
                    <a:pt x="1414" y="482"/>
                  </a:lnTo>
                  <a:lnTo>
                    <a:pt x="1417" y="488"/>
                  </a:lnTo>
                  <a:lnTo>
                    <a:pt x="1439" y="499"/>
                  </a:lnTo>
                  <a:lnTo>
                    <a:pt x="1439" y="502"/>
                  </a:lnTo>
                  <a:lnTo>
                    <a:pt x="1465" y="510"/>
                  </a:lnTo>
                  <a:lnTo>
                    <a:pt x="1501" y="510"/>
                  </a:lnTo>
                  <a:lnTo>
                    <a:pt x="1501" y="512"/>
                  </a:lnTo>
                  <a:lnTo>
                    <a:pt x="1539" y="520"/>
                  </a:lnTo>
                  <a:lnTo>
                    <a:pt x="1572" y="548"/>
                  </a:lnTo>
                  <a:lnTo>
                    <a:pt x="1572" y="553"/>
                  </a:lnTo>
                  <a:lnTo>
                    <a:pt x="1590" y="565"/>
                  </a:lnTo>
                  <a:lnTo>
                    <a:pt x="1610" y="591"/>
                  </a:lnTo>
                  <a:lnTo>
                    <a:pt x="1636" y="606"/>
                  </a:lnTo>
                  <a:lnTo>
                    <a:pt x="1654" y="608"/>
                  </a:lnTo>
                  <a:lnTo>
                    <a:pt x="1654" y="610"/>
                  </a:lnTo>
                  <a:lnTo>
                    <a:pt x="1678" y="616"/>
                  </a:lnTo>
                  <a:lnTo>
                    <a:pt x="1692" y="636"/>
                  </a:lnTo>
                  <a:lnTo>
                    <a:pt x="1698" y="667"/>
                  </a:lnTo>
                  <a:lnTo>
                    <a:pt x="1734" y="686"/>
                  </a:lnTo>
                  <a:lnTo>
                    <a:pt x="1751" y="692"/>
                  </a:lnTo>
                  <a:lnTo>
                    <a:pt x="1778" y="721"/>
                  </a:lnTo>
                  <a:lnTo>
                    <a:pt x="1780" y="741"/>
                  </a:lnTo>
                  <a:lnTo>
                    <a:pt x="1789" y="749"/>
                  </a:lnTo>
                  <a:lnTo>
                    <a:pt x="1820" y="761"/>
                  </a:lnTo>
                  <a:lnTo>
                    <a:pt x="1822" y="761"/>
                  </a:lnTo>
                  <a:lnTo>
                    <a:pt x="1822" y="752"/>
                  </a:lnTo>
                  <a:lnTo>
                    <a:pt x="1811" y="736"/>
                  </a:lnTo>
                  <a:lnTo>
                    <a:pt x="1813" y="706"/>
                  </a:lnTo>
                  <a:lnTo>
                    <a:pt x="1829" y="682"/>
                  </a:lnTo>
                  <a:lnTo>
                    <a:pt x="1822" y="667"/>
                  </a:lnTo>
                  <a:lnTo>
                    <a:pt x="1798" y="641"/>
                  </a:lnTo>
                  <a:lnTo>
                    <a:pt x="1791" y="637"/>
                  </a:lnTo>
                  <a:lnTo>
                    <a:pt x="1802" y="616"/>
                  </a:lnTo>
                  <a:lnTo>
                    <a:pt x="1767" y="616"/>
                  </a:lnTo>
                  <a:lnTo>
                    <a:pt x="1760" y="608"/>
                  </a:lnTo>
                  <a:lnTo>
                    <a:pt x="1767" y="595"/>
                  </a:lnTo>
                  <a:lnTo>
                    <a:pt x="1767" y="586"/>
                  </a:lnTo>
                  <a:lnTo>
                    <a:pt x="1771" y="580"/>
                  </a:lnTo>
                  <a:lnTo>
                    <a:pt x="1767" y="570"/>
                  </a:lnTo>
                  <a:lnTo>
                    <a:pt x="1760" y="566"/>
                  </a:lnTo>
                  <a:lnTo>
                    <a:pt x="1762" y="545"/>
                  </a:lnTo>
                  <a:lnTo>
                    <a:pt x="1780" y="535"/>
                  </a:lnTo>
                  <a:lnTo>
                    <a:pt x="1796" y="535"/>
                  </a:lnTo>
                  <a:lnTo>
                    <a:pt x="1798" y="533"/>
                  </a:lnTo>
                  <a:lnTo>
                    <a:pt x="1776" y="508"/>
                  </a:lnTo>
                  <a:lnTo>
                    <a:pt x="1785" y="492"/>
                  </a:lnTo>
                  <a:lnTo>
                    <a:pt x="1816" y="479"/>
                  </a:lnTo>
                  <a:lnTo>
                    <a:pt x="1831" y="481"/>
                  </a:lnTo>
                  <a:lnTo>
                    <a:pt x="1847" y="488"/>
                  </a:lnTo>
                  <a:lnTo>
                    <a:pt x="1847" y="510"/>
                  </a:lnTo>
                  <a:lnTo>
                    <a:pt x="1840" y="517"/>
                  </a:lnTo>
                  <a:lnTo>
                    <a:pt x="1867" y="527"/>
                  </a:lnTo>
                  <a:lnTo>
                    <a:pt x="1869" y="535"/>
                  </a:lnTo>
                  <a:lnTo>
                    <a:pt x="1869" y="538"/>
                  </a:lnTo>
                  <a:lnTo>
                    <a:pt x="1893" y="548"/>
                  </a:lnTo>
                  <a:lnTo>
                    <a:pt x="1893" y="557"/>
                  </a:lnTo>
                  <a:lnTo>
                    <a:pt x="1891" y="568"/>
                  </a:lnTo>
                  <a:lnTo>
                    <a:pt x="1904" y="578"/>
                  </a:lnTo>
                  <a:lnTo>
                    <a:pt x="1915" y="585"/>
                  </a:lnTo>
                  <a:lnTo>
                    <a:pt x="1931" y="581"/>
                  </a:lnTo>
                  <a:lnTo>
                    <a:pt x="1949" y="570"/>
                  </a:lnTo>
                  <a:lnTo>
                    <a:pt x="1949" y="548"/>
                  </a:lnTo>
                  <a:lnTo>
                    <a:pt x="1953" y="530"/>
                  </a:lnTo>
                  <a:lnTo>
                    <a:pt x="1962" y="517"/>
                  </a:lnTo>
                  <a:lnTo>
                    <a:pt x="1962" y="514"/>
                  </a:lnTo>
                  <a:lnTo>
                    <a:pt x="1927" y="512"/>
                  </a:lnTo>
                  <a:lnTo>
                    <a:pt x="1915" y="510"/>
                  </a:lnTo>
                  <a:lnTo>
                    <a:pt x="1907" y="502"/>
                  </a:lnTo>
                  <a:lnTo>
                    <a:pt x="1915" y="473"/>
                  </a:lnTo>
                  <a:lnTo>
                    <a:pt x="1920" y="472"/>
                  </a:lnTo>
                  <a:lnTo>
                    <a:pt x="1913" y="468"/>
                  </a:lnTo>
                  <a:lnTo>
                    <a:pt x="1884" y="467"/>
                  </a:lnTo>
                  <a:lnTo>
                    <a:pt x="1878" y="461"/>
                  </a:lnTo>
                  <a:lnTo>
                    <a:pt x="1887" y="431"/>
                  </a:lnTo>
                  <a:lnTo>
                    <a:pt x="1851" y="417"/>
                  </a:lnTo>
                  <a:lnTo>
                    <a:pt x="1840" y="397"/>
                  </a:lnTo>
                  <a:lnTo>
                    <a:pt x="1842" y="381"/>
                  </a:lnTo>
                  <a:lnTo>
                    <a:pt x="1860" y="356"/>
                  </a:lnTo>
                  <a:lnTo>
                    <a:pt x="1893" y="345"/>
                  </a:lnTo>
                  <a:lnTo>
                    <a:pt x="1920" y="313"/>
                  </a:lnTo>
                  <a:lnTo>
                    <a:pt x="1920" y="308"/>
                  </a:lnTo>
                  <a:lnTo>
                    <a:pt x="1931" y="303"/>
                  </a:lnTo>
                  <a:lnTo>
                    <a:pt x="1962" y="303"/>
                  </a:lnTo>
                  <a:lnTo>
                    <a:pt x="2004" y="276"/>
                  </a:lnTo>
                  <a:lnTo>
                    <a:pt x="2026" y="275"/>
                  </a:lnTo>
                  <a:lnTo>
                    <a:pt x="2037" y="262"/>
                  </a:lnTo>
                  <a:lnTo>
                    <a:pt x="2037" y="250"/>
                  </a:lnTo>
                  <a:lnTo>
                    <a:pt x="2062" y="252"/>
                  </a:lnTo>
                  <a:lnTo>
                    <a:pt x="2084" y="267"/>
                  </a:lnTo>
                  <a:lnTo>
                    <a:pt x="2082" y="280"/>
                  </a:lnTo>
                  <a:lnTo>
                    <a:pt x="2064" y="303"/>
                  </a:lnTo>
                  <a:lnTo>
                    <a:pt x="2066" y="315"/>
                  </a:lnTo>
                  <a:lnTo>
                    <a:pt x="2073" y="318"/>
                  </a:lnTo>
                  <a:lnTo>
                    <a:pt x="2084" y="318"/>
                  </a:lnTo>
                  <a:lnTo>
                    <a:pt x="2111" y="293"/>
                  </a:lnTo>
                  <a:lnTo>
                    <a:pt x="2119" y="260"/>
                  </a:lnTo>
                  <a:lnTo>
                    <a:pt x="2111" y="250"/>
                  </a:lnTo>
                  <a:lnTo>
                    <a:pt x="2104" y="247"/>
                  </a:lnTo>
                  <a:lnTo>
                    <a:pt x="2097" y="243"/>
                  </a:lnTo>
                  <a:lnTo>
                    <a:pt x="2104" y="237"/>
                  </a:lnTo>
                  <a:lnTo>
                    <a:pt x="2108" y="237"/>
                  </a:lnTo>
                  <a:lnTo>
                    <a:pt x="2119" y="228"/>
                  </a:lnTo>
                  <a:lnTo>
                    <a:pt x="2126" y="225"/>
                  </a:lnTo>
                  <a:lnTo>
                    <a:pt x="2126" y="215"/>
                  </a:lnTo>
                  <a:lnTo>
                    <a:pt x="2119" y="212"/>
                  </a:lnTo>
                  <a:lnTo>
                    <a:pt x="2099" y="212"/>
                  </a:lnTo>
                  <a:lnTo>
                    <a:pt x="2091" y="206"/>
                  </a:lnTo>
                  <a:lnTo>
                    <a:pt x="2093" y="192"/>
                  </a:lnTo>
                  <a:lnTo>
                    <a:pt x="2119" y="162"/>
                  </a:lnTo>
                  <a:lnTo>
                    <a:pt x="2119" y="101"/>
                  </a:lnTo>
                  <a:lnTo>
                    <a:pt x="2159" y="69"/>
                  </a:lnTo>
                  <a:lnTo>
                    <a:pt x="2179" y="37"/>
                  </a:lnTo>
                  <a:lnTo>
                    <a:pt x="2181" y="28"/>
                  </a:lnTo>
                  <a:lnTo>
                    <a:pt x="2206" y="8"/>
                  </a:lnTo>
                  <a:lnTo>
                    <a:pt x="2230" y="0"/>
                  </a:lnTo>
                  <a:lnTo>
                    <a:pt x="2252" y="0"/>
                  </a:lnTo>
                  <a:lnTo>
                    <a:pt x="226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7880" y="2044080"/>
              <a:ext cx="1181160" cy="1384200"/>
            </a:xfrm>
            <a:custGeom>
              <a:avLst/>
              <a:gdLst/>
              <a:ahLst/>
              <a:rect l="l" t="t" r="r" b="b"/>
              <a:pathLst>
                <a:path w="904" h="1278">
                  <a:moveTo>
                    <a:pt x="474" y="2"/>
                  </a:moveTo>
                  <a:lnTo>
                    <a:pt x="481" y="5"/>
                  </a:lnTo>
                  <a:lnTo>
                    <a:pt x="468" y="22"/>
                  </a:lnTo>
                  <a:lnTo>
                    <a:pt x="459" y="28"/>
                  </a:lnTo>
                  <a:lnTo>
                    <a:pt x="459" y="49"/>
                  </a:lnTo>
                  <a:lnTo>
                    <a:pt x="468" y="57"/>
                  </a:lnTo>
                  <a:lnTo>
                    <a:pt x="474" y="59"/>
                  </a:lnTo>
                  <a:lnTo>
                    <a:pt x="468" y="77"/>
                  </a:lnTo>
                  <a:lnTo>
                    <a:pt x="456" y="89"/>
                  </a:lnTo>
                  <a:lnTo>
                    <a:pt x="456" y="98"/>
                  </a:lnTo>
                  <a:lnTo>
                    <a:pt x="474" y="100"/>
                  </a:lnTo>
                  <a:lnTo>
                    <a:pt x="510" y="88"/>
                  </a:lnTo>
                  <a:lnTo>
                    <a:pt x="519" y="81"/>
                  </a:lnTo>
                  <a:lnTo>
                    <a:pt x="525" y="92"/>
                  </a:lnTo>
                  <a:lnTo>
                    <a:pt x="510" y="113"/>
                  </a:lnTo>
                  <a:lnTo>
                    <a:pt x="492" y="118"/>
                  </a:lnTo>
                  <a:lnTo>
                    <a:pt x="492" y="135"/>
                  </a:lnTo>
                  <a:lnTo>
                    <a:pt x="501" y="149"/>
                  </a:lnTo>
                  <a:lnTo>
                    <a:pt x="501" y="178"/>
                  </a:lnTo>
                  <a:lnTo>
                    <a:pt x="483" y="198"/>
                  </a:lnTo>
                  <a:lnTo>
                    <a:pt x="476" y="224"/>
                  </a:lnTo>
                  <a:lnTo>
                    <a:pt x="503" y="240"/>
                  </a:lnTo>
                  <a:lnTo>
                    <a:pt x="512" y="250"/>
                  </a:lnTo>
                  <a:lnTo>
                    <a:pt x="503" y="267"/>
                  </a:lnTo>
                  <a:lnTo>
                    <a:pt x="490" y="278"/>
                  </a:lnTo>
                  <a:lnTo>
                    <a:pt x="490" y="283"/>
                  </a:lnTo>
                  <a:lnTo>
                    <a:pt x="512" y="292"/>
                  </a:lnTo>
                  <a:lnTo>
                    <a:pt x="521" y="292"/>
                  </a:lnTo>
                  <a:lnTo>
                    <a:pt x="527" y="295"/>
                  </a:lnTo>
                  <a:lnTo>
                    <a:pt x="527" y="317"/>
                  </a:lnTo>
                  <a:lnTo>
                    <a:pt x="545" y="327"/>
                  </a:lnTo>
                  <a:lnTo>
                    <a:pt x="563" y="327"/>
                  </a:lnTo>
                  <a:lnTo>
                    <a:pt x="614" y="313"/>
                  </a:lnTo>
                  <a:lnTo>
                    <a:pt x="623" y="307"/>
                  </a:lnTo>
                  <a:lnTo>
                    <a:pt x="627" y="305"/>
                  </a:lnTo>
                  <a:lnTo>
                    <a:pt x="634" y="302"/>
                  </a:lnTo>
                  <a:lnTo>
                    <a:pt x="625" y="275"/>
                  </a:lnTo>
                  <a:lnTo>
                    <a:pt x="616" y="257"/>
                  </a:lnTo>
                  <a:lnTo>
                    <a:pt x="623" y="230"/>
                  </a:lnTo>
                  <a:lnTo>
                    <a:pt x="627" y="230"/>
                  </a:lnTo>
                  <a:lnTo>
                    <a:pt x="634" y="242"/>
                  </a:lnTo>
                  <a:lnTo>
                    <a:pt x="632" y="260"/>
                  </a:lnTo>
                  <a:lnTo>
                    <a:pt x="643" y="267"/>
                  </a:lnTo>
                  <a:lnTo>
                    <a:pt x="645" y="267"/>
                  </a:lnTo>
                  <a:lnTo>
                    <a:pt x="649" y="265"/>
                  </a:lnTo>
                  <a:lnTo>
                    <a:pt x="649" y="267"/>
                  </a:lnTo>
                  <a:lnTo>
                    <a:pt x="680" y="267"/>
                  </a:lnTo>
                  <a:lnTo>
                    <a:pt x="696" y="257"/>
                  </a:lnTo>
                  <a:lnTo>
                    <a:pt x="696" y="234"/>
                  </a:lnTo>
                  <a:lnTo>
                    <a:pt x="685" y="217"/>
                  </a:lnTo>
                  <a:lnTo>
                    <a:pt x="680" y="199"/>
                  </a:lnTo>
                  <a:lnTo>
                    <a:pt x="689" y="164"/>
                  </a:lnTo>
                  <a:lnTo>
                    <a:pt x="707" y="180"/>
                  </a:lnTo>
                  <a:lnTo>
                    <a:pt x="707" y="194"/>
                  </a:lnTo>
                  <a:lnTo>
                    <a:pt x="720" y="199"/>
                  </a:lnTo>
                  <a:lnTo>
                    <a:pt x="742" y="198"/>
                  </a:lnTo>
                  <a:lnTo>
                    <a:pt x="751" y="193"/>
                  </a:lnTo>
                  <a:lnTo>
                    <a:pt x="749" y="190"/>
                  </a:lnTo>
                  <a:lnTo>
                    <a:pt x="758" y="184"/>
                  </a:lnTo>
                  <a:lnTo>
                    <a:pt x="758" y="180"/>
                  </a:lnTo>
                  <a:lnTo>
                    <a:pt x="760" y="179"/>
                  </a:lnTo>
                  <a:lnTo>
                    <a:pt x="747" y="168"/>
                  </a:lnTo>
                  <a:lnTo>
                    <a:pt x="749" y="154"/>
                  </a:lnTo>
                  <a:lnTo>
                    <a:pt x="778" y="135"/>
                  </a:lnTo>
                  <a:lnTo>
                    <a:pt x="800" y="115"/>
                  </a:lnTo>
                  <a:lnTo>
                    <a:pt x="791" y="59"/>
                  </a:lnTo>
                  <a:lnTo>
                    <a:pt x="802" y="49"/>
                  </a:lnTo>
                  <a:lnTo>
                    <a:pt x="816" y="44"/>
                  </a:lnTo>
                  <a:lnTo>
                    <a:pt x="840" y="44"/>
                  </a:lnTo>
                  <a:lnTo>
                    <a:pt x="847" y="49"/>
                  </a:lnTo>
                  <a:lnTo>
                    <a:pt x="847" y="74"/>
                  </a:lnTo>
                  <a:lnTo>
                    <a:pt x="831" y="108"/>
                  </a:lnTo>
                  <a:lnTo>
                    <a:pt x="840" y="120"/>
                  </a:lnTo>
                  <a:lnTo>
                    <a:pt x="858" y="129"/>
                  </a:lnTo>
                  <a:lnTo>
                    <a:pt x="840" y="160"/>
                  </a:lnTo>
                  <a:lnTo>
                    <a:pt x="842" y="175"/>
                  </a:lnTo>
                  <a:lnTo>
                    <a:pt x="873" y="190"/>
                  </a:lnTo>
                  <a:lnTo>
                    <a:pt x="898" y="195"/>
                  </a:lnTo>
                  <a:lnTo>
                    <a:pt x="900" y="194"/>
                  </a:lnTo>
                  <a:lnTo>
                    <a:pt x="904" y="205"/>
                  </a:lnTo>
                  <a:lnTo>
                    <a:pt x="878" y="229"/>
                  </a:lnTo>
                  <a:lnTo>
                    <a:pt x="836" y="254"/>
                  </a:lnTo>
                  <a:lnTo>
                    <a:pt x="836" y="262"/>
                  </a:lnTo>
                  <a:lnTo>
                    <a:pt x="838" y="263"/>
                  </a:lnTo>
                  <a:lnTo>
                    <a:pt x="856" y="292"/>
                  </a:lnTo>
                  <a:lnTo>
                    <a:pt x="871" y="300"/>
                  </a:lnTo>
                  <a:lnTo>
                    <a:pt x="856" y="318"/>
                  </a:lnTo>
                  <a:lnTo>
                    <a:pt x="856" y="343"/>
                  </a:lnTo>
                  <a:lnTo>
                    <a:pt x="862" y="364"/>
                  </a:lnTo>
                  <a:lnTo>
                    <a:pt x="853" y="382"/>
                  </a:lnTo>
                  <a:lnTo>
                    <a:pt x="800" y="407"/>
                  </a:lnTo>
                  <a:lnTo>
                    <a:pt x="703" y="438"/>
                  </a:lnTo>
                  <a:lnTo>
                    <a:pt x="669" y="448"/>
                  </a:lnTo>
                  <a:lnTo>
                    <a:pt x="663" y="451"/>
                  </a:lnTo>
                  <a:lnTo>
                    <a:pt x="663" y="463"/>
                  </a:lnTo>
                  <a:lnTo>
                    <a:pt x="685" y="473"/>
                  </a:lnTo>
                  <a:lnTo>
                    <a:pt x="714" y="473"/>
                  </a:lnTo>
                  <a:lnTo>
                    <a:pt x="729" y="468"/>
                  </a:lnTo>
                  <a:lnTo>
                    <a:pt x="729" y="473"/>
                  </a:lnTo>
                  <a:lnTo>
                    <a:pt x="685" y="488"/>
                  </a:lnTo>
                  <a:lnTo>
                    <a:pt x="645" y="491"/>
                  </a:lnTo>
                  <a:lnTo>
                    <a:pt x="636" y="495"/>
                  </a:lnTo>
                  <a:lnTo>
                    <a:pt x="636" y="506"/>
                  </a:lnTo>
                  <a:lnTo>
                    <a:pt x="640" y="507"/>
                  </a:lnTo>
                  <a:lnTo>
                    <a:pt x="658" y="517"/>
                  </a:lnTo>
                  <a:lnTo>
                    <a:pt x="722" y="514"/>
                  </a:lnTo>
                  <a:lnTo>
                    <a:pt x="754" y="507"/>
                  </a:lnTo>
                  <a:lnTo>
                    <a:pt x="800" y="493"/>
                  </a:lnTo>
                  <a:lnTo>
                    <a:pt x="822" y="473"/>
                  </a:lnTo>
                  <a:lnTo>
                    <a:pt x="838" y="474"/>
                  </a:lnTo>
                  <a:lnTo>
                    <a:pt x="820" y="493"/>
                  </a:lnTo>
                  <a:lnTo>
                    <a:pt x="827" y="500"/>
                  </a:lnTo>
                  <a:lnTo>
                    <a:pt x="840" y="504"/>
                  </a:lnTo>
                  <a:lnTo>
                    <a:pt x="840" y="521"/>
                  </a:lnTo>
                  <a:lnTo>
                    <a:pt x="820" y="542"/>
                  </a:lnTo>
                  <a:lnTo>
                    <a:pt x="740" y="573"/>
                  </a:lnTo>
                  <a:lnTo>
                    <a:pt x="698" y="597"/>
                  </a:lnTo>
                  <a:lnTo>
                    <a:pt x="687" y="593"/>
                  </a:lnTo>
                  <a:lnTo>
                    <a:pt x="685" y="593"/>
                  </a:lnTo>
                  <a:lnTo>
                    <a:pt x="676" y="610"/>
                  </a:lnTo>
                  <a:lnTo>
                    <a:pt x="687" y="613"/>
                  </a:lnTo>
                  <a:lnTo>
                    <a:pt x="734" y="610"/>
                  </a:lnTo>
                  <a:lnTo>
                    <a:pt x="782" y="592"/>
                  </a:lnTo>
                  <a:lnTo>
                    <a:pt x="802" y="597"/>
                  </a:lnTo>
                  <a:lnTo>
                    <a:pt x="831" y="593"/>
                  </a:lnTo>
                  <a:lnTo>
                    <a:pt x="878" y="583"/>
                  </a:lnTo>
                  <a:lnTo>
                    <a:pt x="900" y="573"/>
                  </a:lnTo>
                  <a:lnTo>
                    <a:pt x="902" y="597"/>
                  </a:lnTo>
                  <a:lnTo>
                    <a:pt x="900" y="607"/>
                  </a:lnTo>
                  <a:lnTo>
                    <a:pt x="871" y="618"/>
                  </a:lnTo>
                  <a:lnTo>
                    <a:pt x="847" y="623"/>
                  </a:lnTo>
                  <a:lnTo>
                    <a:pt x="831" y="639"/>
                  </a:lnTo>
                  <a:lnTo>
                    <a:pt x="820" y="664"/>
                  </a:lnTo>
                  <a:lnTo>
                    <a:pt x="802" y="672"/>
                  </a:lnTo>
                  <a:lnTo>
                    <a:pt x="785" y="674"/>
                  </a:lnTo>
                  <a:lnTo>
                    <a:pt x="773" y="674"/>
                  </a:lnTo>
                  <a:lnTo>
                    <a:pt x="740" y="718"/>
                  </a:lnTo>
                  <a:lnTo>
                    <a:pt x="731" y="723"/>
                  </a:lnTo>
                  <a:lnTo>
                    <a:pt x="685" y="723"/>
                  </a:lnTo>
                  <a:lnTo>
                    <a:pt x="672" y="728"/>
                  </a:lnTo>
                  <a:lnTo>
                    <a:pt x="652" y="729"/>
                  </a:lnTo>
                  <a:lnTo>
                    <a:pt x="645" y="734"/>
                  </a:lnTo>
                  <a:lnTo>
                    <a:pt x="658" y="748"/>
                  </a:lnTo>
                  <a:lnTo>
                    <a:pt x="676" y="754"/>
                  </a:lnTo>
                  <a:lnTo>
                    <a:pt x="714" y="756"/>
                  </a:lnTo>
                  <a:lnTo>
                    <a:pt x="729" y="760"/>
                  </a:lnTo>
                  <a:lnTo>
                    <a:pt x="840" y="739"/>
                  </a:lnTo>
                  <a:lnTo>
                    <a:pt x="836" y="748"/>
                  </a:lnTo>
                  <a:lnTo>
                    <a:pt x="805" y="760"/>
                  </a:lnTo>
                  <a:lnTo>
                    <a:pt x="802" y="766"/>
                  </a:lnTo>
                  <a:lnTo>
                    <a:pt x="787" y="773"/>
                  </a:lnTo>
                  <a:lnTo>
                    <a:pt x="749" y="775"/>
                  </a:lnTo>
                  <a:lnTo>
                    <a:pt x="747" y="775"/>
                  </a:lnTo>
                  <a:lnTo>
                    <a:pt x="729" y="796"/>
                  </a:lnTo>
                  <a:lnTo>
                    <a:pt x="720" y="802"/>
                  </a:lnTo>
                  <a:lnTo>
                    <a:pt x="729" y="817"/>
                  </a:lnTo>
                  <a:lnTo>
                    <a:pt x="725" y="819"/>
                  </a:lnTo>
                  <a:lnTo>
                    <a:pt x="738" y="825"/>
                  </a:lnTo>
                  <a:lnTo>
                    <a:pt x="778" y="825"/>
                  </a:lnTo>
                  <a:lnTo>
                    <a:pt x="816" y="816"/>
                  </a:lnTo>
                  <a:lnTo>
                    <a:pt x="829" y="816"/>
                  </a:lnTo>
                  <a:lnTo>
                    <a:pt x="836" y="824"/>
                  </a:lnTo>
                  <a:lnTo>
                    <a:pt x="827" y="839"/>
                  </a:lnTo>
                  <a:lnTo>
                    <a:pt x="738" y="880"/>
                  </a:lnTo>
                  <a:lnTo>
                    <a:pt x="716" y="892"/>
                  </a:lnTo>
                  <a:lnTo>
                    <a:pt x="698" y="887"/>
                  </a:lnTo>
                  <a:lnTo>
                    <a:pt x="685" y="903"/>
                  </a:lnTo>
                  <a:lnTo>
                    <a:pt x="654" y="922"/>
                  </a:lnTo>
                  <a:lnTo>
                    <a:pt x="658" y="927"/>
                  </a:lnTo>
                  <a:lnTo>
                    <a:pt x="678" y="937"/>
                  </a:lnTo>
                  <a:lnTo>
                    <a:pt x="738" y="944"/>
                  </a:lnTo>
                  <a:lnTo>
                    <a:pt x="742" y="952"/>
                  </a:lnTo>
                  <a:lnTo>
                    <a:pt x="734" y="972"/>
                  </a:lnTo>
                  <a:lnTo>
                    <a:pt x="734" y="977"/>
                  </a:lnTo>
                  <a:lnTo>
                    <a:pt x="711" y="983"/>
                  </a:lnTo>
                  <a:lnTo>
                    <a:pt x="698" y="979"/>
                  </a:lnTo>
                  <a:lnTo>
                    <a:pt x="680" y="982"/>
                  </a:lnTo>
                  <a:lnTo>
                    <a:pt x="676" y="988"/>
                  </a:lnTo>
                  <a:lnTo>
                    <a:pt x="676" y="1002"/>
                  </a:lnTo>
                  <a:lnTo>
                    <a:pt x="658" y="1017"/>
                  </a:lnTo>
                  <a:lnTo>
                    <a:pt x="649" y="1017"/>
                  </a:lnTo>
                  <a:lnTo>
                    <a:pt x="643" y="1029"/>
                  </a:lnTo>
                  <a:lnTo>
                    <a:pt x="649" y="1043"/>
                  </a:lnTo>
                  <a:lnTo>
                    <a:pt x="669" y="1053"/>
                  </a:lnTo>
                  <a:lnTo>
                    <a:pt x="678" y="1053"/>
                  </a:lnTo>
                  <a:lnTo>
                    <a:pt x="680" y="1054"/>
                  </a:lnTo>
                  <a:lnTo>
                    <a:pt x="680" y="1059"/>
                  </a:lnTo>
                  <a:lnTo>
                    <a:pt x="669" y="1068"/>
                  </a:lnTo>
                  <a:lnTo>
                    <a:pt x="663" y="1087"/>
                  </a:lnTo>
                  <a:lnTo>
                    <a:pt x="643" y="1092"/>
                  </a:lnTo>
                  <a:lnTo>
                    <a:pt x="616" y="1092"/>
                  </a:lnTo>
                  <a:lnTo>
                    <a:pt x="598" y="1102"/>
                  </a:lnTo>
                  <a:lnTo>
                    <a:pt x="598" y="1116"/>
                  </a:lnTo>
                  <a:lnTo>
                    <a:pt x="634" y="1132"/>
                  </a:lnTo>
                  <a:lnTo>
                    <a:pt x="645" y="1132"/>
                  </a:lnTo>
                  <a:lnTo>
                    <a:pt x="645" y="1143"/>
                  </a:lnTo>
                  <a:lnTo>
                    <a:pt x="640" y="1151"/>
                  </a:lnTo>
                  <a:lnTo>
                    <a:pt x="607" y="1157"/>
                  </a:lnTo>
                  <a:lnTo>
                    <a:pt x="601" y="1161"/>
                  </a:lnTo>
                  <a:lnTo>
                    <a:pt x="598" y="1188"/>
                  </a:lnTo>
                  <a:lnTo>
                    <a:pt x="589" y="1196"/>
                  </a:lnTo>
                  <a:lnTo>
                    <a:pt x="592" y="1206"/>
                  </a:lnTo>
                  <a:lnTo>
                    <a:pt x="609" y="1222"/>
                  </a:lnTo>
                  <a:lnTo>
                    <a:pt x="581" y="1239"/>
                  </a:lnTo>
                  <a:lnTo>
                    <a:pt x="578" y="1251"/>
                  </a:lnTo>
                  <a:lnTo>
                    <a:pt x="570" y="1258"/>
                  </a:lnTo>
                  <a:lnTo>
                    <a:pt x="554" y="1263"/>
                  </a:lnTo>
                  <a:lnTo>
                    <a:pt x="552" y="1268"/>
                  </a:lnTo>
                  <a:lnTo>
                    <a:pt x="501" y="1265"/>
                  </a:lnTo>
                  <a:lnTo>
                    <a:pt x="421" y="1278"/>
                  </a:lnTo>
                  <a:lnTo>
                    <a:pt x="268" y="1251"/>
                  </a:lnTo>
                  <a:lnTo>
                    <a:pt x="197" y="1227"/>
                  </a:lnTo>
                  <a:lnTo>
                    <a:pt x="190" y="1227"/>
                  </a:lnTo>
                  <a:lnTo>
                    <a:pt x="188" y="1158"/>
                  </a:lnTo>
                  <a:lnTo>
                    <a:pt x="186" y="1117"/>
                  </a:lnTo>
                  <a:lnTo>
                    <a:pt x="182" y="1036"/>
                  </a:lnTo>
                  <a:lnTo>
                    <a:pt x="202" y="1056"/>
                  </a:lnTo>
                  <a:lnTo>
                    <a:pt x="224" y="1063"/>
                  </a:lnTo>
                  <a:lnTo>
                    <a:pt x="239" y="1063"/>
                  </a:lnTo>
                  <a:lnTo>
                    <a:pt x="259" y="1044"/>
                  </a:lnTo>
                  <a:lnTo>
                    <a:pt x="264" y="1044"/>
                  </a:lnTo>
                  <a:lnTo>
                    <a:pt x="281" y="1054"/>
                  </a:lnTo>
                  <a:lnTo>
                    <a:pt x="317" y="1051"/>
                  </a:lnTo>
                  <a:lnTo>
                    <a:pt x="339" y="1019"/>
                  </a:lnTo>
                  <a:lnTo>
                    <a:pt x="335" y="1003"/>
                  </a:lnTo>
                  <a:lnTo>
                    <a:pt x="303" y="989"/>
                  </a:lnTo>
                  <a:lnTo>
                    <a:pt x="286" y="978"/>
                  </a:lnTo>
                  <a:lnTo>
                    <a:pt x="286" y="953"/>
                  </a:lnTo>
                  <a:lnTo>
                    <a:pt x="228" y="923"/>
                  </a:lnTo>
                  <a:lnTo>
                    <a:pt x="213" y="908"/>
                  </a:lnTo>
                  <a:lnTo>
                    <a:pt x="206" y="877"/>
                  </a:lnTo>
                  <a:lnTo>
                    <a:pt x="190" y="860"/>
                  </a:lnTo>
                  <a:lnTo>
                    <a:pt x="159" y="845"/>
                  </a:lnTo>
                  <a:lnTo>
                    <a:pt x="128" y="839"/>
                  </a:lnTo>
                  <a:lnTo>
                    <a:pt x="124" y="834"/>
                  </a:lnTo>
                  <a:lnTo>
                    <a:pt x="115" y="822"/>
                  </a:lnTo>
                  <a:lnTo>
                    <a:pt x="111" y="783"/>
                  </a:lnTo>
                  <a:lnTo>
                    <a:pt x="73" y="760"/>
                  </a:lnTo>
                  <a:lnTo>
                    <a:pt x="53" y="734"/>
                  </a:lnTo>
                  <a:lnTo>
                    <a:pt x="55" y="692"/>
                  </a:lnTo>
                  <a:lnTo>
                    <a:pt x="66" y="678"/>
                  </a:lnTo>
                  <a:lnTo>
                    <a:pt x="66" y="668"/>
                  </a:lnTo>
                  <a:lnTo>
                    <a:pt x="46" y="643"/>
                  </a:lnTo>
                  <a:lnTo>
                    <a:pt x="37" y="628"/>
                  </a:lnTo>
                  <a:lnTo>
                    <a:pt x="37" y="610"/>
                  </a:lnTo>
                  <a:lnTo>
                    <a:pt x="44" y="603"/>
                  </a:lnTo>
                  <a:lnTo>
                    <a:pt x="40" y="598"/>
                  </a:lnTo>
                  <a:lnTo>
                    <a:pt x="20" y="598"/>
                  </a:lnTo>
                  <a:lnTo>
                    <a:pt x="11" y="602"/>
                  </a:lnTo>
                  <a:lnTo>
                    <a:pt x="4" y="602"/>
                  </a:lnTo>
                  <a:lnTo>
                    <a:pt x="4" y="582"/>
                  </a:lnTo>
                  <a:lnTo>
                    <a:pt x="15" y="573"/>
                  </a:lnTo>
                  <a:lnTo>
                    <a:pt x="0" y="552"/>
                  </a:lnTo>
                  <a:lnTo>
                    <a:pt x="4" y="537"/>
                  </a:lnTo>
                  <a:lnTo>
                    <a:pt x="11" y="534"/>
                  </a:lnTo>
                  <a:lnTo>
                    <a:pt x="31" y="532"/>
                  </a:lnTo>
                  <a:lnTo>
                    <a:pt x="37" y="527"/>
                  </a:lnTo>
                  <a:lnTo>
                    <a:pt x="37" y="522"/>
                  </a:lnTo>
                  <a:lnTo>
                    <a:pt x="13" y="502"/>
                  </a:lnTo>
                  <a:lnTo>
                    <a:pt x="20" y="491"/>
                  </a:lnTo>
                  <a:lnTo>
                    <a:pt x="44" y="479"/>
                  </a:lnTo>
                  <a:lnTo>
                    <a:pt x="53" y="480"/>
                  </a:lnTo>
                  <a:lnTo>
                    <a:pt x="57" y="491"/>
                  </a:lnTo>
                  <a:lnTo>
                    <a:pt x="46" y="514"/>
                  </a:lnTo>
                  <a:lnTo>
                    <a:pt x="64" y="522"/>
                  </a:lnTo>
                  <a:lnTo>
                    <a:pt x="73" y="522"/>
                  </a:lnTo>
                  <a:lnTo>
                    <a:pt x="84" y="537"/>
                  </a:lnTo>
                  <a:lnTo>
                    <a:pt x="102" y="545"/>
                  </a:lnTo>
                  <a:lnTo>
                    <a:pt x="100" y="560"/>
                  </a:lnTo>
                  <a:lnTo>
                    <a:pt x="100" y="565"/>
                  </a:lnTo>
                  <a:lnTo>
                    <a:pt x="139" y="585"/>
                  </a:lnTo>
                  <a:lnTo>
                    <a:pt x="159" y="582"/>
                  </a:lnTo>
                  <a:lnTo>
                    <a:pt x="186" y="567"/>
                  </a:lnTo>
                  <a:lnTo>
                    <a:pt x="190" y="552"/>
                  </a:lnTo>
                  <a:lnTo>
                    <a:pt x="190" y="524"/>
                  </a:lnTo>
                  <a:lnTo>
                    <a:pt x="199" y="512"/>
                  </a:lnTo>
                  <a:lnTo>
                    <a:pt x="197" y="502"/>
                  </a:lnTo>
                  <a:lnTo>
                    <a:pt x="179" y="495"/>
                  </a:lnTo>
                  <a:lnTo>
                    <a:pt x="159" y="497"/>
                  </a:lnTo>
                  <a:lnTo>
                    <a:pt x="151" y="497"/>
                  </a:lnTo>
                  <a:lnTo>
                    <a:pt x="151" y="478"/>
                  </a:lnTo>
                  <a:lnTo>
                    <a:pt x="155" y="465"/>
                  </a:lnTo>
                  <a:lnTo>
                    <a:pt x="155" y="459"/>
                  </a:lnTo>
                  <a:lnTo>
                    <a:pt x="131" y="453"/>
                  </a:lnTo>
                  <a:lnTo>
                    <a:pt x="117" y="453"/>
                  </a:lnTo>
                  <a:lnTo>
                    <a:pt x="126" y="424"/>
                  </a:lnTo>
                  <a:lnTo>
                    <a:pt x="126" y="418"/>
                  </a:lnTo>
                  <a:lnTo>
                    <a:pt x="93" y="407"/>
                  </a:lnTo>
                  <a:lnTo>
                    <a:pt x="82" y="393"/>
                  </a:lnTo>
                  <a:lnTo>
                    <a:pt x="88" y="367"/>
                  </a:lnTo>
                  <a:lnTo>
                    <a:pt x="100" y="353"/>
                  </a:lnTo>
                  <a:lnTo>
                    <a:pt x="119" y="344"/>
                  </a:lnTo>
                  <a:lnTo>
                    <a:pt x="146" y="327"/>
                  </a:lnTo>
                  <a:lnTo>
                    <a:pt x="155" y="307"/>
                  </a:lnTo>
                  <a:lnTo>
                    <a:pt x="188" y="303"/>
                  </a:lnTo>
                  <a:lnTo>
                    <a:pt x="241" y="277"/>
                  </a:lnTo>
                  <a:lnTo>
                    <a:pt x="259" y="273"/>
                  </a:lnTo>
                  <a:lnTo>
                    <a:pt x="270" y="267"/>
                  </a:lnTo>
                  <a:lnTo>
                    <a:pt x="277" y="254"/>
                  </a:lnTo>
                  <a:lnTo>
                    <a:pt x="281" y="254"/>
                  </a:lnTo>
                  <a:lnTo>
                    <a:pt x="290" y="260"/>
                  </a:lnTo>
                  <a:lnTo>
                    <a:pt x="286" y="277"/>
                  </a:lnTo>
                  <a:lnTo>
                    <a:pt x="275" y="288"/>
                  </a:lnTo>
                  <a:lnTo>
                    <a:pt x="275" y="308"/>
                  </a:lnTo>
                  <a:lnTo>
                    <a:pt x="295" y="319"/>
                  </a:lnTo>
                  <a:lnTo>
                    <a:pt x="321" y="317"/>
                  </a:lnTo>
                  <a:lnTo>
                    <a:pt x="343" y="295"/>
                  </a:lnTo>
                  <a:lnTo>
                    <a:pt x="352" y="273"/>
                  </a:lnTo>
                  <a:lnTo>
                    <a:pt x="352" y="245"/>
                  </a:lnTo>
                  <a:lnTo>
                    <a:pt x="341" y="234"/>
                  </a:lnTo>
                  <a:lnTo>
                    <a:pt x="366" y="217"/>
                  </a:lnTo>
                  <a:lnTo>
                    <a:pt x="359" y="202"/>
                  </a:lnTo>
                  <a:lnTo>
                    <a:pt x="341" y="195"/>
                  </a:lnTo>
                  <a:lnTo>
                    <a:pt x="330" y="195"/>
                  </a:lnTo>
                  <a:lnTo>
                    <a:pt x="335" y="179"/>
                  </a:lnTo>
                  <a:lnTo>
                    <a:pt x="341" y="170"/>
                  </a:lnTo>
                  <a:lnTo>
                    <a:pt x="350" y="168"/>
                  </a:lnTo>
                  <a:lnTo>
                    <a:pt x="357" y="164"/>
                  </a:lnTo>
                  <a:lnTo>
                    <a:pt x="359" y="110"/>
                  </a:lnTo>
                  <a:lnTo>
                    <a:pt x="366" y="92"/>
                  </a:lnTo>
                  <a:lnTo>
                    <a:pt x="405" y="54"/>
                  </a:lnTo>
                  <a:lnTo>
                    <a:pt x="423" y="22"/>
                  </a:lnTo>
                  <a:lnTo>
                    <a:pt x="437" y="12"/>
                  </a:lnTo>
                  <a:lnTo>
                    <a:pt x="463" y="0"/>
                  </a:lnTo>
                  <a:lnTo>
                    <a:pt x="472" y="2"/>
                  </a:lnTo>
                  <a:lnTo>
                    <a:pt x="474" y="2"/>
                  </a:lnTo>
                  <a:close/>
                </a:path>
              </a:pathLst>
            </a:custGeom>
            <a:solidFill>
              <a:srgbClr val="3c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00960" y="2151360"/>
              <a:ext cx="70200" cy="357120"/>
            </a:xfrm>
            <a:custGeom>
              <a:avLst/>
              <a:gdLst/>
              <a:ahLst/>
              <a:rect l="l" t="t" r="r" b="b"/>
              <a:pathLst>
                <a:path w="54" h="330">
                  <a:moveTo>
                    <a:pt x="54" y="168"/>
                  </a:moveTo>
                  <a:lnTo>
                    <a:pt x="45" y="265"/>
                  </a:lnTo>
                  <a:lnTo>
                    <a:pt x="47" y="329"/>
                  </a:lnTo>
                  <a:lnTo>
                    <a:pt x="18" y="329"/>
                  </a:lnTo>
                  <a:lnTo>
                    <a:pt x="16" y="330"/>
                  </a:lnTo>
                  <a:lnTo>
                    <a:pt x="9" y="326"/>
                  </a:lnTo>
                  <a:lnTo>
                    <a:pt x="7" y="304"/>
                  </a:lnTo>
                  <a:lnTo>
                    <a:pt x="3" y="209"/>
                  </a:lnTo>
                  <a:lnTo>
                    <a:pt x="0" y="164"/>
                  </a:lnTo>
                  <a:lnTo>
                    <a:pt x="0" y="31"/>
                  </a:lnTo>
                  <a:lnTo>
                    <a:pt x="3" y="9"/>
                  </a:lnTo>
                  <a:lnTo>
                    <a:pt x="7" y="0"/>
                  </a:lnTo>
                  <a:lnTo>
                    <a:pt x="51" y="1"/>
                  </a:lnTo>
                  <a:lnTo>
                    <a:pt x="54" y="168"/>
                  </a:lnTo>
                  <a:close/>
                </a:path>
              </a:pathLst>
            </a:custGeom>
            <a:solidFill>
              <a:srgbClr val="857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9960" y="2156760"/>
              <a:ext cx="58680" cy="87480"/>
            </a:xfrm>
            <a:custGeom>
              <a:avLst/>
              <a:gdLst/>
              <a:ahLst/>
              <a:rect l="l" t="t" r="r" b="b"/>
              <a:pathLst>
                <a:path w="45" h="81">
                  <a:moveTo>
                    <a:pt x="0" y="74"/>
                  </a:moveTo>
                  <a:lnTo>
                    <a:pt x="9" y="14"/>
                  </a:lnTo>
                  <a:lnTo>
                    <a:pt x="45" y="0"/>
                  </a:lnTo>
                  <a:lnTo>
                    <a:pt x="42" y="81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624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97840" y="2232720"/>
              <a:ext cx="60120" cy="5688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44" y="35"/>
                  </a:moveTo>
                  <a:lnTo>
                    <a:pt x="35" y="45"/>
                  </a:lnTo>
                  <a:lnTo>
                    <a:pt x="17" y="51"/>
                  </a:lnTo>
                  <a:lnTo>
                    <a:pt x="15" y="53"/>
                  </a:lnTo>
                  <a:lnTo>
                    <a:pt x="4" y="48"/>
                  </a:lnTo>
                  <a:lnTo>
                    <a:pt x="0" y="24"/>
                  </a:lnTo>
                  <a:lnTo>
                    <a:pt x="42" y="0"/>
                  </a:lnTo>
                  <a:lnTo>
                    <a:pt x="46" y="35"/>
                  </a:lnTo>
                  <a:lnTo>
                    <a:pt x="44" y="35"/>
                  </a:lnTo>
                  <a:close/>
                </a:path>
              </a:pathLst>
            </a:custGeom>
            <a:solidFill>
              <a:srgbClr val="624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78840" y="2233800"/>
              <a:ext cx="195840" cy="56160"/>
            </a:xfrm>
            <a:custGeom>
              <a:avLst/>
              <a:gdLst/>
              <a:ahLst/>
              <a:rect l="l" t="t" r="r" b="b"/>
              <a:pathLst>
                <a:path w="150" h="52">
                  <a:moveTo>
                    <a:pt x="93" y="10"/>
                  </a:moveTo>
                  <a:lnTo>
                    <a:pt x="142" y="18"/>
                  </a:lnTo>
                  <a:lnTo>
                    <a:pt x="150" y="25"/>
                  </a:lnTo>
                  <a:lnTo>
                    <a:pt x="144" y="45"/>
                  </a:lnTo>
                  <a:lnTo>
                    <a:pt x="144" y="52"/>
                  </a:lnTo>
                  <a:lnTo>
                    <a:pt x="139" y="50"/>
                  </a:lnTo>
                  <a:lnTo>
                    <a:pt x="128" y="50"/>
                  </a:lnTo>
                  <a:lnTo>
                    <a:pt x="128" y="49"/>
                  </a:lnTo>
                  <a:lnTo>
                    <a:pt x="119" y="45"/>
                  </a:lnTo>
                  <a:lnTo>
                    <a:pt x="93" y="44"/>
                  </a:lnTo>
                  <a:lnTo>
                    <a:pt x="64" y="39"/>
                  </a:lnTo>
                  <a:lnTo>
                    <a:pt x="37" y="39"/>
                  </a:lnTo>
                  <a:lnTo>
                    <a:pt x="17" y="35"/>
                  </a:lnTo>
                  <a:lnTo>
                    <a:pt x="11" y="35"/>
                  </a:lnTo>
                  <a:lnTo>
                    <a:pt x="0" y="23"/>
                  </a:lnTo>
                  <a:lnTo>
                    <a:pt x="2" y="0"/>
                  </a:lnTo>
                  <a:lnTo>
                    <a:pt x="44" y="4"/>
                  </a:lnTo>
                  <a:lnTo>
                    <a:pt x="93" y="10"/>
                  </a:lnTo>
                  <a:close/>
                </a:path>
              </a:pathLst>
            </a:custGeom>
            <a:solidFill>
              <a:srgbClr val="857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97440" y="2273760"/>
              <a:ext cx="181440" cy="60480"/>
            </a:xfrm>
            <a:custGeom>
              <a:avLst/>
              <a:gdLst/>
              <a:ahLst/>
              <a:rect l="l" t="t" r="r" b="b"/>
              <a:pathLst>
                <a:path w="139" h="56">
                  <a:moveTo>
                    <a:pt x="73" y="17"/>
                  </a:moveTo>
                  <a:lnTo>
                    <a:pt x="102" y="20"/>
                  </a:lnTo>
                  <a:lnTo>
                    <a:pt x="121" y="28"/>
                  </a:lnTo>
                  <a:lnTo>
                    <a:pt x="139" y="32"/>
                  </a:lnTo>
                  <a:lnTo>
                    <a:pt x="139" y="56"/>
                  </a:lnTo>
                  <a:lnTo>
                    <a:pt x="95" y="50"/>
                  </a:lnTo>
                  <a:lnTo>
                    <a:pt x="62" y="48"/>
                  </a:lnTo>
                  <a:lnTo>
                    <a:pt x="13" y="35"/>
                  </a:lnTo>
                  <a:lnTo>
                    <a:pt x="0" y="35"/>
                  </a:lnTo>
                  <a:lnTo>
                    <a:pt x="0" y="0"/>
                  </a:lnTo>
                  <a:lnTo>
                    <a:pt x="44" y="12"/>
                  </a:lnTo>
                  <a:lnTo>
                    <a:pt x="73" y="17"/>
                  </a:lnTo>
                  <a:close/>
                </a:path>
              </a:pathLst>
            </a:custGeom>
            <a:solidFill>
              <a:srgbClr val="857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38520" y="2281320"/>
              <a:ext cx="225720" cy="37800"/>
            </a:xfrm>
            <a:custGeom>
              <a:avLst/>
              <a:gdLst/>
              <a:ahLst/>
              <a:rect l="l" t="t" r="r" b="b"/>
              <a:pathLst>
                <a:path w="173" h="35">
                  <a:moveTo>
                    <a:pt x="110" y="6"/>
                  </a:moveTo>
                  <a:lnTo>
                    <a:pt x="173" y="18"/>
                  </a:lnTo>
                  <a:lnTo>
                    <a:pt x="139" y="35"/>
                  </a:lnTo>
                  <a:lnTo>
                    <a:pt x="119" y="33"/>
                  </a:lnTo>
                  <a:lnTo>
                    <a:pt x="119" y="31"/>
                  </a:lnTo>
                  <a:lnTo>
                    <a:pt x="55" y="21"/>
                  </a:lnTo>
                  <a:lnTo>
                    <a:pt x="31" y="21"/>
                  </a:lnTo>
                  <a:lnTo>
                    <a:pt x="0" y="15"/>
                  </a:lnTo>
                  <a:lnTo>
                    <a:pt x="24" y="0"/>
                  </a:lnTo>
                  <a:lnTo>
                    <a:pt x="55" y="1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624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1880" y="2298960"/>
              <a:ext cx="1019520" cy="765360"/>
            </a:xfrm>
            <a:custGeom>
              <a:avLst/>
              <a:gdLst/>
              <a:ahLst/>
              <a:rect l="l" t="t" r="r" b="b"/>
              <a:pathLst>
                <a:path w="780" h="707">
                  <a:moveTo>
                    <a:pt x="416" y="20"/>
                  </a:moveTo>
                  <a:lnTo>
                    <a:pt x="408" y="32"/>
                  </a:lnTo>
                  <a:lnTo>
                    <a:pt x="425" y="40"/>
                  </a:lnTo>
                  <a:lnTo>
                    <a:pt x="461" y="42"/>
                  </a:lnTo>
                  <a:lnTo>
                    <a:pt x="461" y="52"/>
                  </a:lnTo>
                  <a:lnTo>
                    <a:pt x="454" y="65"/>
                  </a:lnTo>
                  <a:lnTo>
                    <a:pt x="459" y="75"/>
                  </a:lnTo>
                  <a:lnTo>
                    <a:pt x="470" y="78"/>
                  </a:lnTo>
                  <a:lnTo>
                    <a:pt x="527" y="70"/>
                  </a:lnTo>
                  <a:lnTo>
                    <a:pt x="538" y="77"/>
                  </a:lnTo>
                  <a:lnTo>
                    <a:pt x="541" y="126"/>
                  </a:lnTo>
                  <a:lnTo>
                    <a:pt x="543" y="134"/>
                  </a:lnTo>
                  <a:lnTo>
                    <a:pt x="569" y="152"/>
                  </a:lnTo>
                  <a:lnTo>
                    <a:pt x="543" y="160"/>
                  </a:lnTo>
                  <a:lnTo>
                    <a:pt x="543" y="173"/>
                  </a:lnTo>
                  <a:lnTo>
                    <a:pt x="554" y="187"/>
                  </a:lnTo>
                  <a:lnTo>
                    <a:pt x="560" y="189"/>
                  </a:lnTo>
                  <a:lnTo>
                    <a:pt x="534" y="199"/>
                  </a:lnTo>
                  <a:lnTo>
                    <a:pt x="501" y="204"/>
                  </a:lnTo>
                  <a:lnTo>
                    <a:pt x="470" y="223"/>
                  </a:lnTo>
                  <a:lnTo>
                    <a:pt x="459" y="236"/>
                  </a:lnTo>
                  <a:lnTo>
                    <a:pt x="461" y="248"/>
                  </a:lnTo>
                  <a:lnTo>
                    <a:pt x="501" y="264"/>
                  </a:lnTo>
                  <a:lnTo>
                    <a:pt x="512" y="264"/>
                  </a:lnTo>
                  <a:lnTo>
                    <a:pt x="490" y="287"/>
                  </a:lnTo>
                  <a:lnTo>
                    <a:pt x="478" y="294"/>
                  </a:lnTo>
                  <a:lnTo>
                    <a:pt x="478" y="307"/>
                  </a:lnTo>
                  <a:lnTo>
                    <a:pt x="492" y="314"/>
                  </a:lnTo>
                  <a:lnTo>
                    <a:pt x="541" y="317"/>
                  </a:lnTo>
                  <a:lnTo>
                    <a:pt x="580" y="314"/>
                  </a:lnTo>
                  <a:lnTo>
                    <a:pt x="607" y="305"/>
                  </a:lnTo>
                  <a:lnTo>
                    <a:pt x="623" y="290"/>
                  </a:lnTo>
                  <a:lnTo>
                    <a:pt x="629" y="279"/>
                  </a:lnTo>
                  <a:lnTo>
                    <a:pt x="620" y="260"/>
                  </a:lnTo>
                  <a:lnTo>
                    <a:pt x="605" y="254"/>
                  </a:lnTo>
                  <a:lnTo>
                    <a:pt x="596" y="249"/>
                  </a:lnTo>
                  <a:lnTo>
                    <a:pt x="603" y="234"/>
                  </a:lnTo>
                  <a:lnTo>
                    <a:pt x="629" y="224"/>
                  </a:lnTo>
                  <a:lnTo>
                    <a:pt x="629" y="214"/>
                  </a:lnTo>
                  <a:lnTo>
                    <a:pt x="620" y="195"/>
                  </a:lnTo>
                  <a:lnTo>
                    <a:pt x="629" y="190"/>
                  </a:lnTo>
                  <a:lnTo>
                    <a:pt x="629" y="193"/>
                  </a:lnTo>
                  <a:lnTo>
                    <a:pt x="631" y="194"/>
                  </a:lnTo>
                  <a:lnTo>
                    <a:pt x="638" y="189"/>
                  </a:lnTo>
                  <a:lnTo>
                    <a:pt x="656" y="189"/>
                  </a:lnTo>
                  <a:lnTo>
                    <a:pt x="667" y="201"/>
                  </a:lnTo>
                  <a:lnTo>
                    <a:pt x="676" y="236"/>
                  </a:lnTo>
                  <a:lnTo>
                    <a:pt x="685" y="245"/>
                  </a:lnTo>
                  <a:lnTo>
                    <a:pt x="700" y="251"/>
                  </a:lnTo>
                  <a:lnTo>
                    <a:pt x="738" y="253"/>
                  </a:lnTo>
                  <a:lnTo>
                    <a:pt x="738" y="264"/>
                  </a:lnTo>
                  <a:lnTo>
                    <a:pt x="731" y="274"/>
                  </a:lnTo>
                  <a:lnTo>
                    <a:pt x="740" y="282"/>
                  </a:lnTo>
                  <a:lnTo>
                    <a:pt x="758" y="286"/>
                  </a:lnTo>
                  <a:lnTo>
                    <a:pt x="767" y="286"/>
                  </a:lnTo>
                  <a:lnTo>
                    <a:pt x="767" y="302"/>
                  </a:lnTo>
                  <a:lnTo>
                    <a:pt x="753" y="321"/>
                  </a:lnTo>
                  <a:lnTo>
                    <a:pt x="756" y="325"/>
                  </a:lnTo>
                  <a:lnTo>
                    <a:pt x="780" y="333"/>
                  </a:lnTo>
                  <a:lnTo>
                    <a:pt x="780" y="343"/>
                  </a:lnTo>
                  <a:lnTo>
                    <a:pt x="756" y="368"/>
                  </a:lnTo>
                  <a:lnTo>
                    <a:pt x="569" y="432"/>
                  </a:lnTo>
                  <a:lnTo>
                    <a:pt x="439" y="474"/>
                  </a:lnTo>
                  <a:lnTo>
                    <a:pt x="376" y="499"/>
                  </a:lnTo>
                  <a:lnTo>
                    <a:pt x="376" y="506"/>
                  </a:lnTo>
                  <a:lnTo>
                    <a:pt x="381" y="508"/>
                  </a:lnTo>
                  <a:lnTo>
                    <a:pt x="388" y="508"/>
                  </a:lnTo>
                  <a:lnTo>
                    <a:pt x="370" y="523"/>
                  </a:lnTo>
                  <a:lnTo>
                    <a:pt x="365" y="533"/>
                  </a:lnTo>
                  <a:lnTo>
                    <a:pt x="365" y="538"/>
                  </a:lnTo>
                  <a:lnTo>
                    <a:pt x="381" y="546"/>
                  </a:lnTo>
                  <a:lnTo>
                    <a:pt x="434" y="548"/>
                  </a:lnTo>
                  <a:lnTo>
                    <a:pt x="445" y="549"/>
                  </a:lnTo>
                  <a:lnTo>
                    <a:pt x="445" y="575"/>
                  </a:lnTo>
                  <a:lnTo>
                    <a:pt x="439" y="584"/>
                  </a:lnTo>
                  <a:lnTo>
                    <a:pt x="439" y="594"/>
                  </a:lnTo>
                  <a:lnTo>
                    <a:pt x="452" y="597"/>
                  </a:lnTo>
                  <a:lnTo>
                    <a:pt x="474" y="597"/>
                  </a:lnTo>
                  <a:lnTo>
                    <a:pt x="481" y="594"/>
                  </a:lnTo>
                  <a:lnTo>
                    <a:pt x="490" y="594"/>
                  </a:lnTo>
                  <a:lnTo>
                    <a:pt x="492" y="673"/>
                  </a:lnTo>
                  <a:lnTo>
                    <a:pt x="498" y="694"/>
                  </a:lnTo>
                  <a:lnTo>
                    <a:pt x="496" y="702"/>
                  </a:lnTo>
                  <a:lnTo>
                    <a:pt x="496" y="707"/>
                  </a:lnTo>
                  <a:lnTo>
                    <a:pt x="474" y="703"/>
                  </a:lnTo>
                  <a:lnTo>
                    <a:pt x="443" y="689"/>
                  </a:lnTo>
                  <a:lnTo>
                    <a:pt x="425" y="687"/>
                  </a:lnTo>
                  <a:lnTo>
                    <a:pt x="388" y="668"/>
                  </a:lnTo>
                  <a:lnTo>
                    <a:pt x="370" y="663"/>
                  </a:lnTo>
                  <a:lnTo>
                    <a:pt x="354" y="667"/>
                  </a:lnTo>
                  <a:lnTo>
                    <a:pt x="343" y="677"/>
                  </a:lnTo>
                  <a:lnTo>
                    <a:pt x="328" y="674"/>
                  </a:lnTo>
                  <a:lnTo>
                    <a:pt x="321" y="658"/>
                  </a:lnTo>
                  <a:lnTo>
                    <a:pt x="312" y="636"/>
                  </a:lnTo>
                  <a:lnTo>
                    <a:pt x="292" y="621"/>
                  </a:lnTo>
                  <a:lnTo>
                    <a:pt x="275" y="616"/>
                  </a:lnTo>
                  <a:lnTo>
                    <a:pt x="219" y="590"/>
                  </a:lnTo>
                  <a:lnTo>
                    <a:pt x="168" y="562"/>
                  </a:lnTo>
                  <a:lnTo>
                    <a:pt x="108" y="524"/>
                  </a:lnTo>
                  <a:lnTo>
                    <a:pt x="88" y="501"/>
                  </a:lnTo>
                  <a:lnTo>
                    <a:pt x="42" y="473"/>
                  </a:lnTo>
                  <a:lnTo>
                    <a:pt x="33" y="468"/>
                  </a:lnTo>
                  <a:lnTo>
                    <a:pt x="0" y="427"/>
                  </a:lnTo>
                  <a:lnTo>
                    <a:pt x="2" y="407"/>
                  </a:lnTo>
                  <a:lnTo>
                    <a:pt x="33" y="403"/>
                  </a:lnTo>
                  <a:lnTo>
                    <a:pt x="42" y="399"/>
                  </a:lnTo>
                  <a:lnTo>
                    <a:pt x="59" y="384"/>
                  </a:lnTo>
                  <a:lnTo>
                    <a:pt x="59" y="363"/>
                  </a:lnTo>
                  <a:lnTo>
                    <a:pt x="51" y="352"/>
                  </a:lnTo>
                  <a:lnTo>
                    <a:pt x="51" y="332"/>
                  </a:lnTo>
                  <a:lnTo>
                    <a:pt x="53" y="307"/>
                  </a:lnTo>
                  <a:lnTo>
                    <a:pt x="71" y="307"/>
                  </a:lnTo>
                  <a:lnTo>
                    <a:pt x="77" y="312"/>
                  </a:lnTo>
                  <a:lnTo>
                    <a:pt x="73" y="317"/>
                  </a:lnTo>
                  <a:lnTo>
                    <a:pt x="82" y="322"/>
                  </a:lnTo>
                  <a:lnTo>
                    <a:pt x="99" y="310"/>
                  </a:lnTo>
                  <a:lnTo>
                    <a:pt x="117" y="314"/>
                  </a:lnTo>
                  <a:lnTo>
                    <a:pt x="130" y="330"/>
                  </a:lnTo>
                  <a:lnTo>
                    <a:pt x="141" y="337"/>
                  </a:lnTo>
                  <a:lnTo>
                    <a:pt x="144" y="337"/>
                  </a:lnTo>
                  <a:lnTo>
                    <a:pt x="150" y="333"/>
                  </a:lnTo>
                  <a:lnTo>
                    <a:pt x="166" y="333"/>
                  </a:lnTo>
                  <a:lnTo>
                    <a:pt x="188" y="317"/>
                  </a:lnTo>
                  <a:lnTo>
                    <a:pt x="188" y="302"/>
                  </a:lnTo>
                  <a:lnTo>
                    <a:pt x="177" y="286"/>
                  </a:lnTo>
                  <a:lnTo>
                    <a:pt x="159" y="272"/>
                  </a:lnTo>
                  <a:lnTo>
                    <a:pt x="153" y="265"/>
                  </a:lnTo>
                  <a:lnTo>
                    <a:pt x="153" y="248"/>
                  </a:lnTo>
                  <a:lnTo>
                    <a:pt x="161" y="244"/>
                  </a:lnTo>
                  <a:lnTo>
                    <a:pt x="175" y="251"/>
                  </a:lnTo>
                  <a:lnTo>
                    <a:pt x="179" y="251"/>
                  </a:lnTo>
                  <a:lnTo>
                    <a:pt x="186" y="248"/>
                  </a:lnTo>
                  <a:lnTo>
                    <a:pt x="168" y="225"/>
                  </a:lnTo>
                  <a:lnTo>
                    <a:pt x="161" y="204"/>
                  </a:lnTo>
                  <a:lnTo>
                    <a:pt x="153" y="190"/>
                  </a:lnTo>
                  <a:lnTo>
                    <a:pt x="139" y="183"/>
                  </a:lnTo>
                  <a:lnTo>
                    <a:pt x="141" y="167"/>
                  </a:lnTo>
                  <a:lnTo>
                    <a:pt x="179" y="147"/>
                  </a:lnTo>
                  <a:lnTo>
                    <a:pt x="197" y="143"/>
                  </a:lnTo>
                  <a:lnTo>
                    <a:pt x="215" y="144"/>
                  </a:lnTo>
                  <a:lnTo>
                    <a:pt x="237" y="133"/>
                  </a:lnTo>
                  <a:lnTo>
                    <a:pt x="241" y="108"/>
                  </a:lnTo>
                  <a:lnTo>
                    <a:pt x="246" y="70"/>
                  </a:lnTo>
                  <a:lnTo>
                    <a:pt x="286" y="52"/>
                  </a:lnTo>
                  <a:lnTo>
                    <a:pt x="308" y="50"/>
                  </a:lnTo>
                  <a:lnTo>
                    <a:pt x="308" y="70"/>
                  </a:lnTo>
                  <a:lnTo>
                    <a:pt x="325" y="77"/>
                  </a:lnTo>
                  <a:lnTo>
                    <a:pt x="339" y="75"/>
                  </a:lnTo>
                  <a:lnTo>
                    <a:pt x="376" y="50"/>
                  </a:lnTo>
                  <a:lnTo>
                    <a:pt x="388" y="28"/>
                  </a:lnTo>
                  <a:lnTo>
                    <a:pt x="390" y="9"/>
                  </a:lnTo>
                  <a:lnTo>
                    <a:pt x="410" y="0"/>
                  </a:lnTo>
                  <a:lnTo>
                    <a:pt x="423" y="2"/>
                  </a:lnTo>
                  <a:lnTo>
                    <a:pt x="416" y="20"/>
                  </a:lnTo>
                  <a:close/>
                </a:path>
              </a:pathLst>
            </a:custGeom>
            <a:solidFill>
              <a:srgbClr val="3c79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28960" y="2315160"/>
              <a:ext cx="66600" cy="226440"/>
            </a:xfrm>
            <a:custGeom>
              <a:avLst/>
              <a:gdLst/>
              <a:ahLst/>
              <a:rect l="l" t="t" r="r" b="b"/>
              <a:pathLst>
                <a:path w="51" h="209">
                  <a:moveTo>
                    <a:pt x="38" y="60"/>
                  </a:moveTo>
                  <a:lnTo>
                    <a:pt x="44" y="189"/>
                  </a:lnTo>
                  <a:lnTo>
                    <a:pt x="51" y="193"/>
                  </a:lnTo>
                  <a:lnTo>
                    <a:pt x="51" y="195"/>
                  </a:lnTo>
                  <a:lnTo>
                    <a:pt x="47" y="194"/>
                  </a:lnTo>
                  <a:lnTo>
                    <a:pt x="13" y="209"/>
                  </a:lnTo>
                  <a:lnTo>
                    <a:pt x="9" y="195"/>
                  </a:lnTo>
                  <a:lnTo>
                    <a:pt x="4" y="82"/>
                  </a:lnTo>
                  <a:lnTo>
                    <a:pt x="0" y="69"/>
                  </a:lnTo>
                  <a:lnTo>
                    <a:pt x="4" y="17"/>
                  </a:lnTo>
                  <a:lnTo>
                    <a:pt x="4" y="12"/>
                  </a:lnTo>
                  <a:lnTo>
                    <a:pt x="29" y="0"/>
                  </a:lnTo>
                  <a:lnTo>
                    <a:pt x="35" y="2"/>
                  </a:lnTo>
                  <a:lnTo>
                    <a:pt x="38" y="60"/>
                  </a:lnTo>
                  <a:close/>
                </a:path>
              </a:pathLst>
            </a:custGeom>
            <a:solidFill>
              <a:srgbClr val="624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3840" y="2322720"/>
              <a:ext cx="173520" cy="37800"/>
            </a:xfrm>
            <a:custGeom>
              <a:avLst/>
              <a:gdLst/>
              <a:ahLst/>
              <a:rect l="l" t="t" r="r" b="b"/>
              <a:pathLst>
                <a:path w="133" h="35">
                  <a:moveTo>
                    <a:pt x="91" y="16"/>
                  </a:moveTo>
                  <a:lnTo>
                    <a:pt x="118" y="18"/>
                  </a:lnTo>
                  <a:lnTo>
                    <a:pt x="127" y="21"/>
                  </a:lnTo>
                  <a:lnTo>
                    <a:pt x="131" y="23"/>
                  </a:lnTo>
                  <a:lnTo>
                    <a:pt x="133" y="23"/>
                  </a:lnTo>
                  <a:lnTo>
                    <a:pt x="109" y="35"/>
                  </a:lnTo>
                  <a:lnTo>
                    <a:pt x="91" y="31"/>
                  </a:lnTo>
                  <a:lnTo>
                    <a:pt x="69" y="25"/>
                  </a:lnTo>
                  <a:lnTo>
                    <a:pt x="29" y="20"/>
                  </a:lnTo>
                  <a:lnTo>
                    <a:pt x="3" y="11"/>
                  </a:lnTo>
                  <a:lnTo>
                    <a:pt x="0" y="0"/>
                  </a:lnTo>
                  <a:lnTo>
                    <a:pt x="36" y="5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624f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34200" y="2518560"/>
              <a:ext cx="461160" cy="110520"/>
            </a:xfrm>
            <a:custGeom>
              <a:avLst/>
              <a:gdLst/>
              <a:ahLst/>
              <a:rect l="l" t="t" r="r" b="b"/>
              <a:pathLst>
                <a:path w="353" h="102">
                  <a:moveTo>
                    <a:pt x="295" y="22"/>
                  </a:moveTo>
                  <a:lnTo>
                    <a:pt x="322" y="37"/>
                  </a:lnTo>
                  <a:lnTo>
                    <a:pt x="346" y="64"/>
                  </a:lnTo>
                  <a:lnTo>
                    <a:pt x="351" y="64"/>
                  </a:lnTo>
                  <a:lnTo>
                    <a:pt x="353" y="66"/>
                  </a:lnTo>
                  <a:lnTo>
                    <a:pt x="317" y="72"/>
                  </a:lnTo>
                  <a:lnTo>
                    <a:pt x="249" y="72"/>
                  </a:lnTo>
                  <a:lnTo>
                    <a:pt x="247" y="74"/>
                  </a:lnTo>
                  <a:lnTo>
                    <a:pt x="187" y="81"/>
                  </a:lnTo>
                  <a:lnTo>
                    <a:pt x="149" y="81"/>
                  </a:lnTo>
                  <a:lnTo>
                    <a:pt x="122" y="87"/>
                  </a:lnTo>
                  <a:lnTo>
                    <a:pt x="107" y="94"/>
                  </a:lnTo>
                  <a:lnTo>
                    <a:pt x="65" y="91"/>
                  </a:lnTo>
                  <a:lnTo>
                    <a:pt x="45" y="94"/>
                  </a:lnTo>
                  <a:lnTo>
                    <a:pt x="25" y="94"/>
                  </a:lnTo>
                  <a:lnTo>
                    <a:pt x="0" y="102"/>
                  </a:lnTo>
                  <a:lnTo>
                    <a:pt x="31" y="81"/>
                  </a:lnTo>
                  <a:lnTo>
                    <a:pt x="63" y="69"/>
                  </a:lnTo>
                  <a:lnTo>
                    <a:pt x="100" y="61"/>
                  </a:lnTo>
                  <a:lnTo>
                    <a:pt x="120" y="50"/>
                  </a:lnTo>
                  <a:lnTo>
                    <a:pt x="122" y="37"/>
                  </a:lnTo>
                  <a:lnTo>
                    <a:pt x="142" y="33"/>
                  </a:lnTo>
                  <a:lnTo>
                    <a:pt x="162" y="33"/>
                  </a:lnTo>
                  <a:lnTo>
                    <a:pt x="196" y="18"/>
                  </a:lnTo>
                  <a:lnTo>
                    <a:pt x="215" y="11"/>
                  </a:lnTo>
                  <a:lnTo>
                    <a:pt x="222" y="3"/>
                  </a:lnTo>
                  <a:lnTo>
                    <a:pt x="231" y="0"/>
                  </a:lnTo>
                  <a:lnTo>
                    <a:pt x="264" y="3"/>
                  </a:lnTo>
                  <a:lnTo>
                    <a:pt x="295" y="22"/>
                  </a:lnTo>
                  <a:close/>
                </a:path>
              </a:pathLst>
            </a:custGeom>
            <a:solidFill>
              <a:srgbClr val="a18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86040" y="2596680"/>
              <a:ext cx="1471680" cy="248040"/>
            </a:xfrm>
            <a:custGeom>
              <a:avLst/>
              <a:gdLst/>
              <a:ahLst/>
              <a:rect l="l" t="t" r="r" b="b"/>
              <a:pathLst>
                <a:path w="1126" h="229">
                  <a:moveTo>
                    <a:pt x="1102" y="11"/>
                  </a:moveTo>
                  <a:lnTo>
                    <a:pt x="1126" y="29"/>
                  </a:lnTo>
                  <a:lnTo>
                    <a:pt x="1093" y="15"/>
                  </a:lnTo>
                  <a:lnTo>
                    <a:pt x="1075" y="12"/>
                  </a:lnTo>
                  <a:lnTo>
                    <a:pt x="1068" y="9"/>
                  </a:lnTo>
                  <a:lnTo>
                    <a:pt x="1033" y="15"/>
                  </a:lnTo>
                  <a:lnTo>
                    <a:pt x="938" y="46"/>
                  </a:lnTo>
                  <a:lnTo>
                    <a:pt x="907" y="50"/>
                  </a:lnTo>
                  <a:lnTo>
                    <a:pt x="802" y="77"/>
                  </a:lnTo>
                  <a:lnTo>
                    <a:pt x="687" y="112"/>
                  </a:lnTo>
                  <a:lnTo>
                    <a:pt x="685" y="113"/>
                  </a:lnTo>
                  <a:lnTo>
                    <a:pt x="652" y="123"/>
                  </a:lnTo>
                  <a:lnTo>
                    <a:pt x="585" y="149"/>
                  </a:lnTo>
                  <a:lnTo>
                    <a:pt x="587" y="152"/>
                  </a:lnTo>
                  <a:lnTo>
                    <a:pt x="552" y="168"/>
                  </a:lnTo>
                  <a:lnTo>
                    <a:pt x="539" y="182"/>
                  </a:lnTo>
                  <a:lnTo>
                    <a:pt x="496" y="182"/>
                  </a:lnTo>
                  <a:lnTo>
                    <a:pt x="488" y="178"/>
                  </a:lnTo>
                  <a:lnTo>
                    <a:pt x="468" y="173"/>
                  </a:lnTo>
                  <a:lnTo>
                    <a:pt x="432" y="169"/>
                  </a:lnTo>
                  <a:lnTo>
                    <a:pt x="401" y="172"/>
                  </a:lnTo>
                  <a:lnTo>
                    <a:pt x="370" y="184"/>
                  </a:lnTo>
                  <a:lnTo>
                    <a:pt x="357" y="194"/>
                  </a:lnTo>
                  <a:lnTo>
                    <a:pt x="335" y="203"/>
                  </a:lnTo>
                  <a:lnTo>
                    <a:pt x="275" y="189"/>
                  </a:lnTo>
                  <a:lnTo>
                    <a:pt x="250" y="184"/>
                  </a:lnTo>
                  <a:lnTo>
                    <a:pt x="219" y="187"/>
                  </a:lnTo>
                  <a:lnTo>
                    <a:pt x="199" y="189"/>
                  </a:lnTo>
                  <a:lnTo>
                    <a:pt x="144" y="224"/>
                  </a:lnTo>
                  <a:lnTo>
                    <a:pt x="124" y="229"/>
                  </a:lnTo>
                  <a:lnTo>
                    <a:pt x="91" y="228"/>
                  </a:lnTo>
                  <a:lnTo>
                    <a:pt x="71" y="221"/>
                  </a:lnTo>
                  <a:lnTo>
                    <a:pt x="49" y="219"/>
                  </a:lnTo>
                  <a:lnTo>
                    <a:pt x="24" y="219"/>
                  </a:lnTo>
                  <a:lnTo>
                    <a:pt x="0" y="229"/>
                  </a:lnTo>
                  <a:lnTo>
                    <a:pt x="51" y="207"/>
                  </a:lnTo>
                  <a:lnTo>
                    <a:pt x="89" y="192"/>
                  </a:lnTo>
                  <a:lnTo>
                    <a:pt x="106" y="188"/>
                  </a:lnTo>
                  <a:lnTo>
                    <a:pt x="153" y="169"/>
                  </a:lnTo>
                  <a:lnTo>
                    <a:pt x="222" y="149"/>
                  </a:lnTo>
                  <a:lnTo>
                    <a:pt x="246" y="139"/>
                  </a:lnTo>
                  <a:lnTo>
                    <a:pt x="328" y="113"/>
                  </a:lnTo>
                  <a:lnTo>
                    <a:pt x="459" y="73"/>
                  </a:lnTo>
                  <a:lnTo>
                    <a:pt x="503" y="65"/>
                  </a:lnTo>
                  <a:lnTo>
                    <a:pt x="547" y="53"/>
                  </a:lnTo>
                  <a:lnTo>
                    <a:pt x="594" y="53"/>
                  </a:lnTo>
                  <a:lnTo>
                    <a:pt x="680" y="34"/>
                  </a:lnTo>
                  <a:lnTo>
                    <a:pt x="712" y="32"/>
                  </a:lnTo>
                  <a:lnTo>
                    <a:pt x="754" y="32"/>
                  </a:lnTo>
                  <a:lnTo>
                    <a:pt x="756" y="34"/>
                  </a:lnTo>
                  <a:lnTo>
                    <a:pt x="769" y="29"/>
                  </a:lnTo>
                  <a:lnTo>
                    <a:pt x="798" y="20"/>
                  </a:lnTo>
                  <a:lnTo>
                    <a:pt x="811" y="20"/>
                  </a:lnTo>
                  <a:lnTo>
                    <a:pt x="818" y="17"/>
                  </a:lnTo>
                  <a:lnTo>
                    <a:pt x="860" y="17"/>
                  </a:lnTo>
                  <a:lnTo>
                    <a:pt x="913" y="11"/>
                  </a:lnTo>
                  <a:lnTo>
                    <a:pt x="978" y="9"/>
                  </a:lnTo>
                  <a:lnTo>
                    <a:pt x="995" y="5"/>
                  </a:lnTo>
                  <a:lnTo>
                    <a:pt x="1042" y="0"/>
                  </a:lnTo>
                  <a:lnTo>
                    <a:pt x="1068" y="2"/>
                  </a:lnTo>
                  <a:lnTo>
                    <a:pt x="1102" y="11"/>
                  </a:lnTo>
                  <a:close/>
                </a:path>
              </a:pathLst>
            </a:custGeom>
            <a:solidFill>
              <a:srgbClr val="9e7d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00360" y="2620440"/>
              <a:ext cx="683280" cy="152640"/>
            </a:xfrm>
            <a:custGeom>
              <a:avLst/>
              <a:gdLst/>
              <a:ahLst/>
              <a:rect l="l" t="t" r="r" b="b"/>
              <a:pathLst>
                <a:path w="523" h="141">
                  <a:moveTo>
                    <a:pt x="488" y="13"/>
                  </a:moveTo>
                  <a:lnTo>
                    <a:pt x="514" y="35"/>
                  </a:lnTo>
                  <a:lnTo>
                    <a:pt x="514" y="40"/>
                  </a:lnTo>
                  <a:lnTo>
                    <a:pt x="523" y="45"/>
                  </a:lnTo>
                  <a:lnTo>
                    <a:pt x="523" y="46"/>
                  </a:lnTo>
                  <a:lnTo>
                    <a:pt x="508" y="36"/>
                  </a:lnTo>
                  <a:lnTo>
                    <a:pt x="512" y="35"/>
                  </a:lnTo>
                  <a:lnTo>
                    <a:pt x="494" y="28"/>
                  </a:lnTo>
                  <a:lnTo>
                    <a:pt x="490" y="30"/>
                  </a:lnTo>
                  <a:lnTo>
                    <a:pt x="470" y="21"/>
                  </a:lnTo>
                  <a:lnTo>
                    <a:pt x="330" y="55"/>
                  </a:lnTo>
                  <a:lnTo>
                    <a:pt x="261" y="76"/>
                  </a:lnTo>
                  <a:lnTo>
                    <a:pt x="210" y="90"/>
                  </a:lnTo>
                  <a:lnTo>
                    <a:pt x="104" y="121"/>
                  </a:lnTo>
                  <a:lnTo>
                    <a:pt x="104" y="122"/>
                  </a:lnTo>
                  <a:lnTo>
                    <a:pt x="75" y="131"/>
                  </a:lnTo>
                  <a:lnTo>
                    <a:pt x="40" y="141"/>
                  </a:lnTo>
                  <a:lnTo>
                    <a:pt x="33" y="140"/>
                  </a:lnTo>
                  <a:lnTo>
                    <a:pt x="0" y="125"/>
                  </a:lnTo>
                  <a:lnTo>
                    <a:pt x="57" y="105"/>
                  </a:lnTo>
                  <a:lnTo>
                    <a:pt x="202" y="60"/>
                  </a:lnTo>
                  <a:lnTo>
                    <a:pt x="204" y="58"/>
                  </a:lnTo>
                  <a:lnTo>
                    <a:pt x="230" y="53"/>
                  </a:lnTo>
                  <a:lnTo>
                    <a:pt x="337" y="26"/>
                  </a:lnTo>
                  <a:lnTo>
                    <a:pt x="428" y="0"/>
                  </a:lnTo>
                  <a:lnTo>
                    <a:pt x="463" y="5"/>
                  </a:lnTo>
                  <a:lnTo>
                    <a:pt x="488" y="13"/>
                  </a:lnTo>
                  <a:close/>
                </a:path>
              </a:pathLst>
            </a:custGeom>
            <a:solidFill>
              <a:srgbClr val="9e7d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93280" y="2656080"/>
              <a:ext cx="419400" cy="127440"/>
            </a:xfrm>
            <a:custGeom>
              <a:avLst/>
              <a:gdLst/>
              <a:ahLst/>
              <a:rect l="l" t="t" r="r" b="b"/>
              <a:pathLst>
                <a:path w="321" h="118">
                  <a:moveTo>
                    <a:pt x="275" y="18"/>
                  </a:moveTo>
                  <a:lnTo>
                    <a:pt x="84" y="83"/>
                  </a:lnTo>
                  <a:lnTo>
                    <a:pt x="49" y="97"/>
                  </a:lnTo>
                  <a:lnTo>
                    <a:pt x="11" y="117"/>
                  </a:lnTo>
                  <a:lnTo>
                    <a:pt x="9" y="117"/>
                  </a:lnTo>
                  <a:lnTo>
                    <a:pt x="4" y="118"/>
                  </a:lnTo>
                  <a:lnTo>
                    <a:pt x="0" y="113"/>
                  </a:lnTo>
                  <a:lnTo>
                    <a:pt x="62" y="87"/>
                  </a:lnTo>
                  <a:lnTo>
                    <a:pt x="233" y="28"/>
                  </a:lnTo>
                  <a:lnTo>
                    <a:pt x="235" y="30"/>
                  </a:lnTo>
                  <a:lnTo>
                    <a:pt x="248" y="23"/>
                  </a:lnTo>
                  <a:lnTo>
                    <a:pt x="261" y="20"/>
                  </a:lnTo>
                  <a:lnTo>
                    <a:pt x="275" y="13"/>
                  </a:lnTo>
                  <a:lnTo>
                    <a:pt x="277" y="13"/>
                  </a:lnTo>
                  <a:lnTo>
                    <a:pt x="279" y="15"/>
                  </a:lnTo>
                  <a:lnTo>
                    <a:pt x="297" y="7"/>
                  </a:lnTo>
                  <a:lnTo>
                    <a:pt x="315" y="0"/>
                  </a:lnTo>
                  <a:lnTo>
                    <a:pt x="321" y="0"/>
                  </a:lnTo>
                  <a:lnTo>
                    <a:pt x="27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69120" y="2659320"/>
              <a:ext cx="1436040" cy="221760"/>
            </a:xfrm>
            <a:custGeom>
              <a:avLst/>
              <a:gdLst/>
              <a:ahLst/>
              <a:rect l="l" t="t" r="r" b="b"/>
              <a:pathLst>
                <a:path w="1099" h="205">
                  <a:moveTo>
                    <a:pt x="1097" y="7"/>
                  </a:moveTo>
                  <a:lnTo>
                    <a:pt x="999" y="34"/>
                  </a:lnTo>
                  <a:lnTo>
                    <a:pt x="920" y="55"/>
                  </a:lnTo>
                  <a:lnTo>
                    <a:pt x="873" y="66"/>
                  </a:lnTo>
                  <a:lnTo>
                    <a:pt x="775" y="95"/>
                  </a:lnTo>
                  <a:lnTo>
                    <a:pt x="762" y="100"/>
                  </a:lnTo>
                  <a:lnTo>
                    <a:pt x="687" y="124"/>
                  </a:lnTo>
                  <a:lnTo>
                    <a:pt x="680" y="126"/>
                  </a:lnTo>
                  <a:lnTo>
                    <a:pt x="662" y="126"/>
                  </a:lnTo>
                  <a:lnTo>
                    <a:pt x="645" y="135"/>
                  </a:lnTo>
                  <a:lnTo>
                    <a:pt x="636" y="134"/>
                  </a:lnTo>
                  <a:lnTo>
                    <a:pt x="625" y="139"/>
                  </a:lnTo>
                  <a:lnTo>
                    <a:pt x="591" y="144"/>
                  </a:lnTo>
                  <a:lnTo>
                    <a:pt x="560" y="145"/>
                  </a:lnTo>
                  <a:lnTo>
                    <a:pt x="507" y="150"/>
                  </a:lnTo>
                  <a:lnTo>
                    <a:pt x="463" y="156"/>
                  </a:lnTo>
                  <a:lnTo>
                    <a:pt x="388" y="166"/>
                  </a:lnTo>
                  <a:lnTo>
                    <a:pt x="341" y="175"/>
                  </a:lnTo>
                  <a:lnTo>
                    <a:pt x="314" y="175"/>
                  </a:lnTo>
                  <a:lnTo>
                    <a:pt x="290" y="180"/>
                  </a:lnTo>
                  <a:lnTo>
                    <a:pt x="279" y="180"/>
                  </a:lnTo>
                  <a:lnTo>
                    <a:pt x="208" y="185"/>
                  </a:lnTo>
                  <a:lnTo>
                    <a:pt x="137" y="192"/>
                  </a:lnTo>
                  <a:lnTo>
                    <a:pt x="93" y="196"/>
                  </a:lnTo>
                  <a:lnTo>
                    <a:pt x="57" y="200"/>
                  </a:lnTo>
                  <a:lnTo>
                    <a:pt x="55" y="201"/>
                  </a:lnTo>
                  <a:lnTo>
                    <a:pt x="28" y="203"/>
                  </a:lnTo>
                  <a:lnTo>
                    <a:pt x="0" y="205"/>
                  </a:lnTo>
                  <a:lnTo>
                    <a:pt x="0" y="191"/>
                  </a:lnTo>
                  <a:lnTo>
                    <a:pt x="39" y="173"/>
                  </a:lnTo>
                  <a:lnTo>
                    <a:pt x="77" y="173"/>
                  </a:lnTo>
                  <a:lnTo>
                    <a:pt x="119" y="183"/>
                  </a:lnTo>
                  <a:lnTo>
                    <a:pt x="144" y="183"/>
                  </a:lnTo>
                  <a:lnTo>
                    <a:pt x="179" y="170"/>
                  </a:lnTo>
                  <a:lnTo>
                    <a:pt x="223" y="141"/>
                  </a:lnTo>
                  <a:lnTo>
                    <a:pt x="259" y="139"/>
                  </a:lnTo>
                  <a:lnTo>
                    <a:pt x="290" y="144"/>
                  </a:lnTo>
                  <a:lnTo>
                    <a:pt x="325" y="154"/>
                  </a:lnTo>
                  <a:lnTo>
                    <a:pt x="359" y="154"/>
                  </a:lnTo>
                  <a:lnTo>
                    <a:pt x="379" y="145"/>
                  </a:lnTo>
                  <a:lnTo>
                    <a:pt x="410" y="129"/>
                  </a:lnTo>
                  <a:lnTo>
                    <a:pt x="430" y="124"/>
                  </a:lnTo>
                  <a:lnTo>
                    <a:pt x="463" y="124"/>
                  </a:lnTo>
                  <a:lnTo>
                    <a:pt x="507" y="131"/>
                  </a:lnTo>
                  <a:lnTo>
                    <a:pt x="516" y="136"/>
                  </a:lnTo>
                  <a:lnTo>
                    <a:pt x="554" y="131"/>
                  </a:lnTo>
                  <a:lnTo>
                    <a:pt x="569" y="126"/>
                  </a:lnTo>
                  <a:lnTo>
                    <a:pt x="587" y="111"/>
                  </a:lnTo>
                  <a:lnTo>
                    <a:pt x="627" y="100"/>
                  </a:lnTo>
                  <a:lnTo>
                    <a:pt x="645" y="104"/>
                  </a:lnTo>
                  <a:lnTo>
                    <a:pt x="654" y="115"/>
                  </a:lnTo>
                  <a:lnTo>
                    <a:pt x="660" y="119"/>
                  </a:lnTo>
                  <a:lnTo>
                    <a:pt x="693" y="115"/>
                  </a:lnTo>
                  <a:lnTo>
                    <a:pt x="698" y="115"/>
                  </a:lnTo>
                  <a:lnTo>
                    <a:pt x="711" y="106"/>
                  </a:lnTo>
                  <a:lnTo>
                    <a:pt x="773" y="85"/>
                  </a:lnTo>
                  <a:lnTo>
                    <a:pt x="782" y="85"/>
                  </a:lnTo>
                  <a:lnTo>
                    <a:pt x="787" y="81"/>
                  </a:lnTo>
                  <a:lnTo>
                    <a:pt x="842" y="65"/>
                  </a:lnTo>
                  <a:lnTo>
                    <a:pt x="846" y="64"/>
                  </a:lnTo>
                  <a:lnTo>
                    <a:pt x="893" y="51"/>
                  </a:lnTo>
                  <a:lnTo>
                    <a:pt x="946" y="35"/>
                  </a:lnTo>
                  <a:lnTo>
                    <a:pt x="1079" y="2"/>
                  </a:lnTo>
                  <a:lnTo>
                    <a:pt x="1088" y="0"/>
                  </a:lnTo>
                  <a:lnTo>
                    <a:pt x="1099" y="0"/>
                  </a:lnTo>
                  <a:lnTo>
                    <a:pt x="1097" y="7"/>
                  </a:lnTo>
                  <a:close/>
                </a:path>
              </a:pathLst>
            </a:custGeom>
            <a:solidFill>
              <a:srgbClr val="5f4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28920" y="2661480"/>
              <a:ext cx="732960" cy="512280"/>
            </a:xfrm>
            <a:custGeom>
              <a:avLst/>
              <a:gdLst/>
              <a:ahLst/>
              <a:rect l="l" t="t" r="r" b="b"/>
              <a:pathLst>
                <a:path w="561" h="473">
                  <a:moveTo>
                    <a:pt x="27" y="18"/>
                  </a:moveTo>
                  <a:lnTo>
                    <a:pt x="49" y="18"/>
                  </a:lnTo>
                  <a:lnTo>
                    <a:pt x="58" y="15"/>
                  </a:lnTo>
                  <a:lnTo>
                    <a:pt x="62" y="15"/>
                  </a:lnTo>
                  <a:lnTo>
                    <a:pt x="80" y="28"/>
                  </a:lnTo>
                  <a:lnTo>
                    <a:pt x="106" y="38"/>
                  </a:lnTo>
                  <a:lnTo>
                    <a:pt x="137" y="44"/>
                  </a:lnTo>
                  <a:lnTo>
                    <a:pt x="146" y="67"/>
                  </a:lnTo>
                  <a:lnTo>
                    <a:pt x="148" y="93"/>
                  </a:lnTo>
                  <a:lnTo>
                    <a:pt x="211" y="124"/>
                  </a:lnTo>
                  <a:lnTo>
                    <a:pt x="228" y="144"/>
                  </a:lnTo>
                  <a:lnTo>
                    <a:pt x="237" y="171"/>
                  </a:lnTo>
                  <a:lnTo>
                    <a:pt x="288" y="194"/>
                  </a:lnTo>
                  <a:lnTo>
                    <a:pt x="315" y="203"/>
                  </a:lnTo>
                  <a:lnTo>
                    <a:pt x="337" y="219"/>
                  </a:lnTo>
                  <a:lnTo>
                    <a:pt x="341" y="257"/>
                  </a:lnTo>
                  <a:lnTo>
                    <a:pt x="348" y="269"/>
                  </a:lnTo>
                  <a:lnTo>
                    <a:pt x="379" y="282"/>
                  </a:lnTo>
                  <a:lnTo>
                    <a:pt x="408" y="290"/>
                  </a:lnTo>
                  <a:lnTo>
                    <a:pt x="423" y="298"/>
                  </a:lnTo>
                  <a:lnTo>
                    <a:pt x="434" y="323"/>
                  </a:lnTo>
                  <a:lnTo>
                    <a:pt x="437" y="344"/>
                  </a:lnTo>
                  <a:lnTo>
                    <a:pt x="512" y="389"/>
                  </a:lnTo>
                  <a:lnTo>
                    <a:pt x="512" y="413"/>
                  </a:lnTo>
                  <a:lnTo>
                    <a:pt x="523" y="424"/>
                  </a:lnTo>
                  <a:lnTo>
                    <a:pt x="547" y="432"/>
                  </a:lnTo>
                  <a:lnTo>
                    <a:pt x="561" y="442"/>
                  </a:lnTo>
                  <a:lnTo>
                    <a:pt x="559" y="461"/>
                  </a:lnTo>
                  <a:lnTo>
                    <a:pt x="550" y="464"/>
                  </a:lnTo>
                  <a:lnTo>
                    <a:pt x="550" y="469"/>
                  </a:lnTo>
                  <a:lnTo>
                    <a:pt x="530" y="473"/>
                  </a:lnTo>
                  <a:lnTo>
                    <a:pt x="530" y="459"/>
                  </a:lnTo>
                  <a:lnTo>
                    <a:pt x="472" y="402"/>
                  </a:lnTo>
                  <a:lnTo>
                    <a:pt x="434" y="362"/>
                  </a:lnTo>
                  <a:lnTo>
                    <a:pt x="379" y="317"/>
                  </a:lnTo>
                  <a:lnTo>
                    <a:pt x="335" y="270"/>
                  </a:lnTo>
                  <a:lnTo>
                    <a:pt x="184" y="157"/>
                  </a:lnTo>
                  <a:lnTo>
                    <a:pt x="137" y="114"/>
                  </a:lnTo>
                  <a:lnTo>
                    <a:pt x="122" y="98"/>
                  </a:lnTo>
                  <a:lnTo>
                    <a:pt x="60" y="54"/>
                  </a:lnTo>
                  <a:lnTo>
                    <a:pt x="0" y="0"/>
                  </a:lnTo>
                  <a:lnTo>
                    <a:pt x="18" y="8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5f48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57960" y="2675520"/>
              <a:ext cx="1228320" cy="503640"/>
            </a:xfrm>
            <a:custGeom>
              <a:avLst/>
              <a:gdLst/>
              <a:ahLst/>
              <a:rect l="l" t="t" r="r" b="b"/>
              <a:pathLst>
                <a:path w="940" h="465">
                  <a:moveTo>
                    <a:pt x="503" y="65"/>
                  </a:moveTo>
                  <a:lnTo>
                    <a:pt x="557" y="100"/>
                  </a:lnTo>
                  <a:lnTo>
                    <a:pt x="592" y="140"/>
                  </a:lnTo>
                  <a:lnTo>
                    <a:pt x="718" y="234"/>
                  </a:lnTo>
                  <a:lnTo>
                    <a:pt x="785" y="294"/>
                  </a:lnTo>
                  <a:lnTo>
                    <a:pt x="816" y="325"/>
                  </a:lnTo>
                  <a:lnTo>
                    <a:pt x="867" y="365"/>
                  </a:lnTo>
                  <a:lnTo>
                    <a:pt x="920" y="420"/>
                  </a:lnTo>
                  <a:lnTo>
                    <a:pt x="940" y="443"/>
                  </a:lnTo>
                  <a:lnTo>
                    <a:pt x="934" y="451"/>
                  </a:lnTo>
                  <a:lnTo>
                    <a:pt x="909" y="465"/>
                  </a:lnTo>
                  <a:lnTo>
                    <a:pt x="900" y="465"/>
                  </a:lnTo>
                  <a:lnTo>
                    <a:pt x="880" y="446"/>
                  </a:lnTo>
                  <a:lnTo>
                    <a:pt x="836" y="395"/>
                  </a:lnTo>
                  <a:lnTo>
                    <a:pt x="754" y="320"/>
                  </a:lnTo>
                  <a:lnTo>
                    <a:pt x="725" y="290"/>
                  </a:lnTo>
                  <a:lnTo>
                    <a:pt x="710" y="273"/>
                  </a:lnTo>
                  <a:lnTo>
                    <a:pt x="628" y="201"/>
                  </a:lnTo>
                  <a:lnTo>
                    <a:pt x="583" y="160"/>
                  </a:lnTo>
                  <a:lnTo>
                    <a:pt x="523" y="116"/>
                  </a:lnTo>
                  <a:lnTo>
                    <a:pt x="486" y="95"/>
                  </a:lnTo>
                  <a:lnTo>
                    <a:pt x="479" y="85"/>
                  </a:lnTo>
                  <a:lnTo>
                    <a:pt x="450" y="65"/>
                  </a:lnTo>
                  <a:lnTo>
                    <a:pt x="432" y="60"/>
                  </a:lnTo>
                  <a:lnTo>
                    <a:pt x="401" y="61"/>
                  </a:lnTo>
                  <a:lnTo>
                    <a:pt x="375" y="69"/>
                  </a:lnTo>
                  <a:lnTo>
                    <a:pt x="362" y="69"/>
                  </a:lnTo>
                  <a:lnTo>
                    <a:pt x="335" y="79"/>
                  </a:lnTo>
                  <a:lnTo>
                    <a:pt x="244" y="104"/>
                  </a:lnTo>
                  <a:lnTo>
                    <a:pt x="98" y="145"/>
                  </a:lnTo>
                  <a:lnTo>
                    <a:pt x="82" y="146"/>
                  </a:lnTo>
                  <a:lnTo>
                    <a:pt x="47" y="158"/>
                  </a:lnTo>
                  <a:lnTo>
                    <a:pt x="13" y="166"/>
                  </a:lnTo>
                  <a:lnTo>
                    <a:pt x="0" y="168"/>
                  </a:lnTo>
                  <a:lnTo>
                    <a:pt x="0" y="121"/>
                  </a:lnTo>
                  <a:lnTo>
                    <a:pt x="51" y="104"/>
                  </a:lnTo>
                  <a:lnTo>
                    <a:pt x="69" y="99"/>
                  </a:lnTo>
                  <a:lnTo>
                    <a:pt x="186" y="64"/>
                  </a:lnTo>
                  <a:lnTo>
                    <a:pt x="195" y="64"/>
                  </a:lnTo>
                  <a:lnTo>
                    <a:pt x="197" y="61"/>
                  </a:lnTo>
                  <a:lnTo>
                    <a:pt x="428" y="0"/>
                  </a:lnTo>
                  <a:lnTo>
                    <a:pt x="481" y="44"/>
                  </a:lnTo>
                  <a:lnTo>
                    <a:pt x="503" y="65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31560" y="2685600"/>
              <a:ext cx="392040" cy="109080"/>
            </a:xfrm>
            <a:custGeom>
              <a:avLst/>
              <a:gdLst/>
              <a:ahLst/>
              <a:rect l="l" t="t" r="r" b="b"/>
              <a:pathLst>
                <a:path w="300" h="101">
                  <a:moveTo>
                    <a:pt x="193" y="35"/>
                  </a:moveTo>
                  <a:lnTo>
                    <a:pt x="160" y="46"/>
                  </a:lnTo>
                  <a:lnTo>
                    <a:pt x="85" y="71"/>
                  </a:lnTo>
                  <a:lnTo>
                    <a:pt x="40" y="91"/>
                  </a:lnTo>
                  <a:lnTo>
                    <a:pt x="5" y="101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158" y="41"/>
                  </a:lnTo>
                  <a:lnTo>
                    <a:pt x="229" y="20"/>
                  </a:lnTo>
                  <a:lnTo>
                    <a:pt x="240" y="20"/>
                  </a:lnTo>
                  <a:lnTo>
                    <a:pt x="293" y="1"/>
                  </a:lnTo>
                  <a:lnTo>
                    <a:pt x="300" y="0"/>
                  </a:lnTo>
                  <a:lnTo>
                    <a:pt x="297" y="6"/>
                  </a:lnTo>
                  <a:lnTo>
                    <a:pt x="19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4760" y="2751480"/>
              <a:ext cx="1112040" cy="1459800"/>
            </a:xfrm>
            <a:custGeom>
              <a:avLst/>
              <a:gdLst/>
              <a:ahLst/>
              <a:rect l="l" t="t" r="r" b="b"/>
              <a:pathLst>
                <a:path w="851" h="1348">
                  <a:moveTo>
                    <a:pt x="443" y="36"/>
                  </a:moveTo>
                  <a:lnTo>
                    <a:pt x="514" y="83"/>
                  </a:lnTo>
                  <a:lnTo>
                    <a:pt x="561" y="125"/>
                  </a:lnTo>
                  <a:lnTo>
                    <a:pt x="603" y="163"/>
                  </a:lnTo>
                  <a:lnTo>
                    <a:pt x="631" y="184"/>
                  </a:lnTo>
                  <a:lnTo>
                    <a:pt x="680" y="235"/>
                  </a:lnTo>
                  <a:lnTo>
                    <a:pt x="720" y="274"/>
                  </a:lnTo>
                  <a:lnTo>
                    <a:pt x="782" y="329"/>
                  </a:lnTo>
                  <a:lnTo>
                    <a:pt x="815" y="366"/>
                  </a:lnTo>
                  <a:lnTo>
                    <a:pt x="809" y="373"/>
                  </a:lnTo>
                  <a:lnTo>
                    <a:pt x="809" y="391"/>
                  </a:lnTo>
                  <a:lnTo>
                    <a:pt x="815" y="436"/>
                  </a:lnTo>
                  <a:lnTo>
                    <a:pt x="818" y="550"/>
                  </a:lnTo>
                  <a:lnTo>
                    <a:pt x="822" y="606"/>
                  </a:lnTo>
                  <a:lnTo>
                    <a:pt x="822" y="711"/>
                  </a:lnTo>
                  <a:lnTo>
                    <a:pt x="827" y="824"/>
                  </a:lnTo>
                  <a:lnTo>
                    <a:pt x="827" y="845"/>
                  </a:lnTo>
                  <a:lnTo>
                    <a:pt x="831" y="978"/>
                  </a:lnTo>
                  <a:lnTo>
                    <a:pt x="842" y="1036"/>
                  </a:lnTo>
                  <a:lnTo>
                    <a:pt x="844" y="1084"/>
                  </a:lnTo>
                  <a:lnTo>
                    <a:pt x="847" y="1190"/>
                  </a:lnTo>
                  <a:lnTo>
                    <a:pt x="851" y="1312"/>
                  </a:lnTo>
                  <a:lnTo>
                    <a:pt x="833" y="1318"/>
                  </a:lnTo>
                  <a:lnTo>
                    <a:pt x="824" y="1328"/>
                  </a:lnTo>
                  <a:lnTo>
                    <a:pt x="809" y="1329"/>
                  </a:lnTo>
                  <a:lnTo>
                    <a:pt x="804" y="1309"/>
                  </a:lnTo>
                  <a:lnTo>
                    <a:pt x="789" y="1302"/>
                  </a:lnTo>
                  <a:lnTo>
                    <a:pt x="773" y="1302"/>
                  </a:lnTo>
                  <a:lnTo>
                    <a:pt x="747" y="1308"/>
                  </a:lnTo>
                  <a:lnTo>
                    <a:pt x="738" y="1319"/>
                  </a:lnTo>
                  <a:lnTo>
                    <a:pt x="716" y="1318"/>
                  </a:lnTo>
                  <a:lnTo>
                    <a:pt x="716" y="1199"/>
                  </a:lnTo>
                  <a:lnTo>
                    <a:pt x="711" y="1144"/>
                  </a:lnTo>
                  <a:lnTo>
                    <a:pt x="707" y="1056"/>
                  </a:lnTo>
                  <a:lnTo>
                    <a:pt x="702" y="985"/>
                  </a:lnTo>
                  <a:lnTo>
                    <a:pt x="698" y="960"/>
                  </a:lnTo>
                  <a:lnTo>
                    <a:pt x="698" y="929"/>
                  </a:lnTo>
                  <a:lnTo>
                    <a:pt x="691" y="883"/>
                  </a:lnTo>
                  <a:lnTo>
                    <a:pt x="689" y="776"/>
                  </a:lnTo>
                  <a:lnTo>
                    <a:pt x="685" y="721"/>
                  </a:lnTo>
                  <a:lnTo>
                    <a:pt x="682" y="586"/>
                  </a:lnTo>
                  <a:lnTo>
                    <a:pt x="665" y="453"/>
                  </a:lnTo>
                  <a:lnTo>
                    <a:pt x="654" y="428"/>
                  </a:lnTo>
                  <a:lnTo>
                    <a:pt x="640" y="398"/>
                  </a:lnTo>
                  <a:lnTo>
                    <a:pt x="612" y="355"/>
                  </a:lnTo>
                  <a:lnTo>
                    <a:pt x="592" y="334"/>
                  </a:lnTo>
                  <a:lnTo>
                    <a:pt x="538" y="299"/>
                  </a:lnTo>
                  <a:lnTo>
                    <a:pt x="490" y="279"/>
                  </a:lnTo>
                  <a:lnTo>
                    <a:pt x="410" y="269"/>
                  </a:lnTo>
                  <a:lnTo>
                    <a:pt x="343" y="274"/>
                  </a:lnTo>
                  <a:lnTo>
                    <a:pt x="299" y="284"/>
                  </a:lnTo>
                  <a:lnTo>
                    <a:pt x="246" y="304"/>
                  </a:lnTo>
                  <a:lnTo>
                    <a:pt x="204" y="345"/>
                  </a:lnTo>
                  <a:lnTo>
                    <a:pt x="201" y="351"/>
                  </a:lnTo>
                  <a:lnTo>
                    <a:pt x="186" y="376"/>
                  </a:lnTo>
                  <a:lnTo>
                    <a:pt x="177" y="403"/>
                  </a:lnTo>
                  <a:lnTo>
                    <a:pt x="161" y="451"/>
                  </a:lnTo>
                  <a:lnTo>
                    <a:pt x="161" y="474"/>
                  </a:lnTo>
                  <a:lnTo>
                    <a:pt x="166" y="619"/>
                  </a:lnTo>
                  <a:lnTo>
                    <a:pt x="173" y="673"/>
                  </a:lnTo>
                  <a:lnTo>
                    <a:pt x="168" y="848"/>
                  </a:lnTo>
                  <a:lnTo>
                    <a:pt x="159" y="901"/>
                  </a:lnTo>
                  <a:lnTo>
                    <a:pt x="161" y="1000"/>
                  </a:lnTo>
                  <a:lnTo>
                    <a:pt x="173" y="1133"/>
                  </a:lnTo>
                  <a:lnTo>
                    <a:pt x="173" y="1270"/>
                  </a:lnTo>
                  <a:lnTo>
                    <a:pt x="168" y="1329"/>
                  </a:lnTo>
                  <a:lnTo>
                    <a:pt x="161" y="1333"/>
                  </a:lnTo>
                  <a:lnTo>
                    <a:pt x="157" y="1348"/>
                  </a:lnTo>
                  <a:lnTo>
                    <a:pt x="150" y="1348"/>
                  </a:lnTo>
                  <a:lnTo>
                    <a:pt x="150" y="1347"/>
                  </a:lnTo>
                  <a:lnTo>
                    <a:pt x="146" y="1343"/>
                  </a:lnTo>
                  <a:lnTo>
                    <a:pt x="126" y="1343"/>
                  </a:lnTo>
                  <a:lnTo>
                    <a:pt x="97" y="1342"/>
                  </a:lnTo>
                  <a:lnTo>
                    <a:pt x="106" y="1314"/>
                  </a:lnTo>
                  <a:lnTo>
                    <a:pt x="79" y="1287"/>
                  </a:lnTo>
                  <a:lnTo>
                    <a:pt x="66" y="1280"/>
                  </a:lnTo>
                  <a:lnTo>
                    <a:pt x="37" y="1280"/>
                  </a:lnTo>
                  <a:lnTo>
                    <a:pt x="37" y="1230"/>
                  </a:lnTo>
                  <a:lnTo>
                    <a:pt x="35" y="1168"/>
                  </a:lnTo>
                  <a:lnTo>
                    <a:pt x="33" y="1118"/>
                  </a:lnTo>
                  <a:lnTo>
                    <a:pt x="24" y="1021"/>
                  </a:lnTo>
                  <a:lnTo>
                    <a:pt x="24" y="748"/>
                  </a:lnTo>
                  <a:lnTo>
                    <a:pt x="22" y="695"/>
                  </a:lnTo>
                  <a:lnTo>
                    <a:pt x="9" y="632"/>
                  </a:lnTo>
                  <a:lnTo>
                    <a:pt x="9" y="489"/>
                  </a:lnTo>
                  <a:lnTo>
                    <a:pt x="4" y="406"/>
                  </a:lnTo>
                  <a:lnTo>
                    <a:pt x="9" y="280"/>
                  </a:lnTo>
                  <a:lnTo>
                    <a:pt x="6" y="233"/>
                  </a:lnTo>
                  <a:lnTo>
                    <a:pt x="4" y="195"/>
                  </a:lnTo>
                  <a:lnTo>
                    <a:pt x="9" y="179"/>
                  </a:lnTo>
                  <a:lnTo>
                    <a:pt x="6" y="128"/>
                  </a:lnTo>
                  <a:lnTo>
                    <a:pt x="0" y="122"/>
                  </a:lnTo>
                  <a:lnTo>
                    <a:pt x="4" y="103"/>
                  </a:lnTo>
                  <a:lnTo>
                    <a:pt x="4" y="101"/>
                  </a:lnTo>
                  <a:lnTo>
                    <a:pt x="148" y="64"/>
                  </a:lnTo>
                  <a:lnTo>
                    <a:pt x="246" y="31"/>
                  </a:lnTo>
                  <a:lnTo>
                    <a:pt x="379" y="1"/>
                  </a:lnTo>
                  <a:lnTo>
                    <a:pt x="390" y="0"/>
                  </a:lnTo>
                  <a:lnTo>
                    <a:pt x="414" y="10"/>
                  </a:lnTo>
                  <a:lnTo>
                    <a:pt x="443" y="3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8280" y="2801520"/>
              <a:ext cx="1232280" cy="1481400"/>
            </a:xfrm>
            <a:custGeom>
              <a:avLst/>
              <a:gdLst/>
              <a:ahLst/>
              <a:rect l="l" t="t" r="r" b="b"/>
              <a:pathLst>
                <a:path w="943" h="1368">
                  <a:moveTo>
                    <a:pt x="20" y="10"/>
                  </a:moveTo>
                  <a:lnTo>
                    <a:pt x="23" y="9"/>
                  </a:lnTo>
                  <a:lnTo>
                    <a:pt x="80" y="44"/>
                  </a:lnTo>
                  <a:lnTo>
                    <a:pt x="98" y="65"/>
                  </a:lnTo>
                  <a:lnTo>
                    <a:pt x="111" y="74"/>
                  </a:lnTo>
                  <a:lnTo>
                    <a:pt x="160" y="107"/>
                  </a:lnTo>
                  <a:lnTo>
                    <a:pt x="289" y="169"/>
                  </a:lnTo>
                  <a:lnTo>
                    <a:pt x="304" y="184"/>
                  </a:lnTo>
                  <a:lnTo>
                    <a:pt x="306" y="210"/>
                  </a:lnTo>
                  <a:lnTo>
                    <a:pt x="328" y="222"/>
                  </a:lnTo>
                  <a:lnTo>
                    <a:pt x="353" y="224"/>
                  </a:lnTo>
                  <a:lnTo>
                    <a:pt x="366" y="219"/>
                  </a:lnTo>
                  <a:lnTo>
                    <a:pt x="366" y="214"/>
                  </a:lnTo>
                  <a:lnTo>
                    <a:pt x="373" y="210"/>
                  </a:lnTo>
                  <a:lnTo>
                    <a:pt x="426" y="234"/>
                  </a:lnTo>
                  <a:lnTo>
                    <a:pt x="446" y="239"/>
                  </a:lnTo>
                  <a:lnTo>
                    <a:pt x="477" y="253"/>
                  </a:lnTo>
                  <a:lnTo>
                    <a:pt x="490" y="253"/>
                  </a:lnTo>
                  <a:lnTo>
                    <a:pt x="544" y="268"/>
                  </a:lnTo>
                  <a:lnTo>
                    <a:pt x="581" y="288"/>
                  </a:lnTo>
                  <a:lnTo>
                    <a:pt x="606" y="298"/>
                  </a:lnTo>
                  <a:lnTo>
                    <a:pt x="637" y="309"/>
                  </a:lnTo>
                  <a:lnTo>
                    <a:pt x="681" y="320"/>
                  </a:lnTo>
                  <a:lnTo>
                    <a:pt x="708" y="322"/>
                  </a:lnTo>
                  <a:lnTo>
                    <a:pt x="721" y="324"/>
                  </a:lnTo>
                  <a:lnTo>
                    <a:pt x="743" y="349"/>
                  </a:lnTo>
                  <a:lnTo>
                    <a:pt x="756" y="354"/>
                  </a:lnTo>
                  <a:lnTo>
                    <a:pt x="776" y="354"/>
                  </a:lnTo>
                  <a:lnTo>
                    <a:pt x="794" y="359"/>
                  </a:lnTo>
                  <a:lnTo>
                    <a:pt x="810" y="359"/>
                  </a:lnTo>
                  <a:lnTo>
                    <a:pt x="814" y="362"/>
                  </a:lnTo>
                  <a:lnTo>
                    <a:pt x="823" y="360"/>
                  </a:lnTo>
                  <a:lnTo>
                    <a:pt x="863" y="375"/>
                  </a:lnTo>
                  <a:lnTo>
                    <a:pt x="883" y="415"/>
                  </a:lnTo>
                  <a:lnTo>
                    <a:pt x="894" y="425"/>
                  </a:lnTo>
                  <a:lnTo>
                    <a:pt x="907" y="504"/>
                  </a:lnTo>
                  <a:lnTo>
                    <a:pt x="903" y="652"/>
                  </a:lnTo>
                  <a:lnTo>
                    <a:pt x="916" y="772"/>
                  </a:lnTo>
                  <a:lnTo>
                    <a:pt x="918" y="858"/>
                  </a:lnTo>
                  <a:lnTo>
                    <a:pt x="927" y="952"/>
                  </a:lnTo>
                  <a:lnTo>
                    <a:pt x="934" y="1007"/>
                  </a:lnTo>
                  <a:lnTo>
                    <a:pt x="936" y="1083"/>
                  </a:lnTo>
                  <a:lnTo>
                    <a:pt x="943" y="1108"/>
                  </a:lnTo>
                  <a:lnTo>
                    <a:pt x="943" y="1168"/>
                  </a:lnTo>
                  <a:lnTo>
                    <a:pt x="938" y="1169"/>
                  </a:lnTo>
                  <a:lnTo>
                    <a:pt x="943" y="1171"/>
                  </a:lnTo>
                  <a:lnTo>
                    <a:pt x="938" y="1189"/>
                  </a:lnTo>
                  <a:lnTo>
                    <a:pt x="918" y="1193"/>
                  </a:lnTo>
                  <a:lnTo>
                    <a:pt x="912" y="1199"/>
                  </a:lnTo>
                  <a:lnTo>
                    <a:pt x="912" y="1229"/>
                  </a:lnTo>
                  <a:lnTo>
                    <a:pt x="907" y="1239"/>
                  </a:lnTo>
                  <a:lnTo>
                    <a:pt x="903" y="1239"/>
                  </a:lnTo>
                  <a:lnTo>
                    <a:pt x="898" y="1242"/>
                  </a:lnTo>
                  <a:lnTo>
                    <a:pt x="876" y="1222"/>
                  </a:lnTo>
                  <a:lnTo>
                    <a:pt x="854" y="1216"/>
                  </a:lnTo>
                  <a:lnTo>
                    <a:pt x="830" y="1216"/>
                  </a:lnTo>
                  <a:lnTo>
                    <a:pt x="827" y="1217"/>
                  </a:lnTo>
                  <a:lnTo>
                    <a:pt x="810" y="1222"/>
                  </a:lnTo>
                  <a:lnTo>
                    <a:pt x="803" y="1229"/>
                  </a:lnTo>
                  <a:lnTo>
                    <a:pt x="821" y="1244"/>
                  </a:lnTo>
                  <a:lnTo>
                    <a:pt x="794" y="1251"/>
                  </a:lnTo>
                  <a:lnTo>
                    <a:pt x="765" y="1251"/>
                  </a:lnTo>
                  <a:lnTo>
                    <a:pt x="776" y="1239"/>
                  </a:lnTo>
                  <a:lnTo>
                    <a:pt x="774" y="1231"/>
                  </a:lnTo>
                  <a:lnTo>
                    <a:pt x="759" y="1224"/>
                  </a:lnTo>
                  <a:lnTo>
                    <a:pt x="779" y="1211"/>
                  </a:lnTo>
                  <a:lnTo>
                    <a:pt x="779" y="1199"/>
                  </a:lnTo>
                  <a:lnTo>
                    <a:pt x="761" y="1193"/>
                  </a:lnTo>
                  <a:lnTo>
                    <a:pt x="739" y="1196"/>
                  </a:lnTo>
                  <a:lnTo>
                    <a:pt x="714" y="1206"/>
                  </a:lnTo>
                  <a:lnTo>
                    <a:pt x="705" y="1219"/>
                  </a:lnTo>
                  <a:lnTo>
                    <a:pt x="708" y="1237"/>
                  </a:lnTo>
                  <a:lnTo>
                    <a:pt x="725" y="1263"/>
                  </a:lnTo>
                  <a:lnTo>
                    <a:pt x="725" y="1268"/>
                  </a:lnTo>
                  <a:lnTo>
                    <a:pt x="646" y="1272"/>
                  </a:lnTo>
                  <a:lnTo>
                    <a:pt x="603" y="1288"/>
                  </a:lnTo>
                  <a:lnTo>
                    <a:pt x="577" y="1316"/>
                  </a:lnTo>
                  <a:lnTo>
                    <a:pt x="566" y="1327"/>
                  </a:lnTo>
                  <a:lnTo>
                    <a:pt x="546" y="1288"/>
                  </a:lnTo>
                  <a:lnTo>
                    <a:pt x="552" y="1277"/>
                  </a:lnTo>
                  <a:lnTo>
                    <a:pt x="566" y="1261"/>
                  </a:lnTo>
                  <a:lnTo>
                    <a:pt x="603" y="1239"/>
                  </a:lnTo>
                  <a:lnTo>
                    <a:pt x="646" y="1209"/>
                  </a:lnTo>
                  <a:lnTo>
                    <a:pt x="646" y="1201"/>
                  </a:lnTo>
                  <a:lnTo>
                    <a:pt x="654" y="1186"/>
                  </a:lnTo>
                  <a:lnTo>
                    <a:pt x="652" y="1181"/>
                  </a:lnTo>
                  <a:lnTo>
                    <a:pt x="685" y="1173"/>
                  </a:lnTo>
                  <a:lnTo>
                    <a:pt x="688" y="1179"/>
                  </a:lnTo>
                  <a:lnTo>
                    <a:pt x="708" y="1184"/>
                  </a:lnTo>
                  <a:lnTo>
                    <a:pt x="759" y="1183"/>
                  </a:lnTo>
                  <a:lnTo>
                    <a:pt x="794" y="1181"/>
                  </a:lnTo>
                  <a:lnTo>
                    <a:pt x="794" y="1183"/>
                  </a:lnTo>
                  <a:lnTo>
                    <a:pt x="801" y="1186"/>
                  </a:lnTo>
                  <a:lnTo>
                    <a:pt x="818" y="1186"/>
                  </a:lnTo>
                  <a:lnTo>
                    <a:pt x="836" y="1189"/>
                  </a:lnTo>
                  <a:lnTo>
                    <a:pt x="876" y="1184"/>
                  </a:lnTo>
                  <a:lnTo>
                    <a:pt x="892" y="1176"/>
                  </a:lnTo>
                  <a:lnTo>
                    <a:pt x="889" y="1166"/>
                  </a:lnTo>
                  <a:lnTo>
                    <a:pt x="849" y="1151"/>
                  </a:lnTo>
                  <a:lnTo>
                    <a:pt x="812" y="1154"/>
                  </a:lnTo>
                  <a:lnTo>
                    <a:pt x="796" y="1164"/>
                  </a:lnTo>
                  <a:lnTo>
                    <a:pt x="794" y="1173"/>
                  </a:lnTo>
                  <a:lnTo>
                    <a:pt x="723" y="1176"/>
                  </a:lnTo>
                  <a:lnTo>
                    <a:pt x="705" y="1174"/>
                  </a:lnTo>
                  <a:lnTo>
                    <a:pt x="703" y="1168"/>
                  </a:lnTo>
                  <a:lnTo>
                    <a:pt x="774" y="1146"/>
                  </a:lnTo>
                  <a:lnTo>
                    <a:pt x="801" y="1128"/>
                  </a:lnTo>
                  <a:lnTo>
                    <a:pt x="796" y="1127"/>
                  </a:lnTo>
                  <a:lnTo>
                    <a:pt x="818" y="1113"/>
                  </a:lnTo>
                  <a:lnTo>
                    <a:pt x="818" y="1108"/>
                  </a:lnTo>
                  <a:lnTo>
                    <a:pt x="810" y="1104"/>
                  </a:lnTo>
                  <a:lnTo>
                    <a:pt x="796" y="1108"/>
                  </a:lnTo>
                  <a:lnTo>
                    <a:pt x="783" y="1122"/>
                  </a:lnTo>
                  <a:lnTo>
                    <a:pt x="765" y="1129"/>
                  </a:lnTo>
                  <a:lnTo>
                    <a:pt x="739" y="1133"/>
                  </a:lnTo>
                  <a:lnTo>
                    <a:pt x="694" y="1148"/>
                  </a:lnTo>
                  <a:lnTo>
                    <a:pt x="670" y="1149"/>
                  </a:lnTo>
                  <a:lnTo>
                    <a:pt x="677" y="1123"/>
                  </a:lnTo>
                  <a:lnTo>
                    <a:pt x="712" y="1084"/>
                  </a:lnTo>
                  <a:lnTo>
                    <a:pt x="734" y="1072"/>
                  </a:lnTo>
                  <a:lnTo>
                    <a:pt x="747" y="1074"/>
                  </a:lnTo>
                  <a:lnTo>
                    <a:pt x="794" y="1068"/>
                  </a:lnTo>
                  <a:lnTo>
                    <a:pt x="830" y="1054"/>
                  </a:lnTo>
                  <a:lnTo>
                    <a:pt x="841" y="1047"/>
                  </a:lnTo>
                  <a:lnTo>
                    <a:pt x="836" y="1039"/>
                  </a:lnTo>
                  <a:lnTo>
                    <a:pt x="812" y="1031"/>
                  </a:lnTo>
                  <a:lnTo>
                    <a:pt x="792" y="1028"/>
                  </a:lnTo>
                  <a:lnTo>
                    <a:pt x="776" y="1038"/>
                  </a:lnTo>
                  <a:lnTo>
                    <a:pt x="776" y="1043"/>
                  </a:lnTo>
                  <a:lnTo>
                    <a:pt x="734" y="1059"/>
                  </a:lnTo>
                  <a:lnTo>
                    <a:pt x="723" y="1053"/>
                  </a:lnTo>
                  <a:lnTo>
                    <a:pt x="712" y="1057"/>
                  </a:lnTo>
                  <a:lnTo>
                    <a:pt x="694" y="1069"/>
                  </a:lnTo>
                  <a:lnTo>
                    <a:pt x="694" y="1073"/>
                  </a:lnTo>
                  <a:lnTo>
                    <a:pt x="677" y="1078"/>
                  </a:lnTo>
                  <a:lnTo>
                    <a:pt x="652" y="1093"/>
                  </a:lnTo>
                  <a:lnTo>
                    <a:pt x="652" y="1108"/>
                  </a:lnTo>
                  <a:lnTo>
                    <a:pt x="641" y="1118"/>
                  </a:lnTo>
                  <a:lnTo>
                    <a:pt x="632" y="1123"/>
                  </a:lnTo>
                  <a:lnTo>
                    <a:pt x="628" y="1122"/>
                  </a:lnTo>
                  <a:lnTo>
                    <a:pt x="626" y="1122"/>
                  </a:lnTo>
                  <a:lnTo>
                    <a:pt x="619" y="1124"/>
                  </a:lnTo>
                  <a:lnTo>
                    <a:pt x="619" y="1129"/>
                  </a:lnTo>
                  <a:lnTo>
                    <a:pt x="592" y="1107"/>
                  </a:lnTo>
                  <a:lnTo>
                    <a:pt x="608" y="1077"/>
                  </a:lnTo>
                  <a:lnTo>
                    <a:pt x="603" y="1063"/>
                  </a:lnTo>
                  <a:lnTo>
                    <a:pt x="588" y="1058"/>
                  </a:lnTo>
                  <a:lnTo>
                    <a:pt x="572" y="1058"/>
                  </a:lnTo>
                  <a:lnTo>
                    <a:pt x="548" y="1074"/>
                  </a:lnTo>
                  <a:lnTo>
                    <a:pt x="548" y="1088"/>
                  </a:lnTo>
                  <a:lnTo>
                    <a:pt x="606" y="1133"/>
                  </a:lnTo>
                  <a:lnTo>
                    <a:pt x="606" y="1137"/>
                  </a:lnTo>
                  <a:lnTo>
                    <a:pt x="619" y="1143"/>
                  </a:lnTo>
                  <a:lnTo>
                    <a:pt x="614" y="1149"/>
                  </a:lnTo>
                  <a:lnTo>
                    <a:pt x="603" y="1179"/>
                  </a:lnTo>
                  <a:lnTo>
                    <a:pt x="579" y="1206"/>
                  </a:lnTo>
                  <a:lnTo>
                    <a:pt x="510" y="1251"/>
                  </a:lnTo>
                  <a:lnTo>
                    <a:pt x="495" y="1286"/>
                  </a:lnTo>
                  <a:lnTo>
                    <a:pt x="495" y="1302"/>
                  </a:lnTo>
                  <a:lnTo>
                    <a:pt x="488" y="1343"/>
                  </a:lnTo>
                  <a:lnTo>
                    <a:pt x="477" y="1358"/>
                  </a:lnTo>
                  <a:lnTo>
                    <a:pt x="481" y="1361"/>
                  </a:lnTo>
                  <a:lnTo>
                    <a:pt x="490" y="1361"/>
                  </a:lnTo>
                  <a:lnTo>
                    <a:pt x="510" y="1338"/>
                  </a:lnTo>
                  <a:lnTo>
                    <a:pt x="515" y="1281"/>
                  </a:lnTo>
                  <a:lnTo>
                    <a:pt x="526" y="1254"/>
                  </a:lnTo>
                  <a:lnTo>
                    <a:pt x="544" y="1239"/>
                  </a:lnTo>
                  <a:lnTo>
                    <a:pt x="583" y="1212"/>
                  </a:lnTo>
                  <a:lnTo>
                    <a:pt x="610" y="1183"/>
                  </a:lnTo>
                  <a:lnTo>
                    <a:pt x="623" y="1166"/>
                  </a:lnTo>
                  <a:lnTo>
                    <a:pt x="634" y="1138"/>
                  </a:lnTo>
                  <a:lnTo>
                    <a:pt x="632" y="1137"/>
                  </a:lnTo>
                  <a:lnTo>
                    <a:pt x="632" y="1134"/>
                  </a:lnTo>
                  <a:lnTo>
                    <a:pt x="643" y="1133"/>
                  </a:lnTo>
                  <a:lnTo>
                    <a:pt x="661" y="1118"/>
                  </a:lnTo>
                  <a:lnTo>
                    <a:pt x="652" y="1139"/>
                  </a:lnTo>
                  <a:lnTo>
                    <a:pt x="659" y="1154"/>
                  </a:lnTo>
                  <a:lnTo>
                    <a:pt x="677" y="1159"/>
                  </a:lnTo>
                  <a:lnTo>
                    <a:pt x="690" y="1156"/>
                  </a:lnTo>
                  <a:lnTo>
                    <a:pt x="705" y="1156"/>
                  </a:lnTo>
                  <a:lnTo>
                    <a:pt x="646" y="1173"/>
                  </a:lnTo>
                  <a:lnTo>
                    <a:pt x="643" y="1171"/>
                  </a:lnTo>
                  <a:lnTo>
                    <a:pt x="637" y="1174"/>
                  </a:lnTo>
                  <a:lnTo>
                    <a:pt x="637" y="1191"/>
                  </a:lnTo>
                  <a:lnTo>
                    <a:pt x="626" y="1209"/>
                  </a:lnTo>
                  <a:lnTo>
                    <a:pt x="588" y="1237"/>
                  </a:lnTo>
                  <a:lnTo>
                    <a:pt x="544" y="1263"/>
                  </a:lnTo>
                  <a:lnTo>
                    <a:pt x="528" y="1287"/>
                  </a:lnTo>
                  <a:lnTo>
                    <a:pt x="552" y="1334"/>
                  </a:lnTo>
                  <a:lnTo>
                    <a:pt x="546" y="1353"/>
                  </a:lnTo>
                  <a:lnTo>
                    <a:pt x="490" y="1366"/>
                  </a:lnTo>
                  <a:lnTo>
                    <a:pt x="477" y="1363"/>
                  </a:lnTo>
                  <a:lnTo>
                    <a:pt x="473" y="1361"/>
                  </a:lnTo>
                  <a:lnTo>
                    <a:pt x="473" y="1337"/>
                  </a:lnTo>
                  <a:lnTo>
                    <a:pt x="457" y="1332"/>
                  </a:lnTo>
                  <a:lnTo>
                    <a:pt x="442" y="1337"/>
                  </a:lnTo>
                  <a:lnTo>
                    <a:pt x="419" y="1358"/>
                  </a:lnTo>
                  <a:lnTo>
                    <a:pt x="406" y="1366"/>
                  </a:lnTo>
                  <a:lnTo>
                    <a:pt x="402" y="1346"/>
                  </a:lnTo>
                  <a:lnTo>
                    <a:pt x="395" y="1342"/>
                  </a:lnTo>
                  <a:lnTo>
                    <a:pt x="353" y="1368"/>
                  </a:lnTo>
                  <a:lnTo>
                    <a:pt x="346" y="1367"/>
                  </a:lnTo>
                  <a:lnTo>
                    <a:pt x="337" y="1353"/>
                  </a:lnTo>
                  <a:lnTo>
                    <a:pt x="311" y="1357"/>
                  </a:lnTo>
                  <a:lnTo>
                    <a:pt x="295" y="1346"/>
                  </a:lnTo>
                  <a:lnTo>
                    <a:pt x="289" y="1346"/>
                  </a:lnTo>
                  <a:lnTo>
                    <a:pt x="275" y="1331"/>
                  </a:lnTo>
                  <a:lnTo>
                    <a:pt x="278" y="1303"/>
                  </a:lnTo>
                  <a:lnTo>
                    <a:pt x="278" y="1291"/>
                  </a:lnTo>
                  <a:lnTo>
                    <a:pt x="271" y="1270"/>
                  </a:lnTo>
                  <a:lnTo>
                    <a:pt x="275" y="1241"/>
                  </a:lnTo>
                  <a:lnTo>
                    <a:pt x="280" y="1237"/>
                  </a:lnTo>
                  <a:lnTo>
                    <a:pt x="280" y="1224"/>
                  </a:lnTo>
                  <a:lnTo>
                    <a:pt x="304" y="1184"/>
                  </a:lnTo>
                  <a:lnTo>
                    <a:pt x="379" y="1128"/>
                  </a:lnTo>
                  <a:lnTo>
                    <a:pt x="377" y="1122"/>
                  </a:lnTo>
                  <a:lnTo>
                    <a:pt x="419" y="1102"/>
                  </a:lnTo>
                  <a:lnTo>
                    <a:pt x="464" y="1073"/>
                  </a:lnTo>
                  <a:lnTo>
                    <a:pt x="501" y="1043"/>
                  </a:lnTo>
                  <a:lnTo>
                    <a:pt x="570" y="1042"/>
                  </a:lnTo>
                  <a:lnTo>
                    <a:pt x="583" y="1032"/>
                  </a:lnTo>
                  <a:lnTo>
                    <a:pt x="590" y="1028"/>
                  </a:lnTo>
                  <a:lnTo>
                    <a:pt x="614" y="1037"/>
                  </a:lnTo>
                  <a:lnTo>
                    <a:pt x="626" y="1037"/>
                  </a:lnTo>
                  <a:lnTo>
                    <a:pt x="626" y="1038"/>
                  </a:lnTo>
                  <a:lnTo>
                    <a:pt x="646" y="1038"/>
                  </a:lnTo>
                  <a:lnTo>
                    <a:pt x="694" y="1020"/>
                  </a:lnTo>
                  <a:lnTo>
                    <a:pt x="708" y="1010"/>
                  </a:lnTo>
                  <a:lnTo>
                    <a:pt x="703" y="1002"/>
                  </a:lnTo>
                  <a:lnTo>
                    <a:pt x="679" y="993"/>
                  </a:lnTo>
                  <a:lnTo>
                    <a:pt x="646" y="988"/>
                  </a:lnTo>
                  <a:lnTo>
                    <a:pt x="643" y="990"/>
                  </a:lnTo>
                  <a:lnTo>
                    <a:pt x="606" y="1003"/>
                  </a:lnTo>
                  <a:lnTo>
                    <a:pt x="563" y="1032"/>
                  </a:lnTo>
                  <a:lnTo>
                    <a:pt x="530" y="1034"/>
                  </a:lnTo>
                  <a:lnTo>
                    <a:pt x="519" y="1033"/>
                  </a:lnTo>
                  <a:lnTo>
                    <a:pt x="499" y="1027"/>
                  </a:lnTo>
                  <a:lnTo>
                    <a:pt x="499" y="1013"/>
                  </a:lnTo>
                  <a:lnTo>
                    <a:pt x="508" y="1003"/>
                  </a:lnTo>
                  <a:lnTo>
                    <a:pt x="526" y="998"/>
                  </a:lnTo>
                  <a:lnTo>
                    <a:pt x="561" y="998"/>
                  </a:lnTo>
                  <a:lnTo>
                    <a:pt x="597" y="993"/>
                  </a:lnTo>
                  <a:lnTo>
                    <a:pt x="617" y="982"/>
                  </a:lnTo>
                  <a:lnTo>
                    <a:pt x="617" y="966"/>
                  </a:lnTo>
                  <a:lnTo>
                    <a:pt x="608" y="962"/>
                  </a:lnTo>
                  <a:lnTo>
                    <a:pt x="583" y="959"/>
                  </a:lnTo>
                  <a:lnTo>
                    <a:pt x="544" y="972"/>
                  </a:lnTo>
                  <a:lnTo>
                    <a:pt x="488" y="1007"/>
                  </a:lnTo>
                  <a:lnTo>
                    <a:pt x="475" y="1027"/>
                  </a:lnTo>
                  <a:lnTo>
                    <a:pt x="457" y="1033"/>
                  </a:lnTo>
                  <a:lnTo>
                    <a:pt x="446" y="1048"/>
                  </a:lnTo>
                  <a:lnTo>
                    <a:pt x="402" y="1079"/>
                  </a:lnTo>
                  <a:lnTo>
                    <a:pt x="366" y="1098"/>
                  </a:lnTo>
                  <a:lnTo>
                    <a:pt x="360" y="1087"/>
                  </a:lnTo>
                  <a:lnTo>
                    <a:pt x="360" y="1083"/>
                  </a:lnTo>
                  <a:lnTo>
                    <a:pt x="366" y="1053"/>
                  </a:lnTo>
                  <a:lnTo>
                    <a:pt x="375" y="1044"/>
                  </a:lnTo>
                  <a:lnTo>
                    <a:pt x="377" y="1027"/>
                  </a:lnTo>
                  <a:lnTo>
                    <a:pt x="384" y="1023"/>
                  </a:lnTo>
                  <a:lnTo>
                    <a:pt x="384" y="1022"/>
                  </a:lnTo>
                  <a:lnTo>
                    <a:pt x="395" y="998"/>
                  </a:lnTo>
                  <a:lnTo>
                    <a:pt x="415" y="982"/>
                  </a:lnTo>
                  <a:lnTo>
                    <a:pt x="428" y="972"/>
                  </a:lnTo>
                  <a:lnTo>
                    <a:pt x="437" y="967"/>
                  </a:lnTo>
                  <a:lnTo>
                    <a:pt x="464" y="967"/>
                  </a:lnTo>
                  <a:lnTo>
                    <a:pt x="477" y="961"/>
                  </a:lnTo>
                  <a:lnTo>
                    <a:pt x="535" y="949"/>
                  </a:lnTo>
                  <a:lnTo>
                    <a:pt x="561" y="939"/>
                  </a:lnTo>
                  <a:lnTo>
                    <a:pt x="563" y="939"/>
                  </a:lnTo>
                  <a:lnTo>
                    <a:pt x="599" y="936"/>
                  </a:lnTo>
                  <a:lnTo>
                    <a:pt x="628" y="922"/>
                  </a:lnTo>
                  <a:lnTo>
                    <a:pt x="637" y="916"/>
                  </a:lnTo>
                  <a:lnTo>
                    <a:pt x="637" y="909"/>
                  </a:lnTo>
                  <a:lnTo>
                    <a:pt x="617" y="899"/>
                  </a:lnTo>
                  <a:lnTo>
                    <a:pt x="561" y="899"/>
                  </a:lnTo>
                  <a:lnTo>
                    <a:pt x="546" y="909"/>
                  </a:lnTo>
                  <a:lnTo>
                    <a:pt x="544" y="932"/>
                  </a:lnTo>
                  <a:lnTo>
                    <a:pt x="519" y="944"/>
                  </a:lnTo>
                  <a:lnTo>
                    <a:pt x="477" y="951"/>
                  </a:lnTo>
                  <a:lnTo>
                    <a:pt x="457" y="957"/>
                  </a:lnTo>
                  <a:lnTo>
                    <a:pt x="519" y="911"/>
                  </a:lnTo>
                  <a:lnTo>
                    <a:pt x="557" y="874"/>
                  </a:lnTo>
                  <a:lnTo>
                    <a:pt x="557" y="869"/>
                  </a:lnTo>
                  <a:lnTo>
                    <a:pt x="619" y="876"/>
                  </a:lnTo>
                  <a:lnTo>
                    <a:pt x="634" y="883"/>
                  </a:lnTo>
                  <a:lnTo>
                    <a:pt x="637" y="898"/>
                  </a:lnTo>
                  <a:lnTo>
                    <a:pt x="659" y="905"/>
                  </a:lnTo>
                  <a:lnTo>
                    <a:pt x="690" y="899"/>
                  </a:lnTo>
                  <a:lnTo>
                    <a:pt x="714" y="883"/>
                  </a:lnTo>
                  <a:lnTo>
                    <a:pt x="708" y="874"/>
                  </a:lnTo>
                  <a:lnTo>
                    <a:pt x="699" y="871"/>
                  </a:lnTo>
                  <a:lnTo>
                    <a:pt x="679" y="868"/>
                  </a:lnTo>
                  <a:lnTo>
                    <a:pt x="643" y="871"/>
                  </a:lnTo>
                  <a:lnTo>
                    <a:pt x="637" y="871"/>
                  </a:lnTo>
                  <a:lnTo>
                    <a:pt x="637" y="868"/>
                  </a:lnTo>
                  <a:lnTo>
                    <a:pt x="577" y="863"/>
                  </a:lnTo>
                  <a:lnTo>
                    <a:pt x="561" y="859"/>
                  </a:lnTo>
                  <a:lnTo>
                    <a:pt x="552" y="861"/>
                  </a:lnTo>
                  <a:lnTo>
                    <a:pt x="606" y="824"/>
                  </a:lnTo>
                  <a:lnTo>
                    <a:pt x="665" y="824"/>
                  </a:lnTo>
                  <a:lnTo>
                    <a:pt x="690" y="819"/>
                  </a:lnTo>
                  <a:lnTo>
                    <a:pt x="712" y="808"/>
                  </a:lnTo>
                  <a:lnTo>
                    <a:pt x="703" y="784"/>
                  </a:lnTo>
                  <a:lnTo>
                    <a:pt x="685" y="779"/>
                  </a:lnTo>
                  <a:lnTo>
                    <a:pt x="617" y="794"/>
                  </a:lnTo>
                  <a:lnTo>
                    <a:pt x="592" y="813"/>
                  </a:lnTo>
                  <a:lnTo>
                    <a:pt x="592" y="819"/>
                  </a:lnTo>
                  <a:lnTo>
                    <a:pt x="588" y="819"/>
                  </a:lnTo>
                  <a:lnTo>
                    <a:pt x="577" y="832"/>
                  </a:lnTo>
                  <a:lnTo>
                    <a:pt x="566" y="837"/>
                  </a:lnTo>
                  <a:lnTo>
                    <a:pt x="563" y="827"/>
                  </a:lnTo>
                  <a:lnTo>
                    <a:pt x="544" y="818"/>
                  </a:lnTo>
                  <a:lnTo>
                    <a:pt x="521" y="822"/>
                  </a:lnTo>
                  <a:lnTo>
                    <a:pt x="495" y="829"/>
                  </a:lnTo>
                  <a:lnTo>
                    <a:pt x="477" y="842"/>
                  </a:lnTo>
                  <a:lnTo>
                    <a:pt x="477" y="847"/>
                  </a:lnTo>
                  <a:lnTo>
                    <a:pt x="433" y="861"/>
                  </a:lnTo>
                  <a:lnTo>
                    <a:pt x="442" y="838"/>
                  </a:lnTo>
                  <a:lnTo>
                    <a:pt x="448" y="832"/>
                  </a:lnTo>
                  <a:lnTo>
                    <a:pt x="468" y="832"/>
                  </a:lnTo>
                  <a:lnTo>
                    <a:pt x="493" y="824"/>
                  </a:lnTo>
                  <a:lnTo>
                    <a:pt x="517" y="809"/>
                  </a:lnTo>
                  <a:lnTo>
                    <a:pt x="526" y="787"/>
                  </a:lnTo>
                  <a:lnTo>
                    <a:pt x="519" y="779"/>
                  </a:lnTo>
                  <a:lnTo>
                    <a:pt x="499" y="783"/>
                  </a:lnTo>
                  <a:lnTo>
                    <a:pt x="455" y="804"/>
                  </a:lnTo>
                  <a:lnTo>
                    <a:pt x="439" y="823"/>
                  </a:lnTo>
                  <a:lnTo>
                    <a:pt x="437" y="823"/>
                  </a:lnTo>
                  <a:lnTo>
                    <a:pt x="433" y="822"/>
                  </a:lnTo>
                  <a:lnTo>
                    <a:pt x="426" y="839"/>
                  </a:lnTo>
                  <a:lnTo>
                    <a:pt x="406" y="878"/>
                  </a:lnTo>
                  <a:lnTo>
                    <a:pt x="415" y="889"/>
                  </a:lnTo>
                  <a:lnTo>
                    <a:pt x="415" y="898"/>
                  </a:lnTo>
                  <a:lnTo>
                    <a:pt x="413" y="899"/>
                  </a:lnTo>
                  <a:lnTo>
                    <a:pt x="413" y="898"/>
                  </a:lnTo>
                  <a:lnTo>
                    <a:pt x="411" y="896"/>
                  </a:lnTo>
                  <a:lnTo>
                    <a:pt x="402" y="904"/>
                  </a:lnTo>
                  <a:lnTo>
                    <a:pt x="391" y="934"/>
                  </a:lnTo>
                  <a:lnTo>
                    <a:pt x="366" y="968"/>
                  </a:lnTo>
                  <a:lnTo>
                    <a:pt x="366" y="936"/>
                  </a:lnTo>
                  <a:lnTo>
                    <a:pt x="360" y="925"/>
                  </a:lnTo>
                  <a:lnTo>
                    <a:pt x="348" y="905"/>
                  </a:lnTo>
                  <a:lnTo>
                    <a:pt x="342" y="899"/>
                  </a:lnTo>
                  <a:lnTo>
                    <a:pt x="348" y="896"/>
                  </a:lnTo>
                  <a:lnTo>
                    <a:pt x="348" y="851"/>
                  </a:lnTo>
                  <a:lnTo>
                    <a:pt x="353" y="842"/>
                  </a:lnTo>
                  <a:lnTo>
                    <a:pt x="384" y="834"/>
                  </a:lnTo>
                  <a:lnTo>
                    <a:pt x="395" y="827"/>
                  </a:lnTo>
                  <a:lnTo>
                    <a:pt x="411" y="802"/>
                  </a:lnTo>
                  <a:lnTo>
                    <a:pt x="404" y="797"/>
                  </a:lnTo>
                  <a:lnTo>
                    <a:pt x="391" y="793"/>
                  </a:lnTo>
                  <a:lnTo>
                    <a:pt x="384" y="793"/>
                  </a:lnTo>
                  <a:lnTo>
                    <a:pt x="379" y="794"/>
                  </a:lnTo>
                  <a:lnTo>
                    <a:pt x="379" y="793"/>
                  </a:lnTo>
                  <a:lnTo>
                    <a:pt x="377" y="792"/>
                  </a:lnTo>
                  <a:lnTo>
                    <a:pt x="364" y="794"/>
                  </a:lnTo>
                  <a:lnTo>
                    <a:pt x="360" y="793"/>
                  </a:lnTo>
                  <a:lnTo>
                    <a:pt x="331" y="809"/>
                  </a:lnTo>
                  <a:lnTo>
                    <a:pt x="331" y="827"/>
                  </a:lnTo>
                  <a:lnTo>
                    <a:pt x="337" y="832"/>
                  </a:lnTo>
                  <a:lnTo>
                    <a:pt x="331" y="853"/>
                  </a:lnTo>
                  <a:lnTo>
                    <a:pt x="331" y="883"/>
                  </a:lnTo>
                  <a:lnTo>
                    <a:pt x="302" y="873"/>
                  </a:lnTo>
                  <a:lnTo>
                    <a:pt x="291" y="843"/>
                  </a:lnTo>
                  <a:lnTo>
                    <a:pt x="262" y="827"/>
                  </a:lnTo>
                  <a:lnTo>
                    <a:pt x="233" y="817"/>
                  </a:lnTo>
                  <a:lnTo>
                    <a:pt x="224" y="817"/>
                  </a:lnTo>
                  <a:lnTo>
                    <a:pt x="224" y="843"/>
                  </a:lnTo>
                  <a:lnTo>
                    <a:pt x="244" y="866"/>
                  </a:lnTo>
                  <a:lnTo>
                    <a:pt x="262" y="878"/>
                  </a:lnTo>
                  <a:lnTo>
                    <a:pt x="280" y="884"/>
                  </a:lnTo>
                  <a:lnTo>
                    <a:pt x="313" y="886"/>
                  </a:lnTo>
                  <a:lnTo>
                    <a:pt x="317" y="886"/>
                  </a:lnTo>
                  <a:lnTo>
                    <a:pt x="331" y="898"/>
                  </a:lnTo>
                  <a:lnTo>
                    <a:pt x="348" y="929"/>
                  </a:lnTo>
                  <a:lnTo>
                    <a:pt x="353" y="946"/>
                  </a:lnTo>
                  <a:lnTo>
                    <a:pt x="351" y="970"/>
                  </a:lnTo>
                  <a:lnTo>
                    <a:pt x="353" y="972"/>
                  </a:lnTo>
                  <a:lnTo>
                    <a:pt x="360" y="972"/>
                  </a:lnTo>
                  <a:lnTo>
                    <a:pt x="357" y="981"/>
                  </a:lnTo>
                  <a:lnTo>
                    <a:pt x="328" y="1007"/>
                  </a:lnTo>
                  <a:lnTo>
                    <a:pt x="328" y="1039"/>
                  </a:lnTo>
                  <a:lnTo>
                    <a:pt x="333" y="1052"/>
                  </a:lnTo>
                  <a:lnTo>
                    <a:pt x="331" y="1067"/>
                  </a:lnTo>
                  <a:lnTo>
                    <a:pt x="306" y="1058"/>
                  </a:lnTo>
                  <a:lnTo>
                    <a:pt x="262" y="1028"/>
                  </a:lnTo>
                  <a:lnTo>
                    <a:pt x="260" y="1023"/>
                  </a:lnTo>
                  <a:lnTo>
                    <a:pt x="266" y="1020"/>
                  </a:lnTo>
                  <a:lnTo>
                    <a:pt x="266" y="1016"/>
                  </a:lnTo>
                  <a:lnTo>
                    <a:pt x="218" y="992"/>
                  </a:lnTo>
                  <a:lnTo>
                    <a:pt x="209" y="992"/>
                  </a:lnTo>
                  <a:lnTo>
                    <a:pt x="209" y="977"/>
                  </a:lnTo>
                  <a:lnTo>
                    <a:pt x="224" y="964"/>
                  </a:lnTo>
                  <a:lnTo>
                    <a:pt x="215" y="937"/>
                  </a:lnTo>
                  <a:lnTo>
                    <a:pt x="204" y="927"/>
                  </a:lnTo>
                  <a:lnTo>
                    <a:pt x="180" y="921"/>
                  </a:lnTo>
                  <a:lnTo>
                    <a:pt x="173" y="921"/>
                  </a:lnTo>
                  <a:lnTo>
                    <a:pt x="164" y="940"/>
                  </a:lnTo>
                  <a:lnTo>
                    <a:pt x="171" y="981"/>
                  </a:lnTo>
                  <a:lnTo>
                    <a:pt x="187" y="993"/>
                  </a:lnTo>
                  <a:lnTo>
                    <a:pt x="224" y="1003"/>
                  </a:lnTo>
                  <a:lnTo>
                    <a:pt x="235" y="1013"/>
                  </a:lnTo>
                  <a:lnTo>
                    <a:pt x="229" y="1020"/>
                  </a:lnTo>
                  <a:lnTo>
                    <a:pt x="224" y="1016"/>
                  </a:lnTo>
                  <a:lnTo>
                    <a:pt x="189" y="1002"/>
                  </a:lnTo>
                  <a:lnTo>
                    <a:pt x="160" y="1002"/>
                  </a:lnTo>
                  <a:lnTo>
                    <a:pt x="125" y="996"/>
                  </a:lnTo>
                  <a:lnTo>
                    <a:pt x="109" y="997"/>
                  </a:lnTo>
                  <a:lnTo>
                    <a:pt x="102" y="1003"/>
                  </a:lnTo>
                  <a:lnTo>
                    <a:pt x="107" y="1027"/>
                  </a:lnTo>
                  <a:lnTo>
                    <a:pt x="120" y="1042"/>
                  </a:lnTo>
                  <a:lnTo>
                    <a:pt x="136" y="1042"/>
                  </a:lnTo>
                  <a:lnTo>
                    <a:pt x="180" y="1024"/>
                  </a:lnTo>
                  <a:lnTo>
                    <a:pt x="182" y="1027"/>
                  </a:lnTo>
                  <a:lnTo>
                    <a:pt x="191" y="1022"/>
                  </a:lnTo>
                  <a:lnTo>
                    <a:pt x="191" y="1016"/>
                  </a:lnTo>
                  <a:lnTo>
                    <a:pt x="200" y="1017"/>
                  </a:lnTo>
                  <a:lnTo>
                    <a:pt x="207" y="1020"/>
                  </a:lnTo>
                  <a:lnTo>
                    <a:pt x="207" y="1028"/>
                  </a:lnTo>
                  <a:lnTo>
                    <a:pt x="224" y="1034"/>
                  </a:lnTo>
                  <a:lnTo>
                    <a:pt x="227" y="1033"/>
                  </a:lnTo>
                  <a:lnTo>
                    <a:pt x="251" y="1051"/>
                  </a:lnTo>
                  <a:lnTo>
                    <a:pt x="169" y="1053"/>
                  </a:lnTo>
                  <a:lnTo>
                    <a:pt x="147" y="1057"/>
                  </a:lnTo>
                  <a:lnTo>
                    <a:pt x="118" y="1067"/>
                  </a:lnTo>
                  <a:lnTo>
                    <a:pt x="107" y="1083"/>
                  </a:lnTo>
                  <a:lnTo>
                    <a:pt x="107" y="1088"/>
                  </a:lnTo>
                  <a:lnTo>
                    <a:pt x="127" y="1094"/>
                  </a:lnTo>
                  <a:lnTo>
                    <a:pt x="153" y="1092"/>
                  </a:lnTo>
                  <a:lnTo>
                    <a:pt x="178" y="1077"/>
                  </a:lnTo>
                  <a:lnTo>
                    <a:pt x="180" y="1066"/>
                  </a:lnTo>
                  <a:lnTo>
                    <a:pt x="198" y="1058"/>
                  </a:lnTo>
                  <a:lnTo>
                    <a:pt x="242" y="1059"/>
                  </a:lnTo>
                  <a:lnTo>
                    <a:pt x="266" y="1066"/>
                  </a:lnTo>
                  <a:lnTo>
                    <a:pt x="302" y="1083"/>
                  </a:lnTo>
                  <a:lnTo>
                    <a:pt x="322" y="1097"/>
                  </a:lnTo>
                  <a:lnTo>
                    <a:pt x="322" y="1112"/>
                  </a:lnTo>
                  <a:lnTo>
                    <a:pt x="304" y="1132"/>
                  </a:lnTo>
                  <a:lnTo>
                    <a:pt x="295" y="1138"/>
                  </a:lnTo>
                  <a:lnTo>
                    <a:pt x="297" y="1139"/>
                  </a:lnTo>
                  <a:lnTo>
                    <a:pt x="278" y="1148"/>
                  </a:lnTo>
                  <a:lnTo>
                    <a:pt x="253" y="1171"/>
                  </a:lnTo>
                  <a:lnTo>
                    <a:pt x="249" y="1181"/>
                  </a:lnTo>
                  <a:lnTo>
                    <a:pt x="233" y="1194"/>
                  </a:lnTo>
                  <a:lnTo>
                    <a:pt x="218" y="1221"/>
                  </a:lnTo>
                  <a:lnTo>
                    <a:pt x="215" y="1302"/>
                  </a:lnTo>
                  <a:lnTo>
                    <a:pt x="195" y="1342"/>
                  </a:lnTo>
                  <a:lnTo>
                    <a:pt x="162" y="1358"/>
                  </a:lnTo>
                  <a:lnTo>
                    <a:pt x="162" y="1366"/>
                  </a:lnTo>
                  <a:lnTo>
                    <a:pt x="127" y="1368"/>
                  </a:lnTo>
                  <a:lnTo>
                    <a:pt x="116" y="1363"/>
                  </a:lnTo>
                  <a:lnTo>
                    <a:pt x="111" y="1363"/>
                  </a:lnTo>
                  <a:lnTo>
                    <a:pt x="109" y="1366"/>
                  </a:lnTo>
                  <a:lnTo>
                    <a:pt x="100" y="1361"/>
                  </a:lnTo>
                  <a:lnTo>
                    <a:pt x="71" y="1358"/>
                  </a:lnTo>
                  <a:lnTo>
                    <a:pt x="36" y="1366"/>
                  </a:lnTo>
                  <a:lnTo>
                    <a:pt x="23" y="1362"/>
                  </a:lnTo>
                  <a:lnTo>
                    <a:pt x="20" y="1362"/>
                  </a:lnTo>
                  <a:lnTo>
                    <a:pt x="18" y="1363"/>
                  </a:lnTo>
                  <a:lnTo>
                    <a:pt x="18" y="1201"/>
                  </a:lnTo>
                  <a:lnTo>
                    <a:pt x="11" y="1199"/>
                  </a:lnTo>
                  <a:lnTo>
                    <a:pt x="14" y="1199"/>
                  </a:lnTo>
                  <a:lnTo>
                    <a:pt x="14" y="1097"/>
                  </a:lnTo>
                  <a:lnTo>
                    <a:pt x="5" y="990"/>
                  </a:lnTo>
                  <a:lnTo>
                    <a:pt x="5" y="893"/>
                  </a:lnTo>
                  <a:lnTo>
                    <a:pt x="18" y="798"/>
                  </a:lnTo>
                  <a:lnTo>
                    <a:pt x="18" y="789"/>
                  </a:lnTo>
                  <a:lnTo>
                    <a:pt x="20" y="767"/>
                  </a:lnTo>
                  <a:lnTo>
                    <a:pt x="18" y="543"/>
                  </a:lnTo>
                  <a:lnTo>
                    <a:pt x="11" y="529"/>
                  </a:lnTo>
                  <a:lnTo>
                    <a:pt x="11" y="498"/>
                  </a:lnTo>
                  <a:lnTo>
                    <a:pt x="3" y="428"/>
                  </a:lnTo>
                  <a:lnTo>
                    <a:pt x="3" y="345"/>
                  </a:lnTo>
                  <a:lnTo>
                    <a:pt x="0" y="218"/>
                  </a:lnTo>
                  <a:lnTo>
                    <a:pt x="5" y="145"/>
                  </a:lnTo>
                  <a:lnTo>
                    <a:pt x="5" y="95"/>
                  </a:lnTo>
                  <a:lnTo>
                    <a:pt x="0" y="90"/>
                  </a:lnTo>
                  <a:lnTo>
                    <a:pt x="0" y="0"/>
                  </a:lnTo>
                  <a:lnTo>
                    <a:pt x="9" y="4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4200" y="3379680"/>
              <a:ext cx="1116000" cy="902880"/>
            </a:xfrm>
            <a:custGeom>
              <a:avLst/>
              <a:gdLst/>
              <a:ahLst/>
              <a:rect l="l" t="t" r="r" b="b"/>
              <a:pathLst>
                <a:path w="854" h="834">
                  <a:moveTo>
                    <a:pt x="796" y="11"/>
                  </a:moveTo>
                  <a:lnTo>
                    <a:pt x="630" y="0"/>
                  </a:lnTo>
                  <a:lnTo>
                    <a:pt x="608" y="35"/>
                  </a:lnTo>
                  <a:lnTo>
                    <a:pt x="734" y="59"/>
                  </a:lnTo>
                  <a:lnTo>
                    <a:pt x="723" y="123"/>
                  </a:lnTo>
                  <a:lnTo>
                    <a:pt x="377" y="82"/>
                  </a:lnTo>
                  <a:lnTo>
                    <a:pt x="388" y="158"/>
                  </a:lnTo>
                  <a:lnTo>
                    <a:pt x="588" y="194"/>
                  </a:lnTo>
                  <a:lnTo>
                    <a:pt x="639" y="270"/>
                  </a:lnTo>
                  <a:lnTo>
                    <a:pt x="608" y="329"/>
                  </a:lnTo>
                  <a:lnTo>
                    <a:pt x="494" y="329"/>
                  </a:lnTo>
                  <a:lnTo>
                    <a:pt x="548" y="334"/>
                  </a:lnTo>
                  <a:lnTo>
                    <a:pt x="548" y="337"/>
                  </a:lnTo>
                  <a:lnTo>
                    <a:pt x="554" y="337"/>
                  </a:lnTo>
                  <a:lnTo>
                    <a:pt x="590" y="334"/>
                  </a:lnTo>
                  <a:lnTo>
                    <a:pt x="610" y="337"/>
                  </a:lnTo>
                  <a:lnTo>
                    <a:pt x="619" y="340"/>
                  </a:lnTo>
                  <a:lnTo>
                    <a:pt x="625" y="349"/>
                  </a:lnTo>
                  <a:lnTo>
                    <a:pt x="601" y="365"/>
                  </a:lnTo>
                  <a:lnTo>
                    <a:pt x="570" y="371"/>
                  </a:lnTo>
                  <a:lnTo>
                    <a:pt x="548" y="364"/>
                  </a:lnTo>
                  <a:lnTo>
                    <a:pt x="545" y="349"/>
                  </a:lnTo>
                  <a:lnTo>
                    <a:pt x="530" y="342"/>
                  </a:lnTo>
                  <a:lnTo>
                    <a:pt x="468" y="335"/>
                  </a:lnTo>
                  <a:lnTo>
                    <a:pt x="468" y="340"/>
                  </a:lnTo>
                  <a:lnTo>
                    <a:pt x="430" y="377"/>
                  </a:lnTo>
                  <a:lnTo>
                    <a:pt x="368" y="423"/>
                  </a:lnTo>
                  <a:lnTo>
                    <a:pt x="388" y="417"/>
                  </a:lnTo>
                  <a:lnTo>
                    <a:pt x="430" y="410"/>
                  </a:lnTo>
                  <a:lnTo>
                    <a:pt x="455" y="398"/>
                  </a:lnTo>
                  <a:lnTo>
                    <a:pt x="457" y="375"/>
                  </a:lnTo>
                  <a:lnTo>
                    <a:pt x="472" y="365"/>
                  </a:lnTo>
                  <a:lnTo>
                    <a:pt x="528" y="365"/>
                  </a:lnTo>
                  <a:lnTo>
                    <a:pt x="548" y="375"/>
                  </a:lnTo>
                  <a:lnTo>
                    <a:pt x="548" y="382"/>
                  </a:lnTo>
                  <a:lnTo>
                    <a:pt x="539" y="388"/>
                  </a:lnTo>
                  <a:lnTo>
                    <a:pt x="510" y="402"/>
                  </a:lnTo>
                  <a:lnTo>
                    <a:pt x="474" y="405"/>
                  </a:lnTo>
                  <a:lnTo>
                    <a:pt x="472" y="405"/>
                  </a:lnTo>
                  <a:lnTo>
                    <a:pt x="446" y="415"/>
                  </a:lnTo>
                  <a:lnTo>
                    <a:pt x="388" y="427"/>
                  </a:lnTo>
                  <a:lnTo>
                    <a:pt x="375" y="433"/>
                  </a:lnTo>
                  <a:lnTo>
                    <a:pt x="348" y="433"/>
                  </a:lnTo>
                  <a:lnTo>
                    <a:pt x="344" y="436"/>
                  </a:lnTo>
                  <a:lnTo>
                    <a:pt x="408" y="436"/>
                  </a:lnTo>
                  <a:lnTo>
                    <a:pt x="410" y="439"/>
                  </a:lnTo>
                  <a:lnTo>
                    <a:pt x="412" y="443"/>
                  </a:lnTo>
                  <a:lnTo>
                    <a:pt x="412" y="447"/>
                  </a:lnTo>
                  <a:lnTo>
                    <a:pt x="415" y="451"/>
                  </a:lnTo>
                  <a:lnTo>
                    <a:pt x="415" y="454"/>
                  </a:lnTo>
                  <a:lnTo>
                    <a:pt x="415" y="457"/>
                  </a:lnTo>
                  <a:lnTo>
                    <a:pt x="417" y="459"/>
                  </a:lnTo>
                  <a:lnTo>
                    <a:pt x="417" y="461"/>
                  </a:lnTo>
                  <a:lnTo>
                    <a:pt x="455" y="438"/>
                  </a:lnTo>
                  <a:lnTo>
                    <a:pt x="494" y="425"/>
                  </a:lnTo>
                  <a:lnTo>
                    <a:pt x="519" y="428"/>
                  </a:lnTo>
                  <a:lnTo>
                    <a:pt x="528" y="432"/>
                  </a:lnTo>
                  <a:lnTo>
                    <a:pt x="528" y="448"/>
                  </a:lnTo>
                  <a:lnTo>
                    <a:pt x="508" y="459"/>
                  </a:lnTo>
                  <a:lnTo>
                    <a:pt x="472" y="464"/>
                  </a:lnTo>
                  <a:lnTo>
                    <a:pt x="437" y="464"/>
                  </a:lnTo>
                  <a:lnTo>
                    <a:pt x="419" y="469"/>
                  </a:lnTo>
                  <a:lnTo>
                    <a:pt x="419" y="469"/>
                  </a:lnTo>
                  <a:lnTo>
                    <a:pt x="419" y="469"/>
                  </a:lnTo>
                  <a:lnTo>
                    <a:pt x="419" y="471"/>
                  </a:lnTo>
                  <a:lnTo>
                    <a:pt x="419" y="471"/>
                  </a:lnTo>
                  <a:lnTo>
                    <a:pt x="419" y="471"/>
                  </a:lnTo>
                  <a:lnTo>
                    <a:pt x="419" y="471"/>
                  </a:lnTo>
                  <a:lnTo>
                    <a:pt x="419" y="471"/>
                  </a:lnTo>
                  <a:lnTo>
                    <a:pt x="419" y="471"/>
                  </a:lnTo>
                  <a:lnTo>
                    <a:pt x="417" y="471"/>
                  </a:lnTo>
                  <a:lnTo>
                    <a:pt x="410" y="479"/>
                  </a:lnTo>
                  <a:lnTo>
                    <a:pt x="410" y="493"/>
                  </a:lnTo>
                  <a:lnTo>
                    <a:pt x="430" y="499"/>
                  </a:lnTo>
                  <a:lnTo>
                    <a:pt x="441" y="500"/>
                  </a:lnTo>
                  <a:lnTo>
                    <a:pt x="474" y="498"/>
                  </a:lnTo>
                  <a:lnTo>
                    <a:pt x="517" y="469"/>
                  </a:lnTo>
                  <a:lnTo>
                    <a:pt x="554" y="456"/>
                  </a:lnTo>
                  <a:lnTo>
                    <a:pt x="557" y="454"/>
                  </a:lnTo>
                  <a:lnTo>
                    <a:pt x="590" y="459"/>
                  </a:lnTo>
                  <a:lnTo>
                    <a:pt x="614" y="468"/>
                  </a:lnTo>
                  <a:lnTo>
                    <a:pt x="619" y="476"/>
                  </a:lnTo>
                  <a:lnTo>
                    <a:pt x="605" y="486"/>
                  </a:lnTo>
                  <a:lnTo>
                    <a:pt x="557" y="504"/>
                  </a:lnTo>
                  <a:lnTo>
                    <a:pt x="537" y="504"/>
                  </a:lnTo>
                  <a:lnTo>
                    <a:pt x="537" y="503"/>
                  </a:lnTo>
                  <a:lnTo>
                    <a:pt x="525" y="503"/>
                  </a:lnTo>
                  <a:lnTo>
                    <a:pt x="501" y="494"/>
                  </a:lnTo>
                  <a:lnTo>
                    <a:pt x="494" y="498"/>
                  </a:lnTo>
                  <a:lnTo>
                    <a:pt x="481" y="508"/>
                  </a:lnTo>
                  <a:lnTo>
                    <a:pt x="412" y="509"/>
                  </a:lnTo>
                  <a:lnTo>
                    <a:pt x="375" y="539"/>
                  </a:lnTo>
                  <a:lnTo>
                    <a:pt x="330" y="568"/>
                  </a:lnTo>
                  <a:lnTo>
                    <a:pt x="288" y="588"/>
                  </a:lnTo>
                  <a:lnTo>
                    <a:pt x="290" y="594"/>
                  </a:lnTo>
                  <a:lnTo>
                    <a:pt x="215" y="650"/>
                  </a:lnTo>
                  <a:lnTo>
                    <a:pt x="191" y="690"/>
                  </a:lnTo>
                  <a:lnTo>
                    <a:pt x="191" y="703"/>
                  </a:lnTo>
                  <a:lnTo>
                    <a:pt x="186" y="707"/>
                  </a:lnTo>
                  <a:lnTo>
                    <a:pt x="182" y="736"/>
                  </a:lnTo>
                  <a:lnTo>
                    <a:pt x="189" y="757"/>
                  </a:lnTo>
                  <a:lnTo>
                    <a:pt x="189" y="769"/>
                  </a:lnTo>
                  <a:lnTo>
                    <a:pt x="186" y="797"/>
                  </a:lnTo>
                  <a:lnTo>
                    <a:pt x="200" y="812"/>
                  </a:lnTo>
                  <a:lnTo>
                    <a:pt x="206" y="812"/>
                  </a:lnTo>
                  <a:lnTo>
                    <a:pt x="222" y="823"/>
                  </a:lnTo>
                  <a:lnTo>
                    <a:pt x="248" y="819"/>
                  </a:lnTo>
                  <a:lnTo>
                    <a:pt x="257" y="833"/>
                  </a:lnTo>
                  <a:lnTo>
                    <a:pt x="264" y="834"/>
                  </a:lnTo>
                  <a:lnTo>
                    <a:pt x="306" y="808"/>
                  </a:lnTo>
                  <a:lnTo>
                    <a:pt x="313" y="812"/>
                  </a:lnTo>
                  <a:lnTo>
                    <a:pt x="317" y="832"/>
                  </a:lnTo>
                  <a:lnTo>
                    <a:pt x="330" y="824"/>
                  </a:lnTo>
                  <a:lnTo>
                    <a:pt x="353" y="803"/>
                  </a:lnTo>
                  <a:lnTo>
                    <a:pt x="368" y="798"/>
                  </a:lnTo>
                  <a:lnTo>
                    <a:pt x="384" y="803"/>
                  </a:lnTo>
                  <a:lnTo>
                    <a:pt x="384" y="827"/>
                  </a:lnTo>
                  <a:lnTo>
                    <a:pt x="388" y="829"/>
                  </a:lnTo>
                  <a:lnTo>
                    <a:pt x="401" y="832"/>
                  </a:lnTo>
                  <a:lnTo>
                    <a:pt x="457" y="819"/>
                  </a:lnTo>
                  <a:lnTo>
                    <a:pt x="463" y="800"/>
                  </a:lnTo>
                  <a:lnTo>
                    <a:pt x="439" y="753"/>
                  </a:lnTo>
                  <a:lnTo>
                    <a:pt x="455" y="729"/>
                  </a:lnTo>
                  <a:lnTo>
                    <a:pt x="499" y="703"/>
                  </a:lnTo>
                  <a:lnTo>
                    <a:pt x="537" y="675"/>
                  </a:lnTo>
                  <a:lnTo>
                    <a:pt x="548" y="657"/>
                  </a:lnTo>
                  <a:lnTo>
                    <a:pt x="548" y="640"/>
                  </a:lnTo>
                  <a:lnTo>
                    <a:pt x="554" y="637"/>
                  </a:lnTo>
                  <a:lnTo>
                    <a:pt x="557" y="639"/>
                  </a:lnTo>
                  <a:lnTo>
                    <a:pt x="616" y="622"/>
                  </a:lnTo>
                  <a:lnTo>
                    <a:pt x="601" y="622"/>
                  </a:lnTo>
                  <a:lnTo>
                    <a:pt x="588" y="625"/>
                  </a:lnTo>
                  <a:lnTo>
                    <a:pt x="570" y="620"/>
                  </a:lnTo>
                  <a:lnTo>
                    <a:pt x="563" y="605"/>
                  </a:lnTo>
                  <a:lnTo>
                    <a:pt x="572" y="584"/>
                  </a:lnTo>
                  <a:lnTo>
                    <a:pt x="554" y="599"/>
                  </a:lnTo>
                  <a:lnTo>
                    <a:pt x="543" y="600"/>
                  </a:lnTo>
                  <a:lnTo>
                    <a:pt x="543" y="603"/>
                  </a:lnTo>
                  <a:lnTo>
                    <a:pt x="545" y="604"/>
                  </a:lnTo>
                  <a:lnTo>
                    <a:pt x="534" y="632"/>
                  </a:lnTo>
                  <a:lnTo>
                    <a:pt x="521" y="649"/>
                  </a:lnTo>
                  <a:lnTo>
                    <a:pt x="494" y="678"/>
                  </a:lnTo>
                  <a:lnTo>
                    <a:pt x="455" y="705"/>
                  </a:lnTo>
                  <a:lnTo>
                    <a:pt x="437" y="720"/>
                  </a:lnTo>
                  <a:lnTo>
                    <a:pt x="426" y="747"/>
                  </a:lnTo>
                  <a:lnTo>
                    <a:pt x="421" y="804"/>
                  </a:lnTo>
                  <a:lnTo>
                    <a:pt x="401" y="827"/>
                  </a:lnTo>
                  <a:lnTo>
                    <a:pt x="392" y="827"/>
                  </a:lnTo>
                  <a:lnTo>
                    <a:pt x="388" y="824"/>
                  </a:lnTo>
                  <a:lnTo>
                    <a:pt x="399" y="809"/>
                  </a:lnTo>
                  <a:lnTo>
                    <a:pt x="406" y="768"/>
                  </a:lnTo>
                  <a:lnTo>
                    <a:pt x="406" y="752"/>
                  </a:lnTo>
                  <a:lnTo>
                    <a:pt x="421" y="717"/>
                  </a:lnTo>
                  <a:lnTo>
                    <a:pt x="490" y="672"/>
                  </a:lnTo>
                  <a:lnTo>
                    <a:pt x="514" y="645"/>
                  </a:lnTo>
                  <a:lnTo>
                    <a:pt x="525" y="615"/>
                  </a:lnTo>
                  <a:lnTo>
                    <a:pt x="530" y="609"/>
                  </a:lnTo>
                  <a:lnTo>
                    <a:pt x="517" y="603"/>
                  </a:lnTo>
                  <a:lnTo>
                    <a:pt x="517" y="599"/>
                  </a:lnTo>
                  <a:lnTo>
                    <a:pt x="459" y="554"/>
                  </a:lnTo>
                  <a:lnTo>
                    <a:pt x="459" y="540"/>
                  </a:lnTo>
                  <a:lnTo>
                    <a:pt x="483" y="524"/>
                  </a:lnTo>
                  <a:lnTo>
                    <a:pt x="499" y="524"/>
                  </a:lnTo>
                  <a:lnTo>
                    <a:pt x="514" y="529"/>
                  </a:lnTo>
                  <a:lnTo>
                    <a:pt x="519" y="543"/>
                  </a:lnTo>
                  <a:lnTo>
                    <a:pt x="503" y="573"/>
                  </a:lnTo>
                  <a:lnTo>
                    <a:pt x="530" y="595"/>
                  </a:lnTo>
                  <a:lnTo>
                    <a:pt x="530" y="590"/>
                  </a:lnTo>
                  <a:lnTo>
                    <a:pt x="537" y="588"/>
                  </a:lnTo>
                  <a:lnTo>
                    <a:pt x="539" y="588"/>
                  </a:lnTo>
                  <a:lnTo>
                    <a:pt x="543" y="589"/>
                  </a:lnTo>
                  <a:lnTo>
                    <a:pt x="552" y="584"/>
                  </a:lnTo>
                  <a:lnTo>
                    <a:pt x="563" y="574"/>
                  </a:lnTo>
                  <a:lnTo>
                    <a:pt x="563" y="559"/>
                  </a:lnTo>
                  <a:lnTo>
                    <a:pt x="588" y="544"/>
                  </a:lnTo>
                  <a:lnTo>
                    <a:pt x="605" y="539"/>
                  </a:lnTo>
                  <a:lnTo>
                    <a:pt x="605" y="535"/>
                  </a:lnTo>
                  <a:lnTo>
                    <a:pt x="623" y="523"/>
                  </a:lnTo>
                  <a:lnTo>
                    <a:pt x="634" y="519"/>
                  </a:lnTo>
                  <a:lnTo>
                    <a:pt x="645" y="525"/>
                  </a:lnTo>
                  <a:lnTo>
                    <a:pt x="687" y="509"/>
                  </a:lnTo>
                  <a:lnTo>
                    <a:pt x="687" y="504"/>
                  </a:lnTo>
                  <a:lnTo>
                    <a:pt x="703" y="494"/>
                  </a:lnTo>
                  <a:lnTo>
                    <a:pt x="723" y="497"/>
                  </a:lnTo>
                  <a:lnTo>
                    <a:pt x="747" y="505"/>
                  </a:lnTo>
                  <a:lnTo>
                    <a:pt x="752" y="513"/>
                  </a:lnTo>
                  <a:lnTo>
                    <a:pt x="741" y="520"/>
                  </a:lnTo>
                  <a:lnTo>
                    <a:pt x="705" y="534"/>
                  </a:lnTo>
                  <a:lnTo>
                    <a:pt x="658" y="540"/>
                  </a:lnTo>
                  <a:lnTo>
                    <a:pt x="645" y="538"/>
                  </a:lnTo>
                  <a:lnTo>
                    <a:pt x="623" y="550"/>
                  </a:lnTo>
                  <a:lnTo>
                    <a:pt x="588" y="589"/>
                  </a:lnTo>
                  <a:lnTo>
                    <a:pt x="581" y="615"/>
                  </a:lnTo>
                  <a:lnTo>
                    <a:pt x="605" y="614"/>
                  </a:lnTo>
                  <a:lnTo>
                    <a:pt x="650" y="599"/>
                  </a:lnTo>
                  <a:lnTo>
                    <a:pt x="676" y="595"/>
                  </a:lnTo>
                  <a:lnTo>
                    <a:pt x="694" y="588"/>
                  </a:lnTo>
                  <a:lnTo>
                    <a:pt x="707" y="574"/>
                  </a:lnTo>
                  <a:lnTo>
                    <a:pt x="721" y="570"/>
                  </a:lnTo>
                  <a:lnTo>
                    <a:pt x="729" y="574"/>
                  </a:lnTo>
                  <a:lnTo>
                    <a:pt x="729" y="579"/>
                  </a:lnTo>
                  <a:lnTo>
                    <a:pt x="707" y="593"/>
                  </a:lnTo>
                  <a:lnTo>
                    <a:pt x="712" y="594"/>
                  </a:lnTo>
                  <a:lnTo>
                    <a:pt x="685" y="612"/>
                  </a:lnTo>
                  <a:lnTo>
                    <a:pt x="614" y="634"/>
                  </a:lnTo>
                  <a:lnTo>
                    <a:pt x="616" y="640"/>
                  </a:lnTo>
                  <a:lnTo>
                    <a:pt x="634" y="642"/>
                  </a:lnTo>
                  <a:lnTo>
                    <a:pt x="705" y="639"/>
                  </a:lnTo>
                  <a:lnTo>
                    <a:pt x="707" y="630"/>
                  </a:lnTo>
                  <a:lnTo>
                    <a:pt x="723" y="620"/>
                  </a:lnTo>
                  <a:lnTo>
                    <a:pt x="760" y="617"/>
                  </a:lnTo>
                  <a:lnTo>
                    <a:pt x="800" y="632"/>
                  </a:lnTo>
                  <a:lnTo>
                    <a:pt x="803" y="642"/>
                  </a:lnTo>
                  <a:lnTo>
                    <a:pt x="787" y="650"/>
                  </a:lnTo>
                  <a:lnTo>
                    <a:pt x="747" y="655"/>
                  </a:lnTo>
                  <a:lnTo>
                    <a:pt x="729" y="652"/>
                  </a:lnTo>
                  <a:lnTo>
                    <a:pt x="712" y="652"/>
                  </a:lnTo>
                  <a:lnTo>
                    <a:pt x="705" y="649"/>
                  </a:lnTo>
                  <a:lnTo>
                    <a:pt x="705" y="647"/>
                  </a:lnTo>
                  <a:lnTo>
                    <a:pt x="670" y="649"/>
                  </a:lnTo>
                  <a:lnTo>
                    <a:pt x="619" y="650"/>
                  </a:lnTo>
                  <a:lnTo>
                    <a:pt x="599" y="645"/>
                  </a:lnTo>
                  <a:lnTo>
                    <a:pt x="596" y="639"/>
                  </a:lnTo>
                  <a:lnTo>
                    <a:pt x="563" y="647"/>
                  </a:lnTo>
                  <a:lnTo>
                    <a:pt x="565" y="652"/>
                  </a:lnTo>
                  <a:lnTo>
                    <a:pt x="557" y="667"/>
                  </a:lnTo>
                  <a:lnTo>
                    <a:pt x="557" y="675"/>
                  </a:lnTo>
                  <a:lnTo>
                    <a:pt x="514" y="705"/>
                  </a:lnTo>
                  <a:lnTo>
                    <a:pt x="477" y="727"/>
                  </a:lnTo>
                  <a:lnTo>
                    <a:pt x="463" y="743"/>
                  </a:lnTo>
                  <a:lnTo>
                    <a:pt x="457" y="754"/>
                  </a:lnTo>
                  <a:lnTo>
                    <a:pt x="477" y="793"/>
                  </a:lnTo>
                  <a:lnTo>
                    <a:pt x="488" y="782"/>
                  </a:lnTo>
                  <a:lnTo>
                    <a:pt x="514" y="754"/>
                  </a:lnTo>
                  <a:lnTo>
                    <a:pt x="557" y="738"/>
                  </a:lnTo>
                  <a:lnTo>
                    <a:pt x="636" y="734"/>
                  </a:lnTo>
                  <a:lnTo>
                    <a:pt x="636" y="729"/>
                  </a:lnTo>
                  <a:lnTo>
                    <a:pt x="619" y="703"/>
                  </a:lnTo>
                  <a:lnTo>
                    <a:pt x="616" y="685"/>
                  </a:lnTo>
                  <a:lnTo>
                    <a:pt x="625" y="672"/>
                  </a:lnTo>
                  <a:lnTo>
                    <a:pt x="650" y="662"/>
                  </a:lnTo>
                  <a:lnTo>
                    <a:pt x="672" y="659"/>
                  </a:lnTo>
                  <a:lnTo>
                    <a:pt x="690" y="665"/>
                  </a:lnTo>
                  <a:lnTo>
                    <a:pt x="690" y="677"/>
                  </a:lnTo>
                  <a:lnTo>
                    <a:pt x="670" y="690"/>
                  </a:lnTo>
                  <a:lnTo>
                    <a:pt x="685" y="697"/>
                  </a:lnTo>
                  <a:lnTo>
                    <a:pt x="687" y="705"/>
                  </a:lnTo>
                  <a:lnTo>
                    <a:pt x="676" y="717"/>
                  </a:lnTo>
                  <a:lnTo>
                    <a:pt x="705" y="717"/>
                  </a:lnTo>
                  <a:lnTo>
                    <a:pt x="732" y="710"/>
                  </a:lnTo>
                  <a:lnTo>
                    <a:pt x="714" y="695"/>
                  </a:lnTo>
                  <a:lnTo>
                    <a:pt x="721" y="688"/>
                  </a:lnTo>
                  <a:lnTo>
                    <a:pt x="738" y="683"/>
                  </a:lnTo>
                  <a:lnTo>
                    <a:pt x="741" y="682"/>
                  </a:lnTo>
                  <a:lnTo>
                    <a:pt x="765" y="682"/>
                  </a:lnTo>
                  <a:lnTo>
                    <a:pt x="787" y="688"/>
                  </a:lnTo>
                  <a:lnTo>
                    <a:pt x="809" y="708"/>
                  </a:lnTo>
                  <a:lnTo>
                    <a:pt x="814" y="705"/>
                  </a:lnTo>
                  <a:lnTo>
                    <a:pt x="818" y="705"/>
                  </a:lnTo>
                  <a:lnTo>
                    <a:pt x="823" y="695"/>
                  </a:lnTo>
                  <a:lnTo>
                    <a:pt x="823" y="665"/>
                  </a:lnTo>
                  <a:lnTo>
                    <a:pt x="829" y="659"/>
                  </a:lnTo>
                  <a:lnTo>
                    <a:pt x="849" y="655"/>
                  </a:lnTo>
                  <a:lnTo>
                    <a:pt x="854" y="637"/>
                  </a:lnTo>
                  <a:lnTo>
                    <a:pt x="849" y="635"/>
                  </a:lnTo>
                  <a:lnTo>
                    <a:pt x="854" y="634"/>
                  </a:lnTo>
                  <a:lnTo>
                    <a:pt x="854" y="574"/>
                  </a:lnTo>
                  <a:lnTo>
                    <a:pt x="847" y="549"/>
                  </a:lnTo>
                  <a:lnTo>
                    <a:pt x="845" y="473"/>
                  </a:lnTo>
                  <a:lnTo>
                    <a:pt x="838" y="418"/>
                  </a:lnTo>
                  <a:lnTo>
                    <a:pt x="829" y="324"/>
                  </a:lnTo>
                  <a:lnTo>
                    <a:pt x="827" y="238"/>
                  </a:lnTo>
                  <a:lnTo>
                    <a:pt x="814" y="118"/>
                  </a:lnTo>
                  <a:lnTo>
                    <a:pt x="816" y="18"/>
                  </a:lnTo>
                  <a:lnTo>
                    <a:pt x="796" y="11"/>
                  </a:lnTo>
                  <a:close/>
                  <a:moveTo>
                    <a:pt x="326" y="329"/>
                  </a:moveTo>
                  <a:lnTo>
                    <a:pt x="259" y="329"/>
                  </a:lnTo>
                  <a:lnTo>
                    <a:pt x="259" y="362"/>
                  </a:lnTo>
                  <a:lnTo>
                    <a:pt x="253" y="365"/>
                  </a:lnTo>
                  <a:lnTo>
                    <a:pt x="259" y="371"/>
                  </a:lnTo>
                  <a:lnTo>
                    <a:pt x="271" y="391"/>
                  </a:lnTo>
                  <a:lnTo>
                    <a:pt x="277" y="402"/>
                  </a:lnTo>
                  <a:lnTo>
                    <a:pt x="277" y="434"/>
                  </a:lnTo>
                  <a:lnTo>
                    <a:pt x="302" y="400"/>
                  </a:lnTo>
                  <a:lnTo>
                    <a:pt x="313" y="370"/>
                  </a:lnTo>
                  <a:lnTo>
                    <a:pt x="322" y="362"/>
                  </a:lnTo>
                  <a:lnTo>
                    <a:pt x="324" y="364"/>
                  </a:lnTo>
                  <a:lnTo>
                    <a:pt x="324" y="365"/>
                  </a:lnTo>
                  <a:lnTo>
                    <a:pt x="326" y="364"/>
                  </a:lnTo>
                  <a:lnTo>
                    <a:pt x="326" y="355"/>
                  </a:lnTo>
                  <a:lnTo>
                    <a:pt x="317" y="344"/>
                  </a:lnTo>
                  <a:lnTo>
                    <a:pt x="326" y="329"/>
                  </a:lnTo>
                  <a:close/>
                  <a:moveTo>
                    <a:pt x="242" y="329"/>
                  </a:moveTo>
                  <a:lnTo>
                    <a:pt x="231" y="329"/>
                  </a:lnTo>
                  <a:lnTo>
                    <a:pt x="222" y="341"/>
                  </a:lnTo>
                  <a:lnTo>
                    <a:pt x="242" y="349"/>
                  </a:lnTo>
                  <a:lnTo>
                    <a:pt x="242" y="329"/>
                  </a:lnTo>
                  <a:close/>
                  <a:moveTo>
                    <a:pt x="213" y="351"/>
                  </a:moveTo>
                  <a:lnTo>
                    <a:pt x="200" y="371"/>
                  </a:lnTo>
                  <a:lnTo>
                    <a:pt x="208" y="430"/>
                  </a:lnTo>
                  <a:lnTo>
                    <a:pt x="262" y="436"/>
                  </a:lnTo>
                  <a:lnTo>
                    <a:pt x="262" y="436"/>
                  </a:lnTo>
                  <a:lnTo>
                    <a:pt x="264" y="412"/>
                  </a:lnTo>
                  <a:lnTo>
                    <a:pt x="259" y="395"/>
                  </a:lnTo>
                  <a:lnTo>
                    <a:pt x="242" y="364"/>
                  </a:lnTo>
                  <a:lnTo>
                    <a:pt x="228" y="352"/>
                  </a:lnTo>
                  <a:lnTo>
                    <a:pt x="224" y="352"/>
                  </a:lnTo>
                  <a:lnTo>
                    <a:pt x="213" y="351"/>
                  </a:lnTo>
                  <a:close/>
                  <a:moveTo>
                    <a:pt x="399" y="473"/>
                  </a:moveTo>
                  <a:lnTo>
                    <a:pt x="297" y="483"/>
                  </a:lnTo>
                  <a:lnTo>
                    <a:pt x="295" y="488"/>
                  </a:lnTo>
                  <a:lnTo>
                    <a:pt x="295" y="489"/>
                  </a:lnTo>
                  <a:lnTo>
                    <a:pt x="288" y="493"/>
                  </a:lnTo>
                  <a:lnTo>
                    <a:pt x="286" y="510"/>
                  </a:lnTo>
                  <a:lnTo>
                    <a:pt x="277" y="519"/>
                  </a:lnTo>
                  <a:lnTo>
                    <a:pt x="271" y="549"/>
                  </a:lnTo>
                  <a:lnTo>
                    <a:pt x="271" y="553"/>
                  </a:lnTo>
                  <a:lnTo>
                    <a:pt x="277" y="564"/>
                  </a:lnTo>
                  <a:lnTo>
                    <a:pt x="313" y="545"/>
                  </a:lnTo>
                  <a:lnTo>
                    <a:pt x="357" y="514"/>
                  </a:lnTo>
                  <a:lnTo>
                    <a:pt x="368" y="499"/>
                  </a:lnTo>
                  <a:lnTo>
                    <a:pt x="386" y="493"/>
                  </a:lnTo>
                  <a:lnTo>
                    <a:pt x="399" y="473"/>
                  </a:lnTo>
                  <a:lnTo>
                    <a:pt x="399" y="473"/>
                  </a:lnTo>
                  <a:close/>
                  <a:moveTo>
                    <a:pt x="239" y="489"/>
                  </a:moveTo>
                  <a:lnTo>
                    <a:pt x="189" y="494"/>
                  </a:lnTo>
                  <a:lnTo>
                    <a:pt x="173" y="494"/>
                  </a:lnTo>
                  <a:lnTo>
                    <a:pt x="173" y="494"/>
                  </a:lnTo>
                  <a:lnTo>
                    <a:pt x="217" y="524"/>
                  </a:lnTo>
                  <a:lnTo>
                    <a:pt x="242" y="533"/>
                  </a:lnTo>
                  <a:lnTo>
                    <a:pt x="244" y="518"/>
                  </a:lnTo>
                  <a:lnTo>
                    <a:pt x="239" y="505"/>
                  </a:lnTo>
                  <a:lnTo>
                    <a:pt x="239" y="489"/>
                  </a:lnTo>
                  <a:close/>
                  <a:moveTo>
                    <a:pt x="118" y="494"/>
                  </a:moveTo>
                  <a:lnTo>
                    <a:pt x="82" y="494"/>
                  </a:lnTo>
                  <a:lnTo>
                    <a:pt x="47" y="508"/>
                  </a:lnTo>
                  <a:lnTo>
                    <a:pt x="31" y="508"/>
                  </a:lnTo>
                  <a:lnTo>
                    <a:pt x="29" y="504"/>
                  </a:lnTo>
                  <a:lnTo>
                    <a:pt x="0" y="518"/>
                  </a:lnTo>
                  <a:lnTo>
                    <a:pt x="0" y="825"/>
                  </a:lnTo>
                  <a:lnTo>
                    <a:pt x="11" y="827"/>
                  </a:lnTo>
                  <a:lnTo>
                    <a:pt x="20" y="832"/>
                  </a:lnTo>
                  <a:lnTo>
                    <a:pt x="22" y="829"/>
                  </a:lnTo>
                  <a:lnTo>
                    <a:pt x="27" y="829"/>
                  </a:lnTo>
                  <a:lnTo>
                    <a:pt x="38" y="834"/>
                  </a:lnTo>
                  <a:lnTo>
                    <a:pt x="73" y="832"/>
                  </a:lnTo>
                  <a:lnTo>
                    <a:pt x="73" y="824"/>
                  </a:lnTo>
                  <a:lnTo>
                    <a:pt x="106" y="808"/>
                  </a:lnTo>
                  <a:lnTo>
                    <a:pt x="126" y="768"/>
                  </a:lnTo>
                  <a:lnTo>
                    <a:pt x="129" y="687"/>
                  </a:lnTo>
                  <a:lnTo>
                    <a:pt x="144" y="660"/>
                  </a:lnTo>
                  <a:lnTo>
                    <a:pt x="160" y="647"/>
                  </a:lnTo>
                  <a:lnTo>
                    <a:pt x="164" y="637"/>
                  </a:lnTo>
                  <a:lnTo>
                    <a:pt x="189" y="614"/>
                  </a:lnTo>
                  <a:lnTo>
                    <a:pt x="208" y="605"/>
                  </a:lnTo>
                  <a:lnTo>
                    <a:pt x="206" y="604"/>
                  </a:lnTo>
                  <a:lnTo>
                    <a:pt x="215" y="598"/>
                  </a:lnTo>
                  <a:lnTo>
                    <a:pt x="233" y="578"/>
                  </a:lnTo>
                  <a:lnTo>
                    <a:pt x="233" y="563"/>
                  </a:lnTo>
                  <a:lnTo>
                    <a:pt x="213" y="549"/>
                  </a:lnTo>
                  <a:lnTo>
                    <a:pt x="177" y="532"/>
                  </a:lnTo>
                  <a:lnTo>
                    <a:pt x="153" y="525"/>
                  </a:lnTo>
                  <a:lnTo>
                    <a:pt x="109" y="524"/>
                  </a:lnTo>
                  <a:lnTo>
                    <a:pt x="91" y="532"/>
                  </a:lnTo>
                  <a:lnTo>
                    <a:pt x="89" y="543"/>
                  </a:lnTo>
                  <a:lnTo>
                    <a:pt x="64" y="558"/>
                  </a:lnTo>
                  <a:lnTo>
                    <a:pt x="38" y="560"/>
                  </a:lnTo>
                  <a:lnTo>
                    <a:pt x="18" y="554"/>
                  </a:lnTo>
                  <a:lnTo>
                    <a:pt x="18" y="549"/>
                  </a:lnTo>
                  <a:lnTo>
                    <a:pt x="29" y="533"/>
                  </a:lnTo>
                  <a:lnTo>
                    <a:pt x="58" y="523"/>
                  </a:lnTo>
                  <a:lnTo>
                    <a:pt x="80" y="519"/>
                  </a:lnTo>
                  <a:lnTo>
                    <a:pt x="162" y="517"/>
                  </a:lnTo>
                  <a:lnTo>
                    <a:pt x="138" y="499"/>
                  </a:lnTo>
                  <a:lnTo>
                    <a:pt x="135" y="500"/>
                  </a:lnTo>
                  <a:lnTo>
                    <a:pt x="118" y="494"/>
                  </a:lnTo>
                  <a:lnTo>
                    <a:pt x="118" y="494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64520" y="2816640"/>
              <a:ext cx="766800" cy="117720"/>
            </a:xfrm>
            <a:custGeom>
              <a:avLst/>
              <a:gdLst/>
              <a:ahLst/>
              <a:rect l="l" t="t" r="r" b="b"/>
              <a:pathLst>
                <a:path w="587" h="109">
                  <a:moveTo>
                    <a:pt x="346" y="79"/>
                  </a:moveTo>
                  <a:lnTo>
                    <a:pt x="319" y="83"/>
                  </a:lnTo>
                  <a:lnTo>
                    <a:pt x="288" y="84"/>
                  </a:lnTo>
                  <a:lnTo>
                    <a:pt x="241" y="89"/>
                  </a:lnTo>
                  <a:lnTo>
                    <a:pt x="226" y="89"/>
                  </a:lnTo>
                  <a:lnTo>
                    <a:pt x="164" y="96"/>
                  </a:lnTo>
                  <a:lnTo>
                    <a:pt x="93" y="104"/>
                  </a:lnTo>
                  <a:lnTo>
                    <a:pt x="13" y="106"/>
                  </a:lnTo>
                  <a:lnTo>
                    <a:pt x="4" y="109"/>
                  </a:lnTo>
                  <a:lnTo>
                    <a:pt x="0" y="109"/>
                  </a:lnTo>
                  <a:lnTo>
                    <a:pt x="2" y="89"/>
                  </a:lnTo>
                  <a:lnTo>
                    <a:pt x="4" y="66"/>
                  </a:lnTo>
                  <a:lnTo>
                    <a:pt x="4" y="62"/>
                  </a:lnTo>
                  <a:lnTo>
                    <a:pt x="9" y="65"/>
                  </a:lnTo>
                  <a:lnTo>
                    <a:pt x="11" y="62"/>
                  </a:lnTo>
                  <a:lnTo>
                    <a:pt x="93" y="55"/>
                  </a:lnTo>
                  <a:lnTo>
                    <a:pt x="248" y="40"/>
                  </a:lnTo>
                  <a:lnTo>
                    <a:pt x="301" y="35"/>
                  </a:lnTo>
                  <a:lnTo>
                    <a:pt x="408" y="20"/>
                  </a:lnTo>
                  <a:lnTo>
                    <a:pt x="514" y="9"/>
                  </a:lnTo>
                  <a:lnTo>
                    <a:pt x="536" y="6"/>
                  </a:lnTo>
                  <a:lnTo>
                    <a:pt x="587" y="0"/>
                  </a:lnTo>
                  <a:lnTo>
                    <a:pt x="587" y="43"/>
                  </a:lnTo>
                  <a:lnTo>
                    <a:pt x="346" y="79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24640" y="2867400"/>
              <a:ext cx="813960" cy="1354680"/>
            </a:xfrm>
            <a:custGeom>
              <a:avLst/>
              <a:gdLst/>
              <a:ahLst/>
              <a:rect l="l" t="t" r="r" b="b"/>
              <a:pathLst>
                <a:path w="623" h="1251">
                  <a:moveTo>
                    <a:pt x="588" y="76"/>
                  </a:moveTo>
                  <a:lnTo>
                    <a:pt x="581" y="100"/>
                  </a:lnTo>
                  <a:lnTo>
                    <a:pt x="592" y="144"/>
                  </a:lnTo>
                  <a:lnTo>
                    <a:pt x="588" y="214"/>
                  </a:lnTo>
                  <a:lnTo>
                    <a:pt x="588" y="392"/>
                  </a:lnTo>
                  <a:lnTo>
                    <a:pt x="592" y="479"/>
                  </a:lnTo>
                  <a:lnTo>
                    <a:pt x="597" y="576"/>
                  </a:lnTo>
                  <a:lnTo>
                    <a:pt x="603" y="617"/>
                  </a:lnTo>
                  <a:lnTo>
                    <a:pt x="606" y="959"/>
                  </a:lnTo>
                  <a:lnTo>
                    <a:pt x="612" y="986"/>
                  </a:lnTo>
                  <a:lnTo>
                    <a:pt x="612" y="1006"/>
                  </a:lnTo>
                  <a:lnTo>
                    <a:pt x="614" y="1103"/>
                  </a:lnTo>
                  <a:lnTo>
                    <a:pt x="619" y="1166"/>
                  </a:lnTo>
                  <a:lnTo>
                    <a:pt x="619" y="1173"/>
                  </a:lnTo>
                  <a:lnTo>
                    <a:pt x="597" y="1183"/>
                  </a:lnTo>
                  <a:lnTo>
                    <a:pt x="606" y="1200"/>
                  </a:lnTo>
                  <a:lnTo>
                    <a:pt x="623" y="1212"/>
                  </a:lnTo>
                  <a:lnTo>
                    <a:pt x="601" y="1217"/>
                  </a:lnTo>
                  <a:lnTo>
                    <a:pt x="594" y="1217"/>
                  </a:lnTo>
                  <a:lnTo>
                    <a:pt x="606" y="1207"/>
                  </a:lnTo>
                  <a:lnTo>
                    <a:pt x="594" y="1197"/>
                  </a:lnTo>
                  <a:lnTo>
                    <a:pt x="581" y="1195"/>
                  </a:lnTo>
                  <a:lnTo>
                    <a:pt x="577" y="1191"/>
                  </a:lnTo>
                  <a:lnTo>
                    <a:pt x="530" y="1207"/>
                  </a:lnTo>
                  <a:lnTo>
                    <a:pt x="519" y="1216"/>
                  </a:lnTo>
                  <a:lnTo>
                    <a:pt x="530" y="1230"/>
                  </a:lnTo>
                  <a:lnTo>
                    <a:pt x="543" y="1241"/>
                  </a:lnTo>
                  <a:lnTo>
                    <a:pt x="543" y="1247"/>
                  </a:lnTo>
                  <a:lnTo>
                    <a:pt x="526" y="1251"/>
                  </a:lnTo>
                  <a:lnTo>
                    <a:pt x="517" y="1251"/>
                  </a:lnTo>
                  <a:lnTo>
                    <a:pt x="504" y="1240"/>
                  </a:lnTo>
                  <a:lnTo>
                    <a:pt x="515" y="1226"/>
                  </a:lnTo>
                  <a:lnTo>
                    <a:pt x="515" y="1212"/>
                  </a:lnTo>
                  <a:lnTo>
                    <a:pt x="488" y="1201"/>
                  </a:lnTo>
                  <a:lnTo>
                    <a:pt x="459" y="1205"/>
                  </a:lnTo>
                  <a:lnTo>
                    <a:pt x="441" y="1191"/>
                  </a:lnTo>
                  <a:lnTo>
                    <a:pt x="428" y="1188"/>
                  </a:lnTo>
                  <a:lnTo>
                    <a:pt x="479" y="1161"/>
                  </a:lnTo>
                  <a:lnTo>
                    <a:pt x="486" y="1153"/>
                  </a:lnTo>
                  <a:lnTo>
                    <a:pt x="486" y="1146"/>
                  </a:lnTo>
                  <a:lnTo>
                    <a:pt x="450" y="1132"/>
                  </a:lnTo>
                  <a:lnTo>
                    <a:pt x="446" y="1022"/>
                  </a:lnTo>
                  <a:lnTo>
                    <a:pt x="441" y="1002"/>
                  </a:lnTo>
                  <a:lnTo>
                    <a:pt x="437" y="917"/>
                  </a:lnTo>
                  <a:lnTo>
                    <a:pt x="433" y="893"/>
                  </a:lnTo>
                  <a:lnTo>
                    <a:pt x="428" y="891"/>
                  </a:lnTo>
                  <a:lnTo>
                    <a:pt x="435" y="886"/>
                  </a:lnTo>
                  <a:lnTo>
                    <a:pt x="428" y="829"/>
                  </a:lnTo>
                  <a:lnTo>
                    <a:pt x="426" y="777"/>
                  </a:lnTo>
                  <a:lnTo>
                    <a:pt x="424" y="716"/>
                  </a:lnTo>
                  <a:lnTo>
                    <a:pt x="417" y="672"/>
                  </a:lnTo>
                  <a:lnTo>
                    <a:pt x="410" y="584"/>
                  </a:lnTo>
                  <a:lnTo>
                    <a:pt x="410" y="479"/>
                  </a:lnTo>
                  <a:lnTo>
                    <a:pt x="408" y="381"/>
                  </a:lnTo>
                  <a:lnTo>
                    <a:pt x="399" y="346"/>
                  </a:lnTo>
                  <a:lnTo>
                    <a:pt x="379" y="326"/>
                  </a:lnTo>
                  <a:lnTo>
                    <a:pt x="371" y="308"/>
                  </a:lnTo>
                  <a:lnTo>
                    <a:pt x="317" y="289"/>
                  </a:lnTo>
                  <a:lnTo>
                    <a:pt x="277" y="286"/>
                  </a:lnTo>
                  <a:lnTo>
                    <a:pt x="269" y="281"/>
                  </a:lnTo>
                  <a:lnTo>
                    <a:pt x="257" y="281"/>
                  </a:lnTo>
                  <a:lnTo>
                    <a:pt x="240" y="271"/>
                  </a:lnTo>
                  <a:lnTo>
                    <a:pt x="224" y="257"/>
                  </a:lnTo>
                  <a:lnTo>
                    <a:pt x="198" y="249"/>
                  </a:lnTo>
                  <a:lnTo>
                    <a:pt x="169" y="247"/>
                  </a:lnTo>
                  <a:lnTo>
                    <a:pt x="122" y="233"/>
                  </a:lnTo>
                  <a:lnTo>
                    <a:pt x="53" y="203"/>
                  </a:lnTo>
                  <a:lnTo>
                    <a:pt x="27" y="189"/>
                  </a:lnTo>
                  <a:lnTo>
                    <a:pt x="9" y="184"/>
                  </a:lnTo>
                  <a:lnTo>
                    <a:pt x="0" y="69"/>
                  </a:lnTo>
                  <a:lnTo>
                    <a:pt x="69" y="64"/>
                  </a:lnTo>
                  <a:lnTo>
                    <a:pt x="158" y="56"/>
                  </a:lnTo>
                  <a:lnTo>
                    <a:pt x="293" y="42"/>
                  </a:lnTo>
                  <a:lnTo>
                    <a:pt x="382" y="31"/>
                  </a:lnTo>
                  <a:lnTo>
                    <a:pt x="446" y="21"/>
                  </a:lnTo>
                  <a:lnTo>
                    <a:pt x="546" y="8"/>
                  </a:lnTo>
                  <a:lnTo>
                    <a:pt x="568" y="4"/>
                  </a:lnTo>
                  <a:lnTo>
                    <a:pt x="579" y="0"/>
                  </a:lnTo>
                  <a:lnTo>
                    <a:pt x="588" y="42"/>
                  </a:lnTo>
                  <a:lnTo>
                    <a:pt x="588" y="7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36240" y="3053520"/>
              <a:ext cx="680760" cy="1173960"/>
            </a:xfrm>
            <a:custGeom>
              <a:avLst/>
              <a:gdLst/>
              <a:ahLst/>
              <a:rect l="l" t="t" r="r" b="b"/>
              <a:pathLst>
                <a:path w="521" h="1084">
                  <a:moveTo>
                    <a:pt x="317" y="12"/>
                  </a:moveTo>
                  <a:lnTo>
                    <a:pt x="352" y="30"/>
                  </a:lnTo>
                  <a:lnTo>
                    <a:pt x="410" y="71"/>
                  </a:lnTo>
                  <a:lnTo>
                    <a:pt x="432" y="97"/>
                  </a:lnTo>
                  <a:lnTo>
                    <a:pt x="435" y="99"/>
                  </a:lnTo>
                  <a:lnTo>
                    <a:pt x="443" y="109"/>
                  </a:lnTo>
                  <a:lnTo>
                    <a:pt x="446" y="126"/>
                  </a:lnTo>
                  <a:lnTo>
                    <a:pt x="452" y="129"/>
                  </a:lnTo>
                  <a:lnTo>
                    <a:pt x="468" y="169"/>
                  </a:lnTo>
                  <a:lnTo>
                    <a:pt x="477" y="199"/>
                  </a:lnTo>
                  <a:lnTo>
                    <a:pt x="479" y="251"/>
                  </a:lnTo>
                  <a:lnTo>
                    <a:pt x="490" y="335"/>
                  </a:lnTo>
                  <a:lnTo>
                    <a:pt x="490" y="421"/>
                  </a:lnTo>
                  <a:lnTo>
                    <a:pt x="494" y="511"/>
                  </a:lnTo>
                  <a:lnTo>
                    <a:pt x="503" y="657"/>
                  </a:lnTo>
                  <a:lnTo>
                    <a:pt x="512" y="722"/>
                  </a:lnTo>
                  <a:lnTo>
                    <a:pt x="514" y="870"/>
                  </a:lnTo>
                  <a:lnTo>
                    <a:pt x="521" y="920"/>
                  </a:lnTo>
                  <a:lnTo>
                    <a:pt x="517" y="1021"/>
                  </a:lnTo>
                  <a:lnTo>
                    <a:pt x="505" y="1018"/>
                  </a:lnTo>
                  <a:lnTo>
                    <a:pt x="472" y="1016"/>
                  </a:lnTo>
                  <a:lnTo>
                    <a:pt x="459" y="1021"/>
                  </a:lnTo>
                  <a:lnTo>
                    <a:pt x="459" y="1029"/>
                  </a:lnTo>
                  <a:lnTo>
                    <a:pt x="461" y="1030"/>
                  </a:lnTo>
                  <a:lnTo>
                    <a:pt x="461" y="1034"/>
                  </a:lnTo>
                  <a:lnTo>
                    <a:pt x="441" y="1037"/>
                  </a:lnTo>
                  <a:lnTo>
                    <a:pt x="437" y="1039"/>
                  </a:lnTo>
                  <a:lnTo>
                    <a:pt x="432" y="1035"/>
                  </a:lnTo>
                  <a:lnTo>
                    <a:pt x="435" y="1025"/>
                  </a:lnTo>
                  <a:lnTo>
                    <a:pt x="435" y="1021"/>
                  </a:lnTo>
                  <a:lnTo>
                    <a:pt x="459" y="1011"/>
                  </a:lnTo>
                  <a:lnTo>
                    <a:pt x="459" y="1009"/>
                  </a:lnTo>
                  <a:lnTo>
                    <a:pt x="461" y="1008"/>
                  </a:lnTo>
                  <a:lnTo>
                    <a:pt x="441" y="998"/>
                  </a:lnTo>
                  <a:lnTo>
                    <a:pt x="428" y="998"/>
                  </a:lnTo>
                  <a:lnTo>
                    <a:pt x="423" y="994"/>
                  </a:lnTo>
                  <a:lnTo>
                    <a:pt x="446" y="976"/>
                  </a:lnTo>
                  <a:lnTo>
                    <a:pt x="432" y="958"/>
                  </a:lnTo>
                  <a:lnTo>
                    <a:pt x="419" y="951"/>
                  </a:lnTo>
                  <a:lnTo>
                    <a:pt x="355" y="973"/>
                  </a:lnTo>
                  <a:lnTo>
                    <a:pt x="344" y="973"/>
                  </a:lnTo>
                  <a:lnTo>
                    <a:pt x="330" y="979"/>
                  </a:lnTo>
                  <a:lnTo>
                    <a:pt x="337" y="951"/>
                  </a:lnTo>
                  <a:lnTo>
                    <a:pt x="330" y="948"/>
                  </a:lnTo>
                  <a:lnTo>
                    <a:pt x="326" y="948"/>
                  </a:lnTo>
                  <a:lnTo>
                    <a:pt x="286" y="984"/>
                  </a:lnTo>
                  <a:lnTo>
                    <a:pt x="239" y="1025"/>
                  </a:lnTo>
                  <a:lnTo>
                    <a:pt x="222" y="1068"/>
                  </a:lnTo>
                  <a:lnTo>
                    <a:pt x="211" y="1078"/>
                  </a:lnTo>
                  <a:lnTo>
                    <a:pt x="188" y="1084"/>
                  </a:lnTo>
                  <a:lnTo>
                    <a:pt x="160" y="1084"/>
                  </a:lnTo>
                  <a:lnTo>
                    <a:pt x="151" y="1078"/>
                  </a:lnTo>
                  <a:lnTo>
                    <a:pt x="166" y="1060"/>
                  </a:lnTo>
                  <a:lnTo>
                    <a:pt x="180" y="1050"/>
                  </a:lnTo>
                  <a:lnTo>
                    <a:pt x="180" y="1044"/>
                  </a:lnTo>
                  <a:lnTo>
                    <a:pt x="166" y="1037"/>
                  </a:lnTo>
                  <a:lnTo>
                    <a:pt x="153" y="1037"/>
                  </a:lnTo>
                  <a:lnTo>
                    <a:pt x="180" y="1013"/>
                  </a:lnTo>
                  <a:lnTo>
                    <a:pt x="180" y="1001"/>
                  </a:lnTo>
                  <a:lnTo>
                    <a:pt x="144" y="981"/>
                  </a:lnTo>
                  <a:lnTo>
                    <a:pt x="131" y="978"/>
                  </a:lnTo>
                  <a:lnTo>
                    <a:pt x="122" y="978"/>
                  </a:lnTo>
                  <a:lnTo>
                    <a:pt x="104" y="993"/>
                  </a:lnTo>
                  <a:lnTo>
                    <a:pt x="78" y="1023"/>
                  </a:lnTo>
                  <a:lnTo>
                    <a:pt x="80" y="1048"/>
                  </a:lnTo>
                  <a:lnTo>
                    <a:pt x="86" y="1060"/>
                  </a:lnTo>
                  <a:lnTo>
                    <a:pt x="42" y="1068"/>
                  </a:lnTo>
                  <a:lnTo>
                    <a:pt x="33" y="1068"/>
                  </a:lnTo>
                  <a:lnTo>
                    <a:pt x="33" y="1058"/>
                  </a:lnTo>
                  <a:lnTo>
                    <a:pt x="18" y="1050"/>
                  </a:lnTo>
                  <a:lnTo>
                    <a:pt x="9" y="1050"/>
                  </a:lnTo>
                  <a:lnTo>
                    <a:pt x="7" y="784"/>
                  </a:lnTo>
                  <a:lnTo>
                    <a:pt x="0" y="755"/>
                  </a:lnTo>
                  <a:lnTo>
                    <a:pt x="0" y="596"/>
                  </a:lnTo>
                  <a:lnTo>
                    <a:pt x="4" y="580"/>
                  </a:lnTo>
                  <a:lnTo>
                    <a:pt x="9" y="401"/>
                  </a:lnTo>
                  <a:lnTo>
                    <a:pt x="0" y="285"/>
                  </a:lnTo>
                  <a:lnTo>
                    <a:pt x="4" y="165"/>
                  </a:lnTo>
                  <a:lnTo>
                    <a:pt x="33" y="82"/>
                  </a:lnTo>
                  <a:lnTo>
                    <a:pt x="51" y="60"/>
                  </a:lnTo>
                  <a:lnTo>
                    <a:pt x="71" y="41"/>
                  </a:lnTo>
                  <a:lnTo>
                    <a:pt x="140" y="11"/>
                  </a:lnTo>
                  <a:lnTo>
                    <a:pt x="171" y="5"/>
                  </a:lnTo>
                  <a:lnTo>
                    <a:pt x="228" y="0"/>
                  </a:lnTo>
                  <a:lnTo>
                    <a:pt x="268" y="4"/>
                  </a:lnTo>
                  <a:lnTo>
                    <a:pt x="317" y="12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6240" y="3053520"/>
              <a:ext cx="559080" cy="1173960"/>
            </a:xfrm>
            <a:custGeom>
              <a:avLst/>
              <a:gdLst/>
              <a:ahLst/>
              <a:rect l="l" t="t" r="r" b="b"/>
              <a:pathLst>
                <a:path w="428" h="1084">
                  <a:moveTo>
                    <a:pt x="419" y="94"/>
                  </a:moveTo>
                  <a:lnTo>
                    <a:pt x="273" y="88"/>
                  </a:lnTo>
                  <a:lnTo>
                    <a:pt x="200" y="131"/>
                  </a:lnTo>
                  <a:lnTo>
                    <a:pt x="157" y="219"/>
                  </a:lnTo>
                  <a:lnTo>
                    <a:pt x="177" y="348"/>
                  </a:lnTo>
                  <a:lnTo>
                    <a:pt x="200" y="489"/>
                  </a:lnTo>
                  <a:lnTo>
                    <a:pt x="208" y="636"/>
                  </a:lnTo>
                  <a:lnTo>
                    <a:pt x="219" y="778"/>
                  </a:lnTo>
                  <a:lnTo>
                    <a:pt x="231" y="936"/>
                  </a:lnTo>
                  <a:lnTo>
                    <a:pt x="235" y="1035"/>
                  </a:lnTo>
                  <a:lnTo>
                    <a:pt x="222" y="1068"/>
                  </a:lnTo>
                  <a:lnTo>
                    <a:pt x="211" y="1078"/>
                  </a:lnTo>
                  <a:lnTo>
                    <a:pt x="188" y="1084"/>
                  </a:lnTo>
                  <a:lnTo>
                    <a:pt x="160" y="1084"/>
                  </a:lnTo>
                  <a:lnTo>
                    <a:pt x="151" y="1078"/>
                  </a:lnTo>
                  <a:lnTo>
                    <a:pt x="166" y="1060"/>
                  </a:lnTo>
                  <a:lnTo>
                    <a:pt x="180" y="1050"/>
                  </a:lnTo>
                  <a:lnTo>
                    <a:pt x="180" y="1044"/>
                  </a:lnTo>
                  <a:lnTo>
                    <a:pt x="166" y="1037"/>
                  </a:lnTo>
                  <a:lnTo>
                    <a:pt x="153" y="1037"/>
                  </a:lnTo>
                  <a:lnTo>
                    <a:pt x="180" y="1013"/>
                  </a:lnTo>
                  <a:lnTo>
                    <a:pt x="180" y="1001"/>
                  </a:lnTo>
                  <a:lnTo>
                    <a:pt x="144" y="981"/>
                  </a:lnTo>
                  <a:lnTo>
                    <a:pt x="131" y="978"/>
                  </a:lnTo>
                  <a:lnTo>
                    <a:pt x="122" y="978"/>
                  </a:lnTo>
                  <a:lnTo>
                    <a:pt x="104" y="993"/>
                  </a:lnTo>
                  <a:lnTo>
                    <a:pt x="78" y="1023"/>
                  </a:lnTo>
                  <a:lnTo>
                    <a:pt x="80" y="1048"/>
                  </a:lnTo>
                  <a:lnTo>
                    <a:pt x="86" y="1060"/>
                  </a:lnTo>
                  <a:lnTo>
                    <a:pt x="42" y="1068"/>
                  </a:lnTo>
                  <a:lnTo>
                    <a:pt x="33" y="1068"/>
                  </a:lnTo>
                  <a:lnTo>
                    <a:pt x="33" y="1058"/>
                  </a:lnTo>
                  <a:lnTo>
                    <a:pt x="18" y="1050"/>
                  </a:lnTo>
                  <a:lnTo>
                    <a:pt x="9" y="1050"/>
                  </a:lnTo>
                  <a:lnTo>
                    <a:pt x="7" y="784"/>
                  </a:lnTo>
                  <a:lnTo>
                    <a:pt x="0" y="755"/>
                  </a:lnTo>
                  <a:lnTo>
                    <a:pt x="0" y="596"/>
                  </a:lnTo>
                  <a:lnTo>
                    <a:pt x="4" y="580"/>
                  </a:lnTo>
                  <a:lnTo>
                    <a:pt x="9" y="401"/>
                  </a:lnTo>
                  <a:lnTo>
                    <a:pt x="0" y="285"/>
                  </a:lnTo>
                  <a:lnTo>
                    <a:pt x="4" y="165"/>
                  </a:lnTo>
                  <a:lnTo>
                    <a:pt x="33" y="82"/>
                  </a:lnTo>
                  <a:lnTo>
                    <a:pt x="51" y="60"/>
                  </a:lnTo>
                  <a:lnTo>
                    <a:pt x="71" y="41"/>
                  </a:lnTo>
                  <a:lnTo>
                    <a:pt x="140" y="11"/>
                  </a:lnTo>
                  <a:lnTo>
                    <a:pt x="171" y="5"/>
                  </a:lnTo>
                  <a:lnTo>
                    <a:pt x="228" y="0"/>
                  </a:lnTo>
                  <a:lnTo>
                    <a:pt x="268" y="4"/>
                  </a:lnTo>
                  <a:lnTo>
                    <a:pt x="317" y="12"/>
                  </a:lnTo>
                  <a:lnTo>
                    <a:pt x="352" y="30"/>
                  </a:lnTo>
                  <a:lnTo>
                    <a:pt x="410" y="71"/>
                  </a:lnTo>
                  <a:lnTo>
                    <a:pt x="428" y="92"/>
                  </a:lnTo>
                  <a:lnTo>
                    <a:pt x="426" y="93"/>
                  </a:lnTo>
                  <a:lnTo>
                    <a:pt x="423" y="93"/>
                  </a:lnTo>
                  <a:lnTo>
                    <a:pt x="423" y="93"/>
                  </a:lnTo>
                  <a:lnTo>
                    <a:pt x="421" y="94"/>
                  </a:lnTo>
                  <a:lnTo>
                    <a:pt x="421" y="94"/>
                  </a:lnTo>
                  <a:lnTo>
                    <a:pt x="419" y="94"/>
                  </a:lnTo>
                  <a:lnTo>
                    <a:pt x="419" y="94"/>
                  </a:lnTo>
                  <a:lnTo>
                    <a:pt x="419" y="94"/>
                  </a:lnTo>
                  <a:close/>
                </a:path>
              </a:pathLst>
            </a:custGeom>
            <a:solidFill>
              <a:srgbClr val="b8a7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78920" y="3140280"/>
              <a:ext cx="312120" cy="176400"/>
            </a:xfrm>
            <a:custGeom>
              <a:avLst/>
              <a:gdLst/>
              <a:ahLst/>
              <a:rect l="l" t="t" r="r" b="b"/>
              <a:pathLst>
                <a:path w="239" h="163">
                  <a:moveTo>
                    <a:pt x="15" y="17"/>
                  </a:moveTo>
                  <a:lnTo>
                    <a:pt x="15" y="21"/>
                  </a:lnTo>
                  <a:lnTo>
                    <a:pt x="18" y="22"/>
                  </a:lnTo>
                  <a:lnTo>
                    <a:pt x="35" y="16"/>
                  </a:lnTo>
                  <a:lnTo>
                    <a:pt x="95" y="36"/>
                  </a:lnTo>
                  <a:lnTo>
                    <a:pt x="142" y="56"/>
                  </a:lnTo>
                  <a:lnTo>
                    <a:pt x="177" y="67"/>
                  </a:lnTo>
                  <a:lnTo>
                    <a:pt x="190" y="70"/>
                  </a:lnTo>
                  <a:lnTo>
                    <a:pt x="233" y="72"/>
                  </a:lnTo>
                  <a:lnTo>
                    <a:pt x="239" y="75"/>
                  </a:lnTo>
                  <a:lnTo>
                    <a:pt x="230" y="89"/>
                  </a:lnTo>
                  <a:lnTo>
                    <a:pt x="233" y="104"/>
                  </a:lnTo>
                  <a:lnTo>
                    <a:pt x="233" y="120"/>
                  </a:lnTo>
                  <a:lnTo>
                    <a:pt x="222" y="130"/>
                  </a:lnTo>
                  <a:lnTo>
                    <a:pt x="210" y="151"/>
                  </a:lnTo>
                  <a:lnTo>
                    <a:pt x="186" y="163"/>
                  </a:lnTo>
                  <a:lnTo>
                    <a:pt x="128" y="144"/>
                  </a:lnTo>
                  <a:lnTo>
                    <a:pt x="77" y="125"/>
                  </a:lnTo>
                  <a:lnTo>
                    <a:pt x="53" y="122"/>
                  </a:lnTo>
                  <a:lnTo>
                    <a:pt x="46" y="117"/>
                  </a:lnTo>
                  <a:lnTo>
                    <a:pt x="33" y="122"/>
                  </a:lnTo>
                  <a:lnTo>
                    <a:pt x="24" y="126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0" y="154"/>
                  </a:lnTo>
                  <a:lnTo>
                    <a:pt x="15" y="134"/>
                  </a:lnTo>
                  <a:lnTo>
                    <a:pt x="13" y="131"/>
                  </a:lnTo>
                  <a:lnTo>
                    <a:pt x="2" y="131"/>
                  </a:lnTo>
                  <a:lnTo>
                    <a:pt x="2" y="126"/>
                  </a:lnTo>
                  <a:lnTo>
                    <a:pt x="13" y="122"/>
                  </a:lnTo>
                  <a:lnTo>
                    <a:pt x="13" y="90"/>
                  </a:lnTo>
                  <a:lnTo>
                    <a:pt x="6" y="11"/>
                  </a:lnTo>
                  <a:lnTo>
                    <a:pt x="0" y="0"/>
                  </a:lnTo>
                  <a:lnTo>
                    <a:pt x="13" y="6"/>
                  </a:lnTo>
                  <a:lnTo>
                    <a:pt x="1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05200" y="3168360"/>
              <a:ext cx="263520" cy="138240"/>
            </a:xfrm>
            <a:custGeom>
              <a:avLst/>
              <a:gdLst/>
              <a:ahLst/>
              <a:rect l="l" t="t" r="r" b="b"/>
              <a:pathLst>
                <a:path w="202" h="128">
                  <a:moveTo>
                    <a:pt x="159" y="51"/>
                  </a:moveTo>
                  <a:lnTo>
                    <a:pt x="186" y="54"/>
                  </a:lnTo>
                  <a:lnTo>
                    <a:pt x="199" y="54"/>
                  </a:lnTo>
                  <a:lnTo>
                    <a:pt x="195" y="78"/>
                  </a:lnTo>
                  <a:lnTo>
                    <a:pt x="202" y="84"/>
                  </a:lnTo>
                  <a:lnTo>
                    <a:pt x="177" y="119"/>
                  </a:lnTo>
                  <a:lnTo>
                    <a:pt x="164" y="128"/>
                  </a:lnTo>
                  <a:lnTo>
                    <a:pt x="131" y="118"/>
                  </a:lnTo>
                  <a:lnTo>
                    <a:pt x="49" y="89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3" y="84"/>
                  </a:lnTo>
                  <a:lnTo>
                    <a:pt x="4" y="89"/>
                  </a:lnTo>
                  <a:lnTo>
                    <a:pt x="0" y="8"/>
                  </a:lnTo>
                  <a:lnTo>
                    <a:pt x="13" y="0"/>
                  </a:lnTo>
                  <a:lnTo>
                    <a:pt x="31" y="3"/>
                  </a:lnTo>
                  <a:lnTo>
                    <a:pt x="159" y="5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365200" y="3193200"/>
              <a:ext cx="335520" cy="137520"/>
            </a:xfrm>
            <a:custGeom>
              <a:avLst/>
              <a:gdLst/>
              <a:ahLst/>
              <a:rect l="l" t="t" r="r" b="b"/>
              <a:pathLst>
                <a:path w="257" h="127">
                  <a:moveTo>
                    <a:pt x="162" y="10"/>
                  </a:moveTo>
                  <a:lnTo>
                    <a:pt x="155" y="23"/>
                  </a:lnTo>
                  <a:lnTo>
                    <a:pt x="160" y="28"/>
                  </a:lnTo>
                  <a:lnTo>
                    <a:pt x="162" y="40"/>
                  </a:lnTo>
                  <a:lnTo>
                    <a:pt x="173" y="45"/>
                  </a:lnTo>
                  <a:lnTo>
                    <a:pt x="215" y="48"/>
                  </a:lnTo>
                  <a:lnTo>
                    <a:pt x="242" y="48"/>
                  </a:lnTo>
                  <a:lnTo>
                    <a:pt x="257" y="70"/>
                  </a:lnTo>
                  <a:lnTo>
                    <a:pt x="251" y="81"/>
                  </a:lnTo>
                  <a:lnTo>
                    <a:pt x="235" y="87"/>
                  </a:lnTo>
                  <a:lnTo>
                    <a:pt x="209" y="87"/>
                  </a:lnTo>
                  <a:lnTo>
                    <a:pt x="135" y="90"/>
                  </a:lnTo>
                  <a:lnTo>
                    <a:pt x="62" y="90"/>
                  </a:lnTo>
                  <a:lnTo>
                    <a:pt x="58" y="87"/>
                  </a:lnTo>
                  <a:lnTo>
                    <a:pt x="53" y="87"/>
                  </a:lnTo>
                  <a:lnTo>
                    <a:pt x="53" y="107"/>
                  </a:lnTo>
                  <a:lnTo>
                    <a:pt x="56" y="117"/>
                  </a:lnTo>
                  <a:lnTo>
                    <a:pt x="56" y="122"/>
                  </a:lnTo>
                  <a:lnTo>
                    <a:pt x="47" y="127"/>
                  </a:lnTo>
                  <a:lnTo>
                    <a:pt x="44" y="106"/>
                  </a:lnTo>
                  <a:lnTo>
                    <a:pt x="36" y="86"/>
                  </a:lnTo>
                  <a:lnTo>
                    <a:pt x="44" y="81"/>
                  </a:lnTo>
                  <a:lnTo>
                    <a:pt x="71" y="86"/>
                  </a:lnTo>
                  <a:lnTo>
                    <a:pt x="80" y="85"/>
                  </a:lnTo>
                  <a:lnTo>
                    <a:pt x="80" y="86"/>
                  </a:lnTo>
                  <a:lnTo>
                    <a:pt x="197" y="85"/>
                  </a:lnTo>
                  <a:lnTo>
                    <a:pt x="231" y="82"/>
                  </a:lnTo>
                  <a:lnTo>
                    <a:pt x="248" y="71"/>
                  </a:lnTo>
                  <a:lnTo>
                    <a:pt x="233" y="55"/>
                  </a:lnTo>
                  <a:lnTo>
                    <a:pt x="215" y="50"/>
                  </a:lnTo>
                  <a:lnTo>
                    <a:pt x="180" y="50"/>
                  </a:lnTo>
                  <a:lnTo>
                    <a:pt x="164" y="46"/>
                  </a:lnTo>
                  <a:lnTo>
                    <a:pt x="151" y="43"/>
                  </a:lnTo>
                  <a:lnTo>
                    <a:pt x="84" y="50"/>
                  </a:lnTo>
                  <a:lnTo>
                    <a:pt x="49" y="50"/>
                  </a:lnTo>
                  <a:lnTo>
                    <a:pt x="47" y="48"/>
                  </a:lnTo>
                  <a:lnTo>
                    <a:pt x="47" y="45"/>
                  </a:lnTo>
                  <a:lnTo>
                    <a:pt x="127" y="43"/>
                  </a:lnTo>
                  <a:lnTo>
                    <a:pt x="135" y="40"/>
                  </a:lnTo>
                  <a:lnTo>
                    <a:pt x="142" y="40"/>
                  </a:lnTo>
                  <a:lnTo>
                    <a:pt x="144" y="41"/>
                  </a:lnTo>
                  <a:lnTo>
                    <a:pt x="155" y="35"/>
                  </a:lnTo>
                  <a:lnTo>
                    <a:pt x="146" y="23"/>
                  </a:lnTo>
                  <a:lnTo>
                    <a:pt x="153" y="15"/>
                  </a:lnTo>
                  <a:lnTo>
                    <a:pt x="153" y="10"/>
                  </a:lnTo>
                  <a:lnTo>
                    <a:pt x="133" y="7"/>
                  </a:lnTo>
                  <a:lnTo>
                    <a:pt x="38" y="8"/>
                  </a:lnTo>
                  <a:lnTo>
                    <a:pt x="0" y="5"/>
                  </a:lnTo>
                  <a:lnTo>
                    <a:pt x="18" y="2"/>
                  </a:lnTo>
                  <a:lnTo>
                    <a:pt x="56" y="5"/>
                  </a:lnTo>
                  <a:lnTo>
                    <a:pt x="93" y="3"/>
                  </a:lnTo>
                  <a:lnTo>
                    <a:pt x="142" y="0"/>
                  </a:lnTo>
                  <a:lnTo>
                    <a:pt x="160" y="5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8080" y="3247560"/>
              <a:ext cx="394200" cy="142920"/>
            </a:xfrm>
            <a:custGeom>
              <a:avLst/>
              <a:gdLst/>
              <a:ahLst/>
              <a:rect l="l" t="t" r="r" b="b"/>
              <a:pathLst>
                <a:path w="302" h="132">
                  <a:moveTo>
                    <a:pt x="100" y="11"/>
                  </a:moveTo>
                  <a:lnTo>
                    <a:pt x="107" y="15"/>
                  </a:lnTo>
                  <a:lnTo>
                    <a:pt x="91" y="20"/>
                  </a:lnTo>
                  <a:lnTo>
                    <a:pt x="62" y="10"/>
                  </a:lnTo>
                  <a:lnTo>
                    <a:pt x="36" y="10"/>
                  </a:lnTo>
                  <a:lnTo>
                    <a:pt x="18" y="21"/>
                  </a:lnTo>
                  <a:lnTo>
                    <a:pt x="16" y="81"/>
                  </a:lnTo>
                  <a:lnTo>
                    <a:pt x="11" y="90"/>
                  </a:lnTo>
                  <a:lnTo>
                    <a:pt x="11" y="95"/>
                  </a:lnTo>
                  <a:lnTo>
                    <a:pt x="34" y="101"/>
                  </a:lnTo>
                  <a:lnTo>
                    <a:pt x="82" y="106"/>
                  </a:lnTo>
                  <a:lnTo>
                    <a:pt x="118" y="113"/>
                  </a:lnTo>
                  <a:lnTo>
                    <a:pt x="133" y="113"/>
                  </a:lnTo>
                  <a:lnTo>
                    <a:pt x="193" y="125"/>
                  </a:lnTo>
                  <a:lnTo>
                    <a:pt x="193" y="126"/>
                  </a:lnTo>
                  <a:lnTo>
                    <a:pt x="215" y="128"/>
                  </a:lnTo>
                  <a:lnTo>
                    <a:pt x="222" y="126"/>
                  </a:lnTo>
                  <a:lnTo>
                    <a:pt x="253" y="126"/>
                  </a:lnTo>
                  <a:lnTo>
                    <a:pt x="277" y="121"/>
                  </a:lnTo>
                  <a:lnTo>
                    <a:pt x="284" y="117"/>
                  </a:lnTo>
                  <a:lnTo>
                    <a:pt x="284" y="113"/>
                  </a:lnTo>
                  <a:lnTo>
                    <a:pt x="273" y="112"/>
                  </a:lnTo>
                  <a:lnTo>
                    <a:pt x="286" y="87"/>
                  </a:lnTo>
                  <a:lnTo>
                    <a:pt x="286" y="86"/>
                  </a:lnTo>
                  <a:lnTo>
                    <a:pt x="295" y="81"/>
                  </a:lnTo>
                  <a:lnTo>
                    <a:pt x="302" y="85"/>
                  </a:lnTo>
                  <a:lnTo>
                    <a:pt x="293" y="106"/>
                  </a:lnTo>
                  <a:lnTo>
                    <a:pt x="293" y="120"/>
                  </a:lnTo>
                  <a:lnTo>
                    <a:pt x="273" y="131"/>
                  </a:lnTo>
                  <a:lnTo>
                    <a:pt x="275" y="132"/>
                  </a:lnTo>
                  <a:lnTo>
                    <a:pt x="193" y="132"/>
                  </a:lnTo>
                  <a:lnTo>
                    <a:pt x="160" y="125"/>
                  </a:lnTo>
                  <a:lnTo>
                    <a:pt x="122" y="120"/>
                  </a:lnTo>
                  <a:lnTo>
                    <a:pt x="87" y="113"/>
                  </a:lnTo>
                  <a:lnTo>
                    <a:pt x="80" y="111"/>
                  </a:lnTo>
                  <a:lnTo>
                    <a:pt x="76" y="112"/>
                  </a:lnTo>
                  <a:lnTo>
                    <a:pt x="11" y="102"/>
                  </a:lnTo>
                  <a:lnTo>
                    <a:pt x="0" y="91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11" y="11"/>
                  </a:lnTo>
                  <a:lnTo>
                    <a:pt x="38" y="1"/>
                  </a:lnTo>
                  <a:lnTo>
                    <a:pt x="47" y="0"/>
                  </a:lnTo>
                  <a:lnTo>
                    <a:pt x="82" y="10"/>
                  </a:lnTo>
                  <a:lnTo>
                    <a:pt x="10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60080" y="3373200"/>
              <a:ext cx="192960" cy="75600"/>
            </a:xfrm>
            <a:custGeom>
              <a:avLst/>
              <a:gdLst/>
              <a:ahLst/>
              <a:rect l="l" t="t" r="r" b="b"/>
              <a:pathLst>
                <a:path w="148" h="70">
                  <a:moveTo>
                    <a:pt x="120" y="20"/>
                  </a:moveTo>
                  <a:lnTo>
                    <a:pt x="137" y="20"/>
                  </a:lnTo>
                  <a:lnTo>
                    <a:pt x="124" y="25"/>
                  </a:lnTo>
                  <a:lnTo>
                    <a:pt x="35" y="9"/>
                  </a:lnTo>
                  <a:lnTo>
                    <a:pt x="15" y="10"/>
                  </a:lnTo>
                  <a:lnTo>
                    <a:pt x="22" y="20"/>
                  </a:lnTo>
                  <a:lnTo>
                    <a:pt x="22" y="41"/>
                  </a:lnTo>
                  <a:lnTo>
                    <a:pt x="77" y="53"/>
                  </a:lnTo>
                  <a:lnTo>
                    <a:pt x="115" y="55"/>
                  </a:lnTo>
                  <a:lnTo>
                    <a:pt x="137" y="61"/>
                  </a:lnTo>
                  <a:lnTo>
                    <a:pt x="142" y="61"/>
                  </a:lnTo>
                  <a:lnTo>
                    <a:pt x="146" y="60"/>
                  </a:lnTo>
                  <a:lnTo>
                    <a:pt x="148" y="62"/>
                  </a:lnTo>
                  <a:lnTo>
                    <a:pt x="148" y="67"/>
                  </a:lnTo>
                  <a:lnTo>
                    <a:pt x="133" y="70"/>
                  </a:lnTo>
                  <a:lnTo>
                    <a:pt x="113" y="60"/>
                  </a:lnTo>
                  <a:lnTo>
                    <a:pt x="44" y="53"/>
                  </a:lnTo>
                  <a:lnTo>
                    <a:pt x="40" y="53"/>
                  </a:lnTo>
                  <a:lnTo>
                    <a:pt x="40" y="51"/>
                  </a:lnTo>
                  <a:lnTo>
                    <a:pt x="18" y="50"/>
                  </a:lnTo>
                  <a:lnTo>
                    <a:pt x="15" y="50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7" y="1"/>
                  </a:lnTo>
                  <a:lnTo>
                    <a:pt x="9" y="0"/>
                  </a:lnTo>
                  <a:lnTo>
                    <a:pt x="69" y="6"/>
                  </a:lnTo>
                  <a:lnTo>
                    <a:pt x="12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96280" y="3384000"/>
              <a:ext cx="1420200" cy="921600"/>
            </a:xfrm>
            <a:custGeom>
              <a:avLst/>
              <a:gdLst/>
              <a:ahLst/>
              <a:rect l="l" t="t" r="r" b="b"/>
              <a:pathLst>
                <a:path w="1087" h="851">
                  <a:moveTo>
                    <a:pt x="60" y="17"/>
                  </a:moveTo>
                  <a:lnTo>
                    <a:pt x="100" y="30"/>
                  </a:lnTo>
                  <a:lnTo>
                    <a:pt x="125" y="31"/>
                  </a:lnTo>
                  <a:lnTo>
                    <a:pt x="202" y="48"/>
                  </a:lnTo>
                  <a:lnTo>
                    <a:pt x="224" y="52"/>
                  </a:lnTo>
                  <a:lnTo>
                    <a:pt x="388" y="72"/>
                  </a:lnTo>
                  <a:lnTo>
                    <a:pt x="388" y="75"/>
                  </a:lnTo>
                  <a:lnTo>
                    <a:pt x="437" y="82"/>
                  </a:lnTo>
                  <a:lnTo>
                    <a:pt x="479" y="81"/>
                  </a:lnTo>
                  <a:lnTo>
                    <a:pt x="504" y="63"/>
                  </a:lnTo>
                  <a:lnTo>
                    <a:pt x="575" y="43"/>
                  </a:lnTo>
                  <a:lnTo>
                    <a:pt x="637" y="40"/>
                  </a:lnTo>
                  <a:lnTo>
                    <a:pt x="674" y="48"/>
                  </a:lnTo>
                  <a:lnTo>
                    <a:pt x="754" y="45"/>
                  </a:lnTo>
                  <a:lnTo>
                    <a:pt x="761" y="48"/>
                  </a:lnTo>
                  <a:lnTo>
                    <a:pt x="878" y="50"/>
                  </a:lnTo>
                  <a:lnTo>
                    <a:pt x="898" y="56"/>
                  </a:lnTo>
                  <a:lnTo>
                    <a:pt x="940" y="56"/>
                  </a:lnTo>
                  <a:lnTo>
                    <a:pt x="958" y="60"/>
                  </a:lnTo>
                  <a:lnTo>
                    <a:pt x="971" y="89"/>
                  </a:lnTo>
                  <a:lnTo>
                    <a:pt x="971" y="102"/>
                  </a:lnTo>
                  <a:lnTo>
                    <a:pt x="978" y="119"/>
                  </a:lnTo>
                  <a:lnTo>
                    <a:pt x="980" y="165"/>
                  </a:lnTo>
                  <a:lnTo>
                    <a:pt x="978" y="231"/>
                  </a:lnTo>
                  <a:lnTo>
                    <a:pt x="971" y="280"/>
                  </a:lnTo>
                  <a:lnTo>
                    <a:pt x="978" y="402"/>
                  </a:lnTo>
                  <a:lnTo>
                    <a:pt x="976" y="480"/>
                  </a:lnTo>
                  <a:lnTo>
                    <a:pt x="969" y="535"/>
                  </a:lnTo>
                  <a:lnTo>
                    <a:pt x="963" y="574"/>
                  </a:lnTo>
                  <a:lnTo>
                    <a:pt x="969" y="623"/>
                  </a:lnTo>
                  <a:lnTo>
                    <a:pt x="971" y="674"/>
                  </a:lnTo>
                  <a:lnTo>
                    <a:pt x="987" y="699"/>
                  </a:lnTo>
                  <a:lnTo>
                    <a:pt x="996" y="703"/>
                  </a:lnTo>
                  <a:lnTo>
                    <a:pt x="1014" y="708"/>
                  </a:lnTo>
                  <a:lnTo>
                    <a:pt x="1060" y="708"/>
                  </a:lnTo>
                  <a:lnTo>
                    <a:pt x="1082" y="719"/>
                  </a:lnTo>
                  <a:lnTo>
                    <a:pt x="1087" y="755"/>
                  </a:lnTo>
                  <a:lnTo>
                    <a:pt x="1082" y="789"/>
                  </a:lnTo>
                  <a:lnTo>
                    <a:pt x="1069" y="793"/>
                  </a:lnTo>
                  <a:lnTo>
                    <a:pt x="1060" y="796"/>
                  </a:lnTo>
                  <a:lnTo>
                    <a:pt x="1056" y="842"/>
                  </a:lnTo>
                  <a:lnTo>
                    <a:pt x="1049" y="849"/>
                  </a:lnTo>
                  <a:lnTo>
                    <a:pt x="1049" y="850"/>
                  </a:lnTo>
                  <a:lnTo>
                    <a:pt x="1025" y="839"/>
                  </a:lnTo>
                  <a:lnTo>
                    <a:pt x="1016" y="825"/>
                  </a:lnTo>
                  <a:lnTo>
                    <a:pt x="1007" y="820"/>
                  </a:lnTo>
                  <a:lnTo>
                    <a:pt x="989" y="831"/>
                  </a:lnTo>
                  <a:lnTo>
                    <a:pt x="980" y="846"/>
                  </a:lnTo>
                  <a:lnTo>
                    <a:pt x="971" y="851"/>
                  </a:lnTo>
                  <a:lnTo>
                    <a:pt x="945" y="831"/>
                  </a:lnTo>
                  <a:lnTo>
                    <a:pt x="967" y="816"/>
                  </a:lnTo>
                  <a:lnTo>
                    <a:pt x="969" y="814"/>
                  </a:lnTo>
                  <a:lnTo>
                    <a:pt x="969" y="809"/>
                  </a:lnTo>
                  <a:lnTo>
                    <a:pt x="938" y="796"/>
                  </a:lnTo>
                  <a:lnTo>
                    <a:pt x="932" y="796"/>
                  </a:lnTo>
                  <a:lnTo>
                    <a:pt x="907" y="819"/>
                  </a:lnTo>
                  <a:lnTo>
                    <a:pt x="901" y="831"/>
                  </a:lnTo>
                  <a:lnTo>
                    <a:pt x="901" y="840"/>
                  </a:lnTo>
                  <a:lnTo>
                    <a:pt x="861" y="845"/>
                  </a:lnTo>
                  <a:lnTo>
                    <a:pt x="856" y="844"/>
                  </a:lnTo>
                  <a:lnTo>
                    <a:pt x="852" y="844"/>
                  </a:lnTo>
                  <a:lnTo>
                    <a:pt x="852" y="830"/>
                  </a:lnTo>
                  <a:lnTo>
                    <a:pt x="827" y="815"/>
                  </a:lnTo>
                  <a:lnTo>
                    <a:pt x="827" y="805"/>
                  </a:lnTo>
                  <a:lnTo>
                    <a:pt x="850" y="794"/>
                  </a:lnTo>
                  <a:lnTo>
                    <a:pt x="845" y="785"/>
                  </a:lnTo>
                  <a:lnTo>
                    <a:pt x="825" y="778"/>
                  </a:lnTo>
                  <a:lnTo>
                    <a:pt x="852" y="749"/>
                  </a:lnTo>
                  <a:lnTo>
                    <a:pt x="852" y="739"/>
                  </a:lnTo>
                  <a:lnTo>
                    <a:pt x="836" y="732"/>
                  </a:lnTo>
                  <a:lnTo>
                    <a:pt x="792" y="732"/>
                  </a:lnTo>
                  <a:lnTo>
                    <a:pt x="776" y="738"/>
                  </a:lnTo>
                  <a:lnTo>
                    <a:pt x="772" y="744"/>
                  </a:lnTo>
                  <a:lnTo>
                    <a:pt x="781" y="780"/>
                  </a:lnTo>
                  <a:lnTo>
                    <a:pt x="781" y="789"/>
                  </a:lnTo>
                  <a:lnTo>
                    <a:pt x="734" y="795"/>
                  </a:lnTo>
                  <a:lnTo>
                    <a:pt x="728" y="795"/>
                  </a:lnTo>
                  <a:lnTo>
                    <a:pt x="719" y="800"/>
                  </a:lnTo>
                  <a:lnTo>
                    <a:pt x="719" y="810"/>
                  </a:lnTo>
                  <a:lnTo>
                    <a:pt x="721" y="813"/>
                  </a:lnTo>
                  <a:lnTo>
                    <a:pt x="694" y="823"/>
                  </a:lnTo>
                  <a:lnTo>
                    <a:pt x="677" y="819"/>
                  </a:lnTo>
                  <a:lnTo>
                    <a:pt x="663" y="810"/>
                  </a:lnTo>
                  <a:lnTo>
                    <a:pt x="663" y="801"/>
                  </a:lnTo>
                  <a:lnTo>
                    <a:pt x="685" y="784"/>
                  </a:lnTo>
                  <a:lnTo>
                    <a:pt x="683" y="778"/>
                  </a:lnTo>
                  <a:lnTo>
                    <a:pt x="650" y="778"/>
                  </a:lnTo>
                  <a:lnTo>
                    <a:pt x="648" y="775"/>
                  </a:lnTo>
                  <a:lnTo>
                    <a:pt x="652" y="765"/>
                  </a:lnTo>
                  <a:lnTo>
                    <a:pt x="650" y="755"/>
                  </a:lnTo>
                  <a:lnTo>
                    <a:pt x="579" y="760"/>
                  </a:lnTo>
                  <a:lnTo>
                    <a:pt x="570" y="765"/>
                  </a:lnTo>
                  <a:lnTo>
                    <a:pt x="592" y="784"/>
                  </a:lnTo>
                  <a:lnTo>
                    <a:pt x="595" y="800"/>
                  </a:lnTo>
                  <a:lnTo>
                    <a:pt x="579" y="808"/>
                  </a:lnTo>
                  <a:lnTo>
                    <a:pt x="561" y="796"/>
                  </a:lnTo>
                  <a:lnTo>
                    <a:pt x="548" y="800"/>
                  </a:lnTo>
                  <a:lnTo>
                    <a:pt x="539" y="805"/>
                  </a:lnTo>
                  <a:lnTo>
                    <a:pt x="508" y="813"/>
                  </a:lnTo>
                  <a:lnTo>
                    <a:pt x="495" y="810"/>
                  </a:lnTo>
                  <a:lnTo>
                    <a:pt x="479" y="796"/>
                  </a:lnTo>
                  <a:lnTo>
                    <a:pt x="482" y="779"/>
                  </a:lnTo>
                  <a:lnTo>
                    <a:pt x="544" y="718"/>
                  </a:lnTo>
                  <a:lnTo>
                    <a:pt x="559" y="699"/>
                  </a:lnTo>
                  <a:lnTo>
                    <a:pt x="559" y="676"/>
                  </a:lnTo>
                  <a:lnTo>
                    <a:pt x="541" y="666"/>
                  </a:lnTo>
                  <a:lnTo>
                    <a:pt x="517" y="666"/>
                  </a:lnTo>
                  <a:lnTo>
                    <a:pt x="495" y="674"/>
                  </a:lnTo>
                  <a:lnTo>
                    <a:pt x="477" y="691"/>
                  </a:lnTo>
                  <a:lnTo>
                    <a:pt x="470" y="713"/>
                  </a:lnTo>
                  <a:lnTo>
                    <a:pt x="462" y="720"/>
                  </a:lnTo>
                  <a:lnTo>
                    <a:pt x="446" y="725"/>
                  </a:lnTo>
                  <a:lnTo>
                    <a:pt x="437" y="725"/>
                  </a:lnTo>
                  <a:lnTo>
                    <a:pt x="419" y="711"/>
                  </a:lnTo>
                  <a:lnTo>
                    <a:pt x="408" y="711"/>
                  </a:lnTo>
                  <a:lnTo>
                    <a:pt x="382" y="724"/>
                  </a:lnTo>
                  <a:lnTo>
                    <a:pt x="382" y="732"/>
                  </a:lnTo>
                  <a:lnTo>
                    <a:pt x="388" y="738"/>
                  </a:lnTo>
                  <a:lnTo>
                    <a:pt x="391" y="743"/>
                  </a:lnTo>
                  <a:lnTo>
                    <a:pt x="391" y="748"/>
                  </a:lnTo>
                  <a:lnTo>
                    <a:pt x="348" y="758"/>
                  </a:lnTo>
                  <a:lnTo>
                    <a:pt x="331" y="758"/>
                  </a:lnTo>
                  <a:lnTo>
                    <a:pt x="329" y="749"/>
                  </a:lnTo>
                  <a:lnTo>
                    <a:pt x="353" y="725"/>
                  </a:lnTo>
                  <a:lnTo>
                    <a:pt x="348" y="714"/>
                  </a:lnTo>
                  <a:lnTo>
                    <a:pt x="344" y="711"/>
                  </a:lnTo>
                  <a:lnTo>
                    <a:pt x="346" y="696"/>
                  </a:lnTo>
                  <a:lnTo>
                    <a:pt x="346" y="693"/>
                  </a:lnTo>
                  <a:lnTo>
                    <a:pt x="335" y="688"/>
                  </a:lnTo>
                  <a:lnTo>
                    <a:pt x="309" y="688"/>
                  </a:lnTo>
                  <a:lnTo>
                    <a:pt x="300" y="696"/>
                  </a:lnTo>
                  <a:lnTo>
                    <a:pt x="300" y="704"/>
                  </a:lnTo>
                  <a:lnTo>
                    <a:pt x="275" y="713"/>
                  </a:lnTo>
                  <a:lnTo>
                    <a:pt x="247" y="693"/>
                  </a:lnTo>
                  <a:lnTo>
                    <a:pt x="247" y="684"/>
                  </a:lnTo>
                  <a:lnTo>
                    <a:pt x="275" y="663"/>
                  </a:lnTo>
                  <a:lnTo>
                    <a:pt x="275" y="656"/>
                  </a:lnTo>
                  <a:lnTo>
                    <a:pt x="249" y="643"/>
                  </a:lnTo>
                  <a:lnTo>
                    <a:pt x="249" y="638"/>
                  </a:lnTo>
                  <a:lnTo>
                    <a:pt x="275" y="641"/>
                  </a:lnTo>
                  <a:lnTo>
                    <a:pt x="302" y="636"/>
                  </a:lnTo>
                  <a:lnTo>
                    <a:pt x="320" y="625"/>
                  </a:lnTo>
                  <a:lnTo>
                    <a:pt x="317" y="606"/>
                  </a:lnTo>
                  <a:lnTo>
                    <a:pt x="311" y="601"/>
                  </a:lnTo>
                  <a:lnTo>
                    <a:pt x="304" y="599"/>
                  </a:lnTo>
                  <a:lnTo>
                    <a:pt x="278" y="606"/>
                  </a:lnTo>
                  <a:lnTo>
                    <a:pt x="251" y="606"/>
                  </a:lnTo>
                  <a:lnTo>
                    <a:pt x="251" y="590"/>
                  </a:lnTo>
                  <a:lnTo>
                    <a:pt x="273" y="576"/>
                  </a:lnTo>
                  <a:lnTo>
                    <a:pt x="273" y="571"/>
                  </a:lnTo>
                  <a:lnTo>
                    <a:pt x="255" y="564"/>
                  </a:lnTo>
                  <a:lnTo>
                    <a:pt x="251" y="556"/>
                  </a:lnTo>
                  <a:lnTo>
                    <a:pt x="251" y="551"/>
                  </a:lnTo>
                  <a:lnTo>
                    <a:pt x="313" y="530"/>
                  </a:lnTo>
                  <a:lnTo>
                    <a:pt x="331" y="516"/>
                  </a:lnTo>
                  <a:lnTo>
                    <a:pt x="329" y="513"/>
                  </a:lnTo>
                  <a:lnTo>
                    <a:pt x="295" y="496"/>
                  </a:lnTo>
                  <a:lnTo>
                    <a:pt x="273" y="499"/>
                  </a:lnTo>
                  <a:lnTo>
                    <a:pt x="266" y="501"/>
                  </a:lnTo>
                  <a:lnTo>
                    <a:pt x="238" y="500"/>
                  </a:lnTo>
                  <a:lnTo>
                    <a:pt x="222" y="499"/>
                  </a:lnTo>
                  <a:lnTo>
                    <a:pt x="200" y="520"/>
                  </a:lnTo>
                  <a:lnTo>
                    <a:pt x="193" y="534"/>
                  </a:lnTo>
                  <a:lnTo>
                    <a:pt x="169" y="559"/>
                  </a:lnTo>
                  <a:lnTo>
                    <a:pt x="173" y="579"/>
                  </a:lnTo>
                  <a:lnTo>
                    <a:pt x="189" y="590"/>
                  </a:lnTo>
                  <a:lnTo>
                    <a:pt x="169" y="600"/>
                  </a:lnTo>
                  <a:lnTo>
                    <a:pt x="153" y="600"/>
                  </a:lnTo>
                  <a:lnTo>
                    <a:pt x="138" y="611"/>
                  </a:lnTo>
                  <a:lnTo>
                    <a:pt x="140" y="630"/>
                  </a:lnTo>
                  <a:lnTo>
                    <a:pt x="140" y="641"/>
                  </a:lnTo>
                  <a:lnTo>
                    <a:pt x="91" y="669"/>
                  </a:lnTo>
                  <a:lnTo>
                    <a:pt x="65" y="699"/>
                  </a:lnTo>
                  <a:lnTo>
                    <a:pt x="65" y="713"/>
                  </a:lnTo>
                  <a:lnTo>
                    <a:pt x="74" y="718"/>
                  </a:lnTo>
                  <a:lnTo>
                    <a:pt x="51" y="729"/>
                  </a:lnTo>
                  <a:lnTo>
                    <a:pt x="38" y="732"/>
                  </a:lnTo>
                  <a:lnTo>
                    <a:pt x="34" y="725"/>
                  </a:lnTo>
                  <a:lnTo>
                    <a:pt x="34" y="704"/>
                  </a:lnTo>
                  <a:lnTo>
                    <a:pt x="29" y="613"/>
                  </a:lnTo>
                  <a:lnTo>
                    <a:pt x="27" y="493"/>
                  </a:lnTo>
                  <a:lnTo>
                    <a:pt x="16" y="406"/>
                  </a:lnTo>
                  <a:lnTo>
                    <a:pt x="9" y="396"/>
                  </a:lnTo>
                  <a:lnTo>
                    <a:pt x="9" y="363"/>
                  </a:lnTo>
                  <a:lnTo>
                    <a:pt x="7" y="246"/>
                  </a:lnTo>
                  <a:lnTo>
                    <a:pt x="3" y="16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29" y="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6280" y="3399120"/>
              <a:ext cx="1420200" cy="906480"/>
            </a:xfrm>
            <a:custGeom>
              <a:avLst/>
              <a:gdLst/>
              <a:ahLst/>
              <a:rect l="l" t="t" r="r" b="b"/>
              <a:pathLst>
                <a:path w="1087" h="837">
                  <a:moveTo>
                    <a:pt x="3" y="0"/>
                  </a:moveTo>
                  <a:lnTo>
                    <a:pt x="45" y="105"/>
                  </a:lnTo>
                  <a:lnTo>
                    <a:pt x="87" y="170"/>
                  </a:lnTo>
                  <a:lnTo>
                    <a:pt x="233" y="187"/>
                  </a:lnTo>
                  <a:lnTo>
                    <a:pt x="264" y="229"/>
                  </a:lnTo>
                  <a:lnTo>
                    <a:pt x="180" y="258"/>
                  </a:lnTo>
                  <a:lnTo>
                    <a:pt x="180" y="293"/>
                  </a:lnTo>
                  <a:lnTo>
                    <a:pt x="275" y="306"/>
                  </a:lnTo>
                  <a:lnTo>
                    <a:pt x="391" y="329"/>
                  </a:lnTo>
                  <a:lnTo>
                    <a:pt x="399" y="358"/>
                  </a:lnTo>
                  <a:lnTo>
                    <a:pt x="317" y="382"/>
                  </a:lnTo>
                  <a:lnTo>
                    <a:pt x="368" y="412"/>
                  </a:lnTo>
                  <a:lnTo>
                    <a:pt x="537" y="412"/>
                  </a:lnTo>
                  <a:lnTo>
                    <a:pt x="610" y="377"/>
                  </a:lnTo>
                  <a:lnTo>
                    <a:pt x="621" y="347"/>
                  </a:lnTo>
                  <a:lnTo>
                    <a:pt x="641" y="347"/>
                  </a:lnTo>
                  <a:lnTo>
                    <a:pt x="659" y="347"/>
                  </a:lnTo>
                  <a:lnTo>
                    <a:pt x="672" y="347"/>
                  </a:lnTo>
                  <a:lnTo>
                    <a:pt x="681" y="347"/>
                  </a:lnTo>
                  <a:lnTo>
                    <a:pt x="688" y="347"/>
                  </a:lnTo>
                  <a:lnTo>
                    <a:pt x="692" y="347"/>
                  </a:lnTo>
                  <a:lnTo>
                    <a:pt x="694" y="347"/>
                  </a:lnTo>
                  <a:lnTo>
                    <a:pt x="694" y="347"/>
                  </a:lnTo>
                  <a:lnTo>
                    <a:pt x="745" y="388"/>
                  </a:lnTo>
                  <a:lnTo>
                    <a:pt x="725" y="429"/>
                  </a:lnTo>
                  <a:lnTo>
                    <a:pt x="725" y="459"/>
                  </a:lnTo>
                  <a:lnTo>
                    <a:pt x="787" y="494"/>
                  </a:lnTo>
                  <a:lnTo>
                    <a:pt x="956" y="494"/>
                  </a:lnTo>
                  <a:lnTo>
                    <a:pt x="971" y="497"/>
                  </a:lnTo>
                  <a:lnTo>
                    <a:pt x="969" y="521"/>
                  </a:lnTo>
                  <a:lnTo>
                    <a:pt x="963" y="560"/>
                  </a:lnTo>
                  <a:lnTo>
                    <a:pt x="969" y="609"/>
                  </a:lnTo>
                  <a:lnTo>
                    <a:pt x="971" y="660"/>
                  </a:lnTo>
                  <a:lnTo>
                    <a:pt x="987" y="685"/>
                  </a:lnTo>
                  <a:lnTo>
                    <a:pt x="996" y="689"/>
                  </a:lnTo>
                  <a:lnTo>
                    <a:pt x="1014" y="694"/>
                  </a:lnTo>
                  <a:lnTo>
                    <a:pt x="1060" y="694"/>
                  </a:lnTo>
                  <a:lnTo>
                    <a:pt x="1082" y="705"/>
                  </a:lnTo>
                  <a:lnTo>
                    <a:pt x="1087" y="741"/>
                  </a:lnTo>
                  <a:lnTo>
                    <a:pt x="1082" y="775"/>
                  </a:lnTo>
                  <a:lnTo>
                    <a:pt x="1069" y="779"/>
                  </a:lnTo>
                  <a:lnTo>
                    <a:pt x="1060" y="782"/>
                  </a:lnTo>
                  <a:lnTo>
                    <a:pt x="1056" y="828"/>
                  </a:lnTo>
                  <a:lnTo>
                    <a:pt x="1049" y="835"/>
                  </a:lnTo>
                  <a:lnTo>
                    <a:pt x="1049" y="836"/>
                  </a:lnTo>
                  <a:lnTo>
                    <a:pt x="1025" y="825"/>
                  </a:lnTo>
                  <a:lnTo>
                    <a:pt x="1016" y="811"/>
                  </a:lnTo>
                  <a:lnTo>
                    <a:pt x="1007" y="806"/>
                  </a:lnTo>
                  <a:lnTo>
                    <a:pt x="989" y="817"/>
                  </a:lnTo>
                  <a:lnTo>
                    <a:pt x="980" y="832"/>
                  </a:lnTo>
                  <a:lnTo>
                    <a:pt x="971" y="837"/>
                  </a:lnTo>
                  <a:lnTo>
                    <a:pt x="945" y="817"/>
                  </a:lnTo>
                  <a:lnTo>
                    <a:pt x="967" y="802"/>
                  </a:lnTo>
                  <a:lnTo>
                    <a:pt x="969" y="800"/>
                  </a:lnTo>
                  <a:lnTo>
                    <a:pt x="969" y="795"/>
                  </a:lnTo>
                  <a:lnTo>
                    <a:pt x="938" y="782"/>
                  </a:lnTo>
                  <a:lnTo>
                    <a:pt x="932" y="782"/>
                  </a:lnTo>
                  <a:lnTo>
                    <a:pt x="907" y="805"/>
                  </a:lnTo>
                  <a:lnTo>
                    <a:pt x="901" y="817"/>
                  </a:lnTo>
                  <a:lnTo>
                    <a:pt x="901" y="826"/>
                  </a:lnTo>
                  <a:lnTo>
                    <a:pt x="861" y="831"/>
                  </a:lnTo>
                  <a:lnTo>
                    <a:pt x="856" y="830"/>
                  </a:lnTo>
                  <a:lnTo>
                    <a:pt x="852" y="830"/>
                  </a:lnTo>
                  <a:lnTo>
                    <a:pt x="852" y="816"/>
                  </a:lnTo>
                  <a:lnTo>
                    <a:pt x="827" y="801"/>
                  </a:lnTo>
                  <a:lnTo>
                    <a:pt x="827" y="791"/>
                  </a:lnTo>
                  <a:lnTo>
                    <a:pt x="850" y="780"/>
                  </a:lnTo>
                  <a:lnTo>
                    <a:pt x="845" y="771"/>
                  </a:lnTo>
                  <a:lnTo>
                    <a:pt x="825" y="764"/>
                  </a:lnTo>
                  <a:lnTo>
                    <a:pt x="852" y="735"/>
                  </a:lnTo>
                  <a:lnTo>
                    <a:pt x="852" y="725"/>
                  </a:lnTo>
                  <a:lnTo>
                    <a:pt x="836" y="718"/>
                  </a:lnTo>
                  <a:lnTo>
                    <a:pt x="792" y="718"/>
                  </a:lnTo>
                  <a:lnTo>
                    <a:pt x="776" y="724"/>
                  </a:lnTo>
                  <a:lnTo>
                    <a:pt x="772" y="730"/>
                  </a:lnTo>
                  <a:lnTo>
                    <a:pt x="781" y="766"/>
                  </a:lnTo>
                  <a:lnTo>
                    <a:pt x="781" y="775"/>
                  </a:lnTo>
                  <a:lnTo>
                    <a:pt x="734" y="781"/>
                  </a:lnTo>
                  <a:lnTo>
                    <a:pt x="728" y="781"/>
                  </a:lnTo>
                  <a:lnTo>
                    <a:pt x="719" y="786"/>
                  </a:lnTo>
                  <a:lnTo>
                    <a:pt x="719" y="796"/>
                  </a:lnTo>
                  <a:lnTo>
                    <a:pt x="721" y="799"/>
                  </a:lnTo>
                  <a:lnTo>
                    <a:pt x="694" y="809"/>
                  </a:lnTo>
                  <a:lnTo>
                    <a:pt x="677" y="805"/>
                  </a:lnTo>
                  <a:lnTo>
                    <a:pt x="663" y="796"/>
                  </a:lnTo>
                  <a:lnTo>
                    <a:pt x="663" y="787"/>
                  </a:lnTo>
                  <a:lnTo>
                    <a:pt x="685" y="770"/>
                  </a:lnTo>
                  <a:lnTo>
                    <a:pt x="683" y="764"/>
                  </a:lnTo>
                  <a:lnTo>
                    <a:pt x="650" y="764"/>
                  </a:lnTo>
                  <a:lnTo>
                    <a:pt x="648" y="761"/>
                  </a:lnTo>
                  <a:lnTo>
                    <a:pt x="652" y="751"/>
                  </a:lnTo>
                  <a:lnTo>
                    <a:pt x="650" y="741"/>
                  </a:lnTo>
                  <a:lnTo>
                    <a:pt x="579" y="746"/>
                  </a:lnTo>
                  <a:lnTo>
                    <a:pt x="570" y="751"/>
                  </a:lnTo>
                  <a:lnTo>
                    <a:pt x="592" y="770"/>
                  </a:lnTo>
                  <a:lnTo>
                    <a:pt x="595" y="786"/>
                  </a:lnTo>
                  <a:lnTo>
                    <a:pt x="579" y="794"/>
                  </a:lnTo>
                  <a:lnTo>
                    <a:pt x="561" y="782"/>
                  </a:lnTo>
                  <a:lnTo>
                    <a:pt x="548" y="786"/>
                  </a:lnTo>
                  <a:lnTo>
                    <a:pt x="539" y="791"/>
                  </a:lnTo>
                  <a:lnTo>
                    <a:pt x="508" y="799"/>
                  </a:lnTo>
                  <a:lnTo>
                    <a:pt x="495" y="796"/>
                  </a:lnTo>
                  <a:lnTo>
                    <a:pt x="479" y="782"/>
                  </a:lnTo>
                  <a:lnTo>
                    <a:pt x="482" y="765"/>
                  </a:lnTo>
                  <a:lnTo>
                    <a:pt x="544" y="704"/>
                  </a:lnTo>
                  <a:lnTo>
                    <a:pt x="559" y="685"/>
                  </a:lnTo>
                  <a:lnTo>
                    <a:pt x="559" y="662"/>
                  </a:lnTo>
                  <a:lnTo>
                    <a:pt x="541" y="652"/>
                  </a:lnTo>
                  <a:lnTo>
                    <a:pt x="517" y="652"/>
                  </a:lnTo>
                  <a:lnTo>
                    <a:pt x="495" y="660"/>
                  </a:lnTo>
                  <a:lnTo>
                    <a:pt x="477" y="677"/>
                  </a:lnTo>
                  <a:lnTo>
                    <a:pt x="470" y="699"/>
                  </a:lnTo>
                  <a:lnTo>
                    <a:pt x="462" y="706"/>
                  </a:lnTo>
                  <a:lnTo>
                    <a:pt x="446" y="711"/>
                  </a:lnTo>
                  <a:lnTo>
                    <a:pt x="437" y="711"/>
                  </a:lnTo>
                  <a:lnTo>
                    <a:pt x="419" y="697"/>
                  </a:lnTo>
                  <a:lnTo>
                    <a:pt x="408" y="697"/>
                  </a:lnTo>
                  <a:lnTo>
                    <a:pt x="382" y="710"/>
                  </a:lnTo>
                  <a:lnTo>
                    <a:pt x="382" y="718"/>
                  </a:lnTo>
                  <a:lnTo>
                    <a:pt x="388" y="724"/>
                  </a:lnTo>
                  <a:lnTo>
                    <a:pt x="391" y="729"/>
                  </a:lnTo>
                  <a:lnTo>
                    <a:pt x="391" y="734"/>
                  </a:lnTo>
                  <a:lnTo>
                    <a:pt x="348" y="744"/>
                  </a:lnTo>
                  <a:lnTo>
                    <a:pt x="331" y="744"/>
                  </a:lnTo>
                  <a:lnTo>
                    <a:pt x="329" y="735"/>
                  </a:lnTo>
                  <a:lnTo>
                    <a:pt x="353" y="711"/>
                  </a:lnTo>
                  <a:lnTo>
                    <a:pt x="348" y="700"/>
                  </a:lnTo>
                  <a:lnTo>
                    <a:pt x="344" y="697"/>
                  </a:lnTo>
                  <a:lnTo>
                    <a:pt x="346" y="682"/>
                  </a:lnTo>
                  <a:lnTo>
                    <a:pt x="346" y="679"/>
                  </a:lnTo>
                  <a:lnTo>
                    <a:pt x="335" y="674"/>
                  </a:lnTo>
                  <a:lnTo>
                    <a:pt x="309" y="674"/>
                  </a:lnTo>
                  <a:lnTo>
                    <a:pt x="300" y="682"/>
                  </a:lnTo>
                  <a:lnTo>
                    <a:pt x="300" y="690"/>
                  </a:lnTo>
                  <a:lnTo>
                    <a:pt x="275" y="699"/>
                  </a:lnTo>
                  <a:lnTo>
                    <a:pt x="247" y="679"/>
                  </a:lnTo>
                  <a:lnTo>
                    <a:pt x="247" y="670"/>
                  </a:lnTo>
                  <a:lnTo>
                    <a:pt x="275" y="649"/>
                  </a:lnTo>
                  <a:lnTo>
                    <a:pt x="275" y="642"/>
                  </a:lnTo>
                  <a:lnTo>
                    <a:pt x="249" y="629"/>
                  </a:lnTo>
                  <a:lnTo>
                    <a:pt x="249" y="624"/>
                  </a:lnTo>
                  <a:lnTo>
                    <a:pt x="275" y="627"/>
                  </a:lnTo>
                  <a:lnTo>
                    <a:pt x="302" y="622"/>
                  </a:lnTo>
                  <a:lnTo>
                    <a:pt x="320" y="611"/>
                  </a:lnTo>
                  <a:lnTo>
                    <a:pt x="317" y="592"/>
                  </a:lnTo>
                  <a:lnTo>
                    <a:pt x="311" y="587"/>
                  </a:lnTo>
                  <a:lnTo>
                    <a:pt x="304" y="585"/>
                  </a:lnTo>
                  <a:lnTo>
                    <a:pt x="278" y="592"/>
                  </a:lnTo>
                  <a:lnTo>
                    <a:pt x="251" y="592"/>
                  </a:lnTo>
                  <a:lnTo>
                    <a:pt x="251" y="576"/>
                  </a:lnTo>
                  <a:lnTo>
                    <a:pt x="273" y="562"/>
                  </a:lnTo>
                  <a:lnTo>
                    <a:pt x="273" y="557"/>
                  </a:lnTo>
                  <a:lnTo>
                    <a:pt x="255" y="550"/>
                  </a:lnTo>
                  <a:lnTo>
                    <a:pt x="251" y="542"/>
                  </a:lnTo>
                  <a:lnTo>
                    <a:pt x="251" y="537"/>
                  </a:lnTo>
                  <a:lnTo>
                    <a:pt x="313" y="516"/>
                  </a:lnTo>
                  <a:lnTo>
                    <a:pt x="331" y="502"/>
                  </a:lnTo>
                  <a:lnTo>
                    <a:pt x="329" y="499"/>
                  </a:lnTo>
                  <a:lnTo>
                    <a:pt x="295" y="482"/>
                  </a:lnTo>
                  <a:lnTo>
                    <a:pt x="273" y="485"/>
                  </a:lnTo>
                  <a:lnTo>
                    <a:pt x="266" y="487"/>
                  </a:lnTo>
                  <a:lnTo>
                    <a:pt x="238" y="486"/>
                  </a:lnTo>
                  <a:lnTo>
                    <a:pt x="222" y="485"/>
                  </a:lnTo>
                  <a:lnTo>
                    <a:pt x="200" y="506"/>
                  </a:lnTo>
                  <a:lnTo>
                    <a:pt x="193" y="520"/>
                  </a:lnTo>
                  <a:lnTo>
                    <a:pt x="169" y="545"/>
                  </a:lnTo>
                  <a:lnTo>
                    <a:pt x="173" y="565"/>
                  </a:lnTo>
                  <a:lnTo>
                    <a:pt x="189" y="576"/>
                  </a:lnTo>
                  <a:lnTo>
                    <a:pt x="169" y="586"/>
                  </a:lnTo>
                  <a:lnTo>
                    <a:pt x="153" y="586"/>
                  </a:lnTo>
                  <a:lnTo>
                    <a:pt x="138" y="597"/>
                  </a:lnTo>
                  <a:lnTo>
                    <a:pt x="140" y="616"/>
                  </a:lnTo>
                  <a:lnTo>
                    <a:pt x="140" y="627"/>
                  </a:lnTo>
                  <a:lnTo>
                    <a:pt x="91" y="655"/>
                  </a:lnTo>
                  <a:lnTo>
                    <a:pt x="65" y="685"/>
                  </a:lnTo>
                  <a:lnTo>
                    <a:pt x="65" y="699"/>
                  </a:lnTo>
                  <a:lnTo>
                    <a:pt x="74" y="704"/>
                  </a:lnTo>
                  <a:lnTo>
                    <a:pt x="51" y="715"/>
                  </a:lnTo>
                  <a:lnTo>
                    <a:pt x="38" y="718"/>
                  </a:lnTo>
                  <a:lnTo>
                    <a:pt x="34" y="711"/>
                  </a:lnTo>
                  <a:lnTo>
                    <a:pt x="34" y="690"/>
                  </a:lnTo>
                  <a:lnTo>
                    <a:pt x="29" y="599"/>
                  </a:lnTo>
                  <a:lnTo>
                    <a:pt x="27" y="479"/>
                  </a:lnTo>
                  <a:lnTo>
                    <a:pt x="16" y="392"/>
                  </a:lnTo>
                  <a:lnTo>
                    <a:pt x="9" y="382"/>
                  </a:lnTo>
                  <a:lnTo>
                    <a:pt x="9" y="349"/>
                  </a:lnTo>
                  <a:lnTo>
                    <a:pt x="7" y="232"/>
                  </a:lnTo>
                  <a:lnTo>
                    <a:pt x="3" y="14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44040" y="3427560"/>
              <a:ext cx="351360" cy="34560"/>
            </a:xfrm>
            <a:custGeom>
              <a:avLst/>
              <a:gdLst/>
              <a:ahLst/>
              <a:rect l="l" t="t" r="r" b="b"/>
              <a:pathLst>
                <a:path w="269" h="32">
                  <a:moveTo>
                    <a:pt x="269" y="1"/>
                  </a:moveTo>
                  <a:lnTo>
                    <a:pt x="233" y="11"/>
                  </a:lnTo>
                  <a:lnTo>
                    <a:pt x="211" y="25"/>
                  </a:lnTo>
                  <a:lnTo>
                    <a:pt x="211" y="27"/>
                  </a:lnTo>
                  <a:lnTo>
                    <a:pt x="198" y="32"/>
                  </a:lnTo>
                  <a:lnTo>
                    <a:pt x="158" y="30"/>
                  </a:lnTo>
                  <a:lnTo>
                    <a:pt x="71" y="16"/>
                  </a:lnTo>
                  <a:lnTo>
                    <a:pt x="25" y="11"/>
                  </a:lnTo>
                  <a:lnTo>
                    <a:pt x="0" y="8"/>
                  </a:lnTo>
                  <a:lnTo>
                    <a:pt x="43" y="0"/>
                  </a:lnTo>
                  <a:lnTo>
                    <a:pt x="87" y="1"/>
                  </a:lnTo>
                  <a:lnTo>
                    <a:pt x="269" y="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72120" y="3455280"/>
              <a:ext cx="235080" cy="54000"/>
            </a:xfrm>
            <a:custGeom>
              <a:avLst/>
              <a:gdLst/>
              <a:ahLst/>
              <a:rect l="l" t="t" r="r" b="b"/>
              <a:pathLst>
                <a:path w="180" h="50">
                  <a:moveTo>
                    <a:pt x="175" y="30"/>
                  </a:moveTo>
                  <a:lnTo>
                    <a:pt x="180" y="35"/>
                  </a:lnTo>
                  <a:lnTo>
                    <a:pt x="180" y="40"/>
                  </a:lnTo>
                  <a:lnTo>
                    <a:pt x="178" y="40"/>
                  </a:lnTo>
                  <a:lnTo>
                    <a:pt x="158" y="43"/>
                  </a:lnTo>
                  <a:lnTo>
                    <a:pt x="82" y="47"/>
                  </a:lnTo>
                  <a:lnTo>
                    <a:pt x="45" y="48"/>
                  </a:lnTo>
                  <a:lnTo>
                    <a:pt x="42" y="50"/>
                  </a:lnTo>
                  <a:lnTo>
                    <a:pt x="42" y="45"/>
                  </a:lnTo>
                  <a:lnTo>
                    <a:pt x="122" y="43"/>
                  </a:lnTo>
                  <a:lnTo>
                    <a:pt x="162" y="38"/>
                  </a:lnTo>
                  <a:lnTo>
                    <a:pt x="169" y="35"/>
                  </a:lnTo>
                  <a:lnTo>
                    <a:pt x="160" y="10"/>
                  </a:lnTo>
                  <a:lnTo>
                    <a:pt x="151" y="4"/>
                  </a:lnTo>
                  <a:lnTo>
                    <a:pt x="78" y="6"/>
                  </a:lnTo>
                  <a:lnTo>
                    <a:pt x="9" y="10"/>
                  </a:lnTo>
                  <a:lnTo>
                    <a:pt x="0" y="6"/>
                  </a:lnTo>
                  <a:lnTo>
                    <a:pt x="0" y="5"/>
                  </a:lnTo>
                  <a:lnTo>
                    <a:pt x="27" y="4"/>
                  </a:lnTo>
                  <a:lnTo>
                    <a:pt x="98" y="4"/>
                  </a:lnTo>
                  <a:lnTo>
                    <a:pt x="149" y="1"/>
                  </a:lnTo>
                  <a:lnTo>
                    <a:pt x="151" y="0"/>
                  </a:lnTo>
                  <a:lnTo>
                    <a:pt x="166" y="1"/>
                  </a:lnTo>
                  <a:lnTo>
                    <a:pt x="17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50120" y="3469680"/>
              <a:ext cx="538200" cy="108000"/>
            </a:xfrm>
            <a:custGeom>
              <a:avLst/>
              <a:gdLst/>
              <a:ahLst/>
              <a:rect l="l" t="t" r="r" b="b"/>
              <a:pathLst>
                <a:path w="412" h="100">
                  <a:moveTo>
                    <a:pt x="208" y="27"/>
                  </a:moveTo>
                  <a:lnTo>
                    <a:pt x="224" y="25"/>
                  </a:lnTo>
                  <a:lnTo>
                    <a:pt x="232" y="25"/>
                  </a:lnTo>
                  <a:lnTo>
                    <a:pt x="232" y="27"/>
                  </a:lnTo>
                  <a:lnTo>
                    <a:pt x="261" y="32"/>
                  </a:lnTo>
                  <a:lnTo>
                    <a:pt x="303" y="38"/>
                  </a:lnTo>
                  <a:lnTo>
                    <a:pt x="357" y="40"/>
                  </a:lnTo>
                  <a:lnTo>
                    <a:pt x="370" y="45"/>
                  </a:lnTo>
                  <a:lnTo>
                    <a:pt x="370" y="47"/>
                  </a:lnTo>
                  <a:lnTo>
                    <a:pt x="412" y="56"/>
                  </a:lnTo>
                  <a:lnTo>
                    <a:pt x="401" y="61"/>
                  </a:lnTo>
                  <a:lnTo>
                    <a:pt x="321" y="45"/>
                  </a:lnTo>
                  <a:lnTo>
                    <a:pt x="241" y="38"/>
                  </a:lnTo>
                  <a:lnTo>
                    <a:pt x="237" y="38"/>
                  </a:lnTo>
                  <a:lnTo>
                    <a:pt x="228" y="34"/>
                  </a:lnTo>
                  <a:lnTo>
                    <a:pt x="217" y="40"/>
                  </a:lnTo>
                  <a:lnTo>
                    <a:pt x="224" y="65"/>
                  </a:lnTo>
                  <a:lnTo>
                    <a:pt x="226" y="86"/>
                  </a:lnTo>
                  <a:lnTo>
                    <a:pt x="224" y="86"/>
                  </a:lnTo>
                  <a:lnTo>
                    <a:pt x="217" y="90"/>
                  </a:lnTo>
                  <a:lnTo>
                    <a:pt x="219" y="95"/>
                  </a:lnTo>
                  <a:lnTo>
                    <a:pt x="212" y="100"/>
                  </a:lnTo>
                  <a:lnTo>
                    <a:pt x="206" y="93"/>
                  </a:lnTo>
                  <a:lnTo>
                    <a:pt x="206" y="81"/>
                  </a:lnTo>
                  <a:lnTo>
                    <a:pt x="215" y="75"/>
                  </a:lnTo>
                  <a:lnTo>
                    <a:pt x="208" y="35"/>
                  </a:lnTo>
                  <a:lnTo>
                    <a:pt x="119" y="17"/>
                  </a:lnTo>
                  <a:lnTo>
                    <a:pt x="51" y="7"/>
                  </a:lnTo>
                  <a:lnTo>
                    <a:pt x="24" y="12"/>
                  </a:lnTo>
                  <a:lnTo>
                    <a:pt x="20" y="19"/>
                  </a:lnTo>
                  <a:lnTo>
                    <a:pt x="20" y="71"/>
                  </a:lnTo>
                  <a:lnTo>
                    <a:pt x="51" y="76"/>
                  </a:lnTo>
                  <a:lnTo>
                    <a:pt x="91" y="75"/>
                  </a:lnTo>
                  <a:lnTo>
                    <a:pt x="93" y="76"/>
                  </a:lnTo>
                  <a:lnTo>
                    <a:pt x="93" y="81"/>
                  </a:lnTo>
                  <a:lnTo>
                    <a:pt x="88" y="83"/>
                  </a:lnTo>
                  <a:lnTo>
                    <a:pt x="64" y="80"/>
                  </a:lnTo>
                  <a:lnTo>
                    <a:pt x="22" y="80"/>
                  </a:lnTo>
                  <a:lnTo>
                    <a:pt x="11" y="76"/>
                  </a:lnTo>
                  <a:lnTo>
                    <a:pt x="4" y="63"/>
                  </a:lnTo>
                  <a:lnTo>
                    <a:pt x="11" y="28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144" y="13"/>
                  </a:lnTo>
                  <a:lnTo>
                    <a:pt x="2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74760" y="3471480"/>
              <a:ext cx="254880" cy="78840"/>
            </a:xfrm>
            <a:custGeom>
              <a:avLst/>
              <a:gdLst/>
              <a:ahLst/>
              <a:rect l="l" t="t" r="r" b="b"/>
              <a:pathLst>
                <a:path w="195" h="73">
                  <a:moveTo>
                    <a:pt x="89" y="17"/>
                  </a:moveTo>
                  <a:lnTo>
                    <a:pt x="118" y="18"/>
                  </a:lnTo>
                  <a:lnTo>
                    <a:pt x="169" y="23"/>
                  </a:lnTo>
                  <a:lnTo>
                    <a:pt x="171" y="25"/>
                  </a:lnTo>
                  <a:lnTo>
                    <a:pt x="187" y="18"/>
                  </a:lnTo>
                  <a:lnTo>
                    <a:pt x="195" y="21"/>
                  </a:lnTo>
                  <a:lnTo>
                    <a:pt x="189" y="28"/>
                  </a:lnTo>
                  <a:lnTo>
                    <a:pt x="189" y="43"/>
                  </a:lnTo>
                  <a:lnTo>
                    <a:pt x="182" y="46"/>
                  </a:lnTo>
                  <a:lnTo>
                    <a:pt x="182" y="61"/>
                  </a:lnTo>
                  <a:lnTo>
                    <a:pt x="160" y="68"/>
                  </a:lnTo>
                  <a:lnTo>
                    <a:pt x="116" y="73"/>
                  </a:lnTo>
                  <a:lnTo>
                    <a:pt x="62" y="68"/>
                  </a:lnTo>
                  <a:lnTo>
                    <a:pt x="38" y="68"/>
                  </a:lnTo>
                  <a:lnTo>
                    <a:pt x="18" y="66"/>
                  </a:lnTo>
                  <a:lnTo>
                    <a:pt x="18" y="68"/>
                  </a:lnTo>
                  <a:lnTo>
                    <a:pt x="9" y="68"/>
                  </a:lnTo>
                  <a:lnTo>
                    <a:pt x="9" y="66"/>
                  </a:lnTo>
                  <a:lnTo>
                    <a:pt x="153" y="64"/>
                  </a:lnTo>
                  <a:lnTo>
                    <a:pt x="160" y="59"/>
                  </a:lnTo>
                  <a:lnTo>
                    <a:pt x="171" y="59"/>
                  </a:lnTo>
                  <a:lnTo>
                    <a:pt x="171" y="51"/>
                  </a:lnTo>
                  <a:lnTo>
                    <a:pt x="178" y="32"/>
                  </a:lnTo>
                  <a:lnTo>
                    <a:pt x="162" y="25"/>
                  </a:lnTo>
                  <a:lnTo>
                    <a:pt x="98" y="20"/>
                  </a:lnTo>
                  <a:lnTo>
                    <a:pt x="91" y="17"/>
                  </a:lnTo>
                  <a:lnTo>
                    <a:pt x="58" y="17"/>
                  </a:lnTo>
                  <a:lnTo>
                    <a:pt x="51" y="13"/>
                  </a:lnTo>
                  <a:lnTo>
                    <a:pt x="29" y="13"/>
                  </a:lnTo>
                  <a:lnTo>
                    <a:pt x="9" y="8"/>
                  </a:lnTo>
                  <a:lnTo>
                    <a:pt x="0" y="1"/>
                  </a:lnTo>
                  <a:lnTo>
                    <a:pt x="3" y="0"/>
                  </a:lnTo>
                  <a:lnTo>
                    <a:pt x="18" y="6"/>
                  </a:lnTo>
                  <a:lnTo>
                    <a:pt x="8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69240" y="3504240"/>
              <a:ext cx="45720" cy="2880"/>
            </a:xfrm>
            <a:custGeom>
              <a:avLst/>
              <a:gdLst/>
              <a:ahLst/>
              <a:rect l="l" t="t" r="r" b="b"/>
              <a:pathLst>
                <a:path w="35" h="3">
                  <a:moveTo>
                    <a:pt x="0" y="3"/>
                  </a:moveTo>
                  <a:lnTo>
                    <a:pt x="18" y="0"/>
                  </a:lnTo>
                  <a:lnTo>
                    <a:pt x="35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86200" y="3516120"/>
              <a:ext cx="214200" cy="68040"/>
            </a:xfrm>
            <a:custGeom>
              <a:avLst/>
              <a:gdLst/>
              <a:ahLst/>
              <a:rect l="l" t="t" r="r" b="b"/>
              <a:pathLst>
                <a:path w="164" h="63">
                  <a:moveTo>
                    <a:pt x="7" y="53"/>
                  </a:moveTo>
                  <a:lnTo>
                    <a:pt x="20" y="57"/>
                  </a:lnTo>
                  <a:lnTo>
                    <a:pt x="75" y="58"/>
                  </a:lnTo>
                  <a:lnTo>
                    <a:pt x="153" y="57"/>
                  </a:lnTo>
                  <a:lnTo>
                    <a:pt x="155" y="55"/>
                  </a:lnTo>
                  <a:lnTo>
                    <a:pt x="164" y="55"/>
                  </a:lnTo>
                  <a:lnTo>
                    <a:pt x="155" y="60"/>
                  </a:lnTo>
                  <a:lnTo>
                    <a:pt x="115" y="63"/>
                  </a:lnTo>
                  <a:lnTo>
                    <a:pt x="27" y="60"/>
                  </a:lnTo>
                  <a:lnTo>
                    <a:pt x="2" y="60"/>
                  </a:lnTo>
                  <a:lnTo>
                    <a:pt x="0" y="55"/>
                  </a:lnTo>
                  <a:lnTo>
                    <a:pt x="7" y="38"/>
                  </a:lnTo>
                  <a:lnTo>
                    <a:pt x="2" y="9"/>
                  </a:lnTo>
                  <a:lnTo>
                    <a:pt x="7" y="0"/>
                  </a:lnTo>
                  <a:lnTo>
                    <a:pt x="13" y="38"/>
                  </a:lnTo>
                  <a:lnTo>
                    <a:pt x="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15000" y="3521520"/>
              <a:ext cx="232200" cy="18360"/>
            </a:xfrm>
            <a:custGeom>
              <a:avLst/>
              <a:gdLst/>
              <a:ahLst/>
              <a:rect l="l" t="t" r="r" b="b"/>
              <a:pathLst>
                <a:path w="178" h="17">
                  <a:moveTo>
                    <a:pt x="96" y="8"/>
                  </a:moveTo>
                  <a:lnTo>
                    <a:pt x="135" y="7"/>
                  </a:lnTo>
                  <a:lnTo>
                    <a:pt x="135" y="10"/>
                  </a:lnTo>
                  <a:lnTo>
                    <a:pt x="149" y="10"/>
                  </a:lnTo>
                  <a:lnTo>
                    <a:pt x="178" y="12"/>
                  </a:lnTo>
                  <a:lnTo>
                    <a:pt x="178" y="17"/>
                  </a:lnTo>
                  <a:lnTo>
                    <a:pt x="140" y="13"/>
                  </a:lnTo>
                  <a:lnTo>
                    <a:pt x="98" y="12"/>
                  </a:lnTo>
                  <a:lnTo>
                    <a:pt x="27" y="5"/>
                  </a:lnTo>
                  <a:lnTo>
                    <a:pt x="5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18" y="0"/>
                  </a:lnTo>
                  <a:lnTo>
                    <a:pt x="69" y="4"/>
                  </a:lnTo>
                  <a:lnTo>
                    <a:pt x="9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09840" y="3567960"/>
              <a:ext cx="326520" cy="58320"/>
            </a:xfrm>
            <a:custGeom>
              <a:avLst/>
              <a:gdLst/>
              <a:ahLst/>
              <a:rect l="l" t="t" r="r" b="b"/>
              <a:pathLst>
                <a:path w="250" h="54">
                  <a:moveTo>
                    <a:pt x="91" y="4"/>
                  </a:moveTo>
                  <a:lnTo>
                    <a:pt x="91" y="5"/>
                  </a:lnTo>
                  <a:lnTo>
                    <a:pt x="126" y="5"/>
                  </a:lnTo>
                  <a:lnTo>
                    <a:pt x="126" y="7"/>
                  </a:lnTo>
                  <a:lnTo>
                    <a:pt x="171" y="10"/>
                  </a:lnTo>
                  <a:lnTo>
                    <a:pt x="195" y="7"/>
                  </a:lnTo>
                  <a:lnTo>
                    <a:pt x="250" y="9"/>
                  </a:lnTo>
                  <a:lnTo>
                    <a:pt x="250" y="10"/>
                  </a:lnTo>
                  <a:lnTo>
                    <a:pt x="117" y="9"/>
                  </a:lnTo>
                  <a:lnTo>
                    <a:pt x="44" y="5"/>
                  </a:lnTo>
                  <a:lnTo>
                    <a:pt x="15" y="7"/>
                  </a:lnTo>
                  <a:lnTo>
                    <a:pt x="15" y="36"/>
                  </a:lnTo>
                  <a:lnTo>
                    <a:pt x="33" y="45"/>
                  </a:lnTo>
                  <a:lnTo>
                    <a:pt x="53" y="44"/>
                  </a:lnTo>
                  <a:lnTo>
                    <a:pt x="71" y="45"/>
                  </a:lnTo>
                  <a:lnTo>
                    <a:pt x="73" y="46"/>
                  </a:lnTo>
                  <a:lnTo>
                    <a:pt x="73" y="50"/>
                  </a:lnTo>
                  <a:lnTo>
                    <a:pt x="60" y="54"/>
                  </a:lnTo>
                  <a:lnTo>
                    <a:pt x="26" y="51"/>
                  </a:lnTo>
                  <a:lnTo>
                    <a:pt x="2" y="39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82" y="4"/>
                  </a:lnTo>
                  <a:lnTo>
                    <a:pt x="9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24520" y="3578760"/>
              <a:ext cx="173520" cy="5832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13" y="4"/>
                  </a:moveTo>
                  <a:lnTo>
                    <a:pt x="16" y="5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18" y="34"/>
                  </a:lnTo>
                  <a:lnTo>
                    <a:pt x="24" y="45"/>
                  </a:lnTo>
                  <a:lnTo>
                    <a:pt x="36" y="49"/>
                  </a:lnTo>
                  <a:lnTo>
                    <a:pt x="89" y="44"/>
                  </a:lnTo>
                  <a:lnTo>
                    <a:pt x="122" y="39"/>
                  </a:lnTo>
                  <a:lnTo>
                    <a:pt x="124" y="26"/>
                  </a:lnTo>
                  <a:lnTo>
                    <a:pt x="124" y="21"/>
                  </a:lnTo>
                  <a:lnTo>
                    <a:pt x="129" y="21"/>
                  </a:lnTo>
                  <a:lnTo>
                    <a:pt x="133" y="25"/>
                  </a:lnTo>
                  <a:lnTo>
                    <a:pt x="131" y="46"/>
                  </a:lnTo>
                  <a:lnTo>
                    <a:pt x="129" y="49"/>
                  </a:lnTo>
                  <a:lnTo>
                    <a:pt x="122" y="45"/>
                  </a:lnTo>
                  <a:lnTo>
                    <a:pt x="5" y="54"/>
                  </a:lnTo>
                  <a:lnTo>
                    <a:pt x="9" y="44"/>
                  </a:lnTo>
                  <a:lnTo>
                    <a:pt x="5" y="14"/>
                  </a:lnTo>
                  <a:lnTo>
                    <a:pt x="0" y="0"/>
                  </a:lnTo>
                  <a:lnTo>
                    <a:pt x="13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6360" y="3583440"/>
              <a:ext cx="218160" cy="56160"/>
            </a:xfrm>
            <a:custGeom>
              <a:avLst/>
              <a:gdLst/>
              <a:ahLst/>
              <a:rect l="l" t="t" r="r" b="b"/>
              <a:pathLst>
                <a:path w="167" h="52">
                  <a:moveTo>
                    <a:pt x="16" y="3"/>
                  </a:moveTo>
                  <a:lnTo>
                    <a:pt x="18" y="41"/>
                  </a:lnTo>
                  <a:lnTo>
                    <a:pt x="34" y="47"/>
                  </a:lnTo>
                  <a:lnTo>
                    <a:pt x="142" y="46"/>
                  </a:lnTo>
                  <a:lnTo>
                    <a:pt x="167" y="51"/>
                  </a:lnTo>
                  <a:lnTo>
                    <a:pt x="125" y="50"/>
                  </a:lnTo>
                  <a:lnTo>
                    <a:pt x="111" y="50"/>
                  </a:lnTo>
                  <a:lnTo>
                    <a:pt x="107" y="47"/>
                  </a:lnTo>
                  <a:lnTo>
                    <a:pt x="96" y="52"/>
                  </a:lnTo>
                  <a:lnTo>
                    <a:pt x="16" y="51"/>
                  </a:lnTo>
                  <a:lnTo>
                    <a:pt x="9" y="46"/>
                  </a:lnTo>
                  <a:lnTo>
                    <a:pt x="0" y="3"/>
                  </a:lnTo>
                  <a:lnTo>
                    <a:pt x="5" y="0"/>
                  </a:lnTo>
                  <a:lnTo>
                    <a:pt x="9" y="0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31320" y="3650400"/>
              <a:ext cx="278280" cy="54000"/>
            </a:xfrm>
            <a:custGeom>
              <a:avLst/>
              <a:gdLst/>
              <a:ahLst/>
              <a:rect l="l" t="t" r="r" b="b"/>
              <a:pathLst>
                <a:path w="213" h="50">
                  <a:moveTo>
                    <a:pt x="11" y="40"/>
                  </a:moveTo>
                  <a:lnTo>
                    <a:pt x="18" y="44"/>
                  </a:lnTo>
                  <a:lnTo>
                    <a:pt x="146" y="45"/>
                  </a:lnTo>
                  <a:lnTo>
                    <a:pt x="186" y="40"/>
                  </a:lnTo>
                  <a:lnTo>
                    <a:pt x="206" y="40"/>
                  </a:lnTo>
                  <a:lnTo>
                    <a:pt x="208" y="39"/>
                  </a:lnTo>
                  <a:lnTo>
                    <a:pt x="213" y="40"/>
                  </a:lnTo>
                  <a:lnTo>
                    <a:pt x="213" y="44"/>
                  </a:lnTo>
                  <a:lnTo>
                    <a:pt x="206" y="48"/>
                  </a:lnTo>
                  <a:lnTo>
                    <a:pt x="160" y="48"/>
                  </a:lnTo>
                  <a:lnTo>
                    <a:pt x="100" y="50"/>
                  </a:lnTo>
                  <a:lnTo>
                    <a:pt x="11" y="49"/>
                  </a:lnTo>
                  <a:lnTo>
                    <a:pt x="0" y="43"/>
                  </a:lnTo>
                  <a:lnTo>
                    <a:pt x="0" y="8"/>
                  </a:lnTo>
                  <a:lnTo>
                    <a:pt x="2" y="0"/>
                  </a:lnTo>
                  <a:lnTo>
                    <a:pt x="11" y="9"/>
                  </a:lnTo>
                  <a:lnTo>
                    <a:pt x="11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52800" y="3659040"/>
              <a:ext cx="112320" cy="29160"/>
            </a:xfrm>
            <a:custGeom>
              <a:avLst/>
              <a:gdLst/>
              <a:ahLst/>
              <a:rect l="l" t="t" r="r" b="b"/>
              <a:pathLst>
                <a:path w="86" h="27">
                  <a:moveTo>
                    <a:pt x="86" y="12"/>
                  </a:moveTo>
                  <a:lnTo>
                    <a:pt x="73" y="21"/>
                  </a:lnTo>
                  <a:lnTo>
                    <a:pt x="35" y="26"/>
                  </a:lnTo>
                  <a:lnTo>
                    <a:pt x="0" y="27"/>
                  </a:lnTo>
                  <a:lnTo>
                    <a:pt x="11" y="15"/>
                  </a:lnTo>
                  <a:lnTo>
                    <a:pt x="42" y="5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86" y="12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52640" y="3660120"/>
              <a:ext cx="63720" cy="3312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22" y="29"/>
                  </a:moveTo>
                  <a:lnTo>
                    <a:pt x="7" y="31"/>
                  </a:lnTo>
                  <a:lnTo>
                    <a:pt x="0" y="31"/>
                  </a:lnTo>
                  <a:lnTo>
                    <a:pt x="11" y="16"/>
                  </a:lnTo>
                  <a:lnTo>
                    <a:pt x="49" y="0"/>
                  </a:lnTo>
                  <a:lnTo>
                    <a:pt x="44" y="15"/>
                  </a:lnTo>
                  <a:lnTo>
                    <a:pt x="22" y="29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5040" y="3669840"/>
              <a:ext cx="63720" cy="32400"/>
            </a:xfrm>
            <a:custGeom>
              <a:avLst/>
              <a:gdLst/>
              <a:ahLst/>
              <a:rect l="l" t="t" r="r" b="b"/>
              <a:pathLst>
                <a:path w="49" h="30">
                  <a:moveTo>
                    <a:pt x="42" y="20"/>
                  </a:moveTo>
                  <a:lnTo>
                    <a:pt x="22" y="30"/>
                  </a:lnTo>
                  <a:lnTo>
                    <a:pt x="9" y="30"/>
                  </a:lnTo>
                  <a:lnTo>
                    <a:pt x="0" y="17"/>
                  </a:lnTo>
                  <a:lnTo>
                    <a:pt x="11" y="5"/>
                  </a:lnTo>
                  <a:lnTo>
                    <a:pt x="24" y="0"/>
                  </a:lnTo>
                  <a:lnTo>
                    <a:pt x="49" y="1"/>
                  </a:lnTo>
                  <a:lnTo>
                    <a:pt x="42" y="20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02680" y="3697920"/>
              <a:ext cx="77040" cy="280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59" y="5"/>
                  </a:moveTo>
                  <a:lnTo>
                    <a:pt x="55" y="11"/>
                  </a:lnTo>
                  <a:lnTo>
                    <a:pt x="0" y="26"/>
                  </a:lnTo>
                  <a:lnTo>
                    <a:pt x="6" y="14"/>
                  </a:lnTo>
                  <a:lnTo>
                    <a:pt x="42" y="0"/>
                  </a:lnTo>
                  <a:lnTo>
                    <a:pt x="53" y="0"/>
                  </a:lnTo>
                  <a:lnTo>
                    <a:pt x="59" y="5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5360" y="3699360"/>
              <a:ext cx="70200" cy="50760"/>
            </a:xfrm>
            <a:custGeom>
              <a:avLst/>
              <a:gdLst/>
              <a:ahLst/>
              <a:rect l="l" t="t" r="r" b="b"/>
              <a:pathLst>
                <a:path w="54" h="47">
                  <a:moveTo>
                    <a:pt x="49" y="22"/>
                  </a:moveTo>
                  <a:lnTo>
                    <a:pt x="54" y="40"/>
                  </a:lnTo>
                  <a:lnTo>
                    <a:pt x="54" y="47"/>
                  </a:lnTo>
                  <a:lnTo>
                    <a:pt x="36" y="4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31" y="9"/>
                  </a:lnTo>
                  <a:lnTo>
                    <a:pt x="49" y="22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1200" y="3714120"/>
              <a:ext cx="323640" cy="10800"/>
            </a:xfrm>
            <a:custGeom>
              <a:avLst/>
              <a:gdLst/>
              <a:ahLst/>
              <a:rect l="l" t="t" r="r" b="b"/>
              <a:pathLst>
                <a:path w="248" h="10">
                  <a:moveTo>
                    <a:pt x="62" y="4"/>
                  </a:moveTo>
                  <a:lnTo>
                    <a:pt x="224" y="6"/>
                  </a:lnTo>
                  <a:lnTo>
                    <a:pt x="232" y="4"/>
                  </a:lnTo>
                  <a:lnTo>
                    <a:pt x="244" y="5"/>
                  </a:lnTo>
                  <a:lnTo>
                    <a:pt x="248" y="6"/>
                  </a:lnTo>
                  <a:lnTo>
                    <a:pt x="179" y="10"/>
                  </a:lnTo>
                  <a:lnTo>
                    <a:pt x="106" y="6"/>
                  </a:lnTo>
                  <a:lnTo>
                    <a:pt x="9" y="10"/>
                  </a:lnTo>
                  <a:lnTo>
                    <a:pt x="4" y="10"/>
                  </a:lnTo>
                  <a:lnTo>
                    <a:pt x="0" y="6"/>
                  </a:lnTo>
                  <a:lnTo>
                    <a:pt x="11" y="1"/>
                  </a:lnTo>
                  <a:lnTo>
                    <a:pt x="22" y="0"/>
                  </a:lnTo>
                  <a:lnTo>
                    <a:pt x="37" y="4"/>
                  </a:lnTo>
                  <a:lnTo>
                    <a:pt x="6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00440" y="3715560"/>
              <a:ext cx="185400" cy="113400"/>
            </a:xfrm>
            <a:custGeom>
              <a:avLst/>
              <a:gdLst/>
              <a:ahLst/>
              <a:rect l="l" t="t" r="r" b="b"/>
              <a:pathLst>
                <a:path w="142" h="105">
                  <a:moveTo>
                    <a:pt x="120" y="24"/>
                  </a:moveTo>
                  <a:lnTo>
                    <a:pt x="53" y="68"/>
                  </a:lnTo>
                  <a:lnTo>
                    <a:pt x="31" y="90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13" y="75"/>
                  </a:lnTo>
                  <a:lnTo>
                    <a:pt x="15" y="52"/>
                  </a:lnTo>
                  <a:lnTo>
                    <a:pt x="27" y="45"/>
                  </a:lnTo>
                  <a:lnTo>
                    <a:pt x="22" y="34"/>
                  </a:lnTo>
                  <a:lnTo>
                    <a:pt x="31" y="27"/>
                  </a:lnTo>
                  <a:lnTo>
                    <a:pt x="60" y="14"/>
                  </a:lnTo>
                  <a:lnTo>
                    <a:pt x="95" y="14"/>
                  </a:lnTo>
                  <a:lnTo>
                    <a:pt x="133" y="5"/>
                  </a:lnTo>
                  <a:lnTo>
                    <a:pt x="142" y="0"/>
                  </a:lnTo>
                  <a:lnTo>
                    <a:pt x="115" y="17"/>
                  </a:lnTo>
                  <a:lnTo>
                    <a:pt x="120" y="24"/>
                  </a:lnTo>
                  <a:close/>
                </a:path>
              </a:pathLst>
            </a:custGeom>
            <a:solidFill>
              <a:srgbClr val="dd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69320" y="3726360"/>
              <a:ext cx="338400" cy="47520"/>
            </a:xfrm>
            <a:custGeom>
              <a:avLst/>
              <a:gdLst/>
              <a:ahLst/>
              <a:rect l="l" t="t" r="r" b="b"/>
              <a:pathLst>
                <a:path w="259" h="44">
                  <a:moveTo>
                    <a:pt x="13" y="36"/>
                  </a:moveTo>
                  <a:lnTo>
                    <a:pt x="20" y="40"/>
                  </a:lnTo>
                  <a:lnTo>
                    <a:pt x="133" y="40"/>
                  </a:lnTo>
                  <a:lnTo>
                    <a:pt x="244" y="39"/>
                  </a:lnTo>
                  <a:lnTo>
                    <a:pt x="248" y="36"/>
                  </a:lnTo>
                  <a:lnTo>
                    <a:pt x="257" y="36"/>
                  </a:lnTo>
                  <a:lnTo>
                    <a:pt x="259" y="39"/>
                  </a:lnTo>
                  <a:lnTo>
                    <a:pt x="253" y="42"/>
                  </a:lnTo>
                  <a:lnTo>
                    <a:pt x="102" y="44"/>
                  </a:lnTo>
                  <a:lnTo>
                    <a:pt x="9" y="42"/>
                  </a:lnTo>
                  <a:lnTo>
                    <a:pt x="2" y="35"/>
                  </a:lnTo>
                  <a:lnTo>
                    <a:pt x="2" y="7"/>
                  </a:lnTo>
                  <a:lnTo>
                    <a:pt x="0" y="5"/>
                  </a:lnTo>
                  <a:lnTo>
                    <a:pt x="4" y="0"/>
                  </a:lnTo>
                  <a:lnTo>
                    <a:pt x="13" y="10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07520" y="3750120"/>
              <a:ext cx="61200" cy="216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47" y="3"/>
                  </a:moveTo>
                  <a:lnTo>
                    <a:pt x="47" y="8"/>
                  </a:lnTo>
                  <a:lnTo>
                    <a:pt x="15" y="20"/>
                  </a:lnTo>
                  <a:lnTo>
                    <a:pt x="4" y="20"/>
                  </a:lnTo>
                  <a:lnTo>
                    <a:pt x="0" y="13"/>
                  </a:lnTo>
                  <a:lnTo>
                    <a:pt x="2" y="7"/>
                  </a:lnTo>
                  <a:lnTo>
                    <a:pt x="2" y="2"/>
                  </a:lnTo>
                  <a:lnTo>
                    <a:pt x="9" y="0"/>
                  </a:lnTo>
                  <a:lnTo>
                    <a:pt x="38" y="3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3360" y="3757680"/>
              <a:ext cx="457200" cy="534600"/>
            </a:xfrm>
            <a:custGeom>
              <a:avLst/>
              <a:gdLst/>
              <a:ahLst/>
              <a:rect l="l" t="t" r="r" b="b"/>
              <a:pathLst>
                <a:path w="350" h="494">
                  <a:moveTo>
                    <a:pt x="350" y="5"/>
                  </a:moveTo>
                  <a:lnTo>
                    <a:pt x="304" y="46"/>
                  </a:lnTo>
                  <a:lnTo>
                    <a:pt x="262" y="71"/>
                  </a:lnTo>
                  <a:lnTo>
                    <a:pt x="262" y="74"/>
                  </a:lnTo>
                  <a:lnTo>
                    <a:pt x="233" y="85"/>
                  </a:lnTo>
                  <a:lnTo>
                    <a:pt x="195" y="118"/>
                  </a:lnTo>
                  <a:lnTo>
                    <a:pt x="186" y="139"/>
                  </a:lnTo>
                  <a:lnTo>
                    <a:pt x="180" y="145"/>
                  </a:lnTo>
                  <a:lnTo>
                    <a:pt x="180" y="154"/>
                  </a:lnTo>
                  <a:lnTo>
                    <a:pt x="168" y="189"/>
                  </a:lnTo>
                  <a:lnTo>
                    <a:pt x="168" y="210"/>
                  </a:lnTo>
                  <a:lnTo>
                    <a:pt x="177" y="220"/>
                  </a:lnTo>
                  <a:lnTo>
                    <a:pt x="184" y="224"/>
                  </a:lnTo>
                  <a:lnTo>
                    <a:pt x="197" y="221"/>
                  </a:lnTo>
                  <a:lnTo>
                    <a:pt x="288" y="161"/>
                  </a:lnTo>
                  <a:lnTo>
                    <a:pt x="304" y="155"/>
                  </a:lnTo>
                  <a:lnTo>
                    <a:pt x="304" y="151"/>
                  </a:lnTo>
                  <a:lnTo>
                    <a:pt x="313" y="155"/>
                  </a:lnTo>
                  <a:lnTo>
                    <a:pt x="273" y="190"/>
                  </a:lnTo>
                  <a:lnTo>
                    <a:pt x="199" y="226"/>
                  </a:lnTo>
                  <a:lnTo>
                    <a:pt x="177" y="236"/>
                  </a:lnTo>
                  <a:lnTo>
                    <a:pt x="171" y="240"/>
                  </a:lnTo>
                  <a:lnTo>
                    <a:pt x="177" y="246"/>
                  </a:lnTo>
                  <a:lnTo>
                    <a:pt x="104" y="301"/>
                  </a:lnTo>
                  <a:lnTo>
                    <a:pt x="86" y="336"/>
                  </a:lnTo>
                  <a:lnTo>
                    <a:pt x="73" y="369"/>
                  </a:lnTo>
                  <a:lnTo>
                    <a:pt x="80" y="409"/>
                  </a:lnTo>
                  <a:lnTo>
                    <a:pt x="73" y="443"/>
                  </a:lnTo>
                  <a:lnTo>
                    <a:pt x="86" y="455"/>
                  </a:lnTo>
                  <a:lnTo>
                    <a:pt x="86" y="460"/>
                  </a:lnTo>
                  <a:lnTo>
                    <a:pt x="60" y="469"/>
                  </a:lnTo>
                  <a:lnTo>
                    <a:pt x="29" y="492"/>
                  </a:lnTo>
                  <a:lnTo>
                    <a:pt x="9" y="494"/>
                  </a:lnTo>
                  <a:lnTo>
                    <a:pt x="0" y="485"/>
                  </a:lnTo>
                  <a:lnTo>
                    <a:pt x="15" y="470"/>
                  </a:lnTo>
                  <a:lnTo>
                    <a:pt x="24" y="469"/>
                  </a:lnTo>
                  <a:lnTo>
                    <a:pt x="44" y="448"/>
                  </a:lnTo>
                  <a:lnTo>
                    <a:pt x="47" y="429"/>
                  </a:lnTo>
                  <a:lnTo>
                    <a:pt x="62" y="415"/>
                  </a:lnTo>
                  <a:lnTo>
                    <a:pt x="55" y="399"/>
                  </a:lnTo>
                  <a:lnTo>
                    <a:pt x="53" y="374"/>
                  </a:lnTo>
                  <a:lnTo>
                    <a:pt x="53" y="348"/>
                  </a:lnTo>
                  <a:lnTo>
                    <a:pt x="60" y="331"/>
                  </a:lnTo>
                  <a:lnTo>
                    <a:pt x="80" y="300"/>
                  </a:lnTo>
                  <a:lnTo>
                    <a:pt x="111" y="270"/>
                  </a:lnTo>
                  <a:lnTo>
                    <a:pt x="137" y="255"/>
                  </a:lnTo>
                  <a:lnTo>
                    <a:pt x="157" y="231"/>
                  </a:lnTo>
                  <a:lnTo>
                    <a:pt x="160" y="219"/>
                  </a:lnTo>
                  <a:lnTo>
                    <a:pt x="153" y="209"/>
                  </a:lnTo>
                  <a:lnTo>
                    <a:pt x="135" y="195"/>
                  </a:lnTo>
                  <a:lnTo>
                    <a:pt x="98" y="183"/>
                  </a:lnTo>
                  <a:lnTo>
                    <a:pt x="71" y="155"/>
                  </a:lnTo>
                  <a:lnTo>
                    <a:pt x="71" y="148"/>
                  </a:lnTo>
                  <a:lnTo>
                    <a:pt x="106" y="174"/>
                  </a:lnTo>
                  <a:lnTo>
                    <a:pt x="144" y="194"/>
                  </a:lnTo>
                  <a:lnTo>
                    <a:pt x="153" y="194"/>
                  </a:lnTo>
                  <a:lnTo>
                    <a:pt x="166" y="186"/>
                  </a:lnTo>
                  <a:lnTo>
                    <a:pt x="166" y="165"/>
                  </a:lnTo>
                  <a:lnTo>
                    <a:pt x="157" y="149"/>
                  </a:lnTo>
                  <a:lnTo>
                    <a:pt x="166" y="125"/>
                  </a:lnTo>
                  <a:lnTo>
                    <a:pt x="206" y="85"/>
                  </a:lnTo>
                  <a:lnTo>
                    <a:pt x="211" y="72"/>
                  </a:lnTo>
                  <a:lnTo>
                    <a:pt x="226" y="48"/>
                  </a:lnTo>
                  <a:lnTo>
                    <a:pt x="222" y="63"/>
                  </a:lnTo>
                  <a:lnTo>
                    <a:pt x="222" y="69"/>
                  </a:lnTo>
                  <a:lnTo>
                    <a:pt x="233" y="76"/>
                  </a:lnTo>
                  <a:lnTo>
                    <a:pt x="250" y="71"/>
                  </a:lnTo>
                  <a:lnTo>
                    <a:pt x="293" y="41"/>
                  </a:lnTo>
                  <a:lnTo>
                    <a:pt x="315" y="20"/>
                  </a:lnTo>
                  <a:lnTo>
                    <a:pt x="348" y="0"/>
                  </a:lnTo>
                  <a:lnTo>
                    <a:pt x="350" y="0"/>
                  </a:lnTo>
                  <a:lnTo>
                    <a:pt x="350" y="5"/>
                  </a:lnTo>
                  <a:close/>
                </a:path>
              </a:pathLst>
            </a:custGeom>
            <a:solidFill>
              <a:srgbClr val="4f5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76720" y="3765240"/>
              <a:ext cx="202680" cy="43920"/>
            </a:xfrm>
            <a:custGeom>
              <a:avLst/>
              <a:gdLst/>
              <a:ahLst/>
              <a:rect l="l" t="t" r="r" b="b"/>
              <a:pathLst>
                <a:path w="155" h="41">
                  <a:moveTo>
                    <a:pt x="91" y="31"/>
                  </a:moveTo>
                  <a:lnTo>
                    <a:pt x="155" y="32"/>
                  </a:lnTo>
                  <a:lnTo>
                    <a:pt x="146" y="35"/>
                  </a:lnTo>
                  <a:lnTo>
                    <a:pt x="44" y="37"/>
                  </a:lnTo>
                  <a:lnTo>
                    <a:pt x="13" y="41"/>
                  </a:lnTo>
                  <a:lnTo>
                    <a:pt x="4" y="39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75" y="32"/>
                  </a:lnTo>
                  <a:lnTo>
                    <a:pt x="82" y="29"/>
                  </a:lnTo>
                  <a:lnTo>
                    <a:pt x="84" y="9"/>
                  </a:lnTo>
                  <a:lnTo>
                    <a:pt x="89" y="4"/>
                  </a:lnTo>
                  <a:lnTo>
                    <a:pt x="91" y="0"/>
                  </a:lnTo>
                  <a:lnTo>
                    <a:pt x="9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09920" y="3765240"/>
              <a:ext cx="249480" cy="16200"/>
            </a:xfrm>
            <a:custGeom>
              <a:avLst/>
              <a:gdLst/>
              <a:ahLst/>
              <a:rect l="l" t="t" r="r" b="b"/>
              <a:pathLst>
                <a:path w="191" h="15">
                  <a:moveTo>
                    <a:pt x="184" y="3"/>
                  </a:moveTo>
                  <a:lnTo>
                    <a:pt x="191" y="8"/>
                  </a:lnTo>
                  <a:lnTo>
                    <a:pt x="184" y="13"/>
                  </a:lnTo>
                  <a:lnTo>
                    <a:pt x="151" y="13"/>
                  </a:lnTo>
                  <a:lnTo>
                    <a:pt x="146" y="15"/>
                  </a:lnTo>
                  <a:lnTo>
                    <a:pt x="111" y="13"/>
                  </a:lnTo>
                  <a:lnTo>
                    <a:pt x="75" y="13"/>
                  </a:lnTo>
                  <a:lnTo>
                    <a:pt x="49" y="8"/>
                  </a:lnTo>
                  <a:lnTo>
                    <a:pt x="0" y="0"/>
                  </a:lnTo>
                  <a:lnTo>
                    <a:pt x="104" y="8"/>
                  </a:lnTo>
                  <a:lnTo>
                    <a:pt x="18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86200" y="3783600"/>
              <a:ext cx="86040" cy="2592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66" y="5"/>
                  </a:moveTo>
                  <a:lnTo>
                    <a:pt x="53" y="15"/>
                  </a:lnTo>
                  <a:lnTo>
                    <a:pt x="31" y="22"/>
                  </a:lnTo>
                  <a:lnTo>
                    <a:pt x="9" y="24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60" y="2"/>
                  </a:lnTo>
                  <a:lnTo>
                    <a:pt x="66" y="5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05800" y="3798720"/>
              <a:ext cx="80640" cy="142920"/>
            </a:xfrm>
            <a:custGeom>
              <a:avLst/>
              <a:gdLst/>
              <a:ahLst/>
              <a:rect l="l" t="t" r="r" b="b"/>
              <a:pathLst>
                <a:path w="62" h="132">
                  <a:moveTo>
                    <a:pt x="54" y="4"/>
                  </a:moveTo>
                  <a:lnTo>
                    <a:pt x="62" y="13"/>
                  </a:lnTo>
                  <a:lnTo>
                    <a:pt x="60" y="28"/>
                  </a:lnTo>
                  <a:lnTo>
                    <a:pt x="25" y="52"/>
                  </a:lnTo>
                  <a:lnTo>
                    <a:pt x="25" y="57"/>
                  </a:lnTo>
                  <a:lnTo>
                    <a:pt x="49" y="77"/>
                  </a:lnTo>
                  <a:lnTo>
                    <a:pt x="45" y="92"/>
                  </a:lnTo>
                  <a:lnTo>
                    <a:pt x="14" y="130"/>
                  </a:lnTo>
                  <a:lnTo>
                    <a:pt x="7" y="132"/>
                  </a:lnTo>
                  <a:lnTo>
                    <a:pt x="7" y="123"/>
                  </a:lnTo>
                  <a:lnTo>
                    <a:pt x="25" y="102"/>
                  </a:lnTo>
                  <a:lnTo>
                    <a:pt x="36" y="80"/>
                  </a:lnTo>
                  <a:lnTo>
                    <a:pt x="9" y="54"/>
                  </a:lnTo>
                  <a:lnTo>
                    <a:pt x="0" y="36"/>
                  </a:lnTo>
                  <a:lnTo>
                    <a:pt x="7" y="16"/>
                  </a:lnTo>
                  <a:lnTo>
                    <a:pt x="27" y="0"/>
                  </a:lnTo>
                  <a:lnTo>
                    <a:pt x="42" y="1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4440" y="3798720"/>
              <a:ext cx="416520" cy="74520"/>
            </a:xfrm>
            <a:custGeom>
              <a:avLst/>
              <a:gdLst/>
              <a:ahLst/>
              <a:rect l="l" t="t" r="r" b="b"/>
              <a:pathLst>
                <a:path w="319" h="69">
                  <a:moveTo>
                    <a:pt x="319" y="31"/>
                  </a:moveTo>
                  <a:lnTo>
                    <a:pt x="317" y="62"/>
                  </a:lnTo>
                  <a:lnTo>
                    <a:pt x="308" y="66"/>
                  </a:lnTo>
                  <a:lnTo>
                    <a:pt x="248" y="65"/>
                  </a:lnTo>
                  <a:lnTo>
                    <a:pt x="237" y="67"/>
                  </a:lnTo>
                  <a:lnTo>
                    <a:pt x="175" y="69"/>
                  </a:lnTo>
                  <a:lnTo>
                    <a:pt x="250" y="62"/>
                  </a:lnTo>
                  <a:lnTo>
                    <a:pt x="299" y="56"/>
                  </a:lnTo>
                  <a:lnTo>
                    <a:pt x="308" y="51"/>
                  </a:lnTo>
                  <a:lnTo>
                    <a:pt x="308" y="15"/>
                  </a:lnTo>
                  <a:lnTo>
                    <a:pt x="295" y="6"/>
                  </a:lnTo>
                  <a:lnTo>
                    <a:pt x="237" y="11"/>
                  </a:lnTo>
                  <a:lnTo>
                    <a:pt x="109" y="13"/>
                  </a:lnTo>
                  <a:lnTo>
                    <a:pt x="0" y="11"/>
                  </a:lnTo>
                  <a:lnTo>
                    <a:pt x="0" y="6"/>
                  </a:lnTo>
                  <a:lnTo>
                    <a:pt x="20" y="8"/>
                  </a:lnTo>
                  <a:lnTo>
                    <a:pt x="89" y="11"/>
                  </a:lnTo>
                  <a:lnTo>
                    <a:pt x="206" y="6"/>
                  </a:lnTo>
                  <a:lnTo>
                    <a:pt x="284" y="4"/>
                  </a:lnTo>
                  <a:lnTo>
                    <a:pt x="299" y="0"/>
                  </a:lnTo>
                  <a:lnTo>
                    <a:pt x="319" y="13"/>
                  </a:lnTo>
                  <a:lnTo>
                    <a:pt x="31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07600" y="3799800"/>
              <a:ext cx="314640" cy="39960"/>
            </a:xfrm>
            <a:custGeom>
              <a:avLst/>
              <a:gdLst/>
              <a:ahLst/>
              <a:rect l="l" t="t" r="r" b="b"/>
              <a:pathLst>
                <a:path w="241" h="37">
                  <a:moveTo>
                    <a:pt x="235" y="15"/>
                  </a:moveTo>
                  <a:lnTo>
                    <a:pt x="235" y="29"/>
                  </a:lnTo>
                  <a:lnTo>
                    <a:pt x="213" y="30"/>
                  </a:lnTo>
                  <a:lnTo>
                    <a:pt x="66" y="37"/>
                  </a:lnTo>
                  <a:lnTo>
                    <a:pt x="4" y="35"/>
                  </a:lnTo>
                  <a:lnTo>
                    <a:pt x="0" y="30"/>
                  </a:lnTo>
                  <a:lnTo>
                    <a:pt x="199" y="29"/>
                  </a:lnTo>
                  <a:lnTo>
                    <a:pt x="208" y="25"/>
                  </a:lnTo>
                  <a:lnTo>
                    <a:pt x="213" y="27"/>
                  </a:lnTo>
                  <a:lnTo>
                    <a:pt x="230" y="17"/>
                  </a:lnTo>
                  <a:lnTo>
                    <a:pt x="230" y="0"/>
                  </a:lnTo>
                  <a:lnTo>
                    <a:pt x="241" y="9"/>
                  </a:lnTo>
                  <a:lnTo>
                    <a:pt x="23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43800" y="3803040"/>
              <a:ext cx="252000" cy="68040"/>
            </a:xfrm>
            <a:custGeom>
              <a:avLst/>
              <a:gdLst/>
              <a:ahLst/>
              <a:rect l="l" t="t" r="r" b="b"/>
              <a:pathLst>
                <a:path w="193" h="63">
                  <a:moveTo>
                    <a:pt x="29" y="6"/>
                  </a:moveTo>
                  <a:lnTo>
                    <a:pt x="56" y="11"/>
                  </a:lnTo>
                  <a:lnTo>
                    <a:pt x="78" y="7"/>
                  </a:lnTo>
                  <a:lnTo>
                    <a:pt x="138" y="7"/>
                  </a:lnTo>
                  <a:lnTo>
                    <a:pt x="182" y="4"/>
                  </a:lnTo>
                  <a:lnTo>
                    <a:pt x="189" y="7"/>
                  </a:lnTo>
                  <a:lnTo>
                    <a:pt x="189" y="11"/>
                  </a:lnTo>
                  <a:lnTo>
                    <a:pt x="167" y="11"/>
                  </a:lnTo>
                  <a:lnTo>
                    <a:pt x="82" y="12"/>
                  </a:lnTo>
                  <a:lnTo>
                    <a:pt x="16" y="15"/>
                  </a:lnTo>
                  <a:lnTo>
                    <a:pt x="11" y="19"/>
                  </a:lnTo>
                  <a:lnTo>
                    <a:pt x="14" y="50"/>
                  </a:lnTo>
                  <a:lnTo>
                    <a:pt x="23" y="53"/>
                  </a:lnTo>
                  <a:lnTo>
                    <a:pt x="56" y="58"/>
                  </a:lnTo>
                  <a:lnTo>
                    <a:pt x="182" y="58"/>
                  </a:lnTo>
                  <a:lnTo>
                    <a:pt x="189" y="56"/>
                  </a:lnTo>
                  <a:lnTo>
                    <a:pt x="193" y="56"/>
                  </a:lnTo>
                  <a:lnTo>
                    <a:pt x="193" y="58"/>
                  </a:lnTo>
                  <a:lnTo>
                    <a:pt x="189" y="62"/>
                  </a:lnTo>
                  <a:lnTo>
                    <a:pt x="47" y="63"/>
                  </a:lnTo>
                  <a:lnTo>
                    <a:pt x="5" y="52"/>
                  </a:lnTo>
                  <a:lnTo>
                    <a:pt x="0" y="7"/>
                  </a:lnTo>
                  <a:lnTo>
                    <a:pt x="3" y="0"/>
                  </a:lnTo>
                  <a:lnTo>
                    <a:pt x="14" y="11"/>
                  </a:lnTo>
                  <a:lnTo>
                    <a:pt x="2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29200" y="3807720"/>
              <a:ext cx="43200" cy="406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33" y="7"/>
                  </a:moveTo>
                  <a:lnTo>
                    <a:pt x="27" y="22"/>
                  </a:lnTo>
                  <a:lnTo>
                    <a:pt x="7" y="37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13"/>
                  </a:lnTo>
                  <a:lnTo>
                    <a:pt x="18" y="0"/>
                  </a:lnTo>
                  <a:lnTo>
                    <a:pt x="27" y="3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0840" y="3810600"/>
              <a:ext cx="39960" cy="58320"/>
            </a:xfrm>
            <a:custGeom>
              <a:avLst/>
              <a:gdLst/>
              <a:ahLst/>
              <a:rect l="l" t="t" r="r" b="b"/>
              <a:pathLst>
                <a:path w="31" h="54">
                  <a:moveTo>
                    <a:pt x="26" y="14"/>
                  </a:moveTo>
                  <a:lnTo>
                    <a:pt x="31" y="27"/>
                  </a:lnTo>
                  <a:lnTo>
                    <a:pt x="20" y="41"/>
                  </a:lnTo>
                  <a:lnTo>
                    <a:pt x="17" y="41"/>
                  </a:lnTo>
                  <a:lnTo>
                    <a:pt x="13" y="46"/>
                  </a:lnTo>
                  <a:lnTo>
                    <a:pt x="13" y="54"/>
                  </a:lnTo>
                  <a:lnTo>
                    <a:pt x="0" y="25"/>
                  </a:lnTo>
                  <a:lnTo>
                    <a:pt x="4" y="0"/>
                  </a:lnTo>
                  <a:lnTo>
                    <a:pt x="13" y="4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57400" y="3851640"/>
              <a:ext cx="83520" cy="21600"/>
            </a:xfrm>
            <a:custGeom>
              <a:avLst/>
              <a:gdLst/>
              <a:ahLst/>
              <a:rect l="l" t="t" r="r" b="b"/>
              <a:pathLst>
                <a:path w="64" h="20">
                  <a:moveTo>
                    <a:pt x="64" y="3"/>
                  </a:moveTo>
                  <a:lnTo>
                    <a:pt x="62" y="11"/>
                  </a:lnTo>
                  <a:lnTo>
                    <a:pt x="42" y="18"/>
                  </a:lnTo>
                  <a:lnTo>
                    <a:pt x="0" y="20"/>
                  </a:lnTo>
                  <a:lnTo>
                    <a:pt x="28" y="3"/>
                  </a:lnTo>
                  <a:lnTo>
                    <a:pt x="44" y="0"/>
                  </a:lnTo>
                  <a:lnTo>
                    <a:pt x="64" y="0"/>
                  </a:lnTo>
                  <a:lnTo>
                    <a:pt x="64" y="3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33840" y="3871440"/>
              <a:ext cx="211680" cy="9360"/>
            </a:xfrm>
            <a:custGeom>
              <a:avLst/>
              <a:gdLst/>
              <a:ahLst/>
              <a:rect l="l" t="t" r="r" b="b"/>
              <a:pathLst>
                <a:path w="162" h="9">
                  <a:moveTo>
                    <a:pt x="109" y="4"/>
                  </a:moveTo>
                  <a:lnTo>
                    <a:pt x="162" y="2"/>
                  </a:lnTo>
                  <a:lnTo>
                    <a:pt x="162" y="5"/>
                  </a:lnTo>
                  <a:lnTo>
                    <a:pt x="122" y="5"/>
                  </a:lnTo>
                  <a:lnTo>
                    <a:pt x="80" y="9"/>
                  </a:lnTo>
                  <a:lnTo>
                    <a:pt x="20" y="9"/>
                  </a:lnTo>
                  <a:lnTo>
                    <a:pt x="9" y="8"/>
                  </a:lnTo>
                  <a:lnTo>
                    <a:pt x="0" y="8"/>
                  </a:lnTo>
                  <a:lnTo>
                    <a:pt x="11" y="0"/>
                  </a:lnTo>
                  <a:lnTo>
                    <a:pt x="56" y="5"/>
                  </a:lnTo>
                  <a:lnTo>
                    <a:pt x="10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52800" y="3882240"/>
              <a:ext cx="104400" cy="3240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80" y="15"/>
                  </a:moveTo>
                  <a:lnTo>
                    <a:pt x="38" y="30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9" y="4"/>
                  </a:lnTo>
                  <a:lnTo>
                    <a:pt x="44" y="0"/>
                  </a:lnTo>
                  <a:lnTo>
                    <a:pt x="80" y="7"/>
                  </a:lnTo>
                  <a:lnTo>
                    <a:pt x="80" y="15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31160" y="3886560"/>
              <a:ext cx="198360" cy="864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152" y="5"/>
                  </a:moveTo>
                  <a:lnTo>
                    <a:pt x="148" y="8"/>
                  </a:lnTo>
                  <a:lnTo>
                    <a:pt x="42" y="8"/>
                  </a:lnTo>
                  <a:lnTo>
                    <a:pt x="2" y="6"/>
                  </a:lnTo>
                  <a:lnTo>
                    <a:pt x="0" y="1"/>
                  </a:lnTo>
                  <a:lnTo>
                    <a:pt x="6" y="0"/>
                  </a:lnTo>
                  <a:lnTo>
                    <a:pt x="42" y="5"/>
                  </a:lnTo>
                  <a:lnTo>
                    <a:pt x="15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3889800"/>
              <a:ext cx="69120" cy="2988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53" y="13"/>
                  </a:moveTo>
                  <a:lnTo>
                    <a:pt x="17" y="27"/>
                  </a:lnTo>
                  <a:lnTo>
                    <a:pt x="13" y="28"/>
                  </a:lnTo>
                  <a:lnTo>
                    <a:pt x="0" y="7"/>
                  </a:lnTo>
                  <a:lnTo>
                    <a:pt x="2" y="0"/>
                  </a:lnTo>
                  <a:lnTo>
                    <a:pt x="53" y="5"/>
                  </a:lnTo>
                  <a:lnTo>
                    <a:pt x="53" y="13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34600" y="3925440"/>
              <a:ext cx="99000" cy="31320"/>
            </a:xfrm>
            <a:custGeom>
              <a:avLst/>
              <a:gdLst/>
              <a:ahLst/>
              <a:rect l="l" t="t" r="r" b="b"/>
              <a:pathLst>
                <a:path w="76" h="29">
                  <a:moveTo>
                    <a:pt x="76" y="6"/>
                  </a:moveTo>
                  <a:lnTo>
                    <a:pt x="47" y="20"/>
                  </a:lnTo>
                  <a:lnTo>
                    <a:pt x="20" y="29"/>
                  </a:lnTo>
                  <a:lnTo>
                    <a:pt x="0" y="29"/>
                  </a:lnTo>
                  <a:lnTo>
                    <a:pt x="38" y="14"/>
                  </a:lnTo>
                  <a:lnTo>
                    <a:pt x="54" y="0"/>
                  </a:lnTo>
                  <a:lnTo>
                    <a:pt x="71" y="4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93840" y="3935160"/>
              <a:ext cx="2425320" cy="440640"/>
            </a:xfrm>
            <a:custGeom>
              <a:avLst/>
              <a:gdLst/>
              <a:ahLst/>
              <a:rect l="l" t="t" r="r" b="b"/>
              <a:pathLst>
                <a:path w="1856" h="407">
                  <a:moveTo>
                    <a:pt x="927" y="10"/>
                  </a:moveTo>
                  <a:lnTo>
                    <a:pt x="898" y="25"/>
                  </a:lnTo>
                  <a:lnTo>
                    <a:pt x="861" y="35"/>
                  </a:lnTo>
                  <a:lnTo>
                    <a:pt x="852" y="35"/>
                  </a:lnTo>
                  <a:lnTo>
                    <a:pt x="843" y="45"/>
                  </a:lnTo>
                  <a:lnTo>
                    <a:pt x="854" y="62"/>
                  </a:lnTo>
                  <a:lnTo>
                    <a:pt x="863" y="66"/>
                  </a:lnTo>
                  <a:lnTo>
                    <a:pt x="865" y="66"/>
                  </a:lnTo>
                  <a:lnTo>
                    <a:pt x="856" y="77"/>
                  </a:lnTo>
                  <a:lnTo>
                    <a:pt x="852" y="80"/>
                  </a:lnTo>
                  <a:lnTo>
                    <a:pt x="845" y="82"/>
                  </a:lnTo>
                  <a:lnTo>
                    <a:pt x="847" y="99"/>
                  </a:lnTo>
                  <a:lnTo>
                    <a:pt x="865" y="107"/>
                  </a:lnTo>
                  <a:lnTo>
                    <a:pt x="892" y="107"/>
                  </a:lnTo>
                  <a:lnTo>
                    <a:pt x="909" y="102"/>
                  </a:lnTo>
                  <a:lnTo>
                    <a:pt x="914" y="101"/>
                  </a:lnTo>
                  <a:lnTo>
                    <a:pt x="914" y="117"/>
                  </a:lnTo>
                  <a:lnTo>
                    <a:pt x="898" y="122"/>
                  </a:lnTo>
                  <a:lnTo>
                    <a:pt x="878" y="122"/>
                  </a:lnTo>
                  <a:lnTo>
                    <a:pt x="869" y="117"/>
                  </a:lnTo>
                  <a:lnTo>
                    <a:pt x="854" y="119"/>
                  </a:lnTo>
                  <a:lnTo>
                    <a:pt x="843" y="131"/>
                  </a:lnTo>
                  <a:lnTo>
                    <a:pt x="845" y="139"/>
                  </a:lnTo>
                  <a:lnTo>
                    <a:pt x="872" y="151"/>
                  </a:lnTo>
                  <a:lnTo>
                    <a:pt x="872" y="155"/>
                  </a:lnTo>
                  <a:lnTo>
                    <a:pt x="843" y="175"/>
                  </a:lnTo>
                  <a:lnTo>
                    <a:pt x="843" y="189"/>
                  </a:lnTo>
                  <a:lnTo>
                    <a:pt x="869" y="204"/>
                  </a:lnTo>
                  <a:lnTo>
                    <a:pt x="874" y="211"/>
                  </a:lnTo>
                  <a:lnTo>
                    <a:pt x="896" y="211"/>
                  </a:lnTo>
                  <a:lnTo>
                    <a:pt x="925" y="204"/>
                  </a:lnTo>
                  <a:lnTo>
                    <a:pt x="934" y="190"/>
                  </a:lnTo>
                  <a:lnTo>
                    <a:pt x="940" y="190"/>
                  </a:lnTo>
                  <a:lnTo>
                    <a:pt x="936" y="204"/>
                  </a:lnTo>
                  <a:lnTo>
                    <a:pt x="945" y="210"/>
                  </a:lnTo>
                  <a:lnTo>
                    <a:pt x="936" y="226"/>
                  </a:lnTo>
                  <a:lnTo>
                    <a:pt x="925" y="241"/>
                  </a:lnTo>
                  <a:lnTo>
                    <a:pt x="927" y="250"/>
                  </a:lnTo>
                  <a:lnTo>
                    <a:pt x="940" y="256"/>
                  </a:lnTo>
                  <a:lnTo>
                    <a:pt x="971" y="255"/>
                  </a:lnTo>
                  <a:lnTo>
                    <a:pt x="1007" y="249"/>
                  </a:lnTo>
                  <a:lnTo>
                    <a:pt x="1013" y="246"/>
                  </a:lnTo>
                  <a:lnTo>
                    <a:pt x="1022" y="241"/>
                  </a:lnTo>
                  <a:lnTo>
                    <a:pt x="1016" y="220"/>
                  </a:lnTo>
                  <a:lnTo>
                    <a:pt x="1025" y="215"/>
                  </a:lnTo>
                  <a:lnTo>
                    <a:pt x="1038" y="225"/>
                  </a:lnTo>
                  <a:lnTo>
                    <a:pt x="1049" y="229"/>
                  </a:lnTo>
                  <a:lnTo>
                    <a:pt x="1076" y="223"/>
                  </a:lnTo>
                  <a:lnTo>
                    <a:pt x="1102" y="202"/>
                  </a:lnTo>
                  <a:lnTo>
                    <a:pt x="1111" y="180"/>
                  </a:lnTo>
                  <a:lnTo>
                    <a:pt x="1131" y="169"/>
                  </a:lnTo>
                  <a:lnTo>
                    <a:pt x="1153" y="169"/>
                  </a:lnTo>
                  <a:lnTo>
                    <a:pt x="1158" y="172"/>
                  </a:lnTo>
                  <a:lnTo>
                    <a:pt x="1153" y="199"/>
                  </a:lnTo>
                  <a:lnTo>
                    <a:pt x="1084" y="261"/>
                  </a:lnTo>
                  <a:lnTo>
                    <a:pt x="1076" y="284"/>
                  </a:lnTo>
                  <a:lnTo>
                    <a:pt x="1084" y="301"/>
                  </a:lnTo>
                  <a:lnTo>
                    <a:pt x="1109" y="311"/>
                  </a:lnTo>
                  <a:lnTo>
                    <a:pt x="1138" y="307"/>
                  </a:lnTo>
                  <a:lnTo>
                    <a:pt x="1140" y="306"/>
                  </a:lnTo>
                  <a:lnTo>
                    <a:pt x="1166" y="300"/>
                  </a:lnTo>
                  <a:lnTo>
                    <a:pt x="1191" y="307"/>
                  </a:lnTo>
                  <a:lnTo>
                    <a:pt x="1220" y="300"/>
                  </a:lnTo>
                  <a:lnTo>
                    <a:pt x="1233" y="291"/>
                  </a:lnTo>
                  <a:lnTo>
                    <a:pt x="1220" y="275"/>
                  </a:lnTo>
                  <a:lnTo>
                    <a:pt x="1215" y="261"/>
                  </a:lnTo>
                  <a:lnTo>
                    <a:pt x="1235" y="258"/>
                  </a:lnTo>
                  <a:lnTo>
                    <a:pt x="1246" y="258"/>
                  </a:lnTo>
                  <a:lnTo>
                    <a:pt x="1240" y="261"/>
                  </a:lnTo>
                  <a:lnTo>
                    <a:pt x="1244" y="271"/>
                  </a:lnTo>
                  <a:lnTo>
                    <a:pt x="1253" y="275"/>
                  </a:lnTo>
                  <a:lnTo>
                    <a:pt x="1264" y="276"/>
                  </a:lnTo>
                  <a:lnTo>
                    <a:pt x="1273" y="276"/>
                  </a:lnTo>
                  <a:lnTo>
                    <a:pt x="1253" y="296"/>
                  </a:lnTo>
                  <a:lnTo>
                    <a:pt x="1260" y="306"/>
                  </a:lnTo>
                  <a:lnTo>
                    <a:pt x="1297" y="321"/>
                  </a:lnTo>
                  <a:lnTo>
                    <a:pt x="1324" y="321"/>
                  </a:lnTo>
                  <a:lnTo>
                    <a:pt x="1355" y="307"/>
                  </a:lnTo>
                  <a:lnTo>
                    <a:pt x="1359" y="301"/>
                  </a:lnTo>
                  <a:lnTo>
                    <a:pt x="1353" y="299"/>
                  </a:lnTo>
                  <a:lnTo>
                    <a:pt x="1410" y="284"/>
                  </a:lnTo>
                  <a:lnTo>
                    <a:pt x="1404" y="244"/>
                  </a:lnTo>
                  <a:lnTo>
                    <a:pt x="1404" y="236"/>
                  </a:lnTo>
                  <a:lnTo>
                    <a:pt x="1421" y="230"/>
                  </a:lnTo>
                  <a:lnTo>
                    <a:pt x="1444" y="231"/>
                  </a:lnTo>
                  <a:lnTo>
                    <a:pt x="1448" y="231"/>
                  </a:lnTo>
                  <a:lnTo>
                    <a:pt x="1448" y="244"/>
                  </a:lnTo>
                  <a:lnTo>
                    <a:pt x="1421" y="264"/>
                  </a:lnTo>
                  <a:lnTo>
                    <a:pt x="1421" y="272"/>
                  </a:lnTo>
                  <a:lnTo>
                    <a:pt x="1444" y="280"/>
                  </a:lnTo>
                  <a:lnTo>
                    <a:pt x="1444" y="284"/>
                  </a:lnTo>
                  <a:lnTo>
                    <a:pt x="1417" y="300"/>
                  </a:lnTo>
                  <a:lnTo>
                    <a:pt x="1424" y="311"/>
                  </a:lnTo>
                  <a:lnTo>
                    <a:pt x="1448" y="325"/>
                  </a:lnTo>
                  <a:lnTo>
                    <a:pt x="1444" y="333"/>
                  </a:lnTo>
                  <a:lnTo>
                    <a:pt x="1444" y="337"/>
                  </a:lnTo>
                  <a:lnTo>
                    <a:pt x="1466" y="345"/>
                  </a:lnTo>
                  <a:lnTo>
                    <a:pt x="1526" y="340"/>
                  </a:lnTo>
                  <a:lnTo>
                    <a:pt x="1528" y="341"/>
                  </a:lnTo>
                  <a:lnTo>
                    <a:pt x="1537" y="336"/>
                  </a:lnTo>
                  <a:lnTo>
                    <a:pt x="1537" y="331"/>
                  </a:lnTo>
                  <a:lnTo>
                    <a:pt x="1554" y="336"/>
                  </a:lnTo>
                  <a:lnTo>
                    <a:pt x="1572" y="350"/>
                  </a:lnTo>
                  <a:lnTo>
                    <a:pt x="1583" y="353"/>
                  </a:lnTo>
                  <a:lnTo>
                    <a:pt x="1601" y="346"/>
                  </a:lnTo>
                  <a:lnTo>
                    <a:pt x="1619" y="328"/>
                  </a:lnTo>
                  <a:lnTo>
                    <a:pt x="1619" y="333"/>
                  </a:lnTo>
                  <a:lnTo>
                    <a:pt x="1652" y="346"/>
                  </a:lnTo>
                  <a:lnTo>
                    <a:pt x="1656" y="350"/>
                  </a:lnTo>
                  <a:lnTo>
                    <a:pt x="1674" y="346"/>
                  </a:lnTo>
                  <a:lnTo>
                    <a:pt x="1683" y="337"/>
                  </a:lnTo>
                  <a:lnTo>
                    <a:pt x="1692" y="292"/>
                  </a:lnTo>
                  <a:lnTo>
                    <a:pt x="1750" y="272"/>
                  </a:lnTo>
                  <a:lnTo>
                    <a:pt x="1832" y="254"/>
                  </a:lnTo>
                  <a:lnTo>
                    <a:pt x="1816" y="269"/>
                  </a:lnTo>
                  <a:lnTo>
                    <a:pt x="1763" y="301"/>
                  </a:lnTo>
                  <a:lnTo>
                    <a:pt x="1743" y="322"/>
                  </a:lnTo>
                  <a:lnTo>
                    <a:pt x="1745" y="331"/>
                  </a:lnTo>
                  <a:lnTo>
                    <a:pt x="1758" y="337"/>
                  </a:lnTo>
                  <a:lnTo>
                    <a:pt x="1798" y="337"/>
                  </a:lnTo>
                  <a:lnTo>
                    <a:pt x="1840" y="330"/>
                  </a:lnTo>
                  <a:lnTo>
                    <a:pt x="1840" y="299"/>
                  </a:lnTo>
                  <a:lnTo>
                    <a:pt x="1843" y="299"/>
                  </a:lnTo>
                  <a:lnTo>
                    <a:pt x="1849" y="315"/>
                  </a:lnTo>
                  <a:lnTo>
                    <a:pt x="1856" y="320"/>
                  </a:lnTo>
                  <a:lnTo>
                    <a:pt x="1829" y="342"/>
                  </a:lnTo>
                  <a:lnTo>
                    <a:pt x="1829" y="348"/>
                  </a:lnTo>
                  <a:lnTo>
                    <a:pt x="1843" y="355"/>
                  </a:lnTo>
                  <a:lnTo>
                    <a:pt x="1772" y="389"/>
                  </a:lnTo>
                  <a:lnTo>
                    <a:pt x="1767" y="383"/>
                  </a:lnTo>
                  <a:lnTo>
                    <a:pt x="1754" y="376"/>
                  </a:lnTo>
                  <a:lnTo>
                    <a:pt x="1723" y="376"/>
                  </a:lnTo>
                  <a:lnTo>
                    <a:pt x="1701" y="385"/>
                  </a:lnTo>
                  <a:lnTo>
                    <a:pt x="1661" y="406"/>
                  </a:lnTo>
                  <a:lnTo>
                    <a:pt x="1656" y="406"/>
                  </a:lnTo>
                  <a:lnTo>
                    <a:pt x="1654" y="407"/>
                  </a:lnTo>
                  <a:lnTo>
                    <a:pt x="1643" y="396"/>
                  </a:lnTo>
                  <a:lnTo>
                    <a:pt x="1630" y="389"/>
                  </a:lnTo>
                  <a:lnTo>
                    <a:pt x="1614" y="394"/>
                  </a:lnTo>
                  <a:lnTo>
                    <a:pt x="1608" y="394"/>
                  </a:lnTo>
                  <a:lnTo>
                    <a:pt x="1601" y="389"/>
                  </a:lnTo>
                  <a:lnTo>
                    <a:pt x="1601" y="371"/>
                  </a:lnTo>
                  <a:lnTo>
                    <a:pt x="1583" y="371"/>
                  </a:lnTo>
                  <a:lnTo>
                    <a:pt x="1541" y="377"/>
                  </a:lnTo>
                  <a:lnTo>
                    <a:pt x="1541" y="372"/>
                  </a:lnTo>
                  <a:lnTo>
                    <a:pt x="1548" y="370"/>
                  </a:lnTo>
                  <a:lnTo>
                    <a:pt x="1539" y="366"/>
                  </a:lnTo>
                  <a:lnTo>
                    <a:pt x="1519" y="371"/>
                  </a:lnTo>
                  <a:lnTo>
                    <a:pt x="1470" y="380"/>
                  </a:lnTo>
                  <a:lnTo>
                    <a:pt x="1459" y="380"/>
                  </a:lnTo>
                  <a:lnTo>
                    <a:pt x="1468" y="366"/>
                  </a:lnTo>
                  <a:lnTo>
                    <a:pt x="1468" y="365"/>
                  </a:lnTo>
                  <a:lnTo>
                    <a:pt x="1450" y="363"/>
                  </a:lnTo>
                  <a:lnTo>
                    <a:pt x="1439" y="363"/>
                  </a:lnTo>
                  <a:lnTo>
                    <a:pt x="1444" y="360"/>
                  </a:lnTo>
                  <a:lnTo>
                    <a:pt x="1444" y="357"/>
                  </a:lnTo>
                  <a:lnTo>
                    <a:pt x="1439" y="355"/>
                  </a:lnTo>
                  <a:lnTo>
                    <a:pt x="1324" y="366"/>
                  </a:lnTo>
                  <a:lnTo>
                    <a:pt x="1295" y="375"/>
                  </a:lnTo>
                  <a:lnTo>
                    <a:pt x="1288" y="377"/>
                  </a:lnTo>
                  <a:lnTo>
                    <a:pt x="1282" y="368"/>
                  </a:lnTo>
                  <a:lnTo>
                    <a:pt x="1273" y="365"/>
                  </a:lnTo>
                  <a:lnTo>
                    <a:pt x="1226" y="375"/>
                  </a:lnTo>
                  <a:lnTo>
                    <a:pt x="1217" y="357"/>
                  </a:lnTo>
                  <a:lnTo>
                    <a:pt x="1193" y="351"/>
                  </a:lnTo>
                  <a:lnTo>
                    <a:pt x="1197" y="346"/>
                  </a:lnTo>
                  <a:lnTo>
                    <a:pt x="1182" y="340"/>
                  </a:lnTo>
                  <a:lnTo>
                    <a:pt x="1127" y="340"/>
                  </a:lnTo>
                  <a:lnTo>
                    <a:pt x="1069" y="351"/>
                  </a:lnTo>
                  <a:lnTo>
                    <a:pt x="1040" y="361"/>
                  </a:lnTo>
                  <a:lnTo>
                    <a:pt x="1038" y="361"/>
                  </a:lnTo>
                  <a:lnTo>
                    <a:pt x="1031" y="357"/>
                  </a:lnTo>
                  <a:lnTo>
                    <a:pt x="1033" y="333"/>
                  </a:lnTo>
                  <a:lnTo>
                    <a:pt x="1033" y="330"/>
                  </a:lnTo>
                  <a:lnTo>
                    <a:pt x="1029" y="326"/>
                  </a:lnTo>
                  <a:lnTo>
                    <a:pt x="985" y="330"/>
                  </a:lnTo>
                  <a:lnTo>
                    <a:pt x="976" y="333"/>
                  </a:lnTo>
                  <a:lnTo>
                    <a:pt x="954" y="333"/>
                  </a:lnTo>
                  <a:lnTo>
                    <a:pt x="951" y="335"/>
                  </a:lnTo>
                  <a:lnTo>
                    <a:pt x="943" y="335"/>
                  </a:lnTo>
                  <a:lnTo>
                    <a:pt x="954" y="321"/>
                  </a:lnTo>
                  <a:lnTo>
                    <a:pt x="960" y="307"/>
                  </a:lnTo>
                  <a:lnTo>
                    <a:pt x="943" y="305"/>
                  </a:lnTo>
                  <a:lnTo>
                    <a:pt x="874" y="314"/>
                  </a:lnTo>
                  <a:lnTo>
                    <a:pt x="847" y="319"/>
                  </a:lnTo>
                  <a:lnTo>
                    <a:pt x="838" y="319"/>
                  </a:lnTo>
                  <a:lnTo>
                    <a:pt x="845" y="310"/>
                  </a:lnTo>
                  <a:lnTo>
                    <a:pt x="878" y="292"/>
                  </a:lnTo>
                  <a:lnTo>
                    <a:pt x="900" y="279"/>
                  </a:lnTo>
                  <a:lnTo>
                    <a:pt x="900" y="272"/>
                  </a:lnTo>
                  <a:lnTo>
                    <a:pt x="887" y="270"/>
                  </a:lnTo>
                  <a:lnTo>
                    <a:pt x="821" y="276"/>
                  </a:lnTo>
                  <a:lnTo>
                    <a:pt x="739" y="295"/>
                  </a:lnTo>
                  <a:lnTo>
                    <a:pt x="643" y="331"/>
                  </a:lnTo>
                  <a:lnTo>
                    <a:pt x="637" y="336"/>
                  </a:lnTo>
                  <a:lnTo>
                    <a:pt x="614" y="342"/>
                  </a:lnTo>
                  <a:lnTo>
                    <a:pt x="610" y="342"/>
                  </a:lnTo>
                  <a:lnTo>
                    <a:pt x="663" y="304"/>
                  </a:lnTo>
                  <a:lnTo>
                    <a:pt x="665" y="299"/>
                  </a:lnTo>
                  <a:lnTo>
                    <a:pt x="659" y="291"/>
                  </a:lnTo>
                  <a:lnTo>
                    <a:pt x="637" y="291"/>
                  </a:lnTo>
                  <a:lnTo>
                    <a:pt x="603" y="304"/>
                  </a:lnTo>
                  <a:lnTo>
                    <a:pt x="559" y="315"/>
                  </a:lnTo>
                  <a:lnTo>
                    <a:pt x="579" y="295"/>
                  </a:lnTo>
                  <a:lnTo>
                    <a:pt x="579" y="292"/>
                  </a:lnTo>
                  <a:lnTo>
                    <a:pt x="568" y="286"/>
                  </a:lnTo>
                  <a:lnTo>
                    <a:pt x="524" y="296"/>
                  </a:lnTo>
                  <a:lnTo>
                    <a:pt x="481" y="315"/>
                  </a:lnTo>
                  <a:lnTo>
                    <a:pt x="477" y="315"/>
                  </a:lnTo>
                  <a:lnTo>
                    <a:pt x="470" y="299"/>
                  </a:lnTo>
                  <a:lnTo>
                    <a:pt x="473" y="275"/>
                  </a:lnTo>
                  <a:lnTo>
                    <a:pt x="479" y="260"/>
                  </a:lnTo>
                  <a:lnTo>
                    <a:pt x="473" y="249"/>
                  </a:lnTo>
                  <a:lnTo>
                    <a:pt x="453" y="249"/>
                  </a:lnTo>
                  <a:lnTo>
                    <a:pt x="331" y="280"/>
                  </a:lnTo>
                  <a:lnTo>
                    <a:pt x="322" y="285"/>
                  </a:lnTo>
                  <a:lnTo>
                    <a:pt x="311" y="285"/>
                  </a:lnTo>
                  <a:lnTo>
                    <a:pt x="266" y="301"/>
                  </a:lnTo>
                  <a:lnTo>
                    <a:pt x="255" y="296"/>
                  </a:lnTo>
                  <a:lnTo>
                    <a:pt x="238" y="299"/>
                  </a:lnTo>
                  <a:lnTo>
                    <a:pt x="211" y="310"/>
                  </a:lnTo>
                  <a:lnTo>
                    <a:pt x="220" y="292"/>
                  </a:lnTo>
                  <a:lnTo>
                    <a:pt x="220" y="287"/>
                  </a:lnTo>
                  <a:lnTo>
                    <a:pt x="211" y="284"/>
                  </a:lnTo>
                  <a:lnTo>
                    <a:pt x="187" y="287"/>
                  </a:lnTo>
                  <a:lnTo>
                    <a:pt x="118" y="322"/>
                  </a:lnTo>
                  <a:lnTo>
                    <a:pt x="113" y="322"/>
                  </a:lnTo>
                  <a:lnTo>
                    <a:pt x="107" y="316"/>
                  </a:lnTo>
                  <a:lnTo>
                    <a:pt x="109" y="300"/>
                  </a:lnTo>
                  <a:lnTo>
                    <a:pt x="113" y="291"/>
                  </a:lnTo>
                  <a:lnTo>
                    <a:pt x="96" y="281"/>
                  </a:lnTo>
                  <a:lnTo>
                    <a:pt x="69" y="285"/>
                  </a:lnTo>
                  <a:lnTo>
                    <a:pt x="45" y="292"/>
                  </a:lnTo>
                  <a:lnTo>
                    <a:pt x="14" y="301"/>
                  </a:lnTo>
                  <a:lnTo>
                    <a:pt x="7" y="285"/>
                  </a:lnTo>
                  <a:lnTo>
                    <a:pt x="7" y="270"/>
                  </a:lnTo>
                  <a:lnTo>
                    <a:pt x="0" y="265"/>
                  </a:lnTo>
                  <a:lnTo>
                    <a:pt x="34" y="256"/>
                  </a:lnTo>
                  <a:lnTo>
                    <a:pt x="60" y="258"/>
                  </a:lnTo>
                  <a:lnTo>
                    <a:pt x="69" y="260"/>
                  </a:lnTo>
                  <a:lnTo>
                    <a:pt x="76" y="260"/>
                  </a:lnTo>
                  <a:lnTo>
                    <a:pt x="78" y="256"/>
                  </a:lnTo>
                  <a:lnTo>
                    <a:pt x="78" y="251"/>
                  </a:lnTo>
                  <a:lnTo>
                    <a:pt x="51" y="235"/>
                  </a:lnTo>
                  <a:lnTo>
                    <a:pt x="51" y="210"/>
                  </a:lnTo>
                  <a:lnTo>
                    <a:pt x="69" y="187"/>
                  </a:lnTo>
                  <a:lnTo>
                    <a:pt x="65" y="185"/>
                  </a:lnTo>
                  <a:lnTo>
                    <a:pt x="69" y="187"/>
                  </a:lnTo>
                  <a:lnTo>
                    <a:pt x="82" y="175"/>
                  </a:lnTo>
                  <a:lnTo>
                    <a:pt x="105" y="180"/>
                  </a:lnTo>
                  <a:lnTo>
                    <a:pt x="118" y="190"/>
                  </a:lnTo>
                  <a:lnTo>
                    <a:pt x="116" y="200"/>
                  </a:lnTo>
                  <a:lnTo>
                    <a:pt x="89" y="219"/>
                  </a:lnTo>
                  <a:lnTo>
                    <a:pt x="89" y="223"/>
                  </a:lnTo>
                  <a:lnTo>
                    <a:pt x="87" y="225"/>
                  </a:lnTo>
                  <a:lnTo>
                    <a:pt x="113" y="234"/>
                  </a:lnTo>
                  <a:lnTo>
                    <a:pt x="116" y="231"/>
                  </a:lnTo>
                  <a:lnTo>
                    <a:pt x="118" y="234"/>
                  </a:lnTo>
                  <a:lnTo>
                    <a:pt x="89" y="258"/>
                  </a:lnTo>
                  <a:lnTo>
                    <a:pt x="96" y="272"/>
                  </a:lnTo>
                  <a:lnTo>
                    <a:pt x="118" y="280"/>
                  </a:lnTo>
                  <a:lnTo>
                    <a:pt x="144" y="279"/>
                  </a:lnTo>
                  <a:lnTo>
                    <a:pt x="160" y="275"/>
                  </a:lnTo>
                  <a:lnTo>
                    <a:pt x="178" y="269"/>
                  </a:lnTo>
                  <a:lnTo>
                    <a:pt x="202" y="241"/>
                  </a:lnTo>
                  <a:lnTo>
                    <a:pt x="211" y="215"/>
                  </a:lnTo>
                  <a:lnTo>
                    <a:pt x="215" y="211"/>
                  </a:lnTo>
                  <a:lnTo>
                    <a:pt x="213" y="210"/>
                  </a:lnTo>
                  <a:lnTo>
                    <a:pt x="269" y="160"/>
                  </a:lnTo>
                  <a:lnTo>
                    <a:pt x="269" y="190"/>
                  </a:lnTo>
                  <a:lnTo>
                    <a:pt x="260" y="207"/>
                  </a:lnTo>
                  <a:lnTo>
                    <a:pt x="242" y="219"/>
                  </a:lnTo>
                  <a:lnTo>
                    <a:pt x="240" y="220"/>
                  </a:lnTo>
                  <a:lnTo>
                    <a:pt x="249" y="225"/>
                  </a:lnTo>
                  <a:lnTo>
                    <a:pt x="242" y="231"/>
                  </a:lnTo>
                  <a:lnTo>
                    <a:pt x="255" y="241"/>
                  </a:lnTo>
                  <a:lnTo>
                    <a:pt x="311" y="241"/>
                  </a:lnTo>
                  <a:lnTo>
                    <a:pt x="317" y="239"/>
                  </a:lnTo>
                  <a:lnTo>
                    <a:pt x="304" y="225"/>
                  </a:lnTo>
                  <a:lnTo>
                    <a:pt x="348" y="214"/>
                  </a:lnTo>
                  <a:lnTo>
                    <a:pt x="346" y="207"/>
                  </a:lnTo>
                  <a:lnTo>
                    <a:pt x="304" y="175"/>
                  </a:lnTo>
                  <a:lnTo>
                    <a:pt x="302" y="170"/>
                  </a:lnTo>
                  <a:lnTo>
                    <a:pt x="331" y="164"/>
                  </a:lnTo>
                  <a:lnTo>
                    <a:pt x="355" y="154"/>
                  </a:lnTo>
                  <a:lnTo>
                    <a:pt x="375" y="151"/>
                  </a:lnTo>
                  <a:lnTo>
                    <a:pt x="382" y="157"/>
                  </a:lnTo>
                  <a:lnTo>
                    <a:pt x="388" y="160"/>
                  </a:lnTo>
                  <a:lnTo>
                    <a:pt x="364" y="177"/>
                  </a:lnTo>
                  <a:lnTo>
                    <a:pt x="362" y="179"/>
                  </a:lnTo>
                  <a:lnTo>
                    <a:pt x="362" y="184"/>
                  </a:lnTo>
                  <a:lnTo>
                    <a:pt x="375" y="190"/>
                  </a:lnTo>
                  <a:lnTo>
                    <a:pt x="393" y="192"/>
                  </a:lnTo>
                  <a:lnTo>
                    <a:pt x="397" y="194"/>
                  </a:lnTo>
                  <a:lnTo>
                    <a:pt x="379" y="199"/>
                  </a:lnTo>
                  <a:lnTo>
                    <a:pt x="366" y="211"/>
                  </a:lnTo>
                  <a:lnTo>
                    <a:pt x="373" y="230"/>
                  </a:lnTo>
                  <a:lnTo>
                    <a:pt x="417" y="230"/>
                  </a:lnTo>
                  <a:lnTo>
                    <a:pt x="433" y="225"/>
                  </a:lnTo>
                  <a:lnTo>
                    <a:pt x="437" y="221"/>
                  </a:lnTo>
                  <a:lnTo>
                    <a:pt x="433" y="211"/>
                  </a:lnTo>
                  <a:lnTo>
                    <a:pt x="461" y="215"/>
                  </a:lnTo>
                  <a:lnTo>
                    <a:pt x="468" y="215"/>
                  </a:lnTo>
                  <a:lnTo>
                    <a:pt x="468" y="234"/>
                  </a:lnTo>
                  <a:lnTo>
                    <a:pt x="481" y="240"/>
                  </a:lnTo>
                  <a:lnTo>
                    <a:pt x="495" y="236"/>
                  </a:lnTo>
                  <a:lnTo>
                    <a:pt x="528" y="236"/>
                  </a:lnTo>
                  <a:lnTo>
                    <a:pt x="543" y="223"/>
                  </a:lnTo>
                  <a:lnTo>
                    <a:pt x="561" y="219"/>
                  </a:lnTo>
                  <a:lnTo>
                    <a:pt x="570" y="226"/>
                  </a:lnTo>
                  <a:lnTo>
                    <a:pt x="575" y="241"/>
                  </a:lnTo>
                  <a:lnTo>
                    <a:pt x="579" y="245"/>
                  </a:lnTo>
                  <a:lnTo>
                    <a:pt x="612" y="244"/>
                  </a:lnTo>
                  <a:lnTo>
                    <a:pt x="632" y="234"/>
                  </a:lnTo>
                  <a:lnTo>
                    <a:pt x="659" y="230"/>
                  </a:lnTo>
                  <a:lnTo>
                    <a:pt x="688" y="219"/>
                  </a:lnTo>
                  <a:lnTo>
                    <a:pt x="703" y="209"/>
                  </a:lnTo>
                  <a:lnTo>
                    <a:pt x="692" y="194"/>
                  </a:lnTo>
                  <a:lnTo>
                    <a:pt x="692" y="192"/>
                  </a:lnTo>
                  <a:lnTo>
                    <a:pt x="699" y="189"/>
                  </a:lnTo>
                  <a:lnTo>
                    <a:pt x="699" y="182"/>
                  </a:lnTo>
                  <a:lnTo>
                    <a:pt x="725" y="155"/>
                  </a:lnTo>
                  <a:lnTo>
                    <a:pt x="739" y="149"/>
                  </a:lnTo>
                  <a:lnTo>
                    <a:pt x="752" y="147"/>
                  </a:lnTo>
                  <a:lnTo>
                    <a:pt x="767" y="131"/>
                  </a:lnTo>
                  <a:lnTo>
                    <a:pt x="767" y="116"/>
                  </a:lnTo>
                  <a:lnTo>
                    <a:pt x="763" y="107"/>
                  </a:lnTo>
                  <a:lnTo>
                    <a:pt x="767" y="102"/>
                  </a:lnTo>
                  <a:lnTo>
                    <a:pt x="818" y="86"/>
                  </a:lnTo>
                  <a:lnTo>
                    <a:pt x="818" y="76"/>
                  </a:lnTo>
                  <a:lnTo>
                    <a:pt x="798" y="65"/>
                  </a:lnTo>
                  <a:lnTo>
                    <a:pt x="803" y="45"/>
                  </a:lnTo>
                  <a:lnTo>
                    <a:pt x="827" y="16"/>
                  </a:lnTo>
                  <a:lnTo>
                    <a:pt x="838" y="1"/>
                  </a:lnTo>
                  <a:lnTo>
                    <a:pt x="889" y="5"/>
                  </a:lnTo>
                  <a:lnTo>
                    <a:pt x="898" y="0"/>
                  </a:lnTo>
                  <a:lnTo>
                    <a:pt x="923" y="4"/>
                  </a:lnTo>
                  <a:lnTo>
                    <a:pt x="927" y="10"/>
                  </a:lnTo>
                  <a:close/>
                </a:path>
              </a:pathLst>
            </a:custGeom>
            <a:solidFill>
              <a:srgbClr val="839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4240" y="3952440"/>
              <a:ext cx="45360" cy="25920"/>
            </a:xfrm>
            <a:custGeom>
              <a:avLst/>
              <a:gdLst/>
              <a:ahLst/>
              <a:rect l="l" t="t" r="r" b="b"/>
              <a:pathLst>
                <a:path w="35" h="24">
                  <a:moveTo>
                    <a:pt x="33" y="11"/>
                  </a:moveTo>
                  <a:lnTo>
                    <a:pt x="2" y="24"/>
                  </a:lnTo>
                  <a:lnTo>
                    <a:pt x="0" y="21"/>
                  </a:lnTo>
                  <a:lnTo>
                    <a:pt x="2" y="11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94120" y="3959280"/>
              <a:ext cx="34920" cy="35280"/>
            </a:xfrm>
            <a:custGeom>
              <a:avLst/>
              <a:gdLst/>
              <a:ahLst/>
              <a:rect l="l" t="t" r="r" b="b"/>
              <a:pathLst>
                <a:path w="27" h="33">
                  <a:moveTo>
                    <a:pt x="25" y="30"/>
                  </a:moveTo>
                  <a:lnTo>
                    <a:pt x="20" y="33"/>
                  </a:lnTo>
                  <a:lnTo>
                    <a:pt x="0" y="15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25" y="30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31280" y="3975480"/>
              <a:ext cx="33480" cy="298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0" y="9"/>
                  </a:moveTo>
                  <a:lnTo>
                    <a:pt x="4" y="19"/>
                  </a:lnTo>
                  <a:lnTo>
                    <a:pt x="0" y="28"/>
                  </a:lnTo>
                  <a:lnTo>
                    <a:pt x="2" y="14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73880" y="3980880"/>
              <a:ext cx="362160" cy="59400"/>
            </a:xfrm>
            <a:custGeom>
              <a:avLst/>
              <a:gdLst/>
              <a:ahLst/>
              <a:rect l="l" t="t" r="r" b="b"/>
              <a:pathLst>
                <a:path w="277" h="55">
                  <a:moveTo>
                    <a:pt x="86" y="8"/>
                  </a:moveTo>
                  <a:lnTo>
                    <a:pt x="88" y="5"/>
                  </a:lnTo>
                  <a:lnTo>
                    <a:pt x="88" y="8"/>
                  </a:lnTo>
                  <a:lnTo>
                    <a:pt x="192" y="9"/>
                  </a:lnTo>
                  <a:lnTo>
                    <a:pt x="277" y="9"/>
                  </a:lnTo>
                  <a:lnTo>
                    <a:pt x="277" y="19"/>
                  </a:lnTo>
                  <a:lnTo>
                    <a:pt x="259" y="19"/>
                  </a:lnTo>
                  <a:lnTo>
                    <a:pt x="197" y="14"/>
                  </a:lnTo>
                  <a:lnTo>
                    <a:pt x="106" y="9"/>
                  </a:lnTo>
                  <a:lnTo>
                    <a:pt x="28" y="9"/>
                  </a:lnTo>
                  <a:lnTo>
                    <a:pt x="20" y="8"/>
                  </a:lnTo>
                  <a:lnTo>
                    <a:pt x="17" y="8"/>
                  </a:lnTo>
                  <a:lnTo>
                    <a:pt x="17" y="35"/>
                  </a:lnTo>
                  <a:lnTo>
                    <a:pt x="11" y="44"/>
                  </a:lnTo>
                  <a:lnTo>
                    <a:pt x="17" y="49"/>
                  </a:lnTo>
                  <a:lnTo>
                    <a:pt x="186" y="48"/>
                  </a:lnTo>
                  <a:lnTo>
                    <a:pt x="197" y="44"/>
                  </a:lnTo>
                  <a:lnTo>
                    <a:pt x="235" y="48"/>
                  </a:lnTo>
                  <a:lnTo>
                    <a:pt x="270" y="49"/>
                  </a:lnTo>
                  <a:lnTo>
                    <a:pt x="266" y="52"/>
                  </a:lnTo>
                  <a:lnTo>
                    <a:pt x="243" y="52"/>
                  </a:lnTo>
                  <a:lnTo>
                    <a:pt x="86" y="54"/>
                  </a:lnTo>
                  <a:lnTo>
                    <a:pt x="55" y="55"/>
                  </a:lnTo>
                  <a:lnTo>
                    <a:pt x="28" y="55"/>
                  </a:lnTo>
                  <a:lnTo>
                    <a:pt x="8" y="52"/>
                  </a:lnTo>
                  <a:lnTo>
                    <a:pt x="0" y="48"/>
                  </a:lnTo>
                  <a:lnTo>
                    <a:pt x="8" y="25"/>
                  </a:lnTo>
                  <a:lnTo>
                    <a:pt x="2" y="8"/>
                  </a:lnTo>
                  <a:lnTo>
                    <a:pt x="17" y="0"/>
                  </a:lnTo>
                  <a:lnTo>
                    <a:pt x="62" y="8"/>
                  </a:lnTo>
                  <a:lnTo>
                    <a:pt x="8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93920" y="4033800"/>
              <a:ext cx="63720" cy="16200"/>
            </a:xfrm>
            <a:custGeom>
              <a:avLst/>
              <a:gdLst/>
              <a:ahLst/>
              <a:rect l="l" t="t" r="r" b="b"/>
              <a:pathLst>
                <a:path w="49" h="15">
                  <a:moveTo>
                    <a:pt x="36" y="6"/>
                  </a:moveTo>
                  <a:lnTo>
                    <a:pt x="0" y="15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21720" y="4056480"/>
              <a:ext cx="81000" cy="2376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0" y="12"/>
                  </a:moveTo>
                  <a:lnTo>
                    <a:pt x="62" y="14"/>
                  </a:lnTo>
                  <a:lnTo>
                    <a:pt x="40" y="22"/>
                  </a:lnTo>
                  <a:lnTo>
                    <a:pt x="7" y="22"/>
                  </a:lnTo>
                  <a:lnTo>
                    <a:pt x="0" y="10"/>
                  </a:lnTo>
                  <a:lnTo>
                    <a:pt x="16" y="2"/>
                  </a:lnTo>
                  <a:lnTo>
                    <a:pt x="24" y="0"/>
                  </a:lnTo>
                  <a:lnTo>
                    <a:pt x="53" y="7"/>
                  </a:lnTo>
                  <a:lnTo>
                    <a:pt x="60" y="12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67160" y="4102200"/>
              <a:ext cx="69120" cy="44280"/>
            </a:xfrm>
            <a:custGeom>
              <a:avLst/>
              <a:gdLst/>
              <a:ahLst/>
              <a:rect l="l" t="t" r="r" b="b"/>
              <a:pathLst>
                <a:path w="53" h="41">
                  <a:moveTo>
                    <a:pt x="49" y="8"/>
                  </a:moveTo>
                  <a:lnTo>
                    <a:pt x="53" y="11"/>
                  </a:lnTo>
                  <a:lnTo>
                    <a:pt x="46" y="21"/>
                  </a:lnTo>
                  <a:lnTo>
                    <a:pt x="0" y="41"/>
                  </a:lnTo>
                  <a:lnTo>
                    <a:pt x="4" y="20"/>
                  </a:lnTo>
                  <a:lnTo>
                    <a:pt x="4" y="6"/>
                  </a:lnTo>
                  <a:lnTo>
                    <a:pt x="9" y="0"/>
                  </a:lnTo>
                  <a:lnTo>
                    <a:pt x="31" y="1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6200" y="4105080"/>
              <a:ext cx="973440" cy="225000"/>
            </a:xfrm>
            <a:custGeom>
              <a:avLst/>
              <a:gdLst/>
              <a:ahLst/>
              <a:rect l="l" t="t" r="r" b="b"/>
              <a:pathLst>
                <a:path w="745" h="208">
                  <a:moveTo>
                    <a:pt x="204" y="7"/>
                  </a:moveTo>
                  <a:lnTo>
                    <a:pt x="173" y="22"/>
                  </a:lnTo>
                  <a:lnTo>
                    <a:pt x="184" y="28"/>
                  </a:lnTo>
                  <a:lnTo>
                    <a:pt x="199" y="30"/>
                  </a:lnTo>
                  <a:lnTo>
                    <a:pt x="202" y="30"/>
                  </a:lnTo>
                  <a:lnTo>
                    <a:pt x="199" y="42"/>
                  </a:lnTo>
                  <a:lnTo>
                    <a:pt x="193" y="45"/>
                  </a:lnTo>
                  <a:lnTo>
                    <a:pt x="199" y="52"/>
                  </a:lnTo>
                  <a:lnTo>
                    <a:pt x="210" y="54"/>
                  </a:lnTo>
                  <a:lnTo>
                    <a:pt x="244" y="53"/>
                  </a:lnTo>
                  <a:lnTo>
                    <a:pt x="281" y="45"/>
                  </a:lnTo>
                  <a:lnTo>
                    <a:pt x="281" y="33"/>
                  </a:lnTo>
                  <a:lnTo>
                    <a:pt x="273" y="30"/>
                  </a:lnTo>
                  <a:lnTo>
                    <a:pt x="266" y="27"/>
                  </a:lnTo>
                  <a:lnTo>
                    <a:pt x="281" y="22"/>
                  </a:lnTo>
                  <a:lnTo>
                    <a:pt x="299" y="22"/>
                  </a:lnTo>
                  <a:lnTo>
                    <a:pt x="319" y="35"/>
                  </a:lnTo>
                  <a:lnTo>
                    <a:pt x="324" y="42"/>
                  </a:lnTo>
                  <a:lnTo>
                    <a:pt x="337" y="48"/>
                  </a:lnTo>
                  <a:lnTo>
                    <a:pt x="355" y="43"/>
                  </a:lnTo>
                  <a:lnTo>
                    <a:pt x="359" y="42"/>
                  </a:lnTo>
                  <a:lnTo>
                    <a:pt x="363" y="48"/>
                  </a:lnTo>
                  <a:lnTo>
                    <a:pt x="381" y="54"/>
                  </a:lnTo>
                  <a:lnTo>
                    <a:pt x="399" y="69"/>
                  </a:lnTo>
                  <a:lnTo>
                    <a:pt x="432" y="68"/>
                  </a:lnTo>
                  <a:lnTo>
                    <a:pt x="443" y="68"/>
                  </a:lnTo>
                  <a:lnTo>
                    <a:pt x="452" y="74"/>
                  </a:lnTo>
                  <a:lnTo>
                    <a:pt x="434" y="101"/>
                  </a:lnTo>
                  <a:lnTo>
                    <a:pt x="468" y="118"/>
                  </a:lnTo>
                  <a:lnTo>
                    <a:pt x="510" y="114"/>
                  </a:lnTo>
                  <a:lnTo>
                    <a:pt x="519" y="108"/>
                  </a:lnTo>
                  <a:lnTo>
                    <a:pt x="514" y="92"/>
                  </a:lnTo>
                  <a:lnTo>
                    <a:pt x="494" y="78"/>
                  </a:lnTo>
                  <a:lnTo>
                    <a:pt x="503" y="69"/>
                  </a:lnTo>
                  <a:lnTo>
                    <a:pt x="530" y="59"/>
                  </a:lnTo>
                  <a:lnTo>
                    <a:pt x="539" y="64"/>
                  </a:lnTo>
                  <a:lnTo>
                    <a:pt x="523" y="73"/>
                  </a:lnTo>
                  <a:lnTo>
                    <a:pt x="523" y="79"/>
                  </a:lnTo>
                  <a:lnTo>
                    <a:pt x="539" y="84"/>
                  </a:lnTo>
                  <a:lnTo>
                    <a:pt x="565" y="83"/>
                  </a:lnTo>
                  <a:lnTo>
                    <a:pt x="592" y="73"/>
                  </a:lnTo>
                  <a:lnTo>
                    <a:pt x="581" y="57"/>
                  </a:lnTo>
                  <a:lnTo>
                    <a:pt x="572" y="50"/>
                  </a:lnTo>
                  <a:lnTo>
                    <a:pt x="572" y="47"/>
                  </a:lnTo>
                  <a:lnTo>
                    <a:pt x="581" y="45"/>
                  </a:lnTo>
                  <a:lnTo>
                    <a:pt x="585" y="40"/>
                  </a:lnTo>
                  <a:lnTo>
                    <a:pt x="601" y="38"/>
                  </a:lnTo>
                  <a:lnTo>
                    <a:pt x="618" y="42"/>
                  </a:lnTo>
                  <a:lnTo>
                    <a:pt x="643" y="69"/>
                  </a:lnTo>
                  <a:lnTo>
                    <a:pt x="623" y="92"/>
                  </a:lnTo>
                  <a:lnTo>
                    <a:pt x="623" y="94"/>
                  </a:lnTo>
                  <a:lnTo>
                    <a:pt x="645" y="101"/>
                  </a:lnTo>
                  <a:lnTo>
                    <a:pt x="669" y="101"/>
                  </a:lnTo>
                  <a:lnTo>
                    <a:pt x="672" y="99"/>
                  </a:lnTo>
                  <a:lnTo>
                    <a:pt x="703" y="112"/>
                  </a:lnTo>
                  <a:lnTo>
                    <a:pt x="718" y="108"/>
                  </a:lnTo>
                  <a:lnTo>
                    <a:pt x="731" y="97"/>
                  </a:lnTo>
                  <a:lnTo>
                    <a:pt x="743" y="92"/>
                  </a:lnTo>
                  <a:lnTo>
                    <a:pt x="736" y="98"/>
                  </a:lnTo>
                  <a:lnTo>
                    <a:pt x="736" y="103"/>
                  </a:lnTo>
                  <a:lnTo>
                    <a:pt x="743" y="107"/>
                  </a:lnTo>
                  <a:lnTo>
                    <a:pt x="745" y="107"/>
                  </a:lnTo>
                  <a:lnTo>
                    <a:pt x="745" y="109"/>
                  </a:lnTo>
                  <a:lnTo>
                    <a:pt x="727" y="115"/>
                  </a:lnTo>
                  <a:lnTo>
                    <a:pt x="676" y="149"/>
                  </a:lnTo>
                  <a:lnTo>
                    <a:pt x="674" y="150"/>
                  </a:lnTo>
                  <a:lnTo>
                    <a:pt x="663" y="148"/>
                  </a:lnTo>
                  <a:lnTo>
                    <a:pt x="621" y="183"/>
                  </a:lnTo>
                  <a:lnTo>
                    <a:pt x="596" y="199"/>
                  </a:lnTo>
                  <a:lnTo>
                    <a:pt x="594" y="200"/>
                  </a:lnTo>
                  <a:lnTo>
                    <a:pt x="592" y="185"/>
                  </a:lnTo>
                  <a:lnTo>
                    <a:pt x="576" y="178"/>
                  </a:lnTo>
                  <a:lnTo>
                    <a:pt x="565" y="179"/>
                  </a:lnTo>
                  <a:lnTo>
                    <a:pt x="530" y="196"/>
                  </a:lnTo>
                  <a:lnTo>
                    <a:pt x="494" y="208"/>
                  </a:lnTo>
                  <a:lnTo>
                    <a:pt x="496" y="193"/>
                  </a:lnTo>
                  <a:lnTo>
                    <a:pt x="505" y="184"/>
                  </a:lnTo>
                  <a:lnTo>
                    <a:pt x="503" y="179"/>
                  </a:lnTo>
                  <a:lnTo>
                    <a:pt x="503" y="178"/>
                  </a:lnTo>
                  <a:lnTo>
                    <a:pt x="499" y="176"/>
                  </a:lnTo>
                  <a:lnTo>
                    <a:pt x="494" y="176"/>
                  </a:lnTo>
                  <a:lnTo>
                    <a:pt x="465" y="196"/>
                  </a:lnTo>
                  <a:lnTo>
                    <a:pt x="450" y="200"/>
                  </a:lnTo>
                  <a:lnTo>
                    <a:pt x="468" y="163"/>
                  </a:lnTo>
                  <a:lnTo>
                    <a:pt x="459" y="158"/>
                  </a:lnTo>
                  <a:lnTo>
                    <a:pt x="441" y="159"/>
                  </a:lnTo>
                  <a:lnTo>
                    <a:pt x="379" y="180"/>
                  </a:lnTo>
                  <a:lnTo>
                    <a:pt x="346" y="188"/>
                  </a:lnTo>
                  <a:lnTo>
                    <a:pt x="343" y="189"/>
                  </a:lnTo>
                  <a:lnTo>
                    <a:pt x="310" y="193"/>
                  </a:lnTo>
                  <a:lnTo>
                    <a:pt x="297" y="183"/>
                  </a:lnTo>
                  <a:lnTo>
                    <a:pt x="308" y="153"/>
                  </a:lnTo>
                  <a:lnTo>
                    <a:pt x="326" y="134"/>
                  </a:lnTo>
                  <a:lnTo>
                    <a:pt x="326" y="128"/>
                  </a:lnTo>
                  <a:lnTo>
                    <a:pt x="306" y="118"/>
                  </a:lnTo>
                  <a:lnTo>
                    <a:pt x="290" y="115"/>
                  </a:lnTo>
                  <a:lnTo>
                    <a:pt x="248" y="128"/>
                  </a:lnTo>
                  <a:lnTo>
                    <a:pt x="159" y="157"/>
                  </a:lnTo>
                  <a:lnTo>
                    <a:pt x="182" y="139"/>
                  </a:lnTo>
                  <a:lnTo>
                    <a:pt x="182" y="135"/>
                  </a:lnTo>
                  <a:lnTo>
                    <a:pt x="173" y="133"/>
                  </a:lnTo>
                  <a:lnTo>
                    <a:pt x="146" y="142"/>
                  </a:lnTo>
                  <a:lnTo>
                    <a:pt x="62" y="183"/>
                  </a:lnTo>
                  <a:lnTo>
                    <a:pt x="66" y="169"/>
                  </a:lnTo>
                  <a:lnTo>
                    <a:pt x="66" y="164"/>
                  </a:lnTo>
                  <a:lnTo>
                    <a:pt x="60" y="162"/>
                  </a:lnTo>
                  <a:lnTo>
                    <a:pt x="46" y="162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13" y="158"/>
                  </a:lnTo>
                  <a:lnTo>
                    <a:pt x="13" y="157"/>
                  </a:lnTo>
                  <a:lnTo>
                    <a:pt x="15" y="154"/>
                  </a:lnTo>
                  <a:lnTo>
                    <a:pt x="6" y="150"/>
                  </a:lnTo>
                  <a:lnTo>
                    <a:pt x="13" y="139"/>
                  </a:lnTo>
                  <a:lnTo>
                    <a:pt x="49" y="98"/>
                  </a:lnTo>
                  <a:lnTo>
                    <a:pt x="89" y="78"/>
                  </a:lnTo>
                  <a:lnTo>
                    <a:pt x="122" y="73"/>
                  </a:lnTo>
                  <a:lnTo>
                    <a:pt x="182" y="73"/>
                  </a:lnTo>
                  <a:lnTo>
                    <a:pt x="190" y="66"/>
                  </a:lnTo>
                  <a:lnTo>
                    <a:pt x="175" y="40"/>
                  </a:lnTo>
                  <a:lnTo>
                    <a:pt x="166" y="30"/>
                  </a:lnTo>
                  <a:lnTo>
                    <a:pt x="168" y="12"/>
                  </a:lnTo>
                  <a:lnTo>
                    <a:pt x="186" y="0"/>
                  </a:lnTo>
                  <a:lnTo>
                    <a:pt x="204" y="0"/>
                  </a:lnTo>
                  <a:lnTo>
                    <a:pt x="204" y="7"/>
                  </a:lnTo>
                  <a:close/>
                </a:path>
              </a:pathLst>
            </a:custGeom>
            <a:solidFill>
              <a:srgbClr val="71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38720" y="4119480"/>
              <a:ext cx="75600" cy="6912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58" y="37"/>
                  </a:moveTo>
                  <a:lnTo>
                    <a:pt x="58" y="40"/>
                  </a:lnTo>
                  <a:lnTo>
                    <a:pt x="22" y="49"/>
                  </a:lnTo>
                  <a:lnTo>
                    <a:pt x="18" y="51"/>
                  </a:lnTo>
                  <a:lnTo>
                    <a:pt x="22" y="64"/>
                  </a:lnTo>
                  <a:lnTo>
                    <a:pt x="0" y="64"/>
                  </a:lnTo>
                  <a:lnTo>
                    <a:pt x="18" y="50"/>
                  </a:lnTo>
                  <a:lnTo>
                    <a:pt x="20" y="49"/>
                  </a:lnTo>
                  <a:lnTo>
                    <a:pt x="20" y="44"/>
                  </a:lnTo>
                  <a:lnTo>
                    <a:pt x="11" y="39"/>
                  </a:lnTo>
                  <a:lnTo>
                    <a:pt x="22" y="22"/>
                  </a:lnTo>
                  <a:lnTo>
                    <a:pt x="22" y="0"/>
                  </a:lnTo>
                  <a:lnTo>
                    <a:pt x="38" y="20"/>
                  </a:lnTo>
                  <a:lnTo>
                    <a:pt x="58" y="37"/>
                  </a:lnTo>
                  <a:close/>
                </a:path>
              </a:pathLst>
            </a:custGeom>
            <a:solidFill>
              <a:srgbClr val="dd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6640" y="4212720"/>
              <a:ext cx="4078440" cy="322560"/>
            </a:xfrm>
            <a:custGeom>
              <a:avLst/>
              <a:gdLst/>
              <a:ahLst/>
              <a:rect l="l" t="t" r="r" b="b"/>
              <a:pathLst>
                <a:path w="3121" h="298">
                  <a:moveTo>
                    <a:pt x="1769" y="43"/>
                  </a:moveTo>
                  <a:lnTo>
                    <a:pt x="1778" y="65"/>
                  </a:lnTo>
                  <a:lnTo>
                    <a:pt x="1793" y="70"/>
                  </a:lnTo>
                  <a:lnTo>
                    <a:pt x="1842" y="48"/>
                  </a:lnTo>
                  <a:lnTo>
                    <a:pt x="1855" y="48"/>
                  </a:lnTo>
                  <a:lnTo>
                    <a:pt x="1866" y="44"/>
                  </a:lnTo>
                  <a:lnTo>
                    <a:pt x="1873" y="44"/>
                  </a:lnTo>
                  <a:lnTo>
                    <a:pt x="1826" y="75"/>
                  </a:lnTo>
                  <a:lnTo>
                    <a:pt x="1831" y="79"/>
                  </a:lnTo>
                  <a:lnTo>
                    <a:pt x="1862" y="74"/>
                  </a:lnTo>
                  <a:lnTo>
                    <a:pt x="1957" y="45"/>
                  </a:lnTo>
                  <a:lnTo>
                    <a:pt x="1955" y="51"/>
                  </a:lnTo>
                  <a:lnTo>
                    <a:pt x="1897" y="94"/>
                  </a:lnTo>
                  <a:lnTo>
                    <a:pt x="1897" y="101"/>
                  </a:lnTo>
                  <a:lnTo>
                    <a:pt x="1902" y="105"/>
                  </a:lnTo>
                  <a:lnTo>
                    <a:pt x="1926" y="101"/>
                  </a:lnTo>
                  <a:lnTo>
                    <a:pt x="1931" y="99"/>
                  </a:lnTo>
                  <a:lnTo>
                    <a:pt x="1935" y="99"/>
                  </a:lnTo>
                  <a:lnTo>
                    <a:pt x="1937" y="100"/>
                  </a:lnTo>
                  <a:lnTo>
                    <a:pt x="1979" y="75"/>
                  </a:lnTo>
                  <a:lnTo>
                    <a:pt x="2026" y="55"/>
                  </a:lnTo>
                  <a:lnTo>
                    <a:pt x="2095" y="34"/>
                  </a:lnTo>
                  <a:lnTo>
                    <a:pt x="2159" y="23"/>
                  </a:lnTo>
                  <a:lnTo>
                    <a:pt x="2194" y="24"/>
                  </a:lnTo>
                  <a:lnTo>
                    <a:pt x="2135" y="59"/>
                  </a:lnTo>
                  <a:lnTo>
                    <a:pt x="2132" y="64"/>
                  </a:lnTo>
                  <a:lnTo>
                    <a:pt x="2132" y="66"/>
                  </a:lnTo>
                  <a:lnTo>
                    <a:pt x="2141" y="72"/>
                  </a:lnTo>
                  <a:lnTo>
                    <a:pt x="2170" y="70"/>
                  </a:lnTo>
                  <a:lnTo>
                    <a:pt x="2206" y="60"/>
                  </a:lnTo>
                  <a:lnTo>
                    <a:pt x="2241" y="58"/>
                  </a:lnTo>
                  <a:lnTo>
                    <a:pt x="2254" y="58"/>
                  </a:lnTo>
                  <a:lnTo>
                    <a:pt x="2248" y="70"/>
                  </a:lnTo>
                  <a:lnTo>
                    <a:pt x="2239" y="75"/>
                  </a:lnTo>
                  <a:lnTo>
                    <a:pt x="2237" y="86"/>
                  </a:lnTo>
                  <a:lnTo>
                    <a:pt x="2248" y="90"/>
                  </a:lnTo>
                  <a:lnTo>
                    <a:pt x="2312" y="79"/>
                  </a:lnTo>
                  <a:lnTo>
                    <a:pt x="2327" y="79"/>
                  </a:lnTo>
                  <a:lnTo>
                    <a:pt x="2330" y="85"/>
                  </a:lnTo>
                  <a:lnTo>
                    <a:pt x="2330" y="86"/>
                  </a:lnTo>
                  <a:lnTo>
                    <a:pt x="2325" y="90"/>
                  </a:lnTo>
                  <a:lnTo>
                    <a:pt x="2327" y="104"/>
                  </a:lnTo>
                  <a:lnTo>
                    <a:pt x="2347" y="115"/>
                  </a:lnTo>
                  <a:lnTo>
                    <a:pt x="2372" y="110"/>
                  </a:lnTo>
                  <a:lnTo>
                    <a:pt x="2405" y="97"/>
                  </a:lnTo>
                  <a:lnTo>
                    <a:pt x="2467" y="89"/>
                  </a:lnTo>
                  <a:lnTo>
                    <a:pt x="2492" y="92"/>
                  </a:lnTo>
                  <a:lnTo>
                    <a:pt x="2460" y="107"/>
                  </a:lnTo>
                  <a:lnTo>
                    <a:pt x="2460" y="110"/>
                  </a:lnTo>
                  <a:lnTo>
                    <a:pt x="2487" y="110"/>
                  </a:lnTo>
                  <a:lnTo>
                    <a:pt x="2503" y="107"/>
                  </a:lnTo>
                  <a:lnTo>
                    <a:pt x="2514" y="107"/>
                  </a:lnTo>
                  <a:lnTo>
                    <a:pt x="2523" y="120"/>
                  </a:lnTo>
                  <a:lnTo>
                    <a:pt x="2525" y="124"/>
                  </a:lnTo>
                  <a:lnTo>
                    <a:pt x="2531" y="127"/>
                  </a:lnTo>
                  <a:lnTo>
                    <a:pt x="2580" y="116"/>
                  </a:lnTo>
                  <a:lnTo>
                    <a:pt x="2594" y="136"/>
                  </a:lnTo>
                  <a:lnTo>
                    <a:pt x="2602" y="140"/>
                  </a:lnTo>
                  <a:lnTo>
                    <a:pt x="2627" y="124"/>
                  </a:lnTo>
                  <a:lnTo>
                    <a:pt x="2640" y="119"/>
                  </a:lnTo>
                  <a:lnTo>
                    <a:pt x="2653" y="119"/>
                  </a:lnTo>
                  <a:lnTo>
                    <a:pt x="2656" y="116"/>
                  </a:lnTo>
                  <a:lnTo>
                    <a:pt x="2727" y="109"/>
                  </a:lnTo>
                  <a:lnTo>
                    <a:pt x="2720" y="112"/>
                  </a:lnTo>
                  <a:lnTo>
                    <a:pt x="2720" y="116"/>
                  </a:lnTo>
                  <a:lnTo>
                    <a:pt x="2735" y="120"/>
                  </a:lnTo>
                  <a:lnTo>
                    <a:pt x="2753" y="116"/>
                  </a:lnTo>
                  <a:lnTo>
                    <a:pt x="2755" y="129"/>
                  </a:lnTo>
                  <a:lnTo>
                    <a:pt x="2762" y="131"/>
                  </a:lnTo>
                  <a:lnTo>
                    <a:pt x="2789" y="130"/>
                  </a:lnTo>
                  <a:lnTo>
                    <a:pt x="2833" y="120"/>
                  </a:lnTo>
                  <a:lnTo>
                    <a:pt x="2840" y="120"/>
                  </a:lnTo>
                  <a:lnTo>
                    <a:pt x="2840" y="121"/>
                  </a:lnTo>
                  <a:lnTo>
                    <a:pt x="2835" y="124"/>
                  </a:lnTo>
                  <a:lnTo>
                    <a:pt x="2846" y="130"/>
                  </a:lnTo>
                  <a:lnTo>
                    <a:pt x="2899" y="125"/>
                  </a:lnTo>
                  <a:lnTo>
                    <a:pt x="2899" y="138"/>
                  </a:lnTo>
                  <a:lnTo>
                    <a:pt x="2915" y="146"/>
                  </a:lnTo>
                  <a:lnTo>
                    <a:pt x="2935" y="145"/>
                  </a:lnTo>
                  <a:lnTo>
                    <a:pt x="2944" y="145"/>
                  </a:lnTo>
                  <a:lnTo>
                    <a:pt x="2950" y="153"/>
                  </a:lnTo>
                  <a:lnTo>
                    <a:pt x="2959" y="158"/>
                  </a:lnTo>
                  <a:lnTo>
                    <a:pt x="2984" y="156"/>
                  </a:lnTo>
                  <a:lnTo>
                    <a:pt x="3039" y="130"/>
                  </a:lnTo>
                  <a:lnTo>
                    <a:pt x="3064" y="130"/>
                  </a:lnTo>
                  <a:lnTo>
                    <a:pt x="3075" y="143"/>
                  </a:lnTo>
                  <a:lnTo>
                    <a:pt x="3081" y="143"/>
                  </a:lnTo>
                  <a:lnTo>
                    <a:pt x="3090" y="160"/>
                  </a:lnTo>
                  <a:lnTo>
                    <a:pt x="3121" y="175"/>
                  </a:lnTo>
                  <a:lnTo>
                    <a:pt x="3117" y="186"/>
                  </a:lnTo>
                  <a:lnTo>
                    <a:pt x="3077" y="211"/>
                  </a:lnTo>
                  <a:lnTo>
                    <a:pt x="3081" y="213"/>
                  </a:lnTo>
                  <a:lnTo>
                    <a:pt x="3064" y="223"/>
                  </a:lnTo>
                  <a:lnTo>
                    <a:pt x="3013" y="229"/>
                  </a:lnTo>
                  <a:lnTo>
                    <a:pt x="2962" y="236"/>
                  </a:lnTo>
                  <a:lnTo>
                    <a:pt x="2882" y="250"/>
                  </a:lnTo>
                  <a:lnTo>
                    <a:pt x="2669" y="268"/>
                  </a:lnTo>
                  <a:lnTo>
                    <a:pt x="2560" y="278"/>
                  </a:lnTo>
                  <a:lnTo>
                    <a:pt x="2469" y="283"/>
                  </a:lnTo>
                  <a:lnTo>
                    <a:pt x="2257" y="284"/>
                  </a:lnTo>
                  <a:lnTo>
                    <a:pt x="2219" y="289"/>
                  </a:lnTo>
                  <a:lnTo>
                    <a:pt x="2090" y="288"/>
                  </a:lnTo>
                  <a:lnTo>
                    <a:pt x="2050" y="275"/>
                  </a:lnTo>
                  <a:lnTo>
                    <a:pt x="1999" y="269"/>
                  </a:lnTo>
                  <a:lnTo>
                    <a:pt x="1855" y="270"/>
                  </a:lnTo>
                  <a:lnTo>
                    <a:pt x="1733" y="284"/>
                  </a:lnTo>
                  <a:lnTo>
                    <a:pt x="1600" y="298"/>
                  </a:lnTo>
                  <a:lnTo>
                    <a:pt x="1529" y="294"/>
                  </a:lnTo>
                  <a:lnTo>
                    <a:pt x="1476" y="288"/>
                  </a:lnTo>
                  <a:lnTo>
                    <a:pt x="1447" y="288"/>
                  </a:lnTo>
                  <a:lnTo>
                    <a:pt x="1412" y="275"/>
                  </a:lnTo>
                  <a:lnTo>
                    <a:pt x="1359" y="275"/>
                  </a:lnTo>
                  <a:lnTo>
                    <a:pt x="1290" y="269"/>
                  </a:lnTo>
                  <a:lnTo>
                    <a:pt x="1279" y="268"/>
                  </a:lnTo>
                  <a:lnTo>
                    <a:pt x="1219" y="253"/>
                  </a:lnTo>
                  <a:lnTo>
                    <a:pt x="1181" y="249"/>
                  </a:lnTo>
                  <a:lnTo>
                    <a:pt x="1035" y="263"/>
                  </a:lnTo>
                  <a:lnTo>
                    <a:pt x="973" y="269"/>
                  </a:lnTo>
                  <a:lnTo>
                    <a:pt x="842" y="278"/>
                  </a:lnTo>
                  <a:lnTo>
                    <a:pt x="756" y="273"/>
                  </a:lnTo>
                  <a:lnTo>
                    <a:pt x="647" y="248"/>
                  </a:lnTo>
                  <a:lnTo>
                    <a:pt x="605" y="244"/>
                  </a:lnTo>
                  <a:lnTo>
                    <a:pt x="569" y="234"/>
                  </a:lnTo>
                  <a:lnTo>
                    <a:pt x="552" y="223"/>
                  </a:lnTo>
                  <a:lnTo>
                    <a:pt x="521" y="214"/>
                  </a:lnTo>
                  <a:lnTo>
                    <a:pt x="361" y="213"/>
                  </a:lnTo>
                  <a:lnTo>
                    <a:pt x="334" y="211"/>
                  </a:lnTo>
                  <a:lnTo>
                    <a:pt x="230" y="209"/>
                  </a:lnTo>
                  <a:lnTo>
                    <a:pt x="157" y="199"/>
                  </a:lnTo>
                  <a:lnTo>
                    <a:pt x="130" y="193"/>
                  </a:lnTo>
                  <a:lnTo>
                    <a:pt x="97" y="189"/>
                  </a:lnTo>
                  <a:lnTo>
                    <a:pt x="60" y="175"/>
                  </a:lnTo>
                  <a:lnTo>
                    <a:pt x="22" y="150"/>
                  </a:lnTo>
                  <a:lnTo>
                    <a:pt x="4" y="135"/>
                  </a:lnTo>
                  <a:lnTo>
                    <a:pt x="0" y="119"/>
                  </a:lnTo>
                  <a:lnTo>
                    <a:pt x="9" y="112"/>
                  </a:lnTo>
                  <a:lnTo>
                    <a:pt x="4" y="86"/>
                  </a:lnTo>
                  <a:lnTo>
                    <a:pt x="4" y="75"/>
                  </a:lnTo>
                  <a:lnTo>
                    <a:pt x="13" y="70"/>
                  </a:lnTo>
                  <a:lnTo>
                    <a:pt x="57" y="66"/>
                  </a:lnTo>
                  <a:lnTo>
                    <a:pt x="79" y="66"/>
                  </a:lnTo>
                  <a:lnTo>
                    <a:pt x="104" y="74"/>
                  </a:lnTo>
                  <a:lnTo>
                    <a:pt x="104" y="75"/>
                  </a:lnTo>
                  <a:lnTo>
                    <a:pt x="148" y="75"/>
                  </a:lnTo>
                  <a:lnTo>
                    <a:pt x="181" y="84"/>
                  </a:lnTo>
                  <a:lnTo>
                    <a:pt x="204" y="80"/>
                  </a:lnTo>
                  <a:lnTo>
                    <a:pt x="237" y="55"/>
                  </a:lnTo>
                  <a:lnTo>
                    <a:pt x="264" y="49"/>
                  </a:lnTo>
                  <a:lnTo>
                    <a:pt x="272" y="51"/>
                  </a:lnTo>
                  <a:lnTo>
                    <a:pt x="283" y="63"/>
                  </a:lnTo>
                  <a:lnTo>
                    <a:pt x="308" y="65"/>
                  </a:lnTo>
                  <a:lnTo>
                    <a:pt x="317" y="74"/>
                  </a:lnTo>
                  <a:lnTo>
                    <a:pt x="326" y="74"/>
                  </a:lnTo>
                  <a:lnTo>
                    <a:pt x="326" y="75"/>
                  </a:lnTo>
                  <a:lnTo>
                    <a:pt x="339" y="79"/>
                  </a:lnTo>
                  <a:lnTo>
                    <a:pt x="372" y="59"/>
                  </a:lnTo>
                  <a:lnTo>
                    <a:pt x="379" y="70"/>
                  </a:lnTo>
                  <a:lnTo>
                    <a:pt x="379" y="74"/>
                  </a:lnTo>
                  <a:lnTo>
                    <a:pt x="388" y="75"/>
                  </a:lnTo>
                  <a:lnTo>
                    <a:pt x="397" y="75"/>
                  </a:lnTo>
                  <a:lnTo>
                    <a:pt x="432" y="49"/>
                  </a:lnTo>
                  <a:lnTo>
                    <a:pt x="439" y="44"/>
                  </a:lnTo>
                  <a:lnTo>
                    <a:pt x="441" y="43"/>
                  </a:lnTo>
                  <a:lnTo>
                    <a:pt x="443" y="58"/>
                  </a:lnTo>
                  <a:lnTo>
                    <a:pt x="450" y="65"/>
                  </a:lnTo>
                  <a:lnTo>
                    <a:pt x="459" y="69"/>
                  </a:lnTo>
                  <a:lnTo>
                    <a:pt x="485" y="69"/>
                  </a:lnTo>
                  <a:lnTo>
                    <a:pt x="538" y="59"/>
                  </a:lnTo>
                  <a:lnTo>
                    <a:pt x="527" y="89"/>
                  </a:lnTo>
                  <a:lnTo>
                    <a:pt x="534" y="94"/>
                  </a:lnTo>
                  <a:lnTo>
                    <a:pt x="585" y="77"/>
                  </a:lnTo>
                  <a:lnTo>
                    <a:pt x="594" y="72"/>
                  </a:lnTo>
                  <a:lnTo>
                    <a:pt x="576" y="104"/>
                  </a:lnTo>
                  <a:lnTo>
                    <a:pt x="569" y="107"/>
                  </a:lnTo>
                  <a:lnTo>
                    <a:pt x="576" y="112"/>
                  </a:lnTo>
                  <a:lnTo>
                    <a:pt x="589" y="110"/>
                  </a:lnTo>
                  <a:lnTo>
                    <a:pt x="638" y="79"/>
                  </a:lnTo>
                  <a:lnTo>
                    <a:pt x="651" y="77"/>
                  </a:lnTo>
                  <a:lnTo>
                    <a:pt x="656" y="77"/>
                  </a:lnTo>
                  <a:lnTo>
                    <a:pt x="671" y="64"/>
                  </a:lnTo>
                  <a:lnTo>
                    <a:pt x="680" y="59"/>
                  </a:lnTo>
                  <a:lnTo>
                    <a:pt x="676" y="64"/>
                  </a:lnTo>
                  <a:lnTo>
                    <a:pt x="691" y="69"/>
                  </a:lnTo>
                  <a:lnTo>
                    <a:pt x="702" y="63"/>
                  </a:lnTo>
                  <a:lnTo>
                    <a:pt x="742" y="54"/>
                  </a:lnTo>
                  <a:lnTo>
                    <a:pt x="789" y="36"/>
                  </a:lnTo>
                  <a:lnTo>
                    <a:pt x="818" y="29"/>
                  </a:lnTo>
                  <a:lnTo>
                    <a:pt x="833" y="28"/>
                  </a:lnTo>
                  <a:lnTo>
                    <a:pt x="851" y="30"/>
                  </a:lnTo>
                  <a:lnTo>
                    <a:pt x="851" y="40"/>
                  </a:lnTo>
                  <a:lnTo>
                    <a:pt x="827" y="64"/>
                  </a:lnTo>
                  <a:lnTo>
                    <a:pt x="822" y="81"/>
                  </a:lnTo>
                  <a:lnTo>
                    <a:pt x="824" y="86"/>
                  </a:lnTo>
                  <a:lnTo>
                    <a:pt x="835" y="97"/>
                  </a:lnTo>
                  <a:lnTo>
                    <a:pt x="851" y="101"/>
                  </a:lnTo>
                  <a:lnTo>
                    <a:pt x="893" y="97"/>
                  </a:lnTo>
                  <a:lnTo>
                    <a:pt x="982" y="74"/>
                  </a:lnTo>
                  <a:lnTo>
                    <a:pt x="995" y="69"/>
                  </a:lnTo>
                  <a:lnTo>
                    <a:pt x="973" y="101"/>
                  </a:lnTo>
                  <a:lnTo>
                    <a:pt x="973" y="105"/>
                  </a:lnTo>
                  <a:lnTo>
                    <a:pt x="968" y="107"/>
                  </a:lnTo>
                  <a:lnTo>
                    <a:pt x="982" y="114"/>
                  </a:lnTo>
                  <a:lnTo>
                    <a:pt x="1019" y="104"/>
                  </a:lnTo>
                  <a:lnTo>
                    <a:pt x="1013" y="110"/>
                  </a:lnTo>
                  <a:lnTo>
                    <a:pt x="1013" y="115"/>
                  </a:lnTo>
                  <a:lnTo>
                    <a:pt x="1022" y="119"/>
                  </a:lnTo>
                  <a:lnTo>
                    <a:pt x="1070" y="107"/>
                  </a:lnTo>
                  <a:lnTo>
                    <a:pt x="1102" y="95"/>
                  </a:lnTo>
                  <a:lnTo>
                    <a:pt x="1117" y="92"/>
                  </a:lnTo>
                  <a:lnTo>
                    <a:pt x="1124" y="114"/>
                  </a:lnTo>
                  <a:lnTo>
                    <a:pt x="1139" y="114"/>
                  </a:lnTo>
                  <a:lnTo>
                    <a:pt x="1219" y="66"/>
                  </a:lnTo>
                  <a:lnTo>
                    <a:pt x="1297" y="16"/>
                  </a:lnTo>
                  <a:lnTo>
                    <a:pt x="1305" y="15"/>
                  </a:lnTo>
                  <a:lnTo>
                    <a:pt x="1312" y="50"/>
                  </a:lnTo>
                  <a:lnTo>
                    <a:pt x="1317" y="54"/>
                  </a:lnTo>
                  <a:lnTo>
                    <a:pt x="1339" y="54"/>
                  </a:lnTo>
                  <a:lnTo>
                    <a:pt x="1379" y="39"/>
                  </a:lnTo>
                  <a:lnTo>
                    <a:pt x="1410" y="35"/>
                  </a:lnTo>
                  <a:lnTo>
                    <a:pt x="1410" y="69"/>
                  </a:lnTo>
                  <a:lnTo>
                    <a:pt x="1421" y="75"/>
                  </a:lnTo>
                  <a:lnTo>
                    <a:pt x="1436" y="75"/>
                  </a:lnTo>
                  <a:lnTo>
                    <a:pt x="1516" y="39"/>
                  </a:lnTo>
                  <a:lnTo>
                    <a:pt x="1492" y="72"/>
                  </a:lnTo>
                  <a:lnTo>
                    <a:pt x="1498" y="75"/>
                  </a:lnTo>
                  <a:lnTo>
                    <a:pt x="1512" y="74"/>
                  </a:lnTo>
                  <a:lnTo>
                    <a:pt x="1521" y="69"/>
                  </a:lnTo>
                  <a:lnTo>
                    <a:pt x="1529" y="72"/>
                  </a:lnTo>
                  <a:lnTo>
                    <a:pt x="1538" y="72"/>
                  </a:lnTo>
                  <a:lnTo>
                    <a:pt x="1572" y="55"/>
                  </a:lnTo>
                  <a:lnTo>
                    <a:pt x="1631" y="35"/>
                  </a:lnTo>
                  <a:lnTo>
                    <a:pt x="1724" y="10"/>
                  </a:lnTo>
                  <a:lnTo>
                    <a:pt x="1775" y="0"/>
                  </a:lnTo>
                  <a:lnTo>
                    <a:pt x="1775" y="20"/>
                  </a:lnTo>
                  <a:lnTo>
                    <a:pt x="1769" y="4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83520" y="4290480"/>
              <a:ext cx="3142800" cy="173160"/>
            </a:xfrm>
            <a:custGeom>
              <a:avLst/>
              <a:gdLst/>
              <a:ahLst/>
              <a:rect l="l" t="t" r="r" b="b"/>
              <a:pathLst>
                <a:path w="2405" h="160">
                  <a:moveTo>
                    <a:pt x="1363" y="23"/>
                  </a:moveTo>
                  <a:lnTo>
                    <a:pt x="1370" y="35"/>
                  </a:lnTo>
                  <a:lnTo>
                    <a:pt x="1381" y="38"/>
                  </a:lnTo>
                  <a:lnTo>
                    <a:pt x="1418" y="25"/>
                  </a:lnTo>
                  <a:lnTo>
                    <a:pt x="1430" y="25"/>
                  </a:lnTo>
                  <a:lnTo>
                    <a:pt x="1438" y="23"/>
                  </a:lnTo>
                  <a:lnTo>
                    <a:pt x="1443" y="23"/>
                  </a:lnTo>
                  <a:lnTo>
                    <a:pt x="1405" y="40"/>
                  </a:lnTo>
                  <a:lnTo>
                    <a:pt x="1410" y="42"/>
                  </a:lnTo>
                  <a:lnTo>
                    <a:pt x="1434" y="39"/>
                  </a:lnTo>
                  <a:lnTo>
                    <a:pt x="1507" y="24"/>
                  </a:lnTo>
                  <a:lnTo>
                    <a:pt x="1505" y="28"/>
                  </a:lnTo>
                  <a:lnTo>
                    <a:pt x="1461" y="50"/>
                  </a:lnTo>
                  <a:lnTo>
                    <a:pt x="1461" y="54"/>
                  </a:lnTo>
                  <a:lnTo>
                    <a:pt x="1465" y="57"/>
                  </a:lnTo>
                  <a:lnTo>
                    <a:pt x="1483" y="54"/>
                  </a:lnTo>
                  <a:lnTo>
                    <a:pt x="1487" y="53"/>
                  </a:lnTo>
                  <a:lnTo>
                    <a:pt x="1489" y="53"/>
                  </a:lnTo>
                  <a:lnTo>
                    <a:pt x="1492" y="54"/>
                  </a:lnTo>
                  <a:lnTo>
                    <a:pt x="1525" y="40"/>
                  </a:lnTo>
                  <a:lnTo>
                    <a:pt x="1560" y="29"/>
                  </a:lnTo>
                  <a:lnTo>
                    <a:pt x="1614" y="18"/>
                  </a:lnTo>
                  <a:lnTo>
                    <a:pt x="1662" y="12"/>
                  </a:lnTo>
                  <a:lnTo>
                    <a:pt x="1691" y="13"/>
                  </a:lnTo>
                  <a:lnTo>
                    <a:pt x="1645" y="32"/>
                  </a:lnTo>
                  <a:lnTo>
                    <a:pt x="1642" y="34"/>
                  </a:lnTo>
                  <a:lnTo>
                    <a:pt x="1642" y="35"/>
                  </a:lnTo>
                  <a:lnTo>
                    <a:pt x="1649" y="39"/>
                  </a:lnTo>
                  <a:lnTo>
                    <a:pt x="1671" y="38"/>
                  </a:lnTo>
                  <a:lnTo>
                    <a:pt x="1700" y="33"/>
                  </a:lnTo>
                  <a:lnTo>
                    <a:pt x="1727" y="30"/>
                  </a:lnTo>
                  <a:lnTo>
                    <a:pt x="1736" y="30"/>
                  </a:lnTo>
                  <a:lnTo>
                    <a:pt x="1731" y="38"/>
                  </a:lnTo>
                  <a:lnTo>
                    <a:pt x="1724" y="40"/>
                  </a:lnTo>
                  <a:lnTo>
                    <a:pt x="1722" y="47"/>
                  </a:lnTo>
                  <a:lnTo>
                    <a:pt x="1731" y="48"/>
                  </a:lnTo>
                  <a:lnTo>
                    <a:pt x="1782" y="42"/>
                  </a:lnTo>
                  <a:lnTo>
                    <a:pt x="1793" y="42"/>
                  </a:lnTo>
                  <a:lnTo>
                    <a:pt x="1795" y="45"/>
                  </a:lnTo>
                  <a:lnTo>
                    <a:pt x="1795" y="47"/>
                  </a:lnTo>
                  <a:lnTo>
                    <a:pt x="1791" y="48"/>
                  </a:lnTo>
                  <a:lnTo>
                    <a:pt x="1793" y="55"/>
                  </a:lnTo>
                  <a:lnTo>
                    <a:pt x="1809" y="61"/>
                  </a:lnTo>
                  <a:lnTo>
                    <a:pt x="1826" y="59"/>
                  </a:lnTo>
                  <a:lnTo>
                    <a:pt x="1851" y="52"/>
                  </a:lnTo>
                  <a:lnTo>
                    <a:pt x="1900" y="48"/>
                  </a:lnTo>
                  <a:lnTo>
                    <a:pt x="1920" y="49"/>
                  </a:lnTo>
                  <a:lnTo>
                    <a:pt x="1895" y="58"/>
                  </a:lnTo>
                  <a:lnTo>
                    <a:pt x="1895" y="59"/>
                  </a:lnTo>
                  <a:lnTo>
                    <a:pt x="1915" y="59"/>
                  </a:lnTo>
                  <a:lnTo>
                    <a:pt x="1926" y="58"/>
                  </a:lnTo>
                  <a:lnTo>
                    <a:pt x="1935" y="58"/>
                  </a:lnTo>
                  <a:lnTo>
                    <a:pt x="1942" y="64"/>
                  </a:lnTo>
                  <a:lnTo>
                    <a:pt x="1944" y="66"/>
                  </a:lnTo>
                  <a:lnTo>
                    <a:pt x="1951" y="68"/>
                  </a:lnTo>
                  <a:lnTo>
                    <a:pt x="1988" y="63"/>
                  </a:lnTo>
                  <a:lnTo>
                    <a:pt x="1997" y="73"/>
                  </a:lnTo>
                  <a:lnTo>
                    <a:pt x="2004" y="75"/>
                  </a:lnTo>
                  <a:lnTo>
                    <a:pt x="2022" y="66"/>
                  </a:lnTo>
                  <a:lnTo>
                    <a:pt x="2033" y="63"/>
                  </a:lnTo>
                  <a:lnTo>
                    <a:pt x="2044" y="63"/>
                  </a:lnTo>
                  <a:lnTo>
                    <a:pt x="2046" y="63"/>
                  </a:lnTo>
                  <a:lnTo>
                    <a:pt x="2099" y="58"/>
                  </a:lnTo>
                  <a:lnTo>
                    <a:pt x="2095" y="60"/>
                  </a:lnTo>
                  <a:lnTo>
                    <a:pt x="2095" y="63"/>
                  </a:lnTo>
                  <a:lnTo>
                    <a:pt x="2106" y="64"/>
                  </a:lnTo>
                  <a:lnTo>
                    <a:pt x="2119" y="63"/>
                  </a:lnTo>
                  <a:lnTo>
                    <a:pt x="2121" y="69"/>
                  </a:lnTo>
                  <a:lnTo>
                    <a:pt x="2126" y="70"/>
                  </a:lnTo>
                  <a:lnTo>
                    <a:pt x="2148" y="69"/>
                  </a:lnTo>
                  <a:lnTo>
                    <a:pt x="2181" y="64"/>
                  </a:lnTo>
                  <a:lnTo>
                    <a:pt x="2186" y="64"/>
                  </a:lnTo>
                  <a:lnTo>
                    <a:pt x="2186" y="65"/>
                  </a:lnTo>
                  <a:lnTo>
                    <a:pt x="2183" y="66"/>
                  </a:lnTo>
                  <a:lnTo>
                    <a:pt x="2192" y="69"/>
                  </a:lnTo>
                  <a:lnTo>
                    <a:pt x="2234" y="66"/>
                  </a:lnTo>
                  <a:lnTo>
                    <a:pt x="2234" y="74"/>
                  </a:lnTo>
                  <a:lnTo>
                    <a:pt x="2245" y="79"/>
                  </a:lnTo>
                  <a:lnTo>
                    <a:pt x="2261" y="78"/>
                  </a:lnTo>
                  <a:lnTo>
                    <a:pt x="2268" y="78"/>
                  </a:lnTo>
                  <a:lnTo>
                    <a:pt x="2272" y="81"/>
                  </a:lnTo>
                  <a:lnTo>
                    <a:pt x="2279" y="85"/>
                  </a:lnTo>
                  <a:lnTo>
                    <a:pt x="2296" y="84"/>
                  </a:lnTo>
                  <a:lnTo>
                    <a:pt x="2341" y="69"/>
                  </a:lnTo>
                  <a:lnTo>
                    <a:pt x="2358" y="69"/>
                  </a:lnTo>
                  <a:lnTo>
                    <a:pt x="2367" y="76"/>
                  </a:lnTo>
                  <a:lnTo>
                    <a:pt x="2372" y="76"/>
                  </a:lnTo>
                  <a:lnTo>
                    <a:pt x="2378" y="85"/>
                  </a:lnTo>
                  <a:lnTo>
                    <a:pt x="2405" y="94"/>
                  </a:lnTo>
                  <a:lnTo>
                    <a:pt x="2401" y="100"/>
                  </a:lnTo>
                  <a:lnTo>
                    <a:pt x="2370" y="113"/>
                  </a:lnTo>
                  <a:lnTo>
                    <a:pt x="2372" y="114"/>
                  </a:lnTo>
                  <a:lnTo>
                    <a:pt x="2358" y="119"/>
                  </a:lnTo>
                  <a:lnTo>
                    <a:pt x="2321" y="122"/>
                  </a:lnTo>
                  <a:lnTo>
                    <a:pt x="2281" y="126"/>
                  </a:lnTo>
                  <a:lnTo>
                    <a:pt x="2221" y="135"/>
                  </a:lnTo>
                  <a:lnTo>
                    <a:pt x="2057" y="144"/>
                  </a:lnTo>
                  <a:lnTo>
                    <a:pt x="1973" y="149"/>
                  </a:lnTo>
                  <a:lnTo>
                    <a:pt x="1902" y="151"/>
                  </a:lnTo>
                  <a:lnTo>
                    <a:pt x="1738" y="152"/>
                  </a:lnTo>
                  <a:lnTo>
                    <a:pt x="1709" y="155"/>
                  </a:lnTo>
                  <a:lnTo>
                    <a:pt x="1611" y="154"/>
                  </a:lnTo>
                  <a:lnTo>
                    <a:pt x="1578" y="147"/>
                  </a:lnTo>
                  <a:lnTo>
                    <a:pt x="1540" y="144"/>
                  </a:lnTo>
                  <a:lnTo>
                    <a:pt x="1430" y="145"/>
                  </a:lnTo>
                  <a:lnTo>
                    <a:pt x="1334" y="152"/>
                  </a:lnTo>
                  <a:lnTo>
                    <a:pt x="1232" y="160"/>
                  </a:lnTo>
                  <a:lnTo>
                    <a:pt x="1179" y="157"/>
                  </a:lnTo>
                  <a:lnTo>
                    <a:pt x="1137" y="154"/>
                  </a:lnTo>
                  <a:lnTo>
                    <a:pt x="1115" y="154"/>
                  </a:lnTo>
                  <a:lnTo>
                    <a:pt x="1088" y="147"/>
                  </a:lnTo>
                  <a:lnTo>
                    <a:pt x="1046" y="147"/>
                  </a:lnTo>
                  <a:lnTo>
                    <a:pt x="993" y="144"/>
                  </a:lnTo>
                  <a:lnTo>
                    <a:pt x="984" y="144"/>
                  </a:lnTo>
                  <a:lnTo>
                    <a:pt x="940" y="135"/>
                  </a:lnTo>
                  <a:lnTo>
                    <a:pt x="911" y="134"/>
                  </a:lnTo>
                  <a:lnTo>
                    <a:pt x="796" y="141"/>
                  </a:lnTo>
                  <a:lnTo>
                    <a:pt x="749" y="144"/>
                  </a:lnTo>
                  <a:lnTo>
                    <a:pt x="649" y="149"/>
                  </a:lnTo>
                  <a:lnTo>
                    <a:pt x="583" y="146"/>
                  </a:lnTo>
                  <a:lnTo>
                    <a:pt x="498" y="132"/>
                  </a:lnTo>
                  <a:lnTo>
                    <a:pt x="465" y="131"/>
                  </a:lnTo>
                  <a:lnTo>
                    <a:pt x="439" y="125"/>
                  </a:lnTo>
                  <a:lnTo>
                    <a:pt x="425" y="119"/>
                  </a:lnTo>
                  <a:lnTo>
                    <a:pt x="401" y="115"/>
                  </a:lnTo>
                  <a:lnTo>
                    <a:pt x="277" y="114"/>
                  </a:lnTo>
                  <a:lnTo>
                    <a:pt x="257" y="113"/>
                  </a:lnTo>
                  <a:lnTo>
                    <a:pt x="177" y="113"/>
                  </a:lnTo>
                  <a:lnTo>
                    <a:pt x="122" y="106"/>
                  </a:lnTo>
                  <a:lnTo>
                    <a:pt x="99" y="104"/>
                  </a:lnTo>
                  <a:lnTo>
                    <a:pt x="75" y="101"/>
                  </a:lnTo>
                  <a:lnTo>
                    <a:pt x="46" y="94"/>
                  </a:lnTo>
                  <a:lnTo>
                    <a:pt x="15" y="80"/>
                  </a:lnTo>
                  <a:lnTo>
                    <a:pt x="2" y="73"/>
                  </a:lnTo>
                  <a:lnTo>
                    <a:pt x="0" y="63"/>
                  </a:lnTo>
                  <a:lnTo>
                    <a:pt x="6" y="60"/>
                  </a:lnTo>
                  <a:lnTo>
                    <a:pt x="2" y="47"/>
                  </a:lnTo>
                  <a:lnTo>
                    <a:pt x="2" y="40"/>
                  </a:lnTo>
                  <a:lnTo>
                    <a:pt x="9" y="38"/>
                  </a:lnTo>
                  <a:lnTo>
                    <a:pt x="44" y="35"/>
                  </a:lnTo>
                  <a:lnTo>
                    <a:pt x="62" y="35"/>
                  </a:lnTo>
                  <a:lnTo>
                    <a:pt x="79" y="39"/>
                  </a:lnTo>
                  <a:lnTo>
                    <a:pt x="79" y="40"/>
                  </a:lnTo>
                  <a:lnTo>
                    <a:pt x="113" y="40"/>
                  </a:lnTo>
                  <a:lnTo>
                    <a:pt x="139" y="45"/>
                  </a:lnTo>
                  <a:lnTo>
                    <a:pt x="157" y="43"/>
                  </a:lnTo>
                  <a:lnTo>
                    <a:pt x="181" y="29"/>
                  </a:lnTo>
                  <a:lnTo>
                    <a:pt x="201" y="27"/>
                  </a:lnTo>
                  <a:lnTo>
                    <a:pt x="208" y="28"/>
                  </a:lnTo>
                  <a:lnTo>
                    <a:pt x="219" y="33"/>
                  </a:lnTo>
                  <a:lnTo>
                    <a:pt x="237" y="35"/>
                  </a:lnTo>
                  <a:lnTo>
                    <a:pt x="244" y="39"/>
                  </a:lnTo>
                  <a:lnTo>
                    <a:pt x="250" y="39"/>
                  </a:lnTo>
                  <a:lnTo>
                    <a:pt x="250" y="40"/>
                  </a:lnTo>
                  <a:lnTo>
                    <a:pt x="261" y="42"/>
                  </a:lnTo>
                  <a:lnTo>
                    <a:pt x="286" y="32"/>
                  </a:lnTo>
                  <a:lnTo>
                    <a:pt x="292" y="38"/>
                  </a:lnTo>
                  <a:lnTo>
                    <a:pt x="292" y="39"/>
                  </a:lnTo>
                  <a:lnTo>
                    <a:pt x="299" y="40"/>
                  </a:lnTo>
                  <a:lnTo>
                    <a:pt x="306" y="40"/>
                  </a:lnTo>
                  <a:lnTo>
                    <a:pt x="332" y="27"/>
                  </a:lnTo>
                  <a:lnTo>
                    <a:pt x="337" y="23"/>
                  </a:lnTo>
                  <a:lnTo>
                    <a:pt x="339" y="23"/>
                  </a:lnTo>
                  <a:lnTo>
                    <a:pt x="341" y="30"/>
                  </a:lnTo>
                  <a:lnTo>
                    <a:pt x="345" y="35"/>
                  </a:lnTo>
                  <a:lnTo>
                    <a:pt x="352" y="37"/>
                  </a:lnTo>
                  <a:lnTo>
                    <a:pt x="372" y="37"/>
                  </a:lnTo>
                  <a:lnTo>
                    <a:pt x="414" y="32"/>
                  </a:lnTo>
                  <a:lnTo>
                    <a:pt x="405" y="48"/>
                  </a:lnTo>
                  <a:lnTo>
                    <a:pt x="412" y="50"/>
                  </a:lnTo>
                  <a:lnTo>
                    <a:pt x="450" y="42"/>
                  </a:lnTo>
                  <a:lnTo>
                    <a:pt x="456" y="39"/>
                  </a:lnTo>
                  <a:lnTo>
                    <a:pt x="443" y="55"/>
                  </a:lnTo>
                  <a:lnTo>
                    <a:pt x="439" y="58"/>
                  </a:lnTo>
                  <a:lnTo>
                    <a:pt x="443" y="60"/>
                  </a:lnTo>
                  <a:lnTo>
                    <a:pt x="452" y="59"/>
                  </a:lnTo>
                  <a:lnTo>
                    <a:pt x="492" y="42"/>
                  </a:lnTo>
                  <a:lnTo>
                    <a:pt x="501" y="42"/>
                  </a:lnTo>
                  <a:lnTo>
                    <a:pt x="505" y="42"/>
                  </a:lnTo>
                  <a:lnTo>
                    <a:pt x="516" y="34"/>
                  </a:lnTo>
                  <a:lnTo>
                    <a:pt x="523" y="32"/>
                  </a:lnTo>
                  <a:lnTo>
                    <a:pt x="521" y="34"/>
                  </a:lnTo>
                  <a:lnTo>
                    <a:pt x="532" y="37"/>
                  </a:lnTo>
                  <a:lnTo>
                    <a:pt x="541" y="33"/>
                  </a:lnTo>
                  <a:lnTo>
                    <a:pt x="572" y="29"/>
                  </a:lnTo>
                  <a:lnTo>
                    <a:pt x="607" y="20"/>
                  </a:lnTo>
                  <a:lnTo>
                    <a:pt x="629" y="15"/>
                  </a:lnTo>
                  <a:lnTo>
                    <a:pt x="640" y="14"/>
                  </a:lnTo>
                  <a:lnTo>
                    <a:pt x="656" y="17"/>
                  </a:lnTo>
                  <a:lnTo>
                    <a:pt x="656" y="22"/>
                  </a:lnTo>
                  <a:lnTo>
                    <a:pt x="636" y="34"/>
                  </a:lnTo>
                  <a:lnTo>
                    <a:pt x="631" y="44"/>
                  </a:lnTo>
                  <a:lnTo>
                    <a:pt x="634" y="47"/>
                  </a:lnTo>
                  <a:lnTo>
                    <a:pt x="645" y="52"/>
                  </a:lnTo>
                  <a:lnTo>
                    <a:pt x="656" y="54"/>
                  </a:lnTo>
                  <a:lnTo>
                    <a:pt x="687" y="52"/>
                  </a:lnTo>
                  <a:lnTo>
                    <a:pt x="756" y="39"/>
                  </a:lnTo>
                  <a:lnTo>
                    <a:pt x="767" y="37"/>
                  </a:lnTo>
                  <a:lnTo>
                    <a:pt x="749" y="54"/>
                  </a:lnTo>
                  <a:lnTo>
                    <a:pt x="749" y="57"/>
                  </a:lnTo>
                  <a:lnTo>
                    <a:pt x="747" y="58"/>
                  </a:lnTo>
                  <a:lnTo>
                    <a:pt x="756" y="60"/>
                  </a:lnTo>
                  <a:lnTo>
                    <a:pt x="784" y="55"/>
                  </a:lnTo>
                  <a:lnTo>
                    <a:pt x="780" y="59"/>
                  </a:lnTo>
                  <a:lnTo>
                    <a:pt x="780" y="61"/>
                  </a:lnTo>
                  <a:lnTo>
                    <a:pt x="787" y="63"/>
                  </a:lnTo>
                  <a:lnTo>
                    <a:pt x="824" y="58"/>
                  </a:lnTo>
                  <a:lnTo>
                    <a:pt x="849" y="52"/>
                  </a:lnTo>
                  <a:lnTo>
                    <a:pt x="860" y="49"/>
                  </a:lnTo>
                  <a:lnTo>
                    <a:pt x="864" y="60"/>
                  </a:lnTo>
                  <a:lnTo>
                    <a:pt x="878" y="60"/>
                  </a:lnTo>
                  <a:lnTo>
                    <a:pt x="940" y="35"/>
                  </a:lnTo>
                  <a:lnTo>
                    <a:pt x="999" y="9"/>
                  </a:lnTo>
                  <a:lnTo>
                    <a:pt x="1006" y="8"/>
                  </a:lnTo>
                  <a:lnTo>
                    <a:pt x="1011" y="27"/>
                  </a:lnTo>
                  <a:lnTo>
                    <a:pt x="1015" y="29"/>
                  </a:lnTo>
                  <a:lnTo>
                    <a:pt x="1031" y="29"/>
                  </a:lnTo>
                  <a:lnTo>
                    <a:pt x="1062" y="20"/>
                  </a:lnTo>
                  <a:lnTo>
                    <a:pt x="1086" y="19"/>
                  </a:lnTo>
                  <a:lnTo>
                    <a:pt x="1086" y="37"/>
                  </a:lnTo>
                  <a:lnTo>
                    <a:pt x="1095" y="40"/>
                  </a:lnTo>
                  <a:lnTo>
                    <a:pt x="1106" y="40"/>
                  </a:lnTo>
                  <a:lnTo>
                    <a:pt x="1168" y="20"/>
                  </a:lnTo>
                  <a:lnTo>
                    <a:pt x="1148" y="39"/>
                  </a:lnTo>
                  <a:lnTo>
                    <a:pt x="1152" y="40"/>
                  </a:lnTo>
                  <a:lnTo>
                    <a:pt x="1166" y="39"/>
                  </a:lnTo>
                  <a:lnTo>
                    <a:pt x="1172" y="37"/>
                  </a:lnTo>
                  <a:lnTo>
                    <a:pt x="1179" y="39"/>
                  </a:lnTo>
                  <a:lnTo>
                    <a:pt x="1186" y="39"/>
                  </a:lnTo>
                  <a:lnTo>
                    <a:pt x="1210" y="29"/>
                  </a:lnTo>
                  <a:lnTo>
                    <a:pt x="1254" y="19"/>
                  </a:lnTo>
                  <a:lnTo>
                    <a:pt x="1328" y="5"/>
                  </a:lnTo>
                  <a:lnTo>
                    <a:pt x="1368" y="0"/>
                  </a:lnTo>
                  <a:lnTo>
                    <a:pt x="1368" y="12"/>
                  </a:lnTo>
                  <a:lnTo>
                    <a:pt x="1363" y="2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02640" y="4260240"/>
              <a:ext cx="36360" cy="2988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26"/>
                  </a:moveTo>
                  <a:lnTo>
                    <a:pt x="2" y="26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8" y="4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90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52440" y="4290480"/>
              <a:ext cx="214200" cy="84240"/>
            </a:xfrm>
            <a:custGeom>
              <a:avLst/>
              <a:gdLst/>
              <a:ahLst/>
              <a:rect l="l" t="t" r="r" b="b"/>
              <a:pathLst>
                <a:path w="164" h="78">
                  <a:moveTo>
                    <a:pt x="159" y="8"/>
                  </a:moveTo>
                  <a:lnTo>
                    <a:pt x="161" y="5"/>
                  </a:lnTo>
                  <a:lnTo>
                    <a:pt x="157" y="2"/>
                  </a:lnTo>
                  <a:lnTo>
                    <a:pt x="119" y="9"/>
                  </a:lnTo>
                  <a:lnTo>
                    <a:pt x="55" y="38"/>
                  </a:lnTo>
                  <a:lnTo>
                    <a:pt x="11" y="68"/>
                  </a:lnTo>
                  <a:lnTo>
                    <a:pt x="6" y="74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17" y="57"/>
                  </a:lnTo>
                  <a:lnTo>
                    <a:pt x="46" y="43"/>
                  </a:lnTo>
                  <a:lnTo>
                    <a:pt x="88" y="22"/>
                  </a:lnTo>
                  <a:lnTo>
                    <a:pt x="130" y="7"/>
                  </a:lnTo>
                  <a:lnTo>
                    <a:pt x="159" y="0"/>
                  </a:lnTo>
                  <a:lnTo>
                    <a:pt x="164" y="3"/>
                  </a:lnTo>
                  <a:lnTo>
                    <a:pt x="15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5040" y="4298040"/>
              <a:ext cx="66600" cy="1368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44" y="13"/>
                  </a:moveTo>
                  <a:lnTo>
                    <a:pt x="49" y="7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4" y="7"/>
                  </a:lnTo>
                  <a:lnTo>
                    <a:pt x="0" y="10"/>
                  </a:lnTo>
                  <a:lnTo>
                    <a:pt x="22" y="1"/>
                  </a:lnTo>
                  <a:lnTo>
                    <a:pt x="31" y="0"/>
                  </a:lnTo>
                  <a:lnTo>
                    <a:pt x="51" y="1"/>
                  </a:lnTo>
                  <a:lnTo>
                    <a:pt x="4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66760" y="4309920"/>
              <a:ext cx="176400" cy="7560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6" y="68"/>
                  </a:moveTo>
                  <a:lnTo>
                    <a:pt x="6" y="70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69" y="29"/>
                  </a:lnTo>
                  <a:lnTo>
                    <a:pt x="91" y="17"/>
                  </a:lnTo>
                  <a:lnTo>
                    <a:pt x="95" y="19"/>
                  </a:lnTo>
                  <a:lnTo>
                    <a:pt x="124" y="5"/>
                  </a:lnTo>
                  <a:lnTo>
                    <a:pt x="135" y="0"/>
                  </a:lnTo>
                  <a:lnTo>
                    <a:pt x="42" y="43"/>
                  </a:lnTo>
                  <a:lnTo>
                    <a:pt x="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41360" y="4312080"/>
              <a:ext cx="156600" cy="49680"/>
            </a:xfrm>
            <a:custGeom>
              <a:avLst/>
              <a:gdLst/>
              <a:ahLst/>
              <a:rect l="l" t="t" r="r" b="b"/>
              <a:pathLst>
                <a:path w="120" h="46">
                  <a:moveTo>
                    <a:pt x="93" y="3"/>
                  </a:moveTo>
                  <a:lnTo>
                    <a:pt x="29" y="29"/>
                  </a:lnTo>
                  <a:lnTo>
                    <a:pt x="2" y="46"/>
                  </a:lnTo>
                  <a:lnTo>
                    <a:pt x="0" y="46"/>
                  </a:lnTo>
                  <a:lnTo>
                    <a:pt x="0" y="41"/>
                  </a:lnTo>
                  <a:lnTo>
                    <a:pt x="47" y="17"/>
                  </a:lnTo>
                  <a:lnTo>
                    <a:pt x="96" y="2"/>
                  </a:lnTo>
                  <a:lnTo>
                    <a:pt x="113" y="0"/>
                  </a:lnTo>
                  <a:lnTo>
                    <a:pt x="120" y="3"/>
                  </a:lnTo>
                  <a:lnTo>
                    <a:pt x="9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67560" y="4315320"/>
              <a:ext cx="203760" cy="60480"/>
            </a:xfrm>
            <a:custGeom>
              <a:avLst/>
              <a:gdLst/>
              <a:ahLst/>
              <a:rect l="l" t="t" r="r" b="b"/>
              <a:pathLst>
                <a:path w="156" h="56">
                  <a:moveTo>
                    <a:pt x="129" y="10"/>
                  </a:moveTo>
                  <a:lnTo>
                    <a:pt x="111" y="24"/>
                  </a:lnTo>
                  <a:lnTo>
                    <a:pt x="118" y="26"/>
                  </a:lnTo>
                  <a:lnTo>
                    <a:pt x="125" y="24"/>
                  </a:lnTo>
                  <a:lnTo>
                    <a:pt x="127" y="25"/>
                  </a:lnTo>
                  <a:lnTo>
                    <a:pt x="151" y="19"/>
                  </a:lnTo>
                  <a:lnTo>
                    <a:pt x="156" y="19"/>
                  </a:lnTo>
                  <a:lnTo>
                    <a:pt x="116" y="32"/>
                  </a:lnTo>
                  <a:lnTo>
                    <a:pt x="96" y="30"/>
                  </a:lnTo>
                  <a:lnTo>
                    <a:pt x="96" y="25"/>
                  </a:lnTo>
                  <a:lnTo>
                    <a:pt x="118" y="10"/>
                  </a:lnTo>
                  <a:lnTo>
                    <a:pt x="111" y="6"/>
                  </a:lnTo>
                  <a:lnTo>
                    <a:pt x="9" y="56"/>
                  </a:lnTo>
                  <a:lnTo>
                    <a:pt x="0" y="55"/>
                  </a:lnTo>
                  <a:lnTo>
                    <a:pt x="56" y="29"/>
                  </a:lnTo>
                  <a:lnTo>
                    <a:pt x="96" y="14"/>
                  </a:lnTo>
                  <a:lnTo>
                    <a:pt x="125" y="0"/>
                  </a:lnTo>
                  <a:lnTo>
                    <a:pt x="136" y="0"/>
                  </a:lnTo>
                  <a:lnTo>
                    <a:pt x="12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22440" y="4315320"/>
              <a:ext cx="84600" cy="27720"/>
            </a:xfrm>
            <a:custGeom>
              <a:avLst/>
              <a:gdLst/>
              <a:ahLst/>
              <a:rect l="l" t="t" r="r" b="b"/>
              <a:pathLst>
                <a:path w="65" h="26">
                  <a:moveTo>
                    <a:pt x="63" y="9"/>
                  </a:moveTo>
                  <a:lnTo>
                    <a:pt x="5" y="26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40" y="9"/>
                  </a:lnTo>
                  <a:lnTo>
                    <a:pt x="45" y="6"/>
                  </a:lnTo>
                  <a:lnTo>
                    <a:pt x="45" y="5"/>
                  </a:lnTo>
                  <a:lnTo>
                    <a:pt x="23" y="5"/>
                  </a:lnTo>
                  <a:lnTo>
                    <a:pt x="12" y="9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383480" y="4317480"/>
              <a:ext cx="112320" cy="5868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39" y="4"/>
                  </a:moveTo>
                  <a:lnTo>
                    <a:pt x="13" y="22"/>
                  </a:lnTo>
                  <a:lnTo>
                    <a:pt x="31" y="22"/>
                  </a:lnTo>
                  <a:lnTo>
                    <a:pt x="39" y="18"/>
                  </a:lnTo>
                  <a:lnTo>
                    <a:pt x="79" y="18"/>
                  </a:lnTo>
                  <a:lnTo>
                    <a:pt x="86" y="24"/>
                  </a:lnTo>
                  <a:lnTo>
                    <a:pt x="77" y="51"/>
                  </a:lnTo>
                  <a:lnTo>
                    <a:pt x="77" y="54"/>
                  </a:lnTo>
                  <a:lnTo>
                    <a:pt x="68" y="5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22" y="27"/>
                  </a:lnTo>
                  <a:lnTo>
                    <a:pt x="4" y="24"/>
                  </a:lnTo>
                  <a:lnTo>
                    <a:pt x="0" y="19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38720" y="4320720"/>
              <a:ext cx="95400" cy="32400"/>
            </a:xfrm>
            <a:custGeom>
              <a:avLst/>
              <a:gdLst/>
              <a:ahLst/>
              <a:rect l="l" t="t" r="r" b="b"/>
              <a:pathLst>
                <a:path w="73" h="30">
                  <a:moveTo>
                    <a:pt x="18" y="21"/>
                  </a:moveTo>
                  <a:lnTo>
                    <a:pt x="18" y="29"/>
                  </a:lnTo>
                  <a:lnTo>
                    <a:pt x="11" y="30"/>
                  </a:lnTo>
                  <a:lnTo>
                    <a:pt x="2" y="30"/>
                  </a:lnTo>
                  <a:lnTo>
                    <a:pt x="0" y="29"/>
                  </a:lnTo>
                  <a:lnTo>
                    <a:pt x="13" y="16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20080" y="4320720"/>
              <a:ext cx="109440" cy="432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2" y="7"/>
                  </a:moveTo>
                  <a:lnTo>
                    <a:pt x="27" y="30"/>
                  </a:lnTo>
                  <a:lnTo>
                    <a:pt x="22" y="31"/>
                  </a:lnTo>
                  <a:lnTo>
                    <a:pt x="29" y="33"/>
                  </a:lnTo>
                  <a:lnTo>
                    <a:pt x="38" y="33"/>
                  </a:lnTo>
                  <a:lnTo>
                    <a:pt x="20" y="40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67" y="9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28840" y="4326480"/>
              <a:ext cx="141120" cy="39960"/>
            </a:xfrm>
            <a:custGeom>
              <a:avLst/>
              <a:gdLst/>
              <a:ahLst/>
              <a:rect l="l" t="t" r="r" b="b"/>
              <a:pathLst>
                <a:path w="108" h="37">
                  <a:moveTo>
                    <a:pt x="62" y="11"/>
                  </a:moveTo>
                  <a:lnTo>
                    <a:pt x="9" y="35"/>
                  </a:lnTo>
                  <a:lnTo>
                    <a:pt x="6" y="37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44" y="19"/>
                  </a:lnTo>
                  <a:lnTo>
                    <a:pt x="69" y="7"/>
                  </a:lnTo>
                  <a:lnTo>
                    <a:pt x="97" y="2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82120" y="4328640"/>
              <a:ext cx="34920" cy="5400"/>
            </a:xfrm>
            <a:custGeom>
              <a:avLst/>
              <a:gdLst/>
              <a:ahLst/>
              <a:rect l="l" t="t" r="r" b="b"/>
              <a:pathLst>
                <a:path w="27" h="5">
                  <a:moveTo>
                    <a:pt x="0" y="5"/>
                  </a:moveTo>
                  <a:lnTo>
                    <a:pt x="18" y="0"/>
                  </a:lnTo>
                  <a:lnTo>
                    <a:pt x="2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59400" y="4334040"/>
              <a:ext cx="28440" cy="1296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22" y="2"/>
                  </a:moveTo>
                  <a:lnTo>
                    <a:pt x="17" y="7"/>
                  </a:lnTo>
                  <a:lnTo>
                    <a:pt x="6" y="12"/>
                  </a:lnTo>
                  <a:lnTo>
                    <a:pt x="6" y="2"/>
                  </a:lnTo>
                  <a:lnTo>
                    <a:pt x="0" y="3"/>
                  </a:lnTo>
                  <a:lnTo>
                    <a:pt x="4" y="0"/>
                  </a:lnTo>
                  <a:lnTo>
                    <a:pt x="20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33240" y="4347000"/>
              <a:ext cx="126720" cy="4536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62" y="11"/>
                  </a:moveTo>
                  <a:lnTo>
                    <a:pt x="24" y="31"/>
                  </a:lnTo>
                  <a:lnTo>
                    <a:pt x="2" y="42"/>
                  </a:lnTo>
                  <a:lnTo>
                    <a:pt x="0" y="42"/>
                  </a:lnTo>
                  <a:lnTo>
                    <a:pt x="15" y="31"/>
                  </a:lnTo>
                  <a:lnTo>
                    <a:pt x="68" y="7"/>
                  </a:lnTo>
                  <a:lnTo>
                    <a:pt x="95" y="0"/>
                  </a:lnTo>
                  <a:lnTo>
                    <a:pt x="97" y="1"/>
                  </a:lnTo>
                  <a:lnTo>
                    <a:pt x="6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26480" y="4353480"/>
              <a:ext cx="63720" cy="345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2" y="26"/>
                  </a:moveTo>
                  <a:lnTo>
                    <a:pt x="13" y="32"/>
                  </a:lnTo>
                  <a:lnTo>
                    <a:pt x="9" y="32"/>
                  </a:lnTo>
                  <a:lnTo>
                    <a:pt x="0" y="26"/>
                  </a:lnTo>
                  <a:lnTo>
                    <a:pt x="13" y="18"/>
                  </a:lnTo>
                  <a:lnTo>
                    <a:pt x="24" y="16"/>
                  </a:lnTo>
                  <a:lnTo>
                    <a:pt x="42" y="0"/>
                  </a:lnTo>
                  <a:lnTo>
                    <a:pt x="49" y="3"/>
                  </a:lnTo>
                  <a:lnTo>
                    <a:pt x="22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4200" y="4353480"/>
              <a:ext cx="86040" cy="27000"/>
            </a:xfrm>
            <a:custGeom>
              <a:avLst/>
              <a:gdLst/>
              <a:ahLst/>
              <a:rect l="l" t="t" r="r" b="b"/>
              <a:pathLst>
                <a:path w="66" h="25">
                  <a:moveTo>
                    <a:pt x="66" y="3"/>
                  </a:moveTo>
                  <a:lnTo>
                    <a:pt x="38" y="5"/>
                  </a:lnTo>
                  <a:lnTo>
                    <a:pt x="18" y="10"/>
                  </a:lnTo>
                  <a:lnTo>
                    <a:pt x="4" y="18"/>
                  </a:lnTo>
                  <a:lnTo>
                    <a:pt x="7" y="23"/>
                  </a:lnTo>
                  <a:lnTo>
                    <a:pt x="4" y="25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7" y="8"/>
                  </a:lnTo>
                  <a:lnTo>
                    <a:pt x="26" y="1"/>
                  </a:lnTo>
                  <a:lnTo>
                    <a:pt x="35" y="0"/>
                  </a:lnTo>
                  <a:lnTo>
                    <a:pt x="64" y="1"/>
                  </a:lnTo>
                  <a:lnTo>
                    <a:pt x="6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55320" y="4361760"/>
              <a:ext cx="125640" cy="29160"/>
            </a:xfrm>
            <a:custGeom>
              <a:avLst/>
              <a:gdLst/>
              <a:ahLst/>
              <a:rect l="l" t="t" r="r" b="b"/>
              <a:pathLst>
                <a:path w="96" h="27">
                  <a:moveTo>
                    <a:pt x="96" y="4"/>
                  </a:moveTo>
                  <a:lnTo>
                    <a:pt x="65" y="4"/>
                  </a:lnTo>
                  <a:lnTo>
                    <a:pt x="27" y="15"/>
                  </a:lnTo>
                  <a:lnTo>
                    <a:pt x="20" y="20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31" y="8"/>
                  </a:lnTo>
                  <a:lnTo>
                    <a:pt x="56" y="5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1800" y="4372560"/>
              <a:ext cx="63720" cy="19440"/>
            </a:xfrm>
            <a:custGeom>
              <a:avLst/>
              <a:gdLst/>
              <a:ahLst/>
              <a:rect l="l" t="t" r="r" b="b"/>
              <a:pathLst>
                <a:path w="49" h="18">
                  <a:moveTo>
                    <a:pt x="14" y="14"/>
                  </a:moveTo>
                  <a:lnTo>
                    <a:pt x="14" y="15"/>
                  </a:lnTo>
                  <a:lnTo>
                    <a:pt x="9" y="18"/>
                  </a:lnTo>
                  <a:lnTo>
                    <a:pt x="0" y="18"/>
                  </a:lnTo>
                  <a:lnTo>
                    <a:pt x="9" y="8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1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50960" y="4375080"/>
              <a:ext cx="66600" cy="2268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23" y="10"/>
                  </a:moveTo>
                  <a:lnTo>
                    <a:pt x="0" y="21"/>
                  </a:lnTo>
                  <a:lnTo>
                    <a:pt x="9" y="1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2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28760" y="4380480"/>
              <a:ext cx="107280" cy="17280"/>
            </a:xfrm>
            <a:custGeom>
              <a:avLst/>
              <a:gdLst/>
              <a:ahLst/>
              <a:rect l="l" t="t" r="r" b="b"/>
              <a:pathLst>
                <a:path w="82" h="16">
                  <a:moveTo>
                    <a:pt x="2" y="16"/>
                  </a:moveTo>
                  <a:lnTo>
                    <a:pt x="0" y="15"/>
                  </a:lnTo>
                  <a:lnTo>
                    <a:pt x="0" y="13"/>
                  </a:lnTo>
                  <a:lnTo>
                    <a:pt x="73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24640" y="2871720"/>
              <a:ext cx="797040" cy="1350000"/>
            </a:xfrm>
            <a:custGeom>
              <a:avLst/>
              <a:gdLst/>
              <a:ahLst/>
              <a:rect l="l" t="t" r="r" b="b"/>
              <a:pathLst>
                <a:path w="610" h="1247">
                  <a:moveTo>
                    <a:pt x="574" y="40"/>
                  </a:moveTo>
                  <a:lnTo>
                    <a:pt x="71" y="81"/>
                  </a:lnTo>
                  <a:lnTo>
                    <a:pt x="71" y="169"/>
                  </a:lnTo>
                  <a:lnTo>
                    <a:pt x="187" y="215"/>
                  </a:lnTo>
                  <a:lnTo>
                    <a:pt x="397" y="269"/>
                  </a:lnTo>
                  <a:lnTo>
                    <a:pt x="406" y="367"/>
                  </a:lnTo>
                  <a:lnTo>
                    <a:pt x="399" y="342"/>
                  </a:lnTo>
                  <a:lnTo>
                    <a:pt x="379" y="322"/>
                  </a:lnTo>
                  <a:lnTo>
                    <a:pt x="371" y="304"/>
                  </a:lnTo>
                  <a:lnTo>
                    <a:pt x="317" y="285"/>
                  </a:lnTo>
                  <a:lnTo>
                    <a:pt x="277" y="282"/>
                  </a:lnTo>
                  <a:lnTo>
                    <a:pt x="269" y="277"/>
                  </a:lnTo>
                  <a:lnTo>
                    <a:pt x="257" y="277"/>
                  </a:lnTo>
                  <a:lnTo>
                    <a:pt x="240" y="267"/>
                  </a:lnTo>
                  <a:lnTo>
                    <a:pt x="224" y="253"/>
                  </a:lnTo>
                  <a:lnTo>
                    <a:pt x="198" y="245"/>
                  </a:lnTo>
                  <a:lnTo>
                    <a:pt x="169" y="243"/>
                  </a:lnTo>
                  <a:lnTo>
                    <a:pt x="122" y="229"/>
                  </a:lnTo>
                  <a:lnTo>
                    <a:pt x="53" y="199"/>
                  </a:lnTo>
                  <a:lnTo>
                    <a:pt x="27" y="185"/>
                  </a:lnTo>
                  <a:lnTo>
                    <a:pt x="9" y="180"/>
                  </a:lnTo>
                  <a:lnTo>
                    <a:pt x="0" y="65"/>
                  </a:lnTo>
                  <a:lnTo>
                    <a:pt x="69" y="60"/>
                  </a:lnTo>
                  <a:lnTo>
                    <a:pt x="158" y="52"/>
                  </a:lnTo>
                  <a:lnTo>
                    <a:pt x="293" y="38"/>
                  </a:lnTo>
                  <a:lnTo>
                    <a:pt x="382" y="27"/>
                  </a:lnTo>
                  <a:lnTo>
                    <a:pt x="446" y="17"/>
                  </a:lnTo>
                  <a:lnTo>
                    <a:pt x="546" y="4"/>
                  </a:lnTo>
                  <a:lnTo>
                    <a:pt x="568" y="0"/>
                  </a:lnTo>
                  <a:lnTo>
                    <a:pt x="570" y="0"/>
                  </a:lnTo>
                  <a:lnTo>
                    <a:pt x="574" y="40"/>
                  </a:lnTo>
                  <a:close/>
                  <a:moveTo>
                    <a:pt x="408" y="396"/>
                  </a:moveTo>
                  <a:lnTo>
                    <a:pt x="479" y="1128"/>
                  </a:lnTo>
                  <a:lnTo>
                    <a:pt x="586" y="1140"/>
                  </a:lnTo>
                  <a:lnTo>
                    <a:pt x="599" y="1179"/>
                  </a:lnTo>
                  <a:lnTo>
                    <a:pt x="597" y="1179"/>
                  </a:lnTo>
                  <a:lnTo>
                    <a:pt x="603" y="1190"/>
                  </a:lnTo>
                  <a:lnTo>
                    <a:pt x="610" y="1212"/>
                  </a:lnTo>
                  <a:lnTo>
                    <a:pt x="601" y="1213"/>
                  </a:lnTo>
                  <a:lnTo>
                    <a:pt x="594" y="1213"/>
                  </a:lnTo>
                  <a:lnTo>
                    <a:pt x="606" y="1203"/>
                  </a:lnTo>
                  <a:lnTo>
                    <a:pt x="594" y="1193"/>
                  </a:lnTo>
                  <a:lnTo>
                    <a:pt x="581" y="1191"/>
                  </a:lnTo>
                  <a:lnTo>
                    <a:pt x="577" y="1187"/>
                  </a:lnTo>
                  <a:lnTo>
                    <a:pt x="530" y="1203"/>
                  </a:lnTo>
                  <a:lnTo>
                    <a:pt x="519" y="1212"/>
                  </a:lnTo>
                  <a:lnTo>
                    <a:pt x="530" y="1226"/>
                  </a:lnTo>
                  <a:lnTo>
                    <a:pt x="543" y="1237"/>
                  </a:lnTo>
                  <a:lnTo>
                    <a:pt x="543" y="1243"/>
                  </a:lnTo>
                  <a:lnTo>
                    <a:pt x="526" y="1247"/>
                  </a:lnTo>
                  <a:lnTo>
                    <a:pt x="517" y="1247"/>
                  </a:lnTo>
                  <a:lnTo>
                    <a:pt x="504" y="1236"/>
                  </a:lnTo>
                  <a:lnTo>
                    <a:pt x="515" y="1222"/>
                  </a:lnTo>
                  <a:lnTo>
                    <a:pt x="515" y="1208"/>
                  </a:lnTo>
                  <a:lnTo>
                    <a:pt x="488" y="1197"/>
                  </a:lnTo>
                  <a:lnTo>
                    <a:pt x="459" y="1201"/>
                  </a:lnTo>
                  <a:lnTo>
                    <a:pt x="441" y="1187"/>
                  </a:lnTo>
                  <a:lnTo>
                    <a:pt x="428" y="1184"/>
                  </a:lnTo>
                  <a:lnTo>
                    <a:pt x="479" y="1157"/>
                  </a:lnTo>
                  <a:lnTo>
                    <a:pt x="486" y="1149"/>
                  </a:lnTo>
                  <a:lnTo>
                    <a:pt x="486" y="1142"/>
                  </a:lnTo>
                  <a:lnTo>
                    <a:pt x="450" y="1128"/>
                  </a:lnTo>
                  <a:lnTo>
                    <a:pt x="446" y="1018"/>
                  </a:lnTo>
                  <a:lnTo>
                    <a:pt x="441" y="998"/>
                  </a:lnTo>
                  <a:lnTo>
                    <a:pt x="437" y="913"/>
                  </a:lnTo>
                  <a:lnTo>
                    <a:pt x="433" y="889"/>
                  </a:lnTo>
                  <a:lnTo>
                    <a:pt x="428" y="887"/>
                  </a:lnTo>
                  <a:lnTo>
                    <a:pt x="435" y="882"/>
                  </a:lnTo>
                  <a:lnTo>
                    <a:pt x="428" y="825"/>
                  </a:lnTo>
                  <a:lnTo>
                    <a:pt x="426" y="773"/>
                  </a:lnTo>
                  <a:lnTo>
                    <a:pt x="424" y="712"/>
                  </a:lnTo>
                  <a:lnTo>
                    <a:pt x="417" y="668"/>
                  </a:lnTo>
                  <a:lnTo>
                    <a:pt x="410" y="580"/>
                  </a:lnTo>
                  <a:lnTo>
                    <a:pt x="410" y="475"/>
                  </a:lnTo>
                  <a:lnTo>
                    <a:pt x="408" y="396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83960" y="4012200"/>
              <a:ext cx="295200" cy="26856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0" y="245"/>
                  </a:moveTo>
                  <a:lnTo>
                    <a:pt x="2" y="243"/>
                  </a:lnTo>
                  <a:lnTo>
                    <a:pt x="11" y="243"/>
                  </a:lnTo>
                  <a:lnTo>
                    <a:pt x="31" y="220"/>
                  </a:lnTo>
                  <a:lnTo>
                    <a:pt x="36" y="163"/>
                  </a:lnTo>
                  <a:lnTo>
                    <a:pt x="47" y="136"/>
                  </a:lnTo>
                  <a:lnTo>
                    <a:pt x="65" y="121"/>
                  </a:lnTo>
                  <a:lnTo>
                    <a:pt x="104" y="94"/>
                  </a:lnTo>
                  <a:lnTo>
                    <a:pt x="131" y="65"/>
                  </a:lnTo>
                  <a:lnTo>
                    <a:pt x="144" y="48"/>
                  </a:lnTo>
                  <a:lnTo>
                    <a:pt x="155" y="20"/>
                  </a:lnTo>
                  <a:lnTo>
                    <a:pt x="153" y="19"/>
                  </a:lnTo>
                  <a:lnTo>
                    <a:pt x="153" y="16"/>
                  </a:lnTo>
                  <a:lnTo>
                    <a:pt x="164" y="15"/>
                  </a:lnTo>
                  <a:lnTo>
                    <a:pt x="182" y="0"/>
                  </a:lnTo>
                  <a:lnTo>
                    <a:pt x="173" y="21"/>
                  </a:lnTo>
                  <a:lnTo>
                    <a:pt x="180" y="36"/>
                  </a:lnTo>
                  <a:lnTo>
                    <a:pt x="198" y="41"/>
                  </a:lnTo>
                  <a:lnTo>
                    <a:pt x="211" y="38"/>
                  </a:lnTo>
                  <a:lnTo>
                    <a:pt x="226" y="38"/>
                  </a:lnTo>
                  <a:lnTo>
                    <a:pt x="167" y="55"/>
                  </a:lnTo>
                  <a:lnTo>
                    <a:pt x="164" y="53"/>
                  </a:lnTo>
                  <a:lnTo>
                    <a:pt x="158" y="56"/>
                  </a:lnTo>
                  <a:lnTo>
                    <a:pt x="158" y="73"/>
                  </a:lnTo>
                  <a:lnTo>
                    <a:pt x="147" y="91"/>
                  </a:lnTo>
                  <a:lnTo>
                    <a:pt x="109" y="119"/>
                  </a:lnTo>
                  <a:lnTo>
                    <a:pt x="65" y="145"/>
                  </a:lnTo>
                  <a:lnTo>
                    <a:pt x="49" y="169"/>
                  </a:lnTo>
                  <a:lnTo>
                    <a:pt x="73" y="216"/>
                  </a:lnTo>
                  <a:lnTo>
                    <a:pt x="67" y="235"/>
                  </a:lnTo>
                  <a:lnTo>
                    <a:pt x="11" y="248"/>
                  </a:lnTo>
                  <a:lnTo>
                    <a:pt x="0" y="245"/>
                  </a:lnTo>
                  <a:lnTo>
                    <a:pt x="0" y="245"/>
                  </a:lnTo>
                  <a:close/>
                </a:path>
              </a:pathLst>
            </a:custGeom>
            <a:solidFill>
              <a:srgbClr val="4f55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83960" y="4012200"/>
              <a:ext cx="295200" cy="26856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0" y="245"/>
                  </a:moveTo>
                  <a:lnTo>
                    <a:pt x="2" y="243"/>
                  </a:lnTo>
                  <a:lnTo>
                    <a:pt x="11" y="243"/>
                  </a:lnTo>
                  <a:lnTo>
                    <a:pt x="31" y="220"/>
                  </a:lnTo>
                  <a:lnTo>
                    <a:pt x="36" y="163"/>
                  </a:lnTo>
                  <a:lnTo>
                    <a:pt x="47" y="136"/>
                  </a:lnTo>
                  <a:lnTo>
                    <a:pt x="65" y="121"/>
                  </a:lnTo>
                  <a:lnTo>
                    <a:pt x="104" y="94"/>
                  </a:lnTo>
                  <a:lnTo>
                    <a:pt x="131" y="65"/>
                  </a:lnTo>
                  <a:lnTo>
                    <a:pt x="144" y="48"/>
                  </a:lnTo>
                  <a:lnTo>
                    <a:pt x="155" y="20"/>
                  </a:lnTo>
                  <a:lnTo>
                    <a:pt x="153" y="19"/>
                  </a:lnTo>
                  <a:lnTo>
                    <a:pt x="153" y="16"/>
                  </a:lnTo>
                  <a:lnTo>
                    <a:pt x="164" y="15"/>
                  </a:lnTo>
                  <a:lnTo>
                    <a:pt x="182" y="0"/>
                  </a:lnTo>
                  <a:lnTo>
                    <a:pt x="173" y="21"/>
                  </a:lnTo>
                  <a:lnTo>
                    <a:pt x="180" y="36"/>
                  </a:lnTo>
                  <a:lnTo>
                    <a:pt x="198" y="41"/>
                  </a:lnTo>
                  <a:lnTo>
                    <a:pt x="211" y="38"/>
                  </a:lnTo>
                  <a:lnTo>
                    <a:pt x="226" y="38"/>
                  </a:lnTo>
                  <a:lnTo>
                    <a:pt x="167" y="55"/>
                  </a:lnTo>
                  <a:lnTo>
                    <a:pt x="164" y="53"/>
                  </a:lnTo>
                  <a:lnTo>
                    <a:pt x="158" y="56"/>
                  </a:lnTo>
                  <a:lnTo>
                    <a:pt x="158" y="73"/>
                  </a:lnTo>
                  <a:lnTo>
                    <a:pt x="147" y="91"/>
                  </a:lnTo>
                  <a:lnTo>
                    <a:pt x="109" y="119"/>
                  </a:lnTo>
                  <a:lnTo>
                    <a:pt x="65" y="145"/>
                  </a:lnTo>
                  <a:lnTo>
                    <a:pt x="49" y="169"/>
                  </a:lnTo>
                  <a:lnTo>
                    <a:pt x="73" y="216"/>
                  </a:lnTo>
                  <a:lnTo>
                    <a:pt x="67" y="235"/>
                  </a:lnTo>
                  <a:lnTo>
                    <a:pt x="11" y="248"/>
                  </a:lnTo>
                  <a:lnTo>
                    <a:pt x="0" y="24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193840" y="4089960"/>
              <a:ext cx="2408400" cy="285840"/>
            </a:xfrm>
            <a:custGeom>
              <a:avLst/>
              <a:gdLst/>
              <a:ahLst/>
              <a:rect l="l" t="t" r="r" b="b"/>
              <a:pathLst>
                <a:path w="1843" h="264">
                  <a:moveTo>
                    <a:pt x="51" y="87"/>
                  </a:moveTo>
                  <a:lnTo>
                    <a:pt x="51" y="88"/>
                  </a:lnTo>
                  <a:lnTo>
                    <a:pt x="51" y="88"/>
                  </a:lnTo>
                  <a:lnTo>
                    <a:pt x="51" y="90"/>
                  </a:lnTo>
                  <a:lnTo>
                    <a:pt x="51" y="90"/>
                  </a:lnTo>
                  <a:lnTo>
                    <a:pt x="51" y="91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54" y="93"/>
                  </a:lnTo>
                  <a:lnTo>
                    <a:pt x="51" y="92"/>
                  </a:lnTo>
                  <a:lnTo>
                    <a:pt x="51" y="87"/>
                  </a:lnTo>
                  <a:close/>
                  <a:moveTo>
                    <a:pt x="60" y="115"/>
                  </a:moveTo>
                  <a:lnTo>
                    <a:pt x="60" y="118"/>
                  </a:lnTo>
                  <a:lnTo>
                    <a:pt x="60" y="122"/>
                  </a:lnTo>
                  <a:lnTo>
                    <a:pt x="62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5" y="136"/>
                  </a:lnTo>
                  <a:lnTo>
                    <a:pt x="65" y="139"/>
                  </a:lnTo>
                  <a:lnTo>
                    <a:pt x="65" y="143"/>
                  </a:lnTo>
                  <a:lnTo>
                    <a:pt x="45" y="149"/>
                  </a:lnTo>
                  <a:lnTo>
                    <a:pt x="14" y="158"/>
                  </a:lnTo>
                  <a:lnTo>
                    <a:pt x="7" y="142"/>
                  </a:lnTo>
                  <a:lnTo>
                    <a:pt x="7" y="127"/>
                  </a:lnTo>
                  <a:lnTo>
                    <a:pt x="0" y="122"/>
                  </a:lnTo>
                  <a:lnTo>
                    <a:pt x="34" y="113"/>
                  </a:lnTo>
                  <a:lnTo>
                    <a:pt x="60" y="115"/>
                  </a:lnTo>
                  <a:close/>
                  <a:moveTo>
                    <a:pt x="127" y="176"/>
                  </a:moveTo>
                  <a:lnTo>
                    <a:pt x="129" y="171"/>
                  </a:lnTo>
                  <a:lnTo>
                    <a:pt x="131" y="166"/>
                  </a:lnTo>
                  <a:lnTo>
                    <a:pt x="133" y="161"/>
                  </a:lnTo>
                  <a:lnTo>
                    <a:pt x="136" y="156"/>
                  </a:lnTo>
                  <a:lnTo>
                    <a:pt x="138" y="152"/>
                  </a:lnTo>
                  <a:lnTo>
                    <a:pt x="140" y="147"/>
                  </a:lnTo>
                  <a:lnTo>
                    <a:pt x="142" y="142"/>
                  </a:lnTo>
                  <a:lnTo>
                    <a:pt x="144" y="138"/>
                  </a:lnTo>
                  <a:lnTo>
                    <a:pt x="158" y="138"/>
                  </a:lnTo>
                  <a:lnTo>
                    <a:pt x="169" y="137"/>
                  </a:lnTo>
                  <a:lnTo>
                    <a:pt x="182" y="134"/>
                  </a:lnTo>
                  <a:lnTo>
                    <a:pt x="198" y="132"/>
                  </a:lnTo>
                  <a:lnTo>
                    <a:pt x="211" y="131"/>
                  </a:lnTo>
                  <a:lnTo>
                    <a:pt x="224" y="128"/>
                  </a:lnTo>
                  <a:lnTo>
                    <a:pt x="238" y="127"/>
                  </a:lnTo>
                  <a:lnTo>
                    <a:pt x="249" y="127"/>
                  </a:lnTo>
                  <a:lnTo>
                    <a:pt x="253" y="128"/>
                  </a:lnTo>
                  <a:lnTo>
                    <a:pt x="255" y="131"/>
                  </a:lnTo>
                  <a:lnTo>
                    <a:pt x="262" y="134"/>
                  </a:lnTo>
                  <a:lnTo>
                    <a:pt x="266" y="137"/>
                  </a:lnTo>
                  <a:lnTo>
                    <a:pt x="271" y="141"/>
                  </a:lnTo>
                  <a:lnTo>
                    <a:pt x="277" y="144"/>
                  </a:lnTo>
                  <a:lnTo>
                    <a:pt x="282" y="147"/>
                  </a:lnTo>
                  <a:lnTo>
                    <a:pt x="286" y="151"/>
                  </a:lnTo>
                  <a:lnTo>
                    <a:pt x="266" y="158"/>
                  </a:lnTo>
                  <a:lnTo>
                    <a:pt x="255" y="153"/>
                  </a:lnTo>
                  <a:lnTo>
                    <a:pt x="238" y="156"/>
                  </a:lnTo>
                  <a:lnTo>
                    <a:pt x="211" y="167"/>
                  </a:lnTo>
                  <a:lnTo>
                    <a:pt x="220" y="149"/>
                  </a:lnTo>
                  <a:lnTo>
                    <a:pt x="220" y="144"/>
                  </a:lnTo>
                  <a:lnTo>
                    <a:pt x="211" y="141"/>
                  </a:lnTo>
                  <a:lnTo>
                    <a:pt x="187" y="144"/>
                  </a:lnTo>
                  <a:lnTo>
                    <a:pt x="127" y="176"/>
                  </a:lnTo>
                  <a:close/>
                  <a:moveTo>
                    <a:pt x="304" y="144"/>
                  </a:moveTo>
                  <a:lnTo>
                    <a:pt x="306" y="134"/>
                  </a:lnTo>
                  <a:lnTo>
                    <a:pt x="313" y="122"/>
                  </a:lnTo>
                  <a:lnTo>
                    <a:pt x="320" y="110"/>
                  </a:lnTo>
                  <a:lnTo>
                    <a:pt x="326" y="97"/>
                  </a:lnTo>
                  <a:lnTo>
                    <a:pt x="337" y="85"/>
                  </a:lnTo>
                  <a:lnTo>
                    <a:pt x="348" y="75"/>
                  </a:lnTo>
                  <a:lnTo>
                    <a:pt x="362" y="65"/>
                  </a:lnTo>
                  <a:lnTo>
                    <a:pt x="375" y="59"/>
                  </a:lnTo>
                  <a:lnTo>
                    <a:pt x="366" y="68"/>
                  </a:lnTo>
                  <a:lnTo>
                    <a:pt x="373" y="87"/>
                  </a:lnTo>
                  <a:lnTo>
                    <a:pt x="395" y="87"/>
                  </a:lnTo>
                  <a:lnTo>
                    <a:pt x="395" y="115"/>
                  </a:lnTo>
                  <a:lnTo>
                    <a:pt x="397" y="115"/>
                  </a:lnTo>
                  <a:lnTo>
                    <a:pt x="399" y="116"/>
                  </a:lnTo>
                  <a:lnTo>
                    <a:pt x="399" y="116"/>
                  </a:lnTo>
                  <a:lnTo>
                    <a:pt x="402" y="116"/>
                  </a:lnTo>
                  <a:lnTo>
                    <a:pt x="402" y="116"/>
                  </a:lnTo>
                  <a:lnTo>
                    <a:pt x="404" y="117"/>
                  </a:lnTo>
                  <a:lnTo>
                    <a:pt x="406" y="117"/>
                  </a:lnTo>
                  <a:lnTo>
                    <a:pt x="406" y="117"/>
                  </a:lnTo>
                  <a:lnTo>
                    <a:pt x="331" y="137"/>
                  </a:lnTo>
                  <a:lnTo>
                    <a:pt x="322" y="142"/>
                  </a:lnTo>
                  <a:lnTo>
                    <a:pt x="311" y="142"/>
                  </a:lnTo>
                  <a:lnTo>
                    <a:pt x="304" y="144"/>
                  </a:lnTo>
                  <a:close/>
                  <a:moveTo>
                    <a:pt x="659" y="148"/>
                  </a:moveTo>
                  <a:lnTo>
                    <a:pt x="659" y="121"/>
                  </a:lnTo>
                  <a:lnTo>
                    <a:pt x="665" y="118"/>
                  </a:lnTo>
                  <a:lnTo>
                    <a:pt x="674" y="117"/>
                  </a:lnTo>
                  <a:lnTo>
                    <a:pt x="681" y="116"/>
                  </a:lnTo>
                  <a:lnTo>
                    <a:pt x="690" y="116"/>
                  </a:lnTo>
                  <a:lnTo>
                    <a:pt x="696" y="115"/>
                  </a:lnTo>
                  <a:lnTo>
                    <a:pt x="705" y="115"/>
                  </a:lnTo>
                  <a:lnTo>
                    <a:pt x="714" y="115"/>
                  </a:lnTo>
                  <a:lnTo>
                    <a:pt x="721" y="115"/>
                  </a:lnTo>
                  <a:lnTo>
                    <a:pt x="723" y="103"/>
                  </a:lnTo>
                  <a:lnTo>
                    <a:pt x="727" y="92"/>
                  </a:lnTo>
                  <a:lnTo>
                    <a:pt x="730" y="81"/>
                  </a:lnTo>
                  <a:lnTo>
                    <a:pt x="730" y="70"/>
                  </a:lnTo>
                  <a:lnTo>
                    <a:pt x="727" y="57"/>
                  </a:lnTo>
                  <a:lnTo>
                    <a:pt x="725" y="46"/>
                  </a:lnTo>
                  <a:lnTo>
                    <a:pt x="721" y="36"/>
                  </a:lnTo>
                  <a:lnTo>
                    <a:pt x="712" y="25"/>
                  </a:lnTo>
                  <a:lnTo>
                    <a:pt x="725" y="12"/>
                  </a:lnTo>
                  <a:lnTo>
                    <a:pt x="739" y="6"/>
                  </a:lnTo>
                  <a:lnTo>
                    <a:pt x="752" y="4"/>
                  </a:lnTo>
                  <a:lnTo>
                    <a:pt x="756" y="0"/>
                  </a:lnTo>
                  <a:lnTo>
                    <a:pt x="759" y="0"/>
                  </a:lnTo>
                  <a:lnTo>
                    <a:pt x="761" y="0"/>
                  </a:lnTo>
                  <a:lnTo>
                    <a:pt x="763" y="1"/>
                  </a:lnTo>
                  <a:lnTo>
                    <a:pt x="765" y="1"/>
                  </a:lnTo>
                  <a:lnTo>
                    <a:pt x="767" y="1"/>
                  </a:lnTo>
                  <a:lnTo>
                    <a:pt x="770" y="1"/>
                  </a:lnTo>
                  <a:lnTo>
                    <a:pt x="772" y="3"/>
                  </a:lnTo>
                  <a:lnTo>
                    <a:pt x="774" y="3"/>
                  </a:lnTo>
                  <a:lnTo>
                    <a:pt x="772" y="12"/>
                  </a:lnTo>
                  <a:lnTo>
                    <a:pt x="770" y="21"/>
                  </a:lnTo>
                  <a:lnTo>
                    <a:pt x="767" y="31"/>
                  </a:lnTo>
                  <a:lnTo>
                    <a:pt x="763" y="41"/>
                  </a:lnTo>
                  <a:lnTo>
                    <a:pt x="759" y="51"/>
                  </a:lnTo>
                  <a:lnTo>
                    <a:pt x="756" y="61"/>
                  </a:lnTo>
                  <a:lnTo>
                    <a:pt x="754" y="70"/>
                  </a:lnTo>
                  <a:lnTo>
                    <a:pt x="752" y="80"/>
                  </a:lnTo>
                  <a:lnTo>
                    <a:pt x="770" y="80"/>
                  </a:lnTo>
                  <a:lnTo>
                    <a:pt x="787" y="81"/>
                  </a:lnTo>
                  <a:lnTo>
                    <a:pt x="807" y="83"/>
                  </a:lnTo>
                  <a:lnTo>
                    <a:pt x="825" y="85"/>
                  </a:lnTo>
                  <a:lnTo>
                    <a:pt x="845" y="87"/>
                  </a:lnTo>
                  <a:lnTo>
                    <a:pt x="865" y="90"/>
                  </a:lnTo>
                  <a:lnTo>
                    <a:pt x="883" y="91"/>
                  </a:lnTo>
                  <a:lnTo>
                    <a:pt x="898" y="91"/>
                  </a:lnTo>
                  <a:lnTo>
                    <a:pt x="903" y="87"/>
                  </a:lnTo>
                  <a:lnTo>
                    <a:pt x="905" y="85"/>
                  </a:lnTo>
                  <a:lnTo>
                    <a:pt x="911" y="81"/>
                  </a:lnTo>
                  <a:lnTo>
                    <a:pt x="916" y="77"/>
                  </a:lnTo>
                  <a:lnTo>
                    <a:pt x="923" y="75"/>
                  </a:lnTo>
                  <a:lnTo>
                    <a:pt x="929" y="72"/>
                  </a:lnTo>
                  <a:lnTo>
                    <a:pt x="938" y="70"/>
                  </a:lnTo>
                  <a:lnTo>
                    <a:pt x="945" y="68"/>
                  </a:lnTo>
                  <a:lnTo>
                    <a:pt x="936" y="83"/>
                  </a:lnTo>
                  <a:lnTo>
                    <a:pt x="925" y="98"/>
                  </a:lnTo>
                  <a:lnTo>
                    <a:pt x="927" y="107"/>
                  </a:lnTo>
                  <a:lnTo>
                    <a:pt x="940" y="113"/>
                  </a:lnTo>
                  <a:lnTo>
                    <a:pt x="956" y="113"/>
                  </a:lnTo>
                  <a:lnTo>
                    <a:pt x="940" y="121"/>
                  </a:lnTo>
                  <a:lnTo>
                    <a:pt x="954" y="121"/>
                  </a:lnTo>
                  <a:lnTo>
                    <a:pt x="967" y="123"/>
                  </a:lnTo>
                  <a:lnTo>
                    <a:pt x="980" y="126"/>
                  </a:lnTo>
                  <a:lnTo>
                    <a:pt x="996" y="129"/>
                  </a:lnTo>
                  <a:lnTo>
                    <a:pt x="1009" y="133"/>
                  </a:lnTo>
                  <a:lnTo>
                    <a:pt x="1025" y="136"/>
                  </a:lnTo>
                  <a:lnTo>
                    <a:pt x="1040" y="137"/>
                  </a:lnTo>
                  <a:lnTo>
                    <a:pt x="1056" y="138"/>
                  </a:lnTo>
                  <a:lnTo>
                    <a:pt x="1049" y="143"/>
                  </a:lnTo>
                  <a:lnTo>
                    <a:pt x="1040" y="147"/>
                  </a:lnTo>
                  <a:lnTo>
                    <a:pt x="1033" y="152"/>
                  </a:lnTo>
                  <a:lnTo>
                    <a:pt x="1027" y="157"/>
                  </a:lnTo>
                  <a:lnTo>
                    <a:pt x="1022" y="162"/>
                  </a:lnTo>
                  <a:lnTo>
                    <a:pt x="1018" y="167"/>
                  </a:lnTo>
                  <a:lnTo>
                    <a:pt x="1016" y="173"/>
                  </a:lnTo>
                  <a:lnTo>
                    <a:pt x="1013" y="179"/>
                  </a:lnTo>
                  <a:lnTo>
                    <a:pt x="1089" y="179"/>
                  </a:lnTo>
                  <a:lnTo>
                    <a:pt x="1089" y="178"/>
                  </a:lnTo>
                  <a:lnTo>
                    <a:pt x="1089" y="176"/>
                  </a:lnTo>
                  <a:lnTo>
                    <a:pt x="1089" y="173"/>
                  </a:lnTo>
                  <a:lnTo>
                    <a:pt x="1089" y="171"/>
                  </a:lnTo>
                  <a:lnTo>
                    <a:pt x="1089" y="168"/>
                  </a:lnTo>
                  <a:lnTo>
                    <a:pt x="1089" y="166"/>
                  </a:lnTo>
                  <a:lnTo>
                    <a:pt x="1091" y="164"/>
                  </a:lnTo>
                  <a:lnTo>
                    <a:pt x="1091" y="162"/>
                  </a:lnTo>
                  <a:lnTo>
                    <a:pt x="1109" y="168"/>
                  </a:lnTo>
                  <a:lnTo>
                    <a:pt x="1138" y="164"/>
                  </a:lnTo>
                  <a:lnTo>
                    <a:pt x="1140" y="163"/>
                  </a:lnTo>
                  <a:lnTo>
                    <a:pt x="1149" y="161"/>
                  </a:lnTo>
                  <a:lnTo>
                    <a:pt x="1149" y="166"/>
                  </a:lnTo>
                  <a:lnTo>
                    <a:pt x="1149" y="171"/>
                  </a:lnTo>
                  <a:lnTo>
                    <a:pt x="1151" y="176"/>
                  </a:lnTo>
                  <a:lnTo>
                    <a:pt x="1151" y="179"/>
                  </a:lnTo>
                  <a:lnTo>
                    <a:pt x="1151" y="184"/>
                  </a:lnTo>
                  <a:lnTo>
                    <a:pt x="1151" y="188"/>
                  </a:lnTo>
                  <a:lnTo>
                    <a:pt x="1151" y="193"/>
                  </a:lnTo>
                  <a:lnTo>
                    <a:pt x="1151" y="197"/>
                  </a:lnTo>
                  <a:lnTo>
                    <a:pt x="1127" y="197"/>
                  </a:lnTo>
                  <a:lnTo>
                    <a:pt x="1069" y="208"/>
                  </a:lnTo>
                  <a:lnTo>
                    <a:pt x="1040" y="218"/>
                  </a:lnTo>
                  <a:lnTo>
                    <a:pt x="1038" y="218"/>
                  </a:lnTo>
                  <a:lnTo>
                    <a:pt x="1031" y="214"/>
                  </a:lnTo>
                  <a:lnTo>
                    <a:pt x="1033" y="190"/>
                  </a:lnTo>
                  <a:lnTo>
                    <a:pt x="1033" y="187"/>
                  </a:lnTo>
                  <a:lnTo>
                    <a:pt x="1029" y="183"/>
                  </a:lnTo>
                  <a:lnTo>
                    <a:pt x="985" y="187"/>
                  </a:lnTo>
                  <a:lnTo>
                    <a:pt x="976" y="190"/>
                  </a:lnTo>
                  <a:lnTo>
                    <a:pt x="954" y="190"/>
                  </a:lnTo>
                  <a:lnTo>
                    <a:pt x="951" y="192"/>
                  </a:lnTo>
                  <a:lnTo>
                    <a:pt x="943" y="192"/>
                  </a:lnTo>
                  <a:lnTo>
                    <a:pt x="954" y="178"/>
                  </a:lnTo>
                  <a:lnTo>
                    <a:pt x="960" y="164"/>
                  </a:lnTo>
                  <a:lnTo>
                    <a:pt x="943" y="162"/>
                  </a:lnTo>
                  <a:lnTo>
                    <a:pt x="874" y="171"/>
                  </a:lnTo>
                  <a:lnTo>
                    <a:pt x="847" y="176"/>
                  </a:lnTo>
                  <a:lnTo>
                    <a:pt x="838" y="176"/>
                  </a:lnTo>
                  <a:lnTo>
                    <a:pt x="845" y="167"/>
                  </a:lnTo>
                  <a:lnTo>
                    <a:pt x="878" y="149"/>
                  </a:lnTo>
                  <a:lnTo>
                    <a:pt x="900" y="136"/>
                  </a:lnTo>
                  <a:lnTo>
                    <a:pt x="900" y="129"/>
                  </a:lnTo>
                  <a:lnTo>
                    <a:pt x="887" y="127"/>
                  </a:lnTo>
                  <a:lnTo>
                    <a:pt x="821" y="133"/>
                  </a:lnTo>
                  <a:lnTo>
                    <a:pt x="739" y="152"/>
                  </a:lnTo>
                  <a:lnTo>
                    <a:pt x="643" y="188"/>
                  </a:lnTo>
                  <a:lnTo>
                    <a:pt x="637" y="193"/>
                  </a:lnTo>
                  <a:lnTo>
                    <a:pt x="614" y="199"/>
                  </a:lnTo>
                  <a:lnTo>
                    <a:pt x="610" y="199"/>
                  </a:lnTo>
                  <a:lnTo>
                    <a:pt x="663" y="161"/>
                  </a:lnTo>
                  <a:lnTo>
                    <a:pt x="665" y="156"/>
                  </a:lnTo>
                  <a:lnTo>
                    <a:pt x="659" y="148"/>
                  </a:lnTo>
                  <a:lnTo>
                    <a:pt x="659" y="148"/>
                  </a:lnTo>
                  <a:close/>
                  <a:moveTo>
                    <a:pt x="1215" y="214"/>
                  </a:moveTo>
                  <a:lnTo>
                    <a:pt x="1229" y="214"/>
                  </a:lnTo>
                  <a:lnTo>
                    <a:pt x="1244" y="214"/>
                  </a:lnTo>
                  <a:lnTo>
                    <a:pt x="1257" y="213"/>
                  </a:lnTo>
                  <a:lnTo>
                    <a:pt x="1271" y="212"/>
                  </a:lnTo>
                  <a:lnTo>
                    <a:pt x="1284" y="209"/>
                  </a:lnTo>
                  <a:lnTo>
                    <a:pt x="1297" y="207"/>
                  </a:lnTo>
                  <a:lnTo>
                    <a:pt x="1308" y="202"/>
                  </a:lnTo>
                  <a:lnTo>
                    <a:pt x="1319" y="197"/>
                  </a:lnTo>
                  <a:lnTo>
                    <a:pt x="1322" y="200"/>
                  </a:lnTo>
                  <a:lnTo>
                    <a:pt x="1324" y="204"/>
                  </a:lnTo>
                  <a:lnTo>
                    <a:pt x="1326" y="207"/>
                  </a:lnTo>
                  <a:lnTo>
                    <a:pt x="1328" y="209"/>
                  </a:lnTo>
                  <a:lnTo>
                    <a:pt x="1328" y="212"/>
                  </a:lnTo>
                  <a:lnTo>
                    <a:pt x="1328" y="214"/>
                  </a:lnTo>
                  <a:lnTo>
                    <a:pt x="1328" y="217"/>
                  </a:lnTo>
                  <a:lnTo>
                    <a:pt x="1328" y="220"/>
                  </a:lnTo>
                  <a:lnTo>
                    <a:pt x="1337" y="219"/>
                  </a:lnTo>
                  <a:lnTo>
                    <a:pt x="1344" y="215"/>
                  </a:lnTo>
                  <a:lnTo>
                    <a:pt x="1350" y="210"/>
                  </a:lnTo>
                  <a:lnTo>
                    <a:pt x="1357" y="205"/>
                  </a:lnTo>
                  <a:lnTo>
                    <a:pt x="1364" y="199"/>
                  </a:lnTo>
                  <a:lnTo>
                    <a:pt x="1368" y="193"/>
                  </a:lnTo>
                  <a:lnTo>
                    <a:pt x="1370" y="188"/>
                  </a:lnTo>
                  <a:lnTo>
                    <a:pt x="1370" y="185"/>
                  </a:lnTo>
                  <a:lnTo>
                    <a:pt x="1366" y="185"/>
                  </a:lnTo>
                  <a:lnTo>
                    <a:pt x="1362" y="184"/>
                  </a:lnTo>
                  <a:lnTo>
                    <a:pt x="1355" y="184"/>
                  </a:lnTo>
                  <a:lnTo>
                    <a:pt x="1348" y="183"/>
                  </a:lnTo>
                  <a:lnTo>
                    <a:pt x="1344" y="182"/>
                  </a:lnTo>
                  <a:lnTo>
                    <a:pt x="1337" y="181"/>
                  </a:lnTo>
                  <a:lnTo>
                    <a:pt x="1331" y="179"/>
                  </a:lnTo>
                  <a:lnTo>
                    <a:pt x="1326" y="178"/>
                  </a:lnTo>
                  <a:lnTo>
                    <a:pt x="1355" y="164"/>
                  </a:lnTo>
                  <a:lnTo>
                    <a:pt x="1359" y="158"/>
                  </a:lnTo>
                  <a:lnTo>
                    <a:pt x="1353" y="156"/>
                  </a:lnTo>
                  <a:lnTo>
                    <a:pt x="1368" y="151"/>
                  </a:lnTo>
                  <a:lnTo>
                    <a:pt x="1375" y="152"/>
                  </a:lnTo>
                  <a:lnTo>
                    <a:pt x="1381" y="152"/>
                  </a:lnTo>
                  <a:lnTo>
                    <a:pt x="1390" y="152"/>
                  </a:lnTo>
                  <a:lnTo>
                    <a:pt x="1397" y="152"/>
                  </a:lnTo>
                  <a:lnTo>
                    <a:pt x="1404" y="152"/>
                  </a:lnTo>
                  <a:lnTo>
                    <a:pt x="1410" y="152"/>
                  </a:lnTo>
                  <a:lnTo>
                    <a:pt x="1417" y="153"/>
                  </a:lnTo>
                  <a:lnTo>
                    <a:pt x="1424" y="153"/>
                  </a:lnTo>
                  <a:lnTo>
                    <a:pt x="1417" y="157"/>
                  </a:lnTo>
                  <a:lnTo>
                    <a:pt x="1424" y="167"/>
                  </a:lnTo>
                  <a:lnTo>
                    <a:pt x="1417" y="169"/>
                  </a:lnTo>
                  <a:lnTo>
                    <a:pt x="1410" y="172"/>
                  </a:lnTo>
                  <a:lnTo>
                    <a:pt x="1406" y="176"/>
                  </a:lnTo>
                  <a:lnTo>
                    <a:pt x="1401" y="178"/>
                  </a:lnTo>
                  <a:lnTo>
                    <a:pt x="1397" y="181"/>
                  </a:lnTo>
                  <a:lnTo>
                    <a:pt x="1395" y="182"/>
                  </a:lnTo>
                  <a:lnTo>
                    <a:pt x="1393" y="184"/>
                  </a:lnTo>
                  <a:lnTo>
                    <a:pt x="1393" y="185"/>
                  </a:lnTo>
                  <a:lnTo>
                    <a:pt x="1397" y="185"/>
                  </a:lnTo>
                  <a:lnTo>
                    <a:pt x="1404" y="185"/>
                  </a:lnTo>
                  <a:lnTo>
                    <a:pt x="1410" y="187"/>
                  </a:lnTo>
                  <a:lnTo>
                    <a:pt x="1417" y="187"/>
                  </a:lnTo>
                  <a:lnTo>
                    <a:pt x="1424" y="188"/>
                  </a:lnTo>
                  <a:lnTo>
                    <a:pt x="1430" y="189"/>
                  </a:lnTo>
                  <a:lnTo>
                    <a:pt x="1437" y="190"/>
                  </a:lnTo>
                  <a:lnTo>
                    <a:pt x="1444" y="192"/>
                  </a:lnTo>
                  <a:lnTo>
                    <a:pt x="1444" y="194"/>
                  </a:lnTo>
                  <a:lnTo>
                    <a:pt x="1466" y="202"/>
                  </a:lnTo>
                  <a:lnTo>
                    <a:pt x="1490" y="199"/>
                  </a:lnTo>
                  <a:lnTo>
                    <a:pt x="1495" y="200"/>
                  </a:lnTo>
                  <a:lnTo>
                    <a:pt x="1499" y="200"/>
                  </a:lnTo>
                  <a:lnTo>
                    <a:pt x="1503" y="202"/>
                  </a:lnTo>
                  <a:lnTo>
                    <a:pt x="1510" y="202"/>
                  </a:lnTo>
                  <a:lnTo>
                    <a:pt x="1515" y="203"/>
                  </a:lnTo>
                  <a:lnTo>
                    <a:pt x="1519" y="203"/>
                  </a:lnTo>
                  <a:lnTo>
                    <a:pt x="1523" y="203"/>
                  </a:lnTo>
                  <a:lnTo>
                    <a:pt x="1528" y="203"/>
                  </a:lnTo>
                  <a:lnTo>
                    <a:pt x="1528" y="205"/>
                  </a:lnTo>
                  <a:lnTo>
                    <a:pt x="1528" y="208"/>
                  </a:lnTo>
                  <a:lnTo>
                    <a:pt x="1526" y="210"/>
                  </a:lnTo>
                  <a:lnTo>
                    <a:pt x="1523" y="214"/>
                  </a:lnTo>
                  <a:lnTo>
                    <a:pt x="1523" y="218"/>
                  </a:lnTo>
                  <a:lnTo>
                    <a:pt x="1521" y="222"/>
                  </a:lnTo>
                  <a:lnTo>
                    <a:pt x="1519" y="225"/>
                  </a:lnTo>
                  <a:lnTo>
                    <a:pt x="1519" y="228"/>
                  </a:lnTo>
                  <a:lnTo>
                    <a:pt x="1519" y="228"/>
                  </a:lnTo>
                  <a:lnTo>
                    <a:pt x="1470" y="237"/>
                  </a:lnTo>
                  <a:lnTo>
                    <a:pt x="1459" y="237"/>
                  </a:lnTo>
                  <a:lnTo>
                    <a:pt x="1468" y="223"/>
                  </a:lnTo>
                  <a:lnTo>
                    <a:pt x="1468" y="222"/>
                  </a:lnTo>
                  <a:lnTo>
                    <a:pt x="1450" y="220"/>
                  </a:lnTo>
                  <a:lnTo>
                    <a:pt x="1439" y="220"/>
                  </a:lnTo>
                  <a:lnTo>
                    <a:pt x="1444" y="217"/>
                  </a:lnTo>
                  <a:lnTo>
                    <a:pt x="1444" y="214"/>
                  </a:lnTo>
                  <a:lnTo>
                    <a:pt x="1439" y="212"/>
                  </a:lnTo>
                  <a:lnTo>
                    <a:pt x="1324" y="223"/>
                  </a:lnTo>
                  <a:lnTo>
                    <a:pt x="1295" y="232"/>
                  </a:lnTo>
                  <a:lnTo>
                    <a:pt x="1288" y="234"/>
                  </a:lnTo>
                  <a:lnTo>
                    <a:pt x="1282" y="225"/>
                  </a:lnTo>
                  <a:lnTo>
                    <a:pt x="1273" y="222"/>
                  </a:lnTo>
                  <a:lnTo>
                    <a:pt x="1226" y="232"/>
                  </a:lnTo>
                  <a:lnTo>
                    <a:pt x="1217" y="214"/>
                  </a:lnTo>
                  <a:lnTo>
                    <a:pt x="1215" y="214"/>
                  </a:lnTo>
                  <a:close/>
                  <a:moveTo>
                    <a:pt x="1601" y="237"/>
                  </a:moveTo>
                  <a:lnTo>
                    <a:pt x="1608" y="235"/>
                  </a:lnTo>
                  <a:lnTo>
                    <a:pt x="1616" y="234"/>
                  </a:lnTo>
                  <a:lnTo>
                    <a:pt x="1621" y="233"/>
                  </a:lnTo>
                  <a:lnTo>
                    <a:pt x="1628" y="232"/>
                  </a:lnTo>
                  <a:lnTo>
                    <a:pt x="1634" y="230"/>
                  </a:lnTo>
                  <a:lnTo>
                    <a:pt x="1639" y="229"/>
                  </a:lnTo>
                  <a:lnTo>
                    <a:pt x="1641" y="228"/>
                  </a:lnTo>
                  <a:lnTo>
                    <a:pt x="1643" y="227"/>
                  </a:lnTo>
                  <a:lnTo>
                    <a:pt x="1654" y="220"/>
                  </a:lnTo>
                  <a:lnTo>
                    <a:pt x="1654" y="219"/>
                  </a:lnTo>
                  <a:lnTo>
                    <a:pt x="1654" y="218"/>
                  </a:lnTo>
                  <a:lnTo>
                    <a:pt x="1654" y="217"/>
                  </a:lnTo>
                  <a:lnTo>
                    <a:pt x="1654" y="215"/>
                  </a:lnTo>
                  <a:lnTo>
                    <a:pt x="1656" y="213"/>
                  </a:lnTo>
                  <a:lnTo>
                    <a:pt x="1656" y="212"/>
                  </a:lnTo>
                  <a:lnTo>
                    <a:pt x="1656" y="209"/>
                  </a:lnTo>
                  <a:lnTo>
                    <a:pt x="1656" y="207"/>
                  </a:lnTo>
                  <a:lnTo>
                    <a:pt x="1674" y="203"/>
                  </a:lnTo>
                  <a:lnTo>
                    <a:pt x="1683" y="194"/>
                  </a:lnTo>
                  <a:lnTo>
                    <a:pt x="1687" y="179"/>
                  </a:lnTo>
                  <a:lnTo>
                    <a:pt x="1707" y="179"/>
                  </a:lnTo>
                  <a:lnTo>
                    <a:pt x="1707" y="182"/>
                  </a:lnTo>
                  <a:lnTo>
                    <a:pt x="1707" y="184"/>
                  </a:lnTo>
                  <a:lnTo>
                    <a:pt x="1710" y="187"/>
                  </a:lnTo>
                  <a:lnTo>
                    <a:pt x="1712" y="189"/>
                  </a:lnTo>
                  <a:lnTo>
                    <a:pt x="1714" y="192"/>
                  </a:lnTo>
                  <a:lnTo>
                    <a:pt x="1716" y="195"/>
                  </a:lnTo>
                  <a:lnTo>
                    <a:pt x="1716" y="199"/>
                  </a:lnTo>
                  <a:lnTo>
                    <a:pt x="1716" y="203"/>
                  </a:lnTo>
                  <a:lnTo>
                    <a:pt x="1832" y="198"/>
                  </a:lnTo>
                  <a:lnTo>
                    <a:pt x="1829" y="199"/>
                  </a:lnTo>
                  <a:lnTo>
                    <a:pt x="1829" y="205"/>
                  </a:lnTo>
                  <a:lnTo>
                    <a:pt x="1843" y="212"/>
                  </a:lnTo>
                  <a:lnTo>
                    <a:pt x="1843" y="212"/>
                  </a:lnTo>
                  <a:lnTo>
                    <a:pt x="1843" y="212"/>
                  </a:lnTo>
                  <a:lnTo>
                    <a:pt x="1843" y="212"/>
                  </a:lnTo>
                  <a:lnTo>
                    <a:pt x="1843" y="212"/>
                  </a:lnTo>
                  <a:lnTo>
                    <a:pt x="1843" y="212"/>
                  </a:lnTo>
                  <a:lnTo>
                    <a:pt x="1843" y="212"/>
                  </a:lnTo>
                  <a:lnTo>
                    <a:pt x="1843" y="212"/>
                  </a:lnTo>
                  <a:lnTo>
                    <a:pt x="1843" y="212"/>
                  </a:lnTo>
                  <a:lnTo>
                    <a:pt x="1772" y="246"/>
                  </a:lnTo>
                  <a:lnTo>
                    <a:pt x="1767" y="240"/>
                  </a:lnTo>
                  <a:lnTo>
                    <a:pt x="1754" y="233"/>
                  </a:lnTo>
                  <a:lnTo>
                    <a:pt x="1723" y="233"/>
                  </a:lnTo>
                  <a:lnTo>
                    <a:pt x="1701" y="242"/>
                  </a:lnTo>
                  <a:lnTo>
                    <a:pt x="1661" y="263"/>
                  </a:lnTo>
                  <a:lnTo>
                    <a:pt x="1656" y="263"/>
                  </a:lnTo>
                  <a:lnTo>
                    <a:pt x="1654" y="264"/>
                  </a:lnTo>
                  <a:lnTo>
                    <a:pt x="1643" y="253"/>
                  </a:lnTo>
                  <a:lnTo>
                    <a:pt x="1630" y="246"/>
                  </a:lnTo>
                  <a:lnTo>
                    <a:pt x="1614" y="251"/>
                  </a:lnTo>
                  <a:lnTo>
                    <a:pt x="1608" y="251"/>
                  </a:lnTo>
                  <a:lnTo>
                    <a:pt x="1601" y="246"/>
                  </a:lnTo>
                  <a:lnTo>
                    <a:pt x="1601" y="237"/>
                  </a:lnTo>
                  <a:close/>
                </a:path>
              </a:pathLst>
            </a:custGeom>
            <a:solidFill>
              <a:srgbClr val="6775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0680" y="2391840"/>
              <a:ext cx="990720" cy="662760"/>
            </a:xfrm>
            <a:custGeom>
              <a:avLst/>
              <a:gdLst/>
              <a:ahLst/>
              <a:rect l="l" t="t" r="r" b="b"/>
              <a:pathLst>
                <a:path w="758" h="612">
                  <a:moveTo>
                    <a:pt x="337" y="0"/>
                  </a:moveTo>
                  <a:lnTo>
                    <a:pt x="337" y="3"/>
                  </a:lnTo>
                  <a:lnTo>
                    <a:pt x="337" y="8"/>
                  </a:lnTo>
                  <a:lnTo>
                    <a:pt x="335" y="15"/>
                  </a:lnTo>
                  <a:lnTo>
                    <a:pt x="335" y="22"/>
                  </a:lnTo>
                  <a:lnTo>
                    <a:pt x="330" y="30"/>
                  </a:lnTo>
                  <a:lnTo>
                    <a:pt x="328" y="35"/>
                  </a:lnTo>
                  <a:lnTo>
                    <a:pt x="321" y="40"/>
                  </a:lnTo>
                  <a:lnTo>
                    <a:pt x="315" y="41"/>
                  </a:lnTo>
                  <a:lnTo>
                    <a:pt x="326" y="41"/>
                  </a:lnTo>
                  <a:lnTo>
                    <a:pt x="337" y="41"/>
                  </a:lnTo>
                  <a:lnTo>
                    <a:pt x="348" y="17"/>
                  </a:lnTo>
                  <a:lnTo>
                    <a:pt x="357" y="11"/>
                  </a:lnTo>
                  <a:lnTo>
                    <a:pt x="366" y="10"/>
                  </a:lnTo>
                  <a:lnTo>
                    <a:pt x="379" y="8"/>
                  </a:lnTo>
                  <a:lnTo>
                    <a:pt x="392" y="7"/>
                  </a:lnTo>
                  <a:lnTo>
                    <a:pt x="405" y="6"/>
                  </a:lnTo>
                  <a:lnTo>
                    <a:pt x="421" y="6"/>
                  </a:lnTo>
                  <a:lnTo>
                    <a:pt x="434" y="6"/>
                  </a:lnTo>
                  <a:lnTo>
                    <a:pt x="450" y="6"/>
                  </a:lnTo>
                  <a:lnTo>
                    <a:pt x="463" y="6"/>
                  </a:lnTo>
                  <a:lnTo>
                    <a:pt x="461" y="8"/>
                  </a:lnTo>
                  <a:lnTo>
                    <a:pt x="459" y="11"/>
                  </a:lnTo>
                  <a:lnTo>
                    <a:pt x="456" y="13"/>
                  </a:lnTo>
                  <a:lnTo>
                    <a:pt x="452" y="17"/>
                  </a:lnTo>
                  <a:lnTo>
                    <a:pt x="448" y="21"/>
                  </a:lnTo>
                  <a:lnTo>
                    <a:pt x="445" y="23"/>
                  </a:lnTo>
                  <a:lnTo>
                    <a:pt x="441" y="26"/>
                  </a:lnTo>
                  <a:lnTo>
                    <a:pt x="441" y="28"/>
                  </a:lnTo>
                  <a:lnTo>
                    <a:pt x="437" y="30"/>
                  </a:lnTo>
                  <a:lnTo>
                    <a:pt x="430" y="31"/>
                  </a:lnTo>
                  <a:lnTo>
                    <a:pt x="423" y="32"/>
                  </a:lnTo>
                  <a:lnTo>
                    <a:pt x="414" y="35"/>
                  </a:lnTo>
                  <a:lnTo>
                    <a:pt x="408" y="37"/>
                  </a:lnTo>
                  <a:lnTo>
                    <a:pt x="399" y="38"/>
                  </a:lnTo>
                  <a:lnTo>
                    <a:pt x="394" y="41"/>
                  </a:lnTo>
                  <a:lnTo>
                    <a:pt x="388" y="41"/>
                  </a:lnTo>
                  <a:lnTo>
                    <a:pt x="390" y="46"/>
                  </a:lnTo>
                  <a:lnTo>
                    <a:pt x="392" y="51"/>
                  </a:lnTo>
                  <a:lnTo>
                    <a:pt x="394" y="56"/>
                  </a:lnTo>
                  <a:lnTo>
                    <a:pt x="399" y="61"/>
                  </a:lnTo>
                  <a:lnTo>
                    <a:pt x="403" y="67"/>
                  </a:lnTo>
                  <a:lnTo>
                    <a:pt x="405" y="72"/>
                  </a:lnTo>
                  <a:lnTo>
                    <a:pt x="408" y="77"/>
                  </a:lnTo>
                  <a:lnTo>
                    <a:pt x="410" y="82"/>
                  </a:lnTo>
                  <a:lnTo>
                    <a:pt x="401" y="87"/>
                  </a:lnTo>
                  <a:lnTo>
                    <a:pt x="392" y="91"/>
                  </a:lnTo>
                  <a:lnTo>
                    <a:pt x="383" y="96"/>
                  </a:lnTo>
                  <a:lnTo>
                    <a:pt x="372" y="99"/>
                  </a:lnTo>
                  <a:lnTo>
                    <a:pt x="363" y="104"/>
                  </a:lnTo>
                  <a:lnTo>
                    <a:pt x="354" y="108"/>
                  </a:lnTo>
                  <a:lnTo>
                    <a:pt x="346" y="113"/>
                  </a:lnTo>
                  <a:lnTo>
                    <a:pt x="337" y="117"/>
                  </a:lnTo>
                  <a:lnTo>
                    <a:pt x="337" y="153"/>
                  </a:lnTo>
                  <a:lnTo>
                    <a:pt x="348" y="152"/>
                  </a:lnTo>
                  <a:lnTo>
                    <a:pt x="359" y="150"/>
                  </a:lnTo>
                  <a:lnTo>
                    <a:pt x="370" y="148"/>
                  </a:lnTo>
                  <a:lnTo>
                    <a:pt x="381" y="145"/>
                  </a:lnTo>
                  <a:lnTo>
                    <a:pt x="390" y="142"/>
                  </a:lnTo>
                  <a:lnTo>
                    <a:pt x="399" y="138"/>
                  </a:lnTo>
                  <a:lnTo>
                    <a:pt x="405" y="133"/>
                  </a:lnTo>
                  <a:lnTo>
                    <a:pt x="410" y="129"/>
                  </a:lnTo>
                  <a:lnTo>
                    <a:pt x="421" y="129"/>
                  </a:lnTo>
                  <a:lnTo>
                    <a:pt x="430" y="129"/>
                  </a:lnTo>
                  <a:lnTo>
                    <a:pt x="430" y="133"/>
                  </a:lnTo>
                  <a:lnTo>
                    <a:pt x="425" y="138"/>
                  </a:lnTo>
                  <a:lnTo>
                    <a:pt x="421" y="143"/>
                  </a:lnTo>
                  <a:lnTo>
                    <a:pt x="417" y="148"/>
                  </a:lnTo>
                  <a:lnTo>
                    <a:pt x="401" y="157"/>
                  </a:lnTo>
                  <a:lnTo>
                    <a:pt x="381" y="167"/>
                  </a:lnTo>
                  <a:lnTo>
                    <a:pt x="363" y="175"/>
                  </a:lnTo>
                  <a:lnTo>
                    <a:pt x="346" y="184"/>
                  </a:lnTo>
                  <a:lnTo>
                    <a:pt x="332" y="193"/>
                  </a:lnTo>
                  <a:lnTo>
                    <a:pt x="326" y="200"/>
                  </a:lnTo>
                  <a:lnTo>
                    <a:pt x="330" y="200"/>
                  </a:lnTo>
                  <a:lnTo>
                    <a:pt x="337" y="200"/>
                  </a:lnTo>
                  <a:lnTo>
                    <a:pt x="346" y="201"/>
                  </a:lnTo>
                  <a:lnTo>
                    <a:pt x="352" y="203"/>
                  </a:lnTo>
                  <a:lnTo>
                    <a:pt x="363" y="204"/>
                  </a:lnTo>
                  <a:lnTo>
                    <a:pt x="372" y="205"/>
                  </a:lnTo>
                  <a:lnTo>
                    <a:pt x="381" y="205"/>
                  </a:lnTo>
                  <a:lnTo>
                    <a:pt x="388" y="205"/>
                  </a:lnTo>
                  <a:lnTo>
                    <a:pt x="381" y="210"/>
                  </a:lnTo>
                  <a:lnTo>
                    <a:pt x="372" y="214"/>
                  </a:lnTo>
                  <a:lnTo>
                    <a:pt x="366" y="219"/>
                  </a:lnTo>
                  <a:lnTo>
                    <a:pt x="359" y="224"/>
                  </a:lnTo>
                  <a:lnTo>
                    <a:pt x="352" y="228"/>
                  </a:lnTo>
                  <a:lnTo>
                    <a:pt x="346" y="232"/>
                  </a:lnTo>
                  <a:lnTo>
                    <a:pt x="341" y="236"/>
                  </a:lnTo>
                  <a:lnTo>
                    <a:pt x="337" y="241"/>
                  </a:lnTo>
                  <a:lnTo>
                    <a:pt x="346" y="241"/>
                  </a:lnTo>
                  <a:lnTo>
                    <a:pt x="354" y="242"/>
                  </a:lnTo>
                  <a:lnTo>
                    <a:pt x="363" y="245"/>
                  </a:lnTo>
                  <a:lnTo>
                    <a:pt x="372" y="246"/>
                  </a:lnTo>
                  <a:lnTo>
                    <a:pt x="383" y="249"/>
                  </a:lnTo>
                  <a:lnTo>
                    <a:pt x="392" y="251"/>
                  </a:lnTo>
                  <a:lnTo>
                    <a:pt x="401" y="252"/>
                  </a:lnTo>
                  <a:lnTo>
                    <a:pt x="410" y="252"/>
                  </a:lnTo>
                  <a:lnTo>
                    <a:pt x="410" y="246"/>
                  </a:lnTo>
                  <a:lnTo>
                    <a:pt x="410" y="241"/>
                  </a:lnTo>
                  <a:lnTo>
                    <a:pt x="441" y="241"/>
                  </a:lnTo>
                  <a:lnTo>
                    <a:pt x="439" y="246"/>
                  </a:lnTo>
                  <a:lnTo>
                    <a:pt x="434" y="254"/>
                  </a:lnTo>
                  <a:lnTo>
                    <a:pt x="428" y="261"/>
                  </a:lnTo>
                  <a:lnTo>
                    <a:pt x="419" y="270"/>
                  </a:lnTo>
                  <a:lnTo>
                    <a:pt x="410" y="277"/>
                  </a:lnTo>
                  <a:lnTo>
                    <a:pt x="401" y="285"/>
                  </a:lnTo>
                  <a:lnTo>
                    <a:pt x="394" y="290"/>
                  </a:lnTo>
                  <a:lnTo>
                    <a:pt x="388" y="293"/>
                  </a:lnTo>
                  <a:lnTo>
                    <a:pt x="392" y="295"/>
                  </a:lnTo>
                  <a:lnTo>
                    <a:pt x="399" y="296"/>
                  </a:lnTo>
                  <a:lnTo>
                    <a:pt x="403" y="297"/>
                  </a:lnTo>
                  <a:lnTo>
                    <a:pt x="410" y="300"/>
                  </a:lnTo>
                  <a:lnTo>
                    <a:pt x="417" y="302"/>
                  </a:lnTo>
                  <a:lnTo>
                    <a:pt x="421" y="303"/>
                  </a:lnTo>
                  <a:lnTo>
                    <a:pt x="425" y="305"/>
                  </a:lnTo>
                  <a:lnTo>
                    <a:pt x="430" y="306"/>
                  </a:lnTo>
                  <a:lnTo>
                    <a:pt x="439" y="301"/>
                  </a:lnTo>
                  <a:lnTo>
                    <a:pt x="448" y="297"/>
                  </a:lnTo>
                  <a:lnTo>
                    <a:pt x="456" y="292"/>
                  </a:lnTo>
                  <a:lnTo>
                    <a:pt x="468" y="289"/>
                  </a:lnTo>
                  <a:lnTo>
                    <a:pt x="476" y="284"/>
                  </a:lnTo>
                  <a:lnTo>
                    <a:pt x="488" y="279"/>
                  </a:lnTo>
                  <a:lnTo>
                    <a:pt x="496" y="275"/>
                  </a:lnTo>
                  <a:lnTo>
                    <a:pt x="503" y="270"/>
                  </a:lnTo>
                  <a:lnTo>
                    <a:pt x="503" y="275"/>
                  </a:lnTo>
                  <a:lnTo>
                    <a:pt x="503" y="279"/>
                  </a:lnTo>
                  <a:lnTo>
                    <a:pt x="501" y="284"/>
                  </a:lnTo>
                  <a:lnTo>
                    <a:pt x="499" y="289"/>
                  </a:lnTo>
                  <a:lnTo>
                    <a:pt x="496" y="292"/>
                  </a:lnTo>
                  <a:lnTo>
                    <a:pt x="494" y="297"/>
                  </a:lnTo>
                  <a:lnTo>
                    <a:pt x="494" y="301"/>
                  </a:lnTo>
                  <a:lnTo>
                    <a:pt x="494" y="306"/>
                  </a:lnTo>
                  <a:lnTo>
                    <a:pt x="578" y="306"/>
                  </a:lnTo>
                  <a:lnTo>
                    <a:pt x="567" y="293"/>
                  </a:lnTo>
                  <a:lnTo>
                    <a:pt x="567" y="291"/>
                  </a:lnTo>
                  <a:lnTo>
                    <a:pt x="570" y="287"/>
                  </a:lnTo>
                  <a:lnTo>
                    <a:pt x="574" y="284"/>
                  </a:lnTo>
                  <a:lnTo>
                    <a:pt x="578" y="279"/>
                  </a:lnTo>
                  <a:lnTo>
                    <a:pt x="583" y="275"/>
                  </a:lnTo>
                  <a:lnTo>
                    <a:pt x="589" y="271"/>
                  </a:lnTo>
                  <a:lnTo>
                    <a:pt x="594" y="267"/>
                  </a:lnTo>
                  <a:lnTo>
                    <a:pt x="598" y="265"/>
                  </a:lnTo>
                  <a:lnTo>
                    <a:pt x="623" y="264"/>
                  </a:lnTo>
                  <a:lnTo>
                    <a:pt x="643" y="261"/>
                  </a:lnTo>
                  <a:lnTo>
                    <a:pt x="663" y="256"/>
                  </a:lnTo>
                  <a:lnTo>
                    <a:pt x="680" y="251"/>
                  </a:lnTo>
                  <a:lnTo>
                    <a:pt x="696" y="244"/>
                  </a:lnTo>
                  <a:lnTo>
                    <a:pt x="711" y="236"/>
                  </a:lnTo>
                  <a:lnTo>
                    <a:pt x="727" y="228"/>
                  </a:lnTo>
                  <a:lnTo>
                    <a:pt x="745" y="218"/>
                  </a:lnTo>
                  <a:lnTo>
                    <a:pt x="731" y="235"/>
                  </a:lnTo>
                  <a:lnTo>
                    <a:pt x="734" y="239"/>
                  </a:lnTo>
                  <a:lnTo>
                    <a:pt x="758" y="247"/>
                  </a:lnTo>
                  <a:lnTo>
                    <a:pt x="758" y="257"/>
                  </a:lnTo>
                  <a:lnTo>
                    <a:pt x="734" y="282"/>
                  </a:lnTo>
                  <a:lnTo>
                    <a:pt x="547" y="346"/>
                  </a:lnTo>
                  <a:lnTo>
                    <a:pt x="417" y="388"/>
                  </a:lnTo>
                  <a:lnTo>
                    <a:pt x="354" y="413"/>
                  </a:lnTo>
                  <a:lnTo>
                    <a:pt x="354" y="420"/>
                  </a:lnTo>
                  <a:lnTo>
                    <a:pt x="359" y="422"/>
                  </a:lnTo>
                  <a:lnTo>
                    <a:pt x="366" y="422"/>
                  </a:lnTo>
                  <a:lnTo>
                    <a:pt x="348" y="437"/>
                  </a:lnTo>
                  <a:lnTo>
                    <a:pt x="343" y="447"/>
                  </a:lnTo>
                  <a:lnTo>
                    <a:pt x="343" y="452"/>
                  </a:lnTo>
                  <a:lnTo>
                    <a:pt x="359" y="460"/>
                  </a:lnTo>
                  <a:lnTo>
                    <a:pt x="412" y="462"/>
                  </a:lnTo>
                  <a:lnTo>
                    <a:pt x="423" y="463"/>
                  </a:lnTo>
                  <a:lnTo>
                    <a:pt x="423" y="489"/>
                  </a:lnTo>
                  <a:lnTo>
                    <a:pt x="417" y="498"/>
                  </a:lnTo>
                  <a:lnTo>
                    <a:pt x="417" y="508"/>
                  </a:lnTo>
                  <a:lnTo>
                    <a:pt x="430" y="511"/>
                  </a:lnTo>
                  <a:lnTo>
                    <a:pt x="452" y="511"/>
                  </a:lnTo>
                  <a:lnTo>
                    <a:pt x="459" y="508"/>
                  </a:lnTo>
                  <a:lnTo>
                    <a:pt x="468" y="508"/>
                  </a:lnTo>
                  <a:lnTo>
                    <a:pt x="470" y="587"/>
                  </a:lnTo>
                  <a:lnTo>
                    <a:pt x="476" y="608"/>
                  </a:lnTo>
                  <a:lnTo>
                    <a:pt x="476" y="610"/>
                  </a:lnTo>
                  <a:lnTo>
                    <a:pt x="476" y="610"/>
                  </a:lnTo>
                  <a:lnTo>
                    <a:pt x="474" y="610"/>
                  </a:lnTo>
                  <a:lnTo>
                    <a:pt x="474" y="611"/>
                  </a:lnTo>
                  <a:lnTo>
                    <a:pt x="474" y="611"/>
                  </a:lnTo>
                  <a:lnTo>
                    <a:pt x="474" y="611"/>
                  </a:lnTo>
                  <a:lnTo>
                    <a:pt x="472" y="611"/>
                  </a:lnTo>
                  <a:lnTo>
                    <a:pt x="472" y="612"/>
                  </a:lnTo>
                  <a:lnTo>
                    <a:pt x="468" y="612"/>
                  </a:lnTo>
                  <a:lnTo>
                    <a:pt x="463" y="612"/>
                  </a:lnTo>
                  <a:lnTo>
                    <a:pt x="459" y="612"/>
                  </a:lnTo>
                  <a:lnTo>
                    <a:pt x="454" y="611"/>
                  </a:lnTo>
                  <a:lnTo>
                    <a:pt x="450" y="611"/>
                  </a:lnTo>
                  <a:lnTo>
                    <a:pt x="445" y="611"/>
                  </a:lnTo>
                  <a:lnTo>
                    <a:pt x="441" y="611"/>
                  </a:lnTo>
                  <a:lnTo>
                    <a:pt x="437" y="611"/>
                  </a:lnTo>
                  <a:lnTo>
                    <a:pt x="421" y="603"/>
                  </a:lnTo>
                  <a:lnTo>
                    <a:pt x="403" y="601"/>
                  </a:lnTo>
                  <a:lnTo>
                    <a:pt x="366" y="582"/>
                  </a:lnTo>
                  <a:lnTo>
                    <a:pt x="348" y="577"/>
                  </a:lnTo>
                  <a:lnTo>
                    <a:pt x="332" y="581"/>
                  </a:lnTo>
                  <a:lnTo>
                    <a:pt x="328" y="583"/>
                  </a:lnTo>
                  <a:lnTo>
                    <a:pt x="328" y="582"/>
                  </a:lnTo>
                  <a:lnTo>
                    <a:pt x="326" y="582"/>
                  </a:lnTo>
                  <a:lnTo>
                    <a:pt x="323" y="581"/>
                  </a:lnTo>
                  <a:lnTo>
                    <a:pt x="321" y="580"/>
                  </a:lnTo>
                  <a:lnTo>
                    <a:pt x="321" y="580"/>
                  </a:lnTo>
                  <a:lnTo>
                    <a:pt x="319" y="579"/>
                  </a:lnTo>
                  <a:lnTo>
                    <a:pt x="317" y="577"/>
                  </a:lnTo>
                  <a:lnTo>
                    <a:pt x="315" y="576"/>
                  </a:lnTo>
                  <a:lnTo>
                    <a:pt x="312" y="576"/>
                  </a:lnTo>
                  <a:lnTo>
                    <a:pt x="312" y="576"/>
                  </a:lnTo>
                  <a:lnTo>
                    <a:pt x="310" y="576"/>
                  </a:lnTo>
                  <a:lnTo>
                    <a:pt x="308" y="576"/>
                  </a:lnTo>
                  <a:lnTo>
                    <a:pt x="306" y="576"/>
                  </a:lnTo>
                  <a:lnTo>
                    <a:pt x="303" y="576"/>
                  </a:lnTo>
                  <a:lnTo>
                    <a:pt x="303" y="576"/>
                  </a:lnTo>
                  <a:lnTo>
                    <a:pt x="301" y="576"/>
                  </a:lnTo>
                  <a:lnTo>
                    <a:pt x="299" y="572"/>
                  </a:lnTo>
                  <a:lnTo>
                    <a:pt x="290" y="550"/>
                  </a:lnTo>
                  <a:lnTo>
                    <a:pt x="270" y="535"/>
                  </a:lnTo>
                  <a:lnTo>
                    <a:pt x="253" y="530"/>
                  </a:lnTo>
                  <a:lnTo>
                    <a:pt x="197" y="504"/>
                  </a:lnTo>
                  <a:lnTo>
                    <a:pt x="146" y="476"/>
                  </a:lnTo>
                  <a:lnTo>
                    <a:pt x="91" y="440"/>
                  </a:lnTo>
                  <a:lnTo>
                    <a:pt x="91" y="439"/>
                  </a:lnTo>
                  <a:lnTo>
                    <a:pt x="93" y="438"/>
                  </a:lnTo>
                  <a:lnTo>
                    <a:pt x="93" y="437"/>
                  </a:lnTo>
                  <a:lnTo>
                    <a:pt x="93" y="435"/>
                  </a:lnTo>
                  <a:lnTo>
                    <a:pt x="95" y="434"/>
                  </a:lnTo>
                  <a:lnTo>
                    <a:pt x="95" y="433"/>
                  </a:lnTo>
                  <a:lnTo>
                    <a:pt x="95" y="430"/>
                  </a:lnTo>
                  <a:lnTo>
                    <a:pt x="95" y="429"/>
                  </a:lnTo>
                  <a:lnTo>
                    <a:pt x="93" y="429"/>
                  </a:lnTo>
                  <a:lnTo>
                    <a:pt x="91" y="429"/>
                  </a:lnTo>
                  <a:lnTo>
                    <a:pt x="88" y="429"/>
                  </a:lnTo>
                  <a:lnTo>
                    <a:pt x="86" y="429"/>
                  </a:lnTo>
                  <a:lnTo>
                    <a:pt x="84" y="429"/>
                  </a:lnTo>
                  <a:lnTo>
                    <a:pt x="82" y="429"/>
                  </a:lnTo>
                  <a:lnTo>
                    <a:pt x="82" y="429"/>
                  </a:lnTo>
                  <a:lnTo>
                    <a:pt x="80" y="429"/>
                  </a:lnTo>
                  <a:lnTo>
                    <a:pt x="66" y="415"/>
                  </a:lnTo>
                  <a:lnTo>
                    <a:pt x="20" y="387"/>
                  </a:lnTo>
                  <a:lnTo>
                    <a:pt x="11" y="382"/>
                  </a:lnTo>
                  <a:lnTo>
                    <a:pt x="11" y="382"/>
                  </a:lnTo>
                  <a:lnTo>
                    <a:pt x="15" y="381"/>
                  </a:lnTo>
                  <a:lnTo>
                    <a:pt x="20" y="379"/>
                  </a:lnTo>
                  <a:lnTo>
                    <a:pt x="26" y="378"/>
                  </a:lnTo>
                  <a:lnTo>
                    <a:pt x="31" y="378"/>
                  </a:lnTo>
                  <a:lnTo>
                    <a:pt x="37" y="377"/>
                  </a:lnTo>
                  <a:lnTo>
                    <a:pt x="42" y="377"/>
                  </a:lnTo>
                  <a:lnTo>
                    <a:pt x="49" y="377"/>
                  </a:lnTo>
                  <a:lnTo>
                    <a:pt x="53" y="376"/>
                  </a:lnTo>
                  <a:lnTo>
                    <a:pt x="64" y="371"/>
                  </a:lnTo>
                  <a:lnTo>
                    <a:pt x="60" y="368"/>
                  </a:lnTo>
                  <a:lnTo>
                    <a:pt x="53" y="364"/>
                  </a:lnTo>
                  <a:lnTo>
                    <a:pt x="44" y="359"/>
                  </a:lnTo>
                  <a:lnTo>
                    <a:pt x="35" y="356"/>
                  </a:lnTo>
                  <a:lnTo>
                    <a:pt x="26" y="351"/>
                  </a:lnTo>
                  <a:lnTo>
                    <a:pt x="18" y="347"/>
                  </a:lnTo>
                  <a:lnTo>
                    <a:pt x="9" y="343"/>
                  </a:lnTo>
                  <a:lnTo>
                    <a:pt x="0" y="341"/>
                  </a:lnTo>
                  <a:lnTo>
                    <a:pt x="22" y="338"/>
                  </a:lnTo>
                  <a:lnTo>
                    <a:pt x="42" y="337"/>
                  </a:lnTo>
                  <a:lnTo>
                    <a:pt x="64" y="335"/>
                  </a:lnTo>
                  <a:lnTo>
                    <a:pt x="84" y="333"/>
                  </a:lnTo>
                  <a:lnTo>
                    <a:pt x="106" y="331"/>
                  </a:lnTo>
                  <a:lnTo>
                    <a:pt x="128" y="330"/>
                  </a:lnTo>
                  <a:lnTo>
                    <a:pt x="148" y="330"/>
                  </a:lnTo>
                  <a:lnTo>
                    <a:pt x="168" y="330"/>
                  </a:lnTo>
                  <a:lnTo>
                    <a:pt x="168" y="325"/>
                  </a:lnTo>
                  <a:lnTo>
                    <a:pt x="166" y="321"/>
                  </a:lnTo>
                  <a:lnTo>
                    <a:pt x="162" y="317"/>
                  </a:lnTo>
                  <a:lnTo>
                    <a:pt x="157" y="312"/>
                  </a:lnTo>
                  <a:lnTo>
                    <a:pt x="144" y="306"/>
                  </a:lnTo>
                  <a:lnTo>
                    <a:pt x="128" y="300"/>
                  </a:lnTo>
                  <a:lnTo>
                    <a:pt x="111" y="295"/>
                  </a:lnTo>
                  <a:lnTo>
                    <a:pt x="93" y="291"/>
                  </a:lnTo>
                  <a:lnTo>
                    <a:pt x="77" y="289"/>
                  </a:lnTo>
                  <a:lnTo>
                    <a:pt x="64" y="289"/>
                  </a:lnTo>
                  <a:lnTo>
                    <a:pt x="179" y="289"/>
                  </a:lnTo>
                  <a:lnTo>
                    <a:pt x="210" y="270"/>
                  </a:lnTo>
                  <a:lnTo>
                    <a:pt x="210" y="266"/>
                  </a:lnTo>
                  <a:lnTo>
                    <a:pt x="213" y="261"/>
                  </a:lnTo>
                  <a:lnTo>
                    <a:pt x="215" y="255"/>
                  </a:lnTo>
                  <a:lnTo>
                    <a:pt x="219" y="250"/>
                  </a:lnTo>
                  <a:lnTo>
                    <a:pt x="224" y="246"/>
                  </a:lnTo>
                  <a:lnTo>
                    <a:pt x="228" y="241"/>
                  </a:lnTo>
                  <a:lnTo>
                    <a:pt x="235" y="237"/>
                  </a:lnTo>
                  <a:lnTo>
                    <a:pt x="241" y="235"/>
                  </a:lnTo>
                  <a:lnTo>
                    <a:pt x="224" y="221"/>
                  </a:lnTo>
                  <a:lnTo>
                    <a:pt x="213" y="209"/>
                  </a:lnTo>
                  <a:lnTo>
                    <a:pt x="202" y="198"/>
                  </a:lnTo>
                  <a:lnTo>
                    <a:pt x="197" y="188"/>
                  </a:lnTo>
                  <a:lnTo>
                    <a:pt x="193" y="178"/>
                  </a:lnTo>
                  <a:lnTo>
                    <a:pt x="190" y="167"/>
                  </a:lnTo>
                  <a:lnTo>
                    <a:pt x="190" y="155"/>
                  </a:lnTo>
                  <a:lnTo>
                    <a:pt x="190" y="140"/>
                  </a:lnTo>
                  <a:lnTo>
                    <a:pt x="199" y="140"/>
                  </a:lnTo>
                  <a:lnTo>
                    <a:pt x="210" y="140"/>
                  </a:lnTo>
                  <a:lnTo>
                    <a:pt x="210" y="135"/>
                  </a:lnTo>
                  <a:lnTo>
                    <a:pt x="210" y="129"/>
                  </a:lnTo>
                  <a:lnTo>
                    <a:pt x="206" y="128"/>
                  </a:lnTo>
                  <a:lnTo>
                    <a:pt x="202" y="127"/>
                  </a:lnTo>
                  <a:lnTo>
                    <a:pt x="197" y="123"/>
                  </a:lnTo>
                  <a:lnTo>
                    <a:pt x="193" y="119"/>
                  </a:lnTo>
                  <a:lnTo>
                    <a:pt x="188" y="115"/>
                  </a:lnTo>
                  <a:lnTo>
                    <a:pt x="186" y="112"/>
                  </a:lnTo>
                  <a:lnTo>
                    <a:pt x="186" y="108"/>
                  </a:lnTo>
                  <a:lnTo>
                    <a:pt x="190" y="106"/>
                  </a:lnTo>
                  <a:lnTo>
                    <a:pt x="199" y="99"/>
                  </a:lnTo>
                  <a:lnTo>
                    <a:pt x="230" y="99"/>
                  </a:lnTo>
                  <a:lnTo>
                    <a:pt x="241" y="92"/>
                  </a:lnTo>
                  <a:lnTo>
                    <a:pt x="250" y="83"/>
                  </a:lnTo>
                  <a:lnTo>
                    <a:pt x="255" y="74"/>
                  </a:lnTo>
                  <a:lnTo>
                    <a:pt x="259" y="63"/>
                  </a:lnTo>
                  <a:lnTo>
                    <a:pt x="261" y="53"/>
                  </a:lnTo>
                  <a:lnTo>
                    <a:pt x="261" y="42"/>
                  </a:lnTo>
                  <a:lnTo>
                    <a:pt x="264" y="32"/>
                  </a:lnTo>
                  <a:lnTo>
                    <a:pt x="264" y="23"/>
                  </a:lnTo>
                  <a:lnTo>
                    <a:pt x="266" y="23"/>
                  </a:lnTo>
                  <a:lnTo>
                    <a:pt x="270" y="22"/>
                  </a:lnTo>
                  <a:lnTo>
                    <a:pt x="275" y="21"/>
                  </a:lnTo>
                  <a:lnTo>
                    <a:pt x="277" y="20"/>
                  </a:lnTo>
                  <a:lnTo>
                    <a:pt x="279" y="17"/>
                  </a:lnTo>
                  <a:lnTo>
                    <a:pt x="281" y="16"/>
                  </a:lnTo>
                  <a:lnTo>
                    <a:pt x="284" y="13"/>
                  </a:lnTo>
                  <a:lnTo>
                    <a:pt x="284" y="11"/>
                  </a:lnTo>
                  <a:lnTo>
                    <a:pt x="337" y="0"/>
                  </a:lnTo>
                  <a:close/>
                </a:path>
              </a:pathLst>
            </a:custGeom>
            <a:solidFill>
              <a:srgbClr val="2d6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4240" y="2749320"/>
              <a:ext cx="488520" cy="315000"/>
            </a:xfrm>
            <a:custGeom>
              <a:avLst/>
              <a:gdLst/>
              <a:ahLst/>
              <a:rect l="l" t="t" r="r" b="b"/>
              <a:pathLst>
                <a:path w="374" h="291">
                  <a:moveTo>
                    <a:pt x="0" y="117"/>
                  </a:moveTo>
                  <a:lnTo>
                    <a:pt x="35" y="82"/>
                  </a:lnTo>
                  <a:lnTo>
                    <a:pt x="42" y="82"/>
                  </a:lnTo>
                  <a:lnTo>
                    <a:pt x="51" y="80"/>
                  </a:lnTo>
                  <a:lnTo>
                    <a:pt x="60" y="79"/>
                  </a:lnTo>
                  <a:lnTo>
                    <a:pt x="66" y="78"/>
                  </a:lnTo>
                  <a:lnTo>
                    <a:pt x="75" y="76"/>
                  </a:lnTo>
                  <a:lnTo>
                    <a:pt x="82" y="74"/>
                  </a:lnTo>
                  <a:lnTo>
                    <a:pt x="91" y="72"/>
                  </a:lnTo>
                  <a:lnTo>
                    <a:pt x="97" y="69"/>
                  </a:lnTo>
                  <a:lnTo>
                    <a:pt x="97" y="11"/>
                  </a:lnTo>
                  <a:lnTo>
                    <a:pt x="106" y="8"/>
                  </a:lnTo>
                  <a:lnTo>
                    <a:pt x="115" y="7"/>
                  </a:lnTo>
                  <a:lnTo>
                    <a:pt x="126" y="5"/>
                  </a:lnTo>
                  <a:lnTo>
                    <a:pt x="135" y="3"/>
                  </a:lnTo>
                  <a:lnTo>
                    <a:pt x="146" y="1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2" y="0"/>
                  </a:lnTo>
                  <a:lnTo>
                    <a:pt x="182" y="6"/>
                  </a:lnTo>
                  <a:lnTo>
                    <a:pt x="179" y="15"/>
                  </a:lnTo>
                  <a:lnTo>
                    <a:pt x="179" y="23"/>
                  </a:lnTo>
                  <a:lnTo>
                    <a:pt x="177" y="32"/>
                  </a:lnTo>
                  <a:lnTo>
                    <a:pt x="175" y="41"/>
                  </a:lnTo>
                  <a:lnTo>
                    <a:pt x="173" y="49"/>
                  </a:lnTo>
                  <a:lnTo>
                    <a:pt x="173" y="57"/>
                  </a:lnTo>
                  <a:lnTo>
                    <a:pt x="170" y="64"/>
                  </a:lnTo>
                  <a:lnTo>
                    <a:pt x="246" y="64"/>
                  </a:lnTo>
                  <a:lnTo>
                    <a:pt x="248" y="58"/>
                  </a:lnTo>
                  <a:lnTo>
                    <a:pt x="255" y="52"/>
                  </a:lnTo>
                  <a:lnTo>
                    <a:pt x="261" y="46"/>
                  </a:lnTo>
                  <a:lnTo>
                    <a:pt x="268" y="41"/>
                  </a:lnTo>
                  <a:lnTo>
                    <a:pt x="275" y="36"/>
                  </a:lnTo>
                  <a:lnTo>
                    <a:pt x="281" y="32"/>
                  </a:lnTo>
                  <a:lnTo>
                    <a:pt x="290" y="27"/>
                  </a:lnTo>
                  <a:lnTo>
                    <a:pt x="297" y="23"/>
                  </a:lnTo>
                  <a:lnTo>
                    <a:pt x="308" y="23"/>
                  </a:lnTo>
                  <a:lnTo>
                    <a:pt x="317" y="24"/>
                  </a:lnTo>
                  <a:lnTo>
                    <a:pt x="326" y="27"/>
                  </a:lnTo>
                  <a:lnTo>
                    <a:pt x="335" y="29"/>
                  </a:lnTo>
                  <a:lnTo>
                    <a:pt x="341" y="33"/>
                  </a:lnTo>
                  <a:lnTo>
                    <a:pt x="348" y="36"/>
                  </a:lnTo>
                  <a:lnTo>
                    <a:pt x="354" y="41"/>
                  </a:lnTo>
                  <a:lnTo>
                    <a:pt x="359" y="44"/>
                  </a:lnTo>
                  <a:lnTo>
                    <a:pt x="315" y="58"/>
                  </a:lnTo>
                  <a:lnTo>
                    <a:pt x="252" y="83"/>
                  </a:lnTo>
                  <a:lnTo>
                    <a:pt x="252" y="90"/>
                  </a:lnTo>
                  <a:lnTo>
                    <a:pt x="257" y="92"/>
                  </a:lnTo>
                  <a:lnTo>
                    <a:pt x="264" y="92"/>
                  </a:lnTo>
                  <a:lnTo>
                    <a:pt x="246" y="107"/>
                  </a:lnTo>
                  <a:lnTo>
                    <a:pt x="241" y="117"/>
                  </a:lnTo>
                  <a:lnTo>
                    <a:pt x="241" y="122"/>
                  </a:lnTo>
                  <a:lnTo>
                    <a:pt x="257" y="130"/>
                  </a:lnTo>
                  <a:lnTo>
                    <a:pt x="310" y="132"/>
                  </a:lnTo>
                  <a:lnTo>
                    <a:pt x="321" y="133"/>
                  </a:lnTo>
                  <a:lnTo>
                    <a:pt x="321" y="159"/>
                  </a:lnTo>
                  <a:lnTo>
                    <a:pt x="315" y="168"/>
                  </a:lnTo>
                  <a:lnTo>
                    <a:pt x="315" y="178"/>
                  </a:lnTo>
                  <a:lnTo>
                    <a:pt x="328" y="181"/>
                  </a:lnTo>
                  <a:lnTo>
                    <a:pt x="350" y="181"/>
                  </a:lnTo>
                  <a:lnTo>
                    <a:pt x="357" y="178"/>
                  </a:lnTo>
                  <a:lnTo>
                    <a:pt x="366" y="178"/>
                  </a:lnTo>
                  <a:lnTo>
                    <a:pt x="368" y="257"/>
                  </a:lnTo>
                  <a:lnTo>
                    <a:pt x="374" y="278"/>
                  </a:lnTo>
                  <a:lnTo>
                    <a:pt x="372" y="286"/>
                  </a:lnTo>
                  <a:lnTo>
                    <a:pt x="372" y="291"/>
                  </a:lnTo>
                  <a:lnTo>
                    <a:pt x="350" y="287"/>
                  </a:lnTo>
                  <a:lnTo>
                    <a:pt x="319" y="273"/>
                  </a:lnTo>
                  <a:lnTo>
                    <a:pt x="301" y="271"/>
                  </a:lnTo>
                  <a:lnTo>
                    <a:pt x="264" y="252"/>
                  </a:lnTo>
                  <a:lnTo>
                    <a:pt x="246" y="247"/>
                  </a:lnTo>
                  <a:lnTo>
                    <a:pt x="230" y="251"/>
                  </a:lnTo>
                  <a:lnTo>
                    <a:pt x="219" y="261"/>
                  </a:lnTo>
                  <a:lnTo>
                    <a:pt x="204" y="258"/>
                  </a:lnTo>
                  <a:lnTo>
                    <a:pt x="197" y="242"/>
                  </a:lnTo>
                  <a:lnTo>
                    <a:pt x="188" y="220"/>
                  </a:lnTo>
                  <a:lnTo>
                    <a:pt x="168" y="205"/>
                  </a:lnTo>
                  <a:lnTo>
                    <a:pt x="151" y="200"/>
                  </a:lnTo>
                  <a:lnTo>
                    <a:pt x="95" y="174"/>
                  </a:lnTo>
                  <a:lnTo>
                    <a:pt x="44" y="146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2252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60200" y="2286720"/>
              <a:ext cx="851760" cy="1125000"/>
            </a:xfrm>
            <a:custGeom>
              <a:avLst/>
              <a:gdLst/>
              <a:ahLst/>
              <a:rect l="l" t="t" r="r" b="b"/>
              <a:pathLst>
                <a:path w="652" h="1039">
                  <a:moveTo>
                    <a:pt x="29" y="600"/>
                  </a:moveTo>
                  <a:lnTo>
                    <a:pt x="27" y="580"/>
                  </a:lnTo>
                  <a:lnTo>
                    <a:pt x="25" y="559"/>
                  </a:lnTo>
                  <a:lnTo>
                    <a:pt x="25" y="557"/>
                  </a:lnTo>
                  <a:lnTo>
                    <a:pt x="0" y="379"/>
                  </a:lnTo>
                  <a:lnTo>
                    <a:pt x="22" y="367"/>
                  </a:lnTo>
                  <a:lnTo>
                    <a:pt x="36" y="368"/>
                  </a:lnTo>
                  <a:lnTo>
                    <a:pt x="49" y="372"/>
                  </a:lnTo>
                  <a:lnTo>
                    <a:pt x="58" y="377"/>
                  </a:lnTo>
                  <a:lnTo>
                    <a:pt x="69" y="382"/>
                  </a:lnTo>
                  <a:lnTo>
                    <a:pt x="78" y="387"/>
                  </a:lnTo>
                  <a:lnTo>
                    <a:pt x="87" y="392"/>
                  </a:lnTo>
                  <a:lnTo>
                    <a:pt x="96" y="395"/>
                  </a:lnTo>
                  <a:lnTo>
                    <a:pt x="107" y="397"/>
                  </a:lnTo>
                  <a:lnTo>
                    <a:pt x="107" y="390"/>
                  </a:lnTo>
                  <a:lnTo>
                    <a:pt x="107" y="383"/>
                  </a:lnTo>
                  <a:lnTo>
                    <a:pt x="104" y="377"/>
                  </a:lnTo>
                  <a:lnTo>
                    <a:pt x="104" y="371"/>
                  </a:lnTo>
                  <a:lnTo>
                    <a:pt x="102" y="363"/>
                  </a:lnTo>
                  <a:lnTo>
                    <a:pt x="102" y="357"/>
                  </a:lnTo>
                  <a:lnTo>
                    <a:pt x="100" y="349"/>
                  </a:lnTo>
                  <a:lnTo>
                    <a:pt x="98" y="343"/>
                  </a:lnTo>
                  <a:lnTo>
                    <a:pt x="100" y="343"/>
                  </a:lnTo>
                  <a:lnTo>
                    <a:pt x="104" y="328"/>
                  </a:lnTo>
                  <a:lnTo>
                    <a:pt x="104" y="300"/>
                  </a:lnTo>
                  <a:lnTo>
                    <a:pt x="113" y="288"/>
                  </a:lnTo>
                  <a:lnTo>
                    <a:pt x="111" y="278"/>
                  </a:lnTo>
                  <a:lnTo>
                    <a:pt x="96" y="272"/>
                  </a:lnTo>
                  <a:lnTo>
                    <a:pt x="104" y="272"/>
                  </a:lnTo>
                  <a:lnTo>
                    <a:pt x="111" y="271"/>
                  </a:lnTo>
                  <a:lnTo>
                    <a:pt x="120" y="270"/>
                  </a:lnTo>
                  <a:lnTo>
                    <a:pt x="129" y="270"/>
                  </a:lnTo>
                  <a:lnTo>
                    <a:pt x="135" y="269"/>
                  </a:lnTo>
                  <a:lnTo>
                    <a:pt x="144" y="267"/>
                  </a:lnTo>
                  <a:lnTo>
                    <a:pt x="151" y="267"/>
                  </a:lnTo>
                  <a:lnTo>
                    <a:pt x="158" y="267"/>
                  </a:lnTo>
                  <a:lnTo>
                    <a:pt x="147" y="241"/>
                  </a:lnTo>
                  <a:lnTo>
                    <a:pt x="138" y="217"/>
                  </a:lnTo>
                  <a:lnTo>
                    <a:pt x="129" y="195"/>
                  </a:lnTo>
                  <a:lnTo>
                    <a:pt x="124" y="174"/>
                  </a:lnTo>
                  <a:lnTo>
                    <a:pt x="124" y="163"/>
                  </a:lnTo>
                  <a:lnTo>
                    <a:pt x="124" y="153"/>
                  </a:lnTo>
                  <a:lnTo>
                    <a:pt x="129" y="142"/>
                  </a:lnTo>
                  <a:lnTo>
                    <a:pt x="131" y="130"/>
                  </a:lnTo>
                  <a:lnTo>
                    <a:pt x="138" y="119"/>
                  </a:lnTo>
                  <a:lnTo>
                    <a:pt x="147" y="108"/>
                  </a:lnTo>
                  <a:lnTo>
                    <a:pt x="155" y="97"/>
                  </a:lnTo>
                  <a:lnTo>
                    <a:pt x="169" y="84"/>
                  </a:lnTo>
                  <a:lnTo>
                    <a:pt x="175" y="100"/>
                  </a:lnTo>
                  <a:lnTo>
                    <a:pt x="182" y="117"/>
                  </a:lnTo>
                  <a:lnTo>
                    <a:pt x="189" y="133"/>
                  </a:lnTo>
                  <a:lnTo>
                    <a:pt x="193" y="150"/>
                  </a:lnTo>
                  <a:lnTo>
                    <a:pt x="195" y="168"/>
                  </a:lnTo>
                  <a:lnTo>
                    <a:pt x="198" y="185"/>
                  </a:lnTo>
                  <a:lnTo>
                    <a:pt x="200" y="203"/>
                  </a:lnTo>
                  <a:lnTo>
                    <a:pt x="200" y="220"/>
                  </a:lnTo>
                  <a:lnTo>
                    <a:pt x="233" y="220"/>
                  </a:lnTo>
                  <a:lnTo>
                    <a:pt x="242" y="214"/>
                  </a:lnTo>
                  <a:lnTo>
                    <a:pt x="251" y="206"/>
                  </a:lnTo>
                  <a:lnTo>
                    <a:pt x="257" y="199"/>
                  </a:lnTo>
                  <a:lnTo>
                    <a:pt x="264" y="190"/>
                  </a:lnTo>
                  <a:lnTo>
                    <a:pt x="271" y="171"/>
                  </a:lnTo>
                  <a:lnTo>
                    <a:pt x="273" y="152"/>
                  </a:lnTo>
                  <a:lnTo>
                    <a:pt x="273" y="130"/>
                  </a:lnTo>
                  <a:lnTo>
                    <a:pt x="271" y="110"/>
                  </a:lnTo>
                  <a:lnTo>
                    <a:pt x="264" y="91"/>
                  </a:lnTo>
                  <a:lnTo>
                    <a:pt x="257" y="72"/>
                  </a:lnTo>
                  <a:lnTo>
                    <a:pt x="257" y="71"/>
                  </a:lnTo>
                  <a:lnTo>
                    <a:pt x="264" y="56"/>
                  </a:lnTo>
                  <a:lnTo>
                    <a:pt x="306" y="38"/>
                  </a:lnTo>
                  <a:lnTo>
                    <a:pt x="313" y="47"/>
                  </a:lnTo>
                  <a:lnTo>
                    <a:pt x="319" y="59"/>
                  </a:lnTo>
                  <a:lnTo>
                    <a:pt x="326" y="72"/>
                  </a:lnTo>
                  <a:lnTo>
                    <a:pt x="331" y="86"/>
                  </a:lnTo>
                  <a:lnTo>
                    <a:pt x="335" y="99"/>
                  </a:lnTo>
                  <a:lnTo>
                    <a:pt x="339" y="113"/>
                  </a:lnTo>
                  <a:lnTo>
                    <a:pt x="344" y="125"/>
                  </a:lnTo>
                  <a:lnTo>
                    <a:pt x="348" y="138"/>
                  </a:lnTo>
                  <a:lnTo>
                    <a:pt x="390" y="0"/>
                  </a:lnTo>
                  <a:lnTo>
                    <a:pt x="417" y="16"/>
                  </a:lnTo>
                  <a:lnTo>
                    <a:pt x="426" y="26"/>
                  </a:lnTo>
                  <a:lnTo>
                    <a:pt x="417" y="43"/>
                  </a:lnTo>
                  <a:lnTo>
                    <a:pt x="404" y="54"/>
                  </a:lnTo>
                  <a:lnTo>
                    <a:pt x="404" y="59"/>
                  </a:lnTo>
                  <a:lnTo>
                    <a:pt x="426" y="68"/>
                  </a:lnTo>
                  <a:lnTo>
                    <a:pt x="435" y="68"/>
                  </a:lnTo>
                  <a:lnTo>
                    <a:pt x="441" y="71"/>
                  </a:lnTo>
                  <a:lnTo>
                    <a:pt x="441" y="93"/>
                  </a:lnTo>
                  <a:lnTo>
                    <a:pt x="459" y="103"/>
                  </a:lnTo>
                  <a:lnTo>
                    <a:pt x="477" y="103"/>
                  </a:lnTo>
                  <a:lnTo>
                    <a:pt x="484" y="100"/>
                  </a:lnTo>
                  <a:lnTo>
                    <a:pt x="484" y="112"/>
                  </a:lnTo>
                  <a:lnTo>
                    <a:pt x="484" y="122"/>
                  </a:lnTo>
                  <a:lnTo>
                    <a:pt x="484" y="132"/>
                  </a:lnTo>
                  <a:lnTo>
                    <a:pt x="479" y="142"/>
                  </a:lnTo>
                  <a:lnTo>
                    <a:pt x="475" y="152"/>
                  </a:lnTo>
                  <a:lnTo>
                    <a:pt x="466" y="161"/>
                  </a:lnTo>
                  <a:lnTo>
                    <a:pt x="455" y="170"/>
                  </a:lnTo>
                  <a:lnTo>
                    <a:pt x="441" y="179"/>
                  </a:lnTo>
                  <a:lnTo>
                    <a:pt x="446" y="179"/>
                  </a:lnTo>
                  <a:lnTo>
                    <a:pt x="450" y="181"/>
                  </a:lnTo>
                  <a:lnTo>
                    <a:pt x="457" y="183"/>
                  </a:lnTo>
                  <a:lnTo>
                    <a:pt x="464" y="185"/>
                  </a:lnTo>
                  <a:lnTo>
                    <a:pt x="468" y="186"/>
                  </a:lnTo>
                  <a:lnTo>
                    <a:pt x="475" y="189"/>
                  </a:lnTo>
                  <a:lnTo>
                    <a:pt x="479" y="190"/>
                  </a:lnTo>
                  <a:lnTo>
                    <a:pt x="484" y="190"/>
                  </a:lnTo>
                  <a:lnTo>
                    <a:pt x="497" y="183"/>
                  </a:lnTo>
                  <a:lnTo>
                    <a:pt x="512" y="171"/>
                  </a:lnTo>
                  <a:lnTo>
                    <a:pt x="528" y="159"/>
                  </a:lnTo>
                  <a:lnTo>
                    <a:pt x="546" y="145"/>
                  </a:lnTo>
                  <a:lnTo>
                    <a:pt x="563" y="130"/>
                  </a:lnTo>
                  <a:lnTo>
                    <a:pt x="581" y="117"/>
                  </a:lnTo>
                  <a:lnTo>
                    <a:pt x="597" y="103"/>
                  </a:lnTo>
                  <a:lnTo>
                    <a:pt x="610" y="91"/>
                  </a:lnTo>
                  <a:lnTo>
                    <a:pt x="599" y="113"/>
                  </a:lnTo>
                  <a:lnTo>
                    <a:pt x="583" y="137"/>
                  </a:lnTo>
                  <a:lnTo>
                    <a:pt x="566" y="160"/>
                  </a:lnTo>
                  <a:lnTo>
                    <a:pt x="548" y="184"/>
                  </a:lnTo>
                  <a:lnTo>
                    <a:pt x="530" y="208"/>
                  </a:lnTo>
                  <a:lnTo>
                    <a:pt x="515" y="230"/>
                  </a:lnTo>
                  <a:lnTo>
                    <a:pt x="501" y="252"/>
                  </a:lnTo>
                  <a:lnTo>
                    <a:pt x="495" y="273"/>
                  </a:lnTo>
                  <a:lnTo>
                    <a:pt x="495" y="278"/>
                  </a:lnTo>
                  <a:lnTo>
                    <a:pt x="499" y="281"/>
                  </a:lnTo>
                  <a:lnTo>
                    <a:pt x="506" y="283"/>
                  </a:lnTo>
                  <a:lnTo>
                    <a:pt x="512" y="285"/>
                  </a:lnTo>
                  <a:lnTo>
                    <a:pt x="521" y="287"/>
                  </a:lnTo>
                  <a:lnTo>
                    <a:pt x="528" y="288"/>
                  </a:lnTo>
                  <a:lnTo>
                    <a:pt x="535" y="290"/>
                  </a:lnTo>
                  <a:lnTo>
                    <a:pt x="541" y="291"/>
                  </a:lnTo>
                  <a:lnTo>
                    <a:pt x="546" y="291"/>
                  </a:lnTo>
                  <a:lnTo>
                    <a:pt x="541" y="293"/>
                  </a:lnTo>
                  <a:lnTo>
                    <a:pt x="537" y="298"/>
                  </a:lnTo>
                  <a:lnTo>
                    <a:pt x="532" y="303"/>
                  </a:lnTo>
                  <a:lnTo>
                    <a:pt x="526" y="310"/>
                  </a:lnTo>
                  <a:lnTo>
                    <a:pt x="519" y="316"/>
                  </a:lnTo>
                  <a:lnTo>
                    <a:pt x="515" y="321"/>
                  </a:lnTo>
                  <a:lnTo>
                    <a:pt x="508" y="327"/>
                  </a:lnTo>
                  <a:lnTo>
                    <a:pt x="503" y="332"/>
                  </a:lnTo>
                  <a:lnTo>
                    <a:pt x="526" y="332"/>
                  </a:lnTo>
                  <a:lnTo>
                    <a:pt x="546" y="329"/>
                  </a:lnTo>
                  <a:lnTo>
                    <a:pt x="561" y="327"/>
                  </a:lnTo>
                  <a:lnTo>
                    <a:pt x="579" y="323"/>
                  </a:lnTo>
                  <a:lnTo>
                    <a:pt x="594" y="320"/>
                  </a:lnTo>
                  <a:lnTo>
                    <a:pt x="610" y="315"/>
                  </a:lnTo>
                  <a:lnTo>
                    <a:pt x="630" y="308"/>
                  </a:lnTo>
                  <a:lnTo>
                    <a:pt x="652" y="302"/>
                  </a:lnTo>
                  <a:lnTo>
                    <a:pt x="652" y="308"/>
                  </a:lnTo>
                  <a:lnTo>
                    <a:pt x="652" y="315"/>
                  </a:lnTo>
                  <a:lnTo>
                    <a:pt x="652" y="321"/>
                  </a:lnTo>
                  <a:lnTo>
                    <a:pt x="652" y="327"/>
                  </a:lnTo>
                  <a:lnTo>
                    <a:pt x="652" y="333"/>
                  </a:lnTo>
                  <a:lnTo>
                    <a:pt x="652" y="339"/>
                  </a:lnTo>
                  <a:lnTo>
                    <a:pt x="652" y="346"/>
                  </a:lnTo>
                  <a:lnTo>
                    <a:pt x="650" y="352"/>
                  </a:lnTo>
                  <a:lnTo>
                    <a:pt x="612" y="373"/>
                  </a:lnTo>
                  <a:lnTo>
                    <a:pt x="601" y="369"/>
                  </a:lnTo>
                  <a:lnTo>
                    <a:pt x="599" y="369"/>
                  </a:lnTo>
                  <a:lnTo>
                    <a:pt x="590" y="386"/>
                  </a:lnTo>
                  <a:lnTo>
                    <a:pt x="601" y="389"/>
                  </a:lnTo>
                  <a:lnTo>
                    <a:pt x="648" y="386"/>
                  </a:lnTo>
                  <a:lnTo>
                    <a:pt x="650" y="386"/>
                  </a:lnTo>
                  <a:lnTo>
                    <a:pt x="648" y="393"/>
                  </a:lnTo>
                  <a:lnTo>
                    <a:pt x="648" y="400"/>
                  </a:lnTo>
                  <a:lnTo>
                    <a:pt x="648" y="408"/>
                  </a:lnTo>
                  <a:lnTo>
                    <a:pt x="645" y="415"/>
                  </a:lnTo>
                  <a:lnTo>
                    <a:pt x="645" y="423"/>
                  </a:lnTo>
                  <a:lnTo>
                    <a:pt x="643" y="430"/>
                  </a:lnTo>
                  <a:lnTo>
                    <a:pt x="643" y="437"/>
                  </a:lnTo>
                  <a:lnTo>
                    <a:pt x="641" y="444"/>
                  </a:lnTo>
                  <a:lnTo>
                    <a:pt x="619" y="448"/>
                  </a:lnTo>
                  <a:lnTo>
                    <a:pt x="594" y="451"/>
                  </a:lnTo>
                  <a:lnTo>
                    <a:pt x="566" y="454"/>
                  </a:lnTo>
                  <a:lnTo>
                    <a:pt x="537" y="456"/>
                  </a:lnTo>
                  <a:lnTo>
                    <a:pt x="510" y="460"/>
                  </a:lnTo>
                  <a:lnTo>
                    <a:pt x="484" y="465"/>
                  </a:lnTo>
                  <a:lnTo>
                    <a:pt x="470" y="468"/>
                  </a:lnTo>
                  <a:lnTo>
                    <a:pt x="459" y="471"/>
                  </a:lnTo>
                  <a:lnTo>
                    <a:pt x="450" y="475"/>
                  </a:lnTo>
                  <a:lnTo>
                    <a:pt x="441" y="479"/>
                  </a:lnTo>
                  <a:lnTo>
                    <a:pt x="472" y="485"/>
                  </a:lnTo>
                  <a:lnTo>
                    <a:pt x="484" y="491"/>
                  </a:lnTo>
                  <a:lnTo>
                    <a:pt x="470" y="504"/>
                  </a:lnTo>
                  <a:lnTo>
                    <a:pt x="452" y="517"/>
                  </a:lnTo>
                  <a:lnTo>
                    <a:pt x="430" y="531"/>
                  </a:lnTo>
                  <a:lnTo>
                    <a:pt x="408" y="544"/>
                  </a:lnTo>
                  <a:lnTo>
                    <a:pt x="386" y="557"/>
                  </a:lnTo>
                  <a:lnTo>
                    <a:pt x="364" y="570"/>
                  </a:lnTo>
                  <a:lnTo>
                    <a:pt x="344" y="583"/>
                  </a:lnTo>
                  <a:lnTo>
                    <a:pt x="326" y="597"/>
                  </a:lnTo>
                  <a:lnTo>
                    <a:pt x="344" y="598"/>
                  </a:lnTo>
                  <a:lnTo>
                    <a:pt x="362" y="601"/>
                  </a:lnTo>
                  <a:lnTo>
                    <a:pt x="379" y="602"/>
                  </a:lnTo>
                  <a:lnTo>
                    <a:pt x="399" y="602"/>
                  </a:lnTo>
                  <a:lnTo>
                    <a:pt x="419" y="603"/>
                  </a:lnTo>
                  <a:lnTo>
                    <a:pt x="439" y="605"/>
                  </a:lnTo>
                  <a:lnTo>
                    <a:pt x="457" y="607"/>
                  </a:lnTo>
                  <a:lnTo>
                    <a:pt x="472" y="608"/>
                  </a:lnTo>
                  <a:lnTo>
                    <a:pt x="468" y="617"/>
                  </a:lnTo>
                  <a:lnTo>
                    <a:pt x="457" y="627"/>
                  </a:lnTo>
                  <a:lnTo>
                    <a:pt x="446" y="637"/>
                  </a:lnTo>
                  <a:lnTo>
                    <a:pt x="435" y="647"/>
                  </a:lnTo>
                  <a:lnTo>
                    <a:pt x="426" y="657"/>
                  </a:lnTo>
                  <a:lnTo>
                    <a:pt x="419" y="667"/>
                  </a:lnTo>
                  <a:lnTo>
                    <a:pt x="417" y="672"/>
                  </a:lnTo>
                  <a:lnTo>
                    <a:pt x="417" y="676"/>
                  </a:lnTo>
                  <a:lnTo>
                    <a:pt x="417" y="680"/>
                  </a:lnTo>
                  <a:lnTo>
                    <a:pt x="421" y="685"/>
                  </a:lnTo>
                  <a:lnTo>
                    <a:pt x="472" y="685"/>
                  </a:lnTo>
                  <a:lnTo>
                    <a:pt x="472" y="695"/>
                  </a:lnTo>
                  <a:lnTo>
                    <a:pt x="470" y="705"/>
                  </a:lnTo>
                  <a:lnTo>
                    <a:pt x="470" y="714"/>
                  </a:lnTo>
                  <a:lnTo>
                    <a:pt x="466" y="723"/>
                  </a:lnTo>
                  <a:lnTo>
                    <a:pt x="464" y="733"/>
                  </a:lnTo>
                  <a:lnTo>
                    <a:pt x="459" y="741"/>
                  </a:lnTo>
                  <a:lnTo>
                    <a:pt x="457" y="751"/>
                  </a:lnTo>
                  <a:lnTo>
                    <a:pt x="452" y="761"/>
                  </a:lnTo>
                  <a:lnTo>
                    <a:pt x="348" y="785"/>
                  </a:lnTo>
                  <a:lnTo>
                    <a:pt x="348" y="788"/>
                  </a:lnTo>
                  <a:lnTo>
                    <a:pt x="348" y="790"/>
                  </a:lnTo>
                  <a:lnTo>
                    <a:pt x="351" y="793"/>
                  </a:lnTo>
                  <a:lnTo>
                    <a:pt x="353" y="795"/>
                  </a:lnTo>
                  <a:lnTo>
                    <a:pt x="355" y="797"/>
                  </a:lnTo>
                  <a:lnTo>
                    <a:pt x="357" y="801"/>
                  </a:lnTo>
                  <a:lnTo>
                    <a:pt x="357" y="805"/>
                  </a:lnTo>
                  <a:lnTo>
                    <a:pt x="357" y="809"/>
                  </a:lnTo>
                  <a:lnTo>
                    <a:pt x="362" y="809"/>
                  </a:lnTo>
                  <a:lnTo>
                    <a:pt x="366" y="810"/>
                  </a:lnTo>
                  <a:lnTo>
                    <a:pt x="370" y="810"/>
                  </a:lnTo>
                  <a:lnTo>
                    <a:pt x="373" y="811"/>
                  </a:lnTo>
                  <a:lnTo>
                    <a:pt x="377" y="812"/>
                  </a:lnTo>
                  <a:lnTo>
                    <a:pt x="382" y="814"/>
                  </a:lnTo>
                  <a:lnTo>
                    <a:pt x="386" y="814"/>
                  </a:lnTo>
                  <a:lnTo>
                    <a:pt x="388" y="815"/>
                  </a:lnTo>
                  <a:lnTo>
                    <a:pt x="388" y="819"/>
                  </a:lnTo>
                  <a:lnTo>
                    <a:pt x="388" y="822"/>
                  </a:lnTo>
                  <a:lnTo>
                    <a:pt x="384" y="826"/>
                  </a:lnTo>
                  <a:lnTo>
                    <a:pt x="382" y="829"/>
                  </a:lnTo>
                  <a:lnTo>
                    <a:pt x="377" y="831"/>
                  </a:lnTo>
                  <a:lnTo>
                    <a:pt x="370" y="834"/>
                  </a:lnTo>
                  <a:lnTo>
                    <a:pt x="366" y="836"/>
                  </a:lnTo>
                  <a:lnTo>
                    <a:pt x="357" y="839"/>
                  </a:lnTo>
                  <a:lnTo>
                    <a:pt x="357" y="847"/>
                  </a:lnTo>
                  <a:lnTo>
                    <a:pt x="359" y="857"/>
                  </a:lnTo>
                  <a:lnTo>
                    <a:pt x="362" y="868"/>
                  </a:lnTo>
                  <a:lnTo>
                    <a:pt x="364" y="880"/>
                  </a:lnTo>
                  <a:lnTo>
                    <a:pt x="364" y="891"/>
                  </a:lnTo>
                  <a:lnTo>
                    <a:pt x="366" y="901"/>
                  </a:lnTo>
                  <a:lnTo>
                    <a:pt x="368" y="911"/>
                  </a:lnTo>
                  <a:lnTo>
                    <a:pt x="368" y="921"/>
                  </a:lnTo>
                  <a:lnTo>
                    <a:pt x="362" y="922"/>
                  </a:lnTo>
                  <a:lnTo>
                    <a:pt x="353" y="924"/>
                  </a:lnTo>
                  <a:lnTo>
                    <a:pt x="344" y="929"/>
                  </a:lnTo>
                  <a:lnTo>
                    <a:pt x="331" y="936"/>
                  </a:lnTo>
                  <a:lnTo>
                    <a:pt x="319" y="941"/>
                  </a:lnTo>
                  <a:lnTo>
                    <a:pt x="308" y="946"/>
                  </a:lnTo>
                  <a:lnTo>
                    <a:pt x="300" y="948"/>
                  </a:lnTo>
                  <a:lnTo>
                    <a:pt x="295" y="949"/>
                  </a:lnTo>
                  <a:lnTo>
                    <a:pt x="288" y="963"/>
                  </a:lnTo>
                  <a:lnTo>
                    <a:pt x="284" y="975"/>
                  </a:lnTo>
                  <a:lnTo>
                    <a:pt x="280" y="988"/>
                  </a:lnTo>
                  <a:lnTo>
                    <a:pt x="275" y="999"/>
                  </a:lnTo>
                  <a:lnTo>
                    <a:pt x="271" y="1010"/>
                  </a:lnTo>
                  <a:lnTo>
                    <a:pt x="266" y="1020"/>
                  </a:lnTo>
                  <a:lnTo>
                    <a:pt x="260" y="1030"/>
                  </a:lnTo>
                  <a:lnTo>
                    <a:pt x="255" y="1039"/>
                  </a:lnTo>
                  <a:lnTo>
                    <a:pt x="182" y="1027"/>
                  </a:lnTo>
                  <a:lnTo>
                    <a:pt x="111" y="1003"/>
                  </a:lnTo>
                  <a:lnTo>
                    <a:pt x="104" y="1003"/>
                  </a:lnTo>
                  <a:lnTo>
                    <a:pt x="102" y="934"/>
                  </a:lnTo>
                  <a:lnTo>
                    <a:pt x="100" y="893"/>
                  </a:lnTo>
                  <a:lnTo>
                    <a:pt x="96" y="812"/>
                  </a:lnTo>
                  <a:lnTo>
                    <a:pt x="116" y="832"/>
                  </a:lnTo>
                  <a:lnTo>
                    <a:pt x="138" y="839"/>
                  </a:lnTo>
                  <a:lnTo>
                    <a:pt x="153" y="839"/>
                  </a:lnTo>
                  <a:lnTo>
                    <a:pt x="173" y="820"/>
                  </a:lnTo>
                  <a:lnTo>
                    <a:pt x="178" y="820"/>
                  </a:lnTo>
                  <a:lnTo>
                    <a:pt x="195" y="830"/>
                  </a:lnTo>
                  <a:lnTo>
                    <a:pt x="231" y="827"/>
                  </a:lnTo>
                  <a:lnTo>
                    <a:pt x="253" y="795"/>
                  </a:lnTo>
                  <a:lnTo>
                    <a:pt x="249" y="779"/>
                  </a:lnTo>
                  <a:lnTo>
                    <a:pt x="217" y="765"/>
                  </a:lnTo>
                  <a:lnTo>
                    <a:pt x="200" y="754"/>
                  </a:lnTo>
                  <a:lnTo>
                    <a:pt x="200" y="729"/>
                  </a:lnTo>
                  <a:lnTo>
                    <a:pt x="142" y="699"/>
                  </a:lnTo>
                  <a:lnTo>
                    <a:pt x="127" y="684"/>
                  </a:lnTo>
                  <a:lnTo>
                    <a:pt x="120" y="653"/>
                  </a:lnTo>
                  <a:lnTo>
                    <a:pt x="104" y="636"/>
                  </a:lnTo>
                  <a:lnTo>
                    <a:pt x="73" y="621"/>
                  </a:lnTo>
                  <a:lnTo>
                    <a:pt x="42" y="615"/>
                  </a:lnTo>
                  <a:lnTo>
                    <a:pt x="38" y="610"/>
                  </a:lnTo>
                  <a:lnTo>
                    <a:pt x="29" y="600"/>
                  </a:lnTo>
                  <a:close/>
                </a:path>
              </a:pathLst>
            </a:custGeom>
            <a:solidFill>
              <a:srgbClr val="2d63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95480" y="2518560"/>
              <a:ext cx="530280" cy="880200"/>
            </a:xfrm>
            <a:custGeom>
              <a:avLst/>
              <a:gdLst/>
              <a:ahLst/>
              <a:rect l="l" t="t" r="r" b="b"/>
              <a:pathLst>
                <a:path w="406" h="813">
                  <a:moveTo>
                    <a:pt x="0" y="368"/>
                  </a:moveTo>
                  <a:lnTo>
                    <a:pt x="11" y="363"/>
                  </a:lnTo>
                  <a:lnTo>
                    <a:pt x="22" y="357"/>
                  </a:lnTo>
                  <a:lnTo>
                    <a:pt x="33" y="351"/>
                  </a:lnTo>
                  <a:lnTo>
                    <a:pt x="44" y="343"/>
                  </a:lnTo>
                  <a:lnTo>
                    <a:pt x="53" y="337"/>
                  </a:lnTo>
                  <a:lnTo>
                    <a:pt x="62" y="330"/>
                  </a:lnTo>
                  <a:lnTo>
                    <a:pt x="66" y="323"/>
                  </a:lnTo>
                  <a:lnTo>
                    <a:pt x="69" y="318"/>
                  </a:lnTo>
                  <a:lnTo>
                    <a:pt x="64" y="316"/>
                  </a:lnTo>
                  <a:lnTo>
                    <a:pt x="60" y="312"/>
                  </a:lnTo>
                  <a:lnTo>
                    <a:pt x="53" y="307"/>
                  </a:lnTo>
                  <a:lnTo>
                    <a:pt x="49" y="303"/>
                  </a:lnTo>
                  <a:lnTo>
                    <a:pt x="42" y="298"/>
                  </a:lnTo>
                  <a:lnTo>
                    <a:pt x="35" y="295"/>
                  </a:lnTo>
                  <a:lnTo>
                    <a:pt x="31" y="291"/>
                  </a:lnTo>
                  <a:lnTo>
                    <a:pt x="26" y="289"/>
                  </a:lnTo>
                  <a:lnTo>
                    <a:pt x="31" y="286"/>
                  </a:lnTo>
                  <a:lnTo>
                    <a:pt x="35" y="284"/>
                  </a:lnTo>
                  <a:lnTo>
                    <a:pt x="42" y="280"/>
                  </a:lnTo>
                  <a:lnTo>
                    <a:pt x="46" y="277"/>
                  </a:lnTo>
                  <a:lnTo>
                    <a:pt x="51" y="274"/>
                  </a:lnTo>
                  <a:lnTo>
                    <a:pt x="55" y="270"/>
                  </a:lnTo>
                  <a:lnTo>
                    <a:pt x="57" y="267"/>
                  </a:lnTo>
                  <a:lnTo>
                    <a:pt x="57" y="265"/>
                  </a:lnTo>
                  <a:lnTo>
                    <a:pt x="100" y="265"/>
                  </a:lnTo>
                  <a:lnTo>
                    <a:pt x="100" y="256"/>
                  </a:lnTo>
                  <a:lnTo>
                    <a:pt x="97" y="249"/>
                  </a:lnTo>
                  <a:lnTo>
                    <a:pt x="93" y="241"/>
                  </a:lnTo>
                  <a:lnTo>
                    <a:pt x="91" y="234"/>
                  </a:lnTo>
                  <a:lnTo>
                    <a:pt x="86" y="226"/>
                  </a:lnTo>
                  <a:lnTo>
                    <a:pt x="82" y="220"/>
                  </a:lnTo>
                  <a:lnTo>
                    <a:pt x="80" y="213"/>
                  </a:lnTo>
                  <a:lnTo>
                    <a:pt x="80" y="206"/>
                  </a:lnTo>
                  <a:lnTo>
                    <a:pt x="100" y="200"/>
                  </a:lnTo>
                  <a:lnTo>
                    <a:pt x="122" y="189"/>
                  </a:lnTo>
                  <a:lnTo>
                    <a:pt x="122" y="101"/>
                  </a:lnTo>
                  <a:lnTo>
                    <a:pt x="131" y="101"/>
                  </a:lnTo>
                  <a:lnTo>
                    <a:pt x="140" y="102"/>
                  </a:lnTo>
                  <a:lnTo>
                    <a:pt x="151" y="104"/>
                  </a:lnTo>
                  <a:lnTo>
                    <a:pt x="164" y="107"/>
                  </a:lnTo>
                  <a:lnTo>
                    <a:pt x="175" y="108"/>
                  </a:lnTo>
                  <a:lnTo>
                    <a:pt x="186" y="111"/>
                  </a:lnTo>
                  <a:lnTo>
                    <a:pt x="197" y="112"/>
                  </a:lnTo>
                  <a:lnTo>
                    <a:pt x="206" y="112"/>
                  </a:lnTo>
                  <a:lnTo>
                    <a:pt x="213" y="109"/>
                  </a:lnTo>
                  <a:lnTo>
                    <a:pt x="219" y="106"/>
                  </a:lnTo>
                  <a:lnTo>
                    <a:pt x="224" y="101"/>
                  </a:lnTo>
                  <a:lnTo>
                    <a:pt x="228" y="94"/>
                  </a:lnTo>
                  <a:lnTo>
                    <a:pt x="233" y="82"/>
                  </a:lnTo>
                  <a:lnTo>
                    <a:pt x="235" y="67"/>
                  </a:lnTo>
                  <a:lnTo>
                    <a:pt x="233" y="51"/>
                  </a:lnTo>
                  <a:lnTo>
                    <a:pt x="228" y="36"/>
                  </a:lnTo>
                  <a:lnTo>
                    <a:pt x="224" y="22"/>
                  </a:lnTo>
                  <a:lnTo>
                    <a:pt x="215" y="12"/>
                  </a:lnTo>
                  <a:lnTo>
                    <a:pt x="224" y="10"/>
                  </a:lnTo>
                  <a:lnTo>
                    <a:pt x="237" y="7"/>
                  </a:lnTo>
                  <a:lnTo>
                    <a:pt x="250" y="6"/>
                  </a:lnTo>
                  <a:lnTo>
                    <a:pt x="264" y="3"/>
                  </a:lnTo>
                  <a:lnTo>
                    <a:pt x="279" y="2"/>
                  </a:lnTo>
                  <a:lnTo>
                    <a:pt x="292" y="1"/>
                  </a:lnTo>
                  <a:lnTo>
                    <a:pt x="308" y="1"/>
                  </a:lnTo>
                  <a:lnTo>
                    <a:pt x="321" y="0"/>
                  </a:lnTo>
                  <a:lnTo>
                    <a:pt x="324" y="10"/>
                  </a:lnTo>
                  <a:lnTo>
                    <a:pt x="328" y="18"/>
                  </a:lnTo>
                  <a:lnTo>
                    <a:pt x="332" y="28"/>
                  </a:lnTo>
                  <a:lnTo>
                    <a:pt x="335" y="38"/>
                  </a:lnTo>
                  <a:lnTo>
                    <a:pt x="337" y="48"/>
                  </a:lnTo>
                  <a:lnTo>
                    <a:pt x="339" y="58"/>
                  </a:lnTo>
                  <a:lnTo>
                    <a:pt x="341" y="68"/>
                  </a:lnTo>
                  <a:lnTo>
                    <a:pt x="341" y="77"/>
                  </a:lnTo>
                  <a:lnTo>
                    <a:pt x="343" y="73"/>
                  </a:lnTo>
                  <a:lnTo>
                    <a:pt x="350" y="69"/>
                  </a:lnTo>
                  <a:lnTo>
                    <a:pt x="359" y="64"/>
                  </a:lnTo>
                  <a:lnTo>
                    <a:pt x="368" y="58"/>
                  </a:lnTo>
                  <a:lnTo>
                    <a:pt x="379" y="52"/>
                  </a:lnTo>
                  <a:lnTo>
                    <a:pt x="390" y="46"/>
                  </a:lnTo>
                  <a:lnTo>
                    <a:pt x="399" y="41"/>
                  </a:lnTo>
                  <a:lnTo>
                    <a:pt x="403" y="36"/>
                  </a:lnTo>
                  <a:lnTo>
                    <a:pt x="406" y="41"/>
                  </a:lnTo>
                  <a:lnTo>
                    <a:pt x="406" y="51"/>
                  </a:lnTo>
                  <a:lnTo>
                    <a:pt x="406" y="64"/>
                  </a:lnTo>
                  <a:lnTo>
                    <a:pt x="403" y="79"/>
                  </a:lnTo>
                  <a:lnTo>
                    <a:pt x="399" y="93"/>
                  </a:lnTo>
                  <a:lnTo>
                    <a:pt x="390" y="106"/>
                  </a:lnTo>
                  <a:lnTo>
                    <a:pt x="386" y="111"/>
                  </a:lnTo>
                  <a:lnTo>
                    <a:pt x="379" y="114"/>
                  </a:lnTo>
                  <a:lnTo>
                    <a:pt x="372" y="117"/>
                  </a:lnTo>
                  <a:lnTo>
                    <a:pt x="361" y="118"/>
                  </a:lnTo>
                  <a:lnTo>
                    <a:pt x="361" y="120"/>
                  </a:lnTo>
                  <a:lnTo>
                    <a:pt x="361" y="122"/>
                  </a:lnTo>
                  <a:lnTo>
                    <a:pt x="359" y="124"/>
                  </a:lnTo>
                  <a:lnTo>
                    <a:pt x="355" y="125"/>
                  </a:lnTo>
                  <a:lnTo>
                    <a:pt x="352" y="128"/>
                  </a:lnTo>
                  <a:lnTo>
                    <a:pt x="348" y="129"/>
                  </a:lnTo>
                  <a:lnTo>
                    <a:pt x="346" y="129"/>
                  </a:lnTo>
                  <a:lnTo>
                    <a:pt x="341" y="129"/>
                  </a:lnTo>
                  <a:lnTo>
                    <a:pt x="341" y="135"/>
                  </a:lnTo>
                  <a:lnTo>
                    <a:pt x="341" y="142"/>
                  </a:lnTo>
                  <a:lnTo>
                    <a:pt x="350" y="142"/>
                  </a:lnTo>
                  <a:lnTo>
                    <a:pt x="357" y="143"/>
                  </a:lnTo>
                  <a:lnTo>
                    <a:pt x="366" y="143"/>
                  </a:lnTo>
                  <a:lnTo>
                    <a:pt x="372" y="144"/>
                  </a:lnTo>
                  <a:lnTo>
                    <a:pt x="381" y="145"/>
                  </a:lnTo>
                  <a:lnTo>
                    <a:pt x="388" y="147"/>
                  </a:lnTo>
                  <a:lnTo>
                    <a:pt x="397" y="147"/>
                  </a:lnTo>
                  <a:lnTo>
                    <a:pt x="403" y="148"/>
                  </a:lnTo>
                  <a:lnTo>
                    <a:pt x="321" y="194"/>
                  </a:lnTo>
                  <a:lnTo>
                    <a:pt x="321" y="199"/>
                  </a:lnTo>
                  <a:lnTo>
                    <a:pt x="326" y="204"/>
                  </a:lnTo>
                  <a:lnTo>
                    <a:pt x="330" y="209"/>
                  </a:lnTo>
                  <a:lnTo>
                    <a:pt x="337" y="214"/>
                  </a:lnTo>
                  <a:lnTo>
                    <a:pt x="343" y="218"/>
                  </a:lnTo>
                  <a:lnTo>
                    <a:pt x="350" y="221"/>
                  </a:lnTo>
                  <a:lnTo>
                    <a:pt x="357" y="223"/>
                  </a:lnTo>
                  <a:lnTo>
                    <a:pt x="361" y="224"/>
                  </a:lnTo>
                  <a:lnTo>
                    <a:pt x="343" y="232"/>
                  </a:lnTo>
                  <a:lnTo>
                    <a:pt x="324" y="240"/>
                  </a:lnTo>
                  <a:lnTo>
                    <a:pt x="299" y="246"/>
                  </a:lnTo>
                  <a:lnTo>
                    <a:pt x="273" y="252"/>
                  </a:lnTo>
                  <a:lnTo>
                    <a:pt x="248" y="259"/>
                  </a:lnTo>
                  <a:lnTo>
                    <a:pt x="224" y="265"/>
                  </a:lnTo>
                  <a:lnTo>
                    <a:pt x="202" y="270"/>
                  </a:lnTo>
                  <a:lnTo>
                    <a:pt x="184" y="277"/>
                  </a:lnTo>
                  <a:lnTo>
                    <a:pt x="193" y="281"/>
                  </a:lnTo>
                  <a:lnTo>
                    <a:pt x="199" y="286"/>
                  </a:lnTo>
                  <a:lnTo>
                    <a:pt x="208" y="290"/>
                  </a:lnTo>
                  <a:lnTo>
                    <a:pt x="217" y="293"/>
                  </a:lnTo>
                  <a:lnTo>
                    <a:pt x="226" y="296"/>
                  </a:lnTo>
                  <a:lnTo>
                    <a:pt x="235" y="298"/>
                  </a:lnTo>
                  <a:lnTo>
                    <a:pt x="246" y="300"/>
                  </a:lnTo>
                  <a:lnTo>
                    <a:pt x="257" y="301"/>
                  </a:lnTo>
                  <a:lnTo>
                    <a:pt x="259" y="307"/>
                  </a:lnTo>
                  <a:lnTo>
                    <a:pt x="257" y="315"/>
                  </a:lnTo>
                  <a:lnTo>
                    <a:pt x="257" y="321"/>
                  </a:lnTo>
                  <a:lnTo>
                    <a:pt x="253" y="327"/>
                  </a:lnTo>
                  <a:lnTo>
                    <a:pt x="244" y="337"/>
                  </a:lnTo>
                  <a:lnTo>
                    <a:pt x="233" y="347"/>
                  </a:lnTo>
                  <a:lnTo>
                    <a:pt x="219" y="356"/>
                  </a:lnTo>
                  <a:lnTo>
                    <a:pt x="206" y="366"/>
                  </a:lnTo>
                  <a:lnTo>
                    <a:pt x="193" y="377"/>
                  </a:lnTo>
                  <a:lnTo>
                    <a:pt x="184" y="388"/>
                  </a:lnTo>
                  <a:lnTo>
                    <a:pt x="193" y="391"/>
                  </a:lnTo>
                  <a:lnTo>
                    <a:pt x="199" y="392"/>
                  </a:lnTo>
                  <a:lnTo>
                    <a:pt x="208" y="393"/>
                  </a:lnTo>
                  <a:lnTo>
                    <a:pt x="215" y="394"/>
                  </a:lnTo>
                  <a:lnTo>
                    <a:pt x="224" y="394"/>
                  </a:lnTo>
                  <a:lnTo>
                    <a:pt x="230" y="394"/>
                  </a:lnTo>
                  <a:lnTo>
                    <a:pt x="239" y="394"/>
                  </a:lnTo>
                  <a:lnTo>
                    <a:pt x="246" y="394"/>
                  </a:lnTo>
                  <a:lnTo>
                    <a:pt x="244" y="406"/>
                  </a:lnTo>
                  <a:lnTo>
                    <a:pt x="239" y="418"/>
                  </a:lnTo>
                  <a:lnTo>
                    <a:pt x="230" y="432"/>
                  </a:lnTo>
                  <a:lnTo>
                    <a:pt x="219" y="444"/>
                  </a:lnTo>
                  <a:lnTo>
                    <a:pt x="208" y="457"/>
                  </a:lnTo>
                  <a:lnTo>
                    <a:pt x="197" y="468"/>
                  </a:lnTo>
                  <a:lnTo>
                    <a:pt x="190" y="479"/>
                  </a:lnTo>
                  <a:lnTo>
                    <a:pt x="184" y="489"/>
                  </a:lnTo>
                  <a:lnTo>
                    <a:pt x="188" y="491"/>
                  </a:lnTo>
                  <a:lnTo>
                    <a:pt x="197" y="496"/>
                  </a:lnTo>
                  <a:lnTo>
                    <a:pt x="206" y="500"/>
                  </a:lnTo>
                  <a:lnTo>
                    <a:pt x="215" y="505"/>
                  </a:lnTo>
                  <a:lnTo>
                    <a:pt x="226" y="510"/>
                  </a:lnTo>
                  <a:lnTo>
                    <a:pt x="235" y="514"/>
                  </a:lnTo>
                  <a:lnTo>
                    <a:pt x="241" y="518"/>
                  </a:lnTo>
                  <a:lnTo>
                    <a:pt x="246" y="518"/>
                  </a:lnTo>
                  <a:lnTo>
                    <a:pt x="248" y="521"/>
                  </a:lnTo>
                  <a:lnTo>
                    <a:pt x="250" y="525"/>
                  </a:lnTo>
                  <a:lnTo>
                    <a:pt x="253" y="529"/>
                  </a:lnTo>
                  <a:lnTo>
                    <a:pt x="257" y="532"/>
                  </a:lnTo>
                  <a:lnTo>
                    <a:pt x="261" y="537"/>
                  </a:lnTo>
                  <a:lnTo>
                    <a:pt x="264" y="541"/>
                  </a:lnTo>
                  <a:lnTo>
                    <a:pt x="266" y="545"/>
                  </a:lnTo>
                  <a:lnTo>
                    <a:pt x="268" y="547"/>
                  </a:lnTo>
                  <a:lnTo>
                    <a:pt x="259" y="555"/>
                  </a:lnTo>
                  <a:lnTo>
                    <a:pt x="250" y="566"/>
                  </a:lnTo>
                  <a:lnTo>
                    <a:pt x="239" y="581"/>
                  </a:lnTo>
                  <a:lnTo>
                    <a:pt x="228" y="596"/>
                  </a:lnTo>
                  <a:lnTo>
                    <a:pt x="213" y="611"/>
                  </a:lnTo>
                  <a:lnTo>
                    <a:pt x="199" y="623"/>
                  </a:lnTo>
                  <a:lnTo>
                    <a:pt x="190" y="628"/>
                  </a:lnTo>
                  <a:lnTo>
                    <a:pt x="182" y="632"/>
                  </a:lnTo>
                  <a:lnTo>
                    <a:pt x="173" y="635"/>
                  </a:lnTo>
                  <a:lnTo>
                    <a:pt x="164" y="636"/>
                  </a:lnTo>
                  <a:lnTo>
                    <a:pt x="164" y="641"/>
                  </a:lnTo>
                  <a:lnTo>
                    <a:pt x="168" y="646"/>
                  </a:lnTo>
                  <a:lnTo>
                    <a:pt x="173" y="651"/>
                  </a:lnTo>
                  <a:lnTo>
                    <a:pt x="179" y="656"/>
                  </a:lnTo>
                  <a:lnTo>
                    <a:pt x="186" y="661"/>
                  </a:lnTo>
                  <a:lnTo>
                    <a:pt x="195" y="664"/>
                  </a:lnTo>
                  <a:lnTo>
                    <a:pt x="199" y="668"/>
                  </a:lnTo>
                  <a:lnTo>
                    <a:pt x="206" y="671"/>
                  </a:lnTo>
                  <a:lnTo>
                    <a:pt x="206" y="677"/>
                  </a:lnTo>
                  <a:lnTo>
                    <a:pt x="206" y="683"/>
                  </a:lnTo>
                  <a:lnTo>
                    <a:pt x="184" y="689"/>
                  </a:lnTo>
                  <a:lnTo>
                    <a:pt x="184" y="694"/>
                  </a:lnTo>
                  <a:lnTo>
                    <a:pt x="182" y="699"/>
                  </a:lnTo>
                  <a:lnTo>
                    <a:pt x="177" y="705"/>
                  </a:lnTo>
                  <a:lnTo>
                    <a:pt x="173" y="713"/>
                  </a:lnTo>
                  <a:lnTo>
                    <a:pt x="171" y="720"/>
                  </a:lnTo>
                  <a:lnTo>
                    <a:pt x="166" y="728"/>
                  </a:lnTo>
                  <a:lnTo>
                    <a:pt x="164" y="735"/>
                  </a:lnTo>
                  <a:lnTo>
                    <a:pt x="164" y="742"/>
                  </a:lnTo>
                  <a:lnTo>
                    <a:pt x="171" y="743"/>
                  </a:lnTo>
                  <a:lnTo>
                    <a:pt x="175" y="748"/>
                  </a:lnTo>
                  <a:lnTo>
                    <a:pt x="179" y="754"/>
                  </a:lnTo>
                  <a:lnTo>
                    <a:pt x="182" y="761"/>
                  </a:lnTo>
                  <a:lnTo>
                    <a:pt x="184" y="769"/>
                  </a:lnTo>
                  <a:lnTo>
                    <a:pt x="184" y="776"/>
                  </a:lnTo>
                  <a:lnTo>
                    <a:pt x="184" y="784"/>
                  </a:lnTo>
                  <a:lnTo>
                    <a:pt x="184" y="789"/>
                  </a:lnTo>
                  <a:lnTo>
                    <a:pt x="179" y="791"/>
                  </a:lnTo>
                  <a:lnTo>
                    <a:pt x="175" y="794"/>
                  </a:lnTo>
                  <a:lnTo>
                    <a:pt x="173" y="796"/>
                  </a:lnTo>
                  <a:lnTo>
                    <a:pt x="168" y="800"/>
                  </a:lnTo>
                  <a:lnTo>
                    <a:pt x="164" y="803"/>
                  </a:lnTo>
                  <a:lnTo>
                    <a:pt x="162" y="805"/>
                  </a:lnTo>
                  <a:lnTo>
                    <a:pt x="157" y="809"/>
                  </a:lnTo>
                  <a:lnTo>
                    <a:pt x="155" y="813"/>
                  </a:lnTo>
                  <a:lnTo>
                    <a:pt x="84" y="789"/>
                  </a:lnTo>
                  <a:lnTo>
                    <a:pt x="77" y="789"/>
                  </a:lnTo>
                  <a:lnTo>
                    <a:pt x="75" y="720"/>
                  </a:lnTo>
                  <a:lnTo>
                    <a:pt x="73" y="679"/>
                  </a:lnTo>
                  <a:lnTo>
                    <a:pt x="69" y="598"/>
                  </a:lnTo>
                  <a:lnTo>
                    <a:pt x="89" y="618"/>
                  </a:lnTo>
                  <a:lnTo>
                    <a:pt x="111" y="625"/>
                  </a:lnTo>
                  <a:lnTo>
                    <a:pt x="126" y="625"/>
                  </a:lnTo>
                  <a:lnTo>
                    <a:pt x="146" y="606"/>
                  </a:lnTo>
                  <a:lnTo>
                    <a:pt x="151" y="606"/>
                  </a:lnTo>
                  <a:lnTo>
                    <a:pt x="168" y="616"/>
                  </a:lnTo>
                  <a:lnTo>
                    <a:pt x="204" y="613"/>
                  </a:lnTo>
                  <a:lnTo>
                    <a:pt x="226" y="581"/>
                  </a:lnTo>
                  <a:lnTo>
                    <a:pt x="222" y="565"/>
                  </a:lnTo>
                  <a:lnTo>
                    <a:pt x="190" y="551"/>
                  </a:lnTo>
                  <a:lnTo>
                    <a:pt x="173" y="540"/>
                  </a:lnTo>
                  <a:lnTo>
                    <a:pt x="173" y="515"/>
                  </a:lnTo>
                  <a:lnTo>
                    <a:pt x="115" y="485"/>
                  </a:lnTo>
                  <a:lnTo>
                    <a:pt x="100" y="470"/>
                  </a:lnTo>
                  <a:lnTo>
                    <a:pt x="93" y="439"/>
                  </a:lnTo>
                  <a:lnTo>
                    <a:pt x="77" y="422"/>
                  </a:lnTo>
                  <a:lnTo>
                    <a:pt x="46" y="407"/>
                  </a:lnTo>
                  <a:lnTo>
                    <a:pt x="15" y="401"/>
                  </a:lnTo>
                  <a:lnTo>
                    <a:pt x="11" y="396"/>
                  </a:lnTo>
                  <a:lnTo>
                    <a:pt x="2" y="384"/>
                  </a:lnTo>
                  <a:lnTo>
                    <a:pt x="0" y="368"/>
                  </a:lnTo>
                  <a:close/>
                </a:path>
              </a:pathLst>
            </a:custGeom>
            <a:solidFill>
              <a:srgbClr val="2252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594480" y="3352680"/>
            <a:ext cx="3106800" cy="27892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26960" y="5029200"/>
            <a:ext cx="52308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400" spc="-1" strike="noStrike">
                <a:solidFill>
                  <a:srgbClr val="ff9933"/>
                </a:solidFill>
                <a:latin typeface="Comic Sans MS"/>
              </a:rPr>
              <a:t>au contact des parties chaudes des murs et du sol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679-B11F-4858-BD91-9052BFD06C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25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2230560" y="3124080"/>
            <a:ext cx="5742720" cy="3535200"/>
            <a:chOff x="2230560" y="3124080"/>
            <a:chExt cx="5742720" cy="3535200"/>
          </a:xfrm>
        </p:grpSpPr>
        <p:sp>
          <p:nvSpPr>
            <p:cNvPr id="352" name=""/>
            <p:cNvSpPr/>
            <p:nvPr/>
          </p:nvSpPr>
          <p:spPr>
            <a:xfrm>
              <a:off x="2230560" y="3124080"/>
              <a:ext cx="5742720" cy="3535200"/>
            </a:xfrm>
            <a:custGeom>
              <a:avLst/>
              <a:gdLst/>
              <a:ahLst/>
              <a:rect l="l" t="t" r="r" b="b"/>
              <a:pathLst>
                <a:path w="1553" h="1507">
                  <a:moveTo>
                    <a:pt x="347" y="17"/>
                  </a:moveTo>
                  <a:lnTo>
                    <a:pt x="424" y="20"/>
                  </a:lnTo>
                  <a:lnTo>
                    <a:pt x="440" y="23"/>
                  </a:lnTo>
                  <a:lnTo>
                    <a:pt x="449" y="31"/>
                  </a:lnTo>
                  <a:lnTo>
                    <a:pt x="493" y="29"/>
                  </a:lnTo>
                  <a:lnTo>
                    <a:pt x="530" y="35"/>
                  </a:lnTo>
                  <a:lnTo>
                    <a:pt x="576" y="31"/>
                  </a:lnTo>
                  <a:lnTo>
                    <a:pt x="603" y="41"/>
                  </a:lnTo>
                  <a:lnTo>
                    <a:pt x="612" y="46"/>
                  </a:lnTo>
                  <a:lnTo>
                    <a:pt x="682" y="49"/>
                  </a:lnTo>
                  <a:lnTo>
                    <a:pt x="691" y="52"/>
                  </a:lnTo>
                  <a:lnTo>
                    <a:pt x="696" y="57"/>
                  </a:lnTo>
                  <a:lnTo>
                    <a:pt x="726" y="58"/>
                  </a:lnTo>
                  <a:lnTo>
                    <a:pt x="781" y="58"/>
                  </a:lnTo>
                  <a:lnTo>
                    <a:pt x="795" y="64"/>
                  </a:lnTo>
                  <a:lnTo>
                    <a:pt x="827" y="63"/>
                  </a:lnTo>
                  <a:lnTo>
                    <a:pt x="873" y="64"/>
                  </a:lnTo>
                  <a:lnTo>
                    <a:pt x="901" y="78"/>
                  </a:lnTo>
                  <a:lnTo>
                    <a:pt x="972" y="74"/>
                  </a:lnTo>
                  <a:lnTo>
                    <a:pt x="1005" y="86"/>
                  </a:lnTo>
                  <a:lnTo>
                    <a:pt x="1009" y="95"/>
                  </a:lnTo>
                  <a:lnTo>
                    <a:pt x="1074" y="86"/>
                  </a:lnTo>
                  <a:lnTo>
                    <a:pt x="1097" y="88"/>
                  </a:lnTo>
                  <a:lnTo>
                    <a:pt x="1104" y="94"/>
                  </a:lnTo>
                  <a:lnTo>
                    <a:pt x="1110" y="97"/>
                  </a:lnTo>
                  <a:lnTo>
                    <a:pt x="1187" y="95"/>
                  </a:lnTo>
                  <a:lnTo>
                    <a:pt x="1219" y="103"/>
                  </a:lnTo>
                  <a:lnTo>
                    <a:pt x="1228" y="109"/>
                  </a:lnTo>
                  <a:lnTo>
                    <a:pt x="1228" y="117"/>
                  </a:lnTo>
                  <a:lnTo>
                    <a:pt x="1251" y="117"/>
                  </a:lnTo>
                  <a:lnTo>
                    <a:pt x="1283" y="111"/>
                  </a:lnTo>
                  <a:lnTo>
                    <a:pt x="1352" y="125"/>
                  </a:lnTo>
                  <a:lnTo>
                    <a:pt x="1385" y="140"/>
                  </a:lnTo>
                  <a:lnTo>
                    <a:pt x="1484" y="138"/>
                  </a:lnTo>
                  <a:lnTo>
                    <a:pt x="1507" y="156"/>
                  </a:lnTo>
                  <a:lnTo>
                    <a:pt x="1516" y="181"/>
                  </a:lnTo>
                  <a:lnTo>
                    <a:pt x="1526" y="255"/>
                  </a:lnTo>
                  <a:lnTo>
                    <a:pt x="1521" y="327"/>
                  </a:lnTo>
                  <a:lnTo>
                    <a:pt x="1519" y="434"/>
                  </a:lnTo>
                  <a:lnTo>
                    <a:pt x="1511" y="496"/>
                  </a:lnTo>
                  <a:lnTo>
                    <a:pt x="1521" y="532"/>
                  </a:lnTo>
                  <a:lnTo>
                    <a:pt x="1544" y="570"/>
                  </a:lnTo>
                  <a:lnTo>
                    <a:pt x="1551" y="579"/>
                  </a:lnTo>
                  <a:lnTo>
                    <a:pt x="1488" y="628"/>
                  </a:lnTo>
                  <a:lnTo>
                    <a:pt x="1472" y="649"/>
                  </a:lnTo>
                  <a:lnTo>
                    <a:pt x="1466" y="677"/>
                  </a:lnTo>
                  <a:lnTo>
                    <a:pt x="1472" y="764"/>
                  </a:lnTo>
                  <a:lnTo>
                    <a:pt x="1470" y="813"/>
                  </a:lnTo>
                  <a:lnTo>
                    <a:pt x="1465" y="896"/>
                  </a:lnTo>
                  <a:lnTo>
                    <a:pt x="1470" y="1076"/>
                  </a:lnTo>
                  <a:lnTo>
                    <a:pt x="1470" y="1199"/>
                  </a:lnTo>
                  <a:lnTo>
                    <a:pt x="1519" y="1202"/>
                  </a:lnTo>
                  <a:lnTo>
                    <a:pt x="1534" y="1208"/>
                  </a:lnTo>
                  <a:lnTo>
                    <a:pt x="1542" y="1214"/>
                  </a:lnTo>
                  <a:lnTo>
                    <a:pt x="1544" y="1224"/>
                  </a:lnTo>
                  <a:lnTo>
                    <a:pt x="1544" y="1238"/>
                  </a:lnTo>
                  <a:lnTo>
                    <a:pt x="1526" y="1248"/>
                  </a:lnTo>
                  <a:lnTo>
                    <a:pt x="1548" y="1264"/>
                  </a:lnTo>
                  <a:lnTo>
                    <a:pt x="1553" y="1285"/>
                  </a:lnTo>
                  <a:lnTo>
                    <a:pt x="1544" y="1311"/>
                  </a:lnTo>
                  <a:lnTo>
                    <a:pt x="1511" y="1331"/>
                  </a:lnTo>
                  <a:lnTo>
                    <a:pt x="1475" y="1334"/>
                  </a:lnTo>
                  <a:lnTo>
                    <a:pt x="1472" y="1355"/>
                  </a:lnTo>
                  <a:lnTo>
                    <a:pt x="1472" y="1360"/>
                  </a:lnTo>
                  <a:lnTo>
                    <a:pt x="1458" y="1369"/>
                  </a:lnTo>
                  <a:lnTo>
                    <a:pt x="1410" y="1378"/>
                  </a:lnTo>
                  <a:lnTo>
                    <a:pt x="1334" y="1396"/>
                  </a:lnTo>
                  <a:lnTo>
                    <a:pt x="1285" y="1403"/>
                  </a:lnTo>
                  <a:lnTo>
                    <a:pt x="1198" y="1421"/>
                  </a:lnTo>
                  <a:lnTo>
                    <a:pt x="1173" y="1427"/>
                  </a:lnTo>
                  <a:lnTo>
                    <a:pt x="1133" y="1424"/>
                  </a:lnTo>
                  <a:lnTo>
                    <a:pt x="1083" y="1409"/>
                  </a:lnTo>
                  <a:lnTo>
                    <a:pt x="1067" y="1409"/>
                  </a:lnTo>
                  <a:lnTo>
                    <a:pt x="1023" y="1393"/>
                  </a:lnTo>
                  <a:lnTo>
                    <a:pt x="995" y="1374"/>
                  </a:lnTo>
                  <a:lnTo>
                    <a:pt x="974" y="1378"/>
                  </a:lnTo>
                  <a:lnTo>
                    <a:pt x="956" y="1385"/>
                  </a:lnTo>
                  <a:lnTo>
                    <a:pt x="862" y="1402"/>
                  </a:lnTo>
                  <a:lnTo>
                    <a:pt x="841" y="1403"/>
                  </a:lnTo>
                  <a:lnTo>
                    <a:pt x="836" y="1406"/>
                  </a:lnTo>
                  <a:lnTo>
                    <a:pt x="845" y="1424"/>
                  </a:lnTo>
                  <a:lnTo>
                    <a:pt x="855" y="1430"/>
                  </a:lnTo>
                  <a:lnTo>
                    <a:pt x="887" y="1453"/>
                  </a:lnTo>
                  <a:lnTo>
                    <a:pt x="887" y="1482"/>
                  </a:lnTo>
                  <a:lnTo>
                    <a:pt x="877" y="1492"/>
                  </a:lnTo>
                  <a:lnTo>
                    <a:pt x="836" y="1507"/>
                  </a:lnTo>
                  <a:lnTo>
                    <a:pt x="799" y="1507"/>
                  </a:lnTo>
                  <a:lnTo>
                    <a:pt x="769" y="1498"/>
                  </a:lnTo>
                  <a:lnTo>
                    <a:pt x="741" y="1476"/>
                  </a:lnTo>
                  <a:lnTo>
                    <a:pt x="741" y="1446"/>
                  </a:lnTo>
                  <a:lnTo>
                    <a:pt x="776" y="1423"/>
                  </a:lnTo>
                  <a:lnTo>
                    <a:pt x="781" y="1423"/>
                  </a:lnTo>
                  <a:lnTo>
                    <a:pt x="786" y="1418"/>
                  </a:lnTo>
                  <a:lnTo>
                    <a:pt x="778" y="1403"/>
                  </a:lnTo>
                  <a:lnTo>
                    <a:pt x="755" y="1393"/>
                  </a:lnTo>
                  <a:lnTo>
                    <a:pt x="741" y="1381"/>
                  </a:lnTo>
                  <a:lnTo>
                    <a:pt x="741" y="1353"/>
                  </a:lnTo>
                  <a:lnTo>
                    <a:pt x="749" y="1341"/>
                  </a:lnTo>
                  <a:lnTo>
                    <a:pt x="786" y="1323"/>
                  </a:lnTo>
                  <a:lnTo>
                    <a:pt x="786" y="1322"/>
                  </a:lnTo>
                  <a:lnTo>
                    <a:pt x="744" y="1317"/>
                  </a:lnTo>
                  <a:lnTo>
                    <a:pt x="707" y="1311"/>
                  </a:lnTo>
                  <a:lnTo>
                    <a:pt x="677" y="1301"/>
                  </a:lnTo>
                  <a:lnTo>
                    <a:pt x="654" y="1300"/>
                  </a:lnTo>
                  <a:lnTo>
                    <a:pt x="643" y="1294"/>
                  </a:lnTo>
                  <a:lnTo>
                    <a:pt x="596" y="1286"/>
                  </a:lnTo>
                  <a:lnTo>
                    <a:pt x="573" y="1279"/>
                  </a:lnTo>
                  <a:lnTo>
                    <a:pt x="559" y="1270"/>
                  </a:lnTo>
                  <a:lnTo>
                    <a:pt x="544" y="1270"/>
                  </a:lnTo>
                  <a:lnTo>
                    <a:pt x="490" y="1251"/>
                  </a:lnTo>
                  <a:lnTo>
                    <a:pt x="453" y="1248"/>
                  </a:lnTo>
                  <a:lnTo>
                    <a:pt x="401" y="1236"/>
                  </a:lnTo>
                  <a:lnTo>
                    <a:pt x="380" y="1226"/>
                  </a:lnTo>
                  <a:lnTo>
                    <a:pt x="340" y="1224"/>
                  </a:lnTo>
                  <a:lnTo>
                    <a:pt x="306" y="1211"/>
                  </a:lnTo>
                  <a:lnTo>
                    <a:pt x="288" y="1196"/>
                  </a:lnTo>
                  <a:lnTo>
                    <a:pt x="265" y="1200"/>
                  </a:lnTo>
                  <a:lnTo>
                    <a:pt x="253" y="1200"/>
                  </a:lnTo>
                  <a:lnTo>
                    <a:pt x="225" y="1208"/>
                  </a:lnTo>
                  <a:lnTo>
                    <a:pt x="207" y="1208"/>
                  </a:lnTo>
                  <a:lnTo>
                    <a:pt x="202" y="1212"/>
                  </a:lnTo>
                  <a:lnTo>
                    <a:pt x="175" y="1214"/>
                  </a:lnTo>
                  <a:lnTo>
                    <a:pt x="167" y="1230"/>
                  </a:lnTo>
                  <a:lnTo>
                    <a:pt x="191" y="1245"/>
                  </a:lnTo>
                  <a:lnTo>
                    <a:pt x="202" y="1258"/>
                  </a:lnTo>
                  <a:lnTo>
                    <a:pt x="202" y="1279"/>
                  </a:lnTo>
                  <a:lnTo>
                    <a:pt x="188" y="1298"/>
                  </a:lnTo>
                  <a:lnTo>
                    <a:pt x="167" y="1307"/>
                  </a:lnTo>
                  <a:lnTo>
                    <a:pt x="106" y="1313"/>
                  </a:lnTo>
                  <a:lnTo>
                    <a:pt x="75" y="1311"/>
                  </a:lnTo>
                  <a:lnTo>
                    <a:pt x="46" y="1301"/>
                  </a:lnTo>
                  <a:lnTo>
                    <a:pt x="29" y="1282"/>
                  </a:lnTo>
                  <a:lnTo>
                    <a:pt x="29" y="1263"/>
                  </a:lnTo>
                  <a:lnTo>
                    <a:pt x="41" y="1245"/>
                  </a:lnTo>
                  <a:lnTo>
                    <a:pt x="75" y="1233"/>
                  </a:lnTo>
                  <a:lnTo>
                    <a:pt x="98" y="1230"/>
                  </a:lnTo>
                  <a:lnTo>
                    <a:pt x="105" y="1220"/>
                  </a:lnTo>
                  <a:lnTo>
                    <a:pt x="105" y="1216"/>
                  </a:lnTo>
                  <a:lnTo>
                    <a:pt x="69" y="1200"/>
                  </a:lnTo>
                  <a:lnTo>
                    <a:pt x="52" y="1184"/>
                  </a:lnTo>
                  <a:lnTo>
                    <a:pt x="64" y="1171"/>
                  </a:lnTo>
                  <a:lnTo>
                    <a:pt x="110" y="1159"/>
                  </a:lnTo>
                  <a:lnTo>
                    <a:pt x="124" y="1152"/>
                  </a:lnTo>
                  <a:lnTo>
                    <a:pt x="78" y="1140"/>
                  </a:lnTo>
                  <a:lnTo>
                    <a:pt x="46" y="1122"/>
                  </a:lnTo>
                  <a:lnTo>
                    <a:pt x="43" y="1125"/>
                  </a:lnTo>
                  <a:lnTo>
                    <a:pt x="15" y="1103"/>
                  </a:lnTo>
                  <a:lnTo>
                    <a:pt x="0" y="1099"/>
                  </a:lnTo>
                  <a:lnTo>
                    <a:pt x="2" y="724"/>
                  </a:lnTo>
                  <a:lnTo>
                    <a:pt x="0" y="603"/>
                  </a:lnTo>
                  <a:lnTo>
                    <a:pt x="0" y="496"/>
                  </a:lnTo>
                  <a:lnTo>
                    <a:pt x="6" y="283"/>
                  </a:lnTo>
                  <a:lnTo>
                    <a:pt x="9" y="51"/>
                  </a:lnTo>
                  <a:lnTo>
                    <a:pt x="20" y="41"/>
                  </a:lnTo>
                  <a:lnTo>
                    <a:pt x="57" y="26"/>
                  </a:lnTo>
                  <a:lnTo>
                    <a:pt x="98" y="17"/>
                  </a:lnTo>
                  <a:lnTo>
                    <a:pt x="147" y="11"/>
                  </a:lnTo>
                  <a:lnTo>
                    <a:pt x="288" y="0"/>
                  </a:lnTo>
                  <a:lnTo>
                    <a:pt x="320" y="4"/>
                  </a:lnTo>
                  <a:lnTo>
                    <a:pt x="34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85640" y="3150000"/>
              <a:ext cx="1127880" cy="2638800"/>
            </a:xfrm>
            <a:custGeom>
              <a:avLst/>
              <a:gdLst/>
              <a:ahLst/>
              <a:rect l="l" t="t" r="r" b="b"/>
              <a:pathLst>
                <a:path w="305" h="1125">
                  <a:moveTo>
                    <a:pt x="305" y="9"/>
                  </a:moveTo>
                  <a:lnTo>
                    <a:pt x="201" y="26"/>
                  </a:lnTo>
                  <a:lnTo>
                    <a:pt x="143" y="34"/>
                  </a:lnTo>
                  <a:lnTo>
                    <a:pt x="114" y="43"/>
                  </a:lnTo>
                  <a:lnTo>
                    <a:pt x="95" y="61"/>
                  </a:lnTo>
                  <a:lnTo>
                    <a:pt x="83" y="433"/>
                  </a:lnTo>
                  <a:lnTo>
                    <a:pt x="81" y="463"/>
                  </a:lnTo>
                  <a:lnTo>
                    <a:pt x="69" y="676"/>
                  </a:lnTo>
                  <a:lnTo>
                    <a:pt x="63" y="759"/>
                  </a:lnTo>
                  <a:lnTo>
                    <a:pt x="60" y="761"/>
                  </a:lnTo>
                  <a:lnTo>
                    <a:pt x="63" y="762"/>
                  </a:lnTo>
                  <a:lnTo>
                    <a:pt x="63" y="950"/>
                  </a:lnTo>
                  <a:lnTo>
                    <a:pt x="60" y="1059"/>
                  </a:lnTo>
                  <a:lnTo>
                    <a:pt x="58" y="1061"/>
                  </a:lnTo>
                  <a:lnTo>
                    <a:pt x="58" y="1067"/>
                  </a:lnTo>
                  <a:lnTo>
                    <a:pt x="72" y="1080"/>
                  </a:lnTo>
                  <a:lnTo>
                    <a:pt x="83" y="1111"/>
                  </a:lnTo>
                  <a:lnTo>
                    <a:pt x="95" y="1125"/>
                  </a:lnTo>
                  <a:lnTo>
                    <a:pt x="69" y="1120"/>
                  </a:lnTo>
                  <a:lnTo>
                    <a:pt x="3" y="1080"/>
                  </a:lnTo>
                  <a:lnTo>
                    <a:pt x="3" y="864"/>
                  </a:lnTo>
                  <a:lnTo>
                    <a:pt x="0" y="595"/>
                  </a:lnTo>
                  <a:lnTo>
                    <a:pt x="3" y="164"/>
                  </a:lnTo>
                  <a:lnTo>
                    <a:pt x="3" y="63"/>
                  </a:lnTo>
                  <a:lnTo>
                    <a:pt x="8" y="43"/>
                  </a:lnTo>
                  <a:lnTo>
                    <a:pt x="49" y="24"/>
                  </a:lnTo>
                  <a:lnTo>
                    <a:pt x="83" y="18"/>
                  </a:lnTo>
                  <a:lnTo>
                    <a:pt x="97" y="16"/>
                  </a:lnTo>
                  <a:lnTo>
                    <a:pt x="201" y="6"/>
                  </a:lnTo>
                  <a:lnTo>
                    <a:pt x="268" y="0"/>
                  </a:lnTo>
                  <a:lnTo>
                    <a:pt x="296" y="3"/>
                  </a:lnTo>
                  <a:lnTo>
                    <a:pt x="305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85880" y="3192120"/>
              <a:ext cx="1220040" cy="2622240"/>
            </a:xfrm>
            <a:custGeom>
              <a:avLst/>
              <a:gdLst/>
              <a:ahLst/>
              <a:rect l="l" t="t" r="r" b="b"/>
              <a:pathLst>
                <a:path w="330" h="1118">
                  <a:moveTo>
                    <a:pt x="330" y="4"/>
                  </a:moveTo>
                  <a:lnTo>
                    <a:pt x="298" y="10"/>
                  </a:lnTo>
                  <a:lnTo>
                    <a:pt x="261" y="12"/>
                  </a:lnTo>
                  <a:lnTo>
                    <a:pt x="143" y="31"/>
                  </a:lnTo>
                  <a:lnTo>
                    <a:pt x="120" y="49"/>
                  </a:lnTo>
                  <a:lnTo>
                    <a:pt x="101" y="88"/>
                  </a:lnTo>
                  <a:lnTo>
                    <a:pt x="102" y="114"/>
                  </a:lnTo>
                  <a:lnTo>
                    <a:pt x="101" y="269"/>
                  </a:lnTo>
                  <a:lnTo>
                    <a:pt x="92" y="457"/>
                  </a:lnTo>
                  <a:lnTo>
                    <a:pt x="83" y="589"/>
                  </a:lnTo>
                  <a:lnTo>
                    <a:pt x="79" y="719"/>
                  </a:lnTo>
                  <a:lnTo>
                    <a:pt x="71" y="1045"/>
                  </a:lnTo>
                  <a:lnTo>
                    <a:pt x="74" y="1107"/>
                  </a:lnTo>
                  <a:lnTo>
                    <a:pt x="79" y="1115"/>
                  </a:lnTo>
                  <a:lnTo>
                    <a:pt x="79" y="1118"/>
                  </a:lnTo>
                  <a:lnTo>
                    <a:pt x="62" y="1113"/>
                  </a:lnTo>
                  <a:lnTo>
                    <a:pt x="37" y="1109"/>
                  </a:lnTo>
                  <a:lnTo>
                    <a:pt x="10" y="1074"/>
                  </a:lnTo>
                  <a:lnTo>
                    <a:pt x="0" y="1031"/>
                  </a:lnTo>
                  <a:lnTo>
                    <a:pt x="2" y="695"/>
                  </a:lnTo>
                  <a:lnTo>
                    <a:pt x="9" y="577"/>
                  </a:lnTo>
                  <a:lnTo>
                    <a:pt x="10" y="519"/>
                  </a:lnTo>
                  <a:lnTo>
                    <a:pt x="14" y="470"/>
                  </a:lnTo>
                  <a:lnTo>
                    <a:pt x="23" y="318"/>
                  </a:lnTo>
                  <a:lnTo>
                    <a:pt x="23" y="285"/>
                  </a:lnTo>
                  <a:lnTo>
                    <a:pt x="28" y="162"/>
                  </a:lnTo>
                  <a:lnTo>
                    <a:pt x="30" y="47"/>
                  </a:lnTo>
                  <a:lnTo>
                    <a:pt x="37" y="41"/>
                  </a:lnTo>
                  <a:lnTo>
                    <a:pt x="69" y="28"/>
                  </a:lnTo>
                  <a:lnTo>
                    <a:pt x="166" y="14"/>
                  </a:lnTo>
                  <a:lnTo>
                    <a:pt x="252" y="2"/>
                  </a:lnTo>
                  <a:lnTo>
                    <a:pt x="288" y="0"/>
                  </a:lnTo>
                  <a:lnTo>
                    <a:pt x="320" y="2"/>
                  </a:lnTo>
                  <a:lnTo>
                    <a:pt x="330" y="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11320" y="3220200"/>
              <a:ext cx="1108440" cy="2660040"/>
            </a:xfrm>
            <a:custGeom>
              <a:avLst/>
              <a:gdLst/>
              <a:ahLst/>
              <a:rect l="l" t="t" r="r" b="b"/>
              <a:pathLst>
                <a:path w="300" h="1134">
                  <a:moveTo>
                    <a:pt x="283" y="5"/>
                  </a:moveTo>
                  <a:lnTo>
                    <a:pt x="202" y="16"/>
                  </a:lnTo>
                  <a:lnTo>
                    <a:pt x="156" y="29"/>
                  </a:lnTo>
                  <a:lnTo>
                    <a:pt x="122" y="56"/>
                  </a:lnTo>
                  <a:lnTo>
                    <a:pt x="110" y="74"/>
                  </a:lnTo>
                  <a:lnTo>
                    <a:pt x="104" y="405"/>
                  </a:lnTo>
                  <a:lnTo>
                    <a:pt x="87" y="848"/>
                  </a:lnTo>
                  <a:lnTo>
                    <a:pt x="87" y="982"/>
                  </a:lnTo>
                  <a:lnTo>
                    <a:pt x="83" y="1115"/>
                  </a:lnTo>
                  <a:lnTo>
                    <a:pt x="90" y="1130"/>
                  </a:lnTo>
                  <a:lnTo>
                    <a:pt x="90" y="1134"/>
                  </a:lnTo>
                  <a:lnTo>
                    <a:pt x="41" y="1121"/>
                  </a:lnTo>
                  <a:lnTo>
                    <a:pt x="32" y="1121"/>
                  </a:lnTo>
                  <a:lnTo>
                    <a:pt x="9" y="1099"/>
                  </a:lnTo>
                  <a:lnTo>
                    <a:pt x="0" y="1085"/>
                  </a:lnTo>
                  <a:lnTo>
                    <a:pt x="9" y="633"/>
                  </a:lnTo>
                  <a:lnTo>
                    <a:pt x="21" y="421"/>
                  </a:lnTo>
                  <a:lnTo>
                    <a:pt x="23" y="349"/>
                  </a:lnTo>
                  <a:lnTo>
                    <a:pt x="28" y="257"/>
                  </a:lnTo>
                  <a:lnTo>
                    <a:pt x="28" y="185"/>
                  </a:lnTo>
                  <a:lnTo>
                    <a:pt x="32" y="66"/>
                  </a:lnTo>
                  <a:lnTo>
                    <a:pt x="58" y="33"/>
                  </a:lnTo>
                  <a:lnTo>
                    <a:pt x="101" y="23"/>
                  </a:lnTo>
                  <a:lnTo>
                    <a:pt x="200" y="10"/>
                  </a:lnTo>
                  <a:lnTo>
                    <a:pt x="232" y="8"/>
                  </a:lnTo>
                  <a:lnTo>
                    <a:pt x="277" y="0"/>
                  </a:lnTo>
                  <a:lnTo>
                    <a:pt x="300" y="0"/>
                  </a:lnTo>
                  <a:lnTo>
                    <a:pt x="283" y="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95440" y="3224880"/>
              <a:ext cx="1098360" cy="2755800"/>
            </a:xfrm>
            <a:custGeom>
              <a:avLst/>
              <a:gdLst/>
              <a:ahLst/>
              <a:rect l="l" t="t" r="r" b="b"/>
              <a:pathLst>
                <a:path w="297" h="1175">
                  <a:moveTo>
                    <a:pt x="177" y="25"/>
                  </a:moveTo>
                  <a:lnTo>
                    <a:pt x="136" y="37"/>
                  </a:lnTo>
                  <a:lnTo>
                    <a:pt x="113" y="54"/>
                  </a:lnTo>
                  <a:lnTo>
                    <a:pt x="98" y="83"/>
                  </a:lnTo>
                  <a:lnTo>
                    <a:pt x="96" y="263"/>
                  </a:lnTo>
                  <a:lnTo>
                    <a:pt x="87" y="439"/>
                  </a:lnTo>
                  <a:lnTo>
                    <a:pt x="82" y="514"/>
                  </a:lnTo>
                  <a:lnTo>
                    <a:pt x="78" y="585"/>
                  </a:lnTo>
                  <a:lnTo>
                    <a:pt x="73" y="675"/>
                  </a:lnTo>
                  <a:lnTo>
                    <a:pt x="64" y="1110"/>
                  </a:lnTo>
                  <a:lnTo>
                    <a:pt x="64" y="1132"/>
                  </a:lnTo>
                  <a:lnTo>
                    <a:pt x="78" y="1175"/>
                  </a:lnTo>
                  <a:lnTo>
                    <a:pt x="37" y="1163"/>
                  </a:lnTo>
                  <a:lnTo>
                    <a:pt x="11" y="1146"/>
                  </a:lnTo>
                  <a:lnTo>
                    <a:pt x="0" y="1104"/>
                  </a:lnTo>
                  <a:lnTo>
                    <a:pt x="0" y="826"/>
                  </a:lnTo>
                  <a:lnTo>
                    <a:pt x="4" y="687"/>
                  </a:lnTo>
                  <a:lnTo>
                    <a:pt x="11" y="453"/>
                  </a:lnTo>
                  <a:lnTo>
                    <a:pt x="18" y="369"/>
                  </a:lnTo>
                  <a:lnTo>
                    <a:pt x="20" y="267"/>
                  </a:lnTo>
                  <a:lnTo>
                    <a:pt x="23" y="72"/>
                  </a:lnTo>
                  <a:lnTo>
                    <a:pt x="41" y="52"/>
                  </a:lnTo>
                  <a:lnTo>
                    <a:pt x="75" y="33"/>
                  </a:lnTo>
                  <a:lnTo>
                    <a:pt x="166" y="17"/>
                  </a:lnTo>
                  <a:lnTo>
                    <a:pt x="182" y="15"/>
                  </a:lnTo>
                  <a:lnTo>
                    <a:pt x="253" y="3"/>
                  </a:lnTo>
                  <a:lnTo>
                    <a:pt x="279" y="0"/>
                  </a:lnTo>
                  <a:lnTo>
                    <a:pt x="297" y="6"/>
                  </a:lnTo>
                  <a:lnTo>
                    <a:pt x="177" y="2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02520" y="3258000"/>
              <a:ext cx="1143000" cy="2781360"/>
            </a:xfrm>
            <a:custGeom>
              <a:avLst/>
              <a:gdLst/>
              <a:ahLst/>
              <a:rect l="l" t="t" r="r" b="b"/>
              <a:pathLst>
                <a:path w="309" h="1186">
                  <a:moveTo>
                    <a:pt x="295" y="9"/>
                  </a:moveTo>
                  <a:lnTo>
                    <a:pt x="264" y="11"/>
                  </a:lnTo>
                  <a:lnTo>
                    <a:pt x="241" y="17"/>
                  </a:lnTo>
                  <a:lnTo>
                    <a:pt x="205" y="19"/>
                  </a:lnTo>
                  <a:lnTo>
                    <a:pt x="200" y="23"/>
                  </a:lnTo>
                  <a:lnTo>
                    <a:pt x="173" y="27"/>
                  </a:lnTo>
                  <a:lnTo>
                    <a:pt x="142" y="37"/>
                  </a:lnTo>
                  <a:lnTo>
                    <a:pt x="119" y="54"/>
                  </a:lnTo>
                  <a:lnTo>
                    <a:pt x="110" y="124"/>
                  </a:lnTo>
                  <a:lnTo>
                    <a:pt x="110" y="308"/>
                  </a:lnTo>
                  <a:lnTo>
                    <a:pt x="105" y="430"/>
                  </a:lnTo>
                  <a:lnTo>
                    <a:pt x="96" y="682"/>
                  </a:lnTo>
                  <a:lnTo>
                    <a:pt x="99" y="1142"/>
                  </a:lnTo>
                  <a:lnTo>
                    <a:pt x="110" y="1186"/>
                  </a:lnTo>
                  <a:lnTo>
                    <a:pt x="90" y="1179"/>
                  </a:lnTo>
                  <a:lnTo>
                    <a:pt x="50" y="1173"/>
                  </a:lnTo>
                  <a:lnTo>
                    <a:pt x="15" y="1159"/>
                  </a:lnTo>
                  <a:lnTo>
                    <a:pt x="0" y="1127"/>
                  </a:lnTo>
                  <a:lnTo>
                    <a:pt x="0" y="972"/>
                  </a:lnTo>
                  <a:lnTo>
                    <a:pt x="9" y="623"/>
                  </a:lnTo>
                  <a:lnTo>
                    <a:pt x="13" y="546"/>
                  </a:lnTo>
                  <a:lnTo>
                    <a:pt x="30" y="263"/>
                  </a:lnTo>
                  <a:lnTo>
                    <a:pt x="36" y="56"/>
                  </a:lnTo>
                  <a:lnTo>
                    <a:pt x="62" y="35"/>
                  </a:lnTo>
                  <a:lnTo>
                    <a:pt x="113" y="19"/>
                  </a:lnTo>
                  <a:lnTo>
                    <a:pt x="196" y="7"/>
                  </a:lnTo>
                  <a:lnTo>
                    <a:pt x="246" y="1"/>
                  </a:lnTo>
                  <a:lnTo>
                    <a:pt x="281" y="0"/>
                  </a:lnTo>
                  <a:lnTo>
                    <a:pt x="309" y="3"/>
                  </a:lnTo>
                  <a:lnTo>
                    <a:pt x="295" y="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20120" y="3288240"/>
              <a:ext cx="1046520" cy="2798280"/>
            </a:xfrm>
            <a:custGeom>
              <a:avLst/>
              <a:gdLst/>
              <a:ahLst/>
              <a:rect l="l" t="t" r="r" b="b"/>
              <a:pathLst>
                <a:path w="283" h="1193">
                  <a:moveTo>
                    <a:pt x="202" y="18"/>
                  </a:moveTo>
                  <a:lnTo>
                    <a:pt x="174" y="27"/>
                  </a:lnTo>
                  <a:lnTo>
                    <a:pt x="128" y="61"/>
                  </a:lnTo>
                  <a:lnTo>
                    <a:pt x="115" y="90"/>
                  </a:lnTo>
                  <a:lnTo>
                    <a:pt x="119" y="96"/>
                  </a:lnTo>
                  <a:lnTo>
                    <a:pt x="110" y="392"/>
                  </a:lnTo>
                  <a:lnTo>
                    <a:pt x="101" y="510"/>
                  </a:lnTo>
                  <a:lnTo>
                    <a:pt x="89" y="694"/>
                  </a:lnTo>
                  <a:lnTo>
                    <a:pt x="89" y="811"/>
                  </a:lnTo>
                  <a:lnTo>
                    <a:pt x="82" y="1151"/>
                  </a:lnTo>
                  <a:lnTo>
                    <a:pt x="89" y="1178"/>
                  </a:lnTo>
                  <a:lnTo>
                    <a:pt x="89" y="1193"/>
                  </a:lnTo>
                  <a:lnTo>
                    <a:pt x="46" y="1184"/>
                  </a:lnTo>
                  <a:lnTo>
                    <a:pt x="32" y="1179"/>
                  </a:lnTo>
                  <a:lnTo>
                    <a:pt x="11" y="1163"/>
                  </a:lnTo>
                  <a:lnTo>
                    <a:pt x="6" y="1125"/>
                  </a:lnTo>
                  <a:lnTo>
                    <a:pt x="0" y="1080"/>
                  </a:lnTo>
                  <a:lnTo>
                    <a:pt x="0" y="622"/>
                  </a:lnTo>
                  <a:lnTo>
                    <a:pt x="6" y="447"/>
                  </a:lnTo>
                  <a:lnTo>
                    <a:pt x="11" y="300"/>
                  </a:lnTo>
                  <a:lnTo>
                    <a:pt x="11" y="271"/>
                  </a:lnTo>
                  <a:lnTo>
                    <a:pt x="18" y="74"/>
                  </a:lnTo>
                  <a:lnTo>
                    <a:pt x="23" y="51"/>
                  </a:lnTo>
                  <a:lnTo>
                    <a:pt x="27" y="43"/>
                  </a:lnTo>
                  <a:lnTo>
                    <a:pt x="50" y="30"/>
                  </a:lnTo>
                  <a:lnTo>
                    <a:pt x="115" y="18"/>
                  </a:lnTo>
                  <a:lnTo>
                    <a:pt x="196" y="6"/>
                  </a:lnTo>
                  <a:lnTo>
                    <a:pt x="223" y="0"/>
                  </a:lnTo>
                  <a:lnTo>
                    <a:pt x="283" y="0"/>
                  </a:lnTo>
                  <a:lnTo>
                    <a:pt x="202" y="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94160" y="3297240"/>
              <a:ext cx="1064880" cy="2857320"/>
            </a:xfrm>
            <a:custGeom>
              <a:avLst/>
              <a:gdLst/>
              <a:ahLst/>
              <a:rect l="l" t="t" r="r" b="b"/>
              <a:pathLst>
                <a:path w="288" h="1218">
                  <a:moveTo>
                    <a:pt x="288" y="6"/>
                  </a:moveTo>
                  <a:lnTo>
                    <a:pt x="224" y="21"/>
                  </a:lnTo>
                  <a:lnTo>
                    <a:pt x="164" y="35"/>
                  </a:lnTo>
                  <a:lnTo>
                    <a:pt x="133" y="61"/>
                  </a:lnTo>
                  <a:lnTo>
                    <a:pt x="122" y="126"/>
                  </a:lnTo>
                  <a:lnTo>
                    <a:pt x="115" y="216"/>
                  </a:lnTo>
                  <a:lnTo>
                    <a:pt x="110" y="372"/>
                  </a:lnTo>
                  <a:lnTo>
                    <a:pt x="101" y="481"/>
                  </a:lnTo>
                  <a:lnTo>
                    <a:pt x="90" y="788"/>
                  </a:lnTo>
                  <a:lnTo>
                    <a:pt x="87" y="1010"/>
                  </a:lnTo>
                  <a:lnTo>
                    <a:pt x="83" y="1183"/>
                  </a:lnTo>
                  <a:lnTo>
                    <a:pt x="87" y="1218"/>
                  </a:lnTo>
                  <a:lnTo>
                    <a:pt x="46" y="1206"/>
                  </a:lnTo>
                  <a:lnTo>
                    <a:pt x="14" y="1201"/>
                  </a:lnTo>
                  <a:lnTo>
                    <a:pt x="9" y="1196"/>
                  </a:lnTo>
                  <a:lnTo>
                    <a:pt x="0" y="1073"/>
                  </a:lnTo>
                  <a:lnTo>
                    <a:pt x="4" y="922"/>
                  </a:lnTo>
                  <a:lnTo>
                    <a:pt x="9" y="696"/>
                  </a:lnTo>
                  <a:lnTo>
                    <a:pt x="9" y="619"/>
                  </a:lnTo>
                  <a:lnTo>
                    <a:pt x="23" y="379"/>
                  </a:lnTo>
                  <a:lnTo>
                    <a:pt x="35" y="138"/>
                  </a:lnTo>
                  <a:lnTo>
                    <a:pt x="35" y="80"/>
                  </a:lnTo>
                  <a:lnTo>
                    <a:pt x="41" y="66"/>
                  </a:lnTo>
                  <a:lnTo>
                    <a:pt x="69" y="41"/>
                  </a:lnTo>
                  <a:lnTo>
                    <a:pt x="145" y="15"/>
                  </a:lnTo>
                  <a:lnTo>
                    <a:pt x="156" y="14"/>
                  </a:lnTo>
                  <a:lnTo>
                    <a:pt x="230" y="0"/>
                  </a:lnTo>
                  <a:lnTo>
                    <a:pt x="283" y="2"/>
                  </a:lnTo>
                  <a:lnTo>
                    <a:pt x="288" y="6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53080" y="3325680"/>
              <a:ext cx="1131120" cy="2864520"/>
            </a:xfrm>
            <a:custGeom>
              <a:avLst/>
              <a:gdLst/>
              <a:ahLst/>
              <a:rect l="l" t="t" r="r" b="b"/>
              <a:pathLst>
                <a:path w="306" h="1221">
                  <a:moveTo>
                    <a:pt x="306" y="8"/>
                  </a:moveTo>
                  <a:lnTo>
                    <a:pt x="306" y="9"/>
                  </a:lnTo>
                  <a:lnTo>
                    <a:pt x="272" y="19"/>
                  </a:lnTo>
                  <a:lnTo>
                    <a:pt x="223" y="27"/>
                  </a:lnTo>
                  <a:lnTo>
                    <a:pt x="187" y="40"/>
                  </a:lnTo>
                  <a:lnTo>
                    <a:pt x="150" y="66"/>
                  </a:lnTo>
                  <a:lnTo>
                    <a:pt x="131" y="97"/>
                  </a:lnTo>
                  <a:lnTo>
                    <a:pt x="119" y="125"/>
                  </a:lnTo>
                  <a:lnTo>
                    <a:pt x="113" y="241"/>
                  </a:lnTo>
                  <a:lnTo>
                    <a:pt x="108" y="465"/>
                  </a:lnTo>
                  <a:lnTo>
                    <a:pt x="101" y="514"/>
                  </a:lnTo>
                  <a:lnTo>
                    <a:pt x="101" y="647"/>
                  </a:lnTo>
                  <a:lnTo>
                    <a:pt x="96" y="1064"/>
                  </a:lnTo>
                  <a:lnTo>
                    <a:pt x="90" y="1184"/>
                  </a:lnTo>
                  <a:lnTo>
                    <a:pt x="96" y="1199"/>
                  </a:lnTo>
                  <a:lnTo>
                    <a:pt x="99" y="1215"/>
                  </a:lnTo>
                  <a:lnTo>
                    <a:pt x="99" y="1221"/>
                  </a:lnTo>
                  <a:lnTo>
                    <a:pt x="44" y="1220"/>
                  </a:lnTo>
                  <a:lnTo>
                    <a:pt x="9" y="1208"/>
                  </a:lnTo>
                  <a:lnTo>
                    <a:pt x="0" y="1178"/>
                  </a:lnTo>
                  <a:lnTo>
                    <a:pt x="7" y="967"/>
                  </a:lnTo>
                  <a:lnTo>
                    <a:pt x="7" y="884"/>
                  </a:lnTo>
                  <a:lnTo>
                    <a:pt x="13" y="618"/>
                  </a:lnTo>
                  <a:lnTo>
                    <a:pt x="18" y="524"/>
                  </a:lnTo>
                  <a:lnTo>
                    <a:pt x="27" y="382"/>
                  </a:lnTo>
                  <a:lnTo>
                    <a:pt x="30" y="320"/>
                  </a:lnTo>
                  <a:lnTo>
                    <a:pt x="36" y="228"/>
                  </a:lnTo>
                  <a:lnTo>
                    <a:pt x="39" y="103"/>
                  </a:lnTo>
                  <a:lnTo>
                    <a:pt x="44" y="80"/>
                  </a:lnTo>
                  <a:lnTo>
                    <a:pt x="44" y="70"/>
                  </a:lnTo>
                  <a:lnTo>
                    <a:pt x="48" y="70"/>
                  </a:lnTo>
                  <a:lnTo>
                    <a:pt x="59" y="45"/>
                  </a:lnTo>
                  <a:lnTo>
                    <a:pt x="101" y="27"/>
                  </a:lnTo>
                  <a:lnTo>
                    <a:pt x="235" y="2"/>
                  </a:lnTo>
                  <a:lnTo>
                    <a:pt x="267" y="0"/>
                  </a:lnTo>
                  <a:lnTo>
                    <a:pt x="290" y="0"/>
                  </a:lnTo>
                  <a:lnTo>
                    <a:pt x="306" y="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52320" y="3351600"/>
              <a:ext cx="1101960" cy="2880360"/>
            </a:xfrm>
            <a:custGeom>
              <a:avLst/>
              <a:gdLst/>
              <a:ahLst/>
              <a:rect l="l" t="t" r="r" b="b"/>
              <a:pathLst>
                <a:path w="298" h="1228">
                  <a:moveTo>
                    <a:pt x="270" y="14"/>
                  </a:moveTo>
                  <a:lnTo>
                    <a:pt x="233" y="22"/>
                  </a:lnTo>
                  <a:lnTo>
                    <a:pt x="152" y="47"/>
                  </a:lnTo>
                  <a:lnTo>
                    <a:pt x="124" y="78"/>
                  </a:lnTo>
                  <a:lnTo>
                    <a:pt x="111" y="94"/>
                  </a:lnTo>
                  <a:lnTo>
                    <a:pt x="111" y="146"/>
                  </a:lnTo>
                  <a:lnTo>
                    <a:pt x="109" y="250"/>
                  </a:lnTo>
                  <a:lnTo>
                    <a:pt x="104" y="343"/>
                  </a:lnTo>
                  <a:lnTo>
                    <a:pt x="104" y="410"/>
                  </a:lnTo>
                  <a:lnTo>
                    <a:pt x="92" y="743"/>
                  </a:lnTo>
                  <a:lnTo>
                    <a:pt x="88" y="905"/>
                  </a:lnTo>
                  <a:lnTo>
                    <a:pt x="78" y="1185"/>
                  </a:lnTo>
                  <a:lnTo>
                    <a:pt x="74" y="1228"/>
                  </a:lnTo>
                  <a:lnTo>
                    <a:pt x="42" y="1228"/>
                  </a:lnTo>
                  <a:lnTo>
                    <a:pt x="18" y="1219"/>
                  </a:lnTo>
                  <a:lnTo>
                    <a:pt x="9" y="1204"/>
                  </a:lnTo>
                  <a:lnTo>
                    <a:pt x="5" y="1167"/>
                  </a:lnTo>
                  <a:lnTo>
                    <a:pt x="0" y="1154"/>
                  </a:lnTo>
                  <a:lnTo>
                    <a:pt x="5" y="1056"/>
                  </a:lnTo>
                  <a:lnTo>
                    <a:pt x="9" y="765"/>
                  </a:lnTo>
                  <a:lnTo>
                    <a:pt x="14" y="490"/>
                  </a:lnTo>
                  <a:lnTo>
                    <a:pt x="23" y="263"/>
                  </a:lnTo>
                  <a:lnTo>
                    <a:pt x="25" y="127"/>
                  </a:lnTo>
                  <a:lnTo>
                    <a:pt x="32" y="102"/>
                  </a:lnTo>
                  <a:lnTo>
                    <a:pt x="55" y="66"/>
                  </a:lnTo>
                  <a:lnTo>
                    <a:pt x="83" y="43"/>
                  </a:lnTo>
                  <a:lnTo>
                    <a:pt x="147" y="22"/>
                  </a:lnTo>
                  <a:lnTo>
                    <a:pt x="182" y="18"/>
                  </a:lnTo>
                  <a:lnTo>
                    <a:pt x="215" y="8"/>
                  </a:lnTo>
                  <a:lnTo>
                    <a:pt x="219" y="10"/>
                  </a:lnTo>
                  <a:lnTo>
                    <a:pt x="230" y="6"/>
                  </a:lnTo>
                  <a:lnTo>
                    <a:pt x="277" y="0"/>
                  </a:lnTo>
                  <a:lnTo>
                    <a:pt x="298" y="3"/>
                  </a:lnTo>
                  <a:lnTo>
                    <a:pt x="270" y="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03680" y="3370320"/>
              <a:ext cx="1216800" cy="2941560"/>
            </a:xfrm>
            <a:custGeom>
              <a:avLst/>
              <a:gdLst/>
              <a:ahLst/>
              <a:rect l="l" t="t" r="r" b="b"/>
              <a:pathLst>
                <a:path w="329" h="1254">
                  <a:moveTo>
                    <a:pt x="329" y="10"/>
                  </a:moveTo>
                  <a:lnTo>
                    <a:pt x="329" y="14"/>
                  </a:lnTo>
                  <a:lnTo>
                    <a:pt x="279" y="18"/>
                  </a:lnTo>
                  <a:lnTo>
                    <a:pt x="269" y="21"/>
                  </a:lnTo>
                  <a:lnTo>
                    <a:pt x="226" y="26"/>
                  </a:lnTo>
                  <a:lnTo>
                    <a:pt x="189" y="35"/>
                  </a:lnTo>
                  <a:lnTo>
                    <a:pt x="152" y="63"/>
                  </a:lnTo>
                  <a:lnTo>
                    <a:pt x="143" y="82"/>
                  </a:lnTo>
                  <a:lnTo>
                    <a:pt x="142" y="117"/>
                  </a:lnTo>
                  <a:lnTo>
                    <a:pt x="133" y="301"/>
                  </a:lnTo>
                  <a:lnTo>
                    <a:pt x="126" y="437"/>
                  </a:lnTo>
                  <a:lnTo>
                    <a:pt x="115" y="616"/>
                  </a:lnTo>
                  <a:lnTo>
                    <a:pt x="112" y="852"/>
                  </a:lnTo>
                  <a:lnTo>
                    <a:pt x="92" y="1238"/>
                  </a:lnTo>
                  <a:lnTo>
                    <a:pt x="92" y="1245"/>
                  </a:lnTo>
                  <a:lnTo>
                    <a:pt x="96" y="1248"/>
                  </a:lnTo>
                  <a:lnTo>
                    <a:pt x="96" y="1254"/>
                  </a:lnTo>
                  <a:lnTo>
                    <a:pt x="66" y="1254"/>
                  </a:lnTo>
                  <a:lnTo>
                    <a:pt x="25" y="1238"/>
                  </a:lnTo>
                  <a:lnTo>
                    <a:pt x="0" y="1217"/>
                  </a:lnTo>
                  <a:lnTo>
                    <a:pt x="6" y="1048"/>
                  </a:lnTo>
                  <a:lnTo>
                    <a:pt x="14" y="745"/>
                  </a:lnTo>
                  <a:lnTo>
                    <a:pt x="16" y="532"/>
                  </a:lnTo>
                  <a:lnTo>
                    <a:pt x="25" y="377"/>
                  </a:lnTo>
                  <a:lnTo>
                    <a:pt x="29" y="228"/>
                  </a:lnTo>
                  <a:lnTo>
                    <a:pt x="37" y="80"/>
                  </a:lnTo>
                  <a:lnTo>
                    <a:pt x="69" y="51"/>
                  </a:lnTo>
                  <a:lnTo>
                    <a:pt x="92" y="39"/>
                  </a:lnTo>
                  <a:lnTo>
                    <a:pt x="212" y="8"/>
                  </a:lnTo>
                  <a:lnTo>
                    <a:pt x="256" y="2"/>
                  </a:lnTo>
                  <a:lnTo>
                    <a:pt x="288" y="0"/>
                  </a:lnTo>
                  <a:lnTo>
                    <a:pt x="325" y="8"/>
                  </a:lnTo>
                  <a:lnTo>
                    <a:pt x="329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7680" y="3412800"/>
              <a:ext cx="1323360" cy="3035160"/>
            </a:xfrm>
            <a:custGeom>
              <a:avLst/>
              <a:gdLst/>
              <a:ahLst/>
              <a:rect l="l" t="t" r="r" b="b"/>
              <a:pathLst>
                <a:path w="358" h="1294">
                  <a:moveTo>
                    <a:pt x="358" y="14"/>
                  </a:moveTo>
                  <a:lnTo>
                    <a:pt x="257" y="31"/>
                  </a:lnTo>
                  <a:lnTo>
                    <a:pt x="196" y="46"/>
                  </a:lnTo>
                  <a:lnTo>
                    <a:pt x="164" y="70"/>
                  </a:lnTo>
                  <a:lnTo>
                    <a:pt x="157" y="77"/>
                  </a:lnTo>
                  <a:lnTo>
                    <a:pt x="157" y="199"/>
                  </a:lnTo>
                  <a:lnTo>
                    <a:pt x="150" y="708"/>
                  </a:lnTo>
                  <a:lnTo>
                    <a:pt x="144" y="859"/>
                  </a:lnTo>
                  <a:lnTo>
                    <a:pt x="127" y="857"/>
                  </a:lnTo>
                  <a:lnTo>
                    <a:pt x="95" y="844"/>
                  </a:lnTo>
                  <a:lnTo>
                    <a:pt x="81" y="844"/>
                  </a:lnTo>
                  <a:lnTo>
                    <a:pt x="76" y="839"/>
                  </a:lnTo>
                  <a:lnTo>
                    <a:pt x="67" y="839"/>
                  </a:lnTo>
                  <a:lnTo>
                    <a:pt x="60" y="844"/>
                  </a:lnTo>
                  <a:lnTo>
                    <a:pt x="58" y="888"/>
                  </a:lnTo>
                  <a:lnTo>
                    <a:pt x="84" y="900"/>
                  </a:lnTo>
                  <a:lnTo>
                    <a:pt x="121" y="908"/>
                  </a:lnTo>
                  <a:lnTo>
                    <a:pt x="130" y="912"/>
                  </a:lnTo>
                  <a:lnTo>
                    <a:pt x="136" y="916"/>
                  </a:lnTo>
                  <a:lnTo>
                    <a:pt x="139" y="913"/>
                  </a:lnTo>
                  <a:lnTo>
                    <a:pt x="139" y="931"/>
                  </a:lnTo>
                  <a:lnTo>
                    <a:pt x="76" y="912"/>
                  </a:lnTo>
                  <a:lnTo>
                    <a:pt x="67" y="912"/>
                  </a:lnTo>
                  <a:lnTo>
                    <a:pt x="58" y="922"/>
                  </a:lnTo>
                  <a:lnTo>
                    <a:pt x="53" y="1072"/>
                  </a:lnTo>
                  <a:lnTo>
                    <a:pt x="49" y="1089"/>
                  </a:lnTo>
                  <a:lnTo>
                    <a:pt x="49" y="1095"/>
                  </a:lnTo>
                  <a:lnTo>
                    <a:pt x="72" y="1107"/>
                  </a:lnTo>
                  <a:lnTo>
                    <a:pt x="114" y="1116"/>
                  </a:lnTo>
                  <a:lnTo>
                    <a:pt x="127" y="1125"/>
                  </a:lnTo>
                  <a:lnTo>
                    <a:pt x="136" y="1125"/>
                  </a:lnTo>
                  <a:lnTo>
                    <a:pt x="139" y="1279"/>
                  </a:lnTo>
                  <a:lnTo>
                    <a:pt x="157" y="1294"/>
                  </a:lnTo>
                  <a:lnTo>
                    <a:pt x="100" y="1280"/>
                  </a:lnTo>
                  <a:lnTo>
                    <a:pt x="100" y="1279"/>
                  </a:lnTo>
                  <a:lnTo>
                    <a:pt x="72" y="1274"/>
                  </a:lnTo>
                  <a:lnTo>
                    <a:pt x="38" y="1262"/>
                  </a:lnTo>
                  <a:lnTo>
                    <a:pt x="0" y="1239"/>
                  </a:lnTo>
                  <a:lnTo>
                    <a:pt x="0" y="1147"/>
                  </a:lnTo>
                  <a:lnTo>
                    <a:pt x="14" y="879"/>
                  </a:lnTo>
                  <a:lnTo>
                    <a:pt x="21" y="701"/>
                  </a:lnTo>
                  <a:lnTo>
                    <a:pt x="23" y="558"/>
                  </a:lnTo>
                  <a:lnTo>
                    <a:pt x="30" y="468"/>
                  </a:lnTo>
                  <a:lnTo>
                    <a:pt x="31" y="391"/>
                  </a:lnTo>
                  <a:lnTo>
                    <a:pt x="49" y="58"/>
                  </a:lnTo>
                  <a:lnTo>
                    <a:pt x="54" y="46"/>
                  </a:lnTo>
                  <a:lnTo>
                    <a:pt x="90" y="27"/>
                  </a:lnTo>
                  <a:lnTo>
                    <a:pt x="141" y="17"/>
                  </a:lnTo>
                  <a:lnTo>
                    <a:pt x="222" y="6"/>
                  </a:lnTo>
                  <a:lnTo>
                    <a:pt x="250" y="6"/>
                  </a:lnTo>
                  <a:lnTo>
                    <a:pt x="277" y="0"/>
                  </a:lnTo>
                  <a:lnTo>
                    <a:pt x="323" y="6"/>
                  </a:lnTo>
                  <a:lnTo>
                    <a:pt x="358" y="1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24280" y="3534480"/>
              <a:ext cx="1349280" cy="1121040"/>
            </a:xfrm>
            <a:custGeom>
              <a:avLst/>
              <a:gdLst/>
              <a:ahLst/>
              <a:rect l="l" t="t" r="r" b="b"/>
              <a:pathLst>
                <a:path w="365" h="478">
                  <a:moveTo>
                    <a:pt x="58" y="74"/>
                  </a:moveTo>
                  <a:lnTo>
                    <a:pt x="63" y="249"/>
                  </a:lnTo>
                  <a:lnTo>
                    <a:pt x="58" y="392"/>
                  </a:lnTo>
                  <a:lnTo>
                    <a:pt x="58" y="407"/>
                  </a:lnTo>
                  <a:lnTo>
                    <a:pt x="63" y="413"/>
                  </a:lnTo>
                  <a:lnTo>
                    <a:pt x="116" y="412"/>
                  </a:lnTo>
                  <a:lnTo>
                    <a:pt x="154" y="404"/>
                  </a:lnTo>
                  <a:lnTo>
                    <a:pt x="205" y="401"/>
                  </a:lnTo>
                  <a:lnTo>
                    <a:pt x="242" y="395"/>
                  </a:lnTo>
                  <a:lnTo>
                    <a:pt x="272" y="392"/>
                  </a:lnTo>
                  <a:lnTo>
                    <a:pt x="282" y="388"/>
                  </a:lnTo>
                  <a:lnTo>
                    <a:pt x="286" y="391"/>
                  </a:lnTo>
                  <a:lnTo>
                    <a:pt x="309" y="385"/>
                  </a:lnTo>
                  <a:lnTo>
                    <a:pt x="332" y="385"/>
                  </a:lnTo>
                  <a:lnTo>
                    <a:pt x="351" y="382"/>
                  </a:lnTo>
                  <a:lnTo>
                    <a:pt x="360" y="382"/>
                  </a:lnTo>
                  <a:lnTo>
                    <a:pt x="360" y="386"/>
                  </a:lnTo>
                  <a:lnTo>
                    <a:pt x="364" y="394"/>
                  </a:lnTo>
                  <a:lnTo>
                    <a:pt x="365" y="395"/>
                  </a:lnTo>
                  <a:lnTo>
                    <a:pt x="365" y="400"/>
                  </a:lnTo>
                  <a:lnTo>
                    <a:pt x="355" y="400"/>
                  </a:lnTo>
                  <a:lnTo>
                    <a:pt x="249" y="416"/>
                  </a:lnTo>
                  <a:lnTo>
                    <a:pt x="203" y="417"/>
                  </a:lnTo>
                  <a:lnTo>
                    <a:pt x="118" y="428"/>
                  </a:lnTo>
                  <a:lnTo>
                    <a:pt x="116" y="428"/>
                  </a:lnTo>
                  <a:lnTo>
                    <a:pt x="113" y="425"/>
                  </a:lnTo>
                  <a:lnTo>
                    <a:pt x="90" y="437"/>
                  </a:lnTo>
                  <a:lnTo>
                    <a:pt x="67" y="460"/>
                  </a:lnTo>
                  <a:lnTo>
                    <a:pt x="55" y="463"/>
                  </a:lnTo>
                  <a:lnTo>
                    <a:pt x="49" y="472"/>
                  </a:lnTo>
                  <a:lnTo>
                    <a:pt x="40" y="478"/>
                  </a:lnTo>
                  <a:lnTo>
                    <a:pt x="3" y="471"/>
                  </a:lnTo>
                  <a:lnTo>
                    <a:pt x="3" y="388"/>
                  </a:lnTo>
                  <a:lnTo>
                    <a:pt x="0" y="386"/>
                  </a:lnTo>
                  <a:lnTo>
                    <a:pt x="7" y="379"/>
                  </a:lnTo>
                  <a:lnTo>
                    <a:pt x="7" y="194"/>
                  </a:lnTo>
                  <a:lnTo>
                    <a:pt x="12" y="31"/>
                  </a:lnTo>
                  <a:lnTo>
                    <a:pt x="23" y="16"/>
                  </a:lnTo>
                  <a:lnTo>
                    <a:pt x="46" y="5"/>
                  </a:lnTo>
                  <a:lnTo>
                    <a:pt x="58" y="0"/>
                  </a:lnTo>
                  <a:lnTo>
                    <a:pt x="63" y="22"/>
                  </a:lnTo>
                  <a:lnTo>
                    <a:pt x="58" y="7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12640" y="3621240"/>
              <a:ext cx="1009440" cy="766800"/>
            </a:xfrm>
            <a:custGeom>
              <a:avLst/>
              <a:gdLst/>
              <a:ahLst/>
              <a:rect l="l" t="t" r="r" b="b"/>
              <a:pathLst>
                <a:path w="273" h="327">
                  <a:moveTo>
                    <a:pt x="268" y="121"/>
                  </a:moveTo>
                  <a:lnTo>
                    <a:pt x="272" y="164"/>
                  </a:lnTo>
                  <a:lnTo>
                    <a:pt x="272" y="170"/>
                  </a:lnTo>
                  <a:lnTo>
                    <a:pt x="236" y="157"/>
                  </a:lnTo>
                  <a:lnTo>
                    <a:pt x="203" y="153"/>
                  </a:lnTo>
                  <a:lnTo>
                    <a:pt x="153" y="169"/>
                  </a:lnTo>
                  <a:lnTo>
                    <a:pt x="130" y="191"/>
                  </a:lnTo>
                  <a:lnTo>
                    <a:pt x="121" y="212"/>
                  </a:lnTo>
                  <a:lnTo>
                    <a:pt x="132" y="241"/>
                  </a:lnTo>
                  <a:lnTo>
                    <a:pt x="146" y="263"/>
                  </a:lnTo>
                  <a:lnTo>
                    <a:pt x="178" y="275"/>
                  </a:lnTo>
                  <a:lnTo>
                    <a:pt x="236" y="275"/>
                  </a:lnTo>
                  <a:lnTo>
                    <a:pt x="257" y="268"/>
                  </a:lnTo>
                  <a:lnTo>
                    <a:pt x="259" y="306"/>
                  </a:lnTo>
                  <a:lnTo>
                    <a:pt x="210" y="312"/>
                  </a:lnTo>
                  <a:lnTo>
                    <a:pt x="136" y="314"/>
                  </a:lnTo>
                  <a:lnTo>
                    <a:pt x="49" y="327"/>
                  </a:lnTo>
                  <a:lnTo>
                    <a:pt x="0" y="326"/>
                  </a:lnTo>
                  <a:lnTo>
                    <a:pt x="3" y="176"/>
                  </a:lnTo>
                  <a:lnTo>
                    <a:pt x="0" y="90"/>
                  </a:lnTo>
                  <a:lnTo>
                    <a:pt x="3" y="36"/>
                  </a:lnTo>
                  <a:lnTo>
                    <a:pt x="63" y="28"/>
                  </a:lnTo>
                  <a:lnTo>
                    <a:pt x="98" y="26"/>
                  </a:lnTo>
                  <a:lnTo>
                    <a:pt x="139" y="18"/>
                  </a:lnTo>
                  <a:lnTo>
                    <a:pt x="171" y="16"/>
                  </a:lnTo>
                  <a:lnTo>
                    <a:pt x="227" y="5"/>
                  </a:lnTo>
                  <a:lnTo>
                    <a:pt x="259" y="3"/>
                  </a:lnTo>
                  <a:lnTo>
                    <a:pt x="263" y="0"/>
                  </a:lnTo>
                  <a:lnTo>
                    <a:pt x="273" y="46"/>
                  </a:lnTo>
                  <a:lnTo>
                    <a:pt x="268" y="12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334280" y="4017600"/>
              <a:ext cx="339480" cy="180720"/>
            </a:xfrm>
            <a:custGeom>
              <a:avLst/>
              <a:gdLst/>
              <a:ahLst/>
              <a:rect l="l" t="t" r="r" b="b"/>
              <a:pathLst>
                <a:path w="92" h="77">
                  <a:moveTo>
                    <a:pt x="16" y="77"/>
                  </a:moveTo>
                  <a:lnTo>
                    <a:pt x="9" y="77"/>
                  </a:lnTo>
                  <a:lnTo>
                    <a:pt x="9" y="65"/>
                  </a:lnTo>
                  <a:lnTo>
                    <a:pt x="0" y="53"/>
                  </a:lnTo>
                  <a:lnTo>
                    <a:pt x="3" y="31"/>
                  </a:lnTo>
                  <a:lnTo>
                    <a:pt x="21" y="13"/>
                  </a:lnTo>
                  <a:lnTo>
                    <a:pt x="44" y="1"/>
                  </a:lnTo>
                  <a:lnTo>
                    <a:pt x="55" y="0"/>
                  </a:lnTo>
                  <a:lnTo>
                    <a:pt x="92" y="1"/>
                  </a:lnTo>
                  <a:lnTo>
                    <a:pt x="16" y="7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18880" y="4038840"/>
              <a:ext cx="317520" cy="19656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10"/>
                  </a:moveTo>
                  <a:lnTo>
                    <a:pt x="23" y="74"/>
                  </a:lnTo>
                  <a:lnTo>
                    <a:pt x="14" y="84"/>
                  </a:lnTo>
                  <a:lnTo>
                    <a:pt x="3" y="80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14" y="68"/>
                  </a:lnTo>
                  <a:lnTo>
                    <a:pt x="85" y="0"/>
                  </a:lnTo>
                  <a:lnTo>
                    <a:pt x="86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548120" y="4078800"/>
              <a:ext cx="243720" cy="164160"/>
            </a:xfrm>
            <a:custGeom>
              <a:avLst/>
              <a:gdLst/>
              <a:ahLst/>
              <a:rect l="l" t="t" r="r" b="b"/>
              <a:pathLst>
                <a:path w="66" h="70">
                  <a:moveTo>
                    <a:pt x="50" y="63"/>
                  </a:moveTo>
                  <a:lnTo>
                    <a:pt x="14" y="70"/>
                  </a:lnTo>
                  <a:lnTo>
                    <a:pt x="0" y="70"/>
                  </a:lnTo>
                  <a:lnTo>
                    <a:pt x="28" y="37"/>
                  </a:lnTo>
                  <a:lnTo>
                    <a:pt x="66" y="0"/>
                  </a:lnTo>
                  <a:lnTo>
                    <a:pt x="60" y="51"/>
                  </a:lnTo>
                  <a:lnTo>
                    <a:pt x="50" y="63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05080" y="4371840"/>
              <a:ext cx="1017000" cy="100800"/>
            </a:xfrm>
            <a:custGeom>
              <a:avLst/>
              <a:gdLst/>
              <a:ahLst/>
              <a:rect l="l" t="t" r="r" b="b"/>
              <a:pathLst>
                <a:path w="275" h="43">
                  <a:moveTo>
                    <a:pt x="206" y="19"/>
                  </a:moveTo>
                  <a:lnTo>
                    <a:pt x="111" y="34"/>
                  </a:lnTo>
                  <a:lnTo>
                    <a:pt x="60" y="35"/>
                  </a:lnTo>
                  <a:lnTo>
                    <a:pt x="25" y="43"/>
                  </a:lnTo>
                  <a:lnTo>
                    <a:pt x="10" y="41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5" y="18"/>
                  </a:lnTo>
                  <a:lnTo>
                    <a:pt x="86" y="16"/>
                  </a:lnTo>
                  <a:lnTo>
                    <a:pt x="123" y="7"/>
                  </a:lnTo>
                  <a:lnTo>
                    <a:pt x="196" y="6"/>
                  </a:lnTo>
                  <a:lnTo>
                    <a:pt x="267" y="0"/>
                  </a:lnTo>
                  <a:lnTo>
                    <a:pt x="275" y="12"/>
                  </a:lnTo>
                  <a:lnTo>
                    <a:pt x="206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89960" y="4510080"/>
              <a:ext cx="1028160" cy="138240"/>
            </a:xfrm>
            <a:custGeom>
              <a:avLst/>
              <a:gdLst/>
              <a:ahLst/>
              <a:rect l="l" t="t" r="r" b="b"/>
              <a:pathLst>
                <a:path w="278" h="59">
                  <a:moveTo>
                    <a:pt x="242" y="31"/>
                  </a:moveTo>
                  <a:lnTo>
                    <a:pt x="196" y="43"/>
                  </a:lnTo>
                  <a:lnTo>
                    <a:pt x="110" y="47"/>
                  </a:lnTo>
                  <a:lnTo>
                    <a:pt x="46" y="56"/>
                  </a:lnTo>
                  <a:lnTo>
                    <a:pt x="13" y="59"/>
                  </a:lnTo>
                  <a:lnTo>
                    <a:pt x="0" y="59"/>
                  </a:lnTo>
                  <a:lnTo>
                    <a:pt x="29" y="34"/>
                  </a:lnTo>
                  <a:lnTo>
                    <a:pt x="46" y="25"/>
                  </a:lnTo>
                  <a:lnTo>
                    <a:pt x="145" y="13"/>
                  </a:lnTo>
                  <a:lnTo>
                    <a:pt x="196" y="9"/>
                  </a:lnTo>
                  <a:lnTo>
                    <a:pt x="265" y="0"/>
                  </a:lnTo>
                  <a:lnTo>
                    <a:pt x="278" y="0"/>
                  </a:lnTo>
                  <a:lnTo>
                    <a:pt x="242" y="3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83240" y="4618080"/>
              <a:ext cx="1139400" cy="1815480"/>
            </a:xfrm>
            <a:custGeom>
              <a:avLst/>
              <a:gdLst/>
              <a:ahLst/>
              <a:rect l="l" t="t" r="r" b="b"/>
              <a:pathLst>
                <a:path w="308" h="774">
                  <a:moveTo>
                    <a:pt x="306" y="209"/>
                  </a:moveTo>
                  <a:lnTo>
                    <a:pt x="297" y="244"/>
                  </a:lnTo>
                  <a:lnTo>
                    <a:pt x="302" y="288"/>
                  </a:lnTo>
                  <a:lnTo>
                    <a:pt x="299" y="316"/>
                  </a:lnTo>
                  <a:lnTo>
                    <a:pt x="265" y="320"/>
                  </a:lnTo>
                  <a:lnTo>
                    <a:pt x="216" y="328"/>
                  </a:lnTo>
                  <a:lnTo>
                    <a:pt x="202" y="328"/>
                  </a:lnTo>
                  <a:lnTo>
                    <a:pt x="189" y="331"/>
                  </a:lnTo>
                  <a:lnTo>
                    <a:pt x="135" y="333"/>
                  </a:lnTo>
                  <a:lnTo>
                    <a:pt x="89" y="339"/>
                  </a:lnTo>
                  <a:lnTo>
                    <a:pt x="60" y="351"/>
                  </a:lnTo>
                  <a:lnTo>
                    <a:pt x="43" y="373"/>
                  </a:lnTo>
                  <a:lnTo>
                    <a:pt x="46" y="425"/>
                  </a:lnTo>
                  <a:lnTo>
                    <a:pt x="43" y="565"/>
                  </a:lnTo>
                  <a:lnTo>
                    <a:pt x="37" y="574"/>
                  </a:lnTo>
                  <a:lnTo>
                    <a:pt x="43" y="593"/>
                  </a:lnTo>
                  <a:lnTo>
                    <a:pt x="48" y="602"/>
                  </a:lnTo>
                  <a:lnTo>
                    <a:pt x="73" y="614"/>
                  </a:lnTo>
                  <a:lnTo>
                    <a:pt x="133" y="617"/>
                  </a:lnTo>
                  <a:lnTo>
                    <a:pt x="173" y="608"/>
                  </a:lnTo>
                  <a:lnTo>
                    <a:pt x="202" y="608"/>
                  </a:lnTo>
                  <a:lnTo>
                    <a:pt x="242" y="602"/>
                  </a:lnTo>
                  <a:lnTo>
                    <a:pt x="283" y="595"/>
                  </a:lnTo>
                  <a:lnTo>
                    <a:pt x="302" y="595"/>
                  </a:lnTo>
                  <a:lnTo>
                    <a:pt x="306" y="593"/>
                  </a:lnTo>
                  <a:lnTo>
                    <a:pt x="308" y="711"/>
                  </a:lnTo>
                  <a:lnTo>
                    <a:pt x="306" y="716"/>
                  </a:lnTo>
                  <a:lnTo>
                    <a:pt x="306" y="719"/>
                  </a:lnTo>
                  <a:lnTo>
                    <a:pt x="170" y="750"/>
                  </a:lnTo>
                  <a:lnTo>
                    <a:pt x="120" y="759"/>
                  </a:lnTo>
                  <a:lnTo>
                    <a:pt x="32" y="774"/>
                  </a:lnTo>
                  <a:lnTo>
                    <a:pt x="14" y="768"/>
                  </a:lnTo>
                  <a:lnTo>
                    <a:pt x="4" y="759"/>
                  </a:lnTo>
                  <a:lnTo>
                    <a:pt x="4" y="732"/>
                  </a:lnTo>
                  <a:lnTo>
                    <a:pt x="0" y="685"/>
                  </a:lnTo>
                  <a:lnTo>
                    <a:pt x="0" y="556"/>
                  </a:lnTo>
                  <a:lnTo>
                    <a:pt x="14" y="67"/>
                  </a:lnTo>
                  <a:lnTo>
                    <a:pt x="14" y="23"/>
                  </a:lnTo>
                  <a:lnTo>
                    <a:pt x="46" y="29"/>
                  </a:lnTo>
                  <a:lnTo>
                    <a:pt x="92" y="28"/>
                  </a:lnTo>
                  <a:lnTo>
                    <a:pt x="253" y="9"/>
                  </a:lnTo>
                  <a:lnTo>
                    <a:pt x="302" y="0"/>
                  </a:lnTo>
                  <a:lnTo>
                    <a:pt x="306" y="111"/>
                  </a:lnTo>
                  <a:lnTo>
                    <a:pt x="306" y="209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705360" y="5392080"/>
              <a:ext cx="909720" cy="645120"/>
            </a:xfrm>
            <a:custGeom>
              <a:avLst/>
              <a:gdLst/>
              <a:ahLst/>
              <a:rect l="l" t="t" r="r" b="b"/>
              <a:pathLst>
                <a:path w="246" h="275">
                  <a:moveTo>
                    <a:pt x="246" y="78"/>
                  </a:moveTo>
                  <a:lnTo>
                    <a:pt x="242" y="249"/>
                  </a:lnTo>
                  <a:lnTo>
                    <a:pt x="205" y="254"/>
                  </a:lnTo>
                  <a:lnTo>
                    <a:pt x="173" y="263"/>
                  </a:lnTo>
                  <a:lnTo>
                    <a:pt x="105" y="269"/>
                  </a:lnTo>
                  <a:lnTo>
                    <a:pt x="60" y="275"/>
                  </a:lnTo>
                  <a:lnTo>
                    <a:pt x="18" y="271"/>
                  </a:lnTo>
                  <a:lnTo>
                    <a:pt x="0" y="257"/>
                  </a:lnTo>
                  <a:lnTo>
                    <a:pt x="0" y="233"/>
                  </a:lnTo>
                  <a:lnTo>
                    <a:pt x="6" y="192"/>
                  </a:lnTo>
                  <a:lnTo>
                    <a:pt x="6" y="87"/>
                  </a:lnTo>
                  <a:lnTo>
                    <a:pt x="4" y="46"/>
                  </a:lnTo>
                  <a:lnTo>
                    <a:pt x="18" y="31"/>
                  </a:lnTo>
                  <a:lnTo>
                    <a:pt x="27" y="31"/>
                  </a:lnTo>
                  <a:lnTo>
                    <a:pt x="46" y="21"/>
                  </a:lnTo>
                  <a:lnTo>
                    <a:pt x="145" y="11"/>
                  </a:lnTo>
                  <a:lnTo>
                    <a:pt x="175" y="6"/>
                  </a:lnTo>
                  <a:lnTo>
                    <a:pt x="223" y="0"/>
                  </a:lnTo>
                  <a:lnTo>
                    <a:pt x="239" y="0"/>
                  </a:lnTo>
                  <a:lnTo>
                    <a:pt x="246" y="78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319160" y="5392080"/>
              <a:ext cx="295920" cy="617040"/>
            </a:xfrm>
            <a:custGeom>
              <a:avLst/>
              <a:gdLst/>
              <a:ahLst/>
              <a:rect l="l" t="t" r="r" b="b"/>
              <a:pathLst>
                <a:path w="80" h="263">
                  <a:moveTo>
                    <a:pt x="80" y="78"/>
                  </a:moveTo>
                  <a:lnTo>
                    <a:pt x="76" y="249"/>
                  </a:lnTo>
                  <a:lnTo>
                    <a:pt x="39" y="254"/>
                  </a:lnTo>
                  <a:lnTo>
                    <a:pt x="7" y="263"/>
                  </a:lnTo>
                  <a:lnTo>
                    <a:pt x="0" y="263"/>
                  </a:lnTo>
                  <a:lnTo>
                    <a:pt x="2" y="234"/>
                  </a:lnTo>
                  <a:lnTo>
                    <a:pt x="2" y="199"/>
                  </a:lnTo>
                  <a:lnTo>
                    <a:pt x="4" y="164"/>
                  </a:lnTo>
                  <a:lnTo>
                    <a:pt x="6" y="126"/>
                  </a:lnTo>
                  <a:lnTo>
                    <a:pt x="7" y="91"/>
                  </a:lnTo>
                  <a:lnTo>
                    <a:pt x="7" y="57"/>
                  </a:lnTo>
                  <a:lnTo>
                    <a:pt x="9" y="29"/>
                  </a:lnTo>
                  <a:lnTo>
                    <a:pt x="9" y="6"/>
                  </a:lnTo>
                  <a:lnTo>
                    <a:pt x="9" y="6"/>
                  </a:lnTo>
                  <a:lnTo>
                    <a:pt x="57" y="0"/>
                  </a:lnTo>
                  <a:lnTo>
                    <a:pt x="73" y="0"/>
                  </a:lnTo>
                  <a:lnTo>
                    <a:pt x="80" y="78"/>
                  </a:lnTo>
                  <a:close/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02080" y="5423040"/>
              <a:ext cx="236160" cy="100440"/>
            </a:xfrm>
            <a:custGeom>
              <a:avLst/>
              <a:gdLst/>
              <a:ahLst/>
              <a:rect l="l" t="t" r="r" b="b"/>
              <a:pathLst>
                <a:path w="64" h="43">
                  <a:moveTo>
                    <a:pt x="64" y="19"/>
                  </a:moveTo>
                  <a:lnTo>
                    <a:pt x="64" y="43"/>
                  </a:lnTo>
                  <a:lnTo>
                    <a:pt x="27" y="33"/>
                  </a:lnTo>
                  <a:lnTo>
                    <a:pt x="27" y="31"/>
                  </a:lnTo>
                  <a:lnTo>
                    <a:pt x="0" y="25"/>
                  </a:lnTo>
                  <a:lnTo>
                    <a:pt x="4" y="0"/>
                  </a:lnTo>
                  <a:lnTo>
                    <a:pt x="22" y="2"/>
                  </a:lnTo>
                  <a:lnTo>
                    <a:pt x="64" y="1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889680" y="5523480"/>
              <a:ext cx="673200" cy="328680"/>
            </a:xfrm>
            <a:custGeom>
              <a:avLst/>
              <a:gdLst/>
              <a:ahLst/>
              <a:rect l="l" t="t" r="r" b="b"/>
              <a:pathLst>
                <a:path w="182" h="140">
                  <a:moveTo>
                    <a:pt x="146" y="16"/>
                  </a:moveTo>
                  <a:lnTo>
                    <a:pt x="169" y="37"/>
                  </a:lnTo>
                  <a:lnTo>
                    <a:pt x="182" y="61"/>
                  </a:lnTo>
                  <a:lnTo>
                    <a:pt x="169" y="102"/>
                  </a:lnTo>
                  <a:lnTo>
                    <a:pt x="155" y="121"/>
                  </a:lnTo>
                  <a:lnTo>
                    <a:pt x="120" y="136"/>
                  </a:lnTo>
                  <a:lnTo>
                    <a:pt x="88" y="140"/>
                  </a:lnTo>
                  <a:lnTo>
                    <a:pt x="49" y="133"/>
                  </a:lnTo>
                  <a:lnTo>
                    <a:pt x="19" y="115"/>
                  </a:lnTo>
                  <a:lnTo>
                    <a:pt x="0" y="96"/>
                  </a:lnTo>
                  <a:lnTo>
                    <a:pt x="0" y="65"/>
                  </a:lnTo>
                  <a:lnTo>
                    <a:pt x="17" y="35"/>
                  </a:lnTo>
                  <a:lnTo>
                    <a:pt x="40" y="16"/>
                  </a:lnTo>
                  <a:lnTo>
                    <a:pt x="79" y="0"/>
                  </a:lnTo>
                  <a:lnTo>
                    <a:pt x="104" y="2"/>
                  </a:lnTo>
                  <a:lnTo>
                    <a:pt x="14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52680" y="5554440"/>
              <a:ext cx="543960" cy="271800"/>
            </a:xfrm>
            <a:custGeom>
              <a:avLst/>
              <a:gdLst/>
              <a:ahLst/>
              <a:rect l="l" t="t" r="r" b="b"/>
              <a:pathLst>
                <a:path w="147" h="116">
                  <a:moveTo>
                    <a:pt x="121" y="12"/>
                  </a:moveTo>
                  <a:lnTo>
                    <a:pt x="138" y="28"/>
                  </a:lnTo>
                  <a:lnTo>
                    <a:pt x="147" y="49"/>
                  </a:lnTo>
                  <a:lnTo>
                    <a:pt x="138" y="80"/>
                  </a:lnTo>
                  <a:lnTo>
                    <a:pt x="126" y="100"/>
                  </a:lnTo>
                  <a:lnTo>
                    <a:pt x="83" y="116"/>
                  </a:lnTo>
                  <a:lnTo>
                    <a:pt x="46" y="111"/>
                  </a:lnTo>
                  <a:lnTo>
                    <a:pt x="23" y="104"/>
                  </a:lnTo>
                  <a:lnTo>
                    <a:pt x="0" y="83"/>
                  </a:lnTo>
                  <a:lnTo>
                    <a:pt x="0" y="52"/>
                  </a:lnTo>
                  <a:lnTo>
                    <a:pt x="8" y="34"/>
                  </a:lnTo>
                  <a:lnTo>
                    <a:pt x="29" y="14"/>
                  </a:lnTo>
                  <a:lnTo>
                    <a:pt x="60" y="0"/>
                  </a:lnTo>
                  <a:lnTo>
                    <a:pt x="101" y="5"/>
                  </a:lnTo>
                  <a:lnTo>
                    <a:pt x="121" y="1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26720" y="5568120"/>
              <a:ext cx="169920" cy="244080"/>
            </a:xfrm>
            <a:custGeom>
              <a:avLst/>
              <a:gdLst/>
              <a:ahLst/>
              <a:rect l="l" t="t" r="r" b="b"/>
              <a:pathLst>
                <a:path w="46" h="104">
                  <a:moveTo>
                    <a:pt x="20" y="6"/>
                  </a:moveTo>
                  <a:lnTo>
                    <a:pt x="37" y="22"/>
                  </a:lnTo>
                  <a:lnTo>
                    <a:pt x="46" y="43"/>
                  </a:lnTo>
                  <a:lnTo>
                    <a:pt x="37" y="74"/>
                  </a:lnTo>
                  <a:lnTo>
                    <a:pt x="25" y="94"/>
                  </a:lnTo>
                  <a:lnTo>
                    <a:pt x="0" y="104"/>
                  </a:lnTo>
                  <a:lnTo>
                    <a:pt x="4" y="0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7040" y="5586840"/>
              <a:ext cx="347760" cy="168840"/>
            </a:xfrm>
            <a:custGeom>
              <a:avLst/>
              <a:gdLst/>
              <a:ahLst/>
              <a:rect l="l" t="t" r="r" b="b"/>
              <a:pathLst>
                <a:path w="94" h="72">
                  <a:moveTo>
                    <a:pt x="76" y="10"/>
                  </a:moveTo>
                  <a:lnTo>
                    <a:pt x="94" y="29"/>
                  </a:lnTo>
                  <a:lnTo>
                    <a:pt x="85" y="59"/>
                  </a:lnTo>
                  <a:lnTo>
                    <a:pt x="87" y="61"/>
                  </a:lnTo>
                  <a:lnTo>
                    <a:pt x="80" y="66"/>
                  </a:lnTo>
                  <a:lnTo>
                    <a:pt x="62" y="72"/>
                  </a:lnTo>
                  <a:lnTo>
                    <a:pt x="23" y="72"/>
                  </a:lnTo>
                  <a:lnTo>
                    <a:pt x="0" y="53"/>
                  </a:lnTo>
                  <a:lnTo>
                    <a:pt x="0" y="26"/>
                  </a:lnTo>
                  <a:lnTo>
                    <a:pt x="9" y="12"/>
                  </a:lnTo>
                  <a:lnTo>
                    <a:pt x="32" y="0"/>
                  </a:lnTo>
                  <a:lnTo>
                    <a:pt x="59" y="3"/>
                  </a:lnTo>
                  <a:lnTo>
                    <a:pt x="7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6160" y="5594400"/>
              <a:ext cx="262440" cy="421560"/>
            </a:xfrm>
            <a:custGeom>
              <a:avLst/>
              <a:gdLst/>
              <a:ahLst/>
              <a:rect l="l" t="t" r="r" b="b"/>
              <a:pathLst>
                <a:path w="71" h="180">
                  <a:moveTo>
                    <a:pt x="71" y="25"/>
                  </a:moveTo>
                  <a:lnTo>
                    <a:pt x="66" y="180"/>
                  </a:lnTo>
                  <a:lnTo>
                    <a:pt x="0" y="159"/>
                  </a:lnTo>
                  <a:lnTo>
                    <a:pt x="6" y="3"/>
                  </a:lnTo>
                  <a:lnTo>
                    <a:pt x="7" y="0"/>
                  </a:lnTo>
                  <a:lnTo>
                    <a:pt x="44" y="7"/>
                  </a:lnTo>
                  <a:lnTo>
                    <a:pt x="71" y="2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56440" y="5610240"/>
              <a:ext cx="222120" cy="124200"/>
            </a:xfrm>
            <a:custGeom>
              <a:avLst/>
              <a:gdLst/>
              <a:ahLst/>
              <a:rect l="l" t="t" r="r" b="b"/>
              <a:pathLst>
                <a:path w="60" h="53">
                  <a:moveTo>
                    <a:pt x="60" y="22"/>
                  </a:moveTo>
                  <a:lnTo>
                    <a:pt x="53" y="39"/>
                  </a:lnTo>
                  <a:lnTo>
                    <a:pt x="48" y="44"/>
                  </a:lnTo>
                  <a:lnTo>
                    <a:pt x="37" y="51"/>
                  </a:lnTo>
                  <a:lnTo>
                    <a:pt x="23" y="53"/>
                  </a:lnTo>
                  <a:lnTo>
                    <a:pt x="16" y="53"/>
                  </a:lnTo>
                  <a:lnTo>
                    <a:pt x="0" y="37"/>
                  </a:lnTo>
                  <a:lnTo>
                    <a:pt x="2" y="14"/>
                  </a:lnTo>
                  <a:lnTo>
                    <a:pt x="25" y="0"/>
                  </a:lnTo>
                  <a:lnTo>
                    <a:pt x="48" y="6"/>
                  </a:lnTo>
                  <a:lnTo>
                    <a:pt x="60" y="22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485440" y="5826240"/>
              <a:ext cx="714240" cy="131040"/>
            </a:xfrm>
            <a:custGeom>
              <a:avLst/>
              <a:gdLst/>
              <a:ahLst/>
              <a:rect l="l" t="t" r="r" b="b"/>
              <a:pathLst>
                <a:path w="193" h="56">
                  <a:moveTo>
                    <a:pt x="128" y="11"/>
                  </a:moveTo>
                  <a:lnTo>
                    <a:pt x="147" y="23"/>
                  </a:lnTo>
                  <a:lnTo>
                    <a:pt x="168" y="27"/>
                  </a:lnTo>
                  <a:lnTo>
                    <a:pt x="175" y="32"/>
                  </a:lnTo>
                  <a:lnTo>
                    <a:pt x="193" y="35"/>
                  </a:lnTo>
                  <a:lnTo>
                    <a:pt x="73" y="56"/>
                  </a:lnTo>
                  <a:lnTo>
                    <a:pt x="43" y="56"/>
                  </a:lnTo>
                  <a:lnTo>
                    <a:pt x="9" y="41"/>
                  </a:lnTo>
                  <a:lnTo>
                    <a:pt x="0" y="35"/>
                  </a:lnTo>
                  <a:lnTo>
                    <a:pt x="6" y="27"/>
                  </a:lnTo>
                  <a:lnTo>
                    <a:pt x="78" y="4"/>
                  </a:lnTo>
                  <a:lnTo>
                    <a:pt x="83" y="0"/>
                  </a:lnTo>
                  <a:lnTo>
                    <a:pt x="106" y="10"/>
                  </a:lnTo>
                  <a:lnTo>
                    <a:pt x="128" y="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685640" y="5964480"/>
              <a:ext cx="187560" cy="8640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51" y="13"/>
                  </a:moveTo>
                  <a:lnTo>
                    <a:pt x="51" y="21"/>
                  </a:lnTo>
                  <a:lnTo>
                    <a:pt x="44" y="27"/>
                  </a:lnTo>
                  <a:lnTo>
                    <a:pt x="4" y="34"/>
                  </a:lnTo>
                  <a:lnTo>
                    <a:pt x="0" y="37"/>
                  </a:lnTo>
                  <a:lnTo>
                    <a:pt x="0" y="0"/>
                  </a:lnTo>
                  <a:lnTo>
                    <a:pt x="46" y="3"/>
                  </a:lnTo>
                  <a:lnTo>
                    <a:pt x="51" y="1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00480" y="5985720"/>
              <a:ext cx="510480" cy="189720"/>
            </a:xfrm>
            <a:custGeom>
              <a:avLst/>
              <a:gdLst/>
              <a:ahLst/>
              <a:rect l="l" t="t" r="r" b="b"/>
              <a:pathLst>
                <a:path w="138" h="81">
                  <a:moveTo>
                    <a:pt x="138" y="37"/>
                  </a:moveTo>
                  <a:lnTo>
                    <a:pt x="138" y="60"/>
                  </a:lnTo>
                  <a:lnTo>
                    <a:pt x="110" y="78"/>
                  </a:lnTo>
                  <a:lnTo>
                    <a:pt x="41" y="81"/>
                  </a:lnTo>
                  <a:lnTo>
                    <a:pt x="15" y="74"/>
                  </a:lnTo>
                  <a:lnTo>
                    <a:pt x="4" y="66"/>
                  </a:lnTo>
                  <a:lnTo>
                    <a:pt x="0" y="56"/>
                  </a:lnTo>
                  <a:lnTo>
                    <a:pt x="9" y="31"/>
                  </a:lnTo>
                  <a:lnTo>
                    <a:pt x="43" y="22"/>
                  </a:lnTo>
                  <a:lnTo>
                    <a:pt x="69" y="19"/>
                  </a:lnTo>
                  <a:lnTo>
                    <a:pt x="75" y="16"/>
                  </a:lnTo>
                  <a:lnTo>
                    <a:pt x="75" y="4"/>
                  </a:lnTo>
                  <a:lnTo>
                    <a:pt x="101" y="0"/>
                  </a:lnTo>
                  <a:lnTo>
                    <a:pt x="110" y="18"/>
                  </a:lnTo>
                  <a:lnTo>
                    <a:pt x="138" y="37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85640" y="6067800"/>
              <a:ext cx="221040" cy="15732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60" y="21"/>
                  </a:moveTo>
                  <a:lnTo>
                    <a:pt x="59" y="46"/>
                  </a:lnTo>
                  <a:lnTo>
                    <a:pt x="37" y="62"/>
                  </a:lnTo>
                  <a:lnTo>
                    <a:pt x="18" y="67"/>
                  </a:lnTo>
                  <a:lnTo>
                    <a:pt x="13" y="64"/>
                  </a:lnTo>
                  <a:lnTo>
                    <a:pt x="4" y="64"/>
                  </a:lnTo>
                  <a:lnTo>
                    <a:pt x="0" y="8"/>
                  </a:lnTo>
                  <a:lnTo>
                    <a:pt x="21" y="0"/>
                  </a:lnTo>
                  <a:lnTo>
                    <a:pt x="44" y="3"/>
                  </a:lnTo>
                  <a:lnTo>
                    <a:pt x="60" y="2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33880" y="6253560"/>
              <a:ext cx="713520" cy="138240"/>
            </a:xfrm>
            <a:custGeom>
              <a:avLst/>
              <a:gdLst/>
              <a:ahLst/>
              <a:rect l="l" t="t" r="r" b="b"/>
              <a:pathLst>
                <a:path w="193" h="59">
                  <a:moveTo>
                    <a:pt x="74" y="3"/>
                  </a:moveTo>
                  <a:lnTo>
                    <a:pt x="111" y="9"/>
                  </a:lnTo>
                  <a:lnTo>
                    <a:pt x="120" y="3"/>
                  </a:lnTo>
                  <a:lnTo>
                    <a:pt x="152" y="25"/>
                  </a:lnTo>
                  <a:lnTo>
                    <a:pt x="179" y="34"/>
                  </a:lnTo>
                  <a:lnTo>
                    <a:pt x="193" y="38"/>
                  </a:lnTo>
                  <a:lnTo>
                    <a:pt x="187" y="41"/>
                  </a:lnTo>
                  <a:lnTo>
                    <a:pt x="159" y="46"/>
                  </a:lnTo>
                  <a:lnTo>
                    <a:pt x="64" y="59"/>
                  </a:lnTo>
                  <a:lnTo>
                    <a:pt x="18" y="56"/>
                  </a:lnTo>
                  <a:lnTo>
                    <a:pt x="0" y="44"/>
                  </a:lnTo>
                  <a:lnTo>
                    <a:pt x="0" y="21"/>
                  </a:lnTo>
                  <a:lnTo>
                    <a:pt x="25" y="3"/>
                  </a:lnTo>
                  <a:lnTo>
                    <a:pt x="41" y="0"/>
                  </a:lnTo>
                  <a:lnTo>
                    <a:pt x="55" y="3"/>
                  </a:lnTo>
                  <a:lnTo>
                    <a:pt x="74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33880" y="6422040"/>
              <a:ext cx="439200" cy="213840"/>
            </a:xfrm>
            <a:custGeom>
              <a:avLst/>
              <a:gdLst/>
              <a:ahLst/>
              <a:rect l="l" t="t" r="r" b="b"/>
              <a:pathLst>
                <a:path w="119" h="91">
                  <a:moveTo>
                    <a:pt x="73" y="24"/>
                  </a:moveTo>
                  <a:lnTo>
                    <a:pt x="101" y="40"/>
                  </a:lnTo>
                  <a:lnTo>
                    <a:pt x="119" y="59"/>
                  </a:lnTo>
                  <a:lnTo>
                    <a:pt x="115" y="70"/>
                  </a:lnTo>
                  <a:lnTo>
                    <a:pt x="101" y="83"/>
                  </a:lnTo>
                  <a:lnTo>
                    <a:pt x="69" y="91"/>
                  </a:lnTo>
                  <a:lnTo>
                    <a:pt x="46" y="91"/>
                  </a:lnTo>
                  <a:lnTo>
                    <a:pt x="14" y="80"/>
                  </a:lnTo>
                  <a:lnTo>
                    <a:pt x="0" y="65"/>
                  </a:lnTo>
                  <a:lnTo>
                    <a:pt x="0" y="43"/>
                  </a:lnTo>
                  <a:lnTo>
                    <a:pt x="28" y="27"/>
                  </a:lnTo>
                  <a:lnTo>
                    <a:pt x="37" y="24"/>
                  </a:lnTo>
                  <a:lnTo>
                    <a:pt x="43" y="18"/>
                  </a:lnTo>
                  <a:lnTo>
                    <a:pt x="46" y="12"/>
                  </a:lnTo>
                  <a:lnTo>
                    <a:pt x="41" y="0"/>
                  </a:lnTo>
                  <a:lnTo>
                    <a:pt x="60" y="0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15600" y="3184920"/>
              <a:ext cx="764640" cy="2603880"/>
            </a:xfrm>
            <a:custGeom>
              <a:avLst/>
              <a:gdLst/>
              <a:ahLst/>
              <a:rect l="l" t="t" r="r" b="b"/>
              <a:pathLst>
                <a:path w="207" h="1110">
                  <a:moveTo>
                    <a:pt x="207" y="5"/>
                  </a:moveTo>
                  <a:lnTo>
                    <a:pt x="166" y="11"/>
                  </a:lnTo>
                  <a:lnTo>
                    <a:pt x="108" y="19"/>
                  </a:lnTo>
                  <a:lnTo>
                    <a:pt x="79" y="28"/>
                  </a:lnTo>
                  <a:lnTo>
                    <a:pt x="60" y="46"/>
                  </a:lnTo>
                  <a:lnTo>
                    <a:pt x="48" y="418"/>
                  </a:lnTo>
                  <a:lnTo>
                    <a:pt x="46" y="448"/>
                  </a:lnTo>
                  <a:lnTo>
                    <a:pt x="34" y="661"/>
                  </a:lnTo>
                  <a:lnTo>
                    <a:pt x="28" y="744"/>
                  </a:lnTo>
                  <a:lnTo>
                    <a:pt x="25" y="746"/>
                  </a:lnTo>
                  <a:lnTo>
                    <a:pt x="28" y="747"/>
                  </a:lnTo>
                  <a:lnTo>
                    <a:pt x="28" y="935"/>
                  </a:lnTo>
                  <a:lnTo>
                    <a:pt x="25" y="1044"/>
                  </a:lnTo>
                  <a:lnTo>
                    <a:pt x="23" y="1046"/>
                  </a:lnTo>
                  <a:lnTo>
                    <a:pt x="23" y="1052"/>
                  </a:lnTo>
                  <a:lnTo>
                    <a:pt x="37" y="1065"/>
                  </a:lnTo>
                  <a:lnTo>
                    <a:pt x="48" y="1096"/>
                  </a:lnTo>
                  <a:lnTo>
                    <a:pt x="60" y="1110"/>
                  </a:lnTo>
                  <a:lnTo>
                    <a:pt x="34" y="1105"/>
                  </a:lnTo>
                  <a:lnTo>
                    <a:pt x="16" y="1094"/>
                  </a:lnTo>
                  <a:lnTo>
                    <a:pt x="14" y="1085"/>
                  </a:lnTo>
                  <a:lnTo>
                    <a:pt x="11" y="1075"/>
                  </a:lnTo>
                  <a:lnTo>
                    <a:pt x="9" y="1064"/>
                  </a:lnTo>
                  <a:lnTo>
                    <a:pt x="7" y="1053"/>
                  </a:lnTo>
                  <a:lnTo>
                    <a:pt x="3" y="1044"/>
                  </a:lnTo>
                  <a:lnTo>
                    <a:pt x="2" y="1035"/>
                  </a:lnTo>
                  <a:lnTo>
                    <a:pt x="2" y="1029"/>
                  </a:lnTo>
                  <a:lnTo>
                    <a:pt x="0" y="1028"/>
                  </a:lnTo>
                  <a:lnTo>
                    <a:pt x="0" y="901"/>
                  </a:lnTo>
                  <a:lnTo>
                    <a:pt x="12" y="370"/>
                  </a:lnTo>
                  <a:lnTo>
                    <a:pt x="11" y="359"/>
                  </a:lnTo>
                  <a:lnTo>
                    <a:pt x="11" y="331"/>
                  </a:lnTo>
                  <a:lnTo>
                    <a:pt x="11" y="289"/>
                  </a:lnTo>
                  <a:lnTo>
                    <a:pt x="9" y="242"/>
                  </a:lnTo>
                  <a:lnTo>
                    <a:pt x="7" y="193"/>
                  </a:lnTo>
                  <a:lnTo>
                    <a:pt x="7" y="150"/>
                  </a:lnTo>
                  <a:lnTo>
                    <a:pt x="7" y="117"/>
                  </a:lnTo>
                  <a:lnTo>
                    <a:pt x="5" y="100"/>
                  </a:lnTo>
                  <a:lnTo>
                    <a:pt x="7" y="92"/>
                  </a:lnTo>
                  <a:lnTo>
                    <a:pt x="11" y="81"/>
                  </a:lnTo>
                  <a:lnTo>
                    <a:pt x="16" y="69"/>
                  </a:lnTo>
                  <a:lnTo>
                    <a:pt x="23" y="58"/>
                  </a:lnTo>
                  <a:lnTo>
                    <a:pt x="28" y="46"/>
                  </a:lnTo>
                  <a:lnTo>
                    <a:pt x="34" y="38"/>
                  </a:lnTo>
                  <a:lnTo>
                    <a:pt x="37" y="32"/>
                  </a:lnTo>
                  <a:lnTo>
                    <a:pt x="39" y="30"/>
                  </a:lnTo>
                  <a:lnTo>
                    <a:pt x="198" y="0"/>
                  </a:lnTo>
                  <a:lnTo>
                    <a:pt x="207" y="5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22680" y="3245760"/>
              <a:ext cx="543240" cy="2568600"/>
            </a:xfrm>
            <a:custGeom>
              <a:avLst/>
              <a:gdLst/>
              <a:ahLst/>
              <a:rect l="l" t="t" r="r" b="b"/>
              <a:pathLst>
                <a:path w="147" h="1095">
                  <a:moveTo>
                    <a:pt x="143" y="2"/>
                  </a:moveTo>
                  <a:lnTo>
                    <a:pt x="127" y="5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5" y="1"/>
                  </a:lnTo>
                  <a:lnTo>
                    <a:pt x="145" y="1"/>
                  </a:lnTo>
                  <a:lnTo>
                    <a:pt x="145" y="1"/>
                  </a:lnTo>
                  <a:lnTo>
                    <a:pt x="143" y="1"/>
                  </a:lnTo>
                  <a:lnTo>
                    <a:pt x="143" y="2"/>
                  </a:lnTo>
                  <a:lnTo>
                    <a:pt x="143" y="2"/>
                  </a:lnTo>
                  <a:close/>
                  <a:moveTo>
                    <a:pt x="102" y="11"/>
                  </a:moveTo>
                  <a:lnTo>
                    <a:pt x="83" y="26"/>
                  </a:lnTo>
                  <a:lnTo>
                    <a:pt x="64" y="65"/>
                  </a:lnTo>
                  <a:lnTo>
                    <a:pt x="65" y="91"/>
                  </a:lnTo>
                  <a:lnTo>
                    <a:pt x="64" y="246"/>
                  </a:lnTo>
                  <a:lnTo>
                    <a:pt x="55" y="434"/>
                  </a:lnTo>
                  <a:lnTo>
                    <a:pt x="46" y="566"/>
                  </a:lnTo>
                  <a:lnTo>
                    <a:pt x="42" y="696"/>
                  </a:lnTo>
                  <a:lnTo>
                    <a:pt x="34" y="1022"/>
                  </a:lnTo>
                  <a:lnTo>
                    <a:pt x="37" y="1084"/>
                  </a:lnTo>
                  <a:lnTo>
                    <a:pt x="42" y="1092"/>
                  </a:lnTo>
                  <a:lnTo>
                    <a:pt x="42" y="1095"/>
                  </a:lnTo>
                  <a:lnTo>
                    <a:pt x="39" y="1094"/>
                  </a:lnTo>
                  <a:lnTo>
                    <a:pt x="0" y="1031"/>
                  </a:lnTo>
                  <a:lnTo>
                    <a:pt x="11" y="717"/>
                  </a:lnTo>
                  <a:lnTo>
                    <a:pt x="26" y="133"/>
                  </a:lnTo>
                  <a:lnTo>
                    <a:pt x="44" y="26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88440" y="3229920"/>
              <a:ext cx="776520" cy="2650680"/>
            </a:xfrm>
            <a:custGeom>
              <a:avLst/>
              <a:gdLst/>
              <a:ahLst/>
              <a:rect l="l" t="t" r="r" b="b"/>
              <a:pathLst>
                <a:path w="210" h="1130">
                  <a:moveTo>
                    <a:pt x="210" y="5"/>
                  </a:moveTo>
                  <a:lnTo>
                    <a:pt x="154" y="12"/>
                  </a:lnTo>
                  <a:lnTo>
                    <a:pt x="108" y="25"/>
                  </a:lnTo>
                  <a:lnTo>
                    <a:pt x="74" y="52"/>
                  </a:lnTo>
                  <a:lnTo>
                    <a:pt x="62" y="70"/>
                  </a:lnTo>
                  <a:lnTo>
                    <a:pt x="56" y="401"/>
                  </a:lnTo>
                  <a:lnTo>
                    <a:pt x="39" y="844"/>
                  </a:lnTo>
                  <a:lnTo>
                    <a:pt x="39" y="978"/>
                  </a:lnTo>
                  <a:lnTo>
                    <a:pt x="35" y="1111"/>
                  </a:lnTo>
                  <a:lnTo>
                    <a:pt x="42" y="1126"/>
                  </a:lnTo>
                  <a:lnTo>
                    <a:pt x="42" y="1130"/>
                  </a:lnTo>
                  <a:lnTo>
                    <a:pt x="21" y="1124"/>
                  </a:lnTo>
                  <a:lnTo>
                    <a:pt x="5" y="1105"/>
                  </a:lnTo>
                  <a:lnTo>
                    <a:pt x="0" y="879"/>
                  </a:lnTo>
                  <a:lnTo>
                    <a:pt x="21" y="261"/>
                  </a:lnTo>
                  <a:lnTo>
                    <a:pt x="26" y="55"/>
                  </a:lnTo>
                  <a:lnTo>
                    <a:pt x="120" y="18"/>
                  </a:lnTo>
                  <a:lnTo>
                    <a:pt x="136" y="8"/>
                  </a:lnTo>
                  <a:lnTo>
                    <a:pt x="152" y="6"/>
                  </a:lnTo>
                  <a:lnTo>
                    <a:pt x="184" y="4"/>
                  </a:lnTo>
                  <a:lnTo>
                    <a:pt x="208" y="0"/>
                  </a:lnTo>
                  <a:lnTo>
                    <a:pt x="210" y="5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447360" y="3271680"/>
              <a:ext cx="487800" cy="2709000"/>
            </a:xfrm>
            <a:custGeom>
              <a:avLst/>
              <a:gdLst/>
              <a:ahLst/>
              <a:rect l="l" t="t" r="r" b="b"/>
              <a:pathLst>
                <a:path w="132" h="1155">
                  <a:moveTo>
                    <a:pt x="129" y="7"/>
                  </a:moveTo>
                  <a:lnTo>
                    <a:pt x="104" y="14"/>
                  </a:lnTo>
                  <a:lnTo>
                    <a:pt x="132" y="0"/>
                  </a:lnTo>
                  <a:lnTo>
                    <a:pt x="131" y="0"/>
                  </a:lnTo>
                  <a:lnTo>
                    <a:pt x="131" y="1"/>
                  </a:lnTo>
                  <a:lnTo>
                    <a:pt x="131" y="1"/>
                  </a:lnTo>
                  <a:lnTo>
                    <a:pt x="129" y="2"/>
                  </a:lnTo>
                  <a:lnTo>
                    <a:pt x="129" y="3"/>
                  </a:lnTo>
                  <a:lnTo>
                    <a:pt x="129" y="5"/>
                  </a:lnTo>
                  <a:lnTo>
                    <a:pt x="129" y="6"/>
                  </a:lnTo>
                  <a:lnTo>
                    <a:pt x="129" y="7"/>
                  </a:lnTo>
                  <a:close/>
                  <a:moveTo>
                    <a:pt x="87" y="24"/>
                  </a:moveTo>
                  <a:lnTo>
                    <a:pt x="72" y="34"/>
                  </a:lnTo>
                  <a:lnTo>
                    <a:pt x="57" y="63"/>
                  </a:lnTo>
                  <a:lnTo>
                    <a:pt x="55" y="243"/>
                  </a:lnTo>
                  <a:lnTo>
                    <a:pt x="46" y="419"/>
                  </a:lnTo>
                  <a:lnTo>
                    <a:pt x="41" y="494"/>
                  </a:lnTo>
                  <a:lnTo>
                    <a:pt x="37" y="565"/>
                  </a:lnTo>
                  <a:lnTo>
                    <a:pt x="32" y="655"/>
                  </a:lnTo>
                  <a:lnTo>
                    <a:pt x="23" y="1090"/>
                  </a:lnTo>
                  <a:lnTo>
                    <a:pt x="23" y="1112"/>
                  </a:lnTo>
                  <a:lnTo>
                    <a:pt x="37" y="1155"/>
                  </a:lnTo>
                  <a:lnTo>
                    <a:pt x="19" y="1150"/>
                  </a:lnTo>
                  <a:lnTo>
                    <a:pt x="18" y="1140"/>
                  </a:lnTo>
                  <a:lnTo>
                    <a:pt x="14" y="1131"/>
                  </a:lnTo>
                  <a:lnTo>
                    <a:pt x="12" y="1122"/>
                  </a:lnTo>
                  <a:lnTo>
                    <a:pt x="11" y="1115"/>
                  </a:lnTo>
                  <a:lnTo>
                    <a:pt x="9" y="1109"/>
                  </a:lnTo>
                  <a:lnTo>
                    <a:pt x="7" y="1106"/>
                  </a:lnTo>
                  <a:lnTo>
                    <a:pt x="5" y="1102"/>
                  </a:lnTo>
                  <a:lnTo>
                    <a:pt x="5" y="1102"/>
                  </a:lnTo>
                  <a:lnTo>
                    <a:pt x="0" y="765"/>
                  </a:lnTo>
                  <a:lnTo>
                    <a:pt x="18" y="314"/>
                  </a:lnTo>
                  <a:lnTo>
                    <a:pt x="39" y="48"/>
                  </a:lnTo>
                  <a:lnTo>
                    <a:pt x="87" y="24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94400" y="3306960"/>
              <a:ext cx="488880" cy="2732400"/>
            </a:xfrm>
            <a:custGeom>
              <a:avLst/>
              <a:gdLst/>
              <a:ahLst/>
              <a:rect l="l" t="t" r="r" b="b"/>
              <a:pathLst>
                <a:path w="132" h="1165">
                  <a:moveTo>
                    <a:pt x="132" y="4"/>
                  </a:moveTo>
                  <a:lnTo>
                    <a:pt x="121" y="6"/>
                  </a:lnTo>
                  <a:lnTo>
                    <a:pt x="90" y="16"/>
                  </a:lnTo>
                  <a:lnTo>
                    <a:pt x="67" y="33"/>
                  </a:lnTo>
                  <a:lnTo>
                    <a:pt x="58" y="103"/>
                  </a:lnTo>
                  <a:lnTo>
                    <a:pt x="58" y="287"/>
                  </a:lnTo>
                  <a:lnTo>
                    <a:pt x="53" y="409"/>
                  </a:lnTo>
                  <a:lnTo>
                    <a:pt x="44" y="661"/>
                  </a:lnTo>
                  <a:lnTo>
                    <a:pt x="47" y="1121"/>
                  </a:lnTo>
                  <a:lnTo>
                    <a:pt x="58" y="1165"/>
                  </a:lnTo>
                  <a:lnTo>
                    <a:pt x="38" y="1158"/>
                  </a:lnTo>
                  <a:lnTo>
                    <a:pt x="10" y="1153"/>
                  </a:lnTo>
                  <a:lnTo>
                    <a:pt x="10" y="1153"/>
                  </a:lnTo>
                  <a:lnTo>
                    <a:pt x="10" y="1153"/>
                  </a:lnTo>
                  <a:lnTo>
                    <a:pt x="10" y="1153"/>
                  </a:lnTo>
                  <a:lnTo>
                    <a:pt x="10" y="1153"/>
                  </a:lnTo>
                  <a:lnTo>
                    <a:pt x="10" y="1153"/>
                  </a:lnTo>
                  <a:lnTo>
                    <a:pt x="10" y="1153"/>
                  </a:lnTo>
                  <a:lnTo>
                    <a:pt x="10" y="1153"/>
                  </a:lnTo>
                  <a:lnTo>
                    <a:pt x="10" y="1153"/>
                  </a:lnTo>
                  <a:lnTo>
                    <a:pt x="10" y="1050"/>
                  </a:lnTo>
                  <a:lnTo>
                    <a:pt x="0" y="731"/>
                  </a:lnTo>
                  <a:lnTo>
                    <a:pt x="21" y="218"/>
                  </a:lnTo>
                  <a:lnTo>
                    <a:pt x="21" y="211"/>
                  </a:lnTo>
                  <a:lnTo>
                    <a:pt x="21" y="193"/>
                  </a:lnTo>
                  <a:lnTo>
                    <a:pt x="23" y="165"/>
                  </a:lnTo>
                  <a:lnTo>
                    <a:pt x="23" y="134"/>
                  </a:lnTo>
                  <a:lnTo>
                    <a:pt x="26" y="102"/>
                  </a:lnTo>
                  <a:lnTo>
                    <a:pt x="28" y="73"/>
                  </a:lnTo>
                  <a:lnTo>
                    <a:pt x="30" y="60"/>
                  </a:lnTo>
                  <a:lnTo>
                    <a:pt x="31" y="49"/>
                  </a:lnTo>
                  <a:lnTo>
                    <a:pt x="35" y="42"/>
                  </a:lnTo>
                  <a:lnTo>
                    <a:pt x="38" y="36"/>
                  </a:lnTo>
                  <a:lnTo>
                    <a:pt x="46" y="30"/>
                  </a:lnTo>
                  <a:lnTo>
                    <a:pt x="60" y="23"/>
                  </a:lnTo>
                  <a:lnTo>
                    <a:pt x="74" y="17"/>
                  </a:lnTo>
                  <a:lnTo>
                    <a:pt x="90" y="11"/>
                  </a:lnTo>
                  <a:lnTo>
                    <a:pt x="106" y="6"/>
                  </a:lnTo>
                  <a:lnTo>
                    <a:pt x="118" y="3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2"/>
                  </a:lnTo>
                  <a:lnTo>
                    <a:pt x="132" y="3"/>
                  </a:lnTo>
                  <a:lnTo>
                    <a:pt x="132" y="3"/>
                  </a:lnTo>
                  <a:lnTo>
                    <a:pt x="132" y="4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97960" y="3325680"/>
              <a:ext cx="576720" cy="2761200"/>
            </a:xfrm>
            <a:custGeom>
              <a:avLst/>
              <a:gdLst/>
              <a:ahLst/>
              <a:rect l="l" t="t" r="r" b="b"/>
              <a:pathLst>
                <a:path w="156" h="1177">
                  <a:moveTo>
                    <a:pt x="154" y="2"/>
                  </a:moveTo>
                  <a:lnTo>
                    <a:pt x="126" y="11"/>
                  </a:lnTo>
                  <a:lnTo>
                    <a:pt x="80" y="45"/>
                  </a:lnTo>
                  <a:lnTo>
                    <a:pt x="67" y="74"/>
                  </a:lnTo>
                  <a:lnTo>
                    <a:pt x="71" y="80"/>
                  </a:lnTo>
                  <a:lnTo>
                    <a:pt x="62" y="376"/>
                  </a:lnTo>
                  <a:lnTo>
                    <a:pt x="53" y="494"/>
                  </a:lnTo>
                  <a:lnTo>
                    <a:pt x="41" y="678"/>
                  </a:lnTo>
                  <a:lnTo>
                    <a:pt x="41" y="795"/>
                  </a:lnTo>
                  <a:lnTo>
                    <a:pt x="34" y="1135"/>
                  </a:lnTo>
                  <a:lnTo>
                    <a:pt x="41" y="1162"/>
                  </a:lnTo>
                  <a:lnTo>
                    <a:pt x="41" y="1177"/>
                  </a:lnTo>
                  <a:lnTo>
                    <a:pt x="12" y="1170"/>
                  </a:lnTo>
                  <a:lnTo>
                    <a:pt x="0" y="1127"/>
                  </a:lnTo>
                  <a:lnTo>
                    <a:pt x="5" y="794"/>
                  </a:lnTo>
                  <a:lnTo>
                    <a:pt x="11" y="217"/>
                  </a:lnTo>
                  <a:lnTo>
                    <a:pt x="11" y="211"/>
                  </a:lnTo>
                  <a:lnTo>
                    <a:pt x="12" y="193"/>
                  </a:lnTo>
                  <a:lnTo>
                    <a:pt x="12" y="168"/>
                  </a:lnTo>
                  <a:lnTo>
                    <a:pt x="16" y="139"/>
                  </a:lnTo>
                  <a:lnTo>
                    <a:pt x="18" y="108"/>
                  </a:lnTo>
                  <a:lnTo>
                    <a:pt x="21" y="80"/>
                  </a:lnTo>
                  <a:lnTo>
                    <a:pt x="27" y="57"/>
                  </a:lnTo>
                  <a:lnTo>
                    <a:pt x="32" y="44"/>
                  </a:lnTo>
                  <a:lnTo>
                    <a:pt x="37" y="39"/>
                  </a:lnTo>
                  <a:lnTo>
                    <a:pt x="43" y="35"/>
                  </a:lnTo>
                  <a:lnTo>
                    <a:pt x="50" y="32"/>
                  </a:lnTo>
                  <a:lnTo>
                    <a:pt x="58" y="27"/>
                  </a:lnTo>
                  <a:lnTo>
                    <a:pt x="78" y="20"/>
                  </a:lnTo>
                  <a:lnTo>
                    <a:pt x="99" y="13"/>
                  </a:lnTo>
                  <a:lnTo>
                    <a:pt x="118" y="8"/>
                  </a:lnTo>
                  <a:lnTo>
                    <a:pt x="136" y="3"/>
                  </a:lnTo>
                  <a:lnTo>
                    <a:pt x="148" y="1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6" y="1"/>
                  </a:lnTo>
                  <a:lnTo>
                    <a:pt x="156" y="1"/>
                  </a:lnTo>
                  <a:lnTo>
                    <a:pt x="154" y="2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56880" y="3349080"/>
              <a:ext cx="654120" cy="2723400"/>
            </a:xfrm>
            <a:custGeom>
              <a:avLst/>
              <a:gdLst/>
              <a:ahLst/>
              <a:rect l="l" t="t" r="r" b="b"/>
              <a:pathLst>
                <a:path w="177" h="1161">
                  <a:moveTo>
                    <a:pt x="177" y="0"/>
                  </a:moveTo>
                  <a:lnTo>
                    <a:pt x="142" y="9"/>
                  </a:lnTo>
                  <a:lnTo>
                    <a:pt x="149" y="6"/>
                  </a:lnTo>
                  <a:lnTo>
                    <a:pt x="156" y="5"/>
                  </a:lnTo>
                  <a:lnTo>
                    <a:pt x="161" y="4"/>
                  </a:lnTo>
                  <a:lnTo>
                    <a:pt x="166" y="3"/>
                  </a:lnTo>
                  <a:lnTo>
                    <a:pt x="170" y="1"/>
                  </a:lnTo>
                  <a:lnTo>
                    <a:pt x="173" y="0"/>
                  </a:lnTo>
                  <a:lnTo>
                    <a:pt x="175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lnTo>
                    <a:pt x="177" y="0"/>
                  </a:lnTo>
                  <a:close/>
                  <a:moveTo>
                    <a:pt x="119" y="15"/>
                  </a:moveTo>
                  <a:lnTo>
                    <a:pt x="89" y="39"/>
                  </a:lnTo>
                  <a:lnTo>
                    <a:pt x="78" y="104"/>
                  </a:lnTo>
                  <a:lnTo>
                    <a:pt x="71" y="194"/>
                  </a:lnTo>
                  <a:lnTo>
                    <a:pt x="66" y="350"/>
                  </a:lnTo>
                  <a:lnTo>
                    <a:pt x="57" y="459"/>
                  </a:lnTo>
                  <a:lnTo>
                    <a:pt x="46" y="766"/>
                  </a:lnTo>
                  <a:lnTo>
                    <a:pt x="43" y="988"/>
                  </a:lnTo>
                  <a:lnTo>
                    <a:pt x="39" y="1161"/>
                  </a:lnTo>
                  <a:lnTo>
                    <a:pt x="39" y="1161"/>
                  </a:lnTo>
                  <a:lnTo>
                    <a:pt x="30" y="1161"/>
                  </a:lnTo>
                  <a:lnTo>
                    <a:pt x="23" y="1161"/>
                  </a:lnTo>
                  <a:lnTo>
                    <a:pt x="16" y="1161"/>
                  </a:lnTo>
                  <a:lnTo>
                    <a:pt x="11" y="1161"/>
                  </a:lnTo>
                  <a:lnTo>
                    <a:pt x="7" y="1161"/>
                  </a:lnTo>
                  <a:lnTo>
                    <a:pt x="4" y="1161"/>
                  </a:lnTo>
                  <a:lnTo>
                    <a:pt x="2" y="1161"/>
                  </a:lnTo>
                  <a:lnTo>
                    <a:pt x="0" y="1161"/>
                  </a:lnTo>
                  <a:lnTo>
                    <a:pt x="2" y="1143"/>
                  </a:lnTo>
                  <a:lnTo>
                    <a:pt x="4" y="1094"/>
                  </a:lnTo>
                  <a:lnTo>
                    <a:pt x="7" y="1026"/>
                  </a:lnTo>
                  <a:lnTo>
                    <a:pt x="11" y="946"/>
                  </a:lnTo>
                  <a:lnTo>
                    <a:pt x="14" y="865"/>
                  </a:lnTo>
                  <a:lnTo>
                    <a:pt x="18" y="791"/>
                  </a:lnTo>
                  <a:lnTo>
                    <a:pt x="18" y="736"/>
                  </a:lnTo>
                  <a:lnTo>
                    <a:pt x="18" y="706"/>
                  </a:lnTo>
                  <a:lnTo>
                    <a:pt x="16" y="676"/>
                  </a:lnTo>
                  <a:lnTo>
                    <a:pt x="16" y="617"/>
                  </a:lnTo>
                  <a:lnTo>
                    <a:pt x="18" y="537"/>
                  </a:lnTo>
                  <a:lnTo>
                    <a:pt x="21" y="447"/>
                  </a:lnTo>
                  <a:lnTo>
                    <a:pt x="23" y="356"/>
                  </a:lnTo>
                  <a:lnTo>
                    <a:pt x="27" y="276"/>
                  </a:lnTo>
                  <a:lnTo>
                    <a:pt x="29" y="214"/>
                  </a:lnTo>
                  <a:lnTo>
                    <a:pt x="29" y="182"/>
                  </a:lnTo>
                  <a:lnTo>
                    <a:pt x="29" y="165"/>
                  </a:lnTo>
                  <a:lnTo>
                    <a:pt x="30" y="146"/>
                  </a:lnTo>
                  <a:lnTo>
                    <a:pt x="34" y="126"/>
                  </a:lnTo>
                  <a:lnTo>
                    <a:pt x="37" y="107"/>
                  </a:lnTo>
                  <a:lnTo>
                    <a:pt x="43" y="87"/>
                  </a:lnTo>
                  <a:lnTo>
                    <a:pt x="46" y="70"/>
                  </a:lnTo>
                  <a:lnTo>
                    <a:pt x="51" y="55"/>
                  </a:lnTo>
                  <a:lnTo>
                    <a:pt x="55" y="44"/>
                  </a:lnTo>
                  <a:lnTo>
                    <a:pt x="59" y="41"/>
                  </a:lnTo>
                  <a:lnTo>
                    <a:pt x="64" y="36"/>
                  </a:lnTo>
                  <a:lnTo>
                    <a:pt x="71" y="33"/>
                  </a:lnTo>
                  <a:lnTo>
                    <a:pt x="78" y="29"/>
                  </a:lnTo>
                  <a:lnTo>
                    <a:pt x="87" y="25"/>
                  </a:lnTo>
                  <a:lnTo>
                    <a:pt x="97" y="22"/>
                  </a:lnTo>
                  <a:lnTo>
                    <a:pt x="108" y="18"/>
                  </a:lnTo>
                  <a:lnTo>
                    <a:pt x="119" y="15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63320" y="3356280"/>
              <a:ext cx="684000" cy="2833560"/>
            </a:xfrm>
            <a:custGeom>
              <a:avLst/>
              <a:gdLst/>
              <a:ahLst/>
              <a:rect l="l" t="t" r="r" b="b"/>
              <a:pathLst>
                <a:path w="185" h="1208">
                  <a:moveTo>
                    <a:pt x="185" y="10"/>
                  </a:moveTo>
                  <a:lnTo>
                    <a:pt x="166" y="14"/>
                  </a:lnTo>
                  <a:lnTo>
                    <a:pt x="130" y="27"/>
                  </a:lnTo>
                  <a:lnTo>
                    <a:pt x="93" y="53"/>
                  </a:lnTo>
                  <a:lnTo>
                    <a:pt x="74" y="84"/>
                  </a:lnTo>
                  <a:lnTo>
                    <a:pt x="62" y="112"/>
                  </a:lnTo>
                  <a:lnTo>
                    <a:pt x="56" y="228"/>
                  </a:lnTo>
                  <a:lnTo>
                    <a:pt x="51" y="452"/>
                  </a:lnTo>
                  <a:lnTo>
                    <a:pt x="44" y="501"/>
                  </a:lnTo>
                  <a:lnTo>
                    <a:pt x="44" y="634"/>
                  </a:lnTo>
                  <a:lnTo>
                    <a:pt x="39" y="1051"/>
                  </a:lnTo>
                  <a:lnTo>
                    <a:pt x="33" y="1171"/>
                  </a:lnTo>
                  <a:lnTo>
                    <a:pt x="39" y="1186"/>
                  </a:lnTo>
                  <a:lnTo>
                    <a:pt x="42" y="1202"/>
                  </a:lnTo>
                  <a:lnTo>
                    <a:pt x="42" y="1208"/>
                  </a:lnTo>
                  <a:lnTo>
                    <a:pt x="42" y="1208"/>
                  </a:lnTo>
                  <a:lnTo>
                    <a:pt x="0" y="1190"/>
                  </a:lnTo>
                  <a:lnTo>
                    <a:pt x="0" y="1178"/>
                  </a:lnTo>
                  <a:lnTo>
                    <a:pt x="0" y="1146"/>
                  </a:lnTo>
                  <a:lnTo>
                    <a:pt x="0" y="1102"/>
                  </a:lnTo>
                  <a:lnTo>
                    <a:pt x="0" y="1049"/>
                  </a:lnTo>
                  <a:lnTo>
                    <a:pt x="0" y="996"/>
                  </a:lnTo>
                  <a:lnTo>
                    <a:pt x="0" y="948"/>
                  </a:lnTo>
                  <a:lnTo>
                    <a:pt x="0" y="911"/>
                  </a:lnTo>
                  <a:lnTo>
                    <a:pt x="0" y="892"/>
                  </a:lnTo>
                  <a:lnTo>
                    <a:pt x="0" y="868"/>
                  </a:lnTo>
                  <a:lnTo>
                    <a:pt x="2" y="819"/>
                  </a:lnTo>
                  <a:lnTo>
                    <a:pt x="3" y="752"/>
                  </a:lnTo>
                  <a:lnTo>
                    <a:pt x="5" y="678"/>
                  </a:lnTo>
                  <a:lnTo>
                    <a:pt x="7" y="604"/>
                  </a:lnTo>
                  <a:lnTo>
                    <a:pt x="9" y="541"/>
                  </a:lnTo>
                  <a:lnTo>
                    <a:pt x="9" y="496"/>
                  </a:lnTo>
                  <a:lnTo>
                    <a:pt x="10" y="479"/>
                  </a:lnTo>
                  <a:lnTo>
                    <a:pt x="10" y="188"/>
                  </a:lnTo>
                  <a:lnTo>
                    <a:pt x="63" y="41"/>
                  </a:lnTo>
                  <a:lnTo>
                    <a:pt x="69" y="39"/>
                  </a:lnTo>
                  <a:lnTo>
                    <a:pt x="83" y="32"/>
                  </a:lnTo>
                  <a:lnTo>
                    <a:pt x="102" y="24"/>
                  </a:lnTo>
                  <a:lnTo>
                    <a:pt x="123" y="14"/>
                  </a:lnTo>
                  <a:lnTo>
                    <a:pt x="146" y="7"/>
                  </a:lnTo>
                  <a:lnTo>
                    <a:pt x="166" y="1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3" y="2"/>
                  </a:lnTo>
                  <a:lnTo>
                    <a:pt x="185" y="6"/>
                  </a:lnTo>
                  <a:lnTo>
                    <a:pt x="185" y="6"/>
                  </a:lnTo>
                  <a:lnTo>
                    <a:pt x="185" y="6"/>
                  </a:lnTo>
                  <a:lnTo>
                    <a:pt x="185" y="7"/>
                  </a:lnTo>
                  <a:lnTo>
                    <a:pt x="185" y="7"/>
                  </a:lnTo>
                  <a:lnTo>
                    <a:pt x="185" y="8"/>
                  </a:lnTo>
                  <a:lnTo>
                    <a:pt x="185" y="9"/>
                  </a:lnTo>
                  <a:lnTo>
                    <a:pt x="185" y="10"/>
                  </a:lnTo>
                  <a:lnTo>
                    <a:pt x="185" y="1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315040" y="3393720"/>
              <a:ext cx="628920" cy="2817000"/>
            </a:xfrm>
            <a:custGeom>
              <a:avLst/>
              <a:gdLst/>
              <a:ahLst/>
              <a:rect l="l" t="t" r="r" b="b"/>
              <a:pathLst>
                <a:path w="170" h="1201">
                  <a:moveTo>
                    <a:pt x="170" y="10"/>
                  </a:moveTo>
                  <a:lnTo>
                    <a:pt x="108" y="29"/>
                  </a:lnTo>
                  <a:lnTo>
                    <a:pt x="80" y="60"/>
                  </a:lnTo>
                  <a:lnTo>
                    <a:pt x="67" y="76"/>
                  </a:lnTo>
                  <a:lnTo>
                    <a:pt x="67" y="128"/>
                  </a:lnTo>
                  <a:lnTo>
                    <a:pt x="65" y="232"/>
                  </a:lnTo>
                  <a:lnTo>
                    <a:pt x="60" y="325"/>
                  </a:lnTo>
                  <a:lnTo>
                    <a:pt x="60" y="392"/>
                  </a:lnTo>
                  <a:lnTo>
                    <a:pt x="48" y="725"/>
                  </a:lnTo>
                  <a:lnTo>
                    <a:pt x="44" y="887"/>
                  </a:lnTo>
                  <a:lnTo>
                    <a:pt x="34" y="1167"/>
                  </a:lnTo>
                  <a:lnTo>
                    <a:pt x="32" y="1201"/>
                  </a:lnTo>
                  <a:lnTo>
                    <a:pt x="0" y="1171"/>
                  </a:lnTo>
                  <a:lnTo>
                    <a:pt x="16" y="908"/>
                  </a:lnTo>
                  <a:lnTo>
                    <a:pt x="21" y="514"/>
                  </a:lnTo>
                  <a:lnTo>
                    <a:pt x="16" y="190"/>
                  </a:lnTo>
                  <a:lnTo>
                    <a:pt x="53" y="43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0" y="0"/>
                  </a:lnTo>
                  <a:lnTo>
                    <a:pt x="170" y="2"/>
                  </a:lnTo>
                  <a:lnTo>
                    <a:pt x="170" y="3"/>
                  </a:lnTo>
                  <a:lnTo>
                    <a:pt x="170" y="4"/>
                  </a:lnTo>
                  <a:lnTo>
                    <a:pt x="170" y="6"/>
                  </a:lnTo>
                  <a:lnTo>
                    <a:pt x="170" y="8"/>
                  </a:lnTo>
                  <a:lnTo>
                    <a:pt x="170" y="1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73960" y="3452760"/>
              <a:ext cx="524880" cy="2859120"/>
            </a:xfrm>
            <a:custGeom>
              <a:avLst/>
              <a:gdLst/>
              <a:ahLst/>
              <a:rect l="l" t="t" r="r" b="b"/>
              <a:pathLst>
                <a:path w="142" h="1219">
                  <a:moveTo>
                    <a:pt x="142" y="2"/>
                  </a:moveTo>
                  <a:lnTo>
                    <a:pt x="106" y="28"/>
                  </a:lnTo>
                  <a:lnTo>
                    <a:pt x="97" y="47"/>
                  </a:lnTo>
                  <a:lnTo>
                    <a:pt x="96" y="82"/>
                  </a:lnTo>
                  <a:lnTo>
                    <a:pt x="87" y="266"/>
                  </a:lnTo>
                  <a:lnTo>
                    <a:pt x="80" y="402"/>
                  </a:lnTo>
                  <a:lnTo>
                    <a:pt x="69" y="581"/>
                  </a:lnTo>
                  <a:lnTo>
                    <a:pt x="66" y="817"/>
                  </a:lnTo>
                  <a:lnTo>
                    <a:pt x="46" y="1203"/>
                  </a:lnTo>
                  <a:lnTo>
                    <a:pt x="46" y="1210"/>
                  </a:lnTo>
                  <a:lnTo>
                    <a:pt x="50" y="1213"/>
                  </a:lnTo>
                  <a:lnTo>
                    <a:pt x="50" y="1219"/>
                  </a:lnTo>
                  <a:lnTo>
                    <a:pt x="20" y="1219"/>
                  </a:lnTo>
                  <a:lnTo>
                    <a:pt x="0" y="1210"/>
                  </a:lnTo>
                  <a:lnTo>
                    <a:pt x="0" y="1203"/>
                  </a:lnTo>
                  <a:lnTo>
                    <a:pt x="2" y="1196"/>
                  </a:lnTo>
                  <a:lnTo>
                    <a:pt x="4" y="1188"/>
                  </a:lnTo>
                  <a:lnTo>
                    <a:pt x="6" y="1180"/>
                  </a:lnTo>
                  <a:lnTo>
                    <a:pt x="7" y="1173"/>
                  </a:lnTo>
                  <a:lnTo>
                    <a:pt x="7" y="1166"/>
                  </a:lnTo>
                  <a:lnTo>
                    <a:pt x="9" y="1159"/>
                  </a:lnTo>
                  <a:lnTo>
                    <a:pt x="9" y="1153"/>
                  </a:lnTo>
                  <a:lnTo>
                    <a:pt x="9" y="1135"/>
                  </a:lnTo>
                  <a:lnTo>
                    <a:pt x="11" y="1106"/>
                  </a:lnTo>
                  <a:lnTo>
                    <a:pt x="13" y="1071"/>
                  </a:lnTo>
                  <a:lnTo>
                    <a:pt x="14" y="1031"/>
                  </a:lnTo>
                  <a:lnTo>
                    <a:pt x="18" y="992"/>
                  </a:lnTo>
                  <a:lnTo>
                    <a:pt x="20" y="956"/>
                  </a:lnTo>
                  <a:lnTo>
                    <a:pt x="23" y="928"/>
                  </a:lnTo>
                  <a:lnTo>
                    <a:pt x="25" y="912"/>
                  </a:lnTo>
                  <a:lnTo>
                    <a:pt x="27" y="890"/>
                  </a:lnTo>
                  <a:lnTo>
                    <a:pt x="29" y="846"/>
                  </a:lnTo>
                  <a:lnTo>
                    <a:pt x="30" y="789"/>
                  </a:lnTo>
                  <a:lnTo>
                    <a:pt x="32" y="723"/>
                  </a:lnTo>
                  <a:lnTo>
                    <a:pt x="34" y="657"/>
                  </a:lnTo>
                  <a:lnTo>
                    <a:pt x="34" y="596"/>
                  </a:lnTo>
                  <a:lnTo>
                    <a:pt x="36" y="549"/>
                  </a:lnTo>
                  <a:lnTo>
                    <a:pt x="36" y="521"/>
                  </a:lnTo>
                  <a:lnTo>
                    <a:pt x="36" y="497"/>
                  </a:lnTo>
                  <a:lnTo>
                    <a:pt x="36" y="461"/>
                  </a:lnTo>
                  <a:lnTo>
                    <a:pt x="37" y="418"/>
                  </a:lnTo>
                  <a:lnTo>
                    <a:pt x="37" y="371"/>
                  </a:lnTo>
                  <a:lnTo>
                    <a:pt x="39" y="322"/>
                  </a:lnTo>
                  <a:lnTo>
                    <a:pt x="39" y="276"/>
                  </a:lnTo>
                  <a:lnTo>
                    <a:pt x="41" y="239"/>
                  </a:lnTo>
                  <a:lnTo>
                    <a:pt x="41" y="212"/>
                  </a:lnTo>
                  <a:lnTo>
                    <a:pt x="41" y="190"/>
                  </a:lnTo>
                  <a:lnTo>
                    <a:pt x="39" y="165"/>
                  </a:lnTo>
                  <a:lnTo>
                    <a:pt x="39" y="140"/>
                  </a:lnTo>
                  <a:lnTo>
                    <a:pt x="37" y="116"/>
                  </a:lnTo>
                  <a:lnTo>
                    <a:pt x="37" y="95"/>
                  </a:lnTo>
                  <a:lnTo>
                    <a:pt x="36" y="77"/>
                  </a:lnTo>
                  <a:lnTo>
                    <a:pt x="36" y="65"/>
                  </a:lnTo>
                  <a:lnTo>
                    <a:pt x="36" y="61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2"/>
                  </a:lnTo>
                  <a:lnTo>
                    <a:pt x="142" y="2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39360" y="3436200"/>
              <a:ext cx="550800" cy="1902240"/>
            </a:xfrm>
            <a:custGeom>
              <a:avLst/>
              <a:gdLst/>
              <a:ahLst/>
              <a:rect l="l" t="t" r="r" b="b"/>
              <a:pathLst>
                <a:path w="149" h="811">
                  <a:moveTo>
                    <a:pt x="149" y="0"/>
                  </a:moveTo>
                  <a:lnTo>
                    <a:pt x="69" y="33"/>
                  </a:lnTo>
                  <a:lnTo>
                    <a:pt x="67" y="34"/>
                  </a:lnTo>
                  <a:lnTo>
                    <a:pt x="64" y="39"/>
                  </a:lnTo>
                  <a:lnTo>
                    <a:pt x="58" y="44"/>
                  </a:lnTo>
                  <a:lnTo>
                    <a:pt x="53" y="53"/>
                  </a:lnTo>
                  <a:lnTo>
                    <a:pt x="48" y="62"/>
                  </a:lnTo>
                  <a:lnTo>
                    <a:pt x="43" y="72"/>
                  </a:lnTo>
                  <a:lnTo>
                    <a:pt x="39" y="82"/>
                  </a:lnTo>
                  <a:lnTo>
                    <a:pt x="37" y="90"/>
                  </a:lnTo>
                  <a:lnTo>
                    <a:pt x="37" y="108"/>
                  </a:lnTo>
                  <a:lnTo>
                    <a:pt x="36" y="144"/>
                  </a:lnTo>
                  <a:lnTo>
                    <a:pt x="32" y="190"/>
                  </a:lnTo>
                  <a:lnTo>
                    <a:pt x="30" y="244"/>
                  </a:lnTo>
                  <a:lnTo>
                    <a:pt x="27" y="298"/>
                  </a:lnTo>
                  <a:lnTo>
                    <a:pt x="23" y="347"/>
                  </a:lnTo>
                  <a:lnTo>
                    <a:pt x="21" y="386"/>
                  </a:lnTo>
                  <a:lnTo>
                    <a:pt x="21" y="409"/>
                  </a:lnTo>
                  <a:lnTo>
                    <a:pt x="21" y="431"/>
                  </a:lnTo>
                  <a:lnTo>
                    <a:pt x="18" y="468"/>
                  </a:lnTo>
                  <a:lnTo>
                    <a:pt x="14" y="515"/>
                  </a:lnTo>
                  <a:lnTo>
                    <a:pt x="11" y="566"/>
                  </a:lnTo>
                  <a:lnTo>
                    <a:pt x="7" y="618"/>
                  </a:lnTo>
                  <a:lnTo>
                    <a:pt x="4" y="666"/>
                  </a:lnTo>
                  <a:lnTo>
                    <a:pt x="2" y="704"/>
                  </a:lnTo>
                  <a:lnTo>
                    <a:pt x="0" y="729"/>
                  </a:lnTo>
                  <a:lnTo>
                    <a:pt x="0" y="744"/>
                  </a:lnTo>
                  <a:lnTo>
                    <a:pt x="0" y="759"/>
                  </a:lnTo>
                  <a:lnTo>
                    <a:pt x="0" y="772"/>
                  </a:lnTo>
                  <a:lnTo>
                    <a:pt x="0" y="783"/>
                  </a:lnTo>
                  <a:lnTo>
                    <a:pt x="0" y="792"/>
                  </a:lnTo>
                  <a:lnTo>
                    <a:pt x="0" y="798"/>
                  </a:lnTo>
                  <a:lnTo>
                    <a:pt x="0" y="803"/>
                  </a:lnTo>
                  <a:lnTo>
                    <a:pt x="0" y="804"/>
                  </a:lnTo>
                  <a:lnTo>
                    <a:pt x="85" y="811"/>
                  </a:lnTo>
                  <a:lnTo>
                    <a:pt x="85" y="789"/>
                  </a:lnTo>
                  <a:lnTo>
                    <a:pt x="87" y="726"/>
                  </a:lnTo>
                  <a:lnTo>
                    <a:pt x="87" y="638"/>
                  </a:lnTo>
                  <a:lnTo>
                    <a:pt x="88" y="538"/>
                  </a:lnTo>
                  <a:lnTo>
                    <a:pt x="88" y="435"/>
                  </a:lnTo>
                  <a:lnTo>
                    <a:pt x="90" y="343"/>
                  </a:lnTo>
                  <a:lnTo>
                    <a:pt x="90" y="276"/>
                  </a:lnTo>
                  <a:lnTo>
                    <a:pt x="90" y="244"/>
                  </a:lnTo>
                  <a:lnTo>
                    <a:pt x="90" y="230"/>
                  </a:lnTo>
                  <a:lnTo>
                    <a:pt x="92" y="207"/>
                  </a:lnTo>
                  <a:lnTo>
                    <a:pt x="94" y="178"/>
                  </a:lnTo>
                  <a:lnTo>
                    <a:pt x="97" y="147"/>
                  </a:lnTo>
                  <a:lnTo>
                    <a:pt x="101" y="117"/>
                  </a:lnTo>
                  <a:lnTo>
                    <a:pt x="104" y="89"/>
                  </a:lnTo>
                  <a:lnTo>
                    <a:pt x="108" y="67"/>
                  </a:lnTo>
                  <a:lnTo>
                    <a:pt x="111" y="54"/>
                  </a:lnTo>
                  <a:lnTo>
                    <a:pt x="117" y="46"/>
                  </a:lnTo>
                  <a:lnTo>
                    <a:pt x="122" y="36"/>
                  </a:lnTo>
                  <a:lnTo>
                    <a:pt x="127" y="28"/>
                  </a:lnTo>
                  <a:lnTo>
                    <a:pt x="134" y="18"/>
                  </a:lnTo>
                  <a:lnTo>
                    <a:pt x="140" y="11"/>
                  </a:lnTo>
                  <a:lnTo>
                    <a:pt x="145" y="5"/>
                  </a:lnTo>
                  <a:lnTo>
                    <a:pt x="149" y="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39360" y="3443040"/>
              <a:ext cx="492120" cy="1904760"/>
            </a:xfrm>
            <a:custGeom>
              <a:avLst/>
              <a:gdLst/>
              <a:ahLst/>
              <a:rect l="l" t="t" r="r" b="b"/>
              <a:pathLst>
                <a:path w="133" h="812">
                  <a:moveTo>
                    <a:pt x="133" y="0"/>
                  </a:moveTo>
                  <a:lnTo>
                    <a:pt x="124" y="4"/>
                  </a:lnTo>
                  <a:lnTo>
                    <a:pt x="115" y="8"/>
                  </a:lnTo>
                  <a:lnTo>
                    <a:pt x="106" y="12"/>
                  </a:lnTo>
                  <a:lnTo>
                    <a:pt x="97" y="15"/>
                  </a:lnTo>
                  <a:lnTo>
                    <a:pt x="88" y="19"/>
                  </a:lnTo>
                  <a:lnTo>
                    <a:pt x="80" y="22"/>
                  </a:lnTo>
                  <a:lnTo>
                    <a:pt x="71" y="27"/>
                  </a:lnTo>
                  <a:lnTo>
                    <a:pt x="62" y="31"/>
                  </a:lnTo>
                  <a:lnTo>
                    <a:pt x="60" y="32"/>
                  </a:lnTo>
                  <a:lnTo>
                    <a:pt x="57" y="36"/>
                  </a:lnTo>
                  <a:lnTo>
                    <a:pt x="53" y="41"/>
                  </a:lnTo>
                  <a:lnTo>
                    <a:pt x="48" y="49"/>
                  </a:lnTo>
                  <a:lnTo>
                    <a:pt x="44" y="57"/>
                  </a:lnTo>
                  <a:lnTo>
                    <a:pt x="39" y="64"/>
                  </a:lnTo>
                  <a:lnTo>
                    <a:pt x="37" y="73"/>
                  </a:lnTo>
                  <a:lnTo>
                    <a:pt x="36" y="80"/>
                  </a:lnTo>
                  <a:lnTo>
                    <a:pt x="34" y="99"/>
                  </a:lnTo>
                  <a:lnTo>
                    <a:pt x="32" y="135"/>
                  </a:lnTo>
                  <a:lnTo>
                    <a:pt x="30" y="184"/>
                  </a:lnTo>
                  <a:lnTo>
                    <a:pt x="27" y="240"/>
                  </a:lnTo>
                  <a:lnTo>
                    <a:pt x="23" y="296"/>
                  </a:lnTo>
                  <a:lnTo>
                    <a:pt x="21" y="346"/>
                  </a:lnTo>
                  <a:lnTo>
                    <a:pt x="20" y="385"/>
                  </a:lnTo>
                  <a:lnTo>
                    <a:pt x="18" y="408"/>
                  </a:lnTo>
                  <a:lnTo>
                    <a:pt x="18" y="430"/>
                  </a:lnTo>
                  <a:lnTo>
                    <a:pt x="16" y="468"/>
                  </a:lnTo>
                  <a:lnTo>
                    <a:pt x="13" y="517"/>
                  </a:lnTo>
                  <a:lnTo>
                    <a:pt x="9" y="573"/>
                  </a:lnTo>
                  <a:lnTo>
                    <a:pt x="5" y="628"/>
                  </a:lnTo>
                  <a:lnTo>
                    <a:pt x="4" y="678"/>
                  </a:lnTo>
                  <a:lnTo>
                    <a:pt x="2" y="717"/>
                  </a:lnTo>
                  <a:lnTo>
                    <a:pt x="0" y="741"/>
                  </a:lnTo>
                  <a:lnTo>
                    <a:pt x="0" y="754"/>
                  </a:lnTo>
                  <a:lnTo>
                    <a:pt x="0" y="766"/>
                  </a:lnTo>
                  <a:lnTo>
                    <a:pt x="0" y="778"/>
                  </a:lnTo>
                  <a:lnTo>
                    <a:pt x="0" y="787"/>
                  </a:lnTo>
                  <a:lnTo>
                    <a:pt x="0" y="795"/>
                  </a:lnTo>
                  <a:lnTo>
                    <a:pt x="0" y="801"/>
                  </a:lnTo>
                  <a:lnTo>
                    <a:pt x="0" y="805"/>
                  </a:lnTo>
                  <a:lnTo>
                    <a:pt x="0" y="806"/>
                  </a:lnTo>
                  <a:lnTo>
                    <a:pt x="11" y="806"/>
                  </a:lnTo>
                  <a:lnTo>
                    <a:pt x="20" y="807"/>
                  </a:lnTo>
                  <a:lnTo>
                    <a:pt x="28" y="808"/>
                  </a:lnTo>
                  <a:lnTo>
                    <a:pt x="37" y="808"/>
                  </a:lnTo>
                  <a:lnTo>
                    <a:pt x="46" y="809"/>
                  </a:lnTo>
                  <a:lnTo>
                    <a:pt x="55" y="811"/>
                  </a:lnTo>
                  <a:lnTo>
                    <a:pt x="64" y="811"/>
                  </a:lnTo>
                  <a:lnTo>
                    <a:pt x="73" y="812"/>
                  </a:lnTo>
                  <a:lnTo>
                    <a:pt x="73" y="789"/>
                  </a:lnTo>
                  <a:lnTo>
                    <a:pt x="74" y="729"/>
                  </a:lnTo>
                  <a:lnTo>
                    <a:pt x="74" y="646"/>
                  </a:lnTo>
                  <a:lnTo>
                    <a:pt x="74" y="548"/>
                  </a:lnTo>
                  <a:lnTo>
                    <a:pt x="76" y="450"/>
                  </a:lnTo>
                  <a:lnTo>
                    <a:pt x="76" y="363"/>
                  </a:lnTo>
                  <a:lnTo>
                    <a:pt x="76" y="298"/>
                  </a:lnTo>
                  <a:lnTo>
                    <a:pt x="76" y="270"/>
                  </a:lnTo>
                  <a:lnTo>
                    <a:pt x="78" y="254"/>
                  </a:lnTo>
                  <a:lnTo>
                    <a:pt x="80" y="228"/>
                  </a:lnTo>
                  <a:lnTo>
                    <a:pt x="81" y="196"/>
                  </a:lnTo>
                  <a:lnTo>
                    <a:pt x="85" y="159"/>
                  </a:lnTo>
                  <a:lnTo>
                    <a:pt x="88" y="122"/>
                  </a:lnTo>
                  <a:lnTo>
                    <a:pt x="94" y="89"/>
                  </a:lnTo>
                  <a:lnTo>
                    <a:pt x="97" y="63"/>
                  </a:lnTo>
                  <a:lnTo>
                    <a:pt x="101" y="50"/>
                  </a:lnTo>
                  <a:lnTo>
                    <a:pt x="104" y="43"/>
                  </a:lnTo>
                  <a:lnTo>
                    <a:pt x="110" y="34"/>
                  </a:lnTo>
                  <a:lnTo>
                    <a:pt x="115" y="26"/>
                  </a:lnTo>
                  <a:lnTo>
                    <a:pt x="120" y="18"/>
                  </a:lnTo>
                  <a:lnTo>
                    <a:pt x="126" y="10"/>
                  </a:lnTo>
                  <a:lnTo>
                    <a:pt x="129" y="6"/>
                  </a:lnTo>
                  <a:lnTo>
                    <a:pt x="133" y="2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46920" y="3449880"/>
              <a:ext cx="425160" cy="1904760"/>
            </a:xfrm>
            <a:custGeom>
              <a:avLst/>
              <a:gdLst/>
              <a:ahLst/>
              <a:rect l="l" t="t" r="r" b="b"/>
              <a:pathLst>
                <a:path w="115" h="812">
                  <a:moveTo>
                    <a:pt x="115" y="0"/>
                  </a:moveTo>
                  <a:lnTo>
                    <a:pt x="108" y="4"/>
                  </a:lnTo>
                  <a:lnTo>
                    <a:pt x="99" y="7"/>
                  </a:lnTo>
                  <a:lnTo>
                    <a:pt x="92" y="11"/>
                  </a:lnTo>
                  <a:lnTo>
                    <a:pt x="83" y="15"/>
                  </a:lnTo>
                  <a:lnTo>
                    <a:pt x="76" y="18"/>
                  </a:lnTo>
                  <a:lnTo>
                    <a:pt x="67" y="22"/>
                  </a:lnTo>
                  <a:lnTo>
                    <a:pt x="60" y="25"/>
                  </a:lnTo>
                  <a:lnTo>
                    <a:pt x="53" y="29"/>
                  </a:lnTo>
                  <a:lnTo>
                    <a:pt x="51" y="30"/>
                  </a:lnTo>
                  <a:lnTo>
                    <a:pt x="49" y="34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37" y="50"/>
                  </a:lnTo>
                  <a:lnTo>
                    <a:pt x="35" y="58"/>
                  </a:lnTo>
                  <a:lnTo>
                    <a:pt x="32" y="65"/>
                  </a:lnTo>
                  <a:lnTo>
                    <a:pt x="32" y="71"/>
                  </a:lnTo>
                  <a:lnTo>
                    <a:pt x="30" y="89"/>
                  </a:lnTo>
                  <a:lnTo>
                    <a:pt x="28" y="126"/>
                  </a:lnTo>
                  <a:lnTo>
                    <a:pt x="25" y="177"/>
                  </a:lnTo>
                  <a:lnTo>
                    <a:pt x="23" y="236"/>
                  </a:lnTo>
                  <a:lnTo>
                    <a:pt x="19" y="293"/>
                  </a:lnTo>
                  <a:lnTo>
                    <a:pt x="16" y="345"/>
                  </a:lnTo>
                  <a:lnTo>
                    <a:pt x="14" y="386"/>
                  </a:lnTo>
                  <a:lnTo>
                    <a:pt x="12" y="406"/>
                  </a:lnTo>
                  <a:lnTo>
                    <a:pt x="12" y="428"/>
                  </a:lnTo>
                  <a:lnTo>
                    <a:pt x="11" y="467"/>
                  </a:lnTo>
                  <a:lnTo>
                    <a:pt x="9" y="520"/>
                  </a:lnTo>
                  <a:lnTo>
                    <a:pt x="7" y="578"/>
                  </a:lnTo>
                  <a:lnTo>
                    <a:pt x="3" y="638"/>
                  </a:lnTo>
                  <a:lnTo>
                    <a:pt x="2" y="691"/>
                  </a:lnTo>
                  <a:lnTo>
                    <a:pt x="0" y="731"/>
                  </a:lnTo>
                  <a:lnTo>
                    <a:pt x="0" y="754"/>
                  </a:lnTo>
                  <a:lnTo>
                    <a:pt x="0" y="765"/>
                  </a:lnTo>
                  <a:lnTo>
                    <a:pt x="0" y="775"/>
                  </a:lnTo>
                  <a:lnTo>
                    <a:pt x="0" y="784"/>
                  </a:lnTo>
                  <a:lnTo>
                    <a:pt x="0" y="792"/>
                  </a:lnTo>
                  <a:lnTo>
                    <a:pt x="0" y="798"/>
                  </a:lnTo>
                  <a:lnTo>
                    <a:pt x="0" y="803"/>
                  </a:lnTo>
                  <a:lnTo>
                    <a:pt x="0" y="806"/>
                  </a:lnTo>
                  <a:lnTo>
                    <a:pt x="0" y="806"/>
                  </a:lnTo>
                  <a:lnTo>
                    <a:pt x="7" y="808"/>
                  </a:lnTo>
                  <a:lnTo>
                    <a:pt x="14" y="809"/>
                  </a:lnTo>
                  <a:lnTo>
                    <a:pt x="21" y="809"/>
                  </a:lnTo>
                  <a:lnTo>
                    <a:pt x="30" y="810"/>
                  </a:lnTo>
                  <a:lnTo>
                    <a:pt x="37" y="810"/>
                  </a:lnTo>
                  <a:lnTo>
                    <a:pt x="44" y="811"/>
                  </a:lnTo>
                  <a:lnTo>
                    <a:pt x="51" y="811"/>
                  </a:lnTo>
                  <a:lnTo>
                    <a:pt x="58" y="812"/>
                  </a:lnTo>
                  <a:lnTo>
                    <a:pt x="60" y="791"/>
                  </a:lnTo>
                  <a:lnTo>
                    <a:pt x="60" y="734"/>
                  </a:lnTo>
                  <a:lnTo>
                    <a:pt x="60" y="652"/>
                  </a:lnTo>
                  <a:lnTo>
                    <a:pt x="60" y="559"/>
                  </a:lnTo>
                  <a:lnTo>
                    <a:pt x="60" y="466"/>
                  </a:lnTo>
                  <a:lnTo>
                    <a:pt x="62" y="382"/>
                  </a:lnTo>
                  <a:lnTo>
                    <a:pt x="62" y="322"/>
                  </a:lnTo>
                  <a:lnTo>
                    <a:pt x="62" y="294"/>
                  </a:lnTo>
                  <a:lnTo>
                    <a:pt x="62" y="279"/>
                  </a:lnTo>
                  <a:lnTo>
                    <a:pt x="64" y="250"/>
                  </a:lnTo>
                  <a:lnTo>
                    <a:pt x="67" y="212"/>
                  </a:lnTo>
                  <a:lnTo>
                    <a:pt x="72" y="169"/>
                  </a:lnTo>
                  <a:lnTo>
                    <a:pt x="76" y="126"/>
                  </a:lnTo>
                  <a:lnTo>
                    <a:pt x="79" y="89"/>
                  </a:lnTo>
                  <a:lnTo>
                    <a:pt x="85" y="60"/>
                  </a:lnTo>
                  <a:lnTo>
                    <a:pt x="88" y="46"/>
                  </a:lnTo>
                  <a:lnTo>
                    <a:pt x="90" y="40"/>
                  </a:lnTo>
                  <a:lnTo>
                    <a:pt x="95" y="33"/>
                  </a:lnTo>
                  <a:lnTo>
                    <a:pt x="99" y="24"/>
                  </a:lnTo>
                  <a:lnTo>
                    <a:pt x="104" y="17"/>
                  </a:lnTo>
                  <a:lnTo>
                    <a:pt x="108" y="11"/>
                  </a:lnTo>
                  <a:lnTo>
                    <a:pt x="111" y="5"/>
                  </a:lnTo>
                  <a:lnTo>
                    <a:pt x="115" y="1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46920" y="3459600"/>
              <a:ext cx="366480" cy="1902240"/>
            </a:xfrm>
            <a:custGeom>
              <a:avLst/>
              <a:gdLst/>
              <a:ahLst/>
              <a:rect l="l" t="t" r="r" b="b"/>
              <a:pathLst>
                <a:path w="99" h="811">
                  <a:moveTo>
                    <a:pt x="99" y="0"/>
                  </a:moveTo>
                  <a:lnTo>
                    <a:pt x="92" y="3"/>
                  </a:lnTo>
                  <a:lnTo>
                    <a:pt x="85" y="6"/>
                  </a:lnTo>
                  <a:lnTo>
                    <a:pt x="78" y="9"/>
                  </a:lnTo>
                  <a:lnTo>
                    <a:pt x="72" y="13"/>
                  </a:lnTo>
                  <a:lnTo>
                    <a:pt x="65" y="17"/>
                  </a:lnTo>
                  <a:lnTo>
                    <a:pt x="58" y="19"/>
                  </a:lnTo>
                  <a:lnTo>
                    <a:pt x="51" y="23"/>
                  </a:lnTo>
                  <a:lnTo>
                    <a:pt x="44" y="26"/>
                  </a:lnTo>
                  <a:lnTo>
                    <a:pt x="44" y="27"/>
                  </a:lnTo>
                  <a:lnTo>
                    <a:pt x="42" y="30"/>
                  </a:lnTo>
                  <a:lnTo>
                    <a:pt x="39" y="33"/>
                  </a:lnTo>
                  <a:lnTo>
                    <a:pt x="37" y="39"/>
                  </a:lnTo>
                  <a:lnTo>
                    <a:pt x="34" y="44"/>
                  </a:lnTo>
                  <a:lnTo>
                    <a:pt x="32" y="50"/>
                  </a:lnTo>
                  <a:lnTo>
                    <a:pt x="30" y="56"/>
                  </a:lnTo>
                  <a:lnTo>
                    <a:pt x="28" y="61"/>
                  </a:lnTo>
                  <a:lnTo>
                    <a:pt x="28" y="77"/>
                  </a:lnTo>
                  <a:lnTo>
                    <a:pt x="26" y="117"/>
                  </a:lnTo>
                  <a:lnTo>
                    <a:pt x="23" y="169"/>
                  </a:lnTo>
                  <a:lnTo>
                    <a:pt x="19" y="229"/>
                  </a:lnTo>
                  <a:lnTo>
                    <a:pt x="16" y="290"/>
                  </a:lnTo>
                  <a:lnTo>
                    <a:pt x="12" y="344"/>
                  </a:lnTo>
                  <a:lnTo>
                    <a:pt x="11" y="384"/>
                  </a:lnTo>
                  <a:lnTo>
                    <a:pt x="11" y="405"/>
                  </a:lnTo>
                  <a:lnTo>
                    <a:pt x="9" y="425"/>
                  </a:lnTo>
                  <a:lnTo>
                    <a:pt x="9" y="466"/>
                  </a:lnTo>
                  <a:lnTo>
                    <a:pt x="7" y="522"/>
                  </a:lnTo>
                  <a:lnTo>
                    <a:pt x="5" y="584"/>
                  </a:lnTo>
                  <a:lnTo>
                    <a:pt x="3" y="646"/>
                  </a:lnTo>
                  <a:lnTo>
                    <a:pt x="2" y="702"/>
                  </a:lnTo>
                  <a:lnTo>
                    <a:pt x="0" y="744"/>
                  </a:lnTo>
                  <a:lnTo>
                    <a:pt x="0" y="765"/>
                  </a:lnTo>
                  <a:lnTo>
                    <a:pt x="0" y="775"/>
                  </a:lnTo>
                  <a:lnTo>
                    <a:pt x="0" y="782"/>
                  </a:lnTo>
                  <a:lnTo>
                    <a:pt x="0" y="789"/>
                  </a:lnTo>
                  <a:lnTo>
                    <a:pt x="0" y="795"/>
                  </a:lnTo>
                  <a:lnTo>
                    <a:pt x="0" y="800"/>
                  </a:lnTo>
                  <a:lnTo>
                    <a:pt x="0" y="805"/>
                  </a:lnTo>
                  <a:lnTo>
                    <a:pt x="0" y="807"/>
                  </a:lnTo>
                  <a:lnTo>
                    <a:pt x="0" y="807"/>
                  </a:lnTo>
                  <a:lnTo>
                    <a:pt x="5" y="808"/>
                  </a:lnTo>
                  <a:lnTo>
                    <a:pt x="12" y="808"/>
                  </a:lnTo>
                  <a:lnTo>
                    <a:pt x="18" y="808"/>
                  </a:lnTo>
                  <a:lnTo>
                    <a:pt x="23" y="810"/>
                  </a:lnTo>
                  <a:lnTo>
                    <a:pt x="30" y="810"/>
                  </a:lnTo>
                  <a:lnTo>
                    <a:pt x="35" y="811"/>
                  </a:lnTo>
                  <a:lnTo>
                    <a:pt x="41" y="811"/>
                  </a:lnTo>
                  <a:lnTo>
                    <a:pt x="48" y="811"/>
                  </a:lnTo>
                  <a:lnTo>
                    <a:pt x="48" y="790"/>
                  </a:lnTo>
                  <a:lnTo>
                    <a:pt x="48" y="737"/>
                  </a:lnTo>
                  <a:lnTo>
                    <a:pt x="48" y="659"/>
                  </a:lnTo>
                  <a:lnTo>
                    <a:pt x="48" y="570"/>
                  </a:lnTo>
                  <a:lnTo>
                    <a:pt x="48" y="480"/>
                  </a:lnTo>
                  <a:lnTo>
                    <a:pt x="48" y="401"/>
                  </a:lnTo>
                  <a:lnTo>
                    <a:pt x="48" y="344"/>
                  </a:lnTo>
                  <a:lnTo>
                    <a:pt x="48" y="318"/>
                  </a:lnTo>
                  <a:lnTo>
                    <a:pt x="49" y="303"/>
                  </a:lnTo>
                  <a:lnTo>
                    <a:pt x="51" y="271"/>
                  </a:lnTo>
                  <a:lnTo>
                    <a:pt x="55" y="227"/>
                  </a:lnTo>
                  <a:lnTo>
                    <a:pt x="60" y="179"/>
                  </a:lnTo>
                  <a:lnTo>
                    <a:pt x="65" y="130"/>
                  </a:lnTo>
                  <a:lnTo>
                    <a:pt x="69" y="87"/>
                  </a:lnTo>
                  <a:lnTo>
                    <a:pt x="74" y="56"/>
                  </a:lnTo>
                  <a:lnTo>
                    <a:pt x="76" y="40"/>
                  </a:lnTo>
                  <a:lnTo>
                    <a:pt x="79" y="36"/>
                  </a:lnTo>
                  <a:lnTo>
                    <a:pt x="83" y="30"/>
                  </a:lnTo>
                  <a:lnTo>
                    <a:pt x="86" y="23"/>
                  </a:lnTo>
                  <a:lnTo>
                    <a:pt x="90" y="15"/>
                  </a:lnTo>
                  <a:lnTo>
                    <a:pt x="94" y="9"/>
                  </a:lnTo>
                  <a:lnTo>
                    <a:pt x="95" y="5"/>
                  </a:lnTo>
                  <a:lnTo>
                    <a:pt x="99" y="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54480" y="3466440"/>
              <a:ext cx="299160" cy="1902240"/>
            </a:xfrm>
            <a:custGeom>
              <a:avLst/>
              <a:gdLst/>
              <a:ahLst/>
              <a:rect l="l" t="t" r="r" b="b"/>
              <a:pathLst>
                <a:path w="81" h="811">
                  <a:moveTo>
                    <a:pt x="81" y="0"/>
                  </a:moveTo>
                  <a:lnTo>
                    <a:pt x="76" y="3"/>
                  </a:lnTo>
                  <a:lnTo>
                    <a:pt x="69" y="6"/>
                  </a:lnTo>
                  <a:lnTo>
                    <a:pt x="63" y="9"/>
                  </a:lnTo>
                  <a:lnTo>
                    <a:pt x="58" y="12"/>
                  </a:lnTo>
                  <a:lnTo>
                    <a:pt x="53" y="15"/>
                  </a:lnTo>
                  <a:lnTo>
                    <a:pt x="46" y="18"/>
                  </a:lnTo>
                  <a:lnTo>
                    <a:pt x="40" y="21"/>
                  </a:lnTo>
                  <a:lnTo>
                    <a:pt x="35" y="24"/>
                  </a:lnTo>
                  <a:lnTo>
                    <a:pt x="35" y="26"/>
                  </a:lnTo>
                  <a:lnTo>
                    <a:pt x="33" y="27"/>
                  </a:lnTo>
                  <a:lnTo>
                    <a:pt x="32" y="30"/>
                  </a:lnTo>
                  <a:lnTo>
                    <a:pt x="30" y="34"/>
                  </a:lnTo>
                  <a:lnTo>
                    <a:pt x="28" y="39"/>
                  </a:lnTo>
                  <a:lnTo>
                    <a:pt x="26" y="43"/>
                  </a:lnTo>
                  <a:lnTo>
                    <a:pt x="26" y="47"/>
                  </a:lnTo>
                  <a:lnTo>
                    <a:pt x="24" y="51"/>
                  </a:lnTo>
                  <a:lnTo>
                    <a:pt x="24" y="69"/>
                  </a:lnTo>
                  <a:lnTo>
                    <a:pt x="21" y="108"/>
                  </a:lnTo>
                  <a:lnTo>
                    <a:pt x="19" y="163"/>
                  </a:lnTo>
                  <a:lnTo>
                    <a:pt x="16" y="225"/>
                  </a:lnTo>
                  <a:lnTo>
                    <a:pt x="10" y="288"/>
                  </a:lnTo>
                  <a:lnTo>
                    <a:pt x="9" y="343"/>
                  </a:lnTo>
                  <a:lnTo>
                    <a:pt x="5" y="385"/>
                  </a:lnTo>
                  <a:lnTo>
                    <a:pt x="5" y="403"/>
                  </a:lnTo>
                  <a:lnTo>
                    <a:pt x="5" y="423"/>
                  </a:lnTo>
                  <a:lnTo>
                    <a:pt x="3" y="466"/>
                  </a:lnTo>
                  <a:lnTo>
                    <a:pt x="3" y="524"/>
                  </a:lnTo>
                  <a:lnTo>
                    <a:pt x="1" y="590"/>
                  </a:lnTo>
                  <a:lnTo>
                    <a:pt x="1" y="656"/>
                  </a:lnTo>
                  <a:lnTo>
                    <a:pt x="0" y="715"/>
                  </a:lnTo>
                  <a:lnTo>
                    <a:pt x="0" y="758"/>
                  </a:lnTo>
                  <a:lnTo>
                    <a:pt x="0" y="779"/>
                  </a:lnTo>
                  <a:lnTo>
                    <a:pt x="0" y="785"/>
                  </a:lnTo>
                  <a:lnTo>
                    <a:pt x="0" y="791"/>
                  </a:lnTo>
                  <a:lnTo>
                    <a:pt x="0" y="796"/>
                  </a:lnTo>
                  <a:lnTo>
                    <a:pt x="0" y="801"/>
                  </a:lnTo>
                  <a:lnTo>
                    <a:pt x="0" y="804"/>
                  </a:lnTo>
                  <a:lnTo>
                    <a:pt x="0" y="807"/>
                  </a:lnTo>
                  <a:lnTo>
                    <a:pt x="0" y="808"/>
                  </a:lnTo>
                  <a:lnTo>
                    <a:pt x="0" y="809"/>
                  </a:lnTo>
                  <a:lnTo>
                    <a:pt x="3" y="809"/>
                  </a:lnTo>
                  <a:lnTo>
                    <a:pt x="7" y="809"/>
                  </a:lnTo>
                  <a:lnTo>
                    <a:pt x="12" y="810"/>
                  </a:lnTo>
                  <a:lnTo>
                    <a:pt x="16" y="810"/>
                  </a:lnTo>
                  <a:lnTo>
                    <a:pt x="21" y="810"/>
                  </a:lnTo>
                  <a:lnTo>
                    <a:pt x="24" y="811"/>
                  </a:lnTo>
                  <a:lnTo>
                    <a:pt x="28" y="811"/>
                  </a:lnTo>
                  <a:lnTo>
                    <a:pt x="33" y="811"/>
                  </a:lnTo>
                  <a:lnTo>
                    <a:pt x="33" y="792"/>
                  </a:lnTo>
                  <a:lnTo>
                    <a:pt x="33" y="740"/>
                  </a:lnTo>
                  <a:lnTo>
                    <a:pt x="33" y="666"/>
                  </a:lnTo>
                  <a:lnTo>
                    <a:pt x="33" y="581"/>
                  </a:lnTo>
                  <a:lnTo>
                    <a:pt x="33" y="496"/>
                  </a:lnTo>
                  <a:lnTo>
                    <a:pt x="32" y="421"/>
                  </a:lnTo>
                  <a:lnTo>
                    <a:pt x="32" y="366"/>
                  </a:lnTo>
                  <a:lnTo>
                    <a:pt x="32" y="343"/>
                  </a:lnTo>
                  <a:lnTo>
                    <a:pt x="33" y="328"/>
                  </a:lnTo>
                  <a:lnTo>
                    <a:pt x="37" y="292"/>
                  </a:lnTo>
                  <a:lnTo>
                    <a:pt x="40" y="244"/>
                  </a:lnTo>
                  <a:lnTo>
                    <a:pt x="46" y="189"/>
                  </a:lnTo>
                  <a:lnTo>
                    <a:pt x="51" y="134"/>
                  </a:lnTo>
                  <a:lnTo>
                    <a:pt x="56" y="86"/>
                  </a:lnTo>
                  <a:lnTo>
                    <a:pt x="60" y="52"/>
                  </a:lnTo>
                  <a:lnTo>
                    <a:pt x="63" y="36"/>
                  </a:lnTo>
                  <a:lnTo>
                    <a:pt x="65" y="33"/>
                  </a:lnTo>
                  <a:lnTo>
                    <a:pt x="67" y="27"/>
                  </a:lnTo>
                  <a:lnTo>
                    <a:pt x="70" y="21"/>
                  </a:lnTo>
                  <a:lnTo>
                    <a:pt x="74" y="15"/>
                  </a:lnTo>
                  <a:lnTo>
                    <a:pt x="76" y="9"/>
                  </a:lnTo>
                  <a:lnTo>
                    <a:pt x="79" y="4"/>
                  </a:lnTo>
                  <a:lnTo>
                    <a:pt x="81" y="2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4480" y="3473280"/>
              <a:ext cx="239760" cy="1904760"/>
            </a:xfrm>
            <a:custGeom>
              <a:avLst/>
              <a:gdLst/>
              <a:ahLst/>
              <a:rect l="l" t="t" r="r" b="b"/>
              <a:pathLst>
                <a:path w="65" h="812">
                  <a:moveTo>
                    <a:pt x="65" y="0"/>
                  </a:moveTo>
                  <a:lnTo>
                    <a:pt x="28" y="23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6" y="27"/>
                  </a:lnTo>
                  <a:lnTo>
                    <a:pt x="24" y="30"/>
                  </a:lnTo>
                  <a:lnTo>
                    <a:pt x="24" y="33"/>
                  </a:lnTo>
                  <a:lnTo>
                    <a:pt x="23" y="37"/>
                  </a:lnTo>
                  <a:lnTo>
                    <a:pt x="23" y="39"/>
                  </a:lnTo>
                  <a:lnTo>
                    <a:pt x="23" y="42"/>
                  </a:lnTo>
                  <a:lnTo>
                    <a:pt x="23" y="58"/>
                  </a:lnTo>
                  <a:lnTo>
                    <a:pt x="19" y="99"/>
                  </a:lnTo>
                  <a:lnTo>
                    <a:pt x="16" y="156"/>
                  </a:lnTo>
                  <a:lnTo>
                    <a:pt x="12" y="221"/>
                  </a:lnTo>
                  <a:lnTo>
                    <a:pt x="9" y="285"/>
                  </a:lnTo>
                  <a:lnTo>
                    <a:pt x="5" y="343"/>
                  </a:lnTo>
                  <a:lnTo>
                    <a:pt x="1" y="384"/>
                  </a:lnTo>
                  <a:lnTo>
                    <a:pt x="1" y="402"/>
                  </a:lnTo>
                  <a:lnTo>
                    <a:pt x="1" y="421"/>
                  </a:lnTo>
                  <a:lnTo>
                    <a:pt x="1" y="466"/>
                  </a:lnTo>
                  <a:lnTo>
                    <a:pt x="1" y="526"/>
                  </a:lnTo>
                  <a:lnTo>
                    <a:pt x="0" y="596"/>
                  </a:lnTo>
                  <a:lnTo>
                    <a:pt x="0" y="666"/>
                  </a:lnTo>
                  <a:lnTo>
                    <a:pt x="0" y="727"/>
                  </a:lnTo>
                  <a:lnTo>
                    <a:pt x="0" y="773"/>
                  </a:lnTo>
                  <a:lnTo>
                    <a:pt x="0" y="792"/>
                  </a:lnTo>
                  <a:lnTo>
                    <a:pt x="0" y="795"/>
                  </a:lnTo>
                  <a:lnTo>
                    <a:pt x="0" y="799"/>
                  </a:lnTo>
                  <a:lnTo>
                    <a:pt x="0" y="802"/>
                  </a:lnTo>
                  <a:lnTo>
                    <a:pt x="0" y="805"/>
                  </a:lnTo>
                  <a:lnTo>
                    <a:pt x="0" y="807"/>
                  </a:lnTo>
                  <a:lnTo>
                    <a:pt x="0" y="808"/>
                  </a:lnTo>
                  <a:lnTo>
                    <a:pt x="0" y="810"/>
                  </a:lnTo>
                  <a:lnTo>
                    <a:pt x="0" y="811"/>
                  </a:lnTo>
                  <a:lnTo>
                    <a:pt x="21" y="812"/>
                  </a:lnTo>
                  <a:lnTo>
                    <a:pt x="21" y="793"/>
                  </a:lnTo>
                  <a:lnTo>
                    <a:pt x="21" y="744"/>
                  </a:lnTo>
                  <a:lnTo>
                    <a:pt x="21" y="673"/>
                  </a:lnTo>
                  <a:lnTo>
                    <a:pt x="19" y="592"/>
                  </a:lnTo>
                  <a:lnTo>
                    <a:pt x="19" y="511"/>
                  </a:lnTo>
                  <a:lnTo>
                    <a:pt x="19" y="441"/>
                  </a:lnTo>
                  <a:lnTo>
                    <a:pt x="19" y="389"/>
                  </a:lnTo>
                  <a:lnTo>
                    <a:pt x="19" y="368"/>
                  </a:lnTo>
                  <a:lnTo>
                    <a:pt x="19" y="352"/>
                  </a:lnTo>
                  <a:lnTo>
                    <a:pt x="23" y="314"/>
                  </a:lnTo>
                  <a:lnTo>
                    <a:pt x="28" y="260"/>
                  </a:lnTo>
                  <a:lnTo>
                    <a:pt x="35" y="200"/>
                  </a:lnTo>
                  <a:lnTo>
                    <a:pt x="40" y="140"/>
                  </a:lnTo>
                  <a:lnTo>
                    <a:pt x="46" y="87"/>
                  </a:lnTo>
                  <a:lnTo>
                    <a:pt x="49" y="49"/>
                  </a:lnTo>
                  <a:lnTo>
                    <a:pt x="53" y="32"/>
                  </a:lnTo>
                  <a:lnTo>
                    <a:pt x="53" y="30"/>
                  </a:lnTo>
                  <a:lnTo>
                    <a:pt x="54" y="25"/>
                  </a:lnTo>
                  <a:lnTo>
                    <a:pt x="56" y="20"/>
                  </a:lnTo>
                  <a:lnTo>
                    <a:pt x="60" y="14"/>
                  </a:lnTo>
                  <a:lnTo>
                    <a:pt x="62" y="9"/>
                  </a:lnTo>
                  <a:lnTo>
                    <a:pt x="63" y="5"/>
                  </a:lnTo>
                  <a:lnTo>
                    <a:pt x="65" y="1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43960" y="5950800"/>
              <a:ext cx="454320" cy="471240"/>
            </a:xfrm>
            <a:custGeom>
              <a:avLst/>
              <a:gdLst/>
              <a:ahLst/>
              <a:rect l="l" t="t" r="r" b="b"/>
              <a:pathLst>
                <a:path w="123" h="201">
                  <a:moveTo>
                    <a:pt x="19" y="21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10"/>
                  </a:lnTo>
                  <a:lnTo>
                    <a:pt x="1" y="17"/>
                  </a:lnTo>
                  <a:lnTo>
                    <a:pt x="3" y="27"/>
                  </a:lnTo>
                  <a:lnTo>
                    <a:pt x="3" y="38"/>
                  </a:lnTo>
                  <a:lnTo>
                    <a:pt x="5" y="51"/>
                  </a:lnTo>
                  <a:lnTo>
                    <a:pt x="5" y="65"/>
                  </a:lnTo>
                  <a:lnTo>
                    <a:pt x="5" y="82"/>
                  </a:lnTo>
                  <a:lnTo>
                    <a:pt x="7" y="97"/>
                  </a:lnTo>
                  <a:lnTo>
                    <a:pt x="7" y="112"/>
                  </a:lnTo>
                  <a:lnTo>
                    <a:pt x="7" y="125"/>
                  </a:lnTo>
                  <a:lnTo>
                    <a:pt x="5" y="137"/>
                  </a:lnTo>
                  <a:lnTo>
                    <a:pt x="5" y="145"/>
                  </a:lnTo>
                  <a:lnTo>
                    <a:pt x="5" y="151"/>
                  </a:lnTo>
                  <a:lnTo>
                    <a:pt x="5" y="154"/>
                  </a:lnTo>
                  <a:lnTo>
                    <a:pt x="7" y="154"/>
                  </a:lnTo>
                  <a:lnTo>
                    <a:pt x="9" y="156"/>
                  </a:lnTo>
                  <a:lnTo>
                    <a:pt x="12" y="158"/>
                  </a:lnTo>
                  <a:lnTo>
                    <a:pt x="17" y="162"/>
                  </a:lnTo>
                  <a:lnTo>
                    <a:pt x="23" y="166"/>
                  </a:lnTo>
                  <a:lnTo>
                    <a:pt x="30" y="169"/>
                  </a:lnTo>
                  <a:lnTo>
                    <a:pt x="35" y="173"/>
                  </a:lnTo>
                  <a:lnTo>
                    <a:pt x="42" y="175"/>
                  </a:lnTo>
                  <a:lnTo>
                    <a:pt x="49" y="177"/>
                  </a:lnTo>
                  <a:lnTo>
                    <a:pt x="62" y="181"/>
                  </a:lnTo>
                  <a:lnTo>
                    <a:pt x="74" y="186"/>
                  </a:lnTo>
                  <a:lnTo>
                    <a:pt x="88" y="191"/>
                  </a:lnTo>
                  <a:lnTo>
                    <a:pt x="102" y="194"/>
                  </a:lnTo>
                  <a:lnTo>
                    <a:pt x="113" y="198"/>
                  </a:lnTo>
                  <a:lnTo>
                    <a:pt x="120" y="200"/>
                  </a:lnTo>
                  <a:lnTo>
                    <a:pt x="123" y="201"/>
                  </a:lnTo>
                  <a:lnTo>
                    <a:pt x="111" y="44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47200" y="5960160"/>
              <a:ext cx="380520" cy="444960"/>
            </a:xfrm>
            <a:custGeom>
              <a:avLst/>
              <a:gdLst/>
              <a:ahLst/>
              <a:rect l="l" t="t" r="r" b="b"/>
              <a:pathLst>
                <a:path w="103" h="190">
                  <a:moveTo>
                    <a:pt x="15" y="19"/>
                  </a:moveTo>
                  <a:lnTo>
                    <a:pt x="13" y="17"/>
                  </a:lnTo>
                  <a:lnTo>
                    <a:pt x="11" y="15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7"/>
                  </a:lnTo>
                  <a:lnTo>
                    <a:pt x="4" y="5"/>
                  </a:lnTo>
                  <a:lnTo>
                    <a:pt x="2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2" y="45"/>
                  </a:lnTo>
                  <a:lnTo>
                    <a:pt x="4" y="56"/>
                  </a:lnTo>
                  <a:lnTo>
                    <a:pt x="4" y="71"/>
                  </a:lnTo>
                  <a:lnTo>
                    <a:pt x="4" y="86"/>
                  </a:lnTo>
                  <a:lnTo>
                    <a:pt x="4" y="102"/>
                  </a:lnTo>
                  <a:lnTo>
                    <a:pt x="4" y="116"/>
                  </a:lnTo>
                  <a:lnTo>
                    <a:pt x="2" y="129"/>
                  </a:lnTo>
                  <a:lnTo>
                    <a:pt x="2" y="140"/>
                  </a:lnTo>
                  <a:lnTo>
                    <a:pt x="2" y="147"/>
                  </a:lnTo>
                  <a:lnTo>
                    <a:pt x="2" y="150"/>
                  </a:lnTo>
                  <a:lnTo>
                    <a:pt x="2" y="151"/>
                  </a:lnTo>
                  <a:lnTo>
                    <a:pt x="6" y="152"/>
                  </a:lnTo>
                  <a:lnTo>
                    <a:pt x="8" y="154"/>
                  </a:lnTo>
                  <a:lnTo>
                    <a:pt x="13" y="157"/>
                  </a:lnTo>
                  <a:lnTo>
                    <a:pt x="18" y="160"/>
                  </a:lnTo>
                  <a:lnTo>
                    <a:pt x="22" y="163"/>
                  </a:lnTo>
                  <a:lnTo>
                    <a:pt x="27" y="166"/>
                  </a:lnTo>
                  <a:lnTo>
                    <a:pt x="32" y="169"/>
                  </a:lnTo>
                  <a:lnTo>
                    <a:pt x="39" y="171"/>
                  </a:lnTo>
                  <a:lnTo>
                    <a:pt x="50" y="173"/>
                  </a:lnTo>
                  <a:lnTo>
                    <a:pt x="61" y="177"/>
                  </a:lnTo>
                  <a:lnTo>
                    <a:pt x="73" y="182"/>
                  </a:lnTo>
                  <a:lnTo>
                    <a:pt x="83" y="184"/>
                  </a:lnTo>
                  <a:lnTo>
                    <a:pt x="94" y="188"/>
                  </a:lnTo>
                  <a:lnTo>
                    <a:pt x="99" y="190"/>
                  </a:lnTo>
                  <a:lnTo>
                    <a:pt x="103" y="190"/>
                  </a:lnTo>
                  <a:lnTo>
                    <a:pt x="101" y="171"/>
                  </a:lnTo>
                  <a:lnTo>
                    <a:pt x="101" y="152"/>
                  </a:lnTo>
                  <a:lnTo>
                    <a:pt x="99" y="133"/>
                  </a:lnTo>
                  <a:lnTo>
                    <a:pt x="98" y="115"/>
                  </a:lnTo>
                  <a:lnTo>
                    <a:pt x="98" y="96"/>
                  </a:lnTo>
                  <a:lnTo>
                    <a:pt x="96" y="77"/>
                  </a:lnTo>
                  <a:lnTo>
                    <a:pt x="96" y="58"/>
                  </a:lnTo>
                  <a:lnTo>
                    <a:pt x="94" y="39"/>
                  </a:lnTo>
                  <a:lnTo>
                    <a:pt x="83" y="36"/>
                  </a:lnTo>
                  <a:lnTo>
                    <a:pt x="75" y="34"/>
                  </a:lnTo>
                  <a:lnTo>
                    <a:pt x="64" y="31"/>
                  </a:lnTo>
                  <a:lnTo>
                    <a:pt x="55" y="29"/>
                  </a:lnTo>
                  <a:lnTo>
                    <a:pt x="45" y="27"/>
                  </a:lnTo>
                  <a:lnTo>
                    <a:pt x="34" y="24"/>
                  </a:lnTo>
                  <a:lnTo>
                    <a:pt x="25" y="22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47200" y="5972040"/>
              <a:ext cx="306720" cy="419400"/>
            </a:xfrm>
            <a:custGeom>
              <a:avLst/>
              <a:gdLst/>
              <a:ahLst/>
              <a:rect l="l" t="t" r="r" b="b"/>
              <a:pathLst>
                <a:path w="83" h="179">
                  <a:moveTo>
                    <a:pt x="13" y="16"/>
                  </a:moveTo>
                  <a:lnTo>
                    <a:pt x="11" y="13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2" y="37"/>
                  </a:lnTo>
                  <a:lnTo>
                    <a:pt x="2" y="47"/>
                  </a:lnTo>
                  <a:lnTo>
                    <a:pt x="4" y="60"/>
                  </a:lnTo>
                  <a:lnTo>
                    <a:pt x="4" y="74"/>
                  </a:lnTo>
                  <a:lnTo>
                    <a:pt x="2" y="91"/>
                  </a:lnTo>
                  <a:lnTo>
                    <a:pt x="2" y="108"/>
                  </a:lnTo>
                  <a:lnTo>
                    <a:pt x="2" y="122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7"/>
                  </a:lnTo>
                  <a:lnTo>
                    <a:pt x="6" y="149"/>
                  </a:lnTo>
                  <a:lnTo>
                    <a:pt x="9" y="152"/>
                  </a:lnTo>
                  <a:lnTo>
                    <a:pt x="13" y="154"/>
                  </a:lnTo>
                  <a:lnTo>
                    <a:pt x="16" y="157"/>
                  </a:lnTo>
                  <a:lnTo>
                    <a:pt x="22" y="159"/>
                  </a:lnTo>
                  <a:lnTo>
                    <a:pt x="25" y="160"/>
                  </a:lnTo>
                  <a:lnTo>
                    <a:pt x="30" y="163"/>
                  </a:lnTo>
                  <a:lnTo>
                    <a:pt x="39" y="165"/>
                  </a:lnTo>
                  <a:lnTo>
                    <a:pt x="48" y="168"/>
                  </a:lnTo>
                  <a:lnTo>
                    <a:pt x="59" y="171"/>
                  </a:lnTo>
                  <a:lnTo>
                    <a:pt x="68" y="174"/>
                  </a:lnTo>
                  <a:lnTo>
                    <a:pt x="75" y="177"/>
                  </a:lnTo>
                  <a:lnTo>
                    <a:pt x="82" y="178"/>
                  </a:lnTo>
                  <a:lnTo>
                    <a:pt x="83" y="179"/>
                  </a:lnTo>
                  <a:lnTo>
                    <a:pt x="82" y="160"/>
                  </a:lnTo>
                  <a:lnTo>
                    <a:pt x="82" y="142"/>
                  </a:lnTo>
                  <a:lnTo>
                    <a:pt x="82" y="124"/>
                  </a:lnTo>
                  <a:lnTo>
                    <a:pt x="80" y="105"/>
                  </a:lnTo>
                  <a:lnTo>
                    <a:pt x="80" y="87"/>
                  </a:lnTo>
                  <a:lnTo>
                    <a:pt x="78" y="68"/>
                  </a:lnTo>
                  <a:lnTo>
                    <a:pt x="78" y="50"/>
                  </a:lnTo>
                  <a:lnTo>
                    <a:pt x="78" y="32"/>
                  </a:lnTo>
                  <a:lnTo>
                    <a:pt x="69" y="30"/>
                  </a:lnTo>
                  <a:lnTo>
                    <a:pt x="61" y="28"/>
                  </a:lnTo>
                  <a:lnTo>
                    <a:pt x="53" y="25"/>
                  </a:lnTo>
                  <a:lnTo>
                    <a:pt x="45" y="24"/>
                  </a:lnTo>
                  <a:lnTo>
                    <a:pt x="38" y="22"/>
                  </a:lnTo>
                  <a:lnTo>
                    <a:pt x="29" y="19"/>
                  </a:lnTo>
                  <a:lnTo>
                    <a:pt x="20" y="18"/>
                  </a:lnTo>
                  <a:lnTo>
                    <a:pt x="13" y="16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43960" y="5985720"/>
              <a:ext cx="239760" cy="389160"/>
            </a:xfrm>
            <a:custGeom>
              <a:avLst/>
              <a:gdLst/>
              <a:ahLst/>
              <a:rect l="l" t="t" r="r" b="b"/>
              <a:pathLst>
                <a:path w="65" h="166">
                  <a:moveTo>
                    <a:pt x="10" y="12"/>
                  </a:moveTo>
                  <a:lnTo>
                    <a:pt x="10" y="10"/>
                  </a:lnTo>
                  <a:lnTo>
                    <a:pt x="9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5" y="4"/>
                  </a:lnTo>
                  <a:lnTo>
                    <a:pt x="3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1" y="10"/>
                  </a:lnTo>
                  <a:lnTo>
                    <a:pt x="1" y="14"/>
                  </a:lnTo>
                  <a:lnTo>
                    <a:pt x="3" y="20"/>
                  </a:lnTo>
                  <a:lnTo>
                    <a:pt x="3" y="28"/>
                  </a:lnTo>
                  <a:lnTo>
                    <a:pt x="3" y="36"/>
                  </a:lnTo>
                  <a:lnTo>
                    <a:pt x="3" y="47"/>
                  </a:lnTo>
                  <a:lnTo>
                    <a:pt x="3" y="62"/>
                  </a:lnTo>
                  <a:lnTo>
                    <a:pt x="3" y="79"/>
                  </a:lnTo>
                  <a:lnTo>
                    <a:pt x="1" y="97"/>
                  </a:lnTo>
                  <a:lnTo>
                    <a:pt x="1" y="114"/>
                  </a:lnTo>
                  <a:lnTo>
                    <a:pt x="0" y="127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1"/>
                  </a:lnTo>
                  <a:lnTo>
                    <a:pt x="1" y="142"/>
                  </a:lnTo>
                  <a:lnTo>
                    <a:pt x="3" y="143"/>
                  </a:lnTo>
                  <a:lnTo>
                    <a:pt x="7" y="145"/>
                  </a:lnTo>
                  <a:lnTo>
                    <a:pt x="9" y="147"/>
                  </a:lnTo>
                  <a:lnTo>
                    <a:pt x="12" y="149"/>
                  </a:lnTo>
                  <a:lnTo>
                    <a:pt x="16" y="151"/>
                  </a:lnTo>
                  <a:lnTo>
                    <a:pt x="19" y="152"/>
                  </a:lnTo>
                  <a:lnTo>
                    <a:pt x="24" y="154"/>
                  </a:lnTo>
                  <a:lnTo>
                    <a:pt x="30" y="155"/>
                  </a:lnTo>
                  <a:lnTo>
                    <a:pt x="37" y="158"/>
                  </a:lnTo>
                  <a:lnTo>
                    <a:pt x="46" y="160"/>
                  </a:lnTo>
                  <a:lnTo>
                    <a:pt x="53" y="162"/>
                  </a:lnTo>
                  <a:lnTo>
                    <a:pt x="58" y="165"/>
                  </a:lnTo>
                  <a:lnTo>
                    <a:pt x="63" y="166"/>
                  </a:lnTo>
                  <a:lnTo>
                    <a:pt x="65" y="166"/>
                  </a:lnTo>
                  <a:lnTo>
                    <a:pt x="63" y="148"/>
                  </a:lnTo>
                  <a:lnTo>
                    <a:pt x="63" y="131"/>
                  </a:lnTo>
                  <a:lnTo>
                    <a:pt x="63" y="114"/>
                  </a:lnTo>
                  <a:lnTo>
                    <a:pt x="63" y="96"/>
                  </a:lnTo>
                  <a:lnTo>
                    <a:pt x="63" y="78"/>
                  </a:lnTo>
                  <a:lnTo>
                    <a:pt x="63" y="60"/>
                  </a:lnTo>
                  <a:lnTo>
                    <a:pt x="62" y="42"/>
                  </a:lnTo>
                  <a:lnTo>
                    <a:pt x="62" y="24"/>
                  </a:lnTo>
                  <a:lnTo>
                    <a:pt x="56" y="23"/>
                  </a:lnTo>
                  <a:lnTo>
                    <a:pt x="49" y="20"/>
                  </a:lnTo>
                  <a:lnTo>
                    <a:pt x="42" y="19"/>
                  </a:lnTo>
                  <a:lnTo>
                    <a:pt x="37" y="18"/>
                  </a:lnTo>
                  <a:lnTo>
                    <a:pt x="30" y="16"/>
                  </a:lnTo>
                  <a:lnTo>
                    <a:pt x="24" y="14"/>
                  </a:lnTo>
                  <a:lnTo>
                    <a:pt x="17" y="13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36400" y="5997600"/>
              <a:ext cx="176760" cy="363600"/>
            </a:xfrm>
            <a:custGeom>
              <a:avLst/>
              <a:gdLst/>
              <a:ahLst/>
              <a:rect l="l" t="t" r="r" b="b"/>
              <a:pathLst>
                <a:path w="48" h="155">
                  <a:moveTo>
                    <a:pt x="11" y="8"/>
                  </a:moveTo>
                  <a:lnTo>
                    <a:pt x="9" y="7"/>
                  </a:lnTo>
                  <a:lnTo>
                    <a:pt x="9" y="6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5" y="20"/>
                  </a:lnTo>
                  <a:lnTo>
                    <a:pt x="5" y="26"/>
                  </a:lnTo>
                  <a:lnTo>
                    <a:pt x="5" y="36"/>
                  </a:lnTo>
                  <a:lnTo>
                    <a:pt x="3" y="50"/>
                  </a:lnTo>
                  <a:lnTo>
                    <a:pt x="3" y="68"/>
                  </a:lnTo>
                  <a:lnTo>
                    <a:pt x="2" y="87"/>
                  </a:lnTo>
                  <a:lnTo>
                    <a:pt x="2" y="105"/>
                  </a:lnTo>
                  <a:lnTo>
                    <a:pt x="0" y="122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2" y="138"/>
                  </a:lnTo>
                  <a:lnTo>
                    <a:pt x="3" y="140"/>
                  </a:lnTo>
                  <a:lnTo>
                    <a:pt x="7" y="141"/>
                  </a:lnTo>
                  <a:lnTo>
                    <a:pt x="9" y="142"/>
                  </a:lnTo>
                  <a:lnTo>
                    <a:pt x="12" y="143"/>
                  </a:lnTo>
                  <a:lnTo>
                    <a:pt x="14" y="144"/>
                  </a:lnTo>
                  <a:lnTo>
                    <a:pt x="18" y="146"/>
                  </a:lnTo>
                  <a:lnTo>
                    <a:pt x="21" y="147"/>
                  </a:lnTo>
                  <a:lnTo>
                    <a:pt x="26" y="149"/>
                  </a:lnTo>
                  <a:lnTo>
                    <a:pt x="33" y="150"/>
                  </a:lnTo>
                  <a:lnTo>
                    <a:pt x="37" y="153"/>
                  </a:lnTo>
                  <a:lnTo>
                    <a:pt x="42" y="154"/>
                  </a:lnTo>
                  <a:lnTo>
                    <a:pt x="46" y="155"/>
                  </a:lnTo>
                  <a:lnTo>
                    <a:pt x="46" y="155"/>
                  </a:lnTo>
                  <a:lnTo>
                    <a:pt x="46" y="137"/>
                  </a:lnTo>
                  <a:lnTo>
                    <a:pt x="48" y="120"/>
                  </a:lnTo>
                  <a:lnTo>
                    <a:pt x="48" y="104"/>
                  </a:lnTo>
                  <a:lnTo>
                    <a:pt x="48" y="86"/>
                  </a:lnTo>
                  <a:lnTo>
                    <a:pt x="48" y="69"/>
                  </a:lnTo>
                  <a:lnTo>
                    <a:pt x="48" y="51"/>
                  </a:lnTo>
                  <a:lnTo>
                    <a:pt x="48" y="34"/>
                  </a:lnTo>
                  <a:lnTo>
                    <a:pt x="48" y="18"/>
                  </a:lnTo>
                  <a:lnTo>
                    <a:pt x="42" y="17"/>
                  </a:lnTo>
                  <a:lnTo>
                    <a:pt x="39" y="15"/>
                  </a:lnTo>
                  <a:lnTo>
                    <a:pt x="33" y="14"/>
                  </a:lnTo>
                  <a:lnTo>
                    <a:pt x="28" y="13"/>
                  </a:lnTo>
                  <a:lnTo>
                    <a:pt x="25" y="12"/>
                  </a:lnTo>
                  <a:lnTo>
                    <a:pt x="19" y="11"/>
                  </a:lnTo>
                  <a:lnTo>
                    <a:pt x="14" y="9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28840" y="6009120"/>
              <a:ext cx="125640" cy="335520"/>
            </a:xfrm>
            <a:custGeom>
              <a:avLst/>
              <a:gdLst/>
              <a:ahLst/>
              <a:rect l="l" t="t" r="r" b="b"/>
              <a:pathLst>
                <a:path w="34" h="143">
                  <a:moveTo>
                    <a:pt x="9" y="4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13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39"/>
                  </a:lnTo>
                  <a:lnTo>
                    <a:pt x="4" y="57"/>
                  </a:lnTo>
                  <a:lnTo>
                    <a:pt x="4" y="77"/>
                  </a:lnTo>
                  <a:lnTo>
                    <a:pt x="2" y="98"/>
                  </a:lnTo>
                  <a:lnTo>
                    <a:pt x="0" y="115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2" y="133"/>
                  </a:lnTo>
                  <a:lnTo>
                    <a:pt x="2" y="133"/>
                  </a:lnTo>
                  <a:lnTo>
                    <a:pt x="4" y="135"/>
                  </a:lnTo>
                  <a:lnTo>
                    <a:pt x="5" y="136"/>
                  </a:lnTo>
                  <a:lnTo>
                    <a:pt x="7" y="136"/>
                  </a:lnTo>
                  <a:lnTo>
                    <a:pt x="9" y="137"/>
                  </a:lnTo>
                  <a:lnTo>
                    <a:pt x="11" y="138"/>
                  </a:lnTo>
                  <a:lnTo>
                    <a:pt x="13" y="138"/>
                  </a:lnTo>
                  <a:lnTo>
                    <a:pt x="16" y="139"/>
                  </a:lnTo>
                  <a:lnTo>
                    <a:pt x="20" y="141"/>
                  </a:lnTo>
                  <a:lnTo>
                    <a:pt x="23" y="142"/>
                  </a:lnTo>
                  <a:lnTo>
                    <a:pt x="27" y="143"/>
                  </a:lnTo>
                  <a:lnTo>
                    <a:pt x="28" y="143"/>
                  </a:lnTo>
                  <a:lnTo>
                    <a:pt x="28" y="143"/>
                  </a:lnTo>
                  <a:lnTo>
                    <a:pt x="34" y="10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31840" y="6027840"/>
              <a:ext cx="1042200" cy="384840"/>
            </a:xfrm>
            <a:custGeom>
              <a:avLst/>
              <a:gdLst/>
              <a:ahLst/>
              <a:rect l="l" t="t" r="r" b="b"/>
              <a:pathLst>
                <a:path w="282" h="164">
                  <a:moveTo>
                    <a:pt x="51" y="32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1" y="43"/>
                  </a:lnTo>
                  <a:lnTo>
                    <a:pt x="1" y="61"/>
                  </a:lnTo>
                  <a:lnTo>
                    <a:pt x="3" y="81"/>
                  </a:lnTo>
                  <a:lnTo>
                    <a:pt x="3" y="103"/>
                  </a:lnTo>
                  <a:lnTo>
                    <a:pt x="5" y="122"/>
                  </a:lnTo>
                  <a:lnTo>
                    <a:pt x="5" y="137"/>
                  </a:lnTo>
                  <a:lnTo>
                    <a:pt x="5" y="144"/>
                  </a:lnTo>
                  <a:lnTo>
                    <a:pt x="5" y="148"/>
                  </a:lnTo>
                  <a:lnTo>
                    <a:pt x="7" y="152"/>
                  </a:lnTo>
                  <a:lnTo>
                    <a:pt x="8" y="155"/>
                  </a:lnTo>
                  <a:lnTo>
                    <a:pt x="10" y="158"/>
                  </a:lnTo>
                  <a:lnTo>
                    <a:pt x="12" y="160"/>
                  </a:lnTo>
                  <a:lnTo>
                    <a:pt x="14" y="161"/>
                  </a:lnTo>
                  <a:lnTo>
                    <a:pt x="16" y="162"/>
                  </a:lnTo>
                  <a:lnTo>
                    <a:pt x="16" y="164"/>
                  </a:lnTo>
                  <a:lnTo>
                    <a:pt x="282" y="115"/>
                  </a:lnTo>
                  <a:lnTo>
                    <a:pt x="270" y="0"/>
                  </a:lnTo>
                  <a:lnTo>
                    <a:pt x="51" y="3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31840" y="6075360"/>
              <a:ext cx="1057320" cy="339840"/>
            </a:xfrm>
            <a:custGeom>
              <a:avLst/>
              <a:gdLst/>
              <a:ahLst/>
              <a:rect l="l" t="t" r="r" b="b"/>
              <a:pathLst>
                <a:path w="286" h="145">
                  <a:moveTo>
                    <a:pt x="40" y="35"/>
                  </a:moveTo>
                  <a:lnTo>
                    <a:pt x="35" y="34"/>
                  </a:lnTo>
                  <a:lnTo>
                    <a:pt x="30" y="34"/>
                  </a:lnTo>
                  <a:lnTo>
                    <a:pt x="24" y="34"/>
                  </a:lnTo>
                  <a:lnTo>
                    <a:pt x="19" y="33"/>
                  </a:lnTo>
                  <a:lnTo>
                    <a:pt x="14" y="33"/>
                  </a:lnTo>
                  <a:lnTo>
                    <a:pt x="8" y="31"/>
                  </a:lnTo>
                  <a:lnTo>
                    <a:pt x="3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1" y="60"/>
                  </a:lnTo>
                  <a:lnTo>
                    <a:pt x="1" y="77"/>
                  </a:lnTo>
                  <a:lnTo>
                    <a:pt x="3" y="95"/>
                  </a:lnTo>
                  <a:lnTo>
                    <a:pt x="5" y="111"/>
                  </a:lnTo>
                  <a:lnTo>
                    <a:pt x="5" y="123"/>
                  </a:lnTo>
                  <a:lnTo>
                    <a:pt x="5" y="129"/>
                  </a:lnTo>
                  <a:lnTo>
                    <a:pt x="7" y="133"/>
                  </a:lnTo>
                  <a:lnTo>
                    <a:pt x="7" y="135"/>
                  </a:lnTo>
                  <a:lnTo>
                    <a:pt x="8" y="138"/>
                  </a:lnTo>
                  <a:lnTo>
                    <a:pt x="10" y="140"/>
                  </a:lnTo>
                  <a:lnTo>
                    <a:pt x="12" y="142"/>
                  </a:lnTo>
                  <a:lnTo>
                    <a:pt x="14" y="144"/>
                  </a:lnTo>
                  <a:lnTo>
                    <a:pt x="16" y="145"/>
                  </a:lnTo>
                  <a:lnTo>
                    <a:pt x="16" y="145"/>
                  </a:lnTo>
                  <a:lnTo>
                    <a:pt x="49" y="139"/>
                  </a:lnTo>
                  <a:lnTo>
                    <a:pt x="83" y="133"/>
                  </a:lnTo>
                  <a:lnTo>
                    <a:pt x="116" y="127"/>
                  </a:lnTo>
                  <a:lnTo>
                    <a:pt x="150" y="120"/>
                  </a:lnTo>
                  <a:lnTo>
                    <a:pt x="183" y="114"/>
                  </a:lnTo>
                  <a:lnTo>
                    <a:pt x="217" y="108"/>
                  </a:lnTo>
                  <a:lnTo>
                    <a:pt x="250" y="102"/>
                  </a:lnTo>
                  <a:lnTo>
                    <a:pt x="286" y="95"/>
                  </a:lnTo>
                  <a:lnTo>
                    <a:pt x="284" y="83"/>
                  </a:lnTo>
                  <a:lnTo>
                    <a:pt x="282" y="71"/>
                  </a:lnTo>
                  <a:lnTo>
                    <a:pt x="282" y="59"/>
                  </a:lnTo>
                  <a:lnTo>
                    <a:pt x="280" y="48"/>
                  </a:lnTo>
                  <a:lnTo>
                    <a:pt x="279" y="36"/>
                  </a:lnTo>
                  <a:lnTo>
                    <a:pt x="277" y="24"/>
                  </a:lnTo>
                  <a:lnTo>
                    <a:pt x="277" y="12"/>
                  </a:lnTo>
                  <a:lnTo>
                    <a:pt x="275" y="0"/>
                  </a:lnTo>
                  <a:lnTo>
                    <a:pt x="245" y="4"/>
                  </a:lnTo>
                  <a:lnTo>
                    <a:pt x="217" y="9"/>
                  </a:lnTo>
                  <a:lnTo>
                    <a:pt x="187" y="13"/>
                  </a:lnTo>
                  <a:lnTo>
                    <a:pt x="157" y="17"/>
                  </a:lnTo>
                  <a:lnTo>
                    <a:pt x="129" y="22"/>
                  </a:lnTo>
                  <a:lnTo>
                    <a:pt x="99" y="25"/>
                  </a:lnTo>
                  <a:lnTo>
                    <a:pt x="69" y="30"/>
                  </a:lnTo>
                  <a:lnTo>
                    <a:pt x="40" y="35"/>
                  </a:lnTo>
                  <a:close/>
                </a:path>
              </a:pathLst>
            </a:custGeom>
            <a:solidFill>
              <a:srgbClr val="d2d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24280" y="6119280"/>
              <a:ext cx="1072440" cy="300240"/>
            </a:xfrm>
            <a:custGeom>
              <a:avLst/>
              <a:gdLst/>
              <a:ahLst/>
              <a:rect l="l" t="t" r="r" b="b"/>
              <a:pathLst>
                <a:path w="290" h="128">
                  <a:moveTo>
                    <a:pt x="32" y="37"/>
                  </a:moveTo>
                  <a:lnTo>
                    <a:pt x="28" y="37"/>
                  </a:lnTo>
                  <a:lnTo>
                    <a:pt x="23" y="37"/>
                  </a:lnTo>
                  <a:lnTo>
                    <a:pt x="19" y="37"/>
                  </a:lnTo>
                  <a:lnTo>
                    <a:pt x="16" y="37"/>
                  </a:lnTo>
                  <a:lnTo>
                    <a:pt x="12" y="37"/>
                  </a:lnTo>
                  <a:lnTo>
                    <a:pt x="7" y="37"/>
                  </a:lnTo>
                  <a:lnTo>
                    <a:pt x="3" y="37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2" y="60"/>
                  </a:lnTo>
                  <a:lnTo>
                    <a:pt x="3" y="74"/>
                  </a:lnTo>
                  <a:lnTo>
                    <a:pt x="5" y="88"/>
                  </a:lnTo>
                  <a:lnTo>
                    <a:pt x="7" y="101"/>
                  </a:lnTo>
                  <a:lnTo>
                    <a:pt x="7" y="110"/>
                  </a:lnTo>
                  <a:lnTo>
                    <a:pt x="9" y="115"/>
                  </a:lnTo>
                  <a:lnTo>
                    <a:pt x="9" y="117"/>
                  </a:lnTo>
                  <a:lnTo>
                    <a:pt x="9" y="120"/>
                  </a:lnTo>
                  <a:lnTo>
                    <a:pt x="10" y="122"/>
                  </a:lnTo>
                  <a:lnTo>
                    <a:pt x="12" y="125"/>
                  </a:lnTo>
                  <a:lnTo>
                    <a:pt x="14" y="126"/>
                  </a:lnTo>
                  <a:lnTo>
                    <a:pt x="14" y="127"/>
                  </a:lnTo>
                  <a:lnTo>
                    <a:pt x="16" y="128"/>
                  </a:lnTo>
                  <a:lnTo>
                    <a:pt x="16" y="128"/>
                  </a:lnTo>
                  <a:lnTo>
                    <a:pt x="49" y="122"/>
                  </a:lnTo>
                  <a:lnTo>
                    <a:pt x="85" y="115"/>
                  </a:lnTo>
                  <a:lnTo>
                    <a:pt x="118" y="109"/>
                  </a:lnTo>
                  <a:lnTo>
                    <a:pt x="154" y="103"/>
                  </a:lnTo>
                  <a:lnTo>
                    <a:pt x="187" y="96"/>
                  </a:lnTo>
                  <a:lnTo>
                    <a:pt x="221" y="90"/>
                  </a:lnTo>
                  <a:lnTo>
                    <a:pt x="256" y="84"/>
                  </a:lnTo>
                  <a:lnTo>
                    <a:pt x="290" y="77"/>
                  </a:lnTo>
                  <a:lnTo>
                    <a:pt x="290" y="67"/>
                  </a:lnTo>
                  <a:lnTo>
                    <a:pt x="288" y="58"/>
                  </a:lnTo>
                  <a:lnTo>
                    <a:pt x="288" y="48"/>
                  </a:lnTo>
                  <a:lnTo>
                    <a:pt x="286" y="39"/>
                  </a:lnTo>
                  <a:lnTo>
                    <a:pt x="284" y="29"/>
                  </a:lnTo>
                  <a:lnTo>
                    <a:pt x="284" y="20"/>
                  </a:lnTo>
                  <a:lnTo>
                    <a:pt x="282" y="10"/>
                  </a:lnTo>
                  <a:lnTo>
                    <a:pt x="282" y="0"/>
                  </a:lnTo>
                  <a:lnTo>
                    <a:pt x="251" y="5"/>
                  </a:lnTo>
                  <a:lnTo>
                    <a:pt x="219" y="10"/>
                  </a:lnTo>
                  <a:lnTo>
                    <a:pt x="189" y="14"/>
                  </a:lnTo>
                  <a:lnTo>
                    <a:pt x="157" y="18"/>
                  </a:lnTo>
                  <a:lnTo>
                    <a:pt x="125" y="23"/>
                  </a:lnTo>
                  <a:lnTo>
                    <a:pt x="93" y="28"/>
                  </a:lnTo>
                  <a:lnTo>
                    <a:pt x="63" y="33"/>
                  </a:lnTo>
                  <a:lnTo>
                    <a:pt x="32" y="3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516720" y="6166800"/>
              <a:ext cx="1090800" cy="259920"/>
            </a:xfrm>
            <a:custGeom>
              <a:avLst/>
              <a:gdLst/>
              <a:ahLst/>
              <a:rect l="l" t="t" r="r" b="b"/>
              <a:pathLst>
                <a:path w="295" h="111">
                  <a:moveTo>
                    <a:pt x="23" y="39"/>
                  </a:moveTo>
                  <a:lnTo>
                    <a:pt x="20" y="40"/>
                  </a:lnTo>
                  <a:lnTo>
                    <a:pt x="18" y="40"/>
                  </a:lnTo>
                  <a:lnTo>
                    <a:pt x="14" y="41"/>
                  </a:lnTo>
                  <a:lnTo>
                    <a:pt x="11" y="41"/>
                  </a:lnTo>
                  <a:lnTo>
                    <a:pt x="9" y="41"/>
                  </a:lnTo>
                  <a:lnTo>
                    <a:pt x="5" y="42"/>
                  </a:lnTo>
                  <a:lnTo>
                    <a:pt x="2" y="42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2" y="51"/>
                  </a:lnTo>
                  <a:lnTo>
                    <a:pt x="4" y="60"/>
                  </a:lnTo>
                  <a:lnTo>
                    <a:pt x="5" y="70"/>
                  </a:lnTo>
                  <a:lnTo>
                    <a:pt x="7" y="80"/>
                  </a:lnTo>
                  <a:lnTo>
                    <a:pt x="9" y="89"/>
                  </a:lnTo>
                  <a:lnTo>
                    <a:pt x="11" y="96"/>
                  </a:lnTo>
                  <a:lnTo>
                    <a:pt x="11" y="100"/>
                  </a:lnTo>
                  <a:lnTo>
                    <a:pt x="11" y="102"/>
                  </a:lnTo>
                  <a:lnTo>
                    <a:pt x="11" y="103"/>
                  </a:lnTo>
                  <a:lnTo>
                    <a:pt x="12" y="106"/>
                  </a:lnTo>
                  <a:lnTo>
                    <a:pt x="14" y="107"/>
                  </a:lnTo>
                  <a:lnTo>
                    <a:pt x="14" y="108"/>
                  </a:lnTo>
                  <a:lnTo>
                    <a:pt x="16" y="109"/>
                  </a:lnTo>
                  <a:lnTo>
                    <a:pt x="16" y="109"/>
                  </a:lnTo>
                  <a:lnTo>
                    <a:pt x="16" y="111"/>
                  </a:lnTo>
                  <a:lnTo>
                    <a:pt x="51" y="103"/>
                  </a:lnTo>
                  <a:lnTo>
                    <a:pt x="87" y="97"/>
                  </a:lnTo>
                  <a:lnTo>
                    <a:pt x="120" y="90"/>
                  </a:lnTo>
                  <a:lnTo>
                    <a:pt x="156" y="84"/>
                  </a:lnTo>
                  <a:lnTo>
                    <a:pt x="191" y="77"/>
                  </a:lnTo>
                  <a:lnTo>
                    <a:pt x="226" y="71"/>
                  </a:lnTo>
                  <a:lnTo>
                    <a:pt x="260" y="65"/>
                  </a:lnTo>
                  <a:lnTo>
                    <a:pt x="295" y="58"/>
                  </a:lnTo>
                  <a:lnTo>
                    <a:pt x="293" y="51"/>
                  </a:lnTo>
                  <a:lnTo>
                    <a:pt x="293" y="44"/>
                  </a:lnTo>
                  <a:lnTo>
                    <a:pt x="293" y="37"/>
                  </a:lnTo>
                  <a:lnTo>
                    <a:pt x="292" y="28"/>
                  </a:lnTo>
                  <a:lnTo>
                    <a:pt x="292" y="21"/>
                  </a:lnTo>
                  <a:lnTo>
                    <a:pt x="290" y="14"/>
                  </a:lnTo>
                  <a:lnTo>
                    <a:pt x="290" y="7"/>
                  </a:lnTo>
                  <a:lnTo>
                    <a:pt x="288" y="0"/>
                  </a:lnTo>
                  <a:lnTo>
                    <a:pt x="256" y="4"/>
                  </a:lnTo>
                  <a:lnTo>
                    <a:pt x="223" y="9"/>
                  </a:lnTo>
                  <a:lnTo>
                    <a:pt x="189" y="14"/>
                  </a:lnTo>
                  <a:lnTo>
                    <a:pt x="156" y="20"/>
                  </a:lnTo>
                  <a:lnTo>
                    <a:pt x="122" y="25"/>
                  </a:lnTo>
                  <a:lnTo>
                    <a:pt x="90" y="29"/>
                  </a:lnTo>
                  <a:lnTo>
                    <a:pt x="57" y="34"/>
                  </a:lnTo>
                  <a:lnTo>
                    <a:pt x="23" y="39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509160" y="6210720"/>
              <a:ext cx="1113480" cy="217800"/>
            </a:xfrm>
            <a:custGeom>
              <a:avLst/>
              <a:gdLst/>
              <a:ahLst/>
              <a:rect l="l" t="t" r="r" b="b"/>
              <a:pathLst>
                <a:path w="301" h="93">
                  <a:moveTo>
                    <a:pt x="14" y="41"/>
                  </a:moveTo>
                  <a:lnTo>
                    <a:pt x="13" y="43"/>
                  </a:lnTo>
                  <a:lnTo>
                    <a:pt x="11" y="44"/>
                  </a:lnTo>
                  <a:lnTo>
                    <a:pt x="9" y="45"/>
                  </a:lnTo>
                  <a:lnTo>
                    <a:pt x="7" y="46"/>
                  </a:lnTo>
                  <a:lnTo>
                    <a:pt x="6" y="47"/>
                  </a:lnTo>
                  <a:lnTo>
                    <a:pt x="4" y="49"/>
                  </a:lnTo>
                  <a:lnTo>
                    <a:pt x="2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2" y="55"/>
                  </a:lnTo>
                  <a:lnTo>
                    <a:pt x="4" y="61"/>
                  </a:lnTo>
                  <a:lnTo>
                    <a:pt x="6" y="66"/>
                  </a:lnTo>
                  <a:lnTo>
                    <a:pt x="9" y="72"/>
                  </a:lnTo>
                  <a:lnTo>
                    <a:pt x="11" y="78"/>
                  </a:lnTo>
                  <a:lnTo>
                    <a:pt x="13" y="83"/>
                  </a:lnTo>
                  <a:lnTo>
                    <a:pt x="13" y="86"/>
                  </a:lnTo>
                  <a:lnTo>
                    <a:pt x="13" y="87"/>
                  </a:lnTo>
                  <a:lnTo>
                    <a:pt x="13" y="88"/>
                  </a:lnTo>
                  <a:lnTo>
                    <a:pt x="14" y="89"/>
                  </a:lnTo>
                  <a:lnTo>
                    <a:pt x="14" y="90"/>
                  </a:lnTo>
                  <a:lnTo>
                    <a:pt x="16" y="92"/>
                  </a:lnTo>
                  <a:lnTo>
                    <a:pt x="16" y="93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53" y="87"/>
                  </a:lnTo>
                  <a:lnTo>
                    <a:pt x="89" y="80"/>
                  </a:lnTo>
                  <a:lnTo>
                    <a:pt x="124" y="74"/>
                  </a:lnTo>
                  <a:lnTo>
                    <a:pt x="159" y="66"/>
                  </a:lnTo>
                  <a:lnTo>
                    <a:pt x="195" y="61"/>
                  </a:lnTo>
                  <a:lnTo>
                    <a:pt x="230" y="53"/>
                  </a:lnTo>
                  <a:lnTo>
                    <a:pt x="265" y="46"/>
                  </a:lnTo>
                  <a:lnTo>
                    <a:pt x="301" y="40"/>
                  </a:lnTo>
                  <a:lnTo>
                    <a:pt x="299" y="35"/>
                  </a:lnTo>
                  <a:lnTo>
                    <a:pt x="299" y="29"/>
                  </a:lnTo>
                  <a:lnTo>
                    <a:pt x="299" y="25"/>
                  </a:lnTo>
                  <a:lnTo>
                    <a:pt x="297" y="20"/>
                  </a:lnTo>
                  <a:lnTo>
                    <a:pt x="297" y="15"/>
                  </a:lnTo>
                  <a:lnTo>
                    <a:pt x="297" y="9"/>
                  </a:lnTo>
                  <a:lnTo>
                    <a:pt x="295" y="4"/>
                  </a:lnTo>
                  <a:lnTo>
                    <a:pt x="295" y="0"/>
                  </a:lnTo>
                  <a:lnTo>
                    <a:pt x="260" y="4"/>
                  </a:lnTo>
                  <a:lnTo>
                    <a:pt x="225" y="10"/>
                  </a:lnTo>
                  <a:lnTo>
                    <a:pt x="189" y="15"/>
                  </a:lnTo>
                  <a:lnTo>
                    <a:pt x="156" y="21"/>
                  </a:lnTo>
                  <a:lnTo>
                    <a:pt x="120" y="26"/>
                  </a:lnTo>
                  <a:lnTo>
                    <a:pt x="85" y="32"/>
                  </a:lnTo>
                  <a:lnTo>
                    <a:pt x="50" y="37"/>
                  </a:lnTo>
                  <a:lnTo>
                    <a:pt x="14" y="41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560" y="6255360"/>
              <a:ext cx="1120320" cy="178200"/>
            </a:xfrm>
            <a:custGeom>
              <a:avLst/>
              <a:gdLst/>
              <a:ahLst/>
              <a:rect l="l" t="t" r="r" b="b"/>
              <a:pathLst>
                <a:path w="303" h="76">
                  <a:moveTo>
                    <a:pt x="5" y="45"/>
                  </a:moveTo>
                  <a:lnTo>
                    <a:pt x="0" y="57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5" y="61"/>
                  </a:lnTo>
                  <a:lnTo>
                    <a:pt x="7" y="63"/>
                  </a:lnTo>
                  <a:lnTo>
                    <a:pt x="10" y="65"/>
                  </a:lnTo>
                  <a:lnTo>
                    <a:pt x="12" y="68"/>
                  </a:lnTo>
                  <a:lnTo>
                    <a:pt x="14" y="70"/>
                  </a:lnTo>
                  <a:lnTo>
                    <a:pt x="14" y="71"/>
                  </a:lnTo>
                  <a:lnTo>
                    <a:pt x="14" y="73"/>
                  </a:lnTo>
                  <a:lnTo>
                    <a:pt x="15" y="73"/>
                  </a:lnTo>
                  <a:lnTo>
                    <a:pt x="15" y="74"/>
                  </a:lnTo>
                  <a:lnTo>
                    <a:pt x="15" y="75"/>
                  </a:lnTo>
                  <a:lnTo>
                    <a:pt x="15" y="75"/>
                  </a:lnTo>
                  <a:lnTo>
                    <a:pt x="17" y="75"/>
                  </a:lnTo>
                  <a:lnTo>
                    <a:pt x="17" y="76"/>
                  </a:lnTo>
                  <a:lnTo>
                    <a:pt x="17" y="76"/>
                  </a:lnTo>
                  <a:lnTo>
                    <a:pt x="303" y="22"/>
                  </a:lnTo>
                  <a:lnTo>
                    <a:pt x="302" y="0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70840" y="5835960"/>
              <a:ext cx="528840" cy="121680"/>
            </a:xfrm>
            <a:custGeom>
              <a:avLst/>
              <a:gdLst/>
              <a:ahLst/>
              <a:rect l="l" t="t" r="r" b="b"/>
              <a:pathLst>
                <a:path w="143" h="52">
                  <a:moveTo>
                    <a:pt x="78" y="7"/>
                  </a:moveTo>
                  <a:lnTo>
                    <a:pt x="97" y="19"/>
                  </a:lnTo>
                  <a:lnTo>
                    <a:pt x="118" y="23"/>
                  </a:lnTo>
                  <a:lnTo>
                    <a:pt x="125" y="28"/>
                  </a:lnTo>
                  <a:lnTo>
                    <a:pt x="143" y="31"/>
                  </a:lnTo>
                  <a:lnTo>
                    <a:pt x="23" y="52"/>
                  </a:lnTo>
                  <a:lnTo>
                    <a:pt x="0" y="52"/>
                  </a:lnTo>
                  <a:lnTo>
                    <a:pt x="32" y="37"/>
                  </a:lnTo>
                  <a:lnTo>
                    <a:pt x="51" y="10"/>
                  </a:lnTo>
                  <a:lnTo>
                    <a:pt x="44" y="0"/>
                  </a:lnTo>
                  <a:lnTo>
                    <a:pt x="56" y="6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11360" y="5985720"/>
              <a:ext cx="399960" cy="189720"/>
            </a:xfrm>
            <a:custGeom>
              <a:avLst/>
              <a:gdLst/>
              <a:ahLst/>
              <a:rect l="l" t="t" r="r" b="b"/>
              <a:pathLst>
                <a:path w="108" h="81">
                  <a:moveTo>
                    <a:pt x="108" y="37"/>
                  </a:moveTo>
                  <a:lnTo>
                    <a:pt x="108" y="60"/>
                  </a:lnTo>
                  <a:lnTo>
                    <a:pt x="80" y="78"/>
                  </a:lnTo>
                  <a:lnTo>
                    <a:pt x="11" y="81"/>
                  </a:lnTo>
                  <a:lnTo>
                    <a:pt x="0" y="79"/>
                  </a:lnTo>
                  <a:lnTo>
                    <a:pt x="45" y="62"/>
                  </a:lnTo>
                  <a:lnTo>
                    <a:pt x="59" y="42"/>
                  </a:lnTo>
                  <a:lnTo>
                    <a:pt x="39" y="19"/>
                  </a:lnTo>
                  <a:lnTo>
                    <a:pt x="39" y="19"/>
                  </a:lnTo>
                  <a:lnTo>
                    <a:pt x="45" y="16"/>
                  </a:lnTo>
                  <a:lnTo>
                    <a:pt x="45" y="4"/>
                  </a:lnTo>
                  <a:lnTo>
                    <a:pt x="71" y="0"/>
                  </a:lnTo>
                  <a:lnTo>
                    <a:pt x="80" y="18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33880" y="6300360"/>
              <a:ext cx="713520" cy="91440"/>
            </a:xfrm>
            <a:custGeom>
              <a:avLst/>
              <a:gdLst/>
              <a:ahLst/>
              <a:rect l="l" t="t" r="r" b="b"/>
              <a:pathLst>
                <a:path w="193" h="39">
                  <a:moveTo>
                    <a:pt x="147" y="0"/>
                  </a:moveTo>
                  <a:lnTo>
                    <a:pt x="152" y="5"/>
                  </a:lnTo>
                  <a:lnTo>
                    <a:pt x="179" y="14"/>
                  </a:lnTo>
                  <a:lnTo>
                    <a:pt x="193" y="18"/>
                  </a:lnTo>
                  <a:lnTo>
                    <a:pt x="187" y="21"/>
                  </a:lnTo>
                  <a:lnTo>
                    <a:pt x="159" y="26"/>
                  </a:lnTo>
                  <a:lnTo>
                    <a:pt x="64" y="39"/>
                  </a:lnTo>
                  <a:lnTo>
                    <a:pt x="18" y="36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14" y="12"/>
                  </a:lnTo>
                  <a:lnTo>
                    <a:pt x="30" y="11"/>
                  </a:lnTo>
                  <a:lnTo>
                    <a:pt x="46" y="11"/>
                  </a:lnTo>
                  <a:lnTo>
                    <a:pt x="60" y="11"/>
                  </a:lnTo>
                  <a:lnTo>
                    <a:pt x="73" y="11"/>
                  </a:lnTo>
                  <a:lnTo>
                    <a:pt x="81" y="11"/>
                  </a:lnTo>
                  <a:lnTo>
                    <a:pt x="88" y="12"/>
                  </a:lnTo>
                  <a:lnTo>
                    <a:pt x="90" y="12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118480" y="6422040"/>
              <a:ext cx="354600" cy="21384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50" y="24"/>
                  </a:moveTo>
                  <a:lnTo>
                    <a:pt x="78" y="40"/>
                  </a:lnTo>
                  <a:lnTo>
                    <a:pt x="96" y="59"/>
                  </a:lnTo>
                  <a:lnTo>
                    <a:pt x="92" y="70"/>
                  </a:lnTo>
                  <a:lnTo>
                    <a:pt x="78" y="83"/>
                  </a:lnTo>
                  <a:lnTo>
                    <a:pt x="46" y="91"/>
                  </a:lnTo>
                  <a:lnTo>
                    <a:pt x="23" y="91"/>
                  </a:lnTo>
                  <a:lnTo>
                    <a:pt x="0" y="83"/>
                  </a:lnTo>
                  <a:lnTo>
                    <a:pt x="4" y="83"/>
                  </a:lnTo>
                  <a:lnTo>
                    <a:pt x="5" y="83"/>
                  </a:lnTo>
                  <a:lnTo>
                    <a:pt x="9" y="83"/>
                  </a:lnTo>
                  <a:lnTo>
                    <a:pt x="13" y="83"/>
                  </a:lnTo>
                  <a:lnTo>
                    <a:pt x="14" y="83"/>
                  </a:lnTo>
                  <a:lnTo>
                    <a:pt x="18" y="83"/>
                  </a:lnTo>
                  <a:lnTo>
                    <a:pt x="20" y="83"/>
                  </a:lnTo>
                  <a:lnTo>
                    <a:pt x="23" y="83"/>
                  </a:lnTo>
                  <a:lnTo>
                    <a:pt x="32" y="82"/>
                  </a:lnTo>
                  <a:lnTo>
                    <a:pt x="41" y="82"/>
                  </a:lnTo>
                  <a:lnTo>
                    <a:pt x="46" y="79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5" y="73"/>
                  </a:lnTo>
                  <a:lnTo>
                    <a:pt x="55" y="70"/>
                  </a:lnTo>
                  <a:lnTo>
                    <a:pt x="55" y="67"/>
                  </a:lnTo>
                  <a:lnTo>
                    <a:pt x="51" y="62"/>
                  </a:lnTo>
                  <a:lnTo>
                    <a:pt x="48" y="58"/>
                  </a:lnTo>
                  <a:lnTo>
                    <a:pt x="44" y="54"/>
                  </a:lnTo>
                  <a:lnTo>
                    <a:pt x="43" y="53"/>
                  </a:lnTo>
                  <a:lnTo>
                    <a:pt x="37" y="19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50" y="24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85640" y="5964480"/>
              <a:ext cx="77040" cy="86400"/>
            </a:xfrm>
            <a:custGeom>
              <a:avLst/>
              <a:gdLst/>
              <a:ahLst/>
              <a:rect l="l" t="t" r="r" b="b"/>
              <a:pathLst>
                <a:path w="21" h="37">
                  <a:moveTo>
                    <a:pt x="21" y="31"/>
                  </a:moveTo>
                  <a:lnTo>
                    <a:pt x="4" y="34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85640" y="6082200"/>
              <a:ext cx="217800" cy="14292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59" y="37"/>
                  </a:moveTo>
                  <a:lnTo>
                    <a:pt x="59" y="40"/>
                  </a:lnTo>
                  <a:lnTo>
                    <a:pt x="37" y="56"/>
                  </a:lnTo>
                  <a:lnTo>
                    <a:pt x="18" y="61"/>
                  </a:lnTo>
                  <a:lnTo>
                    <a:pt x="13" y="58"/>
                  </a:lnTo>
                  <a:lnTo>
                    <a:pt x="4" y="58"/>
                  </a:lnTo>
                  <a:lnTo>
                    <a:pt x="0" y="2"/>
                  </a:lnTo>
                  <a:lnTo>
                    <a:pt x="6" y="0"/>
                  </a:lnTo>
                  <a:lnTo>
                    <a:pt x="7" y="2"/>
                  </a:lnTo>
                  <a:lnTo>
                    <a:pt x="9" y="3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27" y="34"/>
                  </a:lnTo>
                  <a:lnTo>
                    <a:pt x="59" y="37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41280" y="3621240"/>
              <a:ext cx="280800" cy="734040"/>
            </a:xfrm>
            <a:custGeom>
              <a:avLst/>
              <a:gdLst/>
              <a:ahLst/>
              <a:rect l="l" t="t" r="r" b="b"/>
              <a:pathLst>
                <a:path w="76" h="313">
                  <a:moveTo>
                    <a:pt x="71" y="121"/>
                  </a:moveTo>
                  <a:lnTo>
                    <a:pt x="75" y="164"/>
                  </a:lnTo>
                  <a:lnTo>
                    <a:pt x="75" y="170"/>
                  </a:lnTo>
                  <a:lnTo>
                    <a:pt x="39" y="157"/>
                  </a:lnTo>
                  <a:lnTo>
                    <a:pt x="9" y="153"/>
                  </a:lnTo>
                  <a:lnTo>
                    <a:pt x="7" y="145"/>
                  </a:lnTo>
                  <a:lnTo>
                    <a:pt x="6" y="136"/>
                  </a:lnTo>
                  <a:lnTo>
                    <a:pt x="4" y="128"/>
                  </a:lnTo>
                  <a:lnTo>
                    <a:pt x="2" y="121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2" y="74"/>
                  </a:lnTo>
                  <a:lnTo>
                    <a:pt x="4" y="65"/>
                  </a:lnTo>
                  <a:lnTo>
                    <a:pt x="6" y="54"/>
                  </a:lnTo>
                  <a:lnTo>
                    <a:pt x="7" y="42"/>
                  </a:lnTo>
                  <a:lnTo>
                    <a:pt x="9" y="26"/>
                  </a:lnTo>
                  <a:lnTo>
                    <a:pt x="11" y="8"/>
                  </a:lnTo>
                  <a:lnTo>
                    <a:pt x="30" y="5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76" y="46"/>
                  </a:lnTo>
                  <a:lnTo>
                    <a:pt x="71" y="121"/>
                  </a:lnTo>
                  <a:close/>
                  <a:moveTo>
                    <a:pt x="27" y="275"/>
                  </a:moveTo>
                  <a:lnTo>
                    <a:pt x="39" y="275"/>
                  </a:lnTo>
                  <a:lnTo>
                    <a:pt x="60" y="268"/>
                  </a:lnTo>
                  <a:lnTo>
                    <a:pt x="62" y="306"/>
                  </a:lnTo>
                  <a:lnTo>
                    <a:pt x="13" y="312"/>
                  </a:lnTo>
                  <a:lnTo>
                    <a:pt x="6" y="313"/>
                  </a:lnTo>
                  <a:lnTo>
                    <a:pt x="7" y="311"/>
                  </a:lnTo>
                  <a:lnTo>
                    <a:pt x="7" y="308"/>
                  </a:lnTo>
                  <a:lnTo>
                    <a:pt x="9" y="306"/>
                  </a:lnTo>
                  <a:lnTo>
                    <a:pt x="11" y="303"/>
                  </a:lnTo>
                  <a:lnTo>
                    <a:pt x="13" y="301"/>
                  </a:lnTo>
                  <a:lnTo>
                    <a:pt x="15" y="299"/>
                  </a:lnTo>
                  <a:lnTo>
                    <a:pt x="16" y="296"/>
                  </a:lnTo>
                  <a:lnTo>
                    <a:pt x="18" y="294"/>
                  </a:lnTo>
                  <a:lnTo>
                    <a:pt x="20" y="292"/>
                  </a:lnTo>
                  <a:lnTo>
                    <a:pt x="22" y="289"/>
                  </a:lnTo>
                  <a:lnTo>
                    <a:pt x="22" y="287"/>
                  </a:lnTo>
                  <a:lnTo>
                    <a:pt x="23" y="284"/>
                  </a:lnTo>
                  <a:lnTo>
                    <a:pt x="25" y="282"/>
                  </a:lnTo>
                  <a:lnTo>
                    <a:pt x="25" y="280"/>
                  </a:lnTo>
                  <a:lnTo>
                    <a:pt x="27" y="277"/>
                  </a:lnTo>
                  <a:lnTo>
                    <a:pt x="27" y="27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96720" y="4371840"/>
              <a:ext cx="225360" cy="39600"/>
            </a:xfrm>
            <a:custGeom>
              <a:avLst/>
              <a:gdLst/>
              <a:ahLst/>
              <a:rect l="l" t="t" r="r" b="b"/>
              <a:pathLst>
                <a:path w="61" h="17">
                  <a:moveTo>
                    <a:pt x="0" y="4"/>
                  </a:moveTo>
                  <a:lnTo>
                    <a:pt x="53" y="0"/>
                  </a:lnTo>
                  <a:lnTo>
                    <a:pt x="61" y="12"/>
                  </a:lnTo>
                  <a:lnTo>
                    <a:pt x="12" y="17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15080" y="4430520"/>
              <a:ext cx="258120" cy="59040"/>
            </a:xfrm>
            <a:custGeom>
              <a:avLst/>
              <a:gdLst/>
              <a:ahLst/>
              <a:rect l="l" t="t" r="r" b="b"/>
              <a:pathLst>
                <a:path w="70" h="25">
                  <a:moveTo>
                    <a:pt x="0" y="5"/>
                  </a:moveTo>
                  <a:lnTo>
                    <a:pt x="14" y="3"/>
                  </a:lnTo>
                  <a:lnTo>
                    <a:pt x="37" y="3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65" y="4"/>
                  </a:lnTo>
                  <a:lnTo>
                    <a:pt x="69" y="12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60" y="18"/>
                  </a:lnTo>
                  <a:lnTo>
                    <a:pt x="5" y="2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03840" y="4510080"/>
              <a:ext cx="314280" cy="10080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49" y="31"/>
                  </a:moveTo>
                  <a:lnTo>
                    <a:pt x="3" y="43"/>
                  </a:lnTo>
                  <a:lnTo>
                    <a:pt x="0" y="43"/>
                  </a:lnTo>
                  <a:lnTo>
                    <a:pt x="17" y="7"/>
                  </a:lnTo>
                  <a:lnTo>
                    <a:pt x="72" y="0"/>
                  </a:lnTo>
                  <a:lnTo>
                    <a:pt x="85" y="0"/>
                  </a:lnTo>
                  <a:lnTo>
                    <a:pt x="49" y="31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41120" y="4618080"/>
              <a:ext cx="273960" cy="762120"/>
            </a:xfrm>
            <a:custGeom>
              <a:avLst/>
              <a:gdLst/>
              <a:ahLst/>
              <a:rect l="l" t="t" r="r" b="b"/>
              <a:pathLst>
                <a:path w="74" h="325">
                  <a:moveTo>
                    <a:pt x="74" y="209"/>
                  </a:moveTo>
                  <a:lnTo>
                    <a:pt x="65" y="244"/>
                  </a:lnTo>
                  <a:lnTo>
                    <a:pt x="70" y="288"/>
                  </a:lnTo>
                  <a:lnTo>
                    <a:pt x="67" y="316"/>
                  </a:lnTo>
                  <a:lnTo>
                    <a:pt x="33" y="320"/>
                  </a:lnTo>
                  <a:lnTo>
                    <a:pt x="0" y="325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21" y="9"/>
                  </a:lnTo>
                  <a:lnTo>
                    <a:pt x="70" y="0"/>
                  </a:lnTo>
                  <a:lnTo>
                    <a:pt x="74" y="111"/>
                  </a:lnTo>
                  <a:lnTo>
                    <a:pt x="74" y="209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61160" y="3686760"/>
              <a:ext cx="102960" cy="1501560"/>
            </a:xfrm>
            <a:custGeom>
              <a:avLst/>
              <a:gdLst/>
              <a:ahLst/>
              <a:rect l="l" t="t" r="r" b="b"/>
              <a:pathLst>
                <a:path w="28" h="640">
                  <a:moveTo>
                    <a:pt x="28" y="0"/>
                  </a:moveTo>
                  <a:lnTo>
                    <a:pt x="0" y="492"/>
                  </a:lnTo>
                  <a:lnTo>
                    <a:pt x="0" y="640"/>
                  </a:lnTo>
                  <a:lnTo>
                    <a:pt x="23" y="406"/>
                  </a:lnTo>
                  <a:lnTo>
                    <a:pt x="23" y="388"/>
                  </a:lnTo>
                  <a:lnTo>
                    <a:pt x="23" y="342"/>
                  </a:lnTo>
                  <a:lnTo>
                    <a:pt x="23" y="277"/>
                  </a:lnTo>
                  <a:lnTo>
                    <a:pt x="23" y="201"/>
                  </a:lnTo>
                  <a:lnTo>
                    <a:pt x="23" y="127"/>
                  </a:lnTo>
                  <a:lnTo>
                    <a:pt x="23" y="62"/>
                  </a:lnTo>
                  <a:lnTo>
                    <a:pt x="25" y="1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15880" y="3639960"/>
              <a:ext cx="81000" cy="1280880"/>
            </a:xfrm>
            <a:custGeom>
              <a:avLst/>
              <a:gdLst/>
              <a:ahLst/>
              <a:rect l="l" t="t" r="r" b="b"/>
              <a:pathLst>
                <a:path w="22" h="546">
                  <a:moveTo>
                    <a:pt x="8" y="0"/>
                  </a:moveTo>
                  <a:lnTo>
                    <a:pt x="0" y="451"/>
                  </a:lnTo>
                  <a:lnTo>
                    <a:pt x="8" y="546"/>
                  </a:lnTo>
                  <a:lnTo>
                    <a:pt x="8" y="531"/>
                  </a:lnTo>
                  <a:lnTo>
                    <a:pt x="9" y="488"/>
                  </a:lnTo>
                  <a:lnTo>
                    <a:pt x="13" y="426"/>
                  </a:lnTo>
                  <a:lnTo>
                    <a:pt x="16" y="355"/>
                  </a:lnTo>
                  <a:lnTo>
                    <a:pt x="20" y="284"/>
                  </a:lnTo>
                  <a:lnTo>
                    <a:pt x="22" y="219"/>
                  </a:lnTo>
                  <a:lnTo>
                    <a:pt x="22" y="171"/>
                  </a:lnTo>
                  <a:lnTo>
                    <a:pt x="20" y="147"/>
                  </a:lnTo>
                  <a:lnTo>
                    <a:pt x="18" y="135"/>
                  </a:lnTo>
                  <a:lnTo>
                    <a:pt x="15" y="116"/>
                  </a:lnTo>
                  <a:lnTo>
                    <a:pt x="13" y="94"/>
                  </a:lnTo>
                  <a:lnTo>
                    <a:pt x="9" y="67"/>
                  </a:lnTo>
                  <a:lnTo>
                    <a:pt x="8" y="43"/>
                  </a:lnTo>
                  <a:lnTo>
                    <a:pt x="6" y="22"/>
                  </a:lnTo>
                  <a:lnTo>
                    <a:pt x="6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3280" y="3647520"/>
              <a:ext cx="85320" cy="1209960"/>
            </a:xfrm>
            <a:custGeom>
              <a:avLst/>
              <a:gdLst/>
              <a:ahLst/>
              <a:rect l="l" t="t" r="r" b="b"/>
              <a:pathLst>
                <a:path w="23" h="516">
                  <a:moveTo>
                    <a:pt x="19" y="0"/>
                  </a:moveTo>
                  <a:lnTo>
                    <a:pt x="18" y="26"/>
                  </a:lnTo>
                  <a:lnTo>
                    <a:pt x="16" y="87"/>
                  </a:lnTo>
                  <a:lnTo>
                    <a:pt x="12" y="169"/>
                  </a:lnTo>
                  <a:lnTo>
                    <a:pt x="9" y="264"/>
                  </a:lnTo>
                  <a:lnTo>
                    <a:pt x="5" y="357"/>
                  </a:lnTo>
                  <a:lnTo>
                    <a:pt x="2" y="437"/>
                  </a:lnTo>
                  <a:lnTo>
                    <a:pt x="0" y="494"/>
                  </a:lnTo>
                  <a:lnTo>
                    <a:pt x="0" y="516"/>
                  </a:lnTo>
                  <a:lnTo>
                    <a:pt x="23" y="24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67960" y="3862800"/>
              <a:ext cx="96120" cy="1569240"/>
            </a:xfrm>
            <a:custGeom>
              <a:avLst/>
              <a:gdLst/>
              <a:ahLst/>
              <a:rect l="l" t="t" r="r" b="b"/>
              <a:pathLst>
                <a:path w="26" h="669">
                  <a:moveTo>
                    <a:pt x="24" y="0"/>
                  </a:moveTo>
                  <a:lnTo>
                    <a:pt x="0" y="315"/>
                  </a:lnTo>
                  <a:lnTo>
                    <a:pt x="0" y="669"/>
                  </a:lnTo>
                  <a:lnTo>
                    <a:pt x="24" y="315"/>
                  </a:lnTo>
                  <a:lnTo>
                    <a:pt x="24" y="301"/>
                  </a:lnTo>
                  <a:lnTo>
                    <a:pt x="26" y="265"/>
                  </a:lnTo>
                  <a:lnTo>
                    <a:pt x="26" y="215"/>
                  </a:lnTo>
                  <a:lnTo>
                    <a:pt x="26" y="157"/>
                  </a:lnTo>
                  <a:lnTo>
                    <a:pt x="26" y="99"/>
                  </a:lnTo>
                  <a:lnTo>
                    <a:pt x="26" y="49"/>
                  </a:lnTo>
                  <a:lnTo>
                    <a:pt x="26" y="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85040" y="3837240"/>
              <a:ext cx="147240" cy="1657800"/>
            </a:xfrm>
            <a:custGeom>
              <a:avLst/>
              <a:gdLst/>
              <a:ahLst/>
              <a:rect l="l" t="t" r="r" b="b"/>
              <a:pathLst>
                <a:path w="40" h="707">
                  <a:moveTo>
                    <a:pt x="31" y="0"/>
                  </a:moveTo>
                  <a:lnTo>
                    <a:pt x="12" y="339"/>
                  </a:lnTo>
                  <a:lnTo>
                    <a:pt x="0" y="707"/>
                  </a:lnTo>
                  <a:lnTo>
                    <a:pt x="40" y="381"/>
                  </a:lnTo>
                  <a:lnTo>
                    <a:pt x="40" y="5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114560" y="0"/>
            <a:ext cx="8057880" cy="982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5800" spc="-1" strike="noStrike">
                <a:solidFill>
                  <a:srgbClr val="ff9933"/>
                </a:solidFill>
                <a:latin typeface="Comic Sans MS"/>
              </a:rPr>
              <a:t>La convection :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2313000" y="990720"/>
            <a:ext cx="1552680" cy="217152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3257640" y="1295280"/>
            <a:ext cx="1387440" cy="19414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5570640" y="1295280"/>
            <a:ext cx="1606320" cy="22464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5"/>
          <a:stretch/>
        </p:blipFill>
        <p:spPr>
          <a:xfrm>
            <a:off x="3772080" y="990720"/>
            <a:ext cx="1601640" cy="224604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6"/>
          <a:stretch/>
        </p:blipFill>
        <p:spPr>
          <a:xfrm>
            <a:off x="4629240" y="1219320"/>
            <a:ext cx="1549440" cy="217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19B-A4AA-4761-A83F-65DC47E502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5791320" y="3284640"/>
            <a:ext cx="3101760" cy="2874960"/>
          </a:xfrm>
          <a:prstGeom prst="rect">
            <a:avLst/>
          </a:prstGeom>
          <a:ln w="0">
            <a:noFill/>
          </a:ln>
        </p:spPr>
      </p:pic>
      <p:grpSp>
        <p:nvGrpSpPr>
          <p:cNvPr id="438" name=""/>
          <p:cNvGrpSpPr/>
          <p:nvPr/>
        </p:nvGrpSpPr>
        <p:grpSpPr>
          <a:xfrm>
            <a:off x="5072040" y="333000"/>
            <a:ext cx="4973400" cy="915480"/>
            <a:chOff x="5072040" y="333000"/>
            <a:chExt cx="4973400" cy="915480"/>
          </a:xfrm>
        </p:grpSpPr>
        <p:sp>
          <p:nvSpPr>
            <p:cNvPr id="439" name=""/>
            <p:cNvSpPr/>
            <p:nvPr/>
          </p:nvSpPr>
          <p:spPr>
            <a:xfrm flipV="1">
              <a:off x="7987320" y="408600"/>
              <a:ext cx="2058120" cy="839160"/>
            </a:xfrm>
            <a:custGeom>
              <a:avLst/>
              <a:gdLst>
                <a:gd name="textAreaLeft" fmla="*/ 414720 w 2058120"/>
                <a:gd name="textAreaRight" fmla="*/ 1436040 w 2058120"/>
                <a:gd name="textAreaTop" fmla="*/ 112320 h 839160"/>
                <a:gd name="textAreaBottom" fmla="*/ 726840 h 83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710" hR="21600" stAng="10800000" swAng="-5400000"/>
                  <a:lnTo>
                    <a:pt x="10715" y="21600"/>
                  </a:lnTo>
                  <a:arcTo wR="8710" hR="21600" stAng="5400000" swAng="-2674278"/>
                  <a:lnTo>
                    <a:pt x="20951" y="8182"/>
                  </a:lnTo>
                  <a:lnTo>
                    <a:pt x="18422" y="0"/>
                  </a:lnTo>
                  <a:lnTo>
                    <a:pt x="14594" y="8182"/>
                  </a:lnTo>
                  <a:lnTo>
                    <a:pt x="16770" y="8182"/>
                  </a:lnTo>
                  <a:arcTo wR="8710" hR="21600" stAng="2725722" swAng="2513774"/>
                  <a:lnTo>
                    <a:pt x="9712" y="21456"/>
                  </a:lnTo>
                  <a:arcTo wR="8710" hR="21600" stAng="5560504" swAng="5239496"/>
                  <a:close/>
                </a:path>
                <a:path fill="darkenLess" w="21600" h="21600">
                  <a:moveTo>
                    <a:pt x="0" y="0"/>
                  </a:moveTo>
                  <a:arcTo wR="8710" hR="21600" stAng="10800000" swAng="-5400000"/>
                  <a:lnTo>
                    <a:pt x="10715" y="21600"/>
                  </a:lnTo>
                  <a:arcTo wR="8710" hR="21600" stAng="5400000" swAng="160504"/>
                  <a:lnTo>
                    <a:pt x="9712" y="21456"/>
                  </a:lnTo>
                  <a:arcTo wR="8710" hR="21600" stAng="5560504" swAng="5239496"/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5072040" y="332640"/>
              <a:ext cx="1800720" cy="839160"/>
            </a:xfrm>
            <a:custGeom>
              <a:avLst/>
              <a:gdLst>
                <a:gd name="textAreaLeft" fmla="*/ 344520 w 1800720"/>
                <a:gd name="textAreaRight" fmla="*/ 1276200 w 1800720"/>
                <a:gd name="textAreaTop" fmla="*/ 112320 h 839160"/>
                <a:gd name="textAreaBottom" fmla="*/ 726840 h 83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265" hR="21600" stAng="10800000" swAng="-5400000"/>
                  <a:lnTo>
                    <a:pt x="11175" y="21600"/>
                  </a:lnTo>
                  <a:arcTo wR="8265" hR="21600" stAng="5400000" swAng="-2584322"/>
                  <a:lnTo>
                    <a:pt x="20984" y="8182"/>
                  </a:lnTo>
                  <a:lnTo>
                    <a:pt x="17985" y="0"/>
                  </a:lnTo>
                  <a:lnTo>
                    <a:pt x="13754" y="8182"/>
                  </a:lnTo>
                  <a:lnTo>
                    <a:pt x="15914" y="8182"/>
                  </a:lnTo>
                  <a:arcTo wR="8265" hR="21600" stAng="2815678" swAng="2349444"/>
                  <a:lnTo>
                    <a:pt x="9720" y="21263"/>
                  </a:lnTo>
                  <a:arcTo wR="8265" hR="21600" stAng="5634878" swAng="5165122"/>
                  <a:close/>
                </a:path>
                <a:path fill="darkenLess" w="21600" h="21600">
                  <a:moveTo>
                    <a:pt x="0" y="0"/>
                  </a:moveTo>
                  <a:arcTo wR="8265" hR="21600" stAng="10800000" swAng="-5400000"/>
                  <a:lnTo>
                    <a:pt x="11175" y="21600"/>
                  </a:lnTo>
                  <a:arcTo wR="8265" hR="21600" stAng="5400000" swAng="234878"/>
                  <a:lnTo>
                    <a:pt x="9720" y="21263"/>
                  </a:lnTo>
                  <a:arcTo wR="8265" hR="21600" stAng="5634878" swAng="5165122"/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5227560" y="1557360"/>
            <a:ext cx="5059080" cy="1599480"/>
            <a:chOff x="5227560" y="1557360"/>
            <a:chExt cx="5059080" cy="1599480"/>
          </a:xfrm>
        </p:grpSpPr>
        <p:sp>
          <p:nvSpPr>
            <p:cNvPr id="442" name=""/>
            <p:cNvSpPr/>
            <p:nvPr/>
          </p:nvSpPr>
          <p:spPr>
            <a:xfrm flipV="1" rot="5400000">
              <a:off x="9267480" y="2137320"/>
              <a:ext cx="1523880" cy="514440"/>
            </a:xfrm>
            <a:custGeom>
              <a:avLst/>
              <a:gdLst>
                <a:gd name="textAreaLeft" fmla="*/ 237960 w 1523880"/>
                <a:gd name="textAreaRight" fmla="*/ 1386360 w 1523880"/>
                <a:gd name="textAreaTop" fmla="*/ 167760 h 514440"/>
                <a:gd name="textAreaBottom" fmla="*/ 34668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7049"/>
                  </a:moveTo>
                  <a:lnTo>
                    <a:pt x="15983" y="7049"/>
                  </a:lnTo>
                  <a:lnTo>
                    <a:pt x="15983" y="0"/>
                  </a:lnTo>
                  <a:lnTo>
                    <a:pt x="21600" y="10800"/>
                  </a:lnTo>
                  <a:lnTo>
                    <a:pt x="15983" y="21600"/>
                  </a:lnTo>
                  <a:lnTo>
                    <a:pt x="15983" y="14551"/>
                  </a:lnTo>
                  <a:lnTo>
                    <a:pt x="3375" y="14551"/>
                  </a:lnTo>
                  <a:close/>
                </a:path>
                <a:path w="21600" h="21600">
                  <a:moveTo>
                    <a:pt x="0" y="7049"/>
                  </a:moveTo>
                  <a:lnTo>
                    <a:pt x="675" y="7049"/>
                  </a:lnTo>
                  <a:lnTo>
                    <a:pt x="675" y="14551"/>
                  </a:lnTo>
                  <a:lnTo>
                    <a:pt x="0" y="14551"/>
                  </a:lnTo>
                  <a:close/>
                </a:path>
                <a:path w="21600" h="21600">
                  <a:moveTo>
                    <a:pt x="1350" y="7049"/>
                  </a:moveTo>
                  <a:lnTo>
                    <a:pt x="2700" y="7049"/>
                  </a:lnTo>
                  <a:lnTo>
                    <a:pt x="2700" y="14551"/>
                  </a:lnTo>
                  <a:lnTo>
                    <a:pt x="1350" y="14551"/>
                  </a:lnTo>
                  <a:close/>
                </a:path>
              </a:pathLst>
            </a:custGeom>
            <a:gradFill rotWithShape="0">
              <a:gsLst>
                <a:gs pos="0">
                  <a:srgbClr val="cc0066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 rot="5400000">
              <a:off x="4722480" y="2062080"/>
              <a:ext cx="1524240" cy="514440"/>
            </a:xfrm>
            <a:custGeom>
              <a:avLst/>
              <a:gdLst>
                <a:gd name="textAreaLeft" fmla="*/ 237960 w 1524240"/>
                <a:gd name="textAreaRight" fmla="*/ 1386720 w 1524240"/>
                <a:gd name="textAreaTop" fmla="*/ 167760 h 514440"/>
                <a:gd name="textAreaBottom" fmla="*/ 34668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7049"/>
                  </a:moveTo>
                  <a:lnTo>
                    <a:pt x="15983" y="7049"/>
                  </a:lnTo>
                  <a:lnTo>
                    <a:pt x="15983" y="0"/>
                  </a:lnTo>
                  <a:lnTo>
                    <a:pt x="21600" y="10800"/>
                  </a:lnTo>
                  <a:lnTo>
                    <a:pt x="15983" y="21600"/>
                  </a:lnTo>
                  <a:lnTo>
                    <a:pt x="15983" y="14551"/>
                  </a:lnTo>
                  <a:lnTo>
                    <a:pt x="3375" y="14551"/>
                  </a:lnTo>
                  <a:close/>
                </a:path>
                <a:path w="21600" h="21600">
                  <a:moveTo>
                    <a:pt x="0" y="7049"/>
                  </a:moveTo>
                  <a:lnTo>
                    <a:pt x="675" y="7049"/>
                  </a:lnTo>
                  <a:lnTo>
                    <a:pt x="675" y="14551"/>
                  </a:lnTo>
                  <a:lnTo>
                    <a:pt x="0" y="14551"/>
                  </a:lnTo>
                  <a:close/>
                </a:path>
                <a:path w="21600" h="21600">
                  <a:moveTo>
                    <a:pt x="1350" y="7049"/>
                  </a:moveTo>
                  <a:lnTo>
                    <a:pt x="2700" y="7049"/>
                  </a:lnTo>
                  <a:lnTo>
                    <a:pt x="2700" y="14551"/>
                  </a:lnTo>
                  <a:lnTo>
                    <a:pt x="1350" y="14551"/>
                  </a:lnTo>
                  <a:close/>
                </a:path>
              </a:pathLst>
            </a:custGeom>
            <a:gradFill rotWithShape="0">
              <a:gsLst>
                <a:gs pos="0">
                  <a:srgbClr val="cc0066"/>
                </a:gs>
                <a:gs pos="100000">
                  <a:srgbClr val="3366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227560" y="3572640"/>
            <a:ext cx="5059080" cy="1829520"/>
            <a:chOff x="5227560" y="3572640"/>
            <a:chExt cx="5059080" cy="1829520"/>
          </a:xfrm>
        </p:grpSpPr>
        <p:sp>
          <p:nvSpPr>
            <p:cNvPr id="445" name=""/>
            <p:cNvSpPr/>
            <p:nvPr/>
          </p:nvSpPr>
          <p:spPr>
            <a:xfrm flipV="1" rot="5400000">
              <a:off x="9153000" y="4268520"/>
              <a:ext cx="1752480" cy="514440"/>
            </a:xfrm>
            <a:custGeom>
              <a:avLst/>
              <a:gdLst>
                <a:gd name="textAreaLeft" fmla="*/ 273600 w 1752480"/>
                <a:gd name="textAreaRight" fmla="*/ 1602000 w 1752480"/>
                <a:gd name="textAreaTop" fmla="*/ 160560 h 514440"/>
                <a:gd name="textAreaBottom" fmla="*/ 35388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749"/>
                  </a:moveTo>
                  <a:lnTo>
                    <a:pt x="16649" y="6749"/>
                  </a:lnTo>
                  <a:lnTo>
                    <a:pt x="16649" y="0"/>
                  </a:lnTo>
                  <a:lnTo>
                    <a:pt x="21600" y="10800"/>
                  </a:lnTo>
                  <a:lnTo>
                    <a:pt x="16649" y="21600"/>
                  </a:lnTo>
                  <a:lnTo>
                    <a:pt x="16649" y="14851"/>
                  </a:lnTo>
                  <a:lnTo>
                    <a:pt x="3375" y="14851"/>
                  </a:lnTo>
                  <a:close/>
                </a:path>
                <a:path w="21600" h="21600">
                  <a:moveTo>
                    <a:pt x="0" y="6749"/>
                  </a:moveTo>
                  <a:lnTo>
                    <a:pt x="675" y="6749"/>
                  </a:lnTo>
                  <a:lnTo>
                    <a:pt x="675" y="14851"/>
                  </a:lnTo>
                  <a:lnTo>
                    <a:pt x="0" y="14851"/>
                  </a:lnTo>
                  <a:close/>
                </a:path>
                <a:path w="21600" h="21600">
                  <a:moveTo>
                    <a:pt x="1350" y="6749"/>
                  </a:moveTo>
                  <a:lnTo>
                    <a:pt x="2700" y="6749"/>
                  </a:lnTo>
                  <a:lnTo>
                    <a:pt x="2700" y="14851"/>
                  </a:lnTo>
                  <a:lnTo>
                    <a:pt x="1350" y="14851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 rot="5400000">
              <a:off x="4608360" y="4191480"/>
              <a:ext cx="1752840" cy="514440"/>
            </a:xfrm>
            <a:custGeom>
              <a:avLst/>
              <a:gdLst>
                <a:gd name="textAreaLeft" fmla="*/ 273600 w 1752840"/>
                <a:gd name="textAreaRight" fmla="*/ 1602360 w 1752840"/>
                <a:gd name="textAreaTop" fmla="*/ 160560 h 514440"/>
                <a:gd name="textAreaBottom" fmla="*/ 35388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6749"/>
                  </a:moveTo>
                  <a:lnTo>
                    <a:pt x="16649" y="6749"/>
                  </a:lnTo>
                  <a:lnTo>
                    <a:pt x="16649" y="0"/>
                  </a:lnTo>
                  <a:lnTo>
                    <a:pt x="21600" y="10800"/>
                  </a:lnTo>
                  <a:lnTo>
                    <a:pt x="16649" y="21600"/>
                  </a:lnTo>
                  <a:lnTo>
                    <a:pt x="16649" y="14851"/>
                  </a:lnTo>
                  <a:lnTo>
                    <a:pt x="3375" y="14851"/>
                  </a:lnTo>
                  <a:close/>
                </a:path>
                <a:path w="21600" h="21600">
                  <a:moveTo>
                    <a:pt x="0" y="6749"/>
                  </a:moveTo>
                  <a:lnTo>
                    <a:pt x="675" y="6749"/>
                  </a:lnTo>
                  <a:lnTo>
                    <a:pt x="675" y="14851"/>
                  </a:lnTo>
                  <a:lnTo>
                    <a:pt x="0" y="14851"/>
                  </a:lnTo>
                  <a:close/>
                </a:path>
                <a:path w="21600" h="21600">
                  <a:moveTo>
                    <a:pt x="1350" y="6749"/>
                  </a:moveTo>
                  <a:lnTo>
                    <a:pt x="2700" y="6749"/>
                  </a:lnTo>
                  <a:lnTo>
                    <a:pt x="2700" y="14851"/>
                  </a:lnTo>
                  <a:lnTo>
                    <a:pt x="1350" y="14851"/>
                  </a:lnTo>
                  <a:close/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072040" y="5713200"/>
            <a:ext cx="4455720" cy="1144440"/>
            <a:chOff x="5072040" y="5713200"/>
            <a:chExt cx="4455720" cy="1144440"/>
          </a:xfrm>
        </p:grpSpPr>
        <p:sp>
          <p:nvSpPr>
            <p:cNvPr id="448" name=""/>
            <p:cNvSpPr/>
            <p:nvPr/>
          </p:nvSpPr>
          <p:spPr>
            <a:xfrm rot="16200000">
              <a:off x="5633280" y="5151960"/>
              <a:ext cx="762840" cy="1885320"/>
            </a:xfrm>
            <a:custGeom>
              <a:avLst/>
              <a:gdLst>
                <a:gd name="textAreaLeft" fmla="*/ 102240 w 762840"/>
                <a:gd name="textAreaRight" fmla="*/ 660600 w 762840"/>
                <a:gd name="textAreaTop" fmla="*/ 354600 h 1885320"/>
                <a:gd name="textAreaBottom" fmla="*/ 1243440 h 1885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27" stAng="-5400000" swAng="-5400000"/>
                  <a:lnTo>
                    <a:pt x="0" y="10181"/>
                  </a:lnTo>
                  <a:arcTo wR="21600" hR="8127" stAng="10800000" swAng="-2688674"/>
                  <a:lnTo>
                    <a:pt x="13950" y="21073"/>
                  </a:lnTo>
                  <a:lnTo>
                    <a:pt x="21600" y="17280"/>
                  </a:lnTo>
                  <a:lnTo>
                    <a:pt x="13950" y="12433"/>
                  </a:lnTo>
                  <a:lnTo>
                    <a:pt x="13950" y="15726"/>
                  </a:lnTo>
                  <a:arcTo wR="21600" hR="8127" stAng="8111326" swAng="2524027"/>
                  <a:lnTo>
                    <a:pt x="173" y="9154"/>
                  </a:lnTo>
                  <a:arcTo wR="21600" hR="8127" stAng="-10635353" swAng="5235353"/>
                  <a:close/>
                </a:path>
                <a:path fill="darkenLess" w="21600" h="21600">
                  <a:moveTo>
                    <a:pt x="21600" y="0"/>
                  </a:moveTo>
                  <a:arcTo wR="21600" hR="8127" stAng="-5400000" swAng="-5400000"/>
                  <a:lnTo>
                    <a:pt x="0" y="8127"/>
                  </a:lnTo>
                  <a:arcTo wR="21600" hR="8127" stAng="10800000" swAng="-164647"/>
                  <a:lnTo>
                    <a:pt x="173" y="9154"/>
                  </a:lnTo>
                  <a:arcTo wR="21600" hR="8127" stAng="-10635353" swAng="5235353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rot="5400000">
              <a:off x="7951680" y="5281560"/>
              <a:ext cx="838800" cy="2313360"/>
            </a:xfrm>
            <a:custGeom>
              <a:avLst/>
              <a:gdLst>
                <a:gd name="textAreaLeft" fmla="*/ 112320 w 838800"/>
                <a:gd name="textAreaRight" fmla="*/ 726480 w 838800"/>
                <a:gd name="textAreaTop" fmla="*/ 435240 h 2313360"/>
                <a:gd name="textAreaBottom" fmla="*/ 152568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127" stAng="-5400000" swAng="-5400000"/>
                  <a:lnTo>
                    <a:pt x="0" y="10181"/>
                  </a:lnTo>
                  <a:arcTo wR="21600" hR="8127" stAng="10800000" swAng="-2688674"/>
                  <a:lnTo>
                    <a:pt x="13950" y="21073"/>
                  </a:lnTo>
                  <a:lnTo>
                    <a:pt x="21600" y="17280"/>
                  </a:lnTo>
                  <a:lnTo>
                    <a:pt x="13950" y="12433"/>
                  </a:lnTo>
                  <a:lnTo>
                    <a:pt x="13950" y="15726"/>
                  </a:lnTo>
                  <a:arcTo wR="21600" hR="8127" stAng="8111326" swAng="2524027"/>
                  <a:lnTo>
                    <a:pt x="173" y="9154"/>
                  </a:lnTo>
                  <a:arcTo wR="21600" hR="8127" stAng="-10635353" swAng="5235353"/>
                  <a:close/>
                </a:path>
                <a:path fill="darkenLess" w="21600" h="21600">
                  <a:moveTo>
                    <a:pt x="21600" y="0"/>
                  </a:moveTo>
                  <a:arcTo wR="21600" hR="8127" stAng="-5400000" swAng="-5400000"/>
                  <a:lnTo>
                    <a:pt x="0" y="8127"/>
                  </a:lnTo>
                  <a:arcTo wR="21600" hR="8127" stAng="10800000" swAng="-164647"/>
                  <a:lnTo>
                    <a:pt x="173" y="9154"/>
                  </a:lnTo>
                  <a:arcTo wR="21600" hR="8127" stAng="-10635353" swAng="5235353"/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0" y="3124080"/>
            <a:ext cx="4199040" cy="16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La chaleur est véhiculée grâce au déplacement d’un fluide porteu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9933"/>
                </a:solidFill>
                <a:latin typeface="Comic Sans MS"/>
              </a:rPr>
              <a:t>(liquide ou gaz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583320" y="1413000"/>
            <a:ext cx="1628280" cy="1828440"/>
            <a:chOff x="6583320" y="1413000"/>
            <a:chExt cx="1628280" cy="1828440"/>
          </a:xfrm>
        </p:grpSpPr>
        <p:sp>
          <p:nvSpPr>
            <p:cNvPr id="452" name=""/>
            <p:cNvSpPr/>
            <p:nvPr/>
          </p:nvSpPr>
          <p:spPr>
            <a:xfrm rot="16200000">
              <a:off x="5959440" y="2036880"/>
              <a:ext cx="1676160" cy="428400"/>
            </a:xfrm>
            <a:custGeom>
              <a:avLst/>
              <a:gdLst>
                <a:gd name="textAreaLeft" fmla="*/ 261720 w 1676160"/>
                <a:gd name="textAreaRight" fmla="*/ 1466640 w 167616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6200000">
              <a:off x="7158960" y="2188800"/>
              <a:ext cx="1676520" cy="428400"/>
            </a:xfrm>
            <a:custGeom>
              <a:avLst/>
              <a:gdLst>
                <a:gd name="textAreaLeft" fmla="*/ 261720 w 1676520"/>
                <a:gd name="textAreaRight" fmla="*/ 1467000 w 167652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33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73B-0B3F-4930-A7B3-CF3B093812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0" y="-2514600"/>
            <a:ext cx="10287000" cy="6583320"/>
          </a:xfrm>
          <a:prstGeom prst="rect">
            <a:avLst/>
          </a:prstGeom>
          <a:ln w="0">
            <a:noFill/>
          </a:ln>
        </p:spPr>
      </p:pic>
      <p:grpSp>
        <p:nvGrpSpPr>
          <p:cNvPr id="455" name=""/>
          <p:cNvGrpSpPr/>
          <p:nvPr/>
        </p:nvGrpSpPr>
        <p:grpSpPr>
          <a:xfrm>
            <a:off x="3684600" y="2284560"/>
            <a:ext cx="3601080" cy="1600200"/>
            <a:chOff x="3684600" y="2284560"/>
            <a:chExt cx="3601080" cy="1600200"/>
          </a:xfrm>
        </p:grpSpPr>
        <p:sp>
          <p:nvSpPr>
            <p:cNvPr id="456" name=""/>
            <p:cNvSpPr/>
            <p:nvPr/>
          </p:nvSpPr>
          <p:spPr>
            <a:xfrm flipH="1" rot="5400000">
              <a:off x="6346800" y="2946240"/>
              <a:ext cx="1447920" cy="428760"/>
            </a:xfrm>
            <a:custGeom>
              <a:avLst/>
              <a:gdLst>
                <a:gd name="textAreaLeft" fmla="*/ 226080 w 1447920"/>
                <a:gd name="textAreaRight" fmla="*/ 1267200 w 1447920"/>
                <a:gd name="textAreaTop" fmla="*/ 107280 h 428760"/>
                <a:gd name="textAreaBottom" fmla="*/ 32184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 rot="5400000">
              <a:off x="3174840" y="2794320"/>
              <a:ext cx="1447920" cy="428400"/>
            </a:xfrm>
            <a:custGeom>
              <a:avLst/>
              <a:gdLst>
                <a:gd name="textAreaLeft" fmla="*/ 226080 w 1447920"/>
                <a:gd name="textAreaRight" fmla="*/ 1267200 w 1447920"/>
                <a:gd name="textAreaTop" fmla="*/ 106920 h 428400"/>
                <a:gd name="textAreaBottom" fmla="*/ 32148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573280" y="2283840"/>
            <a:ext cx="5826960" cy="1599840"/>
            <a:chOff x="2573280" y="2283840"/>
            <a:chExt cx="5826960" cy="1599840"/>
          </a:xfrm>
        </p:grpSpPr>
        <p:grpSp>
          <p:nvGrpSpPr>
            <p:cNvPr id="459" name=""/>
            <p:cNvGrpSpPr/>
            <p:nvPr/>
          </p:nvGrpSpPr>
          <p:grpSpPr>
            <a:xfrm>
              <a:off x="2573280" y="2436120"/>
              <a:ext cx="2484720" cy="1447560"/>
              <a:chOff x="2573280" y="2436120"/>
              <a:chExt cx="2484720" cy="1447560"/>
            </a:xfrm>
          </p:grpSpPr>
          <p:sp>
            <p:nvSpPr>
              <p:cNvPr id="460" name=""/>
              <p:cNvSpPr/>
              <p:nvPr/>
            </p:nvSpPr>
            <p:spPr>
              <a:xfrm flipV="1" rot="5400000">
                <a:off x="4205520" y="3030840"/>
                <a:ext cx="1447560" cy="257040"/>
              </a:xfrm>
              <a:custGeom>
                <a:avLst/>
                <a:gdLst>
                  <a:gd name="textAreaLeft" fmla="*/ 226080 w 1447560"/>
                  <a:gd name="textAreaRight" fmla="*/ 1266840 w 1447560"/>
                  <a:gd name="textAreaTop" fmla="*/ 64080 h 257040"/>
                  <a:gd name="textAreaBottom" fmla="*/ 192960 h 2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3333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flipV="1" rot="16200000">
                <a:off x="1977840" y="3030840"/>
                <a:ext cx="1447560" cy="257040"/>
              </a:xfrm>
              <a:custGeom>
                <a:avLst/>
                <a:gdLst>
                  <a:gd name="textAreaLeft" fmla="*/ 226080 w 1447560"/>
                  <a:gd name="textAreaRight" fmla="*/ 1266840 w 1447560"/>
                  <a:gd name="textAreaTop" fmla="*/ 64080 h 257040"/>
                  <a:gd name="textAreaBottom" fmla="*/ 192960 h 2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3333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5829840" y="2283840"/>
              <a:ext cx="2570400" cy="1523520"/>
              <a:chOff x="5829840" y="2283840"/>
              <a:chExt cx="2570400" cy="1523520"/>
            </a:xfrm>
          </p:grpSpPr>
          <p:sp>
            <p:nvSpPr>
              <p:cNvPr id="463" name=""/>
              <p:cNvSpPr/>
              <p:nvPr/>
            </p:nvSpPr>
            <p:spPr>
              <a:xfrm flipH="1" flipV="1" rot="16200000">
                <a:off x="7547760" y="2878560"/>
                <a:ext cx="1447560" cy="257040"/>
              </a:xfrm>
              <a:custGeom>
                <a:avLst/>
                <a:gdLst>
                  <a:gd name="textAreaLeft" fmla="*/ 226080 w 1447560"/>
                  <a:gd name="textAreaRight" fmla="*/ 1266840 w 1447560"/>
                  <a:gd name="textAreaTop" fmla="*/ 64080 h 257040"/>
                  <a:gd name="textAreaBottom" fmla="*/ 192960 h 2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3333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flipV="1" rot="16200000">
                <a:off x="5234400" y="2954520"/>
                <a:ext cx="1447560" cy="257040"/>
              </a:xfrm>
              <a:custGeom>
                <a:avLst/>
                <a:gdLst>
                  <a:gd name="textAreaLeft" fmla="*/ 226080 w 1447560"/>
                  <a:gd name="textAreaRight" fmla="*/ 1266840 w 1447560"/>
                  <a:gd name="textAreaTop" fmla="*/ 64080 h 257040"/>
                  <a:gd name="textAreaBottom" fmla="*/ 192960 h 25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ccff"/>
                  </a:gs>
                  <a:gs pos="100000">
                    <a:srgbClr val="3333cc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2485800" y="1449360"/>
            <a:ext cx="2743920" cy="684360"/>
            <a:chOff x="2485800" y="1449360"/>
            <a:chExt cx="2743920" cy="684360"/>
          </a:xfrm>
        </p:grpSpPr>
        <p:sp>
          <p:nvSpPr>
            <p:cNvPr id="466" name=""/>
            <p:cNvSpPr/>
            <p:nvPr/>
          </p:nvSpPr>
          <p:spPr>
            <a:xfrm rot="5400000">
              <a:off x="2786760" y="1148040"/>
              <a:ext cx="684360" cy="1286280"/>
            </a:xfrm>
            <a:custGeom>
              <a:avLst/>
              <a:gdLst>
                <a:gd name="textAreaLeft" fmla="*/ 91440 w 684360"/>
                <a:gd name="textAreaRight" fmla="*/ 592920 w 684360"/>
                <a:gd name="textAreaTop" fmla="*/ 250560 h 1286280"/>
                <a:gd name="textAreaBottom" fmla="*/ 871560 h 12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415" stAng="-5400000" swAng="-5400000"/>
                  <a:lnTo>
                    <a:pt x="0" y="10425"/>
                  </a:lnTo>
                  <a:arcTo wR="21600" hR="8415" stAng="10800000" swAng="-3938827"/>
                  <a:lnTo>
                    <a:pt x="17849" y="21472"/>
                  </a:lnTo>
                  <a:lnTo>
                    <a:pt x="21600" y="17835"/>
                  </a:lnTo>
                  <a:lnTo>
                    <a:pt x="17849" y="13942"/>
                  </a:lnTo>
                  <a:lnTo>
                    <a:pt x="17849" y="16702"/>
                  </a:lnTo>
                  <a:arcTo wR="21600" hR="8415" stAng="6861173" swAng="3777841"/>
                  <a:lnTo>
                    <a:pt x="155" y="9420"/>
                  </a:lnTo>
                  <a:arcTo wR="21600" hR="8415" stAng="-10639014" swAng="5239014"/>
                  <a:close/>
                </a:path>
                <a:path fill="darkenLess" w="21600" h="21600">
                  <a:moveTo>
                    <a:pt x="21600" y="0"/>
                  </a:moveTo>
                  <a:arcTo wR="21600" hR="8415" stAng="-5400000" swAng="-5400000"/>
                  <a:lnTo>
                    <a:pt x="0" y="8415"/>
                  </a:lnTo>
                  <a:arcTo wR="21600" hR="8415" stAng="10800000" swAng="-160986"/>
                  <a:lnTo>
                    <a:pt x="155" y="9420"/>
                  </a:lnTo>
                  <a:arcTo wR="21600" hR="8415" stAng="-10639014" swAng="5239014"/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rot="16200000">
              <a:off x="4244040" y="1148400"/>
              <a:ext cx="684360" cy="1286280"/>
            </a:xfrm>
            <a:custGeom>
              <a:avLst/>
              <a:gdLst>
                <a:gd name="textAreaLeft" fmla="*/ 91440 w 684360"/>
                <a:gd name="textAreaRight" fmla="*/ 592920 w 684360"/>
                <a:gd name="textAreaTop" fmla="*/ 250560 h 1286280"/>
                <a:gd name="textAreaBottom" fmla="*/ 871560 h 128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415" stAng="-5400000" swAng="-5400000"/>
                  <a:lnTo>
                    <a:pt x="0" y="10425"/>
                  </a:lnTo>
                  <a:arcTo wR="21600" hR="8415" stAng="10800000" swAng="-3938827"/>
                  <a:lnTo>
                    <a:pt x="17849" y="21472"/>
                  </a:lnTo>
                  <a:lnTo>
                    <a:pt x="21600" y="17835"/>
                  </a:lnTo>
                  <a:lnTo>
                    <a:pt x="17849" y="13942"/>
                  </a:lnTo>
                  <a:lnTo>
                    <a:pt x="17849" y="16702"/>
                  </a:lnTo>
                  <a:arcTo wR="21600" hR="8415" stAng="6861173" swAng="3777841"/>
                  <a:lnTo>
                    <a:pt x="155" y="9420"/>
                  </a:lnTo>
                  <a:arcTo wR="21600" hR="8415" stAng="-10639014" swAng="5239014"/>
                  <a:close/>
                </a:path>
                <a:path fill="darkenLess" w="21600" h="21600">
                  <a:moveTo>
                    <a:pt x="21600" y="0"/>
                  </a:moveTo>
                  <a:arcTo wR="21600" hR="8415" stAng="-5400000" swAng="-5400000"/>
                  <a:lnTo>
                    <a:pt x="0" y="8415"/>
                  </a:lnTo>
                  <a:arcTo wR="21600" hR="8415" stAng="10800000" swAng="-160986"/>
                  <a:lnTo>
                    <a:pt x="155" y="9420"/>
                  </a:lnTo>
                  <a:arcTo wR="21600" hR="8415" stAng="-10639014" swAng="5239014"/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744880" y="1370160"/>
            <a:ext cx="2824920" cy="763200"/>
            <a:chOff x="5744880" y="1370160"/>
            <a:chExt cx="2824920" cy="763200"/>
          </a:xfrm>
        </p:grpSpPr>
        <p:sp>
          <p:nvSpPr>
            <p:cNvPr id="469" name=""/>
            <p:cNvSpPr/>
            <p:nvPr/>
          </p:nvSpPr>
          <p:spPr>
            <a:xfrm flipH="1" rot="16200000">
              <a:off x="7583760" y="1071720"/>
              <a:ext cx="687240" cy="1284120"/>
            </a:xfrm>
            <a:custGeom>
              <a:avLst/>
              <a:gdLst>
                <a:gd name="textAreaLeft" fmla="*/ 91800 w 687240"/>
                <a:gd name="textAreaRight" fmla="*/ 595440 w 687240"/>
                <a:gd name="textAreaTop" fmla="*/ 250200 h 1284120"/>
                <a:gd name="textAreaBottom" fmla="*/ 870120 h 128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415" stAng="-5400000" swAng="-5400000"/>
                  <a:lnTo>
                    <a:pt x="0" y="10425"/>
                  </a:lnTo>
                  <a:arcTo wR="21600" hR="8415" stAng="10800000" swAng="-3938827"/>
                  <a:lnTo>
                    <a:pt x="17849" y="21472"/>
                  </a:lnTo>
                  <a:lnTo>
                    <a:pt x="21600" y="17835"/>
                  </a:lnTo>
                  <a:lnTo>
                    <a:pt x="17849" y="13942"/>
                  </a:lnTo>
                  <a:lnTo>
                    <a:pt x="17849" y="16702"/>
                  </a:lnTo>
                  <a:arcTo wR="21600" hR="8415" stAng="6861173" swAng="3777841"/>
                  <a:lnTo>
                    <a:pt x="155" y="9420"/>
                  </a:lnTo>
                  <a:arcTo wR="21600" hR="8415" stAng="-10639014" swAng="5239014"/>
                  <a:close/>
                </a:path>
                <a:path fill="darkenLess" w="21600" h="21600">
                  <a:moveTo>
                    <a:pt x="21600" y="0"/>
                  </a:moveTo>
                  <a:arcTo wR="21600" hR="8415" stAng="-5400000" swAng="-5400000"/>
                  <a:lnTo>
                    <a:pt x="0" y="8415"/>
                  </a:lnTo>
                  <a:arcTo wR="21600" hR="8415" stAng="10800000" swAng="-160986"/>
                  <a:lnTo>
                    <a:pt x="155" y="9420"/>
                  </a:lnTo>
                  <a:arcTo wR="21600" hR="8415" stAng="-10639014" swAng="5239014"/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5400000">
              <a:off x="6043320" y="1147320"/>
              <a:ext cx="687240" cy="1284120"/>
            </a:xfrm>
            <a:custGeom>
              <a:avLst/>
              <a:gdLst>
                <a:gd name="textAreaLeft" fmla="*/ 91800 w 687240"/>
                <a:gd name="textAreaRight" fmla="*/ 595440 w 687240"/>
                <a:gd name="textAreaTop" fmla="*/ 250200 h 1284120"/>
                <a:gd name="textAreaBottom" fmla="*/ 870120 h 128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415" stAng="-5400000" swAng="-5400000"/>
                  <a:lnTo>
                    <a:pt x="0" y="10425"/>
                  </a:lnTo>
                  <a:arcTo wR="21600" hR="8415" stAng="10800000" swAng="-3938827"/>
                  <a:lnTo>
                    <a:pt x="17849" y="21472"/>
                  </a:lnTo>
                  <a:lnTo>
                    <a:pt x="21600" y="17835"/>
                  </a:lnTo>
                  <a:lnTo>
                    <a:pt x="17849" y="13942"/>
                  </a:lnTo>
                  <a:lnTo>
                    <a:pt x="17849" y="16702"/>
                  </a:lnTo>
                  <a:arcTo wR="21600" hR="8415" stAng="6861173" swAng="3777841"/>
                  <a:lnTo>
                    <a:pt x="155" y="9420"/>
                  </a:lnTo>
                  <a:arcTo wR="21600" hR="8415" stAng="-10639014" swAng="5239014"/>
                  <a:close/>
                </a:path>
                <a:path fill="darkenLess" w="21600" h="21600">
                  <a:moveTo>
                    <a:pt x="21600" y="0"/>
                  </a:moveTo>
                  <a:arcTo wR="21600" hR="8415" stAng="-5400000" swAng="-5400000"/>
                  <a:lnTo>
                    <a:pt x="0" y="8415"/>
                  </a:lnTo>
                  <a:arcTo wR="21600" hR="8415" stAng="10800000" swAng="-160986"/>
                  <a:lnTo>
                    <a:pt x="155" y="9420"/>
                  </a:lnTo>
                  <a:arcTo wR="21600" hR="8415" stAng="-10639014" swAng="5239014"/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cc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0" y="4267080"/>
            <a:ext cx="88279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La convection peut être naturelle (radiateurs, cumulus etc.)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57760" y="5943600"/>
            <a:ext cx="428472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… </a:t>
            </a: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ou forcé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DE6-47C9-4010-8DC6-40414F24A6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26960" y="3429000"/>
            <a:ext cx="1798560" cy="29527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3065400" y="0"/>
            <a:ext cx="7221600" cy="40179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0" y="990720"/>
            <a:ext cx="3427560" cy="15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Vent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Turbulence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57640" y="4724280"/>
            <a:ext cx="634500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Brassage mécaniqu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37C-710E-4DDF-9722-5D11823A6D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98600" y="549360"/>
            <a:ext cx="805824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'air atmosphér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41760" y="5183280"/>
            <a:ext cx="3345120" cy="6159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ZOTE 78%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1828800"/>
            <a:ext cx="4114800" cy="6159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400" spc="-1" strike="noStrike">
                <a:solidFill>
                  <a:srgbClr val="00cc99"/>
                </a:solidFill>
                <a:latin typeface="Times New Roman"/>
              </a:rPr>
              <a:t>OXYGENE 21%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920" y="1979640"/>
            <a:ext cx="4371840" cy="615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</a:rPr>
              <a:t>GAZ RARE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3680" y="2708280"/>
            <a:ext cx="2660400" cy="2490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Argon: 0.9%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e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Xénon, Néon, Hélium à l ’état de « traces 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189320" y="220500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89320" y="220500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1052640"/>
            <a:ext cx="1017288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       </a:t>
            </a: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est un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mélang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de divers gaz,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      </a:t>
            </a: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certains en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mic Sans MS"/>
              </a:rPr>
              <a:t>proportions quasiment invariables </a:t>
            </a:r>
            <a:r>
              <a:rPr b="0" lang="en-US" sz="2600" spc="-1" strike="noStrike">
                <a:solidFill>
                  <a:srgbClr val="ffcc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240" y="5445000"/>
            <a:ext cx="446400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Gaz carbonique 0,035%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2160" y="0"/>
            <a:ext cx="630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200" spc="-1" strike="noStrike">
                <a:solidFill>
                  <a:srgbClr val="ffcc00"/>
                </a:solidFill>
                <a:latin typeface="Comic Sans MS"/>
              </a:rPr>
              <a:t>Sur</a:t>
            </a:r>
            <a:r>
              <a:rPr b="1" lang="fr-FR" sz="2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fr-FR" sz="2200" spc="-1" strike="noStrike">
                <a:solidFill>
                  <a:srgbClr val="ffcc00"/>
                </a:solidFill>
                <a:latin typeface="Comic Sans MS"/>
              </a:rPr>
              <a:t>une épaisseur d’environ 80 km,</a:t>
            </a:r>
            <a:r>
              <a:rPr b="1" lang="fr-FR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40" y="4940280"/>
            <a:ext cx="102567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Cette partie de l’atmosphère terrestre est appel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« homosphère 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et correspond en gros à l’atmosphère « météorologique 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Au dessus de 80 km, les gaz se séparent et s’étagent par ordre de masse volumique décroissante (hétérosphèr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5677-00C3-4F88-A87A-4D9F88305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327320" y="1413000"/>
            <a:ext cx="7005600" cy="452916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17400" y="522360"/>
            <a:ext cx="1843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665280"/>
            <a:ext cx="18396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6280" y="0"/>
            <a:ext cx="1839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93160" y="189000"/>
            <a:ext cx="81777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: </a:t>
            </a:r>
            <a:r>
              <a:rPr b="1" i="1" lang="en-US" sz="4400" spc="-1" strike="noStrike">
                <a:solidFill>
                  <a:srgbClr val="ffcc00"/>
                </a:solidFill>
                <a:latin typeface="Comic Sans MS"/>
              </a:rPr>
              <a:t>Le Rayonnement therm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-41400" y="2795760"/>
            <a:ext cx="10287000" cy="9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3: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Interaction du rayon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solaire avec l ’atmosphère terrestre et les s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-52560" y="1643040"/>
            <a:ext cx="9937800" cy="9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2: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Rayonnement de la Terre et rayonnement so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avant son entrée dans l ’atmosphère terre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9520" y="105264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-1: </a:t>
            </a:r>
            <a:r>
              <a:rPr b="1" i="1" lang="en-US" sz="2800" spc="-1" strike="noStrike">
                <a:solidFill>
                  <a:srgbClr val="ff3300"/>
                </a:solidFill>
                <a:latin typeface="Comic Sans MS"/>
              </a:rPr>
              <a:t>Définitions et proprié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920" y="4792680"/>
            <a:ext cx="999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5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: Quelques applications à des faits d ’observation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cour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920" y="3774960"/>
            <a:ext cx="1022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4: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Interaction du rayonnement terrestre avec     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l’atmosph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80F-527B-42C2-98F0-E45E2CC601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4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0" y="0"/>
            <a:ext cx="10286280" cy="6858000"/>
            <a:chOff x="0" y="0"/>
            <a:chExt cx="10286280" cy="6858000"/>
          </a:xfrm>
        </p:grpSpPr>
        <p:grpSp>
          <p:nvGrpSpPr>
            <p:cNvPr id="488" name=""/>
            <p:cNvGrpSpPr/>
            <p:nvPr/>
          </p:nvGrpSpPr>
          <p:grpSpPr>
            <a:xfrm>
              <a:off x="0" y="0"/>
              <a:ext cx="10286280" cy="6858000"/>
              <a:chOff x="0" y="0"/>
              <a:chExt cx="10286280" cy="6858000"/>
            </a:xfrm>
          </p:grpSpPr>
          <p:sp>
            <p:nvSpPr>
              <p:cNvPr id="489" name=""/>
              <p:cNvSpPr/>
              <p:nvPr/>
            </p:nvSpPr>
            <p:spPr>
              <a:xfrm>
                <a:off x="0" y="0"/>
                <a:ext cx="10286280" cy="685800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00000" y="1752480"/>
                <a:ext cx="3257280" cy="2698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1" name=""/>
            <p:cNvSpPr/>
            <p:nvPr/>
          </p:nvSpPr>
          <p:spPr>
            <a:xfrm>
              <a:off x="1371600" y="228600"/>
              <a:ext cx="7800480" cy="16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5200" spc="-1" strike="noStrike">
                  <a:solidFill>
                    <a:srgbClr val="ffffcc"/>
                  </a:solidFill>
                  <a:latin typeface="Comic Sans MS"/>
                </a:rPr>
                <a:t>Le rayonnement thermique :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44520" y="4648320"/>
            <a:ext cx="9597960" cy="12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mais sous forme d’ondes électromagnétique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comme la lumière ou les ondes radioélectrique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1560" y="2058840"/>
            <a:ext cx="27432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C’est la transmission de la chaleur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029360" y="2284560"/>
            <a:ext cx="300060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sans support matériel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7040" y="5408640"/>
            <a:ext cx="97729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FF2-94A8-4F72-B878-C40D2BD4F4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9" dur="8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0" dur="8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8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0000"/>
            </a:gs>
            <a:gs pos="50000">
              <a:srgbClr val="ff66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968544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Dans le vide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le rayonnement </a:t>
            </a: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Comic Sans MS"/>
              </a:rPr>
              <a:t>thermique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se propag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- sans perte d’é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91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- en ligne droi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Comic Sans MS"/>
              </a:rPr>
              <a:t>- et presque instantané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-147600" y="3284640"/>
            <a:ext cx="6514920" cy="3370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47520" y="3821040"/>
            <a:ext cx="1013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Dans l’air et à la traversée de certains matériaux transparents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:         la vitesse de propagation est modifié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n grand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t parfois en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8280" y="5492880"/>
            <a:ext cx="85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’énergie est diminuée par absorption  et par diff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07360" y="2822400"/>
            <a:ext cx="74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Sa vitesse de propagation est de 300 OOO km/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83C-A260-4061-B68B-FEB64B818A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6197760" y="2438280"/>
            <a:ext cx="4089240" cy="8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Comic Sans MS"/>
              </a:rPr>
              <a:t>il s’échauf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1201680" y="1905120"/>
            <a:ext cx="5313600" cy="45464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426960" y="228600"/>
            <a:ext cx="917568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Quand un corps est exposé à un rayonnement,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E22-E4FF-4E25-9ECE-826A087491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1160" y="-27000"/>
            <a:ext cx="10461600" cy="6946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228600"/>
            <a:ext cx="78008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5120" y="260280"/>
            <a:ext cx="9772920" cy="9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Tout corps dont la température est non nulle émet un rayonnement therm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03880" y="2565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-96480" y="1197000"/>
            <a:ext cx="104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elon la 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Comic Sans MS"/>
              </a:rPr>
              <a:t>température</a:t>
            </a: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 de l'objet qui émet le rayonnement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ce dernier peut être nous apparaîtr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77600" y="5589720"/>
            <a:ext cx="57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Dans les deux cas, on parl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rayonnement du « corps noir 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65160" y="2549520"/>
            <a:ext cx="4363920" cy="3252960"/>
            <a:chOff x="65160" y="2549520"/>
            <a:chExt cx="4363920" cy="3252960"/>
          </a:xfrm>
        </p:grpSpPr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360360" y="3103560"/>
              <a:ext cx="3257640" cy="26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5160" y="2549520"/>
              <a:ext cx="43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comme </a:t>
              </a:r>
              <a:r>
                <a:rPr b="1" lang="en-US" sz="2800" spc="-1" strike="noStrike" u="sng">
                  <a:solidFill>
                    <a:srgbClr val="ffffcc"/>
                  </a:solidFill>
                  <a:uFillTx/>
                  <a:latin typeface="Comic Sans MS"/>
                </a:rPr>
                <a:t>très lumineux</a:t>
              </a: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234800" y="4437000"/>
              <a:ext cx="13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6000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4680" y="3789360"/>
              <a:ext cx="263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empératu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 surface du Soleil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380280" y="2611440"/>
            <a:ext cx="3833640" cy="3136320"/>
            <a:chOff x="6380280" y="2611440"/>
            <a:chExt cx="3833640" cy="3136320"/>
          </a:xfrm>
        </p:grpSpPr>
        <p:sp>
          <p:nvSpPr>
            <p:cNvPr id="516" name=""/>
            <p:cNvSpPr/>
            <p:nvPr/>
          </p:nvSpPr>
          <p:spPr>
            <a:xfrm>
              <a:off x="6380280" y="2611440"/>
              <a:ext cx="3833640" cy="14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Comic Sans MS"/>
                </a:rPr>
                <a:t> </a:t>
              </a:r>
              <a:r>
                <a:rPr b="1" lang="en-US" sz="2800" spc="-1" strike="noStrike">
                  <a:solidFill>
                    <a:srgbClr val="ffffcc"/>
                  </a:solidFill>
                  <a:latin typeface="Comic Sans MS"/>
                </a:rPr>
                <a:t>ou, au contraire,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800" spc="-1" strike="noStrike" u="sng">
                  <a:solidFill>
                    <a:srgbClr val="ffffcc"/>
                  </a:solidFill>
                  <a:uFillTx/>
                  <a:latin typeface="Comic Sans MS"/>
                </a:rPr>
                <a:t>totalement invisible</a:t>
              </a:r>
              <a:r>
                <a:rPr b="1" lang="en-US" sz="2000" spc="-1" strike="noStrike">
                  <a:solidFill>
                    <a:srgbClr val="ffffcc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805440" y="3879720"/>
              <a:ext cx="317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Température moyen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de la surface de la Terr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7645320" y="4569840"/>
              <a:ext cx="1247760" cy="1177920"/>
              <a:chOff x="7645320" y="4569840"/>
              <a:chExt cx="1247760" cy="1177920"/>
            </a:xfrm>
          </p:grpSpPr>
          <p:grpSp>
            <p:nvGrpSpPr>
              <p:cNvPr id="519" name=""/>
              <p:cNvGrpSpPr/>
              <p:nvPr/>
            </p:nvGrpSpPr>
            <p:grpSpPr>
              <a:xfrm>
                <a:off x="7645320" y="4569840"/>
                <a:ext cx="1247760" cy="1177920"/>
                <a:chOff x="7645320" y="4569840"/>
                <a:chExt cx="1247760" cy="1177920"/>
              </a:xfrm>
            </p:grpSpPr>
            <p:pic>
              <p:nvPicPr>
                <p:cNvPr id="5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645320" y="4581360"/>
                  <a:ext cx="1243080" cy="112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1" name=""/>
                <p:cNvSpPr/>
                <p:nvPr/>
              </p:nvSpPr>
              <p:spPr>
                <a:xfrm rot="10643400">
                  <a:off x="8219520" y="4583880"/>
                  <a:ext cx="647640" cy="114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d4d4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"/>
              <p:cNvSpPr/>
              <p:nvPr/>
            </p:nvSpPr>
            <p:spPr>
              <a:xfrm>
                <a:off x="7690320" y="4869000"/>
                <a:ext cx="111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mic Sans MS"/>
                  </a:rPr>
                  <a:t>288 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C50-835D-4723-91DC-85992928AC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371600" y="228600"/>
            <a:ext cx="78008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03880" y="2565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29160" y="260280"/>
            <a:ext cx="576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 appelle « corps noir » isother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n corps théor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pable d’absorber intégra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ut le rayonnement qu’il reço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22240" y="5805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 corps noir a atteint sa température d’équilibre radiati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820880" y="447372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orsque l’énergie perdue par rayonn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mpense celle qui est reçu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a température se stabil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34440" y="321300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l émet à son tour un rayonnement therm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nt l’intensité augmente avec sa tempé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27920" y="2133720"/>
            <a:ext cx="47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a tempé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’élève alors progressi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7960" y="-152640"/>
            <a:ext cx="3660840" cy="2885040"/>
            <a:chOff x="57960" y="-152640"/>
            <a:chExt cx="3660840" cy="2885040"/>
          </a:xfrm>
        </p:grpSpPr>
        <p:grpSp>
          <p:nvGrpSpPr>
            <p:cNvPr id="531" name=""/>
            <p:cNvGrpSpPr/>
            <p:nvPr/>
          </p:nvGrpSpPr>
          <p:grpSpPr>
            <a:xfrm>
              <a:off x="750960" y="549360"/>
              <a:ext cx="2087280" cy="1510920"/>
              <a:chOff x="750960" y="549360"/>
              <a:chExt cx="2087280" cy="1510920"/>
            </a:xfrm>
          </p:grpSpPr>
          <p:sp>
            <p:nvSpPr>
              <p:cNvPr id="532" name=""/>
              <p:cNvSpPr/>
              <p:nvPr/>
            </p:nvSpPr>
            <p:spPr>
              <a:xfrm>
                <a:off x="750960" y="549360"/>
                <a:ext cx="2087280" cy="151092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98720" y="753120"/>
                <a:ext cx="1473480" cy="1128600"/>
              </a:xfrm>
              <a:prstGeom prst="ellipse">
                <a:avLst/>
              </a:prstGeom>
              <a:solidFill>
                <a:srgbClr val="3333cc"/>
              </a:solidFill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57960" y="-152640"/>
              <a:ext cx="3660840" cy="2885040"/>
              <a:chOff x="57960" y="-152640"/>
              <a:chExt cx="3660840" cy="2885040"/>
            </a:xfrm>
          </p:grpSpPr>
          <p:pic>
            <p:nvPicPr>
              <p:cNvPr id="535" name="" descr=""/>
              <p:cNvPicPr/>
              <p:nvPr/>
            </p:nvPicPr>
            <p:blipFill>
              <a:blip r:embed="rId2"/>
              <a:stretch/>
            </p:blipFill>
            <p:spPr>
              <a:xfrm rot="13348800">
                <a:off x="1957320" y="380520"/>
                <a:ext cx="18036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6" name="" descr=""/>
              <p:cNvPicPr/>
              <p:nvPr/>
            </p:nvPicPr>
            <p:blipFill>
              <a:blip r:embed="rId3"/>
              <a:stretch/>
            </p:blipFill>
            <p:spPr>
              <a:xfrm rot="16407600">
                <a:off x="2484000" y="1050840"/>
                <a:ext cx="1440000" cy="73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" descr=""/>
              <p:cNvPicPr/>
              <p:nvPr/>
            </p:nvPicPr>
            <p:blipFill>
              <a:blip r:embed="rId4"/>
              <a:stretch/>
            </p:blipFill>
            <p:spPr>
              <a:xfrm rot="1734000">
                <a:off x="534960" y="1898640"/>
                <a:ext cx="1055880" cy="53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" descr=""/>
              <p:cNvPicPr/>
              <p:nvPr/>
            </p:nvPicPr>
            <p:blipFill>
              <a:blip r:embed="rId5"/>
              <a:stretch/>
            </p:blipFill>
            <p:spPr>
              <a:xfrm rot="5137200">
                <a:off x="-135000" y="1149120"/>
                <a:ext cx="1265040" cy="64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" descr=""/>
              <p:cNvPicPr/>
              <p:nvPr/>
            </p:nvPicPr>
            <p:blipFill>
              <a:blip r:embed="rId6"/>
              <a:stretch/>
            </p:blipFill>
            <p:spPr>
              <a:xfrm rot="7026000">
                <a:off x="720" y="410400"/>
                <a:ext cx="1276200" cy="65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" descr=""/>
              <p:cNvPicPr/>
              <p:nvPr/>
            </p:nvPicPr>
            <p:blipFill>
              <a:blip r:embed="rId7"/>
              <a:stretch/>
            </p:blipFill>
            <p:spPr>
              <a:xfrm rot="18121800">
                <a:off x="2194560" y="1703880"/>
                <a:ext cx="1262160" cy="64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" descr="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1036800" y="0"/>
                <a:ext cx="1604880" cy="60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252800" y="2043000"/>
                <a:ext cx="1081080" cy="536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43" name=""/>
          <p:cNvGrpSpPr/>
          <p:nvPr/>
        </p:nvGrpSpPr>
        <p:grpSpPr>
          <a:xfrm>
            <a:off x="23400" y="-146880"/>
            <a:ext cx="3508200" cy="2822400"/>
            <a:chOff x="23400" y="-146880"/>
            <a:chExt cx="3508200" cy="2822400"/>
          </a:xfrm>
        </p:grpSpPr>
        <p:pic>
          <p:nvPicPr>
            <p:cNvPr id="544" name="" descr=""/>
            <p:cNvPicPr/>
            <p:nvPr/>
          </p:nvPicPr>
          <p:blipFill>
            <a:blip r:embed="rId10"/>
            <a:stretch/>
          </p:blipFill>
          <p:spPr>
            <a:xfrm rot="3654600">
              <a:off x="2448720" y="691920"/>
              <a:ext cx="115272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11"/>
            <a:stretch/>
          </p:blipFill>
          <p:spPr>
            <a:xfrm flipH="1" rot="1611600">
              <a:off x="1758600" y="115560"/>
              <a:ext cx="1295280" cy="55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" descr=""/>
            <p:cNvPicPr/>
            <p:nvPr/>
          </p:nvPicPr>
          <p:blipFill>
            <a:blip r:embed="rId12"/>
            <a:stretch/>
          </p:blipFill>
          <p:spPr>
            <a:xfrm rot="9586200">
              <a:off x="1902960" y="1974240"/>
              <a:ext cx="1152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7" name="" descr=""/>
            <p:cNvPicPr/>
            <p:nvPr/>
          </p:nvPicPr>
          <p:blipFill>
            <a:blip r:embed="rId13"/>
            <a:stretch/>
          </p:blipFill>
          <p:spPr>
            <a:xfrm rot="17624400">
              <a:off x="-83880" y="835920"/>
              <a:ext cx="115236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" descr=""/>
            <p:cNvPicPr/>
            <p:nvPr/>
          </p:nvPicPr>
          <p:blipFill>
            <a:blip r:embed="rId14"/>
            <a:stretch/>
          </p:blipFill>
          <p:spPr>
            <a:xfrm rot="13066800">
              <a:off x="174240" y="1699920"/>
              <a:ext cx="115236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" descr=""/>
            <p:cNvPicPr/>
            <p:nvPr/>
          </p:nvPicPr>
          <p:blipFill>
            <a:blip r:embed="rId15"/>
            <a:stretch/>
          </p:blipFill>
          <p:spPr>
            <a:xfrm rot="20109000">
              <a:off x="605880" y="115560"/>
              <a:ext cx="1152720" cy="51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A0A-F51B-482D-8E05-C70DE2DC24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-41400" y="0"/>
            <a:ext cx="10461600" cy="69469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371600" y="228600"/>
            <a:ext cx="780084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203880" y="2565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60360" y="2549520"/>
            <a:ext cx="3257640" cy="3252960"/>
            <a:chOff x="360360" y="2549520"/>
            <a:chExt cx="3257640" cy="3252960"/>
          </a:xfrm>
        </p:grpSpPr>
        <p:pic>
          <p:nvPicPr>
            <p:cNvPr id="554" name="" descr=""/>
            <p:cNvPicPr/>
            <p:nvPr/>
          </p:nvPicPr>
          <p:blipFill>
            <a:blip r:embed="rId1"/>
            <a:stretch/>
          </p:blipFill>
          <p:spPr>
            <a:xfrm>
              <a:off x="360360" y="3103560"/>
              <a:ext cx="3257640" cy="26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2146320" y="25495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234800" y="4437000"/>
              <a:ext cx="13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6000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4680" y="3789360"/>
              <a:ext cx="263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empératur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 surface du Soleil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6805440" y="2708280"/>
            <a:ext cx="3178440" cy="3039480"/>
            <a:chOff x="6805440" y="2708280"/>
            <a:chExt cx="3178440" cy="3039480"/>
          </a:xfrm>
        </p:grpSpPr>
        <p:sp>
          <p:nvSpPr>
            <p:cNvPr id="559" name=""/>
            <p:cNvSpPr/>
            <p:nvPr/>
          </p:nvSpPr>
          <p:spPr>
            <a:xfrm>
              <a:off x="8173800" y="2708280"/>
              <a:ext cx="24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05440" y="3879720"/>
              <a:ext cx="317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Température moyenn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de la surface de la Terre 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7645320" y="4569840"/>
              <a:ext cx="1247760" cy="1177920"/>
              <a:chOff x="7645320" y="4569840"/>
              <a:chExt cx="1247760" cy="1177920"/>
            </a:xfrm>
          </p:grpSpPr>
          <p:grpSp>
            <p:nvGrpSpPr>
              <p:cNvPr id="562" name=""/>
              <p:cNvGrpSpPr/>
              <p:nvPr/>
            </p:nvGrpSpPr>
            <p:grpSpPr>
              <a:xfrm>
                <a:off x="7645320" y="4569840"/>
                <a:ext cx="1247760" cy="1177920"/>
                <a:chOff x="7645320" y="4569840"/>
                <a:chExt cx="1247760" cy="1177920"/>
              </a:xfrm>
            </p:grpSpPr>
            <p:pic>
              <p:nvPicPr>
                <p:cNvPr id="56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645320" y="4581360"/>
                  <a:ext cx="1243080" cy="1124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4" name=""/>
                <p:cNvSpPr/>
                <p:nvPr/>
              </p:nvSpPr>
              <p:spPr>
                <a:xfrm rot="10643400">
                  <a:off x="8219520" y="4583880"/>
                  <a:ext cx="647640" cy="114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20250" y="3391"/>
                        <a:pt x="18900" y="5080"/>
                        <a:pt x="18900" y="10800"/>
                      </a:cubicBezTo>
                      <a:cubicBezTo>
                        <a:pt x="18900" y="16520"/>
                        <a:pt x="20250" y="18209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4d4d4d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"/>
              <p:cNvSpPr/>
              <p:nvPr/>
            </p:nvSpPr>
            <p:spPr>
              <a:xfrm>
                <a:off x="7690320" y="4869000"/>
                <a:ext cx="1118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Comic Sans MS"/>
                  </a:rPr>
                  <a:t>288 K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1377720" y="141120"/>
            <a:ext cx="767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s propriétés  du rayonnement de ce corps no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ont prévues par la théorie dite « du corps noir 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22240" y="580536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’est, en particulier, le cas  des rayonnement émis par la Terre et le Soleil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8200" y="1341360"/>
            <a:ext cx="91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’intérêt de cette théorie réside dans le fa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qu’elle décrit très correct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 rayonnement émis par un grand nombre de corps réels.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C836-F205-49E6-B98A-B2D0EC8C9A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414600" y="1196640"/>
            <a:ext cx="7183440" cy="237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7000"/>
          </a:bodyPr>
          <a:p>
            <a:pPr marL="357120" indent="0" algn="ctr">
              <a:spcBef>
                <a:spcPts val="70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L ’énergie émis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- par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unité de temps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(puissance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- perpendiculairement à un élément 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          de surface unité </a:t>
            </a: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du corps émetteu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5320" y="4664160"/>
            <a:ext cx="8287560" cy="207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C’est en fait un débit d’énergi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t l’on parle de « 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flux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 » de ray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(ou « d’intensité »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l s’exprime en Watts par m</a:t>
            </a:r>
            <a:r>
              <a:rPr b="1" lang="en-US" sz="32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3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en-US" sz="3400" spc="-1" strike="noStrike">
                <a:solidFill>
                  <a:srgbClr val="000099"/>
                </a:solidFill>
                <a:latin typeface="Comic Sans MS"/>
              </a:rPr>
              <a:t>W.m</a:t>
            </a:r>
            <a:r>
              <a:rPr b="1" lang="en-US" sz="3400" spc="-1" strike="noStrike" baseline="30000">
                <a:solidFill>
                  <a:srgbClr val="000099"/>
                </a:solidFill>
                <a:latin typeface="Comic Sans MS"/>
              </a:rPr>
              <a:t>-2</a:t>
            </a:r>
            <a:r>
              <a:rPr b="1" lang="en-US" sz="3400" spc="-1" strike="noStrike">
                <a:solidFill>
                  <a:srgbClr val="000099"/>
                </a:solidFill>
                <a:latin typeface="Times New Roman"/>
              </a:rPr>
              <a:t>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39680" y="3782880"/>
            <a:ext cx="82314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est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Comic Sans MS"/>
              </a:rPr>
              <a:t>fonction de la température du cor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50960" y="35733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534960" y="1268280"/>
            <a:ext cx="2489040" cy="1873080"/>
            <a:chOff x="534960" y="1268280"/>
            <a:chExt cx="2489040" cy="1873080"/>
          </a:xfrm>
        </p:grpSpPr>
        <p:sp>
          <p:nvSpPr>
            <p:cNvPr id="574" name=""/>
            <p:cNvSpPr/>
            <p:nvPr/>
          </p:nvSpPr>
          <p:spPr>
            <a:xfrm>
              <a:off x="534960" y="1268280"/>
              <a:ext cx="2143080" cy="1873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139600">
              <a:off x="2209680" y="1631520"/>
              <a:ext cx="432000" cy="813240"/>
            </a:xfrm>
            <a:prstGeom prst="ellipse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2461680" y="1777320"/>
              <a:ext cx="466200" cy="2678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2335320" y="1670040"/>
              <a:ext cx="431640" cy="34020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335320" y="1508760"/>
              <a:ext cx="430200" cy="34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2576880" y="1999800"/>
              <a:ext cx="447120" cy="1742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-42840" y="765000"/>
            <a:ext cx="3673080" cy="2952720"/>
            <a:chOff x="-42840" y="765000"/>
            <a:chExt cx="3673080" cy="2952720"/>
          </a:xfrm>
        </p:grpSpPr>
        <p:pic>
          <p:nvPicPr>
            <p:cNvPr id="581" name="" descr=""/>
            <p:cNvPicPr/>
            <p:nvPr/>
          </p:nvPicPr>
          <p:blipFill>
            <a:blip r:embed="rId1"/>
            <a:stretch/>
          </p:blipFill>
          <p:spPr>
            <a:xfrm>
              <a:off x="-42840" y="765000"/>
              <a:ext cx="367308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946800" y="1866240"/>
              <a:ext cx="132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6000 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204640" y="206280"/>
            <a:ext cx="57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Principales proprié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B391-ACA0-43EE-B1F0-1C05E3AA19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-387360"/>
            <a:ext cx="10287000" cy="42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Le rayonnement thermique est composé d’un éventail de rad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de différentes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longueurs d’onde  </a:t>
            </a:r>
            <a:r>
              <a:rPr b="1" lang="fr-FR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fr-FR" sz="24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,</a:t>
            </a:r>
            <a:r>
              <a:rPr b="1" lang="fr-FR" sz="2400" spc="-1" strike="noStrike" baseline="-25000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fr-FR" sz="2400" spc="-1" strike="noStrike" baseline="-25000">
                <a:solidFill>
                  <a:srgbClr val="ffcc00"/>
                </a:solidFill>
                <a:latin typeface="Comic Sans MS"/>
              </a:rPr>
              <a:t>2 </a:t>
            </a: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,</a:t>
            </a:r>
            <a:r>
              <a:rPr b="1" lang="fr-FR" sz="2400" spc="-1" strike="noStrike" baseline="-25000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fr-FR" sz="2400" spc="-1" strike="noStrike" baseline="-25000">
                <a:solidFill>
                  <a:srgbClr val="ffcc00"/>
                </a:solidFill>
                <a:latin typeface="Comic Sans MS"/>
              </a:rPr>
              <a:t>3,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fr-FR" sz="2400" spc="-1" strike="noStrike" baseline="-25000">
                <a:solidFill>
                  <a:srgbClr val="ffcc00"/>
                </a:solidFill>
                <a:latin typeface="Comic Sans MS"/>
              </a:rPr>
              <a:t>4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cc00"/>
                </a:solidFill>
                <a:latin typeface="Comic Sans MS"/>
              </a:rPr>
              <a:t>…</a:t>
            </a: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etc.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ffcc00"/>
                </a:solidFill>
                <a:latin typeface="Comic Sans MS"/>
              </a:rPr>
              <a:t>repr</a:t>
            </a:r>
            <a:r>
              <a:rPr b="1" i="1" lang="fr-FR" sz="2400" spc="-1" strike="noStrike">
                <a:solidFill>
                  <a:srgbClr val="ffcc00"/>
                </a:solidFill>
                <a:latin typeface="Comic Sans MS"/>
              </a:rPr>
              <a:t>é</a:t>
            </a:r>
            <a:r>
              <a:rPr b="1" i="1" lang="en-US" sz="2400" spc="-1" strike="noStrike">
                <a:solidFill>
                  <a:srgbClr val="ffcc00"/>
                </a:solidFill>
                <a:latin typeface="Comic Sans MS"/>
              </a:rPr>
              <a:t>sentées ici par des barres colorées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C’est un ensemble contin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limitée par deux longueur d’onde extrêmes  </a:t>
            </a: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 et </a:t>
            </a:r>
            <a:r>
              <a:rPr b="1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fr-FR" sz="2400" spc="-1" strike="noStrike" baseline="-25000">
                <a:solidFill>
                  <a:srgbClr val="ffffff"/>
                </a:solidFill>
                <a:latin typeface="Times New Roman"/>
              </a:rPr>
              <a:t>F </a:t>
            </a:r>
            <a:r>
              <a:rPr b="1" lang="fr-FR" sz="2400" spc="-1" strike="noStrike">
                <a:solidFill>
                  <a:srgbClr val="ff9933"/>
                </a:solidFill>
                <a:latin typeface="Times New Roman"/>
              </a:rPr>
              <a:t>,</a:t>
            </a: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 u="sng">
                <a:solidFill>
                  <a:srgbClr val="ffcc00"/>
                </a:solidFill>
                <a:uFillTx/>
                <a:latin typeface="Comic Sans MS"/>
              </a:rPr>
              <a:t> </a:t>
            </a:r>
            <a:r>
              <a:rPr b="1" lang="fr-FR" sz="2400" spc="-1" strike="noStrike" u="sng">
                <a:solidFill>
                  <a:srgbClr val="ffcc00"/>
                </a:solidFill>
                <a:uFillTx/>
                <a:latin typeface="Comic Sans MS"/>
              </a:rPr>
              <a:t>fixées par la température du cor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95320" y="5300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L’intensité  transportée par chacune d’el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1" i="1" lang="en-US" sz="2400" spc="-1" strike="noStrike">
                <a:solidFill>
                  <a:srgbClr val="ffcc00"/>
                </a:solidFill>
                <a:latin typeface="Comic Sans MS"/>
              </a:rPr>
              <a:t>représentée par la hauteur des barres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) est fonction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cc00"/>
              </a:buClr>
              <a:buFont typeface="Comic Sans MS"/>
              <a:buChar char="•"/>
              <a:tabLst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de la températu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fcc00"/>
              </a:buClr>
              <a:buFont typeface="Comic Sans MS"/>
              <a:buChar char="•"/>
              <a:tabLst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et d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la longueur d’on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-323280" y="1773360"/>
            <a:ext cx="1133280" cy="3022200"/>
            <a:chOff x="-323280" y="1773360"/>
            <a:chExt cx="1133280" cy="3022200"/>
          </a:xfrm>
        </p:grpSpPr>
        <p:sp>
          <p:nvSpPr>
            <p:cNvPr id="587" name=""/>
            <p:cNvSpPr/>
            <p:nvPr/>
          </p:nvSpPr>
          <p:spPr>
            <a:xfrm flipV="1">
              <a:off x="98640" y="2204640"/>
              <a:ext cx="10800" cy="2590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-323280" y="1773360"/>
              <a:ext cx="113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lu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46240" y="4869000"/>
            <a:ext cx="4672440" cy="510120"/>
            <a:chOff x="246240" y="4869000"/>
            <a:chExt cx="4672440" cy="510120"/>
          </a:xfrm>
        </p:grpSpPr>
        <p:sp>
          <p:nvSpPr>
            <p:cNvPr id="590" name=""/>
            <p:cNvSpPr/>
            <p:nvPr/>
          </p:nvSpPr>
          <p:spPr>
            <a:xfrm>
              <a:off x="246240" y="4869000"/>
              <a:ext cx="64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1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461840" y="4869000"/>
              <a:ext cx="456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63680" y="3860640"/>
            <a:ext cx="4336920" cy="906480"/>
            <a:chOff x="463680" y="3860640"/>
            <a:chExt cx="4336920" cy="906480"/>
          </a:xfrm>
        </p:grpSpPr>
        <p:sp>
          <p:nvSpPr>
            <p:cNvPr id="593" name=""/>
            <p:cNvSpPr/>
            <p:nvPr/>
          </p:nvSpPr>
          <p:spPr>
            <a:xfrm>
              <a:off x="1380960" y="3860640"/>
              <a:ext cx="30672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30600" y="4233960"/>
              <a:ext cx="289080" cy="5079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039680" y="4003560"/>
              <a:ext cx="358920" cy="720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05280" y="3860640"/>
              <a:ext cx="306360" cy="863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50960" y="4319640"/>
              <a:ext cx="288720" cy="403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3680" y="4506840"/>
              <a:ext cx="304560" cy="2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19680" y="4363920"/>
              <a:ext cx="304560" cy="358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206960" y="4506840"/>
              <a:ext cx="304560" cy="216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95680" y="4651200"/>
              <a:ext cx="304920" cy="73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1640" y="4076640"/>
              <a:ext cx="304560" cy="690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74600" y="3436920"/>
            <a:ext cx="6915960" cy="1821240"/>
            <a:chOff x="174600" y="3436920"/>
            <a:chExt cx="6915960" cy="1821240"/>
          </a:xfrm>
        </p:grpSpPr>
        <p:sp>
          <p:nvSpPr>
            <p:cNvPr id="604" name=""/>
            <p:cNvSpPr/>
            <p:nvPr/>
          </p:nvSpPr>
          <p:spPr>
            <a:xfrm>
              <a:off x="4855320" y="4859280"/>
              <a:ext cx="22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ongueur d ’on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1706400" y="3436920"/>
              <a:ext cx="1403280" cy="1764720"/>
              <a:chOff x="1706400" y="3436920"/>
              <a:chExt cx="1403280" cy="1764720"/>
            </a:xfrm>
          </p:grpSpPr>
          <p:sp>
            <p:nvSpPr>
              <p:cNvPr id="606" name=""/>
              <p:cNvSpPr/>
              <p:nvPr/>
            </p:nvSpPr>
            <p:spPr>
              <a:xfrm>
                <a:off x="2700360" y="3797280"/>
                <a:ext cx="304920" cy="979560"/>
              </a:xfrm>
              <a:prstGeom prst="rect">
                <a:avLst/>
              </a:pr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19320" y="4759200"/>
                <a:ext cx="423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2000" spc="-1" strike="noStrike" baseline="-25000">
                    <a:solidFill>
                      <a:srgbClr val="ffff00"/>
                    </a:solidFill>
                    <a:latin typeface="Comic Sans MS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013120" y="3436920"/>
                <a:ext cx="380880" cy="13240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68320" y="4759200"/>
                <a:ext cx="40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000" spc="-1" strike="noStrike">
                    <a:solidFill>
                      <a:srgbClr val="00cc99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2000" spc="-1" strike="noStrike" baseline="-25000">
                    <a:solidFill>
                      <a:srgbClr val="00cc99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06400" y="3666960"/>
                <a:ext cx="306720" cy="109404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416320" y="4759200"/>
                <a:ext cx="40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000" spc="-1" strike="noStrike">
                    <a:solidFill>
                      <a:srgbClr val="ff66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2000" spc="-1" strike="noStrike" baseline="-25000">
                    <a:solidFill>
                      <a:srgbClr val="ff6600"/>
                    </a:solidFill>
                    <a:latin typeface="Comic Sans MS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394000" y="3610080"/>
                <a:ext cx="306360" cy="1150920"/>
              </a:xfrm>
              <a:prstGeom prst="rect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705040" y="4761000"/>
                <a:ext cx="40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Comic Sans MS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174600" y="4770360"/>
              <a:ext cx="54849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4981320" y="3381480"/>
            <a:ext cx="522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Chaque radiation trans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une partie de la puissance ém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045-EED0-4C6F-854C-E81ECA0E0A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1760"/>
                            </p:stCondLst>
                            <p:childTnLst>
                              <p:par>
                                <p:cTn id="8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260"/>
                            </p:stCondLst>
                            <p:childTnLst>
                              <p:par>
                                <p:cTn id="8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1" dur="8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8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7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8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9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03320" y="4076640"/>
            <a:ext cx="4815360" cy="1475280"/>
            <a:chOff x="103320" y="4076640"/>
            <a:chExt cx="4815360" cy="1475280"/>
          </a:xfrm>
        </p:grpSpPr>
        <p:grpSp>
          <p:nvGrpSpPr>
            <p:cNvPr id="617" name=""/>
            <p:cNvGrpSpPr/>
            <p:nvPr/>
          </p:nvGrpSpPr>
          <p:grpSpPr>
            <a:xfrm>
              <a:off x="174600" y="4076640"/>
              <a:ext cx="4626000" cy="881280"/>
              <a:chOff x="174600" y="4076640"/>
              <a:chExt cx="4626000" cy="881280"/>
            </a:xfrm>
          </p:grpSpPr>
          <p:sp>
            <p:nvSpPr>
              <p:cNvPr id="618" name=""/>
              <p:cNvSpPr/>
              <p:nvPr/>
            </p:nvSpPr>
            <p:spPr>
              <a:xfrm>
                <a:off x="1380960" y="4076640"/>
                <a:ext cx="306720" cy="863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630600" y="4449600"/>
                <a:ext cx="289080" cy="5083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9680" y="4219560"/>
                <a:ext cx="358920" cy="720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005280" y="4076640"/>
                <a:ext cx="306360" cy="8636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311640" y="4249800"/>
                <a:ext cx="304560" cy="690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50960" y="4535640"/>
                <a:ext cx="288720" cy="40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63680" y="4722840"/>
                <a:ext cx="304560" cy="216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74600" y="4867200"/>
                <a:ext cx="304920" cy="7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919680" y="4579920"/>
                <a:ext cx="30456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206960" y="4722840"/>
                <a:ext cx="304560" cy="216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495680" y="4867200"/>
                <a:ext cx="304920" cy="73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103320" y="4994280"/>
              <a:ext cx="4815360" cy="557640"/>
              <a:chOff x="103320" y="4994280"/>
              <a:chExt cx="4815360" cy="557640"/>
            </a:xfrm>
          </p:grpSpPr>
          <p:sp>
            <p:nvSpPr>
              <p:cNvPr id="630" name=""/>
              <p:cNvSpPr/>
              <p:nvPr/>
            </p:nvSpPr>
            <p:spPr>
              <a:xfrm>
                <a:off x="103320" y="4994280"/>
                <a:ext cx="649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D</a:t>
                </a:r>
                <a:r>
                  <a:rPr b="1" lang="en-US" sz="20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461840" y="5041800"/>
                <a:ext cx="456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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  <a:ea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2" name=""/>
          <p:cNvGrpSpPr/>
          <p:nvPr/>
        </p:nvGrpSpPr>
        <p:grpSpPr>
          <a:xfrm>
            <a:off x="-545400" y="2060640"/>
            <a:ext cx="7635960" cy="3386520"/>
            <a:chOff x="-545400" y="2060640"/>
            <a:chExt cx="7635960" cy="3386520"/>
          </a:xfrm>
        </p:grpSpPr>
        <p:grpSp>
          <p:nvGrpSpPr>
            <p:cNvPr id="633" name=""/>
            <p:cNvGrpSpPr/>
            <p:nvPr/>
          </p:nvGrpSpPr>
          <p:grpSpPr>
            <a:xfrm>
              <a:off x="-545400" y="2060640"/>
              <a:ext cx="1585800" cy="3022200"/>
              <a:chOff x="-545400" y="2060640"/>
              <a:chExt cx="1585800" cy="3022200"/>
            </a:xfrm>
          </p:grpSpPr>
          <p:sp>
            <p:nvSpPr>
              <p:cNvPr id="634" name=""/>
              <p:cNvSpPr/>
              <p:nvPr/>
            </p:nvSpPr>
            <p:spPr>
              <a:xfrm flipV="1">
                <a:off x="98640" y="2491920"/>
                <a:ext cx="10800" cy="2590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-545400" y="2060640"/>
                <a:ext cx="15858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lvl="1" marL="457200" algn="ctr">
                  <a:lnSpc>
                    <a:spcPct val="100000"/>
                  </a:lnSpc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ntensit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174600" y="3618000"/>
              <a:ext cx="6915960" cy="1829160"/>
              <a:chOff x="174600" y="3618000"/>
              <a:chExt cx="6915960" cy="1829160"/>
            </a:xfrm>
          </p:grpSpPr>
          <p:sp>
            <p:nvSpPr>
              <p:cNvPr id="637" name=""/>
              <p:cNvSpPr/>
              <p:nvPr/>
            </p:nvSpPr>
            <p:spPr>
              <a:xfrm>
                <a:off x="2013120" y="3618000"/>
                <a:ext cx="380880" cy="132372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706400" y="3848040"/>
                <a:ext cx="306720" cy="1093680"/>
              </a:xfrm>
              <a:prstGeom prst="rect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394000" y="3790800"/>
                <a:ext cx="306360" cy="1150920"/>
              </a:xfrm>
              <a:prstGeom prst="rect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74600" y="4959360"/>
                <a:ext cx="548496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855320" y="5048280"/>
                <a:ext cx="2235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Longueur d ’ond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695680" y="3933720"/>
                <a:ext cx="304560" cy="979560"/>
              </a:xfrm>
              <a:prstGeom prst="rect">
                <a:avLst/>
              </a:pr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3" name=""/>
          <p:cNvSpPr/>
          <p:nvPr/>
        </p:nvSpPr>
        <p:spPr>
          <a:xfrm>
            <a:off x="534960" y="476280"/>
            <a:ext cx="86407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La courbe reliant le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</a:t>
            </a: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 sommets des différents rect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7680" y="3576600"/>
            <a:ext cx="4680000" cy="1436760"/>
          </a:xfrm>
          <a:custGeom>
            <a:avLst/>
            <a:gdLst/>
            <a:ahLst/>
            <a:rect l="l" t="t" r="r" b="b"/>
            <a:pathLst>
              <a:path w="1774" h="497">
                <a:moveTo>
                  <a:pt x="0" y="476"/>
                </a:moveTo>
                <a:cubicBezTo>
                  <a:pt x="50" y="444"/>
                  <a:pt x="99" y="411"/>
                  <a:pt x="170" y="359"/>
                </a:cubicBezTo>
                <a:cubicBezTo>
                  <a:pt x="241" y="308"/>
                  <a:pt x="354" y="217"/>
                  <a:pt x="424" y="165"/>
                </a:cubicBezTo>
                <a:cubicBezTo>
                  <a:pt x="495" y="113"/>
                  <a:pt x="538" y="74"/>
                  <a:pt x="594" y="48"/>
                </a:cubicBezTo>
                <a:cubicBezTo>
                  <a:pt x="651" y="22"/>
                  <a:pt x="694" y="0"/>
                  <a:pt x="764" y="9"/>
                </a:cubicBezTo>
                <a:cubicBezTo>
                  <a:pt x="834" y="18"/>
                  <a:pt x="941" y="70"/>
                  <a:pt x="1015" y="104"/>
                </a:cubicBezTo>
                <a:cubicBezTo>
                  <a:pt x="1089" y="138"/>
                  <a:pt x="1146" y="181"/>
                  <a:pt x="1207" y="214"/>
                </a:cubicBezTo>
                <a:cubicBezTo>
                  <a:pt x="1268" y="247"/>
                  <a:pt x="1319" y="274"/>
                  <a:pt x="1380" y="305"/>
                </a:cubicBezTo>
                <a:cubicBezTo>
                  <a:pt x="1441" y="336"/>
                  <a:pt x="1506" y="365"/>
                  <a:pt x="1572" y="397"/>
                </a:cubicBezTo>
                <a:cubicBezTo>
                  <a:pt x="1638" y="429"/>
                  <a:pt x="1732" y="476"/>
                  <a:pt x="1774" y="49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86040" y="1268280"/>
            <a:ext cx="45072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est ce que l’on appe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« le spectre d’émission » du cor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99160" y="28544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89280" y="2492280"/>
            <a:ext cx="462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a puissance totale E émise par m</a:t>
            </a:r>
            <a:r>
              <a:rPr b="1" lang="en-US" sz="2000" spc="-1" strike="noStrike" baseline="30000">
                <a:solidFill>
                  <a:srgbClr val="ffcc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646240" y="2959200"/>
            <a:ext cx="225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est représentée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20880" y="3427560"/>
            <a:ext cx="504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par la surface compri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entre le spectre et l ’axe des absci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-689040" y="5518080"/>
            <a:ext cx="1036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Cette puissance totale E (ou pouvoir émissif total à la température 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est proportionnelle à T</a:t>
            </a:r>
            <a:r>
              <a:rPr b="1" lang="en-US" sz="2000" spc="-1" strike="noStrike" baseline="30000">
                <a:solidFill>
                  <a:srgbClr val="ffcc00"/>
                </a:solidFill>
                <a:latin typeface="Comic Sans MS"/>
              </a:rPr>
              <a:t>4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 , puissance quatrième de la températu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(c’est à dire à… T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x 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x 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T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x 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T,  </a:t>
            </a:r>
            <a:r>
              <a:rPr b="1" i="1" lang="en-US" sz="2000" spc="-1" strike="noStrike">
                <a:solidFill>
                  <a:srgbClr val="ffcc00"/>
                </a:solidFill>
                <a:latin typeface="Comic Sans MS"/>
              </a:rPr>
              <a:t>avec T en degré Kelvin 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A9A-7A05-42C7-9214-B3924B2F16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8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84120" y="44280"/>
            <a:ext cx="797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L'air atmosphér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520" y="2122560"/>
            <a:ext cx="69422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cc00"/>
              </a:buClr>
              <a:buFont typeface="Comic Sans MS"/>
              <a:buChar char="•"/>
              <a:tabLst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de l ’eau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sous ses trois « phases »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26960" y="3200400"/>
            <a:ext cx="1885680" cy="988920"/>
            <a:chOff x="426960" y="3200400"/>
            <a:chExt cx="1885680" cy="988920"/>
          </a:xfrm>
        </p:grpSpPr>
        <p:sp>
          <p:nvSpPr>
            <p:cNvPr id="67" name=""/>
            <p:cNvSpPr/>
            <p:nvPr/>
          </p:nvSpPr>
          <p:spPr>
            <a:xfrm>
              <a:off x="426960" y="3200400"/>
              <a:ext cx="1885680" cy="988920"/>
            </a:xfrm>
            <a:prstGeom prst="ellipse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7360" y="3200400"/>
              <a:ext cx="148392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600" spc="-1" strike="noStrike">
                  <a:solidFill>
                    <a:srgbClr val="000099"/>
                  </a:solidFill>
                  <a:latin typeface="Comic Sans MS"/>
                </a:rPr>
                <a:t>Vapeur d'ea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313000" y="3962520"/>
            <a:ext cx="1201680" cy="1140840"/>
            <a:chOff x="2313000" y="3962520"/>
            <a:chExt cx="1201680" cy="1140840"/>
          </a:xfrm>
        </p:grpSpPr>
        <p:sp>
          <p:nvSpPr>
            <p:cNvPr id="70" name=""/>
            <p:cNvSpPr/>
            <p:nvPr/>
          </p:nvSpPr>
          <p:spPr>
            <a:xfrm>
              <a:off x="2313000" y="3962520"/>
              <a:ext cx="1201680" cy="1140840"/>
            </a:xfrm>
            <a:prstGeom prst="hexagon">
              <a:avLst>
                <a:gd name="adj" fmla="val 26333"/>
                <a:gd name="vf" fmla="val 115470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33cccc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4225680"/>
              <a:ext cx="120168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Glac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71480" y="4799160"/>
            <a:ext cx="1458720" cy="1438920"/>
            <a:chOff x="771480" y="4799160"/>
            <a:chExt cx="1458720" cy="1438920"/>
          </a:xfrm>
        </p:grpSpPr>
        <p:sp>
          <p:nvSpPr>
            <p:cNvPr id="73" name=""/>
            <p:cNvSpPr/>
            <p:nvPr/>
          </p:nvSpPr>
          <p:spPr>
            <a:xfrm>
              <a:off x="771480" y="4799160"/>
              <a:ext cx="1458720" cy="12204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57160" y="4951800"/>
              <a:ext cx="128700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omic Sans MS"/>
                </a:rPr>
                <a:t>Eau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Comic Sans MS"/>
                </a:rPr>
                <a:t>liquid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575320" y="2924280"/>
            <a:ext cx="3602160" cy="1525320"/>
            <a:chOff x="5575320" y="2924280"/>
            <a:chExt cx="3602160" cy="1525320"/>
          </a:xfrm>
        </p:grpSpPr>
        <p:sp>
          <p:nvSpPr>
            <p:cNvPr id="76" name=""/>
            <p:cNvSpPr/>
            <p:nvPr/>
          </p:nvSpPr>
          <p:spPr>
            <a:xfrm>
              <a:off x="5575320" y="2924280"/>
              <a:ext cx="3602160" cy="1525320"/>
            </a:xfrm>
            <a:prstGeom prst="cloudCallout">
              <a:avLst>
                <a:gd name="adj1" fmla="val -17412"/>
                <a:gd name="adj2" fmla="val 114791"/>
              </a:avLst>
            </a:prstGeom>
            <a:gradFill rotWithShape="0">
              <a:gsLst>
                <a:gs pos="0">
                  <a:srgbClr val="4d4d4d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13600" y="3038400"/>
              <a:ext cx="2744640" cy="13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Des traces de gaz :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, 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,CH</a:t>
              </a:r>
              <a:r>
                <a:rPr b="1" lang="en-US" sz="2600" spc="-1" strike="noStrike" baseline="-25000">
                  <a:solidFill>
                    <a:srgbClr val="000000"/>
                  </a:solidFill>
                  <a:latin typeface="Comic Sans MS"/>
                </a:rPr>
                <a:t>4 </a:t>
              </a:r>
              <a:r>
                <a:rPr b="1" lang="en-US" sz="2600" spc="-1" strike="noStrike">
                  <a:solidFill>
                    <a:srgbClr val="000000"/>
                  </a:solidFill>
                  <a:latin typeface="Comic Sans MS"/>
                </a:rPr>
                <a:t>etc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170760" y="4583160"/>
            <a:ext cx="1287360" cy="914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114800" y="4878360"/>
            <a:ext cx="5914800" cy="1751040"/>
            <a:chOff x="4114800" y="4878360"/>
            <a:chExt cx="5914800" cy="1751040"/>
          </a:xfrm>
        </p:grpSpPr>
        <p:sp>
          <p:nvSpPr>
            <p:cNvPr id="80" name=""/>
            <p:cNvSpPr/>
            <p:nvPr/>
          </p:nvSpPr>
          <p:spPr>
            <a:xfrm>
              <a:off x="4114800" y="4878360"/>
              <a:ext cx="5914800" cy="1751040"/>
            </a:xfrm>
            <a:prstGeom prst="rect">
              <a:avLst/>
            </a:prstGeom>
            <a:solidFill>
              <a:srgbClr val="9900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14920" y="5030280"/>
              <a:ext cx="4800240" cy="12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buClr>
                  <a:srgbClr val="ffcc00"/>
                </a:buClr>
                <a:buFont typeface="Comic Sans MS"/>
                <a:buChar char="•"/>
                <a:tabLst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600" spc="-1" strike="noStrike">
                  <a:solidFill>
                    <a:srgbClr val="ffcc00"/>
                  </a:solidFill>
                  <a:latin typeface="Comic Sans MS"/>
                </a:rPr>
                <a:t> </a:t>
              </a:r>
              <a:r>
                <a:rPr b="1" lang="en-US" sz="2600" spc="-1" strike="noStrike">
                  <a:solidFill>
                    <a:srgbClr val="ffcc00"/>
                  </a:solidFill>
                  <a:latin typeface="Comic Sans MS"/>
                </a:rPr>
                <a:t>des particules solide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600" spc="-1" strike="noStrike">
                  <a:solidFill>
                    <a:srgbClr val="ffcc00"/>
                  </a:solidFill>
                  <a:latin typeface="Comic Sans MS"/>
                </a:rPr>
                <a:t>(pollens, suies, poussières, cristaux de sel, etc.),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2440" y="836640"/>
            <a:ext cx="1020456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contient égalemen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un certain nombre d ’autres constituants </a:t>
            </a:r>
            <a:r>
              <a:rPr b="1" lang="en-US" sz="2600" spc="-1" strike="noStrike" u="sng">
                <a:solidFill>
                  <a:srgbClr val="ffcc00"/>
                </a:solidFill>
                <a:uFillTx/>
                <a:latin typeface="Comic Sans MS"/>
              </a:rPr>
              <a:t>perman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en proportions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mic Sans MS"/>
              </a:rPr>
              <a:t>faibles</a:t>
            </a: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, mais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omic Sans MS"/>
              </a:rPr>
              <a:t>très variables</a:t>
            </a: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27F-3178-4A76-B8B5-E80110E4F5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2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6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17400" y="522360"/>
            <a:ext cx="1843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2120" y="665280"/>
            <a:ext cx="18396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76280" y="0"/>
            <a:ext cx="1839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93160" y="189000"/>
            <a:ext cx="81777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: </a:t>
            </a:r>
            <a:r>
              <a:rPr b="1" i="1" lang="en-US" sz="4400" spc="-1" strike="noStrike">
                <a:solidFill>
                  <a:srgbClr val="ffcc00"/>
                </a:solidFill>
                <a:latin typeface="Comic Sans MS"/>
              </a:rPr>
              <a:t>Le Rayonnement therm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1327320" y="1413000"/>
            <a:ext cx="7005600" cy="452916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0" y="2967120"/>
            <a:ext cx="1028700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3: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Interaction du rayon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solaire avec l ’atmosphère terrestre et les sols</a:t>
            </a:r>
            <a:r>
              <a:rPr b="0" i="1" lang="en-US" sz="36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-11160" y="1871640"/>
            <a:ext cx="9937800" cy="9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</a:rPr>
              <a:t>C-2: </a:t>
            </a:r>
            <a:r>
              <a:rPr b="1" i="1" lang="en-US" sz="2800" spc="-1" strike="noStrike">
                <a:solidFill>
                  <a:srgbClr val="ff0066"/>
                </a:solidFill>
                <a:latin typeface="Comic Sans MS"/>
              </a:rPr>
              <a:t>Rayonnement de la Terre et rayonnement so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800" spc="-1" strike="noStrike">
                <a:solidFill>
                  <a:srgbClr val="ff0066"/>
                </a:solidFill>
                <a:latin typeface="Comic Sans MS"/>
              </a:rPr>
              <a:t>      </a:t>
            </a:r>
            <a:r>
              <a:rPr b="1" i="1" lang="en-US" sz="2800" spc="-1" strike="noStrike">
                <a:solidFill>
                  <a:srgbClr val="ff0066"/>
                </a:solidFill>
                <a:latin typeface="Comic Sans MS"/>
              </a:rPr>
              <a:t>avant son entrée dans l ’atmosphère terre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0920" y="126684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1: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Définitions et proprié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44280" y="498168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5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: Quelques applications à des faits d ’observation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cour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1920" y="4098960"/>
            <a:ext cx="968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4: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Interaction du rayonnement terrestre avec       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l’atmosph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709-CBF9-4783-ABC1-8A318324DD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3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7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1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5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566640" y="44280"/>
            <a:ext cx="97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Voici, par exemple, les spectres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théoriques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d ’émission de la Terre, pour différentes températures du s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72320" y="5343480"/>
            <a:ext cx="87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Il s ’agit d ’un rayonnement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de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grande longueur d’onde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strictement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infrarouge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 et donc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invisible pour n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43600" y="2332080"/>
            <a:ext cx="2743200" cy="1038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 pouvoir émissif total à la température T=213 K (-60 °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 représent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 l ’a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churé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63680" y="618336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es propriétés sont mises à profit dans le doma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de l’imagerie satellitale (images infrarouge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9400" y="4654440"/>
            <a:ext cx="893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es longueurs d’onde du rayonnement terrest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sont comprises entre 2 et 40 micromètres (radiations infraroug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Le maximum d’émission se situe dans la gamme 10-12 micromètres.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868400" y="836640"/>
            <a:ext cx="6514920" cy="3867120"/>
            <a:chOff x="1868400" y="836640"/>
            <a:chExt cx="6514920" cy="3867120"/>
          </a:xfrm>
        </p:grpSpPr>
        <p:grpSp>
          <p:nvGrpSpPr>
            <p:cNvPr id="667" name=""/>
            <p:cNvGrpSpPr/>
            <p:nvPr/>
          </p:nvGrpSpPr>
          <p:grpSpPr>
            <a:xfrm>
              <a:off x="1868400" y="836640"/>
              <a:ext cx="6514920" cy="3867120"/>
              <a:chOff x="1868400" y="836640"/>
              <a:chExt cx="6514920" cy="3867120"/>
            </a:xfrm>
          </p:grpSpPr>
          <p:grpSp>
            <p:nvGrpSpPr>
              <p:cNvPr id="668" name=""/>
              <p:cNvGrpSpPr/>
              <p:nvPr/>
            </p:nvGrpSpPr>
            <p:grpSpPr>
              <a:xfrm>
                <a:off x="1868400" y="836640"/>
                <a:ext cx="6514920" cy="3867120"/>
                <a:chOff x="1868400" y="836640"/>
                <a:chExt cx="6514920" cy="386712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1868400" y="836640"/>
                  <a:ext cx="6514920" cy="3867120"/>
                  <a:chOff x="1868400" y="836640"/>
                  <a:chExt cx="6514920" cy="3867120"/>
                </a:xfrm>
              </p:grpSpPr>
              <p:pic>
                <p:nvPicPr>
                  <p:cNvPr id="670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68400" y="836640"/>
                    <a:ext cx="651492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1" name=""/>
                  <p:cNvSpPr/>
                  <p:nvPr/>
                </p:nvSpPr>
                <p:spPr>
                  <a:xfrm rot="16200000">
                    <a:off x="2062440" y="3886920"/>
                    <a:ext cx="184320" cy="27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79560"/>
                        <a:tab algn="l" pos="1959120"/>
                        <a:tab algn="l" pos="2938320"/>
                        <a:tab algn="l" pos="3917880"/>
                        <a:tab algn="l" pos="4897440"/>
                        <a:tab algn="l" pos="5877000"/>
                        <a:tab algn="l" pos="6856560"/>
                        <a:tab algn="l" pos="7835760"/>
                        <a:tab algn="l" pos="8815320"/>
                        <a:tab algn="l" pos="9794880"/>
                        <a:tab algn="l" pos="107744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2" name=""/>
                <p:cNvSpPr/>
                <p:nvPr/>
              </p:nvSpPr>
              <p:spPr>
                <a:xfrm>
                  <a:off x="2242440" y="1198800"/>
                  <a:ext cx="384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79560"/>
                      <a:tab algn="l" pos="1959120"/>
                      <a:tab algn="l" pos="2938320"/>
                      <a:tab algn="l" pos="3917880"/>
                      <a:tab algn="l" pos="4897440"/>
                      <a:tab algn="l" pos="5877000"/>
                      <a:tab algn="l" pos="6856560"/>
                      <a:tab algn="l" pos="7835760"/>
                      <a:tab algn="l" pos="8815320"/>
                      <a:tab algn="l" pos="9794880"/>
                      <a:tab algn="l" pos="1077444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2046240" y="3875040"/>
                <a:ext cx="184320" cy="39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968840" y="90792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79560"/>
                    <a:tab algn="l" pos="1959120"/>
                    <a:tab algn="l" pos="2938320"/>
                    <a:tab algn="l" pos="3917880"/>
                    <a:tab algn="l" pos="4897440"/>
                    <a:tab algn="l" pos="5877000"/>
                    <a:tab algn="l" pos="6856560"/>
                    <a:tab algn="l" pos="7835760"/>
                    <a:tab algn="l" pos="8815320"/>
                    <a:tab algn="l" pos="9794880"/>
                    <a:tab algn="l" pos="1077444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lu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7422120" y="4468680"/>
              <a:ext cx="63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Comic Sans MS"/>
                </a:rPr>
                <a:t>P. Quen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B5D-B861-4216-9BEE-618BD70AABB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8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3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8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1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47080" y="285840"/>
            <a:ext cx="848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Par contre, le solei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avec sa température de surface de 6000 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émet dans une très large gamme de longueur d’o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79320" y="2273400"/>
            <a:ext cx="90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Le spectre solaire s’étend ai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de l ’UV lointain (0,13 micromèt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à l ’infrarouge lointain (plus de 40 micromètres)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en passant par le rayonnement visible.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9320" y="436572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C’est cepend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dans l ’UV proche, le visible et le proche infrarou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que le rayonnement solaire est le plus int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590-0DC9-4DF1-BF2C-3608F16A54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534960" y="1989000"/>
            <a:ext cx="2151000" cy="178308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1459080" y="2743200"/>
            <a:ext cx="1027080" cy="12193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639080" y="452520"/>
            <a:ext cx="6632640" cy="16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La puissanc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e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rayonnée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par chaque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1" lang="en-US" sz="2400" spc="-1" strike="noStrike" baseline="30000">
                <a:solidFill>
                  <a:srgbClr val="ffcc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de la surface solaire est de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7348.10</a:t>
            </a:r>
            <a:r>
              <a:rPr b="1" lang="en-US" sz="3200" spc="-1" strike="noStrike" baseline="30000">
                <a:solidFill>
                  <a:srgbClr val="ff0066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W.m</a:t>
            </a:r>
            <a:r>
              <a:rPr b="1" lang="en-US" sz="3200" spc="-1" strike="noStrike" baseline="30000">
                <a:solidFill>
                  <a:srgbClr val="ff0066"/>
                </a:solidFill>
                <a:latin typeface="Times New Roman"/>
              </a:rPr>
              <a:t>-2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39920" y="2468520"/>
            <a:ext cx="7882200" cy="16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La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puissance totale P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rayonnée par la surface totale S du solei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dans toutes les directions de l ’espace, est égale 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4,5.10</a:t>
            </a:r>
            <a:r>
              <a:rPr b="1" lang="en-US" sz="3200" spc="-1" strike="noStrike" baseline="30000">
                <a:solidFill>
                  <a:srgbClr val="ff0066"/>
                </a:solidFill>
                <a:latin typeface="Times New Roman"/>
              </a:rPr>
              <a:t>26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Watts </a:t>
            </a: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973160" y="2438280"/>
            <a:ext cx="82800" cy="839880"/>
          </a:xfrm>
          <a:prstGeom prst="upArrow">
            <a:avLst>
              <a:gd name="adj1" fmla="val 50000"/>
              <a:gd name="adj2" fmla="val 2535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649880" y="4389480"/>
            <a:ext cx="751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Mais l’intensité du rayonn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qui arrive au sommet de l’atmosphère terrest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est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Comic Sans MS"/>
              </a:rPr>
              <a:t>beaucoup plus faible.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088-A403-489B-B05B-41A876379A7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8" dur="5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2" dur="500"/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22200" y="282600"/>
            <a:ext cx="955260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En effet, la puissance totale P émis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à un instant donné, par la surface du sole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se propage pratiquement sans perte dans l ’espace interplanétaire</a:t>
            </a:r>
            <a:r>
              <a:rPr b="1" lang="en-US" sz="2600" spc="-1" strike="noStrike">
                <a:solidFill>
                  <a:srgbClr val="ffcc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84760" y="1989000"/>
            <a:ext cx="532764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Mais elle se répart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sur des sphères de rayon croissant,</a:t>
            </a: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2313000" y="3429000"/>
            <a:ext cx="1114560" cy="97308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541520" y="2819520"/>
            <a:ext cx="2657520" cy="224928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8880" y="2438280"/>
            <a:ext cx="3600360" cy="297036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44520" y="1905120"/>
            <a:ext cx="5056200" cy="4257720"/>
          </a:xfrm>
          <a:prstGeom prst="ellipse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6320" y="5562720"/>
            <a:ext cx="716112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de sorte que la puiss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traversant chaque mètre carré de ces sphè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est divisée par la surface de la sphère considéré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29360" y="3352680"/>
            <a:ext cx="426960" cy="227160"/>
          </a:xfrm>
          <a:prstGeom prst="parallelogram">
            <a:avLst>
              <a:gd name="adj" fmla="val 18795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5652600">
            <a:off x="4002120" y="3831840"/>
            <a:ext cx="379440" cy="255600"/>
          </a:xfrm>
          <a:prstGeom prst="parallelogram">
            <a:avLst>
              <a:gd name="adj" fmla="val 6804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rot="5815200">
            <a:off x="4507200" y="3848760"/>
            <a:ext cx="379440" cy="260280"/>
          </a:xfrm>
          <a:prstGeom prst="parallelogram">
            <a:avLst>
              <a:gd name="adj" fmla="val 6681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5862600">
            <a:off x="5225040" y="3852000"/>
            <a:ext cx="382680" cy="257040"/>
          </a:xfrm>
          <a:prstGeom prst="parallelogram">
            <a:avLst>
              <a:gd name="adj" fmla="val 68236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509080" y="3429000"/>
            <a:ext cx="81684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Times New Roman"/>
              </a:rPr>
              <a:t>1 m</a:t>
            </a:r>
            <a:r>
              <a:rPr b="1" lang="en-US" sz="26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8A9-1950-4351-AC1E-C971D06508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660680" y="4797360"/>
            <a:ext cx="834984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Le flux qui parvient au sommet de l ’atmosphère terrestr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perpendiculairement à la direction soleil/Terr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est appelée « </a:t>
            </a:r>
            <a:r>
              <a:rPr b="1" lang="en-US" sz="2200" spc="-1" strike="noStrike" u="sng">
                <a:solidFill>
                  <a:srgbClr val="ffcc00"/>
                </a:solidFill>
                <a:uFillTx/>
                <a:latin typeface="Comic Sans MS"/>
              </a:rPr>
              <a:t>constante solaire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 </a:t>
            </a: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»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C</a:t>
            </a:r>
            <a:r>
              <a:rPr b="0" lang="en-US" sz="2200" spc="-1" strike="noStrike">
                <a:solidFill>
                  <a:srgbClr val="ffcc00"/>
                </a:solidFill>
                <a:latin typeface="Comic Sans MS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Sa valeur annuelle moyenne est de 1370 W/m</a:t>
            </a:r>
            <a:r>
              <a:rPr b="1" lang="en-US" sz="2200" spc="-1" strike="noStrike" baseline="30000">
                <a:solidFill>
                  <a:srgbClr val="ffcc00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859440" y="1828800"/>
            <a:ext cx="3427560" cy="2665440"/>
            <a:chOff x="6859440" y="1828800"/>
            <a:chExt cx="3427560" cy="2665440"/>
          </a:xfrm>
        </p:grpSpPr>
        <p:grpSp>
          <p:nvGrpSpPr>
            <p:cNvPr id="699" name=""/>
            <p:cNvGrpSpPr/>
            <p:nvPr/>
          </p:nvGrpSpPr>
          <p:grpSpPr>
            <a:xfrm>
              <a:off x="6859440" y="1828800"/>
              <a:ext cx="3427560" cy="2665440"/>
              <a:chOff x="6859440" y="1828800"/>
              <a:chExt cx="3427560" cy="2665440"/>
            </a:xfrm>
          </p:grpSpPr>
          <p:sp>
            <p:nvSpPr>
              <p:cNvPr id="700" name=""/>
              <p:cNvSpPr/>
              <p:nvPr/>
            </p:nvSpPr>
            <p:spPr>
              <a:xfrm>
                <a:off x="6859440" y="1828800"/>
                <a:ext cx="3427560" cy="2665440"/>
              </a:xfrm>
              <a:prstGeom prst="donut">
                <a:avLst>
                  <a:gd name="adj" fmla="val 18194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ccff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457760" y="2184120"/>
                <a:ext cx="2274480" cy="1887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"/>
            <p:cNvSpPr/>
            <p:nvPr/>
          </p:nvSpPr>
          <p:spPr>
            <a:xfrm>
              <a:off x="6859440" y="1828800"/>
              <a:ext cx="3427560" cy="2665440"/>
            </a:xfrm>
            <a:prstGeom prst="ellipse">
              <a:avLst/>
            </a:prstGeom>
            <a:noFill/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0643400">
              <a:off x="8490960" y="2217960"/>
              <a:ext cx="1195920" cy="183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d4d4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0" y="3048120"/>
            <a:ext cx="6772320" cy="333360"/>
          </a:xfrm>
          <a:custGeom>
            <a:avLst/>
            <a:gdLst>
              <a:gd name="textAreaLeft" fmla="*/ 1058040 w 6772320"/>
              <a:gd name="textAreaRight" fmla="*/ 5925960 w 6772320"/>
              <a:gd name="textAreaTop" fmla="*/ 83160 h 333360"/>
              <a:gd name="textAreaBottom" fmla="*/ 250200 h 333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57920" y="150840"/>
            <a:ext cx="636120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Arrivé au voisinage de l ’orbite terrestr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à la distance R = 150.000.000 de km du soleil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le flux du rayonnement solaire</a:t>
            </a: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n ’est plus</a:t>
            </a:r>
            <a:r>
              <a:rPr b="1" lang="en-US" sz="2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que P/4</a:t>
            </a:r>
            <a:r>
              <a:rPr b="1" lang="en-US" sz="2200" spc="-1" strike="noStrike">
                <a:solidFill>
                  <a:srgbClr val="ffcc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R</a:t>
            </a:r>
            <a:r>
              <a:rPr b="1" lang="en-US" sz="2200" spc="-1" strike="noStrike" baseline="30000">
                <a:solidFill>
                  <a:srgbClr val="ffcc00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200" spc="-1" strike="noStrike" baseline="30000">
                <a:solidFill>
                  <a:srgbClr val="ffcc00"/>
                </a:solidFill>
                <a:latin typeface="Comic Sans MS"/>
              </a:rPr>
              <a:t>  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1" i="1" lang="en-US" sz="2200" spc="-1" strike="noStrike">
                <a:solidFill>
                  <a:srgbClr val="ffcc00"/>
                </a:solidFill>
                <a:latin typeface="Comic Sans MS"/>
              </a:rPr>
              <a:t>W/m</a:t>
            </a:r>
            <a:r>
              <a:rPr b="1" i="1" lang="en-US" sz="2200" spc="-1" strike="noStrike" baseline="30000">
                <a:solidFill>
                  <a:srgbClr val="ffcc00"/>
                </a:solidFill>
                <a:latin typeface="Comic Sans MS"/>
              </a:rPr>
              <a:t>2</a:t>
            </a:r>
            <a:r>
              <a:rPr b="1" lang="en-US" sz="2200" spc="-1" strike="noStrike">
                <a:solidFill>
                  <a:srgbClr val="ffcc00"/>
                </a:solidFill>
                <a:latin typeface="Comic Sans MS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57040" y="1905120"/>
            <a:ext cx="8488440" cy="331560"/>
          </a:xfrm>
          <a:custGeom>
            <a:avLst/>
            <a:gdLst>
              <a:gd name="textAreaLeft" fmla="*/ 1326240 w 8488440"/>
              <a:gd name="textAreaRight" fmla="*/ 7427520 w 8488440"/>
              <a:gd name="textAreaTop" fmla="*/ 82800 h 331560"/>
              <a:gd name="textAreaBottom" fmla="*/ 248760 h 331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9920" y="4316400"/>
            <a:ext cx="8231040" cy="331920"/>
          </a:xfrm>
          <a:custGeom>
            <a:avLst/>
            <a:gdLst>
              <a:gd name="textAreaLeft" fmla="*/ 1285920 w 8231040"/>
              <a:gd name="textAreaRight" fmla="*/ 7202160 w 8231040"/>
              <a:gd name="textAreaTop" fmla="*/ 82800 h 331920"/>
              <a:gd name="textAreaBottom" fmla="*/ 249120 h 331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ctr">
            <a:no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rot="5392200">
            <a:off x="6622560" y="3109680"/>
            <a:ext cx="380880" cy="257400"/>
          </a:xfrm>
          <a:prstGeom prst="parallelogram">
            <a:avLst>
              <a:gd name="adj" fmla="val 6782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100920" y="2590920"/>
            <a:ext cx="81684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Times New Roman"/>
              </a:rPr>
              <a:t>1 m</a:t>
            </a:r>
            <a:r>
              <a:rPr b="1" lang="en-US" sz="2600" spc="-1" strike="noStrike" baseline="30000">
                <a:solidFill>
                  <a:srgbClr val="ffcc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5240" y="59832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8400" y="5816520"/>
            <a:ext cx="3832560" cy="1042920"/>
            <a:chOff x="68400" y="5816520"/>
            <a:chExt cx="3832560" cy="1042920"/>
          </a:xfrm>
        </p:grpSpPr>
        <p:sp>
          <p:nvSpPr>
            <p:cNvPr id="712" name="">
              <a:hlinkClick r:id="rId2" action="ppaction://hlinksldjump"/>
            </p:cNvPr>
            <p:cNvSpPr/>
            <p:nvPr/>
          </p:nvSpPr>
          <p:spPr>
            <a:xfrm>
              <a:off x="68400" y="5816520"/>
              <a:ext cx="917280" cy="1042920"/>
            </a:xfrm>
            <a:custGeom>
              <a:avLst/>
              <a:gdLst>
                <a:gd name="textAreaLeft" fmla="*/ 59400 w 917280"/>
                <a:gd name="textAreaRight" fmla="*/ 857880 w 917280"/>
                <a:gd name="textAreaTop" fmla="*/ 59400 h 1042920"/>
                <a:gd name="textAreaBottom" fmla="*/ 983520 h 1042920"/>
              </a:gdLst>
              <a:ahLst/>
              <a:rect l="textAreaLeft" t="textAreaTop" r="textAreaRight" b="textAreaBottom"/>
              <a:pathLst>
                <a:path w="21600" h="24557">
                  <a:moveTo>
                    <a:pt x="0" y="0"/>
                  </a:moveTo>
                  <a:lnTo>
                    <a:pt x="21600" y="0"/>
                  </a:lnTo>
                  <a:lnTo>
                    <a:pt x="21600" y="24557"/>
                  </a:lnTo>
                  <a:lnTo>
                    <a:pt x="0" y="24557"/>
                  </a:lnTo>
                  <a:close/>
                </a:path>
                <a:path fill="lightenLess" w="21600" h="24557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4557">
                  <a:moveTo>
                    <a:pt x="21600" y="0"/>
                  </a:moveTo>
                  <a:lnTo>
                    <a:pt x="21600" y="24557"/>
                  </a:lnTo>
                  <a:lnTo>
                    <a:pt x="20200" y="23157"/>
                  </a:lnTo>
                  <a:lnTo>
                    <a:pt x="20200" y="1400"/>
                  </a:lnTo>
                  <a:close/>
                </a:path>
                <a:path fill="darkenLess" w="21600" h="24557">
                  <a:moveTo>
                    <a:pt x="21600" y="24557"/>
                  </a:moveTo>
                  <a:lnTo>
                    <a:pt x="0" y="24557"/>
                  </a:lnTo>
                  <a:lnTo>
                    <a:pt x="1400" y="23157"/>
                  </a:lnTo>
                  <a:lnTo>
                    <a:pt x="20200" y="23157"/>
                  </a:lnTo>
                  <a:close/>
                </a:path>
                <a:path fill="lighten" w="21600" h="24557">
                  <a:moveTo>
                    <a:pt x="0" y="24557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157"/>
                  </a:lnTo>
                  <a:close/>
                </a:path>
                <a:path fill="darken" w="21600" h="24557">
                  <a:moveTo>
                    <a:pt x="10800" y="5272"/>
                  </a:moveTo>
                  <a:arcTo wR="7006" hR="7006" stAng="16200000" swAng="-5400000"/>
                  <a:arcTo wR="7006" hR="7006" stAng="10800000" swAng="-5400000"/>
                  <a:arcTo wR="7006" hR="7006" stAng="5400000" swAng="-5400000"/>
                  <a:arcTo wR="7006" hR="7006" stAng="0" swAng="-5400000"/>
                  <a:close/>
                </a:path>
                <a:path fill="lighten" w="21600" h="24557">
                  <a:moveTo>
                    <a:pt x="10800" y="5646"/>
                  </a:moveTo>
                  <a:arcTo wR="1793" hR="1793" stAng="16200000" swAng="-5400000"/>
                  <a:arcTo wR="1793" hR="1793" stAng="10800000" swAng="-5400000"/>
                  <a:arcTo wR="1793" hR="1793" stAng="5400000" swAng="-5400000"/>
                  <a:arcTo wR="1793" hR="1793" stAng="0" swAng="-5400000"/>
                  <a:close/>
                </a:path>
                <a:path fill="lighten" w="21600" h="24557">
                  <a:moveTo>
                    <a:pt x="8224" y="9702"/>
                  </a:moveTo>
                  <a:lnTo>
                    <a:pt x="12088" y="9702"/>
                  </a:lnTo>
                  <a:lnTo>
                    <a:pt x="12088" y="16700"/>
                  </a:lnTo>
                  <a:lnTo>
                    <a:pt x="13376" y="16700"/>
                  </a:lnTo>
                  <a:lnTo>
                    <a:pt x="13376" y="17623"/>
                  </a:lnTo>
                  <a:lnTo>
                    <a:pt x="8224" y="17623"/>
                  </a:lnTo>
                  <a:lnTo>
                    <a:pt x="8224" y="16700"/>
                  </a:lnTo>
                  <a:lnTo>
                    <a:pt x="9512" y="16700"/>
                  </a:lnTo>
                  <a:lnTo>
                    <a:pt x="9512" y="10608"/>
                  </a:lnTo>
                  <a:lnTo>
                    <a:pt x="8224" y="1060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214640" y="6219360"/>
              <a:ext cx="26863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i="1" lang="en-US" sz="2000" spc="-1" strike="noStrike">
                  <a:solidFill>
                    <a:srgbClr val="3333cc"/>
                  </a:solidFill>
                  <a:latin typeface="Comic Sans MS"/>
                </a:rPr>
                <a:t>Pour en savoir plus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E629-DD62-46F5-953E-8E81C97B39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727560" y="0"/>
            <a:ext cx="775872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Voici les spectres réels et théoriques du solei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au sommet de l ’atmosphè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44880" y="1270080"/>
            <a:ext cx="5143680" cy="2228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e nombreuses radi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ém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ar la surface du sole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on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fort heureusement pour nou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absorb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ar l ’atmosphère solaire elle-même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44880" y="1744560"/>
            <a:ext cx="5143680" cy="131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Ceci explique l’éca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entre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spectre rée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et </a:t>
            </a:r>
            <a:r>
              <a:rPr b="1" lang="en-US" sz="2000" spc="-1" strike="noStrike">
                <a:solidFill>
                  <a:srgbClr val="33cc33"/>
                </a:solidFill>
                <a:latin typeface="Comic Sans MS"/>
              </a:rPr>
              <a:t>le spectre théorique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98880" y="1839960"/>
            <a:ext cx="514368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Ce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sont, principalement, les radiations de courtes longueurs d’ondes (U.V.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celles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qui </a:t>
            </a:r>
            <a:r>
              <a:rPr b="1" lang="fr-FR" sz="2000" spc="-1" strike="noStrike">
                <a:solidFill>
                  <a:srgbClr val="3333cc"/>
                </a:solidFill>
                <a:latin typeface="Comic Sans MS"/>
              </a:rPr>
              <a:t>seraient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nocives pour n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-3046320" y="2079720"/>
            <a:ext cx="13416840" cy="7782120"/>
            <a:chOff x="-3046320" y="2079720"/>
            <a:chExt cx="13416840" cy="7782120"/>
          </a:xfrm>
        </p:grpSpPr>
        <p:sp>
          <p:nvSpPr>
            <p:cNvPr id="719" name=""/>
            <p:cNvSpPr/>
            <p:nvPr/>
          </p:nvSpPr>
          <p:spPr>
            <a:xfrm>
              <a:off x="-10440" y="6221520"/>
              <a:ext cx="1038096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cc33"/>
                  </a:solidFill>
                  <a:latin typeface="Comic Sans MS"/>
                </a:rPr>
                <a:t>B: spectre théorique (rayonnement du corps noir à 6000 K, à 150 millions de km du soleil)</a:t>
              </a:r>
              <a:r>
                <a:rPr b="1" lang="en-US" sz="2400" spc="-1" strike="noStrike">
                  <a:solidFill>
                    <a:srgbClr val="33cc33"/>
                  </a:solidFill>
                  <a:latin typeface="Comic Sans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72120" y="2779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70000">
              <a:off x="3841920" y="3122640"/>
              <a:ext cx="2970000" cy="1762200"/>
            </a:xfrm>
            <a:custGeom>
              <a:avLst/>
              <a:gdLst/>
              <a:ahLst/>
              <a:rect l="l" t="t" r="r" b="b"/>
              <a:pathLst>
                <a:path w="1248" h="1104">
                  <a:moveTo>
                    <a:pt x="0" y="0"/>
                  </a:moveTo>
                  <a:cubicBezTo>
                    <a:pt x="60" y="44"/>
                    <a:pt x="120" y="88"/>
                    <a:pt x="192" y="144"/>
                  </a:cubicBezTo>
                  <a:cubicBezTo>
                    <a:pt x="264" y="200"/>
                    <a:pt x="336" y="256"/>
                    <a:pt x="432" y="336"/>
                  </a:cubicBezTo>
                  <a:cubicBezTo>
                    <a:pt x="528" y="416"/>
                    <a:pt x="664" y="528"/>
                    <a:pt x="768" y="624"/>
                  </a:cubicBezTo>
                  <a:cubicBezTo>
                    <a:pt x="872" y="720"/>
                    <a:pt x="976" y="832"/>
                    <a:pt x="1056" y="912"/>
                  </a:cubicBezTo>
                  <a:cubicBezTo>
                    <a:pt x="1136" y="992"/>
                    <a:pt x="1192" y="1048"/>
                    <a:pt x="1248" y="1104"/>
                  </a:cubicBezTo>
                </a:path>
              </a:pathLst>
            </a:custGeom>
            <a:noFill/>
            <a:ln w="572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71800">
              <a:off x="-2778480" y="2411640"/>
              <a:ext cx="8690400" cy="711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383" y="117"/>
                  </a:moveTo>
                  <a:arcTo wR="10800" hR="10800" stAng="-4894182" swAng="1265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383" y="117"/>
                  </a:moveTo>
                  <a:arcTo wR="10800" hR="10800" stAng="-4894182" swAng="1265848"/>
                </a:path>
              </a:pathLst>
            </a:cu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17482200">
              <a:off x="-795960" y="4047480"/>
              <a:ext cx="4542120" cy="128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44" y="1204"/>
                  </a:moveTo>
                  <a:arcTo wR="10800" hR="10800" stAng="-7038920" swAng="6961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844" y="1204"/>
                  </a:moveTo>
                  <a:arcTo wR="10800" hR="10800" stAng="-7038920" swAng="6961912"/>
                </a:path>
              </a:pathLst>
            </a:cu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0" y="1109520"/>
            <a:ext cx="7416720" cy="5227920"/>
            <a:chOff x="0" y="1109520"/>
            <a:chExt cx="7416720" cy="5227920"/>
          </a:xfrm>
        </p:grpSpPr>
        <p:grpSp>
          <p:nvGrpSpPr>
            <p:cNvPr id="725" name=""/>
            <p:cNvGrpSpPr/>
            <p:nvPr/>
          </p:nvGrpSpPr>
          <p:grpSpPr>
            <a:xfrm>
              <a:off x="0" y="1109520"/>
              <a:ext cx="7416720" cy="5227920"/>
              <a:chOff x="0" y="1109520"/>
              <a:chExt cx="7416720" cy="5227920"/>
            </a:xfrm>
          </p:grpSpPr>
          <p:pic>
            <p:nvPicPr>
              <p:cNvPr id="72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527120"/>
                <a:ext cx="7400880" cy="48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7" name=""/>
              <p:cNvSpPr/>
              <p:nvPr/>
            </p:nvSpPr>
            <p:spPr>
              <a:xfrm>
                <a:off x="15840" y="1109520"/>
                <a:ext cx="740088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: le spectre solaire  réel au sommet de l ’atmosphèr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                    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(à 600 km d ’altitud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89800" y="2604960"/>
                <a:ext cx="4201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57040" y="3102120"/>
                <a:ext cx="49536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50920" y="3573360"/>
                <a:ext cx="5047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76040" y="4038480"/>
                <a:ext cx="57492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185040" y="4560840"/>
                <a:ext cx="459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85040" y="5078520"/>
                <a:ext cx="459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85040" y="5600880"/>
                <a:ext cx="45972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r>
                  <a:rPr b="0" lang="en-US" sz="1600" spc="-1" strike="noStrike" baseline="30000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24000" y="1700280"/>
                <a:ext cx="3541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atts par m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t par micr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181600" y="3747960"/>
                <a:ext cx="91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Visib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456360" y="4213080"/>
                <a:ext cx="125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Times New Roman"/>
                  </a:rPr>
                  <a:t>Infrarou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297680" y="5843520"/>
                <a:ext cx="273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ngueurs d ’onde en micr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990720" y="4950000"/>
                <a:ext cx="13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ff"/>
                    </a:solidFill>
                    <a:latin typeface="Times New Roman"/>
                  </a:rPr>
                  <a:t>Ultravio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" name=""/>
            <p:cNvSpPr/>
            <p:nvPr/>
          </p:nvSpPr>
          <p:spPr>
            <a:xfrm>
              <a:off x="94320" y="5918040"/>
              <a:ext cx="63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0" i="1" lang="fr-FR" sz="800" spc="-1" strike="noStrike">
                  <a:solidFill>
                    <a:srgbClr val="000000"/>
                  </a:solidFill>
                  <a:latin typeface="Comic Sans MS"/>
                </a:rPr>
                <a:t>P. Quene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67C-DFC3-4A82-98C3-DC4C5B5C4F7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0" y="1109520"/>
            <a:ext cx="7416720" cy="5185080"/>
            <a:chOff x="0" y="1109520"/>
            <a:chExt cx="7416720" cy="5185080"/>
          </a:xfrm>
        </p:grpSpPr>
        <p:grpSp>
          <p:nvGrpSpPr>
            <p:cNvPr id="742" name=""/>
            <p:cNvGrpSpPr/>
            <p:nvPr/>
          </p:nvGrpSpPr>
          <p:grpSpPr>
            <a:xfrm>
              <a:off x="0" y="1109520"/>
              <a:ext cx="7416720" cy="5185080"/>
              <a:chOff x="0" y="1109520"/>
              <a:chExt cx="7416720" cy="5185080"/>
            </a:xfrm>
          </p:grpSpPr>
          <p:pic>
            <p:nvPicPr>
              <p:cNvPr id="7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1484280"/>
                <a:ext cx="7400880" cy="481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>
                <a:off x="15840" y="1109520"/>
                <a:ext cx="740088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A: le spectre solaire au sommet de l ’atmosphère (à 600 km d ’altitud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324000" y="1700280"/>
              <a:ext cx="3541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atts par 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t par micr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297680" y="5729400"/>
              <a:ext cx="2739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ngueurs d ’onde en micr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-215280" y="0"/>
            <a:ext cx="9653040" cy="8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Répartition de l’énergie transporté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cc00"/>
                </a:solidFill>
                <a:latin typeface="Comic Sans MS"/>
              </a:rPr>
              <a:t>en fonction des principaux domaines de longueur d’on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89800" y="2604960"/>
            <a:ext cx="420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57040" y="3102120"/>
            <a:ext cx="495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0920" y="3573360"/>
            <a:ext cx="50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76040" y="4038480"/>
            <a:ext cx="574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85040" y="4560840"/>
            <a:ext cx="459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5040" y="5078520"/>
            <a:ext cx="459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85040" y="5600880"/>
            <a:ext cx="459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23360" y="3908520"/>
            <a:ext cx="904680" cy="398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,4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210040" y="340524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13760" y="402732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Infrarou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90720" y="4349880"/>
            <a:ext cx="13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Ultravio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-3046320" y="2079720"/>
            <a:ext cx="9923040" cy="7782120"/>
            <a:chOff x="-3046320" y="2079720"/>
            <a:chExt cx="9923040" cy="7782120"/>
          </a:xfrm>
        </p:grpSpPr>
        <p:sp>
          <p:nvSpPr>
            <p:cNvPr id="760" name=""/>
            <p:cNvSpPr/>
            <p:nvPr/>
          </p:nvSpPr>
          <p:spPr>
            <a:xfrm rot="271800">
              <a:off x="-2778480" y="2411640"/>
              <a:ext cx="8690400" cy="711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383" y="117"/>
                  </a:moveTo>
                  <a:arcTo wR="10800" hR="10800" stAng="-4894182" swAng="126584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383" y="117"/>
                  </a:moveTo>
                  <a:arcTo wR="10800" hR="10800" stAng="-4894182" swAng="1265848"/>
                </a:path>
              </a:pathLst>
            </a:cu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6440" y="6118200"/>
              <a:ext cx="5942880" cy="7340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B: spectre théorique (rayonnement du corps noir à 6000 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à 150 millions de km du soleil)</a:t>
              </a:r>
              <a:r>
                <a:rPr b="1" lang="en-US" sz="2400" spc="-1" strike="noStrike">
                  <a:solidFill>
                    <a:srgbClr val="33cc33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272120" y="2779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1400" spc="-1" strike="noStrike">
                  <a:solidFill>
                    <a:srgbClr val="00cc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7482200">
              <a:off x="-795960" y="4047480"/>
              <a:ext cx="4542120" cy="128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44" y="1204"/>
                  </a:moveTo>
                  <a:arcTo wR="10800" hR="10800" stAng="-7038920" swAng="6961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844" y="1204"/>
                  </a:moveTo>
                  <a:arcTo wR="10800" hR="10800" stAng="-7038920" swAng="6961912"/>
                </a:path>
              </a:pathLst>
            </a:custGeom>
            <a:noFill/>
            <a:ln w="572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70000">
              <a:off x="3841920" y="3122640"/>
              <a:ext cx="2970000" cy="1762200"/>
            </a:xfrm>
            <a:custGeom>
              <a:avLst/>
              <a:gdLst/>
              <a:ahLst/>
              <a:rect l="l" t="t" r="r" b="b"/>
              <a:pathLst>
                <a:path w="1248" h="1104">
                  <a:moveTo>
                    <a:pt x="0" y="0"/>
                  </a:moveTo>
                  <a:cubicBezTo>
                    <a:pt x="60" y="44"/>
                    <a:pt x="120" y="88"/>
                    <a:pt x="192" y="144"/>
                  </a:cubicBezTo>
                  <a:cubicBezTo>
                    <a:pt x="264" y="200"/>
                    <a:pt x="336" y="256"/>
                    <a:pt x="432" y="336"/>
                  </a:cubicBezTo>
                  <a:cubicBezTo>
                    <a:pt x="528" y="416"/>
                    <a:pt x="664" y="528"/>
                    <a:pt x="768" y="624"/>
                  </a:cubicBezTo>
                  <a:cubicBezTo>
                    <a:pt x="872" y="720"/>
                    <a:pt x="976" y="832"/>
                    <a:pt x="1056" y="912"/>
                  </a:cubicBezTo>
                  <a:cubicBezTo>
                    <a:pt x="1136" y="992"/>
                    <a:pt x="1192" y="1048"/>
                    <a:pt x="1248" y="1104"/>
                  </a:cubicBezTo>
                </a:path>
              </a:pathLst>
            </a:custGeom>
            <a:noFill/>
            <a:ln w="572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224000" y="2330280"/>
            <a:ext cx="9104400" cy="2950200"/>
            <a:chOff x="1224000" y="2330280"/>
            <a:chExt cx="9104400" cy="2950200"/>
          </a:xfrm>
        </p:grpSpPr>
        <p:sp>
          <p:nvSpPr>
            <p:cNvPr id="766" name=""/>
            <p:cNvSpPr/>
            <p:nvPr/>
          </p:nvSpPr>
          <p:spPr>
            <a:xfrm>
              <a:off x="1224000" y="4881600"/>
              <a:ext cx="776520" cy="39888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ff"/>
                  </a:solidFill>
                  <a:latin typeface="Times New Roman"/>
                </a:rPr>
                <a:t>9,2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84720" y="2330280"/>
              <a:ext cx="5143680" cy="70380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  </a:t>
              </a:r>
              <a:r>
                <a:rPr b="1" lang="fr-FR" sz="2000" spc="-1" strike="noStrike">
                  <a:solidFill>
                    <a:srgbClr val="3333cc"/>
                  </a:solidFill>
                  <a:latin typeface="Comic Sans MS"/>
                </a:rPr>
                <a:t>9,2 % sont transportés par les radiations ultraviolettes (U.V.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4856040" y="4076640"/>
            <a:ext cx="5143680" cy="398880"/>
          </a:xfrm>
          <a:prstGeom prst="rect">
            <a:avLst/>
          </a:prstGeom>
          <a:solidFill>
            <a:srgbClr val="ffff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42,4 % dans le domaine vis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909240" y="4610160"/>
            <a:ext cx="6419160" cy="1018080"/>
            <a:chOff x="3909240" y="4610160"/>
            <a:chExt cx="6419160" cy="1018080"/>
          </a:xfrm>
        </p:grpSpPr>
        <p:sp>
          <p:nvSpPr>
            <p:cNvPr id="770" name=""/>
            <p:cNvSpPr/>
            <p:nvPr/>
          </p:nvSpPr>
          <p:spPr>
            <a:xfrm>
              <a:off x="3909240" y="4610160"/>
              <a:ext cx="712440" cy="39888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Times New Roman"/>
                </a:rPr>
                <a:t>48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84720" y="5229360"/>
              <a:ext cx="5143680" cy="398880"/>
            </a:xfrm>
            <a:prstGeom prst="rect">
              <a:avLst/>
            </a:prstGeom>
            <a:solidFill>
              <a:srgbClr val="ffff99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Comic Sans MS"/>
                </a:rPr>
                <a:t>48 % dans l’infraroug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9379-B5B0-487A-8788-41398DE7AF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"/>
          <p:cNvGrpSpPr/>
          <p:nvPr/>
        </p:nvGrpSpPr>
        <p:grpSpPr>
          <a:xfrm>
            <a:off x="141120" y="1144440"/>
            <a:ext cx="7416720" cy="5185080"/>
            <a:chOff x="141120" y="1144440"/>
            <a:chExt cx="7416720" cy="5185080"/>
          </a:xfrm>
        </p:grpSpPr>
        <p:grpSp>
          <p:nvGrpSpPr>
            <p:cNvPr id="773" name=""/>
            <p:cNvGrpSpPr/>
            <p:nvPr/>
          </p:nvGrpSpPr>
          <p:grpSpPr>
            <a:xfrm>
              <a:off x="141120" y="1144440"/>
              <a:ext cx="7416720" cy="5185080"/>
              <a:chOff x="141120" y="1144440"/>
              <a:chExt cx="7416720" cy="518508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141120" y="1144440"/>
                <a:ext cx="7416720" cy="5185080"/>
                <a:chOff x="141120" y="1144440"/>
                <a:chExt cx="7416720" cy="5185080"/>
              </a:xfrm>
            </p:grpSpPr>
            <p:pic>
              <p:nvPicPr>
                <p:cNvPr id="77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41120" y="1519200"/>
                  <a:ext cx="7400880" cy="481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6" name=""/>
                <p:cNvSpPr/>
                <p:nvPr/>
              </p:nvSpPr>
              <p:spPr>
                <a:xfrm>
                  <a:off x="156960" y="1144440"/>
                  <a:ext cx="7400880" cy="368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: le spectre solaire au sommet de l ’atmosphère (à 600 km d ’altitu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" name=""/>
              <p:cNvSpPr/>
              <p:nvPr/>
            </p:nvSpPr>
            <p:spPr>
              <a:xfrm>
                <a:off x="465120" y="1735200"/>
                <a:ext cx="3541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Watts par m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t par micr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38800" y="5764320"/>
                <a:ext cx="273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Longueurs d ’onde en micr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>
              <a:off x="289800" y="2604960"/>
              <a:ext cx="420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57040" y="3102120"/>
              <a:ext cx="495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50920" y="3573360"/>
              <a:ext cx="504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6040" y="4038480"/>
              <a:ext cx="574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5040" y="4560840"/>
              <a:ext cx="459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85040" y="5078520"/>
              <a:ext cx="459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85040" y="5600880"/>
              <a:ext cx="4597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176040" y="0"/>
            <a:ext cx="933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99% de l énergie solaire qui nous parvient est transport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par des radiations de longueurs d ’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comprises entre 0,25 et 5 micromètres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90800" y="2941560"/>
            <a:ext cx="3317760" cy="2710080"/>
            <a:chOff x="1990800" y="2941560"/>
            <a:chExt cx="3317760" cy="2710080"/>
          </a:xfrm>
        </p:grpSpPr>
        <p:sp>
          <p:nvSpPr>
            <p:cNvPr id="788" name=""/>
            <p:cNvSpPr/>
            <p:nvPr/>
          </p:nvSpPr>
          <p:spPr>
            <a:xfrm flipV="1">
              <a:off x="1990800" y="2941560"/>
              <a:ext cx="0" cy="271008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5308560" y="3878280"/>
              <a:ext cx="0" cy="177336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314440" y="3538440"/>
              <a:ext cx="235116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Times New Roman"/>
                </a:rPr>
                <a:t>99 %</a:t>
              </a:r>
              <a:r>
                <a:rPr b="1" lang="en-US" sz="14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de  la </a:t>
              </a:r>
              <a:r>
                <a:rPr b="1" lang="en-US" sz="14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puissance</a:t>
              </a:r>
              <a:r>
                <a:rPr b="1" lang="en-US" sz="14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qui nous parv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est transportée  par les radi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comprises ent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0,25 </a:t>
              </a:r>
              <a:r>
                <a:rPr b="1" lang="en-US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</a:t>
              </a:r>
              <a:r>
                <a:rPr b="1" lang="en-US" sz="1800" spc="-1" strike="noStrike">
                  <a:solidFill>
                    <a:srgbClr val="ff6600"/>
                  </a:solidFill>
                  <a:latin typeface="Times New Roman"/>
                </a:rPr>
                <a:t> et 5 </a:t>
              </a:r>
              <a:r>
                <a:rPr b="1" lang="en-US" sz="1800" spc="-1" strike="noStrike">
                  <a:solidFill>
                    <a:srgbClr val="ff66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 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179280" y="3395520"/>
            <a:ext cx="9256680" cy="33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ar opposition au rayonnement émis par la Ter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on désigne souv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 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le rayonnement solaire parvenant au sommet de l’atmosphè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mme un rayonn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d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courtes longueurs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d’ond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otalement distinct du rayonnement terrestre</a:t>
            </a: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(alors qu’il y a en fait « chevauchement » de ces deux rayonnements dans une partie de l’infrarou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1414-F6D7-4DD3-A8E0-1B76563CAA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617400" y="522360"/>
            <a:ext cx="1843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62120" y="665280"/>
            <a:ext cx="18396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6280" y="0"/>
            <a:ext cx="1839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93160" y="189000"/>
            <a:ext cx="81777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: </a:t>
            </a:r>
            <a:r>
              <a:rPr b="1" i="1" lang="en-US" sz="4400" spc="-1" strike="noStrike">
                <a:solidFill>
                  <a:srgbClr val="ffcc00"/>
                </a:solidFill>
                <a:latin typeface="Comic Sans MS"/>
              </a:rPr>
              <a:t>Le Rayonnement therm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1327320" y="1413000"/>
            <a:ext cx="7005600" cy="452916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0" y="2909880"/>
            <a:ext cx="10287000" cy="10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-3: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Interaction du rayonn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solaire avec l ’atmosphère terrestre et les sols</a:t>
            </a: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-11160" y="1757520"/>
            <a:ext cx="9937800" cy="9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2: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Rayonnement de la Terre et rayonnement sol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avant son entrée dans l ’atmosphère terres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50920" y="11095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1: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Définitions et propriét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-73080" y="4910040"/>
            <a:ext cx="1028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5: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 Quelques applications à des faits d ’observation cour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47600" y="4052880"/>
            <a:ext cx="73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Comic Sans MS"/>
              </a:rPr>
              <a:t>C-4</a:t>
            </a: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: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Interaction du rayonnement terres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Comic Sans MS"/>
              </a:rPr>
              <a:t>avec l’atmosph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23C3-0AB1-4339-8B64-B1C47EC6D0C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3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7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1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5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0760" y="571680"/>
            <a:ext cx="9645480" cy="571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59080" y="1449360"/>
            <a:ext cx="81435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Ce sont justement ces composés, dits « minoritaires »,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qui jouent un rôle très important dans certains phénomènes météorologiques 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nuages et précipitations, effet de serre, etc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3BF-5CB7-4347-857F-DD4C73D5BC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028880" y="228600"/>
            <a:ext cx="883116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ffff99"/>
                </a:solidFill>
                <a:latin typeface="Comic Sans MS"/>
              </a:rPr>
              <a:t>Les effets du rayonnement sur les corps récepteurs sont différents selon la gamme de longueurs d ’on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426960" y="2133720"/>
            <a:ext cx="1491840" cy="4281120"/>
            <a:chOff x="426960" y="2133720"/>
            <a:chExt cx="1491840" cy="4281120"/>
          </a:xfrm>
        </p:grpSpPr>
        <p:sp>
          <p:nvSpPr>
            <p:cNvPr id="804" name=""/>
            <p:cNvSpPr/>
            <p:nvPr/>
          </p:nvSpPr>
          <p:spPr>
            <a:xfrm>
              <a:off x="426960" y="2133720"/>
              <a:ext cx="1491840" cy="4281120"/>
            </a:xfrm>
            <a:custGeom>
              <a:avLst/>
              <a:gdLst/>
              <a:ahLst/>
              <a:rect l="l" t="t" r="r" b="b"/>
              <a:pathLst>
                <a:path w="5006" h="16178">
                  <a:moveTo>
                    <a:pt x="3072" y="429"/>
                  </a:moveTo>
                  <a:lnTo>
                    <a:pt x="3092" y="456"/>
                  </a:lnTo>
                  <a:lnTo>
                    <a:pt x="3111" y="483"/>
                  </a:lnTo>
                  <a:lnTo>
                    <a:pt x="3128" y="510"/>
                  </a:lnTo>
                  <a:lnTo>
                    <a:pt x="3145" y="538"/>
                  </a:lnTo>
                  <a:lnTo>
                    <a:pt x="3161" y="566"/>
                  </a:lnTo>
                  <a:lnTo>
                    <a:pt x="3176" y="595"/>
                  </a:lnTo>
                  <a:lnTo>
                    <a:pt x="3190" y="623"/>
                  </a:lnTo>
                  <a:lnTo>
                    <a:pt x="3204" y="653"/>
                  </a:lnTo>
                  <a:lnTo>
                    <a:pt x="3230" y="711"/>
                  </a:lnTo>
                  <a:lnTo>
                    <a:pt x="3253" y="771"/>
                  </a:lnTo>
                  <a:lnTo>
                    <a:pt x="3276" y="831"/>
                  </a:lnTo>
                  <a:lnTo>
                    <a:pt x="3297" y="892"/>
                  </a:lnTo>
                  <a:lnTo>
                    <a:pt x="3305" y="937"/>
                  </a:lnTo>
                  <a:lnTo>
                    <a:pt x="3313" y="981"/>
                  </a:lnTo>
                  <a:lnTo>
                    <a:pt x="3319" y="1027"/>
                  </a:lnTo>
                  <a:lnTo>
                    <a:pt x="3324" y="1071"/>
                  </a:lnTo>
                  <a:lnTo>
                    <a:pt x="3327" y="1117"/>
                  </a:lnTo>
                  <a:lnTo>
                    <a:pt x="3329" y="1161"/>
                  </a:lnTo>
                  <a:lnTo>
                    <a:pt x="3331" y="1207"/>
                  </a:lnTo>
                  <a:lnTo>
                    <a:pt x="3331" y="1253"/>
                  </a:lnTo>
                  <a:lnTo>
                    <a:pt x="3331" y="1297"/>
                  </a:lnTo>
                  <a:lnTo>
                    <a:pt x="3328" y="1343"/>
                  </a:lnTo>
                  <a:lnTo>
                    <a:pt x="3325" y="1388"/>
                  </a:lnTo>
                  <a:lnTo>
                    <a:pt x="3321" y="1433"/>
                  </a:lnTo>
                  <a:lnTo>
                    <a:pt x="3317" y="1478"/>
                  </a:lnTo>
                  <a:lnTo>
                    <a:pt x="3311" y="1523"/>
                  </a:lnTo>
                  <a:lnTo>
                    <a:pt x="3305" y="1568"/>
                  </a:lnTo>
                  <a:lnTo>
                    <a:pt x="3297" y="1613"/>
                  </a:lnTo>
                  <a:lnTo>
                    <a:pt x="3288" y="1657"/>
                  </a:lnTo>
                  <a:lnTo>
                    <a:pt x="3280" y="1702"/>
                  </a:lnTo>
                  <a:lnTo>
                    <a:pt x="3271" y="1746"/>
                  </a:lnTo>
                  <a:lnTo>
                    <a:pt x="3260" y="1791"/>
                  </a:lnTo>
                  <a:lnTo>
                    <a:pt x="3238" y="1878"/>
                  </a:lnTo>
                  <a:lnTo>
                    <a:pt x="3215" y="1966"/>
                  </a:lnTo>
                  <a:lnTo>
                    <a:pt x="3189" y="2053"/>
                  </a:lnTo>
                  <a:lnTo>
                    <a:pt x="3161" y="2138"/>
                  </a:lnTo>
                  <a:lnTo>
                    <a:pt x="3133" y="2222"/>
                  </a:lnTo>
                  <a:lnTo>
                    <a:pt x="3104" y="2305"/>
                  </a:lnTo>
                  <a:lnTo>
                    <a:pt x="3100" y="2329"/>
                  </a:lnTo>
                  <a:lnTo>
                    <a:pt x="3096" y="2351"/>
                  </a:lnTo>
                  <a:lnTo>
                    <a:pt x="3090" y="2372"/>
                  </a:lnTo>
                  <a:lnTo>
                    <a:pt x="3083" y="2393"/>
                  </a:lnTo>
                  <a:lnTo>
                    <a:pt x="3076" y="2414"/>
                  </a:lnTo>
                  <a:lnTo>
                    <a:pt x="3067" y="2434"/>
                  </a:lnTo>
                  <a:lnTo>
                    <a:pt x="3058" y="2453"/>
                  </a:lnTo>
                  <a:lnTo>
                    <a:pt x="3049" y="2471"/>
                  </a:lnTo>
                  <a:lnTo>
                    <a:pt x="3038" y="2489"/>
                  </a:lnTo>
                  <a:lnTo>
                    <a:pt x="3027" y="2506"/>
                  </a:lnTo>
                  <a:lnTo>
                    <a:pt x="3015" y="2524"/>
                  </a:lnTo>
                  <a:lnTo>
                    <a:pt x="3002" y="2540"/>
                  </a:lnTo>
                  <a:lnTo>
                    <a:pt x="2976" y="2573"/>
                  </a:lnTo>
                  <a:lnTo>
                    <a:pt x="2949" y="2605"/>
                  </a:lnTo>
                  <a:lnTo>
                    <a:pt x="2892" y="2665"/>
                  </a:lnTo>
                  <a:lnTo>
                    <a:pt x="2834" y="2726"/>
                  </a:lnTo>
                  <a:lnTo>
                    <a:pt x="2805" y="2758"/>
                  </a:lnTo>
                  <a:lnTo>
                    <a:pt x="2779" y="2789"/>
                  </a:lnTo>
                  <a:lnTo>
                    <a:pt x="2766" y="2806"/>
                  </a:lnTo>
                  <a:lnTo>
                    <a:pt x="2753" y="2823"/>
                  </a:lnTo>
                  <a:lnTo>
                    <a:pt x="2741" y="2840"/>
                  </a:lnTo>
                  <a:lnTo>
                    <a:pt x="2731" y="2858"/>
                  </a:lnTo>
                  <a:lnTo>
                    <a:pt x="2728" y="2888"/>
                  </a:lnTo>
                  <a:lnTo>
                    <a:pt x="2725" y="2917"/>
                  </a:lnTo>
                  <a:lnTo>
                    <a:pt x="2720" y="2946"/>
                  </a:lnTo>
                  <a:lnTo>
                    <a:pt x="2715" y="2974"/>
                  </a:lnTo>
                  <a:lnTo>
                    <a:pt x="2714" y="2988"/>
                  </a:lnTo>
                  <a:lnTo>
                    <a:pt x="2713" y="3002"/>
                  </a:lnTo>
                  <a:lnTo>
                    <a:pt x="2713" y="3016"/>
                  </a:lnTo>
                  <a:lnTo>
                    <a:pt x="2714" y="3029"/>
                  </a:lnTo>
                  <a:lnTo>
                    <a:pt x="2715" y="3043"/>
                  </a:lnTo>
                  <a:lnTo>
                    <a:pt x="2719" y="3056"/>
                  </a:lnTo>
                  <a:lnTo>
                    <a:pt x="2724" y="3069"/>
                  </a:lnTo>
                  <a:lnTo>
                    <a:pt x="2731" y="3083"/>
                  </a:lnTo>
                  <a:lnTo>
                    <a:pt x="2948" y="3287"/>
                  </a:lnTo>
                  <a:lnTo>
                    <a:pt x="2934" y="3311"/>
                  </a:lnTo>
                  <a:lnTo>
                    <a:pt x="2952" y="3317"/>
                  </a:lnTo>
                  <a:lnTo>
                    <a:pt x="2970" y="3323"/>
                  </a:lnTo>
                  <a:lnTo>
                    <a:pt x="2989" y="3329"/>
                  </a:lnTo>
                  <a:lnTo>
                    <a:pt x="3008" y="3333"/>
                  </a:lnTo>
                  <a:lnTo>
                    <a:pt x="3044" y="3340"/>
                  </a:lnTo>
                  <a:lnTo>
                    <a:pt x="3081" y="3346"/>
                  </a:lnTo>
                  <a:lnTo>
                    <a:pt x="3120" y="3350"/>
                  </a:lnTo>
                  <a:lnTo>
                    <a:pt x="3157" y="3352"/>
                  </a:lnTo>
                  <a:lnTo>
                    <a:pt x="3196" y="3353"/>
                  </a:lnTo>
                  <a:lnTo>
                    <a:pt x="3235" y="3353"/>
                  </a:lnTo>
                  <a:lnTo>
                    <a:pt x="3312" y="3352"/>
                  </a:lnTo>
                  <a:lnTo>
                    <a:pt x="3389" y="3351"/>
                  </a:lnTo>
                  <a:lnTo>
                    <a:pt x="3429" y="3351"/>
                  </a:lnTo>
                  <a:lnTo>
                    <a:pt x="3467" y="3352"/>
                  </a:lnTo>
                  <a:lnTo>
                    <a:pt x="3506" y="3354"/>
                  </a:lnTo>
                  <a:lnTo>
                    <a:pt x="3546" y="3359"/>
                  </a:lnTo>
                  <a:lnTo>
                    <a:pt x="3591" y="3363"/>
                  </a:lnTo>
                  <a:lnTo>
                    <a:pt x="3640" y="3366"/>
                  </a:lnTo>
                  <a:lnTo>
                    <a:pt x="3664" y="3368"/>
                  </a:lnTo>
                  <a:lnTo>
                    <a:pt x="3688" y="3371"/>
                  </a:lnTo>
                  <a:lnTo>
                    <a:pt x="3713" y="3374"/>
                  </a:lnTo>
                  <a:lnTo>
                    <a:pt x="3736" y="3379"/>
                  </a:lnTo>
                  <a:lnTo>
                    <a:pt x="3760" y="3385"/>
                  </a:lnTo>
                  <a:lnTo>
                    <a:pt x="3783" y="3392"/>
                  </a:lnTo>
                  <a:lnTo>
                    <a:pt x="3805" y="3400"/>
                  </a:lnTo>
                  <a:lnTo>
                    <a:pt x="3828" y="3410"/>
                  </a:lnTo>
                  <a:lnTo>
                    <a:pt x="3849" y="3422"/>
                  </a:lnTo>
                  <a:lnTo>
                    <a:pt x="3869" y="3435"/>
                  </a:lnTo>
                  <a:lnTo>
                    <a:pt x="3878" y="3443"/>
                  </a:lnTo>
                  <a:lnTo>
                    <a:pt x="3887" y="3451"/>
                  </a:lnTo>
                  <a:lnTo>
                    <a:pt x="3897" y="3460"/>
                  </a:lnTo>
                  <a:lnTo>
                    <a:pt x="3905" y="3469"/>
                  </a:lnTo>
                  <a:lnTo>
                    <a:pt x="3991" y="3608"/>
                  </a:lnTo>
                  <a:lnTo>
                    <a:pt x="4004" y="3694"/>
                  </a:lnTo>
                  <a:lnTo>
                    <a:pt x="4016" y="3780"/>
                  </a:lnTo>
                  <a:lnTo>
                    <a:pt x="4028" y="3867"/>
                  </a:lnTo>
                  <a:lnTo>
                    <a:pt x="4039" y="3953"/>
                  </a:lnTo>
                  <a:lnTo>
                    <a:pt x="4051" y="4041"/>
                  </a:lnTo>
                  <a:lnTo>
                    <a:pt x="4063" y="4127"/>
                  </a:lnTo>
                  <a:lnTo>
                    <a:pt x="4073" y="4214"/>
                  </a:lnTo>
                  <a:lnTo>
                    <a:pt x="4085" y="4301"/>
                  </a:lnTo>
                  <a:lnTo>
                    <a:pt x="4097" y="4387"/>
                  </a:lnTo>
                  <a:lnTo>
                    <a:pt x="4109" y="4474"/>
                  </a:lnTo>
                  <a:lnTo>
                    <a:pt x="4121" y="4560"/>
                  </a:lnTo>
                  <a:lnTo>
                    <a:pt x="4135" y="4646"/>
                  </a:lnTo>
                  <a:lnTo>
                    <a:pt x="4149" y="4732"/>
                  </a:lnTo>
                  <a:lnTo>
                    <a:pt x="4163" y="4818"/>
                  </a:lnTo>
                  <a:lnTo>
                    <a:pt x="4178" y="4902"/>
                  </a:lnTo>
                  <a:lnTo>
                    <a:pt x="4195" y="4986"/>
                  </a:lnTo>
                  <a:lnTo>
                    <a:pt x="4191" y="5030"/>
                  </a:lnTo>
                  <a:lnTo>
                    <a:pt x="4189" y="5075"/>
                  </a:lnTo>
                  <a:lnTo>
                    <a:pt x="4187" y="5118"/>
                  </a:lnTo>
                  <a:lnTo>
                    <a:pt x="4187" y="5161"/>
                  </a:lnTo>
                  <a:lnTo>
                    <a:pt x="4187" y="5205"/>
                  </a:lnTo>
                  <a:lnTo>
                    <a:pt x="4188" y="5248"/>
                  </a:lnTo>
                  <a:lnTo>
                    <a:pt x="4189" y="5291"/>
                  </a:lnTo>
                  <a:lnTo>
                    <a:pt x="4192" y="5333"/>
                  </a:lnTo>
                  <a:lnTo>
                    <a:pt x="4199" y="5418"/>
                  </a:lnTo>
                  <a:lnTo>
                    <a:pt x="4209" y="5502"/>
                  </a:lnTo>
                  <a:lnTo>
                    <a:pt x="4219" y="5585"/>
                  </a:lnTo>
                  <a:lnTo>
                    <a:pt x="4231" y="5668"/>
                  </a:lnTo>
                  <a:lnTo>
                    <a:pt x="4245" y="5751"/>
                  </a:lnTo>
                  <a:lnTo>
                    <a:pt x="4258" y="5833"/>
                  </a:lnTo>
                  <a:lnTo>
                    <a:pt x="4272" y="5916"/>
                  </a:lnTo>
                  <a:lnTo>
                    <a:pt x="4285" y="5998"/>
                  </a:lnTo>
                  <a:lnTo>
                    <a:pt x="4297" y="6080"/>
                  </a:lnTo>
                  <a:lnTo>
                    <a:pt x="4307" y="6161"/>
                  </a:lnTo>
                  <a:lnTo>
                    <a:pt x="4316" y="6244"/>
                  </a:lnTo>
                  <a:lnTo>
                    <a:pt x="4322" y="6328"/>
                  </a:lnTo>
                  <a:lnTo>
                    <a:pt x="4347" y="6385"/>
                  </a:lnTo>
                  <a:lnTo>
                    <a:pt x="4368" y="6443"/>
                  </a:lnTo>
                  <a:lnTo>
                    <a:pt x="4388" y="6503"/>
                  </a:lnTo>
                  <a:lnTo>
                    <a:pt x="4404" y="6563"/>
                  </a:lnTo>
                  <a:lnTo>
                    <a:pt x="4418" y="6622"/>
                  </a:lnTo>
                  <a:lnTo>
                    <a:pt x="4431" y="6682"/>
                  </a:lnTo>
                  <a:lnTo>
                    <a:pt x="4442" y="6743"/>
                  </a:lnTo>
                  <a:lnTo>
                    <a:pt x="4450" y="6802"/>
                  </a:lnTo>
                  <a:lnTo>
                    <a:pt x="4456" y="6863"/>
                  </a:lnTo>
                  <a:lnTo>
                    <a:pt x="4460" y="6925"/>
                  </a:lnTo>
                  <a:lnTo>
                    <a:pt x="4464" y="6986"/>
                  </a:lnTo>
                  <a:lnTo>
                    <a:pt x="4465" y="7047"/>
                  </a:lnTo>
                  <a:lnTo>
                    <a:pt x="4465" y="7109"/>
                  </a:lnTo>
                  <a:lnTo>
                    <a:pt x="4463" y="7171"/>
                  </a:lnTo>
                  <a:lnTo>
                    <a:pt x="4459" y="7232"/>
                  </a:lnTo>
                  <a:lnTo>
                    <a:pt x="4456" y="7294"/>
                  </a:lnTo>
                  <a:lnTo>
                    <a:pt x="4450" y="7356"/>
                  </a:lnTo>
                  <a:lnTo>
                    <a:pt x="4443" y="7418"/>
                  </a:lnTo>
                  <a:lnTo>
                    <a:pt x="4436" y="7478"/>
                  </a:lnTo>
                  <a:lnTo>
                    <a:pt x="4427" y="7540"/>
                  </a:lnTo>
                  <a:lnTo>
                    <a:pt x="4418" y="7602"/>
                  </a:lnTo>
                  <a:lnTo>
                    <a:pt x="4408" y="7663"/>
                  </a:lnTo>
                  <a:lnTo>
                    <a:pt x="4397" y="7724"/>
                  </a:lnTo>
                  <a:lnTo>
                    <a:pt x="4385" y="7786"/>
                  </a:lnTo>
                  <a:lnTo>
                    <a:pt x="4361" y="7908"/>
                  </a:lnTo>
                  <a:lnTo>
                    <a:pt x="4336" y="8028"/>
                  </a:lnTo>
                  <a:lnTo>
                    <a:pt x="4311" y="8147"/>
                  </a:lnTo>
                  <a:lnTo>
                    <a:pt x="4285" y="8266"/>
                  </a:lnTo>
                  <a:lnTo>
                    <a:pt x="4275" y="8323"/>
                  </a:lnTo>
                  <a:lnTo>
                    <a:pt x="4267" y="8381"/>
                  </a:lnTo>
                  <a:lnTo>
                    <a:pt x="4260" y="8439"/>
                  </a:lnTo>
                  <a:lnTo>
                    <a:pt x="4254" y="8497"/>
                  </a:lnTo>
                  <a:lnTo>
                    <a:pt x="4250" y="8556"/>
                  </a:lnTo>
                  <a:lnTo>
                    <a:pt x="4246" y="8613"/>
                  </a:lnTo>
                  <a:lnTo>
                    <a:pt x="4244" y="8670"/>
                  </a:lnTo>
                  <a:lnTo>
                    <a:pt x="4245" y="8728"/>
                  </a:lnTo>
                  <a:lnTo>
                    <a:pt x="4246" y="8756"/>
                  </a:lnTo>
                  <a:lnTo>
                    <a:pt x="4247" y="8785"/>
                  </a:lnTo>
                  <a:lnTo>
                    <a:pt x="4250" y="8813"/>
                  </a:lnTo>
                  <a:lnTo>
                    <a:pt x="4253" y="8841"/>
                  </a:lnTo>
                  <a:lnTo>
                    <a:pt x="4257" y="8869"/>
                  </a:lnTo>
                  <a:lnTo>
                    <a:pt x="4261" y="8896"/>
                  </a:lnTo>
                  <a:lnTo>
                    <a:pt x="4266" y="8924"/>
                  </a:lnTo>
                  <a:lnTo>
                    <a:pt x="4272" y="8951"/>
                  </a:lnTo>
                  <a:lnTo>
                    <a:pt x="4279" y="8979"/>
                  </a:lnTo>
                  <a:lnTo>
                    <a:pt x="4286" y="9006"/>
                  </a:lnTo>
                  <a:lnTo>
                    <a:pt x="4294" y="9033"/>
                  </a:lnTo>
                  <a:lnTo>
                    <a:pt x="4304" y="9060"/>
                  </a:lnTo>
                  <a:lnTo>
                    <a:pt x="4314" y="9086"/>
                  </a:lnTo>
                  <a:lnTo>
                    <a:pt x="4325" y="9112"/>
                  </a:lnTo>
                  <a:lnTo>
                    <a:pt x="4337" y="9138"/>
                  </a:lnTo>
                  <a:lnTo>
                    <a:pt x="4350" y="9164"/>
                  </a:lnTo>
                  <a:lnTo>
                    <a:pt x="4366" y="9205"/>
                  </a:lnTo>
                  <a:lnTo>
                    <a:pt x="4380" y="9247"/>
                  </a:lnTo>
                  <a:lnTo>
                    <a:pt x="4391" y="9289"/>
                  </a:lnTo>
                  <a:lnTo>
                    <a:pt x="4402" y="9330"/>
                  </a:lnTo>
                  <a:lnTo>
                    <a:pt x="4411" y="9372"/>
                  </a:lnTo>
                  <a:lnTo>
                    <a:pt x="4418" y="9414"/>
                  </a:lnTo>
                  <a:lnTo>
                    <a:pt x="4424" y="9455"/>
                  </a:lnTo>
                  <a:lnTo>
                    <a:pt x="4429" y="9497"/>
                  </a:lnTo>
                  <a:lnTo>
                    <a:pt x="4432" y="9539"/>
                  </a:lnTo>
                  <a:lnTo>
                    <a:pt x="4433" y="9581"/>
                  </a:lnTo>
                  <a:lnTo>
                    <a:pt x="4433" y="9622"/>
                  </a:lnTo>
                  <a:lnTo>
                    <a:pt x="4433" y="9664"/>
                  </a:lnTo>
                  <a:lnTo>
                    <a:pt x="4431" y="9705"/>
                  </a:lnTo>
                  <a:lnTo>
                    <a:pt x="4427" y="9748"/>
                  </a:lnTo>
                  <a:lnTo>
                    <a:pt x="4423" y="9788"/>
                  </a:lnTo>
                  <a:lnTo>
                    <a:pt x="4417" y="9829"/>
                  </a:lnTo>
                  <a:lnTo>
                    <a:pt x="4410" y="9870"/>
                  </a:lnTo>
                  <a:lnTo>
                    <a:pt x="4403" y="9911"/>
                  </a:lnTo>
                  <a:lnTo>
                    <a:pt x="4394" y="9952"/>
                  </a:lnTo>
                  <a:lnTo>
                    <a:pt x="4384" y="9992"/>
                  </a:lnTo>
                  <a:lnTo>
                    <a:pt x="4373" y="10033"/>
                  </a:lnTo>
                  <a:lnTo>
                    <a:pt x="4361" y="10073"/>
                  </a:lnTo>
                  <a:lnTo>
                    <a:pt x="4349" y="10112"/>
                  </a:lnTo>
                  <a:lnTo>
                    <a:pt x="4335" y="10152"/>
                  </a:lnTo>
                  <a:lnTo>
                    <a:pt x="4321" y="10191"/>
                  </a:lnTo>
                  <a:lnTo>
                    <a:pt x="4306" y="10229"/>
                  </a:lnTo>
                  <a:lnTo>
                    <a:pt x="4291" y="10268"/>
                  </a:lnTo>
                  <a:lnTo>
                    <a:pt x="4274" y="10307"/>
                  </a:lnTo>
                  <a:lnTo>
                    <a:pt x="4257" y="10344"/>
                  </a:lnTo>
                  <a:lnTo>
                    <a:pt x="4239" y="10383"/>
                  </a:lnTo>
                  <a:lnTo>
                    <a:pt x="4221" y="10419"/>
                  </a:lnTo>
                  <a:lnTo>
                    <a:pt x="4202" y="10456"/>
                  </a:lnTo>
                  <a:lnTo>
                    <a:pt x="4194" y="10418"/>
                  </a:lnTo>
                  <a:lnTo>
                    <a:pt x="4187" y="10381"/>
                  </a:lnTo>
                  <a:lnTo>
                    <a:pt x="4181" y="10346"/>
                  </a:lnTo>
                  <a:lnTo>
                    <a:pt x="4174" y="10311"/>
                  </a:lnTo>
                  <a:lnTo>
                    <a:pt x="4167" y="10277"/>
                  </a:lnTo>
                  <a:lnTo>
                    <a:pt x="4159" y="10245"/>
                  </a:lnTo>
                  <a:lnTo>
                    <a:pt x="4154" y="10228"/>
                  </a:lnTo>
                  <a:lnTo>
                    <a:pt x="4149" y="10212"/>
                  </a:lnTo>
                  <a:lnTo>
                    <a:pt x="4143" y="10195"/>
                  </a:lnTo>
                  <a:lnTo>
                    <a:pt x="4136" y="10179"/>
                  </a:lnTo>
                  <a:lnTo>
                    <a:pt x="3905" y="10384"/>
                  </a:lnTo>
                  <a:lnTo>
                    <a:pt x="3897" y="10381"/>
                  </a:lnTo>
                  <a:lnTo>
                    <a:pt x="3890" y="10379"/>
                  </a:lnTo>
                  <a:lnTo>
                    <a:pt x="3883" y="10377"/>
                  </a:lnTo>
                  <a:lnTo>
                    <a:pt x="3878" y="10372"/>
                  </a:lnTo>
                  <a:lnTo>
                    <a:pt x="3873" y="10369"/>
                  </a:lnTo>
                  <a:lnTo>
                    <a:pt x="3870" y="10364"/>
                  </a:lnTo>
                  <a:lnTo>
                    <a:pt x="3867" y="10358"/>
                  </a:lnTo>
                  <a:lnTo>
                    <a:pt x="3865" y="10352"/>
                  </a:lnTo>
                  <a:lnTo>
                    <a:pt x="3858" y="10328"/>
                  </a:lnTo>
                  <a:lnTo>
                    <a:pt x="3853" y="10301"/>
                  </a:lnTo>
                  <a:lnTo>
                    <a:pt x="3856" y="10266"/>
                  </a:lnTo>
                  <a:lnTo>
                    <a:pt x="3860" y="10233"/>
                  </a:lnTo>
                  <a:lnTo>
                    <a:pt x="3866" y="10199"/>
                  </a:lnTo>
                  <a:lnTo>
                    <a:pt x="3874" y="10167"/>
                  </a:lnTo>
                  <a:lnTo>
                    <a:pt x="3884" y="10136"/>
                  </a:lnTo>
                  <a:lnTo>
                    <a:pt x="3893" y="10104"/>
                  </a:lnTo>
                  <a:lnTo>
                    <a:pt x="3904" y="10073"/>
                  </a:lnTo>
                  <a:lnTo>
                    <a:pt x="3914" y="10041"/>
                  </a:lnTo>
                  <a:lnTo>
                    <a:pt x="3925" y="10011"/>
                  </a:lnTo>
                  <a:lnTo>
                    <a:pt x="3935" y="9979"/>
                  </a:lnTo>
                  <a:lnTo>
                    <a:pt x="3945" y="9948"/>
                  </a:lnTo>
                  <a:lnTo>
                    <a:pt x="3953" y="9916"/>
                  </a:lnTo>
                  <a:lnTo>
                    <a:pt x="3960" y="9883"/>
                  </a:lnTo>
                  <a:lnTo>
                    <a:pt x="3966" y="9850"/>
                  </a:lnTo>
                  <a:lnTo>
                    <a:pt x="3969" y="9817"/>
                  </a:lnTo>
                  <a:lnTo>
                    <a:pt x="3970" y="9783"/>
                  </a:lnTo>
                  <a:lnTo>
                    <a:pt x="3960" y="9770"/>
                  </a:lnTo>
                  <a:lnTo>
                    <a:pt x="3947" y="9758"/>
                  </a:lnTo>
                  <a:lnTo>
                    <a:pt x="3940" y="9755"/>
                  </a:lnTo>
                  <a:lnTo>
                    <a:pt x="3933" y="9752"/>
                  </a:lnTo>
                  <a:lnTo>
                    <a:pt x="3929" y="9752"/>
                  </a:lnTo>
                  <a:lnTo>
                    <a:pt x="3926" y="9752"/>
                  </a:lnTo>
                  <a:lnTo>
                    <a:pt x="3922" y="9753"/>
                  </a:lnTo>
                  <a:lnTo>
                    <a:pt x="3919" y="9755"/>
                  </a:lnTo>
                  <a:lnTo>
                    <a:pt x="3794" y="9882"/>
                  </a:lnTo>
                  <a:lnTo>
                    <a:pt x="3788" y="9874"/>
                  </a:lnTo>
                  <a:lnTo>
                    <a:pt x="3784" y="9866"/>
                  </a:lnTo>
                  <a:lnTo>
                    <a:pt x="3781" y="9856"/>
                  </a:lnTo>
                  <a:lnTo>
                    <a:pt x="3778" y="9847"/>
                  </a:lnTo>
                  <a:lnTo>
                    <a:pt x="3776" y="9828"/>
                  </a:lnTo>
                  <a:lnTo>
                    <a:pt x="3775" y="9808"/>
                  </a:lnTo>
                  <a:lnTo>
                    <a:pt x="3775" y="9788"/>
                  </a:lnTo>
                  <a:lnTo>
                    <a:pt x="3775" y="9769"/>
                  </a:lnTo>
                  <a:lnTo>
                    <a:pt x="3774" y="9758"/>
                  </a:lnTo>
                  <a:lnTo>
                    <a:pt x="3773" y="9748"/>
                  </a:lnTo>
                  <a:lnTo>
                    <a:pt x="3770" y="9737"/>
                  </a:lnTo>
                  <a:lnTo>
                    <a:pt x="3767" y="9726"/>
                  </a:lnTo>
                  <a:lnTo>
                    <a:pt x="3780" y="9729"/>
                  </a:lnTo>
                  <a:lnTo>
                    <a:pt x="3791" y="9729"/>
                  </a:lnTo>
                  <a:lnTo>
                    <a:pt x="3803" y="9729"/>
                  </a:lnTo>
                  <a:lnTo>
                    <a:pt x="3815" y="9728"/>
                  </a:lnTo>
                  <a:lnTo>
                    <a:pt x="3825" y="9725"/>
                  </a:lnTo>
                  <a:lnTo>
                    <a:pt x="3836" y="9722"/>
                  </a:lnTo>
                  <a:lnTo>
                    <a:pt x="3845" y="9718"/>
                  </a:lnTo>
                  <a:lnTo>
                    <a:pt x="3854" y="9714"/>
                  </a:lnTo>
                  <a:lnTo>
                    <a:pt x="3863" y="9709"/>
                  </a:lnTo>
                  <a:lnTo>
                    <a:pt x="3871" y="9703"/>
                  </a:lnTo>
                  <a:lnTo>
                    <a:pt x="3879" y="9697"/>
                  </a:lnTo>
                  <a:lnTo>
                    <a:pt x="3887" y="9690"/>
                  </a:lnTo>
                  <a:lnTo>
                    <a:pt x="3901" y="9675"/>
                  </a:lnTo>
                  <a:lnTo>
                    <a:pt x="3914" y="9659"/>
                  </a:lnTo>
                  <a:lnTo>
                    <a:pt x="3927" y="9641"/>
                  </a:lnTo>
                  <a:lnTo>
                    <a:pt x="3939" y="9622"/>
                  </a:lnTo>
                  <a:lnTo>
                    <a:pt x="3950" y="9604"/>
                  </a:lnTo>
                  <a:lnTo>
                    <a:pt x="3961" y="9584"/>
                  </a:lnTo>
                  <a:lnTo>
                    <a:pt x="3973" y="9565"/>
                  </a:lnTo>
                  <a:lnTo>
                    <a:pt x="3984" y="9546"/>
                  </a:lnTo>
                  <a:lnTo>
                    <a:pt x="3996" y="9529"/>
                  </a:lnTo>
                  <a:lnTo>
                    <a:pt x="4009" y="9512"/>
                  </a:lnTo>
                  <a:lnTo>
                    <a:pt x="4014" y="9500"/>
                  </a:lnTo>
                  <a:lnTo>
                    <a:pt x="4017" y="9487"/>
                  </a:lnTo>
                  <a:lnTo>
                    <a:pt x="4021" y="9473"/>
                  </a:lnTo>
                  <a:lnTo>
                    <a:pt x="4023" y="9459"/>
                  </a:lnTo>
                  <a:lnTo>
                    <a:pt x="4028" y="9431"/>
                  </a:lnTo>
                  <a:lnTo>
                    <a:pt x="4031" y="9402"/>
                  </a:lnTo>
                  <a:lnTo>
                    <a:pt x="4035" y="9373"/>
                  </a:lnTo>
                  <a:lnTo>
                    <a:pt x="4040" y="9345"/>
                  </a:lnTo>
                  <a:lnTo>
                    <a:pt x="4043" y="9332"/>
                  </a:lnTo>
                  <a:lnTo>
                    <a:pt x="4046" y="9318"/>
                  </a:lnTo>
                  <a:lnTo>
                    <a:pt x="4051" y="9304"/>
                  </a:lnTo>
                  <a:lnTo>
                    <a:pt x="4057" y="9291"/>
                  </a:lnTo>
                  <a:lnTo>
                    <a:pt x="4065" y="9305"/>
                  </a:lnTo>
                  <a:lnTo>
                    <a:pt x="4072" y="9319"/>
                  </a:lnTo>
                  <a:lnTo>
                    <a:pt x="4079" y="9333"/>
                  </a:lnTo>
                  <a:lnTo>
                    <a:pt x="4085" y="9348"/>
                  </a:lnTo>
                  <a:lnTo>
                    <a:pt x="4091" y="9362"/>
                  </a:lnTo>
                  <a:lnTo>
                    <a:pt x="4095" y="9376"/>
                  </a:lnTo>
                  <a:lnTo>
                    <a:pt x="4100" y="9390"/>
                  </a:lnTo>
                  <a:lnTo>
                    <a:pt x="4104" y="9405"/>
                  </a:lnTo>
                  <a:lnTo>
                    <a:pt x="4108" y="9434"/>
                  </a:lnTo>
                  <a:lnTo>
                    <a:pt x="4113" y="9463"/>
                  </a:lnTo>
                  <a:lnTo>
                    <a:pt x="4115" y="9494"/>
                  </a:lnTo>
                  <a:lnTo>
                    <a:pt x="4118" y="9524"/>
                  </a:lnTo>
                  <a:lnTo>
                    <a:pt x="4119" y="9586"/>
                  </a:lnTo>
                  <a:lnTo>
                    <a:pt x="4121" y="9649"/>
                  </a:lnTo>
                  <a:lnTo>
                    <a:pt x="4122" y="9681"/>
                  </a:lnTo>
                  <a:lnTo>
                    <a:pt x="4126" y="9712"/>
                  </a:lnTo>
                  <a:lnTo>
                    <a:pt x="4130" y="9744"/>
                  </a:lnTo>
                  <a:lnTo>
                    <a:pt x="4136" y="9776"/>
                  </a:lnTo>
                  <a:lnTo>
                    <a:pt x="4143" y="9798"/>
                  </a:lnTo>
                  <a:lnTo>
                    <a:pt x="4149" y="9820"/>
                  </a:lnTo>
                  <a:lnTo>
                    <a:pt x="4155" y="9843"/>
                  </a:lnTo>
                  <a:lnTo>
                    <a:pt x="4160" y="9867"/>
                  </a:lnTo>
                  <a:lnTo>
                    <a:pt x="4163" y="9891"/>
                  </a:lnTo>
                  <a:lnTo>
                    <a:pt x="4167" y="9915"/>
                  </a:lnTo>
                  <a:lnTo>
                    <a:pt x="4169" y="9939"/>
                  </a:lnTo>
                  <a:lnTo>
                    <a:pt x="4170" y="9965"/>
                  </a:lnTo>
                  <a:lnTo>
                    <a:pt x="4173" y="10015"/>
                  </a:lnTo>
                  <a:lnTo>
                    <a:pt x="4174" y="10066"/>
                  </a:lnTo>
                  <a:lnTo>
                    <a:pt x="4174" y="10117"/>
                  </a:lnTo>
                  <a:lnTo>
                    <a:pt x="4174" y="10170"/>
                  </a:lnTo>
                  <a:lnTo>
                    <a:pt x="4187" y="10181"/>
                  </a:lnTo>
                  <a:lnTo>
                    <a:pt x="4201" y="10193"/>
                  </a:lnTo>
                  <a:lnTo>
                    <a:pt x="4208" y="10197"/>
                  </a:lnTo>
                  <a:lnTo>
                    <a:pt x="4215" y="10198"/>
                  </a:lnTo>
                  <a:lnTo>
                    <a:pt x="4218" y="10197"/>
                  </a:lnTo>
                  <a:lnTo>
                    <a:pt x="4222" y="10195"/>
                  </a:lnTo>
                  <a:lnTo>
                    <a:pt x="4225" y="10193"/>
                  </a:lnTo>
                  <a:lnTo>
                    <a:pt x="4230" y="10190"/>
                  </a:lnTo>
                  <a:lnTo>
                    <a:pt x="4242" y="10176"/>
                  </a:lnTo>
                  <a:lnTo>
                    <a:pt x="4253" y="10160"/>
                  </a:lnTo>
                  <a:lnTo>
                    <a:pt x="4264" y="10144"/>
                  </a:lnTo>
                  <a:lnTo>
                    <a:pt x="4273" y="10128"/>
                  </a:lnTo>
                  <a:lnTo>
                    <a:pt x="4282" y="10111"/>
                  </a:lnTo>
                  <a:lnTo>
                    <a:pt x="4291" y="10094"/>
                  </a:lnTo>
                  <a:lnTo>
                    <a:pt x="4299" y="10076"/>
                  </a:lnTo>
                  <a:lnTo>
                    <a:pt x="4306" y="10059"/>
                  </a:lnTo>
                  <a:lnTo>
                    <a:pt x="4313" y="10040"/>
                  </a:lnTo>
                  <a:lnTo>
                    <a:pt x="4319" y="10022"/>
                  </a:lnTo>
                  <a:lnTo>
                    <a:pt x="4323" y="10004"/>
                  </a:lnTo>
                  <a:lnTo>
                    <a:pt x="4328" y="9984"/>
                  </a:lnTo>
                  <a:lnTo>
                    <a:pt x="4336" y="9945"/>
                  </a:lnTo>
                  <a:lnTo>
                    <a:pt x="4342" y="9905"/>
                  </a:lnTo>
                  <a:lnTo>
                    <a:pt x="4346" y="9866"/>
                  </a:lnTo>
                  <a:lnTo>
                    <a:pt x="4348" y="9825"/>
                  </a:lnTo>
                  <a:lnTo>
                    <a:pt x="4349" y="9785"/>
                  </a:lnTo>
                  <a:lnTo>
                    <a:pt x="4349" y="9744"/>
                  </a:lnTo>
                  <a:lnTo>
                    <a:pt x="4348" y="9703"/>
                  </a:lnTo>
                  <a:lnTo>
                    <a:pt x="4346" y="9663"/>
                  </a:lnTo>
                  <a:lnTo>
                    <a:pt x="4343" y="9624"/>
                  </a:lnTo>
                  <a:lnTo>
                    <a:pt x="4340" y="9585"/>
                  </a:lnTo>
                  <a:lnTo>
                    <a:pt x="4329" y="9538"/>
                  </a:lnTo>
                  <a:lnTo>
                    <a:pt x="4319" y="9491"/>
                  </a:lnTo>
                  <a:lnTo>
                    <a:pt x="4309" y="9445"/>
                  </a:lnTo>
                  <a:lnTo>
                    <a:pt x="4302" y="9399"/>
                  </a:lnTo>
                  <a:lnTo>
                    <a:pt x="4297" y="9353"/>
                  </a:lnTo>
                  <a:lnTo>
                    <a:pt x="4293" y="9308"/>
                  </a:lnTo>
                  <a:lnTo>
                    <a:pt x="4293" y="9286"/>
                  </a:lnTo>
                  <a:lnTo>
                    <a:pt x="4293" y="9262"/>
                  </a:lnTo>
                  <a:lnTo>
                    <a:pt x="4293" y="9239"/>
                  </a:lnTo>
                  <a:lnTo>
                    <a:pt x="4295" y="9215"/>
                  </a:lnTo>
                  <a:lnTo>
                    <a:pt x="4293" y="9206"/>
                  </a:lnTo>
                  <a:lnTo>
                    <a:pt x="4290" y="9197"/>
                  </a:lnTo>
                  <a:lnTo>
                    <a:pt x="4286" y="9187"/>
                  </a:lnTo>
                  <a:lnTo>
                    <a:pt x="4282" y="9180"/>
                  </a:lnTo>
                  <a:lnTo>
                    <a:pt x="4273" y="9165"/>
                  </a:lnTo>
                  <a:lnTo>
                    <a:pt x="4264" y="9153"/>
                  </a:lnTo>
                  <a:lnTo>
                    <a:pt x="4240" y="9131"/>
                  </a:lnTo>
                  <a:lnTo>
                    <a:pt x="4218" y="9112"/>
                  </a:lnTo>
                  <a:lnTo>
                    <a:pt x="4208" y="9102"/>
                  </a:lnTo>
                  <a:lnTo>
                    <a:pt x="4198" y="9091"/>
                  </a:lnTo>
                  <a:lnTo>
                    <a:pt x="4195" y="9086"/>
                  </a:lnTo>
                  <a:lnTo>
                    <a:pt x="4191" y="9080"/>
                  </a:lnTo>
                  <a:lnTo>
                    <a:pt x="4188" y="9073"/>
                  </a:lnTo>
                  <a:lnTo>
                    <a:pt x="4185" y="9066"/>
                  </a:lnTo>
                  <a:lnTo>
                    <a:pt x="4184" y="9059"/>
                  </a:lnTo>
                  <a:lnTo>
                    <a:pt x="4183" y="9050"/>
                  </a:lnTo>
                  <a:lnTo>
                    <a:pt x="4183" y="9042"/>
                  </a:lnTo>
                  <a:lnTo>
                    <a:pt x="4183" y="9033"/>
                  </a:lnTo>
                  <a:lnTo>
                    <a:pt x="4185" y="9022"/>
                  </a:lnTo>
                  <a:lnTo>
                    <a:pt x="4188" y="9012"/>
                  </a:lnTo>
                  <a:lnTo>
                    <a:pt x="4190" y="9000"/>
                  </a:lnTo>
                  <a:lnTo>
                    <a:pt x="4195" y="8987"/>
                  </a:lnTo>
                  <a:lnTo>
                    <a:pt x="4185" y="8980"/>
                  </a:lnTo>
                  <a:lnTo>
                    <a:pt x="4175" y="8974"/>
                  </a:lnTo>
                  <a:lnTo>
                    <a:pt x="4164" y="8970"/>
                  </a:lnTo>
                  <a:lnTo>
                    <a:pt x="4153" y="8965"/>
                  </a:lnTo>
                  <a:lnTo>
                    <a:pt x="4127" y="8959"/>
                  </a:lnTo>
                  <a:lnTo>
                    <a:pt x="4101" y="8955"/>
                  </a:lnTo>
                  <a:lnTo>
                    <a:pt x="4073" y="8951"/>
                  </a:lnTo>
                  <a:lnTo>
                    <a:pt x="4045" y="8949"/>
                  </a:lnTo>
                  <a:lnTo>
                    <a:pt x="4018" y="8944"/>
                  </a:lnTo>
                  <a:lnTo>
                    <a:pt x="3991" y="8939"/>
                  </a:lnTo>
                  <a:lnTo>
                    <a:pt x="3975" y="8957"/>
                  </a:lnTo>
                  <a:lnTo>
                    <a:pt x="3959" y="8974"/>
                  </a:lnTo>
                  <a:lnTo>
                    <a:pt x="3942" y="8993"/>
                  </a:lnTo>
                  <a:lnTo>
                    <a:pt x="3927" y="9013"/>
                  </a:lnTo>
                  <a:lnTo>
                    <a:pt x="3912" y="9033"/>
                  </a:lnTo>
                  <a:lnTo>
                    <a:pt x="3897" y="9054"/>
                  </a:lnTo>
                  <a:lnTo>
                    <a:pt x="3883" y="9075"/>
                  </a:lnTo>
                  <a:lnTo>
                    <a:pt x="3870" y="9097"/>
                  </a:lnTo>
                  <a:lnTo>
                    <a:pt x="3857" y="9119"/>
                  </a:lnTo>
                  <a:lnTo>
                    <a:pt x="3845" y="9142"/>
                  </a:lnTo>
                  <a:lnTo>
                    <a:pt x="3833" y="9165"/>
                  </a:lnTo>
                  <a:lnTo>
                    <a:pt x="3823" y="9188"/>
                  </a:lnTo>
                  <a:lnTo>
                    <a:pt x="3812" y="9212"/>
                  </a:lnTo>
                  <a:lnTo>
                    <a:pt x="3803" y="9234"/>
                  </a:lnTo>
                  <a:lnTo>
                    <a:pt x="3795" y="9257"/>
                  </a:lnTo>
                  <a:lnTo>
                    <a:pt x="3787" y="9281"/>
                  </a:lnTo>
                  <a:lnTo>
                    <a:pt x="3789" y="9321"/>
                  </a:lnTo>
                  <a:lnTo>
                    <a:pt x="3792" y="9360"/>
                  </a:lnTo>
                  <a:lnTo>
                    <a:pt x="3796" y="9400"/>
                  </a:lnTo>
                  <a:lnTo>
                    <a:pt x="3798" y="9440"/>
                  </a:lnTo>
                  <a:lnTo>
                    <a:pt x="3800" y="9460"/>
                  </a:lnTo>
                  <a:lnTo>
                    <a:pt x="3798" y="9479"/>
                  </a:lnTo>
                  <a:lnTo>
                    <a:pt x="3797" y="9497"/>
                  </a:lnTo>
                  <a:lnTo>
                    <a:pt x="3795" y="9516"/>
                  </a:lnTo>
                  <a:lnTo>
                    <a:pt x="3790" y="9535"/>
                  </a:lnTo>
                  <a:lnTo>
                    <a:pt x="3784" y="9552"/>
                  </a:lnTo>
                  <a:lnTo>
                    <a:pt x="3776" y="9569"/>
                  </a:lnTo>
                  <a:lnTo>
                    <a:pt x="3767" y="9585"/>
                  </a:lnTo>
                  <a:lnTo>
                    <a:pt x="3762" y="9565"/>
                  </a:lnTo>
                  <a:lnTo>
                    <a:pt x="3759" y="9545"/>
                  </a:lnTo>
                  <a:lnTo>
                    <a:pt x="3757" y="9524"/>
                  </a:lnTo>
                  <a:lnTo>
                    <a:pt x="3757" y="9503"/>
                  </a:lnTo>
                  <a:lnTo>
                    <a:pt x="3759" y="9482"/>
                  </a:lnTo>
                  <a:lnTo>
                    <a:pt x="3760" y="9461"/>
                  </a:lnTo>
                  <a:lnTo>
                    <a:pt x="3763" y="9439"/>
                  </a:lnTo>
                  <a:lnTo>
                    <a:pt x="3767" y="9418"/>
                  </a:lnTo>
                  <a:lnTo>
                    <a:pt x="3774" y="9373"/>
                  </a:lnTo>
                  <a:lnTo>
                    <a:pt x="3781" y="9329"/>
                  </a:lnTo>
                  <a:lnTo>
                    <a:pt x="3784" y="9305"/>
                  </a:lnTo>
                  <a:lnTo>
                    <a:pt x="3785" y="9283"/>
                  </a:lnTo>
                  <a:lnTo>
                    <a:pt x="3787" y="9260"/>
                  </a:lnTo>
                  <a:lnTo>
                    <a:pt x="3787" y="9236"/>
                  </a:lnTo>
                  <a:lnTo>
                    <a:pt x="3791" y="9211"/>
                  </a:lnTo>
                  <a:lnTo>
                    <a:pt x="3797" y="9185"/>
                  </a:lnTo>
                  <a:lnTo>
                    <a:pt x="3804" y="9160"/>
                  </a:lnTo>
                  <a:lnTo>
                    <a:pt x="3814" y="9136"/>
                  </a:lnTo>
                  <a:lnTo>
                    <a:pt x="3836" y="9087"/>
                  </a:lnTo>
                  <a:lnTo>
                    <a:pt x="3859" y="9036"/>
                  </a:lnTo>
                  <a:lnTo>
                    <a:pt x="3871" y="9012"/>
                  </a:lnTo>
                  <a:lnTo>
                    <a:pt x="3883" y="8986"/>
                  </a:lnTo>
                  <a:lnTo>
                    <a:pt x="3892" y="8960"/>
                  </a:lnTo>
                  <a:lnTo>
                    <a:pt x="3901" y="8935"/>
                  </a:lnTo>
                  <a:lnTo>
                    <a:pt x="3908" y="8908"/>
                  </a:lnTo>
                  <a:lnTo>
                    <a:pt x="3914" y="8880"/>
                  </a:lnTo>
                  <a:lnTo>
                    <a:pt x="3916" y="8866"/>
                  </a:lnTo>
                  <a:lnTo>
                    <a:pt x="3918" y="8852"/>
                  </a:lnTo>
                  <a:lnTo>
                    <a:pt x="3919" y="8836"/>
                  </a:lnTo>
                  <a:lnTo>
                    <a:pt x="3919" y="8821"/>
                  </a:lnTo>
                  <a:lnTo>
                    <a:pt x="3913" y="8777"/>
                  </a:lnTo>
                  <a:lnTo>
                    <a:pt x="3907" y="8730"/>
                  </a:lnTo>
                  <a:lnTo>
                    <a:pt x="3902" y="8682"/>
                  </a:lnTo>
                  <a:lnTo>
                    <a:pt x="3899" y="8633"/>
                  </a:lnTo>
                  <a:lnTo>
                    <a:pt x="3895" y="8584"/>
                  </a:lnTo>
                  <a:lnTo>
                    <a:pt x="3893" y="8533"/>
                  </a:lnTo>
                  <a:lnTo>
                    <a:pt x="3892" y="8483"/>
                  </a:lnTo>
                  <a:lnTo>
                    <a:pt x="3892" y="8433"/>
                  </a:lnTo>
                  <a:lnTo>
                    <a:pt x="3893" y="8383"/>
                  </a:lnTo>
                  <a:lnTo>
                    <a:pt x="3895" y="8333"/>
                  </a:lnTo>
                  <a:lnTo>
                    <a:pt x="3899" y="8285"/>
                  </a:lnTo>
                  <a:lnTo>
                    <a:pt x="3904" y="8239"/>
                  </a:lnTo>
                  <a:lnTo>
                    <a:pt x="3911" y="8194"/>
                  </a:lnTo>
                  <a:lnTo>
                    <a:pt x="3920" y="8151"/>
                  </a:lnTo>
                  <a:lnTo>
                    <a:pt x="3925" y="8130"/>
                  </a:lnTo>
                  <a:lnTo>
                    <a:pt x="3930" y="8110"/>
                  </a:lnTo>
                  <a:lnTo>
                    <a:pt x="3936" y="8091"/>
                  </a:lnTo>
                  <a:lnTo>
                    <a:pt x="3942" y="8071"/>
                  </a:lnTo>
                  <a:lnTo>
                    <a:pt x="3949" y="8019"/>
                  </a:lnTo>
                  <a:lnTo>
                    <a:pt x="3955" y="7966"/>
                  </a:lnTo>
                  <a:lnTo>
                    <a:pt x="3960" y="7914"/>
                  </a:lnTo>
                  <a:lnTo>
                    <a:pt x="3962" y="7862"/>
                  </a:lnTo>
                  <a:lnTo>
                    <a:pt x="3963" y="7811"/>
                  </a:lnTo>
                  <a:lnTo>
                    <a:pt x="3962" y="7759"/>
                  </a:lnTo>
                  <a:lnTo>
                    <a:pt x="3960" y="7709"/>
                  </a:lnTo>
                  <a:lnTo>
                    <a:pt x="3956" y="7660"/>
                  </a:lnTo>
                  <a:lnTo>
                    <a:pt x="3950" y="7609"/>
                  </a:lnTo>
                  <a:lnTo>
                    <a:pt x="3942" y="7560"/>
                  </a:lnTo>
                  <a:lnTo>
                    <a:pt x="3933" y="7511"/>
                  </a:lnTo>
                  <a:lnTo>
                    <a:pt x="3921" y="7463"/>
                  </a:lnTo>
                  <a:lnTo>
                    <a:pt x="3907" y="7414"/>
                  </a:lnTo>
                  <a:lnTo>
                    <a:pt x="3891" y="7366"/>
                  </a:lnTo>
                  <a:lnTo>
                    <a:pt x="3873" y="7318"/>
                  </a:lnTo>
                  <a:lnTo>
                    <a:pt x="3853" y="7270"/>
                  </a:lnTo>
                  <a:lnTo>
                    <a:pt x="3857" y="7260"/>
                  </a:lnTo>
                  <a:lnTo>
                    <a:pt x="3859" y="7249"/>
                  </a:lnTo>
                  <a:lnTo>
                    <a:pt x="3859" y="7239"/>
                  </a:lnTo>
                  <a:lnTo>
                    <a:pt x="3857" y="7229"/>
                  </a:lnTo>
                  <a:lnTo>
                    <a:pt x="3853" y="7219"/>
                  </a:lnTo>
                  <a:lnTo>
                    <a:pt x="3850" y="7209"/>
                  </a:lnTo>
                  <a:lnTo>
                    <a:pt x="3845" y="7200"/>
                  </a:lnTo>
                  <a:lnTo>
                    <a:pt x="3839" y="7191"/>
                  </a:lnTo>
                  <a:lnTo>
                    <a:pt x="3828" y="7172"/>
                  </a:lnTo>
                  <a:lnTo>
                    <a:pt x="3816" y="7153"/>
                  </a:lnTo>
                  <a:lnTo>
                    <a:pt x="3811" y="7143"/>
                  </a:lnTo>
                  <a:lnTo>
                    <a:pt x="3808" y="7132"/>
                  </a:lnTo>
                  <a:lnTo>
                    <a:pt x="3805" y="7122"/>
                  </a:lnTo>
                  <a:lnTo>
                    <a:pt x="3804" y="7111"/>
                  </a:lnTo>
                  <a:lnTo>
                    <a:pt x="3801" y="7068"/>
                  </a:lnTo>
                  <a:lnTo>
                    <a:pt x="3795" y="7025"/>
                  </a:lnTo>
                  <a:lnTo>
                    <a:pt x="3787" y="6981"/>
                  </a:lnTo>
                  <a:lnTo>
                    <a:pt x="3778" y="6938"/>
                  </a:lnTo>
                  <a:lnTo>
                    <a:pt x="3769" y="6895"/>
                  </a:lnTo>
                  <a:lnTo>
                    <a:pt x="3759" y="6852"/>
                  </a:lnTo>
                  <a:lnTo>
                    <a:pt x="3748" y="6809"/>
                  </a:lnTo>
                  <a:lnTo>
                    <a:pt x="3736" y="6766"/>
                  </a:lnTo>
                  <a:lnTo>
                    <a:pt x="3711" y="6681"/>
                  </a:lnTo>
                  <a:lnTo>
                    <a:pt x="3685" y="6595"/>
                  </a:lnTo>
                  <a:lnTo>
                    <a:pt x="3659" y="6510"/>
                  </a:lnTo>
                  <a:lnTo>
                    <a:pt x="3633" y="6425"/>
                  </a:lnTo>
                  <a:lnTo>
                    <a:pt x="3622" y="6383"/>
                  </a:lnTo>
                  <a:lnTo>
                    <a:pt x="3611" y="6340"/>
                  </a:lnTo>
                  <a:lnTo>
                    <a:pt x="3602" y="6297"/>
                  </a:lnTo>
                  <a:lnTo>
                    <a:pt x="3593" y="6255"/>
                  </a:lnTo>
                  <a:lnTo>
                    <a:pt x="3584" y="6213"/>
                  </a:lnTo>
                  <a:lnTo>
                    <a:pt x="3577" y="6171"/>
                  </a:lnTo>
                  <a:lnTo>
                    <a:pt x="3573" y="6129"/>
                  </a:lnTo>
                  <a:lnTo>
                    <a:pt x="3569" y="6087"/>
                  </a:lnTo>
                  <a:lnTo>
                    <a:pt x="3567" y="6046"/>
                  </a:lnTo>
                  <a:lnTo>
                    <a:pt x="3567" y="6004"/>
                  </a:lnTo>
                  <a:lnTo>
                    <a:pt x="3568" y="5961"/>
                  </a:lnTo>
                  <a:lnTo>
                    <a:pt x="3573" y="5919"/>
                  </a:lnTo>
                  <a:lnTo>
                    <a:pt x="3578" y="5878"/>
                  </a:lnTo>
                  <a:lnTo>
                    <a:pt x="3587" y="5836"/>
                  </a:lnTo>
                  <a:lnTo>
                    <a:pt x="3597" y="5795"/>
                  </a:lnTo>
                  <a:lnTo>
                    <a:pt x="3611" y="5753"/>
                  </a:lnTo>
                  <a:lnTo>
                    <a:pt x="3615" y="5738"/>
                  </a:lnTo>
                  <a:lnTo>
                    <a:pt x="3619" y="5722"/>
                  </a:lnTo>
                  <a:lnTo>
                    <a:pt x="3625" y="5706"/>
                  </a:lnTo>
                  <a:lnTo>
                    <a:pt x="3632" y="5690"/>
                  </a:lnTo>
                  <a:lnTo>
                    <a:pt x="3647" y="5659"/>
                  </a:lnTo>
                  <a:lnTo>
                    <a:pt x="3662" y="5626"/>
                  </a:lnTo>
                  <a:lnTo>
                    <a:pt x="3667" y="5609"/>
                  </a:lnTo>
                  <a:lnTo>
                    <a:pt x="3673" y="5593"/>
                  </a:lnTo>
                  <a:lnTo>
                    <a:pt x="3676" y="5577"/>
                  </a:lnTo>
                  <a:lnTo>
                    <a:pt x="3677" y="5561"/>
                  </a:lnTo>
                  <a:lnTo>
                    <a:pt x="3677" y="5553"/>
                  </a:lnTo>
                  <a:lnTo>
                    <a:pt x="3676" y="5545"/>
                  </a:lnTo>
                  <a:lnTo>
                    <a:pt x="3674" y="5537"/>
                  </a:lnTo>
                  <a:lnTo>
                    <a:pt x="3672" y="5529"/>
                  </a:lnTo>
                  <a:lnTo>
                    <a:pt x="3670" y="5522"/>
                  </a:lnTo>
                  <a:lnTo>
                    <a:pt x="3666" y="5513"/>
                  </a:lnTo>
                  <a:lnTo>
                    <a:pt x="3662" y="5505"/>
                  </a:lnTo>
                  <a:lnTo>
                    <a:pt x="3656" y="5498"/>
                  </a:lnTo>
                  <a:lnTo>
                    <a:pt x="3629" y="5504"/>
                  </a:lnTo>
                  <a:lnTo>
                    <a:pt x="3598" y="5584"/>
                  </a:lnTo>
                  <a:lnTo>
                    <a:pt x="3571" y="5659"/>
                  </a:lnTo>
                  <a:lnTo>
                    <a:pt x="3559" y="5696"/>
                  </a:lnTo>
                  <a:lnTo>
                    <a:pt x="3548" y="5732"/>
                  </a:lnTo>
                  <a:lnTo>
                    <a:pt x="3536" y="5770"/>
                  </a:lnTo>
                  <a:lnTo>
                    <a:pt x="3527" y="5806"/>
                  </a:lnTo>
                  <a:lnTo>
                    <a:pt x="3518" y="5843"/>
                  </a:lnTo>
                  <a:lnTo>
                    <a:pt x="3509" y="5881"/>
                  </a:lnTo>
                  <a:lnTo>
                    <a:pt x="3502" y="5918"/>
                  </a:lnTo>
                  <a:lnTo>
                    <a:pt x="3495" y="5958"/>
                  </a:lnTo>
                  <a:lnTo>
                    <a:pt x="3491" y="5998"/>
                  </a:lnTo>
                  <a:lnTo>
                    <a:pt x="3486" y="6037"/>
                  </a:lnTo>
                  <a:lnTo>
                    <a:pt x="3483" y="6080"/>
                  </a:lnTo>
                  <a:lnTo>
                    <a:pt x="3480" y="6123"/>
                  </a:lnTo>
                  <a:lnTo>
                    <a:pt x="3486" y="6152"/>
                  </a:lnTo>
                  <a:lnTo>
                    <a:pt x="3490" y="6181"/>
                  </a:lnTo>
                  <a:lnTo>
                    <a:pt x="3493" y="6212"/>
                  </a:lnTo>
                  <a:lnTo>
                    <a:pt x="3495" y="6243"/>
                  </a:lnTo>
                  <a:lnTo>
                    <a:pt x="3495" y="6275"/>
                  </a:lnTo>
                  <a:lnTo>
                    <a:pt x="3495" y="6308"/>
                  </a:lnTo>
                  <a:lnTo>
                    <a:pt x="3494" y="6340"/>
                  </a:lnTo>
                  <a:lnTo>
                    <a:pt x="3492" y="6373"/>
                  </a:lnTo>
                  <a:lnTo>
                    <a:pt x="3487" y="6440"/>
                  </a:lnTo>
                  <a:lnTo>
                    <a:pt x="3481" y="6509"/>
                  </a:lnTo>
                  <a:lnTo>
                    <a:pt x="3476" y="6577"/>
                  </a:lnTo>
                  <a:lnTo>
                    <a:pt x="3470" y="6646"/>
                  </a:lnTo>
                  <a:lnTo>
                    <a:pt x="3469" y="6680"/>
                  </a:lnTo>
                  <a:lnTo>
                    <a:pt x="3467" y="6714"/>
                  </a:lnTo>
                  <a:lnTo>
                    <a:pt x="3467" y="6747"/>
                  </a:lnTo>
                  <a:lnTo>
                    <a:pt x="3469" y="6780"/>
                  </a:lnTo>
                  <a:lnTo>
                    <a:pt x="3471" y="6814"/>
                  </a:lnTo>
                  <a:lnTo>
                    <a:pt x="3474" y="6846"/>
                  </a:lnTo>
                  <a:lnTo>
                    <a:pt x="3479" y="6878"/>
                  </a:lnTo>
                  <a:lnTo>
                    <a:pt x="3486" y="6909"/>
                  </a:lnTo>
                  <a:lnTo>
                    <a:pt x="3494" y="6940"/>
                  </a:lnTo>
                  <a:lnTo>
                    <a:pt x="3504" y="6970"/>
                  </a:lnTo>
                  <a:lnTo>
                    <a:pt x="3515" y="6999"/>
                  </a:lnTo>
                  <a:lnTo>
                    <a:pt x="3531" y="7028"/>
                  </a:lnTo>
                  <a:lnTo>
                    <a:pt x="3547" y="7055"/>
                  </a:lnTo>
                  <a:lnTo>
                    <a:pt x="3566" y="7082"/>
                  </a:lnTo>
                  <a:lnTo>
                    <a:pt x="3587" y="7108"/>
                  </a:lnTo>
                  <a:lnTo>
                    <a:pt x="3611" y="7132"/>
                  </a:lnTo>
                  <a:lnTo>
                    <a:pt x="3638" y="7172"/>
                  </a:lnTo>
                  <a:lnTo>
                    <a:pt x="3662" y="7212"/>
                  </a:lnTo>
                  <a:lnTo>
                    <a:pt x="3683" y="7252"/>
                  </a:lnTo>
                  <a:lnTo>
                    <a:pt x="3699" y="7292"/>
                  </a:lnTo>
                  <a:lnTo>
                    <a:pt x="3714" y="7335"/>
                  </a:lnTo>
                  <a:lnTo>
                    <a:pt x="3726" y="7376"/>
                  </a:lnTo>
                  <a:lnTo>
                    <a:pt x="3735" y="7418"/>
                  </a:lnTo>
                  <a:lnTo>
                    <a:pt x="3742" y="7461"/>
                  </a:lnTo>
                  <a:lnTo>
                    <a:pt x="3747" y="7503"/>
                  </a:lnTo>
                  <a:lnTo>
                    <a:pt x="3749" y="7546"/>
                  </a:lnTo>
                  <a:lnTo>
                    <a:pt x="3750" y="7590"/>
                  </a:lnTo>
                  <a:lnTo>
                    <a:pt x="3750" y="7633"/>
                  </a:lnTo>
                  <a:lnTo>
                    <a:pt x="3749" y="7677"/>
                  </a:lnTo>
                  <a:lnTo>
                    <a:pt x="3746" y="7722"/>
                  </a:lnTo>
                  <a:lnTo>
                    <a:pt x="3741" y="7766"/>
                  </a:lnTo>
                  <a:lnTo>
                    <a:pt x="3736" y="7811"/>
                  </a:lnTo>
                  <a:lnTo>
                    <a:pt x="3725" y="7900"/>
                  </a:lnTo>
                  <a:lnTo>
                    <a:pt x="3712" y="7990"/>
                  </a:lnTo>
                  <a:lnTo>
                    <a:pt x="3700" y="8080"/>
                  </a:lnTo>
                  <a:lnTo>
                    <a:pt x="3690" y="8169"/>
                  </a:lnTo>
                  <a:lnTo>
                    <a:pt x="3685" y="8214"/>
                  </a:lnTo>
                  <a:lnTo>
                    <a:pt x="3681" y="8259"/>
                  </a:lnTo>
                  <a:lnTo>
                    <a:pt x="3680" y="8303"/>
                  </a:lnTo>
                  <a:lnTo>
                    <a:pt x="3679" y="8347"/>
                  </a:lnTo>
                  <a:lnTo>
                    <a:pt x="3680" y="8392"/>
                  </a:lnTo>
                  <a:lnTo>
                    <a:pt x="3683" y="8436"/>
                  </a:lnTo>
                  <a:lnTo>
                    <a:pt x="3687" y="8481"/>
                  </a:lnTo>
                  <a:lnTo>
                    <a:pt x="3694" y="8524"/>
                  </a:lnTo>
                  <a:lnTo>
                    <a:pt x="3700" y="8571"/>
                  </a:lnTo>
                  <a:lnTo>
                    <a:pt x="3705" y="8616"/>
                  </a:lnTo>
                  <a:lnTo>
                    <a:pt x="3707" y="8663"/>
                  </a:lnTo>
                  <a:lnTo>
                    <a:pt x="3708" y="8709"/>
                  </a:lnTo>
                  <a:lnTo>
                    <a:pt x="3707" y="8756"/>
                  </a:lnTo>
                  <a:lnTo>
                    <a:pt x="3706" y="8802"/>
                  </a:lnTo>
                  <a:lnTo>
                    <a:pt x="3702" y="8848"/>
                  </a:lnTo>
                  <a:lnTo>
                    <a:pt x="3699" y="8895"/>
                  </a:lnTo>
                  <a:lnTo>
                    <a:pt x="3693" y="8942"/>
                  </a:lnTo>
                  <a:lnTo>
                    <a:pt x="3687" y="8988"/>
                  </a:lnTo>
                  <a:lnTo>
                    <a:pt x="3681" y="9035"/>
                  </a:lnTo>
                  <a:lnTo>
                    <a:pt x="3674" y="9082"/>
                  </a:lnTo>
                  <a:lnTo>
                    <a:pt x="3659" y="9176"/>
                  </a:lnTo>
                  <a:lnTo>
                    <a:pt x="3644" y="9269"/>
                  </a:lnTo>
                  <a:lnTo>
                    <a:pt x="3630" y="9363"/>
                  </a:lnTo>
                  <a:lnTo>
                    <a:pt x="3617" y="9455"/>
                  </a:lnTo>
                  <a:lnTo>
                    <a:pt x="3611" y="9502"/>
                  </a:lnTo>
                  <a:lnTo>
                    <a:pt x="3607" y="9549"/>
                  </a:lnTo>
                  <a:lnTo>
                    <a:pt x="3603" y="9595"/>
                  </a:lnTo>
                  <a:lnTo>
                    <a:pt x="3601" y="9641"/>
                  </a:lnTo>
                  <a:lnTo>
                    <a:pt x="3600" y="9688"/>
                  </a:lnTo>
                  <a:lnTo>
                    <a:pt x="3601" y="9735"/>
                  </a:lnTo>
                  <a:lnTo>
                    <a:pt x="3602" y="9780"/>
                  </a:lnTo>
                  <a:lnTo>
                    <a:pt x="3605" y="9827"/>
                  </a:lnTo>
                  <a:lnTo>
                    <a:pt x="3611" y="9873"/>
                  </a:lnTo>
                  <a:lnTo>
                    <a:pt x="3618" y="9918"/>
                  </a:lnTo>
                  <a:lnTo>
                    <a:pt x="3628" y="9965"/>
                  </a:lnTo>
                  <a:lnTo>
                    <a:pt x="3638" y="10011"/>
                  </a:lnTo>
                  <a:lnTo>
                    <a:pt x="3637" y="10080"/>
                  </a:lnTo>
                  <a:lnTo>
                    <a:pt x="3636" y="10150"/>
                  </a:lnTo>
                  <a:lnTo>
                    <a:pt x="3633" y="10220"/>
                  </a:lnTo>
                  <a:lnTo>
                    <a:pt x="3631" y="10291"/>
                  </a:lnTo>
                  <a:lnTo>
                    <a:pt x="3629" y="10364"/>
                  </a:lnTo>
                  <a:lnTo>
                    <a:pt x="3628" y="10436"/>
                  </a:lnTo>
                  <a:lnTo>
                    <a:pt x="3625" y="10509"/>
                  </a:lnTo>
                  <a:lnTo>
                    <a:pt x="3624" y="10581"/>
                  </a:lnTo>
                  <a:lnTo>
                    <a:pt x="3624" y="10654"/>
                  </a:lnTo>
                  <a:lnTo>
                    <a:pt x="3624" y="10726"/>
                  </a:lnTo>
                  <a:lnTo>
                    <a:pt x="3625" y="10798"/>
                  </a:lnTo>
                  <a:lnTo>
                    <a:pt x="3628" y="10869"/>
                  </a:lnTo>
                  <a:lnTo>
                    <a:pt x="3631" y="10941"/>
                  </a:lnTo>
                  <a:lnTo>
                    <a:pt x="3636" y="11011"/>
                  </a:lnTo>
                  <a:lnTo>
                    <a:pt x="3642" y="11080"/>
                  </a:lnTo>
                  <a:lnTo>
                    <a:pt x="3649" y="11148"/>
                  </a:lnTo>
                  <a:lnTo>
                    <a:pt x="3656" y="11219"/>
                  </a:lnTo>
                  <a:lnTo>
                    <a:pt x="3663" y="11284"/>
                  </a:lnTo>
                  <a:lnTo>
                    <a:pt x="3670" y="11346"/>
                  </a:lnTo>
                  <a:lnTo>
                    <a:pt x="3679" y="11407"/>
                  </a:lnTo>
                  <a:lnTo>
                    <a:pt x="3684" y="11436"/>
                  </a:lnTo>
                  <a:lnTo>
                    <a:pt x="3690" y="11466"/>
                  </a:lnTo>
                  <a:lnTo>
                    <a:pt x="3697" y="11496"/>
                  </a:lnTo>
                  <a:lnTo>
                    <a:pt x="3704" y="11527"/>
                  </a:lnTo>
                  <a:lnTo>
                    <a:pt x="3712" y="11558"/>
                  </a:lnTo>
                  <a:lnTo>
                    <a:pt x="3721" y="11590"/>
                  </a:lnTo>
                  <a:lnTo>
                    <a:pt x="3732" y="11624"/>
                  </a:lnTo>
                  <a:lnTo>
                    <a:pt x="3742" y="11659"/>
                  </a:lnTo>
                  <a:lnTo>
                    <a:pt x="3747" y="11669"/>
                  </a:lnTo>
                  <a:lnTo>
                    <a:pt x="3749" y="11680"/>
                  </a:lnTo>
                  <a:lnTo>
                    <a:pt x="3752" y="11690"/>
                  </a:lnTo>
                  <a:lnTo>
                    <a:pt x="3754" y="11701"/>
                  </a:lnTo>
                  <a:lnTo>
                    <a:pt x="3755" y="11722"/>
                  </a:lnTo>
                  <a:lnTo>
                    <a:pt x="3755" y="11743"/>
                  </a:lnTo>
                  <a:lnTo>
                    <a:pt x="3752" y="11764"/>
                  </a:lnTo>
                  <a:lnTo>
                    <a:pt x="3748" y="11785"/>
                  </a:lnTo>
                  <a:lnTo>
                    <a:pt x="3742" y="11806"/>
                  </a:lnTo>
                  <a:lnTo>
                    <a:pt x="3738" y="11827"/>
                  </a:lnTo>
                  <a:lnTo>
                    <a:pt x="3732" y="11848"/>
                  </a:lnTo>
                  <a:lnTo>
                    <a:pt x="3726" y="11869"/>
                  </a:lnTo>
                  <a:lnTo>
                    <a:pt x="3721" y="11890"/>
                  </a:lnTo>
                  <a:lnTo>
                    <a:pt x="3716" y="11911"/>
                  </a:lnTo>
                  <a:lnTo>
                    <a:pt x="3715" y="11932"/>
                  </a:lnTo>
                  <a:lnTo>
                    <a:pt x="3714" y="11953"/>
                  </a:lnTo>
                  <a:lnTo>
                    <a:pt x="3715" y="11963"/>
                  </a:lnTo>
                  <a:lnTo>
                    <a:pt x="3716" y="11973"/>
                  </a:lnTo>
                  <a:lnTo>
                    <a:pt x="3719" y="11984"/>
                  </a:lnTo>
                  <a:lnTo>
                    <a:pt x="3721" y="11993"/>
                  </a:lnTo>
                  <a:lnTo>
                    <a:pt x="3723" y="12049"/>
                  </a:lnTo>
                  <a:lnTo>
                    <a:pt x="3723" y="12105"/>
                  </a:lnTo>
                  <a:lnTo>
                    <a:pt x="3723" y="12160"/>
                  </a:lnTo>
                  <a:lnTo>
                    <a:pt x="3722" y="12215"/>
                  </a:lnTo>
                  <a:lnTo>
                    <a:pt x="3720" y="12325"/>
                  </a:lnTo>
                  <a:lnTo>
                    <a:pt x="3714" y="12434"/>
                  </a:lnTo>
                  <a:lnTo>
                    <a:pt x="3707" y="12543"/>
                  </a:lnTo>
                  <a:lnTo>
                    <a:pt x="3699" y="12652"/>
                  </a:lnTo>
                  <a:lnTo>
                    <a:pt x="3690" y="12759"/>
                  </a:lnTo>
                  <a:lnTo>
                    <a:pt x="3681" y="12868"/>
                  </a:lnTo>
                  <a:lnTo>
                    <a:pt x="3672" y="12977"/>
                  </a:lnTo>
                  <a:lnTo>
                    <a:pt x="3665" y="13087"/>
                  </a:lnTo>
                  <a:lnTo>
                    <a:pt x="3659" y="13197"/>
                  </a:lnTo>
                  <a:lnTo>
                    <a:pt x="3654" y="13308"/>
                  </a:lnTo>
                  <a:lnTo>
                    <a:pt x="3653" y="13364"/>
                  </a:lnTo>
                  <a:lnTo>
                    <a:pt x="3652" y="13420"/>
                  </a:lnTo>
                  <a:lnTo>
                    <a:pt x="3652" y="13477"/>
                  </a:lnTo>
                  <a:lnTo>
                    <a:pt x="3653" y="13534"/>
                  </a:lnTo>
                  <a:lnTo>
                    <a:pt x="3656" y="13592"/>
                  </a:lnTo>
                  <a:lnTo>
                    <a:pt x="3658" y="13649"/>
                  </a:lnTo>
                  <a:lnTo>
                    <a:pt x="3662" y="13708"/>
                  </a:lnTo>
                  <a:lnTo>
                    <a:pt x="3666" y="13766"/>
                  </a:lnTo>
                  <a:lnTo>
                    <a:pt x="3665" y="13810"/>
                  </a:lnTo>
                  <a:lnTo>
                    <a:pt x="3665" y="13854"/>
                  </a:lnTo>
                  <a:lnTo>
                    <a:pt x="3666" y="13899"/>
                  </a:lnTo>
                  <a:lnTo>
                    <a:pt x="3669" y="13944"/>
                  </a:lnTo>
                  <a:lnTo>
                    <a:pt x="3672" y="13990"/>
                  </a:lnTo>
                  <a:lnTo>
                    <a:pt x="3679" y="14037"/>
                  </a:lnTo>
                  <a:lnTo>
                    <a:pt x="3684" y="14059"/>
                  </a:lnTo>
                  <a:lnTo>
                    <a:pt x="3688" y="14082"/>
                  </a:lnTo>
                  <a:lnTo>
                    <a:pt x="3694" y="14106"/>
                  </a:lnTo>
                  <a:lnTo>
                    <a:pt x="3701" y="14129"/>
                  </a:lnTo>
                  <a:lnTo>
                    <a:pt x="3702" y="14204"/>
                  </a:lnTo>
                  <a:lnTo>
                    <a:pt x="3702" y="14282"/>
                  </a:lnTo>
                  <a:lnTo>
                    <a:pt x="3702" y="14361"/>
                  </a:lnTo>
                  <a:lnTo>
                    <a:pt x="3701" y="14440"/>
                  </a:lnTo>
                  <a:lnTo>
                    <a:pt x="3701" y="14521"/>
                  </a:lnTo>
                  <a:lnTo>
                    <a:pt x="3702" y="14601"/>
                  </a:lnTo>
                  <a:lnTo>
                    <a:pt x="3705" y="14642"/>
                  </a:lnTo>
                  <a:lnTo>
                    <a:pt x="3707" y="14682"/>
                  </a:lnTo>
                  <a:lnTo>
                    <a:pt x="3711" y="14721"/>
                  </a:lnTo>
                  <a:lnTo>
                    <a:pt x="3714" y="14761"/>
                  </a:lnTo>
                  <a:lnTo>
                    <a:pt x="3720" y="14799"/>
                  </a:lnTo>
                  <a:lnTo>
                    <a:pt x="3727" y="14838"/>
                  </a:lnTo>
                  <a:lnTo>
                    <a:pt x="3735" y="14875"/>
                  </a:lnTo>
                  <a:lnTo>
                    <a:pt x="3745" y="14913"/>
                  </a:lnTo>
                  <a:lnTo>
                    <a:pt x="3755" y="14949"/>
                  </a:lnTo>
                  <a:lnTo>
                    <a:pt x="3768" y="14985"/>
                  </a:lnTo>
                  <a:lnTo>
                    <a:pt x="3782" y="15019"/>
                  </a:lnTo>
                  <a:lnTo>
                    <a:pt x="3798" y="15053"/>
                  </a:lnTo>
                  <a:lnTo>
                    <a:pt x="3816" y="15086"/>
                  </a:lnTo>
                  <a:lnTo>
                    <a:pt x="3837" y="15118"/>
                  </a:lnTo>
                  <a:lnTo>
                    <a:pt x="3859" y="15149"/>
                  </a:lnTo>
                  <a:lnTo>
                    <a:pt x="3884" y="15178"/>
                  </a:lnTo>
                  <a:lnTo>
                    <a:pt x="3911" y="15206"/>
                  </a:lnTo>
                  <a:lnTo>
                    <a:pt x="3941" y="15233"/>
                  </a:lnTo>
                  <a:lnTo>
                    <a:pt x="3973" y="15259"/>
                  </a:lnTo>
                  <a:lnTo>
                    <a:pt x="4009" y="15283"/>
                  </a:lnTo>
                  <a:lnTo>
                    <a:pt x="4064" y="15306"/>
                  </a:lnTo>
                  <a:lnTo>
                    <a:pt x="4120" y="15328"/>
                  </a:lnTo>
                  <a:lnTo>
                    <a:pt x="4177" y="15350"/>
                  </a:lnTo>
                  <a:lnTo>
                    <a:pt x="4233" y="15372"/>
                  </a:lnTo>
                  <a:lnTo>
                    <a:pt x="4291" y="15394"/>
                  </a:lnTo>
                  <a:lnTo>
                    <a:pt x="4348" y="15418"/>
                  </a:lnTo>
                  <a:lnTo>
                    <a:pt x="4405" y="15440"/>
                  </a:lnTo>
                  <a:lnTo>
                    <a:pt x="4463" y="15463"/>
                  </a:lnTo>
                  <a:lnTo>
                    <a:pt x="4520" y="15487"/>
                  </a:lnTo>
                  <a:lnTo>
                    <a:pt x="4577" y="15511"/>
                  </a:lnTo>
                  <a:lnTo>
                    <a:pt x="4634" y="15535"/>
                  </a:lnTo>
                  <a:lnTo>
                    <a:pt x="4692" y="15559"/>
                  </a:lnTo>
                  <a:lnTo>
                    <a:pt x="4748" y="15584"/>
                  </a:lnTo>
                  <a:lnTo>
                    <a:pt x="4805" y="15609"/>
                  </a:lnTo>
                  <a:lnTo>
                    <a:pt x="4861" y="15634"/>
                  </a:lnTo>
                  <a:lnTo>
                    <a:pt x="4916" y="15660"/>
                  </a:lnTo>
                  <a:lnTo>
                    <a:pt x="4926" y="15666"/>
                  </a:lnTo>
                  <a:lnTo>
                    <a:pt x="4935" y="15673"/>
                  </a:lnTo>
                  <a:lnTo>
                    <a:pt x="4943" y="15680"/>
                  </a:lnTo>
                  <a:lnTo>
                    <a:pt x="4950" y="15687"/>
                  </a:lnTo>
                  <a:lnTo>
                    <a:pt x="4957" y="15695"/>
                  </a:lnTo>
                  <a:lnTo>
                    <a:pt x="4963" y="15703"/>
                  </a:lnTo>
                  <a:lnTo>
                    <a:pt x="4969" y="15713"/>
                  </a:lnTo>
                  <a:lnTo>
                    <a:pt x="4975" y="15722"/>
                  </a:lnTo>
                  <a:lnTo>
                    <a:pt x="4984" y="15741"/>
                  </a:lnTo>
                  <a:lnTo>
                    <a:pt x="4992" y="15761"/>
                  </a:lnTo>
                  <a:lnTo>
                    <a:pt x="5001" y="15780"/>
                  </a:lnTo>
                  <a:lnTo>
                    <a:pt x="5006" y="15801"/>
                  </a:lnTo>
                  <a:lnTo>
                    <a:pt x="4985" y="15811"/>
                  </a:lnTo>
                  <a:lnTo>
                    <a:pt x="4964" y="15818"/>
                  </a:lnTo>
                  <a:lnTo>
                    <a:pt x="4942" y="15825"/>
                  </a:lnTo>
                  <a:lnTo>
                    <a:pt x="4919" y="15832"/>
                  </a:lnTo>
                  <a:lnTo>
                    <a:pt x="4896" y="15837"/>
                  </a:lnTo>
                  <a:lnTo>
                    <a:pt x="4873" y="15841"/>
                  </a:lnTo>
                  <a:lnTo>
                    <a:pt x="4850" y="15846"/>
                  </a:lnTo>
                  <a:lnTo>
                    <a:pt x="4825" y="15849"/>
                  </a:lnTo>
                  <a:lnTo>
                    <a:pt x="4777" y="15854"/>
                  </a:lnTo>
                  <a:lnTo>
                    <a:pt x="4728" y="15858"/>
                  </a:lnTo>
                  <a:lnTo>
                    <a:pt x="4679" y="15860"/>
                  </a:lnTo>
                  <a:lnTo>
                    <a:pt x="4629" y="15862"/>
                  </a:lnTo>
                  <a:lnTo>
                    <a:pt x="4578" y="15863"/>
                  </a:lnTo>
                  <a:lnTo>
                    <a:pt x="4528" y="15865"/>
                  </a:lnTo>
                  <a:lnTo>
                    <a:pt x="4478" y="15867"/>
                  </a:lnTo>
                  <a:lnTo>
                    <a:pt x="4429" y="15869"/>
                  </a:lnTo>
                  <a:lnTo>
                    <a:pt x="4380" y="15874"/>
                  </a:lnTo>
                  <a:lnTo>
                    <a:pt x="4332" y="15881"/>
                  </a:lnTo>
                  <a:lnTo>
                    <a:pt x="4308" y="15885"/>
                  </a:lnTo>
                  <a:lnTo>
                    <a:pt x="4285" y="15889"/>
                  </a:lnTo>
                  <a:lnTo>
                    <a:pt x="4263" y="15895"/>
                  </a:lnTo>
                  <a:lnTo>
                    <a:pt x="4239" y="15902"/>
                  </a:lnTo>
                  <a:lnTo>
                    <a:pt x="4208" y="15902"/>
                  </a:lnTo>
                  <a:lnTo>
                    <a:pt x="4176" y="15901"/>
                  </a:lnTo>
                  <a:lnTo>
                    <a:pt x="4144" y="15900"/>
                  </a:lnTo>
                  <a:lnTo>
                    <a:pt x="4112" y="15897"/>
                  </a:lnTo>
                  <a:lnTo>
                    <a:pt x="4080" y="15894"/>
                  </a:lnTo>
                  <a:lnTo>
                    <a:pt x="4047" y="15889"/>
                  </a:lnTo>
                  <a:lnTo>
                    <a:pt x="4015" y="15885"/>
                  </a:lnTo>
                  <a:lnTo>
                    <a:pt x="3983" y="15879"/>
                  </a:lnTo>
                  <a:lnTo>
                    <a:pt x="3918" y="15867"/>
                  </a:lnTo>
                  <a:lnTo>
                    <a:pt x="3851" y="15854"/>
                  </a:lnTo>
                  <a:lnTo>
                    <a:pt x="3785" y="15841"/>
                  </a:lnTo>
                  <a:lnTo>
                    <a:pt x="3719" y="15828"/>
                  </a:lnTo>
                  <a:lnTo>
                    <a:pt x="3651" y="15816"/>
                  </a:lnTo>
                  <a:lnTo>
                    <a:pt x="3584" y="15806"/>
                  </a:lnTo>
                  <a:lnTo>
                    <a:pt x="3550" y="15803"/>
                  </a:lnTo>
                  <a:lnTo>
                    <a:pt x="3515" y="15799"/>
                  </a:lnTo>
                  <a:lnTo>
                    <a:pt x="3481" y="15797"/>
                  </a:lnTo>
                  <a:lnTo>
                    <a:pt x="3448" y="15796"/>
                  </a:lnTo>
                  <a:lnTo>
                    <a:pt x="3412" y="15794"/>
                  </a:lnTo>
                  <a:lnTo>
                    <a:pt x="3379" y="15796"/>
                  </a:lnTo>
                  <a:lnTo>
                    <a:pt x="3343" y="15798"/>
                  </a:lnTo>
                  <a:lnTo>
                    <a:pt x="3310" y="15801"/>
                  </a:lnTo>
                  <a:lnTo>
                    <a:pt x="3274" y="15806"/>
                  </a:lnTo>
                  <a:lnTo>
                    <a:pt x="3239" y="15812"/>
                  </a:lnTo>
                  <a:lnTo>
                    <a:pt x="3204" y="15819"/>
                  </a:lnTo>
                  <a:lnTo>
                    <a:pt x="3169" y="15830"/>
                  </a:lnTo>
                  <a:lnTo>
                    <a:pt x="3138" y="15821"/>
                  </a:lnTo>
                  <a:lnTo>
                    <a:pt x="3105" y="15814"/>
                  </a:lnTo>
                  <a:lnTo>
                    <a:pt x="3087" y="15811"/>
                  </a:lnTo>
                  <a:lnTo>
                    <a:pt x="3071" y="15806"/>
                  </a:lnTo>
                  <a:lnTo>
                    <a:pt x="3055" y="15801"/>
                  </a:lnTo>
                  <a:lnTo>
                    <a:pt x="3039" y="15796"/>
                  </a:lnTo>
                  <a:lnTo>
                    <a:pt x="3025" y="15789"/>
                  </a:lnTo>
                  <a:lnTo>
                    <a:pt x="3011" y="15780"/>
                  </a:lnTo>
                  <a:lnTo>
                    <a:pt x="3000" y="15771"/>
                  </a:lnTo>
                  <a:lnTo>
                    <a:pt x="2989" y="15761"/>
                  </a:lnTo>
                  <a:lnTo>
                    <a:pt x="2984" y="15755"/>
                  </a:lnTo>
                  <a:lnTo>
                    <a:pt x="2980" y="15748"/>
                  </a:lnTo>
                  <a:lnTo>
                    <a:pt x="2976" y="15741"/>
                  </a:lnTo>
                  <a:lnTo>
                    <a:pt x="2973" y="15734"/>
                  </a:lnTo>
                  <a:lnTo>
                    <a:pt x="2969" y="15725"/>
                  </a:lnTo>
                  <a:lnTo>
                    <a:pt x="2968" y="15717"/>
                  </a:lnTo>
                  <a:lnTo>
                    <a:pt x="2966" y="15708"/>
                  </a:lnTo>
                  <a:lnTo>
                    <a:pt x="2965" y="15697"/>
                  </a:lnTo>
                  <a:lnTo>
                    <a:pt x="2969" y="15661"/>
                  </a:lnTo>
                  <a:lnTo>
                    <a:pt x="2975" y="15625"/>
                  </a:lnTo>
                  <a:lnTo>
                    <a:pt x="2982" y="15589"/>
                  </a:lnTo>
                  <a:lnTo>
                    <a:pt x="2990" y="15555"/>
                  </a:lnTo>
                  <a:lnTo>
                    <a:pt x="3007" y="15486"/>
                  </a:lnTo>
                  <a:lnTo>
                    <a:pt x="3022" y="15419"/>
                  </a:lnTo>
                  <a:lnTo>
                    <a:pt x="3029" y="15385"/>
                  </a:lnTo>
                  <a:lnTo>
                    <a:pt x="3035" y="15351"/>
                  </a:lnTo>
                  <a:lnTo>
                    <a:pt x="3038" y="15317"/>
                  </a:lnTo>
                  <a:lnTo>
                    <a:pt x="3041" y="15282"/>
                  </a:lnTo>
                  <a:lnTo>
                    <a:pt x="3042" y="15246"/>
                  </a:lnTo>
                  <a:lnTo>
                    <a:pt x="3039" y="15210"/>
                  </a:lnTo>
                  <a:lnTo>
                    <a:pt x="3037" y="15192"/>
                  </a:lnTo>
                  <a:lnTo>
                    <a:pt x="3035" y="15173"/>
                  </a:lnTo>
                  <a:lnTo>
                    <a:pt x="3031" y="15154"/>
                  </a:lnTo>
                  <a:lnTo>
                    <a:pt x="3028" y="15135"/>
                  </a:lnTo>
                  <a:lnTo>
                    <a:pt x="3044" y="15114"/>
                  </a:lnTo>
                  <a:lnTo>
                    <a:pt x="3043" y="15062"/>
                  </a:lnTo>
                  <a:lnTo>
                    <a:pt x="3043" y="15010"/>
                  </a:lnTo>
                  <a:lnTo>
                    <a:pt x="3043" y="14958"/>
                  </a:lnTo>
                  <a:lnTo>
                    <a:pt x="3043" y="14907"/>
                  </a:lnTo>
                  <a:lnTo>
                    <a:pt x="3045" y="14804"/>
                  </a:lnTo>
                  <a:lnTo>
                    <a:pt x="3049" y="14702"/>
                  </a:lnTo>
                  <a:lnTo>
                    <a:pt x="3053" y="14600"/>
                  </a:lnTo>
                  <a:lnTo>
                    <a:pt x="3059" y="14500"/>
                  </a:lnTo>
                  <a:lnTo>
                    <a:pt x="3064" y="14399"/>
                  </a:lnTo>
                  <a:lnTo>
                    <a:pt x="3069" y="14299"/>
                  </a:lnTo>
                  <a:lnTo>
                    <a:pt x="3072" y="14198"/>
                  </a:lnTo>
                  <a:lnTo>
                    <a:pt x="3073" y="14097"/>
                  </a:lnTo>
                  <a:lnTo>
                    <a:pt x="3074" y="14047"/>
                  </a:lnTo>
                  <a:lnTo>
                    <a:pt x="3073" y="13997"/>
                  </a:lnTo>
                  <a:lnTo>
                    <a:pt x="3073" y="13946"/>
                  </a:lnTo>
                  <a:lnTo>
                    <a:pt x="3071" y="13896"/>
                  </a:lnTo>
                  <a:lnTo>
                    <a:pt x="3069" y="13846"/>
                  </a:lnTo>
                  <a:lnTo>
                    <a:pt x="3066" y="13794"/>
                  </a:lnTo>
                  <a:lnTo>
                    <a:pt x="3062" y="13744"/>
                  </a:lnTo>
                  <a:lnTo>
                    <a:pt x="3057" y="13694"/>
                  </a:lnTo>
                  <a:lnTo>
                    <a:pt x="3051" y="13642"/>
                  </a:lnTo>
                  <a:lnTo>
                    <a:pt x="3044" y="13592"/>
                  </a:lnTo>
                  <a:lnTo>
                    <a:pt x="3036" y="13541"/>
                  </a:lnTo>
                  <a:lnTo>
                    <a:pt x="3028" y="13490"/>
                  </a:lnTo>
                  <a:lnTo>
                    <a:pt x="3027" y="13422"/>
                  </a:lnTo>
                  <a:lnTo>
                    <a:pt x="3024" y="13356"/>
                  </a:lnTo>
                  <a:lnTo>
                    <a:pt x="3022" y="13290"/>
                  </a:lnTo>
                  <a:lnTo>
                    <a:pt x="3018" y="13225"/>
                  </a:lnTo>
                  <a:lnTo>
                    <a:pt x="3009" y="13096"/>
                  </a:lnTo>
                  <a:lnTo>
                    <a:pt x="2998" y="12969"/>
                  </a:lnTo>
                  <a:lnTo>
                    <a:pt x="2987" y="12844"/>
                  </a:lnTo>
                  <a:lnTo>
                    <a:pt x="2973" y="12718"/>
                  </a:lnTo>
                  <a:lnTo>
                    <a:pt x="2959" y="12594"/>
                  </a:lnTo>
                  <a:lnTo>
                    <a:pt x="2945" y="12470"/>
                  </a:lnTo>
                  <a:lnTo>
                    <a:pt x="2931" y="12348"/>
                  </a:lnTo>
                  <a:lnTo>
                    <a:pt x="2917" y="12224"/>
                  </a:lnTo>
                  <a:lnTo>
                    <a:pt x="2905" y="12098"/>
                  </a:lnTo>
                  <a:lnTo>
                    <a:pt x="2896" y="11971"/>
                  </a:lnTo>
                  <a:lnTo>
                    <a:pt x="2891" y="11908"/>
                  </a:lnTo>
                  <a:lnTo>
                    <a:pt x="2887" y="11843"/>
                  </a:lnTo>
                  <a:lnTo>
                    <a:pt x="2884" y="11778"/>
                  </a:lnTo>
                  <a:lnTo>
                    <a:pt x="2883" y="11712"/>
                  </a:lnTo>
                  <a:lnTo>
                    <a:pt x="2880" y="11647"/>
                  </a:lnTo>
                  <a:lnTo>
                    <a:pt x="2880" y="11580"/>
                  </a:lnTo>
                  <a:lnTo>
                    <a:pt x="2880" y="11512"/>
                  </a:lnTo>
                  <a:lnTo>
                    <a:pt x="2883" y="11445"/>
                  </a:lnTo>
                  <a:lnTo>
                    <a:pt x="2879" y="11394"/>
                  </a:lnTo>
                  <a:lnTo>
                    <a:pt x="2874" y="11343"/>
                  </a:lnTo>
                  <a:lnTo>
                    <a:pt x="2869" y="11293"/>
                  </a:lnTo>
                  <a:lnTo>
                    <a:pt x="2863" y="11242"/>
                  </a:lnTo>
                  <a:lnTo>
                    <a:pt x="2857" y="11192"/>
                  </a:lnTo>
                  <a:lnTo>
                    <a:pt x="2849" y="11142"/>
                  </a:lnTo>
                  <a:lnTo>
                    <a:pt x="2841" y="11091"/>
                  </a:lnTo>
                  <a:lnTo>
                    <a:pt x="2832" y="11041"/>
                  </a:lnTo>
                  <a:lnTo>
                    <a:pt x="2814" y="10941"/>
                  </a:lnTo>
                  <a:lnTo>
                    <a:pt x="2793" y="10841"/>
                  </a:lnTo>
                  <a:lnTo>
                    <a:pt x="2772" y="10741"/>
                  </a:lnTo>
                  <a:lnTo>
                    <a:pt x="2748" y="10641"/>
                  </a:lnTo>
                  <a:lnTo>
                    <a:pt x="2726" y="10542"/>
                  </a:lnTo>
                  <a:lnTo>
                    <a:pt x="2703" y="10442"/>
                  </a:lnTo>
                  <a:lnTo>
                    <a:pt x="2680" y="10343"/>
                  </a:lnTo>
                  <a:lnTo>
                    <a:pt x="2659" y="10243"/>
                  </a:lnTo>
                  <a:lnTo>
                    <a:pt x="2639" y="10144"/>
                  </a:lnTo>
                  <a:lnTo>
                    <a:pt x="2621" y="10046"/>
                  </a:lnTo>
                  <a:lnTo>
                    <a:pt x="2613" y="9995"/>
                  </a:lnTo>
                  <a:lnTo>
                    <a:pt x="2606" y="9946"/>
                  </a:lnTo>
                  <a:lnTo>
                    <a:pt x="2598" y="9897"/>
                  </a:lnTo>
                  <a:lnTo>
                    <a:pt x="2591" y="9848"/>
                  </a:lnTo>
                  <a:lnTo>
                    <a:pt x="2583" y="9797"/>
                  </a:lnTo>
                  <a:lnTo>
                    <a:pt x="2575" y="9744"/>
                  </a:lnTo>
                  <a:lnTo>
                    <a:pt x="2569" y="9693"/>
                  </a:lnTo>
                  <a:lnTo>
                    <a:pt x="2562" y="9641"/>
                  </a:lnTo>
                  <a:lnTo>
                    <a:pt x="2558" y="9590"/>
                  </a:lnTo>
                  <a:lnTo>
                    <a:pt x="2553" y="9538"/>
                  </a:lnTo>
                  <a:lnTo>
                    <a:pt x="2548" y="9486"/>
                  </a:lnTo>
                  <a:lnTo>
                    <a:pt x="2545" y="9434"/>
                  </a:lnTo>
                  <a:lnTo>
                    <a:pt x="2541" y="9383"/>
                  </a:lnTo>
                  <a:lnTo>
                    <a:pt x="2539" y="9330"/>
                  </a:lnTo>
                  <a:lnTo>
                    <a:pt x="2537" y="9278"/>
                  </a:lnTo>
                  <a:lnTo>
                    <a:pt x="2534" y="9226"/>
                  </a:lnTo>
                  <a:lnTo>
                    <a:pt x="2532" y="9173"/>
                  </a:lnTo>
                  <a:lnTo>
                    <a:pt x="2529" y="9121"/>
                  </a:lnTo>
                  <a:lnTo>
                    <a:pt x="2528" y="9068"/>
                  </a:lnTo>
                  <a:lnTo>
                    <a:pt x="2526" y="9015"/>
                  </a:lnTo>
                  <a:lnTo>
                    <a:pt x="2521" y="9007"/>
                  </a:lnTo>
                  <a:lnTo>
                    <a:pt x="2517" y="9002"/>
                  </a:lnTo>
                  <a:lnTo>
                    <a:pt x="2510" y="8999"/>
                  </a:lnTo>
                  <a:lnTo>
                    <a:pt x="2503" y="8997"/>
                  </a:lnTo>
                  <a:lnTo>
                    <a:pt x="2489" y="8995"/>
                  </a:lnTo>
                  <a:lnTo>
                    <a:pt x="2475" y="8994"/>
                  </a:lnTo>
                  <a:lnTo>
                    <a:pt x="2448" y="9067"/>
                  </a:lnTo>
                  <a:lnTo>
                    <a:pt x="2423" y="9139"/>
                  </a:lnTo>
                  <a:lnTo>
                    <a:pt x="2401" y="9213"/>
                  </a:lnTo>
                  <a:lnTo>
                    <a:pt x="2379" y="9288"/>
                  </a:lnTo>
                  <a:lnTo>
                    <a:pt x="2359" y="9363"/>
                  </a:lnTo>
                  <a:lnTo>
                    <a:pt x="2339" y="9438"/>
                  </a:lnTo>
                  <a:lnTo>
                    <a:pt x="2321" y="9514"/>
                  </a:lnTo>
                  <a:lnTo>
                    <a:pt x="2304" y="9590"/>
                  </a:lnTo>
                  <a:lnTo>
                    <a:pt x="2289" y="9666"/>
                  </a:lnTo>
                  <a:lnTo>
                    <a:pt x="2272" y="9743"/>
                  </a:lnTo>
                  <a:lnTo>
                    <a:pt x="2258" y="9820"/>
                  </a:lnTo>
                  <a:lnTo>
                    <a:pt x="2243" y="9897"/>
                  </a:lnTo>
                  <a:lnTo>
                    <a:pt x="2215" y="10052"/>
                  </a:lnTo>
                  <a:lnTo>
                    <a:pt x="2188" y="10207"/>
                  </a:lnTo>
                  <a:lnTo>
                    <a:pt x="2160" y="10363"/>
                  </a:lnTo>
                  <a:lnTo>
                    <a:pt x="2131" y="10517"/>
                  </a:lnTo>
                  <a:lnTo>
                    <a:pt x="2116" y="10593"/>
                  </a:lnTo>
                  <a:lnTo>
                    <a:pt x="2099" y="10670"/>
                  </a:lnTo>
                  <a:lnTo>
                    <a:pt x="2083" y="10746"/>
                  </a:lnTo>
                  <a:lnTo>
                    <a:pt x="2065" y="10822"/>
                  </a:lnTo>
                  <a:lnTo>
                    <a:pt x="2045" y="10898"/>
                  </a:lnTo>
                  <a:lnTo>
                    <a:pt x="2025" y="10973"/>
                  </a:lnTo>
                  <a:lnTo>
                    <a:pt x="2004" y="11047"/>
                  </a:lnTo>
                  <a:lnTo>
                    <a:pt x="1981" y="11121"/>
                  </a:lnTo>
                  <a:lnTo>
                    <a:pt x="1958" y="11194"/>
                  </a:lnTo>
                  <a:lnTo>
                    <a:pt x="1931" y="11267"/>
                  </a:lnTo>
                  <a:lnTo>
                    <a:pt x="1903" y="11338"/>
                  </a:lnTo>
                  <a:lnTo>
                    <a:pt x="1873" y="11410"/>
                  </a:lnTo>
                  <a:lnTo>
                    <a:pt x="1871" y="11428"/>
                  </a:lnTo>
                  <a:lnTo>
                    <a:pt x="1870" y="11447"/>
                  </a:lnTo>
                  <a:lnTo>
                    <a:pt x="1870" y="11466"/>
                  </a:lnTo>
                  <a:lnTo>
                    <a:pt x="1871" y="11484"/>
                  </a:lnTo>
                  <a:lnTo>
                    <a:pt x="1873" y="11503"/>
                  </a:lnTo>
                  <a:lnTo>
                    <a:pt x="1876" y="11522"/>
                  </a:lnTo>
                  <a:lnTo>
                    <a:pt x="1879" y="11539"/>
                  </a:lnTo>
                  <a:lnTo>
                    <a:pt x="1883" y="11558"/>
                  </a:lnTo>
                  <a:lnTo>
                    <a:pt x="1893" y="11593"/>
                  </a:lnTo>
                  <a:lnTo>
                    <a:pt x="1905" y="11628"/>
                  </a:lnTo>
                  <a:lnTo>
                    <a:pt x="1918" y="11661"/>
                  </a:lnTo>
                  <a:lnTo>
                    <a:pt x="1932" y="11693"/>
                  </a:lnTo>
                  <a:lnTo>
                    <a:pt x="1928" y="11730"/>
                  </a:lnTo>
                  <a:lnTo>
                    <a:pt x="1926" y="11767"/>
                  </a:lnTo>
                  <a:lnTo>
                    <a:pt x="1925" y="11805"/>
                  </a:lnTo>
                  <a:lnTo>
                    <a:pt x="1924" y="11841"/>
                  </a:lnTo>
                  <a:lnTo>
                    <a:pt x="1925" y="11877"/>
                  </a:lnTo>
                  <a:lnTo>
                    <a:pt x="1926" y="11914"/>
                  </a:lnTo>
                  <a:lnTo>
                    <a:pt x="1928" y="11950"/>
                  </a:lnTo>
                  <a:lnTo>
                    <a:pt x="1931" y="11985"/>
                  </a:lnTo>
                  <a:lnTo>
                    <a:pt x="1939" y="12056"/>
                  </a:lnTo>
                  <a:lnTo>
                    <a:pt x="1948" y="12128"/>
                  </a:lnTo>
                  <a:lnTo>
                    <a:pt x="1959" y="12199"/>
                  </a:lnTo>
                  <a:lnTo>
                    <a:pt x="1969" y="12270"/>
                  </a:lnTo>
                  <a:lnTo>
                    <a:pt x="1981" y="12342"/>
                  </a:lnTo>
                  <a:lnTo>
                    <a:pt x="1992" y="12413"/>
                  </a:lnTo>
                  <a:lnTo>
                    <a:pt x="2000" y="12487"/>
                  </a:lnTo>
                  <a:lnTo>
                    <a:pt x="2008" y="12560"/>
                  </a:lnTo>
                  <a:lnTo>
                    <a:pt x="2010" y="12597"/>
                  </a:lnTo>
                  <a:lnTo>
                    <a:pt x="2013" y="12635"/>
                  </a:lnTo>
                  <a:lnTo>
                    <a:pt x="2014" y="12673"/>
                  </a:lnTo>
                  <a:lnTo>
                    <a:pt x="2014" y="12711"/>
                  </a:lnTo>
                  <a:lnTo>
                    <a:pt x="2013" y="12750"/>
                  </a:lnTo>
                  <a:lnTo>
                    <a:pt x="2011" y="12789"/>
                  </a:lnTo>
                  <a:lnTo>
                    <a:pt x="2009" y="12828"/>
                  </a:lnTo>
                  <a:lnTo>
                    <a:pt x="2004" y="12868"/>
                  </a:lnTo>
                  <a:lnTo>
                    <a:pt x="2006" y="12935"/>
                  </a:lnTo>
                  <a:lnTo>
                    <a:pt x="2004" y="13001"/>
                  </a:lnTo>
                  <a:lnTo>
                    <a:pt x="2003" y="13069"/>
                  </a:lnTo>
                  <a:lnTo>
                    <a:pt x="1999" y="13136"/>
                  </a:lnTo>
                  <a:lnTo>
                    <a:pt x="1994" y="13204"/>
                  </a:lnTo>
                  <a:lnTo>
                    <a:pt x="1988" y="13272"/>
                  </a:lnTo>
                  <a:lnTo>
                    <a:pt x="1981" y="13339"/>
                  </a:lnTo>
                  <a:lnTo>
                    <a:pt x="1974" y="13407"/>
                  </a:lnTo>
                  <a:lnTo>
                    <a:pt x="1956" y="13544"/>
                  </a:lnTo>
                  <a:lnTo>
                    <a:pt x="1939" y="13680"/>
                  </a:lnTo>
                  <a:lnTo>
                    <a:pt x="1920" y="13817"/>
                  </a:lnTo>
                  <a:lnTo>
                    <a:pt x="1903" y="13953"/>
                  </a:lnTo>
                  <a:lnTo>
                    <a:pt x="1896" y="14022"/>
                  </a:lnTo>
                  <a:lnTo>
                    <a:pt x="1889" y="14090"/>
                  </a:lnTo>
                  <a:lnTo>
                    <a:pt x="1883" y="14158"/>
                  </a:lnTo>
                  <a:lnTo>
                    <a:pt x="1878" y="14227"/>
                  </a:lnTo>
                  <a:lnTo>
                    <a:pt x="1873" y="14295"/>
                  </a:lnTo>
                  <a:lnTo>
                    <a:pt x="1872" y="14363"/>
                  </a:lnTo>
                  <a:lnTo>
                    <a:pt x="1871" y="14431"/>
                  </a:lnTo>
                  <a:lnTo>
                    <a:pt x="1872" y="14499"/>
                  </a:lnTo>
                  <a:lnTo>
                    <a:pt x="1875" y="14566"/>
                  </a:lnTo>
                  <a:lnTo>
                    <a:pt x="1879" y="14634"/>
                  </a:lnTo>
                  <a:lnTo>
                    <a:pt x="1886" y="14701"/>
                  </a:lnTo>
                  <a:lnTo>
                    <a:pt x="1896" y="14768"/>
                  </a:lnTo>
                  <a:lnTo>
                    <a:pt x="1907" y="14835"/>
                  </a:lnTo>
                  <a:lnTo>
                    <a:pt x="1923" y="14902"/>
                  </a:lnTo>
                  <a:lnTo>
                    <a:pt x="1940" y="14969"/>
                  </a:lnTo>
                  <a:lnTo>
                    <a:pt x="1960" y="15034"/>
                  </a:lnTo>
                  <a:lnTo>
                    <a:pt x="1969" y="15128"/>
                  </a:lnTo>
                  <a:lnTo>
                    <a:pt x="1979" y="15219"/>
                  </a:lnTo>
                  <a:lnTo>
                    <a:pt x="1988" y="15309"/>
                  </a:lnTo>
                  <a:lnTo>
                    <a:pt x="1997" y="15399"/>
                  </a:lnTo>
                  <a:lnTo>
                    <a:pt x="2007" y="15488"/>
                  </a:lnTo>
                  <a:lnTo>
                    <a:pt x="2017" y="15578"/>
                  </a:lnTo>
                  <a:lnTo>
                    <a:pt x="2029" y="15670"/>
                  </a:lnTo>
                  <a:lnTo>
                    <a:pt x="2043" y="15763"/>
                  </a:lnTo>
                  <a:lnTo>
                    <a:pt x="1992" y="15779"/>
                  </a:lnTo>
                  <a:lnTo>
                    <a:pt x="1941" y="15797"/>
                  </a:lnTo>
                  <a:lnTo>
                    <a:pt x="1892" y="15816"/>
                  </a:lnTo>
                  <a:lnTo>
                    <a:pt x="1843" y="15834"/>
                  </a:lnTo>
                  <a:lnTo>
                    <a:pt x="1746" y="15873"/>
                  </a:lnTo>
                  <a:lnTo>
                    <a:pt x="1650" y="15908"/>
                  </a:lnTo>
                  <a:lnTo>
                    <a:pt x="1601" y="15924"/>
                  </a:lnTo>
                  <a:lnTo>
                    <a:pt x="1552" y="15938"/>
                  </a:lnTo>
                  <a:lnTo>
                    <a:pt x="1526" y="15944"/>
                  </a:lnTo>
                  <a:lnTo>
                    <a:pt x="1502" y="15950"/>
                  </a:lnTo>
                  <a:lnTo>
                    <a:pt x="1476" y="15956"/>
                  </a:lnTo>
                  <a:lnTo>
                    <a:pt x="1450" y="15961"/>
                  </a:lnTo>
                  <a:lnTo>
                    <a:pt x="1424" y="15964"/>
                  </a:lnTo>
                  <a:lnTo>
                    <a:pt x="1397" y="15968"/>
                  </a:lnTo>
                  <a:lnTo>
                    <a:pt x="1371" y="15970"/>
                  </a:lnTo>
                  <a:lnTo>
                    <a:pt x="1344" y="15971"/>
                  </a:lnTo>
                  <a:lnTo>
                    <a:pt x="1316" y="15971"/>
                  </a:lnTo>
                  <a:lnTo>
                    <a:pt x="1288" y="15971"/>
                  </a:lnTo>
                  <a:lnTo>
                    <a:pt x="1259" y="15970"/>
                  </a:lnTo>
                  <a:lnTo>
                    <a:pt x="1230" y="15968"/>
                  </a:lnTo>
                  <a:lnTo>
                    <a:pt x="1158" y="15990"/>
                  </a:lnTo>
                  <a:lnTo>
                    <a:pt x="1084" y="16012"/>
                  </a:lnTo>
                  <a:lnTo>
                    <a:pt x="1009" y="16035"/>
                  </a:lnTo>
                  <a:lnTo>
                    <a:pt x="934" y="16058"/>
                  </a:lnTo>
                  <a:lnTo>
                    <a:pt x="858" y="16080"/>
                  </a:lnTo>
                  <a:lnTo>
                    <a:pt x="782" y="16101"/>
                  </a:lnTo>
                  <a:lnTo>
                    <a:pt x="705" y="16121"/>
                  </a:lnTo>
                  <a:lnTo>
                    <a:pt x="628" y="16138"/>
                  </a:lnTo>
                  <a:lnTo>
                    <a:pt x="588" y="16147"/>
                  </a:lnTo>
                  <a:lnTo>
                    <a:pt x="550" y="16154"/>
                  </a:lnTo>
                  <a:lnTo>
                    <a:pt x="511" y="16159"/>
                  </a:lnTo>
                  <a:lnTo>
                    <a:pt x="471" y="16165"/>
                  </a:lnTo>
                  <a:lnTo>
                    <a:pt x="433" y="16170"/>
                  </a:lnTo>
                  <a:lnTo>
                    <a:pt x="393" y="16173"/>
                  </a:lnTo>
                  <a:lnTo>
                    <a:pt x="354" y="16176"/>
                  </a:lnTo>
                  <a:lnTo>
                    <a:pt x="315" y="16177"/>
                  </a:lnTo>
                  <a:lnTo>
                    <a:pt x="276" y="16178"/>
                  </a:lnTo>
                  <a:lnTo>
                    <a:pt x="236" y="16177"/>
                  </a:lnTo>
                  <a:lnTo>
                    <a:pt x="198" y="16175"/>
                  </a:lnTo>
                  <a:lnTo>
                    <a:pt x="158" y="16171"/>
                  </a:lnTo>
                  <a:lnTo>
                    <a:pt x="118" y="16166"/>
                  </a:lnTo>
                  <a:lnTo>
                    <a:pt x="80" y="16161"/>
                  </a:lnTo>
                  <a:lnTo>
                    <a:pt x="40" y="16152"/>
                  </a:lnTo>
                  <a:lnTo>
                    <a:pt x="1" y="16143"/>
                  </a:lnTo>
                  <a:lnTo>
                    <a:pt x="0" y="16130"/>
                  </a:lnTo>
                  <a:lnTo>
                    <a:pt x="1" y="16117"/>
                  </a:lnTo>
                  <a:lnTo>
                    <a:pt x="2" y="16104"/>
                  </a:lnTo>
                  <a:lnTo>
                    <a:pt x="5" y="16092"/>
                  </a:lnTo>
                  <a:lnTo>
                    <a:pt x="7" y="16079"/>
                  </a:lnTo>
                  <a:lnTo>
                    <a:pt x="11" y="16067"/>
                  </a:lnTo>
                  <a:lnTo>
                    <a:pt x="15" y="16055"/>
                  </a:lnTo>
                  <a:lnTo>
                    <a:pt x="21" y="16044"/>
                  </a:lnTo>
                  <a:lnTo>
                    <a:pt x="33" y="16021"/>
                  </a:lnTo>
                  <a:lnTo>
                    <a:pt x="47" y="15999"/>
                  </a:lnTo>
                  <a:lnTo>
                    <a:pt x="63" y="15978"/>
                  </a:lnTo>
                  <a:lnTo>
                    <a:pt x="81" y="15958"/>
                  </a:lnTo>
                  <a:lnTo>
                    <a:pt x="101" y="15938"/>
                  </a:lnTo>
                  <a:lnTo>
                    <a:pt x="120" y="15918"/>
                  </a:lnTo>
                  <a:lnTo>
                    <a:pt x="140" y="15900"/>
                  </a:lnTo>
                  <a:lnTo>
                    <a:pt x="161" y="15881"/>
                  </a:lnTo>
                  <a:lnTo>
                    <a:pt x="202" y="15845"/>
                  </a:lnTo>
                  <a:lnTo>
                    <a:pt x="240" y="15809"/>
                  </a:lnTo>
                  <a:lnTo>
                    <a:pt x="309" y="15768"/>
                  </a:lnTo>
                  <a:lnTo>
                    <a:pt x="381" y="15727"/>
                  </a:lnTo>
                  <a:lnTo>
                    <a:pt x="455" y="15687"/>
                  </a:lnTo>
                  <a:lnTo>
                    <a:pt x="530" y="15648"/>
                  </a:lnTo>
                  <a:lnTo>
                    <a:pt x="605" y="15609"/>
                  </a:lnTo>
                  <a:lnTo>
                    <a:pt x="679" y="15568"/>
                  </a:lnTo>
                  <a:lnTo>
                    <a:pt x="717" y="15547"/>
                  </a:lnTo>
                  <a:lnTo>
                    <a:pt x="754" y="15524"/>
                  </a:lnTo>
                  <a:lnTo>
                    <a:pt x="791" y="15503"/>
                  </a:lnTo>
                  <a:lnTo>
                    <a:pt x="826" y="15480"/>
                  </a:lnTo>
                  <a:lnTo>
                    <a:pt x="862" y="15456"/>
                  </a:lnTo>
                  <a:lnTo>
                    <a:pt x="897" y="15433"/>
                  </a:lnTo>
                  <a:lnTo>
                    <a:pt x="931" y="15409"/>
                  </a:lnTo>
                  <a:lnTo>
                    <a:pt x="964" y="15383"/>
                  </a:lnTo>
                  <a:lnTo>
                    <a:pt x="996" y="15357"/>
                  </a:lnTo>
                  <a:lnTo>
                    <a:pt x="1028" y="15329"/>
                  </a:lnTo>
                  <a:lnTo>
                    <a:pt x="1058" y="15301"/>
                  </a:lnTo>
                  <a:lnTo>
                    <a:pt x="1088" y="15270"/>
                  </a:lnTo>
                  <a:lnTo>
                    <a:pt x="1117" y="15240"/>
                  </a:lnTo>
                  <a:lnTo>
                    <a:pt x="1144" y="15208"/>
                  </a:lnTo>
                  <a:lnTo>
                    <a:pt x="1169" y="15175"/>
                  </a:lnTo>
                  <a:lnTo>
                    <a:pt x="1194" y="15141"/>
                  </a:lnTo>
                  <a:lnTo>
                    <a:pt x="1216" y="15104"/>
                  </a:lnTo>
                  <a:lnTo>
                    <a:pt x="1238" y="15066"/>
                  </a:lnTo>
                  <a:lnTo>
                    <a:pt x="1257" y="15027"/>
                  </a:lnTo>
                  <a:lnTo>
                    <a:pt x="1276" y="14986"/>
                  </a:lnTo>
                  <a:lnTo>
                    <a:pt x="1281" y="14957"/>
                  </a:lnTo>
                  <a:lnTo>
                    <a:pt x="1284" y="14928"/>
                  </a:lnTo>
                  <a:lnTo>
                    <a:pt x="1286" y="14899"/>
                  </a:lnTo>
                  <a:lnTo>
                    <a:pt x="1290" y="14869"/>
                  </a:lnTo>
                  <a:lnTo>
                    <a:pt x="1292" y="14811"/>
                  </a:lnTo>
                  <a:lnTo>
                    <a:pt x="1293" y="14752"/>
                  </a:lnTo>
                  <a:lnTo>
                    <a:pt x="1292" y="14695"/>
                  </a:lnTo>
                  <a:lnTo>
                    <a:pt x="1289" y="14637"/>
                  </a:lnTo>
                  <a:lnTo>
                    <a:pt x="1285" y="14579"/>
                  </a:lnTo>
                  <a:lnTo>
                    <a:pt x="1281" y="14521"/>
                  </a:lnTo>
                  <a:lnTo>
                    <a:pt x="1275" y="14462"/>
                  </a:lnTo>
                  <a:lnTo>
                    <a:pt x="1268" y="14404"/>
                  </a:lnTo>
                  <a:lnTo>
                    <a:pt x="1262" y="14345"/>
                  </a:lnTo>
                  <a:lnTo>
                    <a:pt x="1255" y="14286"/>
                  </a:lnTo>
                  <a:lnTo>
                    <a:pt x="1249" y="14226"/>
                  </a:lnTo>
                  <a:lnTo>
                    <a:pt x="1244" y="14165"/>
                  </a:lnTo>
                  <a:lnTo>
                    <a:pt x="1241" y="14104"/>
                  </a:lnTo>
                  <a:lnTo>
                    <a:pt x="1237" y="14042"/>
                  </a:lnTo>
                  <a:lnTo>
                    <a:pt x="1234" y="13977"/>
                  </a:lnTo>
                  <a:lnTo>
                    <a:pt x="1231" y="13910"/>
                  </a:lnTo>
                  <a:lnTo>
                    <a:pt x="1229" y="13844"/>
                  </a:lnTo>
                  <a:lnTo>
                    <a:pt x="1229" y="13777"/>
                  </a:lnTo>
                  <a:lnTo>
                    <a:pt x="1229" y="13710"/>
                  </a:lnTo>
                  <a:lnTo>
                    <a:pt x="1230" y="13642"/>
                  </a:lnTo>
                  <a:lnTo>
                    <a:pt x="1233" y="13576"/>
                  </a:lnTo>
                  <a:lnTo>
                    <a:pt x="1235" y="13508"/>
                  </a:lnTo>
                  <a:lnTo>
                    <a:pt x="1241" y="13372"/>
                  </a:lnTo>
                  <a:lnTo>
                    <a:pt x="1249" y="13238"/>
                  </a:lnTo>
                  <a:lnTo>
                    <a:pt x="1256" y="13102"/>
                  </a:lnTo>
                  <a:lnTo>
                    <a:pt x="1264" y="12966"/>
                  </a:lnTo>
                  <a:lnTo>
                    <a:pt x="1270" y="12831"/>
                  </a:lnTo>
                  <a:lnTo>
                    <a:pt x="1275" y="12695"/>
                  </a:lnTo>
                  <a:lnTo>
                    <a:pt x="1276" y="12628"/>
                  </a:lnTo>
                  <a:lnTo>
                    <a:pt x="1276" y="12560"/>
                  </a:lnTo>
                  <a:lnTo>
                    <a:pt x="1275" y="12494"/>
                  </a:lnTo>
                  <a:lnTo>
                    <a:pt x="1274" y="12426"/>
                  </a:lnTo>
                  <a:lnTo>
                    <a:pt x="1270" y="12359"/>
                  </a:lnTo>
                  <a:lnTo>
                    <a:pt x="1267" y="12293"/>
                  </a:lnTo>
                  <a:lnTo>
                    <a:pt x="1261" y="12226"/>
                  </a:lnTo>
                  <a:lnTo>
                    <a:pt x="1254" y="12159"/>
                  </a:lnTo>
                  <a:lnTo>
                    <a:pt x="1245" y="12094"/>
                  </a:lnTo>
                  <a:lnTo>
                    <a:pt x="1235" y="12028"/>
                  </a:lnTo>
                  <a:lnTo>
                    <a:pt x="1223" y="11963"/>
                  </a:lnTo>
                  <a:lnTo>
                    <a:pt x="1210" y="11897"/>
                  </a:lnTo>
                  <a:lnTo>
                    <a:pt x="1216" y="11810"/>
                  </a:lnTo>
                  <a:lnTo>
                    <a:pt x="1223" y="11724"/>
                  </a:lnTo>
                  <a:lnTo>
                    <a:pt x="1231" y="11640"/>
                  </a:lnTo>
                  <a:lnTo>
                    <a:pt x="1241" y="11557"/>
                  </a:lnTo>
                  <a:lnTo>
                    <a:pt x="1250" y="11476"/>
                  </a:lnTo>
                  <a:lnTo>
                    <a:pt x="1259" y="11396"/>
                  </a:lnTo>
                  <a:lnTo>
                    <a:pt x="1269" y="11315"/>
                  </a:lnTo>
                  <a:lnTo>
                    <a:pt x="1277" y="11235"/>
                  </a:lnTo>
                  <a:lnTo>
                    <a:pt x="1285" y="11156"/>
                  </a:lnTo>
                  <a:lnTo>
                    <a:pt x="1291" y="11076"/>
                  </a:lnTo>
                  <a:lnTo>
                    <a:pt x="1296" y="10996"/>
                  </a:lnTo>
                  <a:lnTo>
                    <a:pt x="1298" y="10915"/>
                  </a:lnTo>
                  <a:lnTo>
                    <a:pt x="1299" y="10874"/>
                  </a:lnTo>
                  <a:lnTo>
                    <a:pt x="1299" y="10833"/>
                  </a:lnTo>
                  <a:lnTo>
                    <a:pt x="1298" y="10791"/>
                  </a:lnTo>
                  <a:lnTo>
                    <a:pt x="1297" y="10749"/>
                  </a:lnTo>
                  <a:lnTo>
                    <a:pt x="1295" y="10707"/>
                  </a:lnTo>
                  <a:lnTo>
                    <a:pt x="1291" y="10665"/>
                  </a:lnTo>
                  <a:lnTo>
                    <a:pt x="1288" y="10621"/>
                  </a:lnTo>
                  <a:lnTo>
                    <a:pt x="1283" y="10577"/>
                  </a:lnTo>
                  <a:lnTo>
                    <a:pt x="1285" y="10507"/>
                  </a:lnTo>
                  <a:lnTo>
                    <a:pt x="1285" y="10439"/>
                  </a:lnTo>
                  <a:lnTo>
                    <a:pt x="1284" y="10371"/>
                  </a:lnTo>
                  <a:lnTo>
                    <a:pt x="1282" y="10304"/>
                  </a:lnTo>
                  <a:lnTo>
                    <a:pt x="1278" y="10238"/>
                  </a:lnTo>
                  <a:lnTo>
                    <a:pt x="1274" y="10172"/>
                  </a:lnTo>
                  <a:lnTo>
                    <a:pt x="1268" y="10108"/>
                  </a:lnTo>
                  <a:lnTo>
                    <a:pt x="1263" y="10042"/>
                  </a:lnTo>
                  <a:lnTo>
                    <a:pt x="1257" y="9978"/>
                  </a:lnTo>
                  <a:lnTo>
                    <a:pt x="1251" y="9912"/>
                  </a:lnTo>
                  <a:lnTo>
                    <a:pt x="1247" y="9848"/>
                  </a:lnTo>
                  <a:lnTo>
                    <a:pt x="1243" y="9783"/>
                  </a:lnTo>
                  <a:lnTo>
                    <a:pt x="1240" y="9716"/>
                  </a:lnTo>
                  <a:lnTo>
                    <a:pt x="1237" y="9649"/>
                  </a:lnTo>
                  <a:lnTo>
                    <a:pt x="1236" y="9581"/>
                  </a:lnTo>
                  <a:lnTo>
                    <a:pt x="1237" y="9512"/>
                  </a:lnTo>
                  <a:lnTo>
                    <a:pt x="1235" y="9422"/>
                  </a:lnTo>
                  <a:lnTo>
                    <a:pt x="1233" y="9330"/>
                  </a:lnTo>
                  <a:lnTo>
                    <a:pt x="1230" y="9239"/>
                  </a:lnTo>
                  <a:lnTo>
                    <a:pt x="1229" y="9146"/>
                  </a:lnTo>
                  <a:lnTo>
                    <a:pt x="1229" y="9054"/>
                  </a:lnTo>
                  <a:lnTo>
                    <a:pt x="1228" y="8962"/>
                  </a:lnTo>
                  <a:lnTo>
                    <a:pt x="1228" y="8868"/>
                  </a:lnTo>
                  <a:lnTo>
                    <a:pt x="1227" y="8776"/>
                  </a:lnTo>
                  <a:lnTo>
                    <a:pt x="1226" y="8682"/>
                  </a:lnTo>
                  <a:lnTo>
                    <a:pt x="1223" y="8588"/>
                  </a:lnTo>
                  <a:lnTo>
                    <a:pt x="1220" y="8495"/>
                  </a:lnTo>
                  <a:lnTo>
                    <a:pt x="1216" y="8401"/>
                  </a:lnTo>
                  <a:lnTo>
                    <a:pt x="1210" y="8308"/>
                  </a:lnTo>
                  <a:lnTo>
                    <a:pt x="1203" y="8214"/>
                  </a:lnTo>
                  <a:lnTo>
                    <a:pt x="1194" y="8121"/>
                  </a:lnTo>
                  <a:lnTo>
                    <a:pt x="1182" y="8027"/>
                  </a:lnTo>
                  <a:lnTo>
                    <a:pt x="1182" y="7999"/>
                  </a:lnTo>
                  <a:lnTo>
                    <a:pt x="1183" y="7972"/>
                  </a:lnTo>
                  <a:lnTo>
                    <a:pt x="1185" y="7945"/>
                  </a:lnTo>
                  <a:lnTo>
                    <a:pt x="1187" y="7918"/>
                  </a:lnTo>
                  <a:lnTo>
                    <a:pt x="1190" y="7892"/>
                  </a:lnTo>
                  <a:lnTo>
                    <a:pt x="1194" y="7866"/>
                  </a:lnTo>
                  <a:lnTo>
                    <a:pt x="1199" y="7840"/>
                  </a:lnTo>
                  <a:lnTo>
                    <a:pt x="1203" y="7814"/>
                  </a:lnTo>
                  <a:lnTo>
                    <a:pt x="1215" y="7764"/>
                  </a:lnTo>
                  <a:lnTo>
                    <a:pt x="1229" y="7714"/>
                  </a:lnTo>
                  <a:lnTo>
                    <a:pt x="1243" y="7663"/>
                  </a:lnTo>
                  <a:lnTo>
                    <a:pt x="1258" y="7612"/>
                  </a:lnTo>
                  <a:lnTo>
                    <a:pt x="1254" y="7627"/>
                  </a:lnTo>
                  <a:lnTo>
                    <a:pt x="1249" y="7642"/>
                  </a:lnTo>
                  <a:lnTo>
                    <a:pt x="1247" y="7656"/>
                  </a:lnTo>
                  <a:lnTo>
                    <a:pt x="1244" y="7671"/>
                  </a:lnTo>
                  <a:lnTo>
                    <a:pt x="1244" y="7687"/>
                  </a:lnTo>
                  <a:lnTo>
                    <a:pt x="1244" y="7702"/>
                  </a:lnTo>
                  <a:lnTo>
                    <a:pt x="1245" y="7717"/>
                  </a:lnTo>
                  <a:lnTo>
                    <a:pt x="1248" y="7732"/>
                  </a:lnTo>
                  <a:lnTo>
                    <a:pt x="1251" y="7747"/>
                  </a:lnTo>
                  <a:lnTo>
                    <a:pt x="1255" y="7763"/>
                  </a:lnTo>
                  <a:lnTo>
                    <a:pt x="1259" y="7779"/>
                  </a:lnTo>
                  <a:lnTo>
                    <a:pt x="1265" y="7794"/>
                  </a:lnTo>
                  <a:lnTo>
                    <a:pt x="1278" y="7825"/>
                  </a:lnTo>
                  <a:lnTo>
                    <a:pt x="1293" y="7855"/>
                  </a:lnTo>
                  <a:lnTo>
                    <a:pt x="1310" y="7885"/>
                  </a:lnTo>
                  <a:lnTo>
                    <a:pt x="1327" y="7916"/>
                  </a:lnTo>
                  <a:lnTo>
                    <a:pt x="1347" y="7945"/>
                  </a:lnTo>
                  <a:lnTo>
                    <a:pt x="1366" y="7974"/>
                  </a:lnTo>
                  <a:lnTo>
                    <a:pt x="1406" y="8029"/>
                  </a:lnTo>
                  <a:lnTo>
                    <a:pt x="1442" y="8082"/>
                  </a:lnTo>
                  <a:lnTo>
                    <a:pt x="1461" y="8088"/>
                  </a:lnTo>
                  <a:lnTo>
                    <a:pt x="1478" y="8095"/>
                  </a:lnTo>
                  <a:lnTo>
                    <a:pt x="1496" y="8103"/>
                  </a:lnTo>
                  <a:lnTo>
                    <a:pt x="1513" y="8114"/>
                  </a:lnTo>
                  <a:lnTo>
                    <a:pt x="1546" y="8135"/>
                  </a:lnTo>
                  <a:lnTo>
                    <a:pt x="1580" y="8154"/>
                  </a:lnTo>
                  <a:lnTo>
                    <a:pt x="1576" y="8165"/>
                  </a:lnTo>
                  <a:lnTo>
                    <a:pt x="1573" y="8176"/>
                  </a:lnTo>
                  <a:lnTo>
                    <a:pt x="1568" y="8186"/>
                  </a:lnTo>
                  <a:lnTo>
                    <a:pt x="1564" y="8197"/>
                  </a:lnTo>
                  <a:lnTo>
                    <a:pt x="1551" y="8216"/>
                  </a:lnTo>
                  <a:lnTo>
                    <a:pt x="1538" y="8236"/>
                  </a:lnTo>
                  <a:lnTo>
                    <a:pt x="1507" y="8276"/>
                  </a:lnTo>
                  <a:lnTo>
                    <a:pt x="1479" y="8316"/>
                  </a:lnTo>
                  <a:lnTo>
                    <a:pt x="1466" y="8336"/>
                  </a:lnTo>
                  <a:lnTo>
                    <a:pt x="1456" y="8356"/>
                  </a:lnTo>
                  <a:lnTo>
                    <a:pt x="1451" y="8366"/>
                  </a:lnTo>
                  <a:lnTo>
                    <a:pt x="1448" y="8376"/>
                  </a:lnTo>
                  <a:lnTo>
                    <a:pt x="1445" y="8386"/>
                  </a:lnTo>
                  <a:lnTo>
                    <a:pt x="1443" y="8397"/>
                  </a:lnTo>
                  <a:lnTo>
                    <a:pt x="1442" y="8407"/>
                  </a:lnTo>
                  <a:lnTo>
                    <a:pt x="1442" y="8419"/>
                  </a:lnTo>
                  <a:lnTo>
                    <a:pt x="1443" y="8429"/>
                  </a:lnTo>
                  <a:lnTo>
                    <a:pt x="1445" y="8440"/>
                  </a:lnTo>
                  <a:lnTo>
                    <a:pt x="1450" y="8452"/>
                  </a:lnTo>
                  <a:lnTo>
                    <a:pt x="1455" y="8463"/>
                  </a:lnTo>
                  <a:lnTo>
                    <a:pt x="1461" y="8475"/>
                  </a:lnTo>
                  <a:lnTo>
                    <a:pt x="1469" y="8487"/>
                  </a:lnTo>
                  <a:lnTo>
                    <a:pt x="1490" y="8522"/>
                  </a:lnTo>
                  <a:lnTo>
                    <a:pt x="1514" y="8559"/>
                  </a:lnTo>
                  <a:lnTo>
                    <a:pt x="1521" y="8567"/>
                  </a:lnTo>
                  <a:lnTo>
                    <a:pt x="1528" y="8574"/>
                  </a:lnTo>
                  <a:lnTo>
                    <a:pt x="1535" y="8580"/>
                  </a:lnTo>
                  <a:lnTo>
                    <a:pt x="1544" y="8585"/>
                  </a:lnTo>
                  <a:lnTo>
                    <a:pt x="1552" y="8588"/>
                  </a:lnTo>
                  <a:lnTo>
                    <a:pt x="1561" y="8590"/>
                  </a:lnTo>
                  <a:lnTo>
                    <a:pt x="1571" y="8590"/>
                  </a:lnTo>
                  <a:lnTo>
                    <a:pt x="1580" y="8587"/>
                  </a:lnTo>
                  <a:lnTo>
                    <a:pt x="1595" y="8574"/>
                  </a:lnTo>
                  <a:lnTo>
                    <a:pt x="1608" y="8559"/>
                  </a:lnTo>
                  <a:lnTo>
                    <a:pt x="1620" y="8545"/>
                  </a:lnTo>
                  <a:lnTo>
                    <a:pt x="1630" y="8529"/>
                  </a:lnTo>
                  <a:lnTo>
                    <a:pt x="1648" y="8495"/>
                  </a:lnTo>
                  <a:lnTo>
                    <a:pt x="1664" y="8461"/>
                  </a:lnTo>
                  <a:lnTo>
                    <a:pt x="1672" y="8445"/>
                  </a:lnTo>
                  <a:lnTo>
                    <a:pt x="1680" y="8428"/>
                  </a:lnTo>
                  <a:lnTo>
                    <a:pt x="1690" y="8412"/>
                  </a:lnTo>
                  <a:lnTo>
                    <a:pt x="1699" y="8397"/>
                  </a:lnTo>
                  <a:lnTo>
                    <a:pt x="1711" y="8383"/>
                  </a:lnTo>
                  <a:lnTo>
                    <a:pt x="1724" y="8370"/>
                  </a:lnTo>
                  <a:lnTo>
                    <a:pt x="1731" y="8364"/>
                  </a:lnTo>
                  <a:lnTo>
                    <a:pt x="1739" y="8358"/>
                  </a:lnTo>
                  <a:lnTo>
                    <a:pt x="1747" y="8353"/>
                  </a:lnTo>
                  <a:lnTo>
                    <a:pt x="1755" y="8349"/>
                  </a:lnTo>
                  <a:lnTo>
                    <a:pt x="1775" y="8362"/>
                  </a:lnTo>
                  <a:lnTo>
                    <a:pt x="1794" y="8377"/>
                  </a:lnTo>
                  <a:lnTo>
                    <a:pt x="1813" y="8394"/>
                  </a:lnTo>
                  <a:lnTo>
                    <a:pt x="1831" y="8413"/>
                  </a:lnTo>
                  <a:lnTo>
                    <a:pt x="1869" y="8452"/>
                  </a:lnTo>
                  <a:lnTo>
                    <a:pt x="1906" y="8488"/>
                  </a:lnTo>
                  <a:lnTo>
                    <a:pt x="1926" y="8504"/>
                  </a:lnTo>
                  <a:lnTo>
                    <a:pt x="1947" y="8518"/>
                  </a:lnTo>
                  <a:lnTo>
                    <a:pt x="1958" y="8524"/>
                  </a:lnTo>
                  <a:lnTo>
                    <a:pt x="1968" y="8530"/>
                  </a:lnTo>
                  <a:lnTo>
                    <a:pt x="1979" y="8535"/>
                  </a:lnTo>
                  <a:lnTo>
                    <a:pt x="1990" y="8538"/>
                  </a:lnTo>
                  <a:lnTo>
                    <a:pt x="2002" y="8540"/>
                  </a:lnTo>
                  <a:lnTo>
                    <a:pt x="2014" y="8542"/>
                  </a:lnTo>
                  <a:lnTo>
                    <a:pt x="2025" y="8543"/>
                  </a:lnTo>
                  <a:lnTo>
                    <a:pt x="2038" y="8542"/>
                  </a:lnTo>
                  <a:lnTo>
                    <a:pt x="2051" y="8539"/>
                  </a:lnTo>
                  <a:lnTo>
                    <a:pt x="2064" y="8536"/>
                  </a:lnTo>
                  <a:lnTo>
                    <a:pt x="2077" y="8531"/>
                  </a:lnTo>
                  <a:lnTo>
                    <a:pt x="2091" y="8524"/>
                  </a:lnTo>
                  <a:lnTo>
                    <a:pt x="2139" y="8503"/>
                  </a:lnTo>
                  <a:lnTo>
                    <a:pt x="2185" y="8484"/>
                  </a:lnTo>
                  <a:lnTo>
                    <a:pt x="2229" y="8468"/>
                  </a:lnTo>
                  <a:lnTo>
                    <a:pt x="2272" y="8454"/>
                  </a:lnTo>
                  <a:lnTo>
                    <a:pt x="2315" y="8442"/>
                  </a:lnTo>
                  <a:lnTo>
                    <a:pt x="2358" y="8434"/>
                  </a:lnTo>
                  <a:lnTo>
                    <a:pt x="2400" y="8426"/>
                  </a:lnTo>
                  <a:lnTo>
                    <a:pt x="2442" y="8421"/>
                  </a:lnTo>
                  <a:lnTo>
                    <a:pt x="2484" y="8418"/>
                  </a:lnTo>
                  <a:lnTo>
                    <a:pt x="2528" y="8415"/>
                  </a:lnTo>
                  <a:lnTo>
                    <a:pt x="2573" y="8414"/>
                  </a:lnTo>
                  <a:lnTo>
                    <a:pt x="2618" y="8414"/>
                  </a:lnTo>
                  <a:lnTo>
                    <a:pt x="2717" y="8416"/>
                  </a:lnTo>
                  <a:lnTo>
                    <a:pt x="2823" y="8421"/>
                  </a:lnTo>
                  <a:lnTo>
                    <a:pt x="2849" y="8432"/>
                  </a:lnTo>
                  <a:lnTo>
                    <a:pt x="2874" y="8443"/>
                  </a:lnTo>
                  <a:lnTo>
                    <a:pt x="2899" y="8455"/>
                  </a:lnTo>
                  <a:lnTo>
                    <a:pt x="2924" y="8467"/>
                  </a:lnTo>
                  <a:lnTo>
                    <a:pt x="2936" y="8471"/>
                  </a:lnTo>
                  <a:lnTo>
                    <a:pt x="2949" y="8476"/>
                  </a:lnTo>
                  <a:lnTo>
                    <a:pt x="2962" y="8478"/>
                  </a:lnTo>
                  <a:lnTo>
                    <a:pt x="2974" y="8481"/>
                  </a:lnTo>
                  <a:lnTo>
                    <a:pt x="2988" y="8482"/>
                  </a:lnTo>
                  <a:lnTo>
                    <a:pt x="3001" y="8482"/>
                  </a:lnTo>
                  <a:lnTo>
                    <a:pt x="3014" y="8480"/>
                  </a:lnTo>
                  <a:lnTo>
                    <a:pt x="3028" y="8476"/>
                  </a:lnTo>
                  <a:lnTo>
                    <a:pt x="3042" y="8463"/>
                  </a:lnTo>
                  <a:lnTo>
                    <a:pt x="3056" y="8448"/>
                  </a:lnTo>
                  <a:lnTo>
                    <a:pt x="3069" y="8431"/>
                  </a:lnTo>
                  <a:lnTo>
                    <a:pt x="3081" y="8413"/>
                  </a:lnTo>
                  <a:lnTo>
                    <a:pt x="3094" y="8394"/>
                  </a:lnTo>
                  <a:lnTo>
                    <a:pt x="3107" y="8376"/>
                  </a:lnTo>
                  <a:lnTo>
                    <a:pt x="3120" y="8358"/>
                  </a:lnTo>
                  <a:lnTo>
                    <a:pt x="3133" y="8343"/>
                  </a:lnTo>
                  <a:lnTo>
                    <a:pt x="3140" y="8335"/>
                  </a:lnTo>
                  <a:lnTo>
                    <a:pt x="3148" y="8329"/>
                  </a:lnTo>
                  <a:lnTo>
                    <a:pt x="3155" y="8322"/>
                  </a:lnTo>
                  <a:lnTo>
                    <a:pt x="3163" y="8317"/>
                  </a:lnTo>
                  <a:lnTo>
                    <a:pt x="3172" y="8312"/>
                  </a:lnTo>
                  <a:lnTo>
                    <a:pt x="3180" y="8309"/>
                  </a:lnTo>
                  <a:lnTo>
                    <a:pt x="3188" y="8305"/>
                  </a:lnTo>
                  <a:lnTo>
                    <a:pt x="3197" y="8304"/>
                  </a:lnTo>
                  <a:lnTo>
                    <a:pt x="3207" y="8304"/>
                  </a:lnTo>
                  <a:lnTo>
                    <a:pt x="3217" y="8304"/>
                  </a:lnTo>
                  <a:lnTo>
                    <a:pt x="3226" y="8307"/>
                  </a:lnTo>
                  <a:lnTo>
                    <a:pt x="3238" y="8310"/>
                  </a:lnTo>
                  <a:lnTo>
                    <a:pt x="3249" y="8315"/>
                  </a:lnTo>
                  <a:lnTo>
                    <a:pt x="3260" y="8321"/>
                  </a:lnTo>
                  <a:lnTo>
                    <a:pt x="3273" y="8329"/>
                  </a:lnTo>
                  <a:lnTo>
                    <a:pt x="3286" y="8338"/>
                  </a:lnTo>
                  <a:lnTo>
                    <a:pt x="3291" y="8333"/>
                  </a:lnTo>
                  <a:lnTo>
                    <a:pt x="3295" y="8331"/>
                  </a:lnTo>
                  <a:lnTo>
                    <a:pt x="3301" y="8331"/>
                  </a:lnTo>
                  <a:lnTo>
                    <a:pt x="3308" y="8331"/>
                  </a:lnTo>
                  <a:lnTo>
                    <a:pt x="3321" y="8331"/>
                  </a:lnTo>
                  <a:lnTo>
                    <a:pt x="3335" y="8331"/>
                  </a:lnTo>
                  <a:lnTo>
                    <a:pt x="3336" y="8344"/>
                  </a:lnTo>
                  <a:lnTo>
                    <a:pt x="3339" y="8356"/>
                  </a:lnTo>
                  <a:lnTo>
                    <a:pt x="3342" y="8369"/>
                  </a:lnTo>
                  <a:lnTo>
                    <a:pt x="3346" y="8380"/>
                  </a:lnTo>
                  <a:lnTo>
                    <a:pt x="3350" y="8392"/>
                  </a:lnTo>
                  <a:lnTo>
                    <a:pt x="3355" y="8404"/>
                  </a:lnTo>
                  <a:lnTo>
                    <a:pt x="3361" y="8415"/>
                  </a:lnTo>
                  <a:lnTo>
                    <a:pt x="3368" y="8426"/>
                  </a:lnTo>
                  <a:lnTo>
                    <a:pt x="3375" y="8436"/>
                  </a:lnTo>
                  <a:lnTo>
                    <a:pt x="3383" y="8446"/>
                  </a:lnTo>
                  <a:lnTo>
                    <a:pt x="3391" y="8455"/>
                  </a:lnTo>
                  <a:lnTo>
                    <a:pt x="3401" y="8463"/>
                  </a:lnTo>
                  <a:lnTo>
                    <a:pt x="3411" y="8470"/>
                  </a:lnTo>
                  <a:lnTo>
                    <a:pt x="3422" y="8476"/>
                  </a:lnTo>
                  <a:lnTo>
                    <a:pt x="3433" y="8482"/>
                  </a:lnTo>
                  <a:lnTo>
                    <a:pt x="3445" y="8487"/>
                  </a:lnTo>
                  <a:lnTo>
                    <a:pt x="3511" y="8487"/>
                  </a:lnTo>
                  <a:lnTo>
                    <a:pt x="3518" y="8445"/>
                  </a:lnTo>
                  <a:lnTo>
                    <a:pt x="3525" y="8400"/>
                  </a:lnTo>
                  <a:lnTo>
                    <a:pt x="3527" y="8378"/>
                  </a:lnTo>
                  <a:lnTo>
                    <a:pt x="3531" y="8356"/>
                  </a:lnTo>
                  <a:lnTo>
                    <a:pt x="3533" y="8333"/>
                  </a:lnTo>
                  <a:lnTo>
                    <a:pt x="3533" y="8311"/>
                  </a:lnTo>
                  <a:lnTo>
                    <a:pt x="3533" y="8290"/>
                  </a:lnTo>
                  <a:lnTo>
                    <a:pt x="3531" y="8269"/>
                  </a:lnTo>
                  <a:lnTo>
                    <a:pt x="3527" y="8248"/>
                  </a:lnTo>
                  <a:lnTo>
                    <a:pt x="3521" y="8227"/>
                  </a:lnTo>
                  <a:lnTo>
                    <a:pt x="3518" y="8218"/>
                  </a:lnTo>
                  <a:lnTo>
                    <a:pt x="3513" y="8208"/>
                  </a:lnTo>
                  <a:lnTo>
                    <a:pt x="3508" y="8199"/>
                  </a:lnTo>
                  <a:lnTo>
                    <a:pt x="3502" y="8190"/>
                  </a:lnTo>
                  <a:lnTo>
                    <a:pt x="3497" y="8180"/>
                  </a:lnTo>
                  <a:lnTo>
                    <a:pt x="3490" y="8172"/>
                  </a:lnTo>
                  <a:lnTo>
                    <a:pt x="3481" y="8163"/>
                  </a:lnTo>
                  <a:lnTo>
                    <a:pt x="3473" y="8154"/>
                  </a:lnTo>
                  <a:lnTo>
                    <a:pt x="3472" y="8117"/>
                  </a:lnTo>
                  <a:lnTo>
                    <a:pt x="3473" y="8078"/>
                  </a:lnTo>
                  <a:lnTo>
                    <a:pt x="3477" y="8041"/>
                  </a:lnTo>
                  <a:lnTo>
                    <a:pt x="3481" y="8004"/>
                  </a:lnTo>
                  <a:lnTo>
                    <a:pt x="3488" y="7966"/>
                  </a:lnTo>
                  <a:lnTo>
                    <a:pt x="3498" y="7930"/>
                  </a:lnTo>
                  <a:lnTo>
                    <a:pt x="3507" y="7894"/>
                  </a:lnTo>
                  <a:lnTo>
                    <a:pt x="3520" y="7857"/>
                  </a:lnTo>
                  <a:lnTo>
                    <a:pt x="3534" y="7822"/>
                  </a:lnTo>
                  <a:lnTo>
                    <a:pt x="3549" y="7787"/>
                  </a:lnTo>
                  <a:lnTo>
                    <a:pt x="3568" y="7753"/>
                  </a:lnTo>
                  <a:lnTo>
                    <a:pt x="3587" y="7719"/>
                  </a:lnTo>
                  <a:lnTo>
                    <a:pt x="3609" y="7687"/>
                  </a:lnTo>
                  <a:lnTo>
                    <a:pt x="3631" y="7654"/>
                  </a:lnTo>
                  <a:lnTo>
                    <a:pt x="3657" y="7622"/>
                  </a:lnTo>
                  <a:lnTo>
                    <a:pt x="3684" y="7592"/>
                  </a:lnTo>
                  <a:lnTo>
                    <a:pt x="3677" y="7564"/>
                  </a:lnTo>
                  <a:lnTo>
                    <a:pt x="3670" y="7536"/>
                  </a:lnTo>
                  <a:lnTo>
                    <a:pt x="3662" y="7509"/>
                  </a:lnTo>
                  <a:lnTo>
                    <a:pt x="3652" y="7482"/>
                  </a:lnTo>
                  <a:lnTo>
                    <a:pt x="3643" y="7455"/>
                  </a:lnTo>
                  <a:lnTo>
                    <a:pt x="3632" y="7428"/>
                  </a:lnTo>
                  <a:lnTo>
                    <a:pt x="3621" y="7401"/>
                  </a:lnTo>
                  <a:lnTo>
                    <a:pt x="3609" y="7376"/>
                  </a:lnTo>
                  <a:lnTo>
                    <a:pt x="3583" y="7324"/>
                  </a:lnTo>
                  <a:lnTo>
                    <a:pt x="3556" y="7274"/>
                  </a:lnTo>
                  <a:lnTo>
                    <a:pt x="3529" y="7225"/>
                  </a:lnTo>
                  <a:lnTo>
                    <a:pt x="3500" y="7177"/>
                  </a:lnTo>
                  <a:lnTo>
                    <a:pt x="3488" y="7173"/>
                  </a:lnTo>
                  <a:lnTo>
                    <a:pt x="3476" y="7171"/>
                  </a:lnTo>
                  <a:lnTo>
                    <a:pt x="3464" y="7170"/>
                  </a:lnTo>
                  <a:lnTo>
                    <a:pt x="3453" y="7168"/>
                  </a:lnTo>
                  <a:lnTo>
                    <a:pt x="3442" y="7170"/>
                  </a:lnTo>
                  <a:lnTo>
                    <a:pt x="3431" y="7172"/>
                  </a:lnTo>
                  <a:lnTo>
                    <a:pt x="3421" y="7174"/>
                  </a:lnTo>
                  <a:lnTo>
                    <a:pt x="3410" y="7179"/>
                  </a:lnTo>
                  <a:lnTo>
                    <a:pt x="3401" y="7184"/>
                  </a:lnTo>
                  <a:lnTo>
                    <a:pt x="3390" y="7188"/>
                  </a:lnTo>
                  <a:lnTo>
                    <a:pt x="3381" y="7195"/>
                  </a:lnTo>
                  <a:lnTo>
                    <a:pt x="3371" y="7202"/>
                  </a:lnTo>
                  <a:lnTo>
                    <a:pt x="3353" y="7218"/>
                  </a:lnTo>
                  <a:lnTo>
                    <a:pt x="3335" y="7235"/>
                  </a:lnTo>
                  <a:lnTo>
                    <a:pt x="3301" y="7274"/>
                  </a:lnTo>
                  <a:lnTo>
                    <a:pt x="3267" y="7314"/>
                  </a:lnTo>
                  <a:lnTo>
                    <a:pt x="3250" y="7332"/>
                  </a:lnTo>
                  <a:lnTo>
                    <a:pt x="3232" y="7350"/>
                  </a:lnTo>
                  <a:lnTo>
                    <a:pt x="3215" y="7366"/>
                  </a:lnTo>
                  <a:lnTo>
                    <a:pt x="3196" y="7381"/>
                  </a:lnTo>
                  <a:lnTo>
                    <a:pt x="3191" y="7387"/>
                  </a:lnTo>
                  <a:lnTo>
                    <a:pt x="3188" y="7394"/>
                  </a:lnTo>
                  <a:lnTo>
                    <a:pt x="3186" y="7402"/>
                  </a:lnTo>
                  <a:lnTo>
                    <a:pt x="3183" y="7409"/>
                  </a:lnTo>
                  <a:lnTo>
                    <a:pt x="3180" y="7423"/>
                  </a:lnTo>
                  <a:lnTo>
                    <a:pt x="3180" y="7439"/>
                  </a:lnTo>
                  <a:lnTo>
                    <a:pt x="3181" y="7455"/>
                  </a:lnTo>
                  <a:lnTo>
                    <a:pt x="3183" y="7470"/>
                  </a:lnTo>
                  <a:lnTo>
                    <a:pt x="3188" y="7485"/>
                  </a:lnTo>
                  <a:lnTo>
                    <a:pt x="3193" y="7502"/>
                  </a:lnTo>
                  <a:lnTo>
                    <a:pt x="3205" y="7533"/>
                  </a:lnTo>
                  <a:lnTo>
                    <a:pt x="3217" y="7565"/>
                  </a:lnTo>
                  <a:lnTo>
                    <a:pt x="3222" y="7580"/>
                  </a:lnTo>
                  <a:lnTo>
                    <a:pt x="3226" y="7594"/>
                  </a:lnTo>
                  <a:lnTo>
                    <a:pt x="3230" y="7609"/>
                  </a:lnTo>
                  <a:lnTo>
                    <a:pt x="3231" y="7622"/>
                  </a:lnTo>
                  <a:lnTo>
                    <a:pt x="3230" y="7654"/>
                  </a:lnTo>
                  <a:lnTo>
                    <a:pt x="3226" y="7685"/>
                  </a:lnTo>
                  <a:lnTo>
                    <a:pt x="3222" y="7717"/>
                  </a:lnTo>
                  <a:lnTo>
                    <a:pt x="3215" y="7749"/>
                  </a:lnTo>
                  <a:lnTo>
                    <a:pt x="3205" y="7779"/>
                  </a:lnTo>
                  <a:lnTo>
                    <a:pt x="3195" y="7808"/>
                  </a:lnTo>
                  <a:lnTo>
                    <a:pt x="3182" y="7838"/>
                  </a:lnTo>
                  <a:lnTo>
                    <a:pt x="3168" y="7866"/>
                  </a:lnTo>
                  <a:lnTo>
                    <a:pt x="3150" y="7892"/>
                  </a:lnTo>
                  <a:lnTo>
                    <a:pt x="3132" y="7918"/>
                  </a:lnTo>
                  <a:lnTo>
                    <a:pt x="3122" y="7931"/>
                  </a:lnTo>
                  <a:lnTo>
                    <a:pt x="3112" y="7943"/>
                  </a:lnTo>
                  <a:lnTo>
                    <a:pt x="3101" y="7954"/>
                  </a:lnTo>
                  <a:lnTo>
                    <a:pt x="3090" y="7966"/>
                  </a:lnTo>
                  <a:lnTo>
                    <a:pt x="3078" y="7977"/>
                  </a:lnTo>
                  <a:lnTo>
                    <a:pt x="3065" y="7987"/>
                  </a:lnTo>
                  <a:lnTo>
                    <a:pt x="3052" y="7998"/>
                  </a:lnTo>
                  <a:lnTo>
                    <a:pt x="3039" y="8007"/>
                  </a:lnTo>
                  <a:lnTo>
                    <a:pt x="3025" y="8016"/>
                  </a:lnTo>
                  <a:lnTo>
                    <a:pt x="3011" y="8025"/>
                  </a:lnTo>
                  <a:lnTo>
                    <a:pt x="2997" y="8033"/>
                  </a:lnTo>
                  <a:lnTo>
                    <a:pt x="2982" y="8041"/>
                  </a:lnTo>
                  <a:lnTo>
                    <a:pt x="2969" y="8046"/>
                  </a:lnTo>
                  <a:lnTo>
                    <a:pt x="2958" y="8049"/>
                  </a:lnTo>
                  <a:lnTo>
                    <a:pt x="2945" y="8052"/>
                  </a:lnTo>
                  <a:lnTo>
                    <a:pt x="2931" y="8053"/>
                  </a:lnTo>
                  <a:lnTo>
                    <a:pt x="2918" y="8052"/>
                  </a:lnTo>
                  <a:lnTo>
                    <a:pt x="2906" y="8050"/>
                  </a:lnTo>
                  <a:lnTo>
                    <a:pt x="2893" y="8047"/>
                  </a:lnTo>
                  <a:lnTo>
                    <a:pt x="2881" y="8042"/>
                  </a:lnTo>
                  <a:lnTo>
                    <a:pt x="2870" y="8038"/>
                  </a:lnTo>
                  <a:lnTo>
                    <a:pt x="2859" y="8031"/>
                  </a:lnTo>
                  <a:lnTo>
                    <a:pt x="2850" y="8023"/>
                  </a:lnTo>
                  <a:lnTo>
                    <a:pt x="2841" y="8014"/>
                  </a:lnTo>
                  <a:lnTo>
                    <a:pt x="2832" y="8005"/>
                  </a:lnTo>
                  <a:lnTo>
                    <a:pt x="2825" y="7994"/>
                  </a:lnTo>
                  <a:lnTo>
                    <a:pt x="2821" y="7984"/>
                  </a:lnTo>
                  <a:lnTo>
                    <a:pt x="2816" y="7972"/>
                  </a:lnTo>
                  <a:lnTo>
                    <a:pt x="2808" y="7962"/>
                  </a:lnTo>
                  <a:lnTo>
                    <a:pt x="2801" y="7949"/>
                  </a:lnTo>
                  <a:lnTo>
                    <a:pt x="2795" y="7936"/>
                  </a:lnTo>
                  <a:lnTo>
                    <a:pt x="2788" y="7923"/>
                  </a:lnTo>
                  <a:lnTo>
                    <a:pt x="2784" y="7916"/>
                  </a:lnTo>
                  <a:lnTo>
                    <a:pt x="2780" y="7910"/>
                  </a:lnTo>
                  <a:lnTo>
                    <a:pt x="2776" y="7904"/>
                  </a:lnTo>
                  <a:lnTo>
                    <a:pt x="2770" y="7900"/>
                  </a:lnTo>
                  <a:lnTo>
                    <a:pt x="2766" y="7896"/>
                  </a:lnTo>
                  <a:lnTo>
                    <a:pt x="2759" y="7892"/>
                  </a:lnTo>
                  <a:lnTo>
                    <a:pt x="2752" y="7890"/>
                  </a:lnTo>
                  <a:lnTo>
                    <a:pt x="2744" y="7889"/>
                  </a:lnTo>
                  <a:lnTo>
                    <a:pt x="2734" y="7903"/>
                  </a:lnTo>
                  <a:lnTo>
                    <a:pt x="2725" y="7921"/>
                  </a:lnTo>
                  <a:lnTo>
                    <a:pt x="2715" y="7940"/>
                  </a:lnTo>
                  <a:lnTo>
                    <a:pt x="2705" y="7960"/>
                  </a:lnTo>
                  <a:lnTo>
                    <a:pt x="2694" y="7980"/>
                  </a:lnTo>
                  <a:lnTo>
                    <a:pt x="2682" y="8000"/>
                  </a:lnTo>
                  <a:lnTo>
                    <a:pt x="2675" y="8009"/>
                  </a:lnTo>
                  <a:lnTo>
                    <a:pt x="2667" y="8018"/>
                  </a:lnTo>
                  <a:lnTo>
                    <a:pt x="2659" y="8026"/>
                  </a:lnTo>
                  <a:lnTo>
                    <a:pt x="2651" y="8034"/>
                  </a:lnTo>
                  <a:lnTo>
                    <a:pt x="2638" y="8035"/>
                  </a:lnTo>
                  <a:lnTo>
                    <a:pt x="2627" y="8036"/>
                  </a:lnTo>
                  <a:lnTo>
                    <a:pt x="2615" y="8035"/>
                  </a:lnTo>
                  <a:lnTo>
                    <a:pt x="2603" y="8034"/>
                  </a:lnTo>
                  <a:lnTo>
                    <a:pt x="2591" y="8033"/>
                  </a:lnTo>
                  <a:lnTo>
                    <a:pt x="2581" y="8031"/>
                  </a:lnTo>
                  <a:lnTo>
                    <a:pt x="2570" y="8027"/>
                  </a:lnTo>
                  <a:lnTo>
                    <a:pt x="2560" y="8023"/>
                  </a:lnTo>
                  <a:lnTo>
                    <a:pt x="2540" y="8015"/>
                  </a:lnTo>
                  <a:lnTo>
                    <a:pt x="2520" y="8005"/>
                  </a:lnTo>
                  <a:lnTo>
                    <a:pt x="2501" y="7994"/>
                  </a:lnTo>
                  <a:lnTo>
                    <a:pt x="2483" y="7984"/>
                  </a:lnTo>
                  <a:lnTo>
                    <a:pt x="2464" y="7973"/>
                  </a:lnTo>
                  <a:lnTo>
                    <a:pt x="2444" y="7964"/>
                  </a:lnTo>
                  <a:lnTo>
                    <a:pt x="2425" y="7956"/>
                  </a:lnTo>
                  <a:lnTo>
                    <a:pt x="2406" y="7950"/>
                  </a:lnTo>
                  <a:lnTo>
                    <a:pt x="2396" y="7947"/>
                  </a:lnTo>
                  <a:lnTo>
                    <a:pt x="2386" y="7945"/>
                  </a:lnTo>
                  <a:lnTo>
                    <a:pt x="2375" y="7945"/>
                  </a:lnTo>
                  <a:lnTo>
                    <a:pt x="2365" y="7945"/>
                  </a:lnTo>
                  <a:lnTo>
                    <a:pt x="2353" y="7946"/>
                  </a:lnTo>
                  <a:lnTo>
                    <a:pt x="2342" y="7947"/>
                  </a:lnTo>
                  <a:lnTo>
                    <a:pt x="2331" y="7951"/>
                  </a:lnTo>
                  <a:lnTo>
                    <a:pt x="2319" y="7954"/>
                  </a:lnTo>
                  <a:lnTo>
                    <a:pt x="2303" y="7976"/>
                  </a:lnTo>
                  <a:lnTo>
                    <a:pt x="2285" y="7995"/>
                  </a:lnTo>
                  <a:lnTo>
                    <a:pt x="2266" y="8015"/>
                  </a:lnTo>
                  <a:lnTo>
                    <a:pt x="2246" y="8032"/>
                  </a:lnTo>
                  <a:lnTo>
                    <a:pt x="2225" y="8048"/>
                  </a:lnTo>
                  <a:lnTo>
                    <a:pt x="2203" y="8062"/>
                  </a:lnTo>
                  <a:lnTo>
                    <a:pt x="2181" y="8075"/>
                  </a:lnTo>
                  <a:lnTo>
                    <a:pt x="2158" y="8087"/>
                  </a:lnTo>
                  <a:lnTo>
                    <a:pt x="2133" y="8096"/>
                  </a:lnTo>
                  <a:lnTo>
                    <a:pt x="2110" y="8103"/>
                  </a:lnTo>
                  <a:lnTo>
                    <a:pt x="2084" y="8109"/>
                  </a:lnTo>
                  <a:lnTo>
                    <a:pt x="2059" y="8112"/>
                  </a:lnTo>
                  <a:lnTo>
                    <a:pt x="2035" y="8114"/>
                  </a:lnTo>
                  <a:lnTo>
                    <a:pt x="2009" y="8114"/>
                  </a:lnTo>
                  <a:lnTo>
                    <a:pt x="1985" y="8111"/>
                  </a:lnTo>
                  <a:lnTo>
                    <a:pt x="1960" y="8107"/>
                  </a:lnTo>
                  <a:lnTo>
                    <a:pt x="1938" y="8090"/>
                  </a:lnTo>
                  <a:lnTo>
                    <a:pt x="1917" y="8073"/>
                  </a:lnTo>
                  <a:lnTo>
                    <a:pt x="1897" y="8054"/>
                  </a:lnTo>
                  <a:lnTo>
                    <a:pt x="1878" y="8034"/>
                  </a:lnTo>
                  <a:lnTo>
                    <a:pt x="1859" y="8014"/>
                  </a:lnTo>
                  <a:lnTo>
                    <a:pt x="1842" y="7992"/>
                  </a:lnTo>
                  <a:lnTo>
                    <a:pt x="1827" y="7970"/>
                  </a:lnTo>
                  <a:lnTo>
                    <a:pt x="1810" y="7946"/>
                  </a:lnTo>
                  <a:lnTo>
                    <a:pt x="1796" y="7923"/>
                  </a:lnTo>
                  <a:lnTo>
                    <a:pt x="1782" y="7900"/>
                  </a:lnTo>
                  <a:lnTo>
                    <a:pt x="1769" y="7875"/>
                  </a:lnTo>
                  <a:lnTo>
                    <a:pt x="1757" y="7850"/>
                  </a:lnTo>
                  <a:lnTo>
                    <a:pt x="1733" y="7800"/>
                  </a:lnTo>
                  <a:lnTo>
                    <a:pt x="1711" y="7751"/>
                  </a:lnTo>
                  <a:lnTo>
                    <a:pt x="1712" y="7738"/>
                  </a:lnTo>
                  <a:lnTo>
                    <a:pt x="1716" y="7726"/>
                  </a:lnTo>
                  <a:lnTo>
                    <a:pt x="1719" y="7716"/>
                  </a:lnTo>
                  <a:lnTo>
                    <a:pt x="1724" y="7704"/>
                  </a:lnTo>
                  <a:lnTo>
                    <a:pt x="1730" y="7692"/>
                  </a:lnTo>
                  <a:lnTo>
                    <a:pt x="1737" y="7681"/>
                  </a:lnTo>
                  <a:lnTo>
                    <a:pt x="1744" y="7670"/>
                  </a:lnTo>
                  <a:lnTo>
                    <a:pt x="1752" y="7660"/>
                  </a:lnTo>
                  <a:lnTo>
                    <a:pt x="1787" y="7616"/>
                  </a:lnTo>
                  <a:lnTo>
                    <a:pt x="1820" y="7574"/>
                  </a:lnTo>
                  <a:lnTo>
                    <a:pt x="1828" y="7564"/>
                  </a:lnTo>
                  <a:lnTo>
                    <a:pt x="1834" y="7553"/>
                  </a:lnTo>
                  <a:lnTo>
                    <a:pt x="1840" y="7544"/>
                  </a:lnTo>
                  <a:lnTo>
                    <a:pt x="1844" y="7533"/>
                  </a:lnTo>
                  <a:lnTo>
                    <a:pt x="1848" y="7523"/>
                  </a:lnTo>
                  <a:lnTo>
                    <a:pt x="1850" y="7512"/>
                  </a:lnTo>
                  <a:lnTo>
                    <a:pt x="1851" y="7502"/>
                  </a:lnTo>
                  <a:lnTo>
                    <a:pt x="1850" y="7492"/>
                  </a:lnTo>
                  <a:lnTo>
                    <a:pt x="1848" y="7482"/>
                  </a:lnTo>
                  <a:lnTo>
                    <a:pt x="1844" y="7471"/>
                  </a:lnTo>
                  <a:lnTo>
                    <a:pt x="1838" y="7461"/>
                  </a:lnTo>
                  <a:lnTo>
                    <a:pt x="1830" y="7450"/>
                  </a:lnTo>
                  <a:lnTo>
                    <a:pt x="1821" y="7440"/>
                  </a:lnTo>
                  <a:lnTo>
                    <a:pt x="1808" y="7429"/>
                  </a:lnTo>
                  <a:lnTo>
                    <a:pt x="1794" y="7419"/>
                  </a:lnTo>
                  <a:lnTo>
                    <a:pt x="1776" y="7408"/>
                  </a:lnTo>
                  <a:lnTo>
                    <a:pt x="1746" y="7374"/>
                  </a:lnTo>
                  <a:lnTo>
                    <a:pt x="1714" y="7339"/>
                  </a:lnTo>
                  <a:lnTo>
                    <a:pt x="1683" y="7305"/>
                  </a:lnTo>
                  <a:lnTo>
                    <a:pt x="1650" y="7271"/>
                  </a:lnTo>
                  <a:lnTo>
                    <a:pt x="1633" y="7255"/>
                  </a:lnTo>
                  <a:lnTo>
                    <a:pt x="1616" y="7239"/>
                  </a:lnTo>
                  <a:lnTo>
                    <a:pt x="1599" y="7223"/>
                  </a:lnTo>
                  <a:lnTo>
                    <a:pt x="1581" y="7209"/>
                  </a:lnTo>
                  <a:lnTo>
                    <a:pt x="1564" y="7195"/>
                  </a:lnTo>
                  <a:lnTo>
                    <a:pt x="1545" y="7183"/>
                  </a:lnTo>
                  <a:lnTo>
                    <a:pt x="1526" y="7171"/>
                  </a:lnTo>
                  <a:lnTo>
                    <a:pt x="1507" y="7159"/>
                  </a:lnTo>
                  <a:lnTo>
                    <a:pt x="1495" y="7168"/>
                  </a:lnTo>
                  <a:lnTo>
                    <a:pt x="1483" y="7177"/>
                  </a:lnTo>
                  <a:lnTo>
                    <a:pt x="1472" y="7186"/>
                  </a:lnTo>
                  <a:lnTo>
                    <a:pt x="1462" y="7197"/>
                  </a:lnTo>
                  <a:lnTo>
                    <a:pt x="1444" y="7215"/>
                  </a:lnTo>
                  <a:lnTo>
                    <a:pt x="1428" y="7236"/>
                  </a:lnTo>
                  <a:lnTo>
                    <a:pt x="1413" y="7259"/>
                  </a:lnTo>
                  <a:lnTo>
                    <a:pt x="1400" y="7281"/>
                  </a:lnTo>
                  <a:lnTo>
                    <a:pt x="1388" y="7303"/>
                  </a:lnTo>
                  <a:lnTo>
                    <a:pt x="1376" y="7326"/>
                  </a:lnTo>
                  <a:lnTo>
                    <a:pt x="1357" y="7374"/>
                  </a:lnTo>
                  <a:lnTo>
                    <a:pt x="1336" y="7421"/>
                  </a:lnTo>
                  <a:lnTo>
                    <a:pt x="1324" y="7445"/>
                  </a:lnTo>
                  <a:lnTo>
                    <a:pt x="1311" y="7468"/>
                  </a:lnTo>
                  <a:lnTo>
                    <a:pt x="1298" y="7490"/>
                  </a:lnTo>
                  <a:lnTo>
                    <a:pt x="1283" y="7512"/>
                  </a:lnTo>
                  <a:lnTo>
                    <a:pt x="1293" y="7467"/>
                  </a:lnTo>
                  <a:lnTo>
                    <a:pt x="1306" y="7420"/>
                  </a:lnTo>
                  <a:lnTo>
                    <a:pt x="1320" y="7373"/>
                  </a:lnTo>
                  <a:lnTo>
                    <a:pt x="1336" y="7325"/>
                  </a:lnTo>
                  <a:lnTo>
                    <a:pt x="1369" y="7228"/>
                  </a:lnTo>
                  <a:lnTo>
                    <a:pt x="1405" y="7130"/>
                  </a:lnTo>
                  <a:lnTo>
                    <a:pt x="1421" y="7080"/>
                  </a:lnTo>
                  <a:lnTo>
                    <a:pt x="1437" y="7030"/>
                  </a:lnTo>
                  <a:lnTo>
                    <a:pt x="1452" y="6980"/>
                  </a:lnTo>
                  <a:lnTo>
                    <a:pt x="1466" y="6930"/>
                  </a:lnTo>
                  <a:lnTo>
                    <a:pt x="1478" y="6880"/>
                  </a:lnTo>
                  <a:lnTo>
                    <a:pt x="1488" y="6830"/>
                  </a:lnTo>
                  <a:lnTo>
                    <a:pt x="1492" y="6806"/>
                  </a:lnTo>
                  <a:lnTo>
                    <a:pt x="1496" y="6780"/>
                  </a:lnTo>
                  <a:lnTo>
                    <a:pt x="1498" y="6756"/>
                  </a:lnTo>
                  <a:lnTo>
                    <a:pt x="1500" y="6731"/>
                  </a:lnTo>
                  <a:lnTo>
                    <a:pt x="1484" y="6656"/>
                  </a:lnTo>
                  <a:lnTo>
                    <a:pt x="1464" y="6579"/>
                  </a:lnTo>
                  <a:lnTo>
                    <a:pt x="1444" y="6501"/>
                  </a:lnTo>
                  <a:lnTo>
                    <a:pt x="1423" y="6422"/>
                  </a:lnTo>
                  <a:lnTo>
                    <a:pt x="1402" y="6344"/>
                  </a:lnTo>
                  <a:lnTo>
                    <a:pt x="1381" y="6267"/>
                  </a:lnTo>
                  <a:lnTo>
                    <a:pt x="1360" y="6191"/>
                  </a:lnTo>
                  <a:lnTo>
                    <a:pt x="1341" y="6116"/>
                  </a:lnTo>
                  <a:lnTo>
                    <a:pt x="1327" y="6064"/>
                  </a:lnTo>
                  <a:lnTo>
                    <a:pt x="1313" y="6013"/>
                  </a:lnTo>
                  <a:lnTo>
                    <a:pt x="1299" y="5960"/>
                  </a:lnTo>
                  <a:lnTo>
                    <a:pt x="1285" y="5909"/>
                  </a:lnTo>
                  <a:lnTo>
                    <a:pt x="1271" y="5856"/>
                  </a:lnTo>
                  <a:lnTo>
                    <a:pt x="1258" y="5802"/>
                  </a:lnTo>
                  <a:lnTo>
                    <a:pt x="1245" y="5750"/>
                  </a:lnTo>
                  <a:lnTo>
                    <a:pt x="1233" y="5697"/>
                  </a:lnTo>
                  <a:lnTo>
                    <a:pt x="1221" y="5644"/>
                  </a:lnTo>
                  <a:lnTo>
                    <a:pt x="1209" y="5591"/>
                  </a:lnTo>
                  <a:lnTo>
                    <a:pt x="1199" y="5538"/>
                  </a:lnTo>
                  <a:lnTo>
                    <a:pt x="1189" y="5487"/>
                  </a:lnTo>
                  <a:lnTo>
                    <a:pt x="1180" y="5434"/>
                  </a:lnTo>
                  <a:lnTo>
                    <a:pt x="1172" y="5382"/>
                  </a:lnTo>
                  <a:lnTo>
                    <a:pt x="1165" y="5331"/>
                  </a:lnTo>
                  <a:lnTo>
                    <a:pt x="1158" y="5280"/>
                  </a:lnTo>
                  <a:lnTo>
                    <a:pt x="1152" y="5276"/>
                  </a:lnTo>
                  <a:lnTo>
                    <a:pt x="1147" y="5271"/>
                  </a:lnTo>
                  <a:lnTo>
                    <a:pt x="1141" y="5266"/>
                  </a:lnTo>
                  <a:lnTo>
                    <a:pt x="1137" y="5260"/>
                  </a:lnTo>
                  <a:lnTo>
                    <a:pt x="1131" y="5256"/>
                  </a:lnTo>
                  <a:lnTo>
                    <a:pt x="1125" y="5253"/>
                  </a:lnTo>
                  <a:lnTo>
                    <a:pt x="1121" y="5253"/>
                  </a:lnTo>
                  <a:lnTo>
                    <a:pt x="1118" y="5253"/>
                  </a:lnTo>
                  <a:lnTo>
                    <a:pt x="1114" y="5254"/>
                  </a:lnTo>
                  <a:lnTo>
                    <a:pt x="1110" y="5256"/>
                  </a:lnTo>
                  <a:lnTo>
                    <a:pt x="1104" y="5263"/>
                  </a:lnTo>
                  <a:lnTo>
                    <a:pt x="1098" y="5271"/>
                  </a:lnTo>
                  <a:lnTo>
                    <a:pt x="1095" y="5281"/>
                  </a:lnTo>
                  <a:lnTo>
                    <a:pt x="1092" y="5290"/>
                  </a:lnTo>
                  <a:lnTo>
                    <a:pt x="1090" y="5312"/>
                  </a:lnTo>
                  <a:lnTo>
                    <a:pt x="1089" y="5336"/>
                  </a:lnTo>
                  <a:lnTo>
                    <a:pt x="1089" y="5361"/>
                  </a:lnTo>
                  <a:lnTo>
                    <a:pt x="1089" y="5386"/>
                  </a:lnTo>
                  <a:lnTo>
                    <a:pt x="1088" y="5398"/>
                  </a:lnTo>
                  <a:lnTo>
                    <a:pt x="1085" y="5411"/>
                  </a:lnTo>
                  <a:lnTo>
                    <a:pt x="1083" y="5421"/>
                  </a:lnTo>
                  <a:lnTo>
                    <a:pt x="1078" y="5432"/>
                  </a:lnTo>
                  <a:lnTo>
                    <a:pt x="1056" y="5531"/>
                  </a:lnTo>
                  <a:lnTo>
                    <a:pt x="1033" y="5633"/>
                  </a:lnTo>
                  <a:lnTo>
                    <a:pt x="1008" y="5735"/>
                  </a:lnTo>
                  <a:lnTo>
                    <a:pt x="984" y="5836"/>
                  </a:lnTo>
                  <a:lnTo>
                    <a:pt x="958" y="5937"/>
                  </a:lnTo>
                  <a:lnTo>
                    <a:pt x="930" y="6036"/>
                  </a:lnTo>
                  <a:lnTo>
                    <a:pt x="916" y="6085"/>
                  </a:lnTo>
                  <a:lnTo>
                    <a:pt x="900" y="6133"/>
                  </a:lnTo>
                  <a:lnTo>
                    <a:pt x="884" y="6180"/>
                  </a:lnTo>
                  <a:lnTo>
                    <a:pt x="868" y="6227"/>
                  </a:lnTo>
                  <a:lnTo>
                    <a:pt x="856" y="6305"/>
                  </a:lnTo>
                  <a:lnTo>
                    <a:pt x="843" y="6385"/>
                  </a:lnTo>
                  <a:lnTo>
                    <a:pt x="829" y="6466"/>
                  </a:lnTo>
                  <a:lnTo>
                    <a:pt x="815" y="6546"/>
                  </a:lnTo>
                  <a:lnTo>
                    <a:pt x="800" y="6628"/>
                  </a:lnTo>
                  <a:lnTo>
                    <a:pt x="786" y="6711"/>
                  </a:lnTo>
                  <a:lnTo>
                    <a:pt x="772" y="6795"/>
                  </a:lnTo>
                  <a:lnTo>
                    <a:pt x="759" y="6878"/>
                  </a:lnTo>
                  <a:lnTo>
                    <a:pt x="747" y="6964"/>
                  </a:lnTo>
                  <a:lnTo>
                    <a:pt x="737" y="7048"/>
                  </a:lnTo>
                  <a:lnTo>
                    <a:pt x="732" y="7090"/>
                  </a:lnTo>
                  <a:lnTo>
                    <a:pt x="729" y="7133"/>
                  </a:lnTo>
                  <a:lnTo>
                    <a:pt x="725" y="7176"/>
                  </a:lnTo>
                  <a:lnTo>
                    <a:pt x="723" y="7218"/>
                  </a:lnTo>
                  <a:lnTo>
                    <a:pt x="720" y="7261"/>
                  </a:lnTo>
                  <a:lnTo>
                    <a:pt x="719" y="7303"/>
                  </a:lnTo>
                  <a:lnTo>
                    <a:pt x="719" y="7345"/>
                  </a:lnTo>
                  <a:lnTo>
                    <a:pt x="719" y="7388"/>
                  </a:lnTo>
                  <a:lnTo>
                    <a:pt x="720" y="7430"/>
                  </a:lnTo>
                  <a:lnTo>
                    <a:pt x="723" y="7473"/>
                  </a:lnTo>
                  <a:lnTo>
                    <a:pt x="726" y="7515"/>
                  </a:lnTo>
                  <a:lnTo>
                    <a:pt x="730" y="7557"/>
                  </a:lnTo>
                  <a:lnTo>
                    <a:pt x="722" y="7642"/>
                  </a:lnTo>
                  <a:lnTo>
                    <a:pt x="713" y="7729"/>
                  </a:lnTo>
                  <a:lnTo>
                    <a:pt x="706" y="7819"/>
                  </a:lnTo>
                  <a:lnTo>
                    <a:pt x="699" y="7911"/>
                  </a:lnTo>
                  <a:lnTo>
                    <a:pt x="695" y="8006"/>
                  </a:lnTo>
                  <a:lnTo>
                    <a:pt x="690" y="8102"/>
                  </a:lnTo>
                  <a:lnTo>
                    <a:pt x="688" y="8198"/>
                  </a:lnTo>
                  <a:lnTo>
                    <a:pt x="688" y="8296"/>
                  </a:lnTo>
                  <a:lnTo>
                    <a:pt x="688" y="8393"/>
                  </a:lnTo>
                  <a:lnTo>
                    <a:pt x="690" y="8491"/>
                  </a:lnTo>
                  <a:lnTo>
                    <a:pt x="695" y="8590"/>
                  </a:lnTo>
                  <a:lnTo>
                    <a:pt x="702" y="8687"/>
                  </a:lnTo>
                  <a:lnTo>
                    <a:pt x="705" y="8735"/>
                  </a:lnTo>
                  <a:lnTo>
                    <a:pt x="710" y="8783"/>
                  </a:lnTo>
                  <a:lnTo>
                    <a:pt x="715" y="8829"/>
                  </a:lnTo>
                  <a:lnTo>
                    <a:pt x="720" y="8877"/>
                  </a:lnTo>
                  <a:lnTo>
                    <a:pt x="727" y="8923"/>
                  </a:lnTo>
                  <a:lnTo>
                    <a:pt x="734" y="8970"/>
                  </a:lnTo>
                  <a:lnTo>
                    <a:pt x="743" y="9015"/>
                  </a:lnTo>
                  <a:lnTo>
                    <a:pt x="751" y="9060"/>
                  </a:lnTo>
                  <a:lnTo>
                    <a:pt x="767" y="9083"/>
                  </a:lnTo>
                  <a:lnTo>
                    <a:pt x="785" y="9107"/>
                  </a:lnTo>
                  <a:lnTo>
                    <a:pt x="803" y="9130"/>
                  </a:lnTo>
                  <a:lnTo>
                    <a:pt x="823" y="9152"/>
                  </a:lnTo>
                  <a:lnTo>
                    <a:pt x="834" y="9163"/>
                  </a:lnTo>
                  <a:lnTo>
                    <a:pt x="844" y="9173"/>
                  </a:lnTo>
                  <a:lnTo>
                    <a:pt x="856" y="9183"/>
                  </a:lnTo>
                  <a:lnTo>
                    <a:pt x="868" y="9191"/>
                  </a:lnTo>
                  <a:lnTo>
                    <a:pt x="879" y="9199"/>
                  </a:lnTo>
                  <a:lnTo>
                    <a:pt x="891" y="9206"/>
                  </a:lnTo>
                  <a:lnTo>
                    <a:pt x="904" y="9211"/>
                  </a:lnTo>
                  <a:lnTo>
                    <a:pt x="917" y="9215"/>
                  </a:lnTo>
                  <a:lnTo>
                    <a:pt x="968" y="9420"/>
                  </a:lnTo>
                  <a:lnTo>
                    <a:pt x="954" y="9406"/>
                  </a:lnTo>
                  <a:lnTo>
                    <a:pt x="937" y="9387"/>
                  </a:lnTo>
                  <a:lnTo>
                    <a:pt x="917" y="9369"/>
                  </a:lnTo>
                  <a:lnTo>
                    <a:pt x="895" y="9350"/>
                  </a:lnTo>
                  <a:lnTo>
                    <a:pt x="883" y="9342"/>
                  </a:lnTo>
                  <a:lnTo>
                    <a:pt x="870" y="9333"/>
                  </a:lnTo>
                  <a:lnTo>
                    <a:pt x="857" y="9328"/>
                  </a:lnTo>
                  <a:lnTo>
                    <a:pt x="844" y="9322"/>
                  </a:lnTo>
                  <a:lnTo>
                    <a:pt x="830" y="9318"/>
                  </a:lnTo>
                  <a:lnTo>
                    <a:pt x="815" y="9316"/>
                  </a:lnTo>
                  <a:lnTo>
                    <a:pt x="800" y="9317"/>
                  </a:lnTo>
                  <a:lnTo>
                    <a:pt x="785" y="9319"/>
                  </a:lnTo>
                  <a:lnTo>
                    <a:pt x="766" y="9346"/>
                  </a:lnTo>
                  <a:lnTo>
                    <a:pt x="751" y="9373"/>
                  </a:lnTo>
                  <a:lnTo>
                    <a:pt x="738" y="9399"/>
                  </a:lnTo>
                  <a:lnTo>
                    <a:pt x="727" y="9426"/>
                  </a:lnTo>
                  <a:lnTo>
                    <a:pt x="719" y="9452"/>
                  </a:lnTo>
                  <a:lnTo>
                    <a:pt x="713" y="9477"/>
                  </a:lnTo>
                  <a:lnTo>
                    <a:pt x="710" y="9504"/>
                  </a:lnTo>
                  <a:lnTo>
                    <a:pt x="709" y="9530"/>
                  </a:lnTo>
                  <a:lnTo>
                    <a:pt x="709" y="9556"/>
                  </a:lnTo>
                  <a:lnTo>
                    <a:pt x="710" y="9581"/>
                  </a:lnTo>
                  <a:lnTo>
                    <a:pt x="713" y="9607"/>
                  </a:lnTo>
                  <a:lnTo>
                    <a:pt x="718" y="9632"/>
                  </a:lnTo>
                  <a:lnTo>
                    <a:pt x="724" y="9657"/>
                  </a:lnTo>
                  <a:lnTo>
                    <a:pt x="731" y="9683"/>
                  </a:lnTo>
                  <a:lnTo>
                    <a:pt x="739" y="9709"/>
                  </a:lnTo>
                  <a:lnTo>
                    <a:pt x="747" y="9733"/>
                  </a:lnTo>
                  <a:lnTo>
                    <a:pt x="766" y="9785"/>
                  </a:lnTo>
                  <a:lnTo>
                    <a:pt x="787" y="9835"/>
                  </a:lnTo>
                  <a:lnTo>
                    <a:pt x="807" y="9887"/>
                  </a:lnTo>
                  <a:lnTo>
                    <a:pt x="827" y="9938"/>
                  </a:lnTo>
                  <a:lnTo>
                    <a:pt x="835" y="9964"/>
                  </a:lnTo>
                  <a:lnTo>
                    <a:pt x="843" y="9990"/>
                  </a:lnTo>
                  <a:lnTo>
                    <a:pt x="850" y="10017"/>
                  </a:lnTo>
                  <a:lnTo>
                    <a:pt x="857" y="10042"/>
                  </a:lnTo>
                  <a:lnTo>
                    <a:pt x="862" y="10069"/>
                  </a:lnTo>
                  <a:lnTo>
                    <a:pt x="865" y="10095"/>
                  </a:lnTo>
                  <a:lnTo>
                    <a:pt x="868" y="10122"/>
                  </a:lnTo>
                  <a:lnTo>
                    <a:pt x="868" y="10149"/>
                  </a:lnTo>
                  <a:lnTo>
                    <a:pt x="882" y="10153"/>
                  </a:lnTo>
                  <a:lnTo>
                    <a:pt x="896" y="10158"/>
                  </a:lnTo>
                  <a:lnTo>
                    <a:pt x="911" y="10160"/>
                  </a:lnTo>
                  <a:lnTo>
                    <a:pt x="927" y="10162"/>
                  </a:lnTo>
                  <a:lnTo>
                    <a:pt x="936" y="10162"/>
                  </a:lnTo>
                  <a:lnTo>
                    <a:pt x="943" y="10162"/>
                  </a:lnTo>
                  <a:lnTo>
                    <a:pt x="951" y="10160"/>
                  </a:lnTo>
                  <a:lnTo>
                    <a:pt x="959" y="10158"/>
                  </a:lnTo>
                  <a:lnTo>
                    <a:pt x="967" y="10155"/>
                  </a:lnTo>
                  <a:lnTo>
                    <a:pt x="974" y="10151"/>
                  </a:lnTo>
                  <a:lnTo>
                    <a:pt x="981" y="10148"/>
                  </a:lnTo>
                  <a:lnTo>
                    <a:pt x="989" y="10142"/>
                  </a:lnTo>
                  <a:lnTo>
                    <a:pt x="991" y="10152"/>
                  </a:lnTo>
                  <a:lnTo>
                    <a:pt x="992" y="10162"/>
                  </a:lnTo>
                  <a:lnTo>
                    <a:pt x="993" y="10171"/>
                  </a:lnTo>
                  <a:lnTo>
                    <a:pt x="992" y="10179"/>
                  </a:lnTo>
                  <a:lnTo>
                    <a:pt x="989" y="10194"/>
                  </a:lnTo>
                  <a:lnTo>
                    <a:pt x="985" y="10208"/>
                  </a:lnTo>
                  <a:lnTo>
                    <a:pt x="979" y="10222"/>
                  </a:lnTo>
                  <a:lnTo>
                    <a:pt x="972" y="10238"/>
                  </a:lnTo>
                  <a:lnTo>
                    <a:pt x="966" y="10254"/>
                  </a:lnTo>
                  <a:lnTo>
                    <a:pt x="961" y="10273"/>
                  </a:lnTo>
                  <a:lnTo>
                    <a:pt x="1072" y="10391"/>
                  </a:lnTo>
                  <a:lnTo>
                    <a:pt x="1056" y="10384"/>
                  </a:lnTo>
                  <a:lnTo>
                    <a:pt x="1040" y="10374"/>
                  </a:lnTo>
                  <a:lnTo>
                    <a:pt x="1023" y="10364"/>
                  </a:lnTo>
                  <a:lnTo>
                    <a:pt x="1007" y="10351"/>
                  </a:lnTo>
                  <a:lnTo>
                    <a:pt x="974" y="10323"/>
                  </a:lnTo>
                  <a:lnTo>
                    <a:pt x="941" y="10294"/>
                  </a:lnTo>
                  <a:lnTo>
                    <a:pt x="925" y="10281"/>
                  </a:lnTo>
                  <a:lnTo>
                    <a:pt x="907" y="10269"/>
                  </a:lnTo>
                  <a:lnTo>
                    <a:pt x="890" y="10259"/>
                  </a:lnTo>
                  <a:lnTo>
                    <a:pt x="871" y="10250"/>
                  </a:lnTo>
                  <a:lnTo>
                    <a:pt x="863" y="10248"/>
                  </a:lnTo>
                  <a:lnTo>
                    <a:pt x="854" y="10246"/>
                  </a:lnTo>
                  <a:lnTo>
                    <a:pt x="844" y="10245"/>
                  </a:lnTo>
                  <a:lnTo>
                    <a:pt x="835" y="10245"/>
                  </a:lnTo>
                  <a:lnTo>
                    <a:pt x="824" y="10245"/>
                  </a:lnTo>
                  <a:lnTo>
                    <a:pt x="815" y="10246"/>
                  </a:lnTo>
                  <a:lnTo>
                    <a:pt x="806" y="10248"/>
                  </a:lnTo>
                  <a:lnTo>
                    <a:pt x="795" y="10253"/>
                  </a:lnTo>
                  <a:lnTo>
                    <a:pt x="805" y="10269"/>
                  </a:lnTo>
                  <a:lnTo>
                    <a:pt x="812" y="10287"/>
                  </a:lnTo>
                  <a:lnTo>
                    <a:pt x="819" y="10304"/>
                  </a:lnTo>
                  <a:lnTo>
                    <a:pt x="826" y="10323"/>
                  </a:lnTo>
                  <a:lnTo>
                    <a:pt x="837" y="10360"/>
                  </a:lnTo>
                  <a:lnTo>
                    <a:pt x="851" y="10398"/>
                  </a:lnTo>
                  <a:lnTo>
                    <a:pt x="860" y="10415"/>
                  </a:lnTo>
                  <a:lnTo>
                    <a:pt x="868" y="10432"/>
                  </a:lnTo>
                  <a:lnTo>
                    <a:pt x="878" y="10448"/>
                  </a:lnTo>
                  <a:lnTo>
                    <a:pt x="890" y="10462"/>
                  </a:lnTo>
                  <a:lnTo>
                    <a:pt x="896" y="10469"/>
                  </a:lnTo>
                  <a:lnTo>
                    <a:pt x="903" y="10476"/>
                  </a:lnTo>
                  <a:lnTo>
                    <a:pt x="910" y="10482"/>
                  </a:lnTo>
                  <a:lnTo>
                    <a:pt x="918" y="10487"/>
                  </a:lnTo>
                  <a:lnTo>
                    <a:pt x="926" y="10493"/>
                  </a:lnTo>
                  <a:lnTo>
                    <a:pt x="934" y="10497"/>
                  </a:lnTo>
                  <a:lnTo>
                    <a:pt x="945" y="10501"/>
                  </a:lnTo>
                  <a:lnTo>
                    <a:pt x="954" y="10504"/>
                  </a:lnTo>
                  <a:lnTo>
                    <a:pt x="965" y="10502"/>
                  </a:lnTo>
                  <a:lnTo>
                    <a:pt x="975" y="10501"/>
                  </a:lnTo>
                  <a:lnTo>
                    <a:pt x="986" y="10500"/>
                  </a:lnTo>
                  <a:lnTo>
                    <a:pt x="996" y="10501"/>
                  </a:lnTo>
                  <a:lnTo>
                    <a:pt x="1017" y="10503"/>
                  </a:lnTo>
                  <a:lnTo>
                    <a:pt x="1037" y="10507"/>
                  </a:lnTo>
                  <a:lnTo>
                    <a:pt x="1057" y="10510"/>
                  </a:lnTo>
                  <a:lnTo>
                    <a:pt x="1076" y="10512"/>
                  </a:lnTo>
                  <a:lnTo>
                    <a:pt x="1085" y="10512"/>
                  </a:lnTo>
                  <a:lnTo>
                    <a:pt x="1093" y="10511"/>
                  </a:lnTo>
                  <a:lnTo>
                    <a:pt x="1102" y="10508"/>
                  </a:lnTo>
                  <a:lnTo>
                    <a:pt x="1110" y="10504"/>
                  </a:lnTo>
                  <a:lnTo>
                    <a:pt x="1110" y="10570"/>
                  </a:lnTo>
                  <a:lnTo>
                    <a:pt x="961" y="10522"/>
                  </a:lnTo>
                  <a:lnTo>
                    <a:pt x="955" y="10530"/>
                  </a:lnTo>
                  <a:lnTo>
                    <a:pt x="951" y="10538"/>
                  </a:lnTo>
                  <a:lnTo>
                    <a:pt x="947" y="10545"/>
                  </a:lnTo>
                  <a:lnTo>
                    <a:pt x="945" y="10555"/>
                  </a:lnTo>
                  <a:lnTo>
                    <a:pt x="941" y="10571"/>
                  </a:lnTo>
                  <a:lnTo>
                    <a:pt x="941" y="10588"/>
                  </a:lnTo>
                  <a:lnTo>
                    <a:pt x="941" y="10606"/>
                  </a:lnTo>
                  <a:lnTo>
                    <a:pt x="940" y="10624"/>
                  </a:lnTo>
                  <a:lnTo>
                    <a:pt x="940" y="10633"/>
                  </a:lnTo>
                  <a:lnTo>
                    <a:pt x="938" y="10642"/>
                  </a:lnTo>
                  <a:lnTo>
                    <a:pt x="937" y="10650"/>
                  </a:lnTo>
                  <a:lnTo>
                    <a:pt x="933" y="10660"/>
                  </a:lnTo>
                  <a:lnTo>
                    <a:pt x="931" y="10673"/>
                  </a:lnTo>
                  <a:lnTo>
                    <a:pt x="929" y="10687"/>
                  </a:lnTo>
                  <a:lnTo>
                    <a:pt x="927" y="10701"/>
                  </a:lnTo>
                  <a:lnTo>
                    <a:pt x="926" y="10716"/>
                  </a:lnTo>
                  <a:lnTo>
                    <a:pt x="924" y="10745"/>
                  </a:lnTo>
                  <a:lnTo>
                    <a:pt x="922" y="10773"/>
                  </a:lnTo>
                  <a:lnTo>
                    <a:pt x="919" y="10787"/>
                  </a:lnTo>
                  <a:lnTo>
                    <a:pt x="916" y="10801"/>
                  </a:lnTo>
                  <a:lnTo>
                    <a:pt x="912" y="10814"/>
                  </a:lnTo>
                  <a:lnTo>
                    <a:pt x="906" y="10826"/>
                  </a:lnTo>
                  <a:lnTo>
                    <a:pt x="899" y="10836"/>
                  </a:lnTo>
                  <a:lnTo>
                    <a:pt x="891" y="10847"/>
                  </a:lnTo>
                  <a:lnTo>
                    <a:pt x="881" y="10856"/>
                  </a:lnTo>
                  <a:lnTo>
                    <a:pt x="868" y="10863"/>
                  </a:lnTo>
                  <a:lnTo>
                    <a:pt x="847" y="10849"/>
                  </a:lnTo>
                  <a:lnTo>
                    <a:pt x="828" y="10834"/>
                  </a:lnTo>
                  <a:lnTo>
                    <a:pt x="809" y="10819"/>
                  </a:lnTo>
                  <a:lnTo>
                    <a:pt x="791" y="10803"/>
                  </a:lnTo>
                  <a:lnTo>
                    <a:pt x="774" y="10785"/>
                  </a:lnTo>
                  <a:lnTo>
                    <a:pt x="758" y="10767"/>
                  </a:lnTo>
                  <a:lnTo>
                    <a:pt x="743" y="10750"/>
                  </a:lnTo>
                  <a:lnTo>
                    <a:pt x="729" y="10731"/>
                  </a:lnTo>
                  <a:lnTo>
                    <a:pt x="716" y="10712"/>
                  </a:lnTo>
                  <a:lnTo>
                    <a:pt x="703" y="10693"/>
                  </a:lnTo>
                  <a:lnTo>
                    <a:pt x="690" y="10673"/>
                  </a:lnTo>
                  <a:lnTo>
                    <a:pt x="678" y="10652"/>
                  </a:lnTo>
                  <a:lnTo>
                    <a:pt x="657" y="10610"/>
                  </a:lnTo>
                  <a:lnTo>
                    <a:pt x="637" y="10566"/>
                  </a:lnTo>
                  <a:lnTo>
                    <a:pt x="620" y="10523"/>
                  </a:lnTo>
                  <a:lnTo>
                    <a:pt x="603" y="10477"/>
                  </a:lnTo>
                  <a:lnTo>
                    <a:pt x="587" y="10432"/>
                  </a:lnTo>
                  <a:lnTo>
                    <a:pt x="572" y="10386"/>
                  </a:lnTo>
                  <a:lnTo>
                    <a:pt x="557" y="10342"/>
                  </a:lnTo>
                  <a:lnTo>
                    <a:pt x="541" y="10296"/>
                  </a:lnTo>
                  <a:lnTo>
                    <a:pt x="525" y="10252"/>
                  </a:lnTo>
                  <a:lnTo>
                    <a:pt x="509" y="10207"/>
                  </a:lnTo>
                  <a:lnTo>
                    <a:pt x="503" y="10136"/>
                  </a:lnTo>
                  <a:lnTo>
                    <a:pt x="498" y="10063"/>
                  </a:lnTo>
                  <a:lnTo>
                    <a:pt x="494" y="9992"/>
                  </a:lnTo>
                  <a:lnTo>
                    <a:pt x="488" y="9921"/>
                  </a:lnTo>
                  <a:lnTo>
                    <a:pt x="483" y="9849"/>
                  </a:lnTo>
                  <a:lnTo>
                    <a:pt x="477" y="9779"/>
                  </a:lnTo>
                  <a:lnTo>
                    <a:pt x="470" y="9709"/>
                  </a:lnTo>
                  <a:lnTo>
                    <a:pt x="462" y="9639"/>
                  </a:lnTo>
                  <a:lnTo>
                    <a:pt x="453" y="9569"/>
                  </a:lnTo>
                  <a:lnTo>
                    <a:pt x="442" y="9500"/>
                  </a:lnTo>
                  <a:lnTo>
                    <a:pt x="430" y="9432"/>
                  </a:lnTo>
                  <a:lnTo>
                    <a:pt x="415" y="9363"/>
                  </a:lnTo>
                  <a:lnTo>
                    <a:pt x="407" y="9330"/>
                  </a:lnTo>
                  <a:lnTo>
                    <a:pt x="399" y="9296"/>
                  </a:lnTo>
                  <a:lnTo>
                    <a:pt x="389" y="9262"/>
                  </a:lnTo>
                  <a:lnTo>
                    <a:pt x="380" y="9229"/>
                  </a:lnTo>
                  <a:lnTo>
                    <a:pt x="368" y="9197"/>
                  </a:lnTo>
                  <a:lnTo>
                    <a:pt x="358" y="9164"/>
                  </a:lnTo>
                  <a:lnTo>
                    <a:pt x="345" y="9131"/>
                  </a:lnTo>
                  <a:lnTo>
                    <a:pt x="332" y="9098"/>
                  </a:lnTo>
                  <a:lnTo>
                    <a:pt x="325" y="8953"/>
                  </a:lnTo>
                  <a:lnTo>
                    <a:pt x="318" y="8808"/>
                  </a:lnTo>
                  <a:lnTo>
                    <a:pt x="311" y="8662"/>
                  </a:lnTo>
                  <a:lnTo>
                    <a:pt x="305" y="8516"/>
                  </a:lnTo>
                  <a:lnTo>
                    <a:pt x="299" y="8369"/>
                  </a:lnTo>
                  <a:lnTo>
                    <a:pt x="294" y="8220"/>
                  </a:lnTo>
                  <a:lnTo>
                    <a:pt x="288" y="8071"/>
                  </a:lnTo>
                  <a:lnTo>
                    <a:pt x="282" y="7922"/>
                  </a:lnTo>
                  <a:lnTo>
                    <a:pt x="277" y="7772"/>
                  </a:lnTo>
                  <a:lnTo>
                    <a:pt x="271" y="7621"/>
                  </a:lnTo>
                  <a:lnTo>
                    <a:pt x="267" y="7469"/>
                  </a:lnTo>
                  <a:lnTo>
                    <a:pt x="261" y="7316"/>
                  </a:lnTo>
                  <a:lnTo>
                    <a:pt x="256" y="7163"/>
                  </a:lnTo>
                  <a:lnTo>
                    <a:pt x="250" y="7008"/>
                  </a:lnTo>
                  <a:lnTo>
                    <a:pt x="244" y="6853"/>
                  </a:lnTo>
                  <a:lnTo>
                    <a:pt x="240" y="6697"/>
                  </a:lnTo>
                  <a:lnTo>
                    <a:pt x="258" y="6635"/>
                  </a:lnTo>
                  <a:lnTo>
                    <a:pt x="277" y="6574"/>
                  </a:lnTo>
                  <a:lnTo>
                    <a:pt x="295" y="6514"/>
                  </a:lnTo>
                  <a:lnTo>
                    <a:pt x="312" y="6452"/>
                  </a:lnTo>
                  <a:lnTo>
                    <a:pt x="327" y="6390"/>
                  </a:lnTo>
                  <a:lnTo>
                    <a:pt x="343" y="6328"/>
                  </a:lnTo>
                  <a:lnTo>
                    <a:pt x="357" y="6266"/>
                  </a:lnTo>
                  <a:lnTo>
                    <a:pt x="371" y="6202"/>
                  </a:lnTo>
                  <a:lnTo>
                    <a:pt x="384" y="6140"/>
                  </a:lnTo>
                  <a:lnTo>
                    <a:pt x="395" y="6077"/>
                  </a:lnTo>
                  <a:lnTo>
                    <a:pt x="407" y="6014"/>
                  </a:lnTo>
                  <a:lnTo>
                    <a:pt x="417" y="5952"/>
                  </a:lnTo>
                  <a:lnTo>
                    <a:pt x="437" y="5826"/>
                  </a:lnTo>
                  <a:lnTo>
                    <a:pt x="456" y="5698"/>
                  </a:lnTo>
                  <a:lnTo>
                    <a:pt x="472" y="5572"/>
                  </a:lnTo>
                  <a:lnTo>
                    <a:pt x="489" y="5444"/>
                  </a:lnTo>
                  <a:lnTo>
                    <a:pt x="503" y="5317"/>
                  </a:lnTo>
                  <a:lnTo>
                    <a:pt x="517" y="5189"/>
                  </a:lnTo>
                  <a:lnTo>
                    <a:pt x="531" y="5063"/>
                  </a:lnTo>
                  <a:lnTo>
                    <a:pt x="545" y="4936"/>
                  </a:lnTo>
                  <a:lnTo>
                    <a:pt x="559" y="4809"/>
                  </a:lnTo>
                  <a:lnTo>
                    <a:pt x="574" y="4682"/>
                  </a:lnTo>
                  <a:lnTo>
                    <a:pt x="577" y="4625"/>
                  </a:lnTo>
                  <a:lnTo>
                    <a:pt x="578" y="4565"/>
                  </a:lnTo>
                  <a:lnTo>
                    <a:pt x="577" y="4505"/>
                  </a:lnTo>
                  <a:lnTo>
                    <a:pt x="575" y="4446"/>
                  </a:lnTo>
                  <a:lnTo>
                    <a:pt x="574" y="4385"/>
                  </a:lnTo>
                  <a:lnTo>
                    <a:pt x="572" y="4323"/>
                  </a:lnTo>
                  <a:lnTo>
                    <a:pt x="571" y="4262"/>
                  </a:lnTo>
                  <a:lnTo>
                    <a:pt x="570" y="4200"/>
                  </a:lnTo>
                  <a:lnTo>
                    <a:pt x="570" y="4138"/>
                  </a:lnTo>
                  <a:lnTo>
                    <a:pt x="571" y="4076"/>
                  </a:lnTo>
                  <a:lnTo>
                    <a:pt x="573" y="4013"/>
                  </a:lnTo>
                  <a:lnTo>
                    <a:pt x="578" y="3951"/>
                  </a:lnTo>
                  <a:lnTo>
                    <a:pt x="581" y="3920"/>
                  </a:lnTo>
                  <a:lnTo>
                    <a:pt x="586" y="3889"/>
                  </a:lnTo>
                  <a:lnTo>
                    <a:pt x="591" y="3858"/>
                  </a:lnTo>
                  <a:lnTo>
                    <a:pt x="596" y="3827"/>
                  </a:lnTo>
                  <a:lnTo>
                    <a:pt x="602" y="3796"/>
                  </a:lnTo>
                  <a:lnTo>
                    <a:pt x="609" y="3766"/>
                  </a:lnTo>
                  <a:lnTo>
                    <a:pt x="617" y="3734"/>
                  </a:lnTo>
                  <a:lnTo>
                    <a:pt x="626" y="3704"/>
                  </a:lnTo>
                  <a:lnTo>
                    <a:pt x="639" y="3687"/>
                  </a:lnTo>
                  <a:lnTo>
                    <a:pt x="650" y="3671"/>
                  </a:lnTo>
                  <a:lnTo>
                    <a:pt x="664" y="3656"/>
                  </a:lnTo>
                  <a:lnTo>
                    <a:pt x="678" y="3643"/>
                  </a:lnTo>
                  <a:lnTo>
                    <a:pt x="693" y="3632"/>
                  </a:lnTo>
                  <a:lnTo>
                    <a:pt x="709" y="3620"/>
                  </a:lnTo>
                  <a:lnTo>
                    <a:pt x="725" y="3610"/>
                  </a:lnTo>
                  <a:lnTo>
                    <a:pt x="743" y="3601"/>
                  </a:lnTo>
                  <a:lnTo>
                    <a:pt x="760" y="3593"/>
                  </a:lnTo>
                  <a:lnTo>
                    <a:pt x="778" y="3586"/>
                  </a:lnTo>
                  <a:lnTo>
                    <a:pt x="796" y="3580"/>
                  </a:lnTo>
                  <a:lnTo>
                    <a:pt x="815" y="3574"/>
                  </a:lnTo>
                  <a:lnTo>
                    <a:pt x="854" y="3565"/>
                  </a:lnTo>
                  <a:lnTo>
                    <a:pt x="893" y="3557"/>
                  </a:lnTo>
                  <a:lnTo>
                    <a:pt x="975" y="3546"/>
                  </a:lnTo>
                  <a:lnTo>
                    <a:pt x="1056" y="3536"/>
                  </a:lnTo>
                  <a:lnTo>
                    <a:pt x="1095" y="3530"/>
                  </a:lnTo>
                  <a:lnTo>
                    <a:pt x="1133" y="3523"/>
                  </a:lnTo>
                  <a:lnTo>
                    <a:pt x="1151" y="3518"/>
                  </a:lnTo>
                  <a:lnTo>
                    <a:pt x="1169" y="3512"/>
                  </a:lnTo>
                  <a:lnTo>
                    <a:pt x="1186" y="3506"/>
                  </a:lnTo>
                  <a:lnTo>
                    <a:pt x="1203" y="3501"/>
                  </a:lnTo>
                  <a:lnTo>
                    <a:pt x="1250" y="3492"/>
                  </a:lnTo>
                  <a:lnTo>
                    <a:pt x="1298" y="3482"/>
                  </a:lnTo>
                  <a:lnTo>
                    <a:pt x="1344" y="3470"/>
                  </a:lnTo>
                  <a:lnTo>
                    <a:pt x="1389" y="3457"/>
                  </a:lnTo>
                  <a:lnTo>
                    <a:pt x="1434" y="3441"/>
                  </a:lnTo>
                  <a:lnTo>
                    <a:pt x="1478" y="3425"/>
                  </a:lnTo>
                  <a:lnTo>
                    <a:pt x="1523" y="3406"/>
                  </a:lnTo>
                  <a:lnTo>
                    <a:pt x="1566" y="3386"/>
                  </a:lnTo>
                  <a:lnTo>
                    <a:pt x="1608" y="3365"/>
                  </a:lnTo>
                  <a:lnTo>
                    <a:pt x="1650" y="3343"/>
                  </a:lnTo>
                  <a:lnTo>
                    <a:pt x="1692" y="3319"/>
                  </a:lnTo>
                  <a:lnTo>
                    <a:pt x="1733" y="3294"/>
                  </a:lnTo>
                  <a:lnTo>
                    <a:pt x="1774" y="3268"/>
                  </a:lnTo>
                  <a:lnTo>
                    <a:pt x="1814" y="3242"/>
                  </a:lnTo>
                  <a:lnTo>
                    <a:pt x="1855" y="3214"/>
                  </a:lnTo>
                  <a:lnTo>
                    <a:pt x="1894" y="3186"/>
                  </a:lnTo>
                  <a:lnTo>
                    <a:pt x="1900" y="3161"/>
                  </a:lnTo>
                  <a:lnTo>
                    <a:pt x="1904" y="3137"/>
                  </a:lnTo>
                  <a:lnTo>
                    <a:pt x="1906" y="3115"/>
                  </a:lnTo>
                  <a:lnTo>
                    <a:pt x="1906" y="3092"/>
                  </a:lnTo>
                  <a:lnTo>
                    <a:pt x="1905" y="3071"/>
                  </a:lnTo>
                  <a:lnTo>
                    <a:pt x="1902" y="3053"/>
                  </a:lnTo>
                  <a:lnTo>
                    <a:pt x="1897" y="3034"/>
                  </a:lnTo>
                  <a:lnTo>
                    <a:pt x="1890" y="3015"/>
                  </a:lnTo>
                  <a:lnTo>
                    <a:pt x="1883" y="2999"/>
                  </a:lnTo>
                  <a:lnTo>
                    <a:pt x="1873" y="2982"/>
                  </a:lnTo>
                  <a:lnTo>
                    <a:pt x="1864" y="2966"/>
                  </a:lnTo>
                  <a:lnTo>
                    <a:pt x="1852" y="2951"/>
                  </a:lnTo>
                  <a:lnTo>
                    <a:pt x="1841" y="2936"/>
                  </a:lnTo>
                  <a:lnTo>
                    <a:pt x="1828" y="2922"/>
                  </a:lnTo>
                  <a:lnTo>
                    <a:pt x="1815" y="2908"/>
                  </a:lnTo>
                  <a:lnTo>
                    <a:pt x="1801" y="2895"/>
                  </a:lnTo>
                  <a:lnTo>
                    <a:pt x="1740" y="2841"/>
                  </a:lnTo>
                  <a:lnTo>
                    <a:pt x="1679" y="2786"/>
                  </a:lnTo>
                  <a:lnTo>
                    <a:pt x="1664" y="2771"/>
                  </a:lnTo>
                  <a:lnTo>
                    <a:pt x="1650" y="2757"/>
                  </a:lnTo>
                  <a:lnTo>
                    <a:pt x="1636" y="2741"/>
                  </a:lnTo>
                  <a:lnTo>
                    <a:pt x="1623" y="2725"/>
                  </a:lnTo>
                  <a:lnTo>
                    <a:pt x="1610" y="2709"/>
                  </a:lnTo>
                  <a:lnTo>
                    <a:pt x="1600" y="2691"/>
                  </a:lnTo>
                  <a:lnTo>
                    <a:pt x="1589" y="2672"/>
                  </a:lnTo>
                  <a:lnTo>
                    <a:pt x="1580" y="2654"/>
                  </a:lnTo>
                  <a:lnTo>
                    <a:pt x="1538" y="2606"/>
                  </a:lnTo>
                  <a:lnTo>
                    <a:pt x="1498" y="2558"/>
                  </a:lnTo>
                  <a:lnTo>
                    <a:pt x="1459" y="2508"/>
                  </a:lnTo>
                  <a:lnTo>
                    <a:pt x="1423" y="2457"/>
                  </a:lnTo>
                  <a:lnTo>
                    <a:pt x="1389" y="2406"/>
                  </a:lnTo>
                  <a:lnTo>
                    <a:pt x="1357" y="2353"/>
                  </a:lnTo>
                  <a:lnTo>
                    <a:pt x="1326" y="2299"/>
                  </a:lnTo>
                  <a:lnTo>
                    <a:pt x="1297" y="2246"/>
                  </a:lnTo>
                  <a:lnTo>
                    <a:pt x="1270" y="2191"/>
                  </a:lnTo>
                  <a:lnTo>
                    <a:pt x="1245" y="2136"/>
                  </a:lnTo>
                  <a:lnTo>
                    <a:pt x="1222" y="2079"/>
                  </a:lnTo>
                  <a:lnTo>
                    <a:pt x="1201" y="2023"/>
                  </a:lnTo>
                  <a:lnTo>
                    <a:pt x="1181" y="1966"/>
                  </a:lnTo>
                  <a:lnTo>
                    <a:pt x="1164" y="1908"/>
                  </a:lnTo>
                  <a:lnTo>
                    <a:pt x="1148" y="1849"/>
                  </a:lnTo>
                  <a:lnTo>
                    <a:pt x="1134" y="1791"/>
                  </a:lnTo>
                  <a:lnTo>
                    <a:pt x="1121" y="1731"/>
                  </a:lnTo>
                  <a:lnTo>
                    <a:pt x="1112" y="1671"/>
                  </a:lnTo>
                  <a:lnTo>
                    <a:pt x="1104" y="1612"/>
                  </a:lnTo>
                  <a:lnTo>
                    <a:pt x="1097" y="1551"/>
                  </a:lnTo>
                  <a:lnTo>
                    <a:pt x="1092" y="1491"/>
                  </a:lnTo>
                  <a:lnTo>
                    <a:pt x="1090" y="1430"/>
                  </a:lnTo>
                  <a:lnTo>
                    <a:pt x="1089" y="1368"/>
                  </a:lnTo>
                  <a:lnTo>
                    <a:pt x="1090" y="1308"/>
                  </a:lnTo>
                  <a:lnTo>
                    <a:pt x="1093" y="1247"/>
                  </a:lnTo>
                  <a:lnTo>
                    <a:pt x="1098" y="1185"/>
                  </a:lnTo>
                  <a:lnTo>
                    <a:pt x="1104" y="1123"/>
                  </a:lnTo>
                  <a:lnTo>
                    <a:pt x="1112" y="1062"/>
                  </a:lnTo>
                  <a:lnTo>
                    <a:pt x="1123" y="1000"/>
                  </a:lnTo>
                  <a:lnTo>
                    <a:pt x="1136" y="939"/>
                  </a:lnTo>
                  <a:lnTo>
                    <a:pt x="1150" y="877"/>
                  </a:lnTo>
                  <a:lnTo>
                    <a:pt x="1165" y="816"/>
                  </a:lnTo>
                  <a:lnTo>
                    <a:pt x="1174" y="786"/>
                  </a:lnTo>
                  <a:lnTo>
                    <a:pt x="1185" y="755"/>
                  </a:lnTo>
                  <a:lnTo>
                    <a:pt x="1196" y="725"/>
                  </a:lnTo>
                  <a:lnTo>
                    <a:pt x="1209" y="693"/>
                  </a:lnTo>
                  <a:lnTo>
                    <a:pt x="1222" y="663"/>
                  </a:lnTo>
                  <a:lnTo>
                    <a:pt x="1236" y="633"/>
                  </a:lnTo>
                  <a:lnTo>
                    <a:pt x="1251" y="602"/>
                  </a:lnTo>
                  <a:lnTo>
                    <a:pt x="1268" y="572"/>
                  </a:lnTo>
                  <a:lnTo>
                    <a:pt x="1284" y="543"/>
                  </a:lnTo>
                  <a:lnTo>
                    <a:pt x="1302" y="512"/>
                  </a:lnTo>
                  <a:lnTo>
                    <a:pt x="1320" y="483"/>
                  </a:lnTo>
                  <a:lnTo>
                    <a:pt x="1340" y="454"/>
                  </a:lnTo>
                  <a:lnTo>
                    <a:pt x="1360" y="426"/>
                  </a:lnTo>
                  <a:lnTo>
                    <a:pt x="1381" y="398"/>
                  </a:lnTo>
                  <a:lnTo>
                    <a:pt x="1402" y="371"/>
                  </a:lnTo>
                  <a:lnTo>
                    <a:pt x="1424" y="344"/>
                  </a:lnTo>
                  <a:lnTo>
                    <a:pt x="1448" y="318"/>
                  </a:lnTo>
                  <a:lnTo>
                    <a:pt x="1471" y="293"/>
                  </a:lnTo>
                  <a:lnTo>
                    <a:pt x="1496" y="269"/>
                  </a:lnTo>
                  <a:lnTo>
                    <a:pt x="1521" y="245"/>
                  </a:lnTo>
                  <a:lnTo>
                    <a:pt x="1547" y="223"/>
                  </a:lnTo>
                  <a:lnTo>
                    <a:pt x="1574" y="202"/>
                  </a:lnTo>
                  <a:lnTo>
                    <a:pt x="1601" y="182"/>
                  </a:lnTo>
                  <a:lnTo>
                    <a:pt x="1629" y="162"/>
                  </a:lnTo>
                  <a:lnTo>
                    <a:pt x="1657" y="145"/>
                  </a:lnTo>
                  <a:lnTo>
                    <a:pt x="1686" y="129"/>
                  </a:lnTo>
                  <a:lnTo>
                    <a:pt x="1717" y="113"/>
                  </a:lnTo>
                  <a:lnTo>
                    <a:pt x="1747" y="99"/>
                  </a:lnTo>
                  <a:lnTo>
                    <a:pt x="1778" y="86"/>
                  </a:lnTo>
                  <a:lnTo>
                    <a:pt x="1809" y="76"/>
                  </a:lnTo>
                  <a:lnTo>
                    <a:pt x="1841" y="67"/>
                  </a:lnTo>
                  <a:lnTo>
                    <a:pt x="1873" y="60"/>
                  </a:lnTo>
                  <a:lnTo>
                    <a:pt x="1914" y="47"/>
                  </a:lnTo>
                  <a:lnTo>
                    <a:pt x="1955" y="35"/>
                  </a:lnTo>
                  <a:lnTo>
                    <a:pt x="1996" y="26"/>
                  </a:lnTo>
                  <a:lnTo>
                    <a:pt x="2038" y="17"/>
                  </a:lnTo>
                  <a:lnTo>
                    <a:pt x="2080" y="12"/>
                  </a:lnTo>
                  <a:lnTo>
                    <a:pt x="2123" y="6"/>
                  </a:lnTo>
                  <a:lnTo>
                    <a:pt x="2166" y="2"/>
                  </a:lnTo>
                  <a:lnTo>
                    <a:pt x="2208" y="1"/>
                  </a:lnTo>
                  <a:lnTo>
                    <a:pt x="2250" y="0"/>
                  </a:lnTo>
                  <a:lnTo>
                    <a:pt x="2292" y="1"/>
                  </a:lnTo>
                  <a:lnTo>
                    <a:pt x="2335" y="3"/>
                  </a:lnTo>
                  <a:lnTo>
                    <a:pt x="2376" y="8"/>
                  </a:lnTo>
                  <a:lnTo>
                    <a:pt x="2418" y="14"/>
                  </a:lnTo>
                  <a:lnTo>
                    <a:pt x="2459" y="21"/>
                  </a:lnTo>
                  <a:lnTo>
                    <a:pt x="2501" y="30"/>
                  </a:lnTo>
                  <a:lnTo>
                    <a:pt x="2541" y="41"/>
                  </a:lnTo>
                  <a:lnTo>
                    <a:pt x="2581" y="52"/>
                  </a:lnTo>
                  <a:lnTo>
                    <a:pt x="2621" y="67"/>
                  </a:lnTo>
                  <a:lnTo>
                    <a:pt x="2659" y="82"/>
                  </a:lnTo>
                  <a:lnTo>
                    <a:pt x="2698" y="98"/>
                  </a:lnTo>
                  <a:lnTo>
                    <a:pt x="2734" y="117"/>
                  </a:lnTo>
                  <a:lnTo>
                    <a:pt x="2770" y="137"/>
                  </a:lnTo>
                  <a:lnTo>
                    <a:pt x="2807" y="159"/>
                  </a:lnTo>
                  <a:lnTo>
                    <a:pt x="2841" y="182"/>
                  </a:lnTo>
                  <a:lnTo>
                    <a:pt x="2874" y="207"/>
                  </a:lnTo>
                  <a:lnTo>
                    <a:pt x="2906" y="234"/>
                  </a:lnTo>
                  <a:lnTo>
                    <a:pt x="2938" y="262"/>
                  </a:lnTo>
                  <a:lnTo>
                    <a:pt x="2967" y="292"/>
                  </a:lnTo>
                  <a:lnTo>
                    <a:pt x="2995" y="324"/>
                  </a:lnTo>
                  <a:lnTo>
                    <a:pt x="3022" y="357"/>
                  </a:lnTo>
                  <a:lnTo>
                    <a:pt x="3048" y="392"/>
                  </a:lnTo>
                  <a:lnTo>
                    <a:pt x="3072" y="42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79040" y="2173320"/>
              <a:ext cx="622800" cy="801720"/>
            </a:xfrm>
            <a:custGeom>
              <a:avLst/>
              <a:gdLst/>
              <a:ahLst/>
              <a:rect l="l" t="t" r="r" b="b"/>
              <a:pathLst>
                <a:path w="2089" h="3034">
                  <a:moveTo>
                    <a:pt x="1635" y="185"/>
                  </a:moveTo>
                  <a:lnTo>
                    <a:pt x="1660" y="206"/>
                  </a:lnTo>
                  <a:lnTo>
                    <a:pt x="1683" y="228"/>
                  </a:lnTo>
                  <a:lnTo>
                    <a:pt x="1704" y="250"/>
                  </a:lnTo>
                  <a:lnTo>
                    <a:pt x="1724" y="273"/>
                  </a:lnTo>
                  <a:lnTo>
                    <a:pt x="1743" y="298"/>
                  </a:lnTo>
                  <a:lnTo>
                    <a:pt x="1760" y="323"/>
                  </a:lnTo>
                  <a:lnTo>
                    <a:pt x="1778" y="347"/>
                  </a:lnTo>
                  <a:lnTo>
                    <a:pt x="1793" y="373"/>
                  </a:lnTo>
                  <a:lnTo>
                    <a:pt x="1807" y="400"/>
                  </a:lnTo>
                  <a:lnTo>
                    <a:pt x="1821" y="427"/>
                  </a:lnTo>
                  <a:lnTo>
                    <a:pt x="1834" y="454"/>
                  </a:lnTo>
                  <a:lnTo>
                    <a:pt x="1846" y="480"/>
                  </a:lnTo>
                  <a:lnTo>
                    <a:pt x="1869" y="537"/>
                  </a:lnTo>
                  <a:lnTo>
                    <a:pt x="1890" y="593"/>
                  </a:lnTo>
                  <a:lnTo>
                    <a:pt x="1911" y="650"/>
                  </a:lnTo>
                  <a:lnTo>
                    <a:pt x="1931" y="707"/>
                  </a:lnTo>
                  <a:lnTo>
                    <a:pt x="1952" y="765"/>
                  </a:lnTo>
                  <a:lnTo>
                    <a:pt x="1974" y="822"/>
                  </a:lnTo>
                  <a:lnTo>
                    <a:pt x="1985" y="850"/>
                  </a:lnTo>
                  <a:lnTo>
                    <a:pt x="1998" y="878"/>
                  </a:lnTo>
                  <a:lnTo>
                    <a:pt x="2010" y="906"/>
                  </a:lnTo>
                  <a:lnTo>
                    <a:pt x="2024" y="933"/>
                  </a:lnTo>
                  <a:lnTo>
                    <a:pt x="2038" y="960"/>
                  </a:lnTo>
                  <a:lnTo>
                    <a:pt x="2054" y="987"/>
                  </a:lnTo>
                  <a:lnTo>
                    <a:pt x="2070" y="1013"/>
                  </a:lnTo>
                  <a:lnTo>
                    <a:pt x="2088" y="1038"/>
                  </a:lnTo>
                  <a:lnTo>
                    <a:pt x="2089" y="1049"/>
                  </a:lnTo>
                  <a:lnTo>
                    <a:pt x="2089" y="1058"/>
                  </a:lnTo>
                  <a:lnTo>
                    <a:pt x="2088" y="1069"/>
                  </a:lnTo>
                  <a:lnTo>
                    <a:pt x="2086" y="1078"/>
                  </a:lnTo>
                  <a:lnTo>
                    <a:pt x="2083" y="1098"/>
                  </a:lnTo>
                  <a:lnTo>
                    <a:pt x="2077" y="1116"/>
                  </a:lnTo>
                  <a:lnTo>
                    <a:pt x="2070" y="1134"/>
                  </a:lnTo>
                  <a:lnTo>
                    <a:pt x="2063" y="1151"/>
                  </a:lnTo>
                  <a:lnTo>
                    <a:pt x="2054" y="1168"/>
                  </a:lnTo>
                  <a:lnTo>
                    <a:pt x="2044" y="1186"/>
                  </a:lnTo>
                  <a:lnTo>
                    <a:pt x="2036" y="1202"/>
                  </a:lnTo>
                  <a:lnTo>
                    <a:pt x="2027" y="1220"/>
                  </a:lnTo>
                  <a:lnTo>
                    <a:pt x="2019" y="1237"/>
                  </a:lnTo>
                  <a:lnTo>
                    <a:pt x="2013" y="1255"/>
                  </a:lnTo>
                  <a:lnTo>
                    <a:pt x="2007" y="1273"/>
                  </a:lnTo>
                  <a:lnTo>
                    <a:pt x="2003" y="1293"/>
                  </a:lnTo>
                  <a:lnTo>
                    <a:pt x="2001" y="1304"/>
                  </a:lnTo>
                  <a:lnTo>
                    <a:pt x="2001" y="1313"/>
                  </a:lnTo>
                  <a:lnTo>
                    <a:pt x="2001" y="1324"/>
                  </a:lnTo>
                  <a:lnTo>
                    <a:pt x="2002" y="1335"/>
                  </a:lnTo>
                  <a:lnTo>
                    <a:pt x="2010" y="1371"/>
                  </a:lnTo>
                  <a:lnTo>
                    <a:pt x="2019" y="1406"/>
                  </a:lnTo>
                  <a:lnTo>
                    <a:pt x="2022" y="1423"/>
                  </a:lnTo>
                  <a:lnTo>
                    <a:pt x="2023" y="1441"/>
                  </a:lnTo>
                  <a:lnTo>
                    <a:pt x="2024" y="1461"/>
                  </a:lnTo>
                  <a:lnTo>
                    <a:pt x="2022" y="1480"/>
                  </a:lnTo>
                  <a:lnTo>
                    <a:pt x="2016" y="1477"/>
                  </a:lnTo>
                  <a:lnTo>
                    <a:pt x="2010" y="1476"/>
                  </a:lnTo>
                  <a:lnTo>
                    <a:pt x="2005" y="1476"/>
                  </a:lnTo>
                  <a:lnTo>
                    <a:pt x="2001" y="1477"/>
                  </a:lnTo>
                  <a:lnTo>
                    <a:pt x="1996" y="1478"/>
                  </a:lnTo>
                  <a:lnTo>
                    <a:pt x="1994" y="1482"/>
                  </a:lnTo>
                  <a:lnTo>
                    <a:pt x="1991" y="1485"/>
                  </a:lnTo>
                  <a:lnTo>
                    <a:pt x="1988" y="1490"/>
                  </a:lnTo>
                  <a:lnTo>
                    <a:pt x="1984" y="1499"/>
                  </a:lnTo>
                  <a:lnTo>
                    <a:pt x="1979" y="1510"/>
                  </a:lnTo>
                  <a:lnTo>
                    <a:pt x="1976" y="1514"/>
                  </a:lnTo>
                  <a:lnTo>
                    <a:pt x="1974" y="1518"/>
                  </a:lnTo>
                  <a:lnTo>
                    <a:pt x="1971" y="1523"/>
                  </a:lnTo>
                  <a:lnTo>
                    <a:pt x="1967" y="1525"/>
                  </a:lnTo>
                  <a:lnTo>
                    <a:pt x="1995" y="1750"/>
                  </a:lnTo>
                  <a:lnTo>
                    <a:pt x="1987" y="1795"/>
                  </a:lnTo>
                  <a:lnTo>
                    <a:pt x="1978" y="1842"/>
                  </a:lnTo>
                  <a:lnTo>
                    <a:pt x="1972" y="1865"/>
                  </a:lnTo>
                  <a:lnTo>
                    <a:pt x="1965" y="1889"/>
                  </a:lnTo>
                  <a:lnTo>
                    <a:pt x="1957" y="1911"/>
                  </a:lnTo>
                  <a:lnTo>
                    <a:pt x="1947" y="1933"/>
                  </a:lnTo>
                  <a:lnTo>
                    <a:pt x="1937" y="1954"/>
                  </a:lnTo>
                  <a:lnTo>
                    <a:pt x="1924" y="1974"/>
                  </a:lnTo>
                  <a:lnTo>
                    <a:pt x="1917" y="1985"/>
                  </a:lnTo>
                  <a:lnTo>
                    <a:pt x="1910" y="1994"/>
                  </a:lnTo>
                  <a:lnTo>
                    <a:pt x="1902" y="2002"/>
                  </a:lnTo>
                  <a:lnTo>
                    <a:pt x="1892" y="2012"/>
                  </a:lnTo>
                  <a:lnTo>
                    <a:pt x="1884" y="2020"/>
                  </a:lnTo>
                  <a:lnTo>
                    <a:pt x="1874" y="2027"/>
                  </a:lnTo>
                  <a:lnTo>
                    <a:pt x="1863" y="2035"/>
                  </a:lnTo>
                  <a:lnTo>
                    <a:pt x="1853" y="2042"/>
                  </a:lnTo>
                  <a:lnTo>
                    <a:pt x="1841" y="2048"/>
                  </a:lnTo>
                  <a:lnTo>
                    <a:pt x="1828" y="2054"/>
                  </a:lnTo>
                  <a:lnTo>
                    <a:pt x="1815" y="2059"/>
                  </a:lnTo>
                  <a:lnTo>
                    <a:pt x="1801" y="2064"/>
                  </a:lnTo>
                  <a:lnTo>
                    <a:pt x="1802" y="2073"/>
                  </a:lnTo>
                  <a:lnTo>
                    <a:pt x="1801" y="2082"/>
                  </a:lnTo>
                  <a:lnTo>
                    <a:pt x="1800" y="2090"/>
                  </a:lnTo>
                  <a:lnTo>
                    <a:pt x="1796" y="2098"/>
                  </a:lnTo>
                  <a:lnTo>
                    <a:pt x="1789" y="2112"/>
                  </a:lnTo>
                  <a:lnTo>
                    <a:pt x="1779" y="2127"/>
                  </a:lnTo>
                  <a:lnTo>
                    <a:pt x="1768" y="2140"/>
                  </a:lnTo>
                  <a:lnTo>
                    <a:pt x="1757" y="2154"/>
                  </a:lnTo>
                  <a:lnTo>
                    <a:pt x="1747" y="2168"/>
                  </a:lnTo>
                  <a:lnTo>
                    <a:pt x="1739" y="2181"/>
                  </a:lnTo>
                  <a:lnTo>
                    <a:pt x="1746" y="2192"/>
                  </a:lnTo>
                  <a:lnTo>
                    <a:pt x="1753" y="2189"/>
                  </a:lnTo>
                  <a:lnTo>
                    <a:pt x="1759" y="2186"/>
                  </a:lnTo>
                  <a:lnTo>
                    <a:pt x="1764" y="2182"/>
                  </a:lnTo>
                  <a:lnTo>
                    <a:pt x="1769" y="2178"/>
                  </a:lnTo>
                  <a:lnTo>
                    <a:pt x="1778" y="2167"/>
                  </a:lnTo>
                  <a:lnTo>
                    <a:pt x="1786" y="2158"/>
                  </a:lnTo>
                  <a:lnTo>
                    <a:pt x="1791" y="2153"/>
                  </a:lnTo>
                  <a:lnTo>
                    <a:pt x="1794" y="2150"/>
                  </a:lnTo>
                  <a:lnTo>
                    <a:pt x="1799" y="2147"/>
                  </a:lnTo>
                  <a:lnTo>
                    <a:pt x="1803" y="2145"/>
                  </a:lnTo>
                  <a:lnTo>
                    <a:pt x="1809" y="2145"/>
                  </a:lnTo>
                  <a:lnTo>
                    <a:pt x="1815" y="2146"/>
                  </a:lnTo>
                  <a:lnTo>
                    <a:pt x="1822" y="2150"/>
                  </a:lnTo>
                  <a:lnTo>
                    <a:pt x="1829" y="2154"/>
                  </a:lnTo>
                  <a:lnTo>
                    <a:pt x="1838" y="2165"/>
                  </a:lnTo>
                  <a:lnTo>
                    <a:pt x="1846" y="2174"/>
                  </a:lnTo>
                  <a:lnTo>
                    <a:pt x="1850" y="2185"/>
                  </a:lnTo>
                  <a:lnTo>
                    <a:pt x="1854" y="2194"/>
                  </a:lnTo>
                  <a:lnTo>
                    <a:pt x="1856" y="2204"/>
                  </a:lnTo>
                  <a:lnTo>
                    <a:pt x="1857" y="2214"/>
                  </a:lnTo>
                  <a:lnTo>
                    <a:pt x="1856" y="2224"/>
                  </a:lnTo>
                  <a:lnTo>
                    <a:pt x="1855" y="2235"/>
                  </a:lnTo>
                  <a:lnTo>
                    <a:pt x="1842" y="2276"/>
                  </a:lnTo>
                  <a:lnTo>
                    <a:pt x="1829" y="2320"/>
                  </a:lnTo>
                  <a:lnTo>
                    <a:pt x="1799" y="2350"/>
                  </a:lnTo>
                  <a:lnTo>
                    <a:pt x="1769" y="2380"/>
                  </a:lnTo>
                  <a:lnTo>
                    <a:pt x="1740" y="2414"/>
                  </a:lnTo>
                  <a:lnTo>
                    <a:pt x="1712" y="2448"/>
                  </a:lnTo>
                  <a:lnTo>
                    <a:pt x="1683" y="2483"/>
                  </a:lnTo>
                  <a:lnTo>
                    <a:pt x="1655" y="2518"/>
                  </a:lnTo>
                  <a:lnTo>
                    <a:pt x="1626" y="2552"/>
                  </a:lnTo>
                  <a:lnTo>
                    <a:pt x="1596" y="2586"/>
                  </a:lnTo>
                  <a:lnTo>
                    <a:pt x="1581" y="2602"/>
                  </a:lnTo>
                  <a:lnTo>
                    <a:pt x="1565" y="2617"/>
                  </a:lnTo>
                  <a:lnTo>
                    <a:pt x="1550" y="2633"/>
                  </a:lnTo>
                  <a:lnTo>
                    <a:pt x="1533" y="2648"/>
                  </a:lnTo>
                  <a:lnTo>
                    <a:pt x="1516" y="2662"/>
                  </a:lnTo>
                  <a:lnTo>
                    <a:pt x="1499" y="2675"/>
                  </a:lnTo>
                  <a:lnTo>
                    <a:pt x="1482" y="2688"/>
                  </a:lnTo>
                  <a:lnTo>
                    <a:pt x="1463" y="2699"/>
                  </a:lnTo>
                  <a:lnTo>
                    <a:pt x="1444" y="2710"/>
                  </a:lnTo>
                  <a:lnTo>
                    <a:pt x="1425" y="2720"/>
                  </a:lnTo>
                  <a:lnTo>
                    <a:pt x="1405" y="2728"/>
                  </a:lnTo>
                  <a:lnTo>
                    <a:pt x="1384" y="2737"/>
                  </a:lnTo>
                  <a:lnTo>
                    <a:pt x="1363" y="2744"/>
                  </a:lnTo>
                  <a:lnTo>
                    <a:pt x="1340" y="2748"/>
                  </a:lnTo>
                  <a:lnTo>
                    <a:pt x="1317" y="2753"/>
                  </a:lnTo>
                  <a:lnTo>
                    <a:pt x="1294" y="2755"/>
                  </a:lnTo>
                  <a:lnTo>
                    <a:pt x="1131" y="2821"/>
                  </a:lnTo>
                  <a:lnTo>
                    <a:pt x="1139" y="2828"/>
                  </a:lnTo>
                  <a:lnTo>
                    <a:pt x="1147" y="2833"/>
                  </a:lnTo>
                  <a:lnTo>
                    <a:pt x="1156" y="2836"/>
                  </a:lnTo>
                  <a:lnTo>
                    <a:pt x="1165" y="2837"/>
                  </a:lnTo>
                  <a:lnTo>
                    <a:pt x="1182" y="2838"/>
                  </a:lnTo>
                  <a:lnTo>
                    <a:pt x="1201" y="2837"/>
                  </a:lnTo>
                  <a:lnTo>
                    <a:pt x="1209" y="2837"/>
                  </a:lnTo>
                  <a:lnTo>
                    <a:pt x="1219" y="2836"/>
                  </a:lnTo>
                  <a:lnTo>
                    <a:pt x="1228" y="2837"/>
                  </a:lnTo>
                  <a:lnTo>
                    <a:pt x="1237" y="2838"/>
                  </a:lnTo>
                  <a:lnTo>
                    <a:pt x="1247" y="2841"/>
                  </a:lnTo>
                  <a:lnTo>
                    <a:pt x="1255" y="2845"/>
                  </a:lnTo>
                  <a:lnTo>
                    <a:pt x="1264" y="2851"/>
                  </a:lnTo>
                  <a:lnTo>
                    <a:pt x="1272" y="2858"/>
                  </a:lnTo>
                  <a:lnTo>
                    <a:pt x="1284" y="2856"/>
                  </a:lnTo>
                  <a:lnTo>
                    <a:pt x="1295" y="2851"/>
                  </a:lnTo>
                  <a:lnTo>
                    <a:pt x="1305" y="2845"/>
                  </a:lnTo>
                  <a:lnTo>
                    <a:pt x="1316" y="2840"/>
                  </a:lnTo>
                  <a:lnTo>
                    <a:pt x="1336" y="2826"/>
                  </a:lnTo>
                  <a:lnTo>
                    <a:pt x="1356" y="2812"/>
                  </a:lnTo>
                  <a:lnTo>
                    <a:pt x="1365" y="2806"/>
                  </a:lnTo>
                  <a:lnTo>
                    <a:pt x="1375" y="2800"/>
                  </a:lnTo>
                  <a:lnTo>
                    <a:pt x="1385" y="2795"/>
                  </a:lnTo>
                  <a:lnTo>
                    <a:pt x="1395" y="2792"/>
                  </a:lnTo>
                  <a:lnTo>
                    <a:pt x="1406" y="2789"/>
                  </a:lnTo>
                  <a:lnTo>
                    <a:pt x="1416" y="2788"/>
                  </a:lnTo>
                  <a:lnTo>
                    <a:pt x="1427" y="2789"/>
                  </a:lnTo>
                  <a:lnTo>
                    <a:pt x="1439" y="2793"/>
                  </a:lnTo>
                  <a:lnTo>
                    <a:pt x="1447" y="2802"/>
                  </a:lnTo>
                  <a:lnTo>
                    <a:pt x="1455" y="2814"/>
                  </a:lnTo>
                  <a:lnTo>
                    <a:pt x="1464" y="2828"/>
                  </a:lnTo>
                  <a:lnTo>
                    <a:pt x="1472" y="2844"/>
                  </a:lnTo>
                  <a:lnTo>
                    <a:pt x="1475" y="2852"/>
                  </a:lnTo>
                  <a:lnTo>
                    <a:pt x="1477" y="2862"/>
                  </a:lnTo>
                  <a:lnTo>
                    <a:pt x="1478" y="2870"/>
                  </a:lnTo>
                  <a:lnTo>
                    <a:pt x="1477" y="2878"/>
                  </a:lnTo>
                  <a:lnTo>
                    <a:pt x="1476" y="2888"/>
                  </a:lnTo>
                  <a:lnTo>
                    <a:pt x="1472" y="2896"/>
                  </a:lnTo>
                  <a:lnTo>
                    <a:pt x="1467" y="2903"/>
                  </a:lnTo>
                  <a:lnTo>
                    <a:pt x="1460" y="2911"/>
                  </a:lnTo>
                  <a:lnTo>
                    <a:pt x="1450" y="2928"/>
                  </a:lnTo>
                  <a:lnTo>
                    <a:pt x="1441" y="2945"/>
                  </a:lnTo>
                  <a:lnTo>
                    <a:pt x="1430" y="2959"/>
                  </a:lnTo>
                  <a:lnTo>
                    <a:pt x="1420" y="2971"/>
                  </a:lnTo>
                  <a:lnTo>
                    <a:pt x="1408" y="2981"/>
                  </a:lnTo>
                  <a:lnTo>
                    <a:pt x="1396" y="2990"/>
                  </a:lnTo>
                  <a:lnTo>
                    <a:pt x="1385" y="2997"/>
                  </a:lnTo>
                  <a:lnTo>
                    <a:pt x="1372" y="3003"/>
                  </a:lnTo>
                  <a:lnTo>
                    <a:pt x="1359" y="3008"/>
                  </a:lnTo>
                  <a:lnTo>
                    <a:pt x="1346" y="3012"/>
                  </a:lnTo>
                  <a:lnTo>
                    <a:pt x="1332" y="3014"/>
                  </a:lnTo>
                  <a:lnTo>
                    <a:pt x="1318" y="3015"/>
                  </a:lnTo>
                  <a:lnTo>
                    <a:pt x="1304" y="3015"/>
                  </a:lnTo>
                  <a:lnTo>
                    <a:pt x="1290" y="3014"/>
                  </a:lnTo>
                  <a:lnTo>
                    <a:pt x="1276" y="3013"/>
                  </a:lnTo>
                  <a:lnTo>
                    <a:pt x="1262" y="3010"/>
                  </a:lnTo>
                  <a:lnTo>
                    <a:pt x="1202" y="2999"/>
                  </a:lnTo>
                  <a:lnTo>
                    <a:pt x="1145" y="2985"/>
                  </a:lnTo>
                  <a:lnTo>
                    <a:pt x="1116" y="2979"/>
                  </a:lnTo>
                  <a:lnTo>
                    <a:pt x="1089" y="2975"/>
                  </a:lnTo>
                  <a:lnTo>
                    <a:pt x="1076" y="2974"/>
                  </a:lnTo>
                  <a:lnTo>
                    <a:pt x="1062" y="2974"/>
                  </a:lnTo>
                  <a:lnTo>
                    <a:pt x="1050" y="2974"/>
                  </a:lnTo>
                  <a:lnTo>
                    <a:pt x="1037" y="2976"/>
                  </a:lnTo>
                  <a:lnTo>
                    <a:pt x="1029" y="2974"/>
                  </a:lnTo>
                  <a:lnTo>
                    <a:pt x="1022" y="2974"/>
                  </a:lnTo>
                  <a:lnTo>
                    <a:pt x="1014" y="2974"/>
                  </a:lnTo>
                  <a:lnTo>
                    <a:pt x="1006" y="2975"/>
                  </a:lnTo>
                  <a:lnTo>
                    <a:pt x="991" y="2979"/>
                  </a:lnTo>
                  <a:lnTo>
                    <a:pt x="975" y="2985"/>
                  </a:lnTo>
                  <a:lnTo>
                    <a:pt x="945" y="3001"/>
                  </a:lnTo>
                  <a:lnTo>
                    <a:pt x="917" y="3017"/>
                  </a:lnTo>
                  <a:lnTo>
                    <a:pt x="903" y="3024"/>
                  </a:lnTo>
                  <a:lnTo>
                    <a:pt x="890" y="3030"/>
                  </a:lnTo>
                  <a:lnTo>
                    <a:pt x="883" y="3033"/>
                  </a:lnTo>
                  <a:lnTo>
                    <a:pt x="876" y="3033"/>
                  </a:lnTo>
                  <a:lnTo>
                    <a:pt x="870" y="3034"/>
                  </a:lnTo>
                  <a:lnTo>
                    <a:pt x="864" y="3033"/>
                  </a:lnTo>
                  <a:lnTo>
                    <a:pt x="857" y="3031"/>
                  </a:lnTo>
                  <a:lnTo>
                    <a:pt x="851" y="3029"/>
                  </a:lnTo>
                  <a:lnTo>
                    <a:pt x="846" y="3024"/>
                  </a:lnTo>
                  <a:lnTo>
                    <a:pt x="840" y="3020"/>
                  </a:lnTo>
                  <a:lnTo>
                    <a:pt x="834" y="3014"/>
                  </a:lnTo>
                  <a:lnTo>
                    <a:pt x="828" y="3007"/>
                  </a:lnTo>
                  <a:lnTo>
                    <a:pt x="822" y="2997"/>
                  </a:lnTo>
                  <a:lnTo>
                    <a:pt x="816" y="2987"/>
                  </a:lnTo>
                  <a:lnTo>
                    <a:pt x="816" y="2978"/>
                  </a:lnTo>
                  <a:lnTo>
                    <a:pt x="816" y="2967"/>
                  </a:lnTo>
                  <a:lnTo>
                    <a:pt x="818" y="2958"/>
                  </a:lnTo>
                  <a:lnTo>
                    <a:pt x="819" y="2950"/>
                  </a:lnTo>
                  <a:lnTo>
                    <a:pt x="823" y="2931"/>
                  </a:lnTo>
                  <a:lnTo>
                    <a:pt x="829" y="2913"/>
                  </a:lnTo>
                  <a:lnTo>
                    <a:pt x="836" y="2897"/>
                  </a:lnTo>
                  <a:lnTo>
                    <a:pt x="844" y="2881"/>
                  </a:lnTo>
                  <a:lnTo>
                    <a:pt x="853" y="2864"/>
                  </a:lnTo>
                  <a:lnTo>
                    <a:pt x="862" y="2849"/>
                  </a:lnTo>
                  <a:lnTo>
                    <a:pt x="874" y="2847"/>
                  </a:lnTo>
                  <a:lnTo>
                    <a:pt x="887" y="2843"/>
                  </a:lnTo>
                  <a:lnTo>
                    <a:pt x="898" y="2838"/>
                  </a:lnTo>
                  <a:lnTo>
                    <a:pt x="910" y="2833"/>
                  </a:lnTo>
                  <a:lnTo>
                    <a:pt x="932" y="2819"/>
                  </a:lnTo>
                  <a:lnTo>
                    <a:pt x="954" y="2803"/>
                  </a:lnTo>
                  <a:lnTo>
                    <a:pt x="926" y="2793"/>
                  </a:lnTo>
                  <a:lnTo>
                    <a:pt x="897" y="2783"/>
                  </a:lnTo>
                  <a:lnTo>
                    <a:pt x="868" y="2774"/>
                  </a:lnTo>
                  <a:lnTo>
                    <a:pt x="839" y="2766"/>
                  </a:lnTo>
                  <a:lnTo>
                    <a:pt x="809" y="2757"/>
                  </a:lnTo>
                  <a:lnTo>
                    <a:pt x="781" y="2748"/>
                  </a:lnTo>
                  <a:lnTo>
                    <a:pt x="753" y="2739"/>
                  </a:lnTo>
                  <a:lnTo>
                    <a:pt x="725" y="2728"/>
                  </a:lnTo>
                  <a:lnTo>
                    <a:pt x="698" y="2717"/>
                  </a:lnTo>
                  <a:lnTo>
                    <a:pt x="673" y="2704"/>
                  </a:lnTo>
                  <a:lnTo>
                    <a:pt x="660" y="2697"/>
                  </a:lnTo>
                  <a:lnTo>
                    <a:pt x="648" y="2689"/>
                  </a:lnTo>
                  <a:lnTo>
                    <a:pt x="636" y="2681"/>
                  </a:lnTo>
                  <a:lnTo>
                    <a:pt x="625" y="2671"/>
                  </a:lnTo>
                  <a:lnTo>
                    <a:pt x="613" y="2661"/>
                  </a:lnTo>
                  <a:lnTo>
                    <a:pt x="602" y="2650"/>
                  </a:lnTo>
                  <a:lnTo>
                    <a:pt x="592" y="2640"/>
                  </a:lnTo>
                  <a:lnTo>
                    <a:pt x="583" y="2627"/>
                  </a:lnTo>
                  <a:lnTo>
                    <a:pt x="573" y="2614"/>
                  </a:lnTo>
                  <a:lnTo>
                    <a:pt x="564" y="2600"/>
                  </a:lnTo>
                  <a:lnTo>
                    <a:pt x="556" y="2585"/>
                  </a:lnTo>
                  <a:lnTo>
                    <a:pt x="547" y="2568"/>
                  </a:lnTo>
                  <a:lnTo>
                    <a:pt x="535" y="2561"/>
                  </a:lnTo>
                  <a:lnTo>
                    <a:pt x="522" y="2553"/>
                  </a:lnTo>
                  <a:lnTo>
                    <a:pt x="510" y="2544"/>
                  </a:lnTo>
                  <a:lnTo>
                    <a:pt x="497" y="2534"/>
                  </a:lnTo>
                  <a:lnTo>
                    <a:pt x="487" y="2523"/>
                  </a:lnTo>
                  <a:lnTo>
                    <a:pt x="475" y="2512"/>
                  </a:lnTo>
                  <a:lnTo>
                    <a:pt x="466" y="2499"/>
                  </a:lnTo>
                  <a:lnTo>
                    <a:pt x="456" y="2486"/>
                  </a:lnTo>
                  <a:lnTo>
                    <a:pt x="447" y="2474"/>
                  </a:lnTo>
                  <a:lnTo>
                    <a:pt x="440" y="2459"/>
                  </a:lnTo>
                  <a:lnTo>
                    <a:pt x="433" y="2447"/>
                  </a:lnTo>
                  <a:lnTo>
                    <a:pt x="427" y="2433"/>
                  </a:lnTo>
                  <a:lnTo>
                    <a:pt x="422" y="2419"/>
                  </a:lnTo>
                  <a:lnTo>
                    <a:pt x="419" y="2406"/>
                  </a:lnTo>
                  <a:lnTo>
                    <a:pt x="416" y="2392"/>
                  </a:lnTo>
                  <a:lnTo>
                    <a:pt x="416" y="2379"/>
                  </a:lnTo>
                  <a:lnTo>
                    <a:pt x="464" y="2383"/>
                  </a:lnTo>
                  <a:lnTo>
                    <a:pt x="512" y="2388"/>
                  </a:lnTo>
                  <a:lnTo>
                    <a:pt x="559" y="2394"/>
                  </a:lnTo>
                  <a:lnTo>
                    <a:pt x="606" y="2400"/>
                  </a:lnTo>
                  <a:lnTo>
                    <a:pt x="629" y="2404"/>
                  </a:lnTo>
                  <a:lnTo>
                    <a:pt x="652" y="2409"/>
                  </a:lnTo>
                  <a:lnTo>
                    <a:pt x="675" y="2415"/>
                  </a:lnTo>
                  <a:lnTo>
                    <a:pt x="696" y="2421"/>
                  </a:lnTo>
                  <a:lnTo>
                    <a:pt x="718" y="2429"/>
                  </a:lnTo>
                  <a:lnTo>
                    <a:pt x="738" y="2437"/>
                  </a:lnTo>
                  <a:lnTo>
                    <a:pt x="759" y="2447"/>
                  </a:lnTo>
                  <a:lnTo>
                    <a:pt x="779" y="2458"/>
                  </a:lnTo>
                  <a:lnTo>
                    <a:pt x="786" y="2450"/>
                  </a:lnTo>
                  <a:lnTo>
                    <a:pt x="792" y="2442"/>
                  </a:lnTo>
                  <a:lnTo>
                    <a:pt x="795" y="2435"/>
                  </a:lnTo>
                  <a:lnTo>
                    <a:pt x="797" y="2427"/>
                  </a:lnTo>
                  <a:lnTo>
                    <a:pt x="797" y="2419"/>
                  </a:lnTo>
                  <a:lnTo>
                    <a:pt x="795" y="2410"/>
                  </a:lnTo>
                  <a:lnTo>
                    <a:pt x="793" y="2402"/>
                  </a:lnTo>
                  <a:lnTo>
                    <a:pt x="791" y="2394"/>
                  </a:lnTo>
                  <a:lnTo>
                    <a:pt x="784" y="2376"/>
                  </a:lnTo>
                  <a:lnTo>
                    <a:pt x="778" y="2359"/>
                  </a:lnTo>
                  <a:lnTo>
                    <a:pt x="777" y="2350"/>
                  </a:lnTo>
                  <a:lnTo>
                    <a:pt x="775" y="2340"/>
                  </a:lnTo>
                  <a:lnTo>
                    <a:pt x="777" y="2330"/>
                  </a:lnTo>
                  <a:lnTo>
                    <a:pt x="779" y="2320"/>
                  </a:lnTo>
                  <a:lnTo>
                    <a:pt x="794" y="2313"/>
                  </a:lnTo>
                  <a:lnTo>
                    <a:pt x="807" y="2309"/>
                  </a:lnTo>
                  <a:lnTo>
                    <a:pt x="820" y="2307"/>
                  </a:lnTo>
                  <a:lnTo>
                    <a:pt x="833" y="2307"/>
                  </a:lnTo>
                  <a:lnTo>
                    <a:pt x="843" y="2310"/>
                  </a:lnTo>
                  <a:lnTo>
                    <a:pt x="855" y="2314"/>
                  </a:lnTo>
                  <a:lnTo>
                    <a:pt x="864" y="2320"/>
                  </a:lnTo>
                  <a:lnTo>
                    <a:pt x="875" y="2328"/>
                  </a:lnTo>
                  <a:lnTo>
                    <a:pt x="894" y="2346"/>
                  </a:lnTo>
                  <a:lnTo>
                    <a:pt x="912" y="2366"/>
                  </a:lnTo>
                  <a:lnTo>
                    <a:pt x="923" y="2376"/>
                  </a:lnTo>
                  <a:lnTo>
                    <a:pt x="933" y="2387"/>
                  </a:lnTo>
                  <a:lnTo>
                    <a:pt x="944" y="2396"/>
                  </a:lnTo>
                  <a:lnTo>
                    <a:pt x="954" y="2406"/>
                  </a:lnTo>
                  <a:lnTo>
                    <a:pt x="963" y="2401"/>
                  </a:lnTo>
                  <a:lnTo>
                    <a:pt x="970" y="2395"/>
                  </a:lnTo>
                  <a:lnTo>
                    <a:pt x="977" y="2388"/>
                  </a:lnTo>
                  <a:lnTo>
                    <a:pt x="981" y="2380"/>
                  </a:lnTo>
                  <a:lnTo>
                    <a:pt x="992" y="2362"/>
                  </a:lnTo>
                  <a:lnTo>
                    <a:pt x="1002" y="2346"/>
                  </a:lnTo>
                  <a:lnTo>
                    <a:pt x="1008" y="2339"/>
                  </a:lnTo>
                  <a:lnTo>
                    <a:pt x="1013" y="2333"/>
                  </a:lnTo>
                  <a:lnTo>
                    <a:pt x="1020" y="2328"/>
                  </a:lnTo>
                  <a:lnTo>
                    <a:pt x="1027" y="2326"/>
                  </a:lnTo>
                  <a:lnTo>
                    <a:pt x="1030" y="2326"/>
                  </a:lnTo>
                  <a:lnTo>
                    <a:pt x="1035" y="2326"/>
                  </a:lnTo>
                  <a:lnTo>
                    <a:pt x="1039" y="2326"/>
                  </a:lnTo>
                  <a:lnTo>
                    <a:pt x="1043" y="2327"/>
                  </a:lnTo>
                  <a:lnTo>
                    <a:pt x="1054" y="2333"/>
                  </a:lnTo>
                  <a:lnTo>
                    <a:pt x="1065" y="2340"/>
                  </a:lnTo>
                  <a:lnTo>
                    <a:pt x="1089" y="2357"/>
                  </a:lnTo>
                  <a:lnTo>
                    <a:pt x="1111" y="2375"/>
                  </a:lnTo>
                  <a:lnTo>
                    <a:pt x="1123" y="2383"/>
                  </a:lnTo>
                  <a:lnTo>
                    <a:pt x="1136" y="2389"/>
                  </a:lnTo>
                  <a:lnTo>
                    <a:pt x="1142" y="2393"/>
                  </a:lnTo>
                  <a:lnTo>
                    <a:pt x="1149" y="2394"/>
                  </a:lnTo>
                  <a:lnTo>
                    <a:pt x="1156" y="2395"/>
                  </a:lnTo>
                  <a:lnTo>
                    <a:pt x="1163" y="2396"/>
                  </a:lnTo>
                  <a:lnTo>
                    <a:pt x="1173" y="2382"/>
                  </a:lnTo>
                  <a:lnTo>
                    <a:pt x="1184" y="2365"/>
                  </a:lnTo>
                  <a:lnTo>
                    <a:pt x="1194" y="2347"/>
                  </a:lnTo>
                  <a:lnTo>
                    <a:pt x="1205" y="2330"/>
                  </a:lnTo>
                  <a:lnTo>
                    <a:pt x="1211" y="2323"/>
                  </a:lnTo>
                  <a:lnTo>
                    <a:pt x="1216" y="2316"/>
                  </a:lnTo>
                  <a:lnTo>
                    <a:pt x="1222" y="2311"/>
                  </a:lnTo>
                  <a:lnTo>
                    <a:pt x="1228" y="2307"/>
                  </a:lnTo>
                  <a:lnTo>
                    <a:pt x="1234" y="2305"/>
                  </a:lnTo>
                  <a:lnTo>
                    <a:pt x="1241" y="2305"/>
                  </a:lnTo>
                  <a:lnTo>
                    <a:pt x="1248" y="2307"/>
                  </a:lnTo>
                  <a:lnTo>
                    <a:pt x="1255" y="2313"/>
                  </a:lnTo>
                  <a:lnTo>
                    <a:pt x="1301" y="2358"/>
                  </a:lnTo>
                  <a:lnTo>
                    <a:pt x="1322" y="2337"/>
                  </a:lnTo>
                  <a:lnTo>
                    <a:pt x="1339" y="2320"/>
                  </a:lnTo>
                  <a:lnTo>
                    <a:pt x="1344" y="2318"/>
                  </a:lnTo>
                  <a:lnTo>
                    <a:pt x="1348" y="2317"/>
                  </a:lnTo>
                  <a:lnTo>
                    <a:pt x="1353" y="2316"/>
                  </a:lnTo>
                  <a:lnTo>
                    <a:pt x="1359" y="2316"/>
                  </a:lnTo>
                  <a:lnTo>
                    <a:pt x="1365" y="2318"/>
                  </a:lnTo>
                  <a:lnTo>
                    <a:pt x="1372" y="2320"/>
                  </a:lnTo>
                  <a:lnTo>
                    <a:pt x="1379" y="2325"/>
                  </a:lnTo>
                  <a:lnTo>
                    <a:pt x="1387" y="2330"/>
                  </a:lnTo>
                  <a:lnTo>
                    <a:pt x="1387" y="2458"/>
                  </a:lnTo>
                  <a:lnTo>
                    <a:pt x="1399" y="2457"/>
                  </a:lnTo>
                  <a:lnTo>
                    <a:pt x="1412" y="2455"/>
                  </a:lnTo>
                  <a:lnTo>
                    <a:pt x="1422" y="2450"/>
                  </a:lnTo>
                  <a:lnTo>
                    <a:pt x="1434" y="2444"/>
                  </a:lnTo>
                  <a:lnTo>
                    <a:pt x="1444" y="2437"/>
                  </a:lnTo>
                  <a:lnTo>
                    <a:pt x="1454" y="2429"/>
                  </a:lnTo>
                  <a:lnTo>
                    <a:pt x="1463" y="2420"/>
                  </a:lnTo>
                  <a:lnTo>
                    <a:pt x="1471" y="2409"/>
                  </a:lnTo>
                  <a:lnTo>
                    <a:pt x="1488" y="2388"/>
                  </a:lnTo>
                  <a:lnTo>
                    <a:pt x="1502" y="2365"/>
                  </a:lnTo>
                  <a:lnTo>
                    <a:pt x="1513" y="2341"/>
                  </a:lnTo>
                  <a:lnTo>
                    <a:pt x="1525" y="2320"/>
                  </a:lnTo>
                  <a:lnTo>
                    <a:pt x="1515" y="2317"/>
                  </a:lnTo>
                  <a:lnTo>
                    <a:pt x="1504" y="2312"/>
                  </a:lnTo>
                  <a:lnTo>
                    <a:pt x="1497" y="2307"/>
                  </a:lnTo>
                  <a:lnTo>
                    <a:pt x="1490" y="2300"/>
                  </a:lnTo>
                  <a:lnTo>
                    <a:pt x="1484" y="2295"/>
                  </a:lnTo>
                  <a:lnTo>
                    <a:pt x="1479" y="2286"/>
                  </a:lnTo>
                  <a:lnTo>
                    <a:pt x="1476" y="2279"/>
                  </a:lnTo>
                  <a:lnTo>
                    <a:pt x="1472" y="2270"/>
                  </a:lnTo>
                  <a:lnTo>
                    <a:pt x="1469" y="2252"/>
                  </a:lnTo>
                  <a:lnTo>
                    <a:pt x="1467" y="2233"/>
                  </a:lnTo>
                  <a:lnTo>
                    <a:pt x="1467" y="2213"/>
                  </a:lnTo>
                  <a:lnTo>
                    <a:pt x="1467" y="2192"/>
                  </a:lnTo>
                  <a:lnTo>
                    <a:pt x="1465" y="2172"/>
                  </a:lnTo>
                  <a:lnTo>
                    <a:pt x="1463" y="2152"/>
                  </a:lnTo>
                  <a:lnTo>
                    <a:pt x="1462" y="2142"/>
                  </a:lnTo>
                  <a:lnTo>
                    <a:pt x="1460" y="2133"/>
                  </a:lnTo>
                  <a:lnTo>
                    <a:pt x="1456" y="2125"/>
                  </a:lnTo>
                  <a:lnTo>
                    <a:pt x="1453" y="2117"/>
                  </a:lnTo>
                  <a:lnTo>
                    <a:pt x="1447" y="2110"/>
                  </a:lnTo>
                  <a:lnTo>
                    <a:pt x="1441" y="2104"/>
                  </a:lnTo>
                  <a:lnTo>
                    <a:pt x="1434" y="2098"/>
                  </a:lnTo>
                  <a:lnTo>
                    <a:pt x="1426" y="2092"/>
                  </a:lnTo>
                  <a:lnTo>
                    <a:pt x="1415" y="2089"/>
                  </a:lnTo>
                  <a:lnTo>
                    <a:pt x="1403" y="2085"/>
                  </a:lnTo>
                  <a:lnTo>
                    <a:pt x="1391" y="2083"/>
                  </a:lnTo>
                  <a:lnTo>
                    <a:pt x="1377" y="2082"/>
                  </a:lnTo>
                  <a:lnTo>
                    <a:pt x="1255" y="2248"/>
                  </a:lnTo>
                  <a:lnTo>
                    <a:pt x="1248" y="2247"/>
                  </a:lnTo>
                  <a:lnTo>
                    <a:pt x="1241" y="2245"/>
                  </a:lnTo>
                  <a:lnTo>
                    <a:pt x="1234" y="2242"/>
                  </a:lnTo>
                  <a:lnTo>
                    <a:pt x="1228" y="2238"/>
                  </a:lnTo>
                  <a:lnTo>
                    <a:pt x="1215" y="2228"/>
                  </a:lnTo>
                  <a:lnTo>
                    <a:pt x="1203" y="2216"/>
                  </a:lnTo>
                  <a:lnTo>
                    <a:pt x="1199" y="2210"/>
                  </a:lnTo>
                  <a:lnTo>
                    <a:pt x="1193" y="2206"/>
                  </a:lnTo>
                  <a:lnTo>
                    <a:pt x="1187" y="2201"/>
                  </a:lnTo>
                  <a:lnTo>
                    <a:pt x="1181" y="2199"/>
                  </a:lnTo>
                  <a:lnTo>
                    <a:pt x="1175" y="2196"/>
                  </a:lnTo>
                  <a:lnTo>
                    <a:pt x="1168" y="2196"/>
                  </a:lnTo>
                  <a:lnTo>
                    <a:pt x="1163" y="2199"/>
                  </a:lnTo>
                  <a:lnTo>
                    <a:pt x="1156" y="2202"/>
                  </a:lnTo>
                  <a:lnTo>
                    <a:pt x="1151" y="2204"/>
                  </a:lnTo>
                  <a:lnTo>
                    <a:pt x="1146" y="2208"/>
                  </a:lnTo>
                  <a:lnTo>
                    <a:pt x="1143" y="2210"/>
                  </a:lnTo>
                  <a:lnTo>
                    <a:pt x="1140" y="2214"/>
                  </a:lnTo>
                  <a:lnTo>
                    <a:pt x="1137" y="2222"/>
                  </a:lnTo>
                  <a:lnTo>
                    <a:pt x="1133" y="2231"/>
                  </a:lnTo>
                  <a:lnTo>
                    <a:pt x="1130" y="2240"/>
                  </a:lnTo>
                  <a:lnTo>
                    <a:pt x="1126" y="2247"/>
                  </a:lnTo>
                  <a:lnTo>
                    <a:pt x="1124" y="2249"/>
                  </a:lnTo>
                  <a:lnTo>
                    <a:pt x="1122" y="2251"/>
                  </a:lnTo>
                  <a:lnTo>
                    <a:pt x="1118" y="2254"/>
                  </a:lnTo>
                  <a:lnTo>
                    <a:pt x="1113" y="2255"/>
                  </a:lnTo>
                  <a:lnTo>
                    <a:pt x="1011" y="2202"/>
                  </a:lnTo>
                  <a:lnTo>
                    <a:pt x="954" y="2275"/>
                  </a:lnTo>
                  <a:lnTo>
                    <a:pt x="945" y="2271"/>
                  </a:lnTo>
                  <a:lnTo>
                    <a:pt x="936" y="2268"/>
                  </a:lnTo>
                  <a:lnTo>
                    <a:pt x="926" y="2262"/>
                  </a:lnTo>
                  <a:lnTo>
                    <a:pt x="917" y="2256"/>
                  </a:lnTo>
                  <a:lnTo>
                    <a:pt x="901" y="2242"/>
                  </a:lnTo>
                  <a:lnTo>
                    <a:pt x="884" y="2226"/>
                  </a:lnTo>
                  <a:lnTo>
                    <a:pt x="853" y="2190"/>
                  </a:lnTo>
                  <a:lnTo>
                    <a:pt x="821" y="2155"/>
                  </a:lnTo>
                  <a:lnTo>
                    <a:pt x="805" y="2140"/>
                  </a:lnTo>
                  <a:lnTo>
                    <a:pt x="787" y="2126"/>
                  </a:lnTo>
                  <a:lnTo>
                    <a:pt x="779" y="2120"/>
                  </a:lnTo>
                  <a:lnTo>
                    <a:pt x="770" y="2116"/>
                  </a:lnTo>
                  <a:lnTo>
                    <a:pt x="760" y="2112"/>
                  </a:lnTo>
                  <a:lnTo>
                    <a:pt x="751" y="2109"/>
                  </a:lnTo>
                  <a:lnTo>
                    <a:pt x="740" y="2106"/>
                  </a:lnTo>
                  <a:lnTo>
                    <a:pt x="730" y="2106"/>
                  </a:lnTo>
                  <a:lnTo>
                    <a:pt x="719" y="2106"/>
                  </a:lnTo>
                  <a:lnTo>
                    <a:pt x="708" y="2109"/>
                  </a:lnTo>
                  <a:lnTo>
                    <a:pt x="696" y="2111"/>
                  </a:lnTo>
                  <a:lnTo>
                    <a:pt x="684" y="2116"/>
                  </a:lnTo>
                  <a:lnTo>
                    <a:pt x="671" y="2121"/>
                  </a:lnTo>
                  <a:lnTo>
                    <a:pt x="657" y="2130"/>
                  </a:lnTo>
                  <a:lnTo>
                    <a:pt x="667" y="2142"/>
                  </a:lnTo>
                  <a:lnTo>
                    <a:pt x="673" y="2155"/>
                  </a:lnTo>
                  <a:lnTo>
                    <a:pt x="676" y="2168"/>
                  </a:lnTo>
                  <a:lnTo>
                    <a:pt x="677" y="2181"/>
                  </a:lnTo>
                  <a:lnTo>
                    <a:pt x="677" y="2193"/>
                  </a:lnTo>
                  <a:lnTo>
                    <a:pt x="676" y="2206"/>
                  </a:lnTo>
                  <a:lnTo>
                    <a:pt x="674" y="2217"/>
                  </a:lnTo>
                  <a:lnTo>
                    <a:pt x="670" y="2230"/>
                  </a:lnTo>
                  <a:lnTo>
                    <a:pt x="661" y="2255"/>
                  </a:lnTo>
                  <a:lnTo>
                    <a:pt x="652" y="2279"/>
                  </a:lnTo>
                  <a:lnTo>
                    <a:pt x="648" y="2292"/>
                  </a:lnTo>
                  <a:lnTo>
                    <a:pt x="644" y="2305"/>
                  </a:lnTo>
                  <a:lnTo>
                    <a:pt x="642" y="2317"/>
                  </a:lnTo>
                  <a:lnTo>
                    <a:pt x="641" y="2330"/>
                  </a:lnTo>
                  <a:lnTo>
                    <a:pt x="621" y="2339"/>
                  </a:lnTo>
                  <a:lnTo>
                    <a:pt x="602" y="2346"/>
                  </a:lnTo>
                  <a:lnTo>
                    <a:pt x="586" y="2351"/>
                  </a:lnTo>
                  <a:lnTo>
                    <a:pt x="568" y="2353"/>
                  </a:lnTo>
                  <a:lnTo>
                    <a:pt x="553" y="2353"/>
                  </a:lnTo>
                  <a:lnTo>
                    <a:pt x="538" y="2351"/>
                  </a:lnTo>
                  <a:lnTo>
                    <a:pt x="523" y="2347"/>
                  </a:lnTo>
                  <a:lnTo>
                    <a:pt x="510" y="2343"/>
                  </a:lnTo>
                  <a:lnTo>
                    <a:pt x="496" y="2335"/>
                  </a:lnTo>
                  <a:lnTo>
                    <a:pt x="483" y="2327"/>
                  </a:lnTo>
                  <a:lnTo>
                    <a:pt x="471" y="2319"/>
                  </a:lnTo>
                  <a:lnTo>
                    <a:pt x="459" y="2309"/>
                  </a:lnTo>
                  <a:lnTo>
                    <a:pt x="447" y="2297"/>
                  </a:lnTo>
                  <a:lnTo>
                    <a:pt x="436" y="2285"/>
                  </a:lnTo>
                  <a:lnTo>
                    <a:pt x="425" y="2272"/>
                  </a:lnTo>
                  <a:lnTo>
                    <a:pt x="414" y="2259"/>
                  </a:lnTo>
                  <a:lnTo>
                    <a:pt x="392" y="2231"/>
                  </a:lnTo>
                  <a:lnTo>
                    <a:pt x="371" y="2203"/>
                  </a:lnTo>
                  <a:lnTo>
                    <a:pt x="349" y="2175"/>
                  </a:lnTo>
                  <a:lnTo>
                    <a:pt x="325" y="2150"/>
                  </a:lnTo>
                  <a:lnTo>
                    <a:pt x="314" y="2137"/>
                  </a:lnTo>
                  <a:lnTo>
                    <a:pt x="301" y="2125"/>
                  </a:lnTo>
                  <a:lnTo>
                    <a:pt x="288" y="2114"/>
                  </a:lnTo>
                  <a:lnTo>
                    <a:pt x="275" y="2105"/>
                  </a:lnTo>
                  <a:lnTo>
                    <a:pt x="261" y="2097"/>
                  </a:lnTo>
                  <a:lnTo>
                    <a:pt x="247" y="2091"/>
                  </a:lnTo>
                  <a:lnTo>
                    <a:pt x="232" y="2085"/>
                  </a:lnTo>
                  <a:lnTo>
                    <a:pt x="215" y="2082"/>
                  </a:lnTo>
                  <a:lnTo>
                    <a:pt x="132" y="1978"/>
                  </a:lnTo>
                  <a:lnTo>
                    <a:pt x="152" y="1952"/>
                  </a:lnTo>
                  <a:lnTo>
                    <a:pt x="167" y="1925"/>
                  </a:lnTo>
                  <a:lnTo>
                    <a:pt x="179" y="1899"/>
                  </a:lnTo>
                  <a:lnTo>
                    <a:pt x="186" y="1873"/>
                  </a:lnTo>
                  <a:lnTo>
                    <a:pt x="190" y="1849"/>
                  </a:lnTo>
                  <a:lnTo>
                    <a:pt x="191" y="1823"/>
                  </a:lnTo>
                  <a:lnTo>
                    <a:pt x="188" y="1799"/>
                  </a:lnTo>
                  <a:lnTo>
                    <a:pt x="184" y="1774"/>
                  </a:lnTo>
                  <a:lnTo>
                    <a:pt x="177" y="1750"/>
                  </a:lnTo>
                  <a:lnTo>
                    <a:pt x="167" y="1725"/>
                  </a:lnTo>
                  <a:lnTo>
                    <a:pt x="157" y="1702"/>
                  </a:lnTo>
                  <a:lnTo>
                    <a:pt x="144" y="1677"/>
                  </a:lnTo>
                  <a:lnTo>
                    <a:pt x="117" y="1629"/>
                  </a:lnTo>
                  <a:lnTo>
                    <a:pt x="88" y="1582"/>
                  </a:lnTo>
                  <a:lnTo>
                    <a:pt x="74" y="1559"/>
                  </a:lnTo>
                  <a:lnTo>
                    <a:pt x="60" y="1535"/>
                  </a:lnTo>
                  <a:lnTo>
                    <a:pt x="46" y="1511"/>
                  </a:lnTo>
                  <a:lnTo>
                    <a:pt x="34" y="1488"/>
                  </a:lnTo>
                  <a:lnTo>
                    <a:pt x="24" y="1464"/>
                  </a:lnTo>
                  <a:lnTo>
                    <a:pt x="14" y="1441"/>
                  </a:lnTo>
                  <a:lnTo>
                    <a:pt x="7" y="1416"/>
                  </a:lnTo>
                  <a:lnTo>
                    <a:pt x="2" y="1393"/>
                  </a:lnTo>
                  <a:lnTo>
                    <a:pt x="0" y="1369"/>
                  </a:lnTo>
                  <a:lnTo>
                    <a:pt x="1" y="1345"/>
                  </a:lnTo>
                  <a:lnTo>
                    <a:pt x="5" y="1320"/>
                  </a:lnTo>
                  <a:lnTo>
                    <a:pt x="13" y="1296"/>
                  </a:lnTo>
                  <a:lnTo>
                    <a:pt x="24" y="1271"/>
                  </a:lnTo>
                  <a:lnTo>
                    <a:pt x="40" y="1247"/>
                  </a:lnTo>
                  <a:lnTo>
                    <a:pt x="60" y="1222"/>
                  </a:lnTo>
                  <a:lnTo>
                    <a:pt x="84" y="1197"/>
                  </a:lnTo>
                  <a:lnTo>
                    <a:pt x="91" y="1172"/>
                  </a:lnTo>
                  <a:lnTo>
                    <a:pt x="98" y="1146"/>
                  </a:lnTo>
                  <a:lnTo>
                    <a:pt x="104" y="1121"/>
                  </a:lnTo>
                  <a:lnTo>
                    <a:pt x="110" y="1096"/>
                  </a:lnTo>
                  <a:lnTo>
                    <a:pt x="121" y="1044"/>
                  </a:lnTo>
                  <a:lnTo>
                    <a:pt x="129" y="992"/>
                  </a:lnTo>
                  <a:lnTo>
                    <a:pt x="145" y="886"/>
                  </a:lnTo>
                  <a:lnTo>
                    <a:pt x="163" y="782"/>
                  </a:lnTo>
                  <a:lnTo>
                    <a:pt x="173" y="730"/>
                  </a:lnTo>
                  <a:lnTo>
                    <a:pt x="186" y="679"/>
                  </a:lnTo>
                  <a:lnTo>
                    <a:pt x="193" y="654"/>
                  </a:lnTo>
                  <a:lnTo>
                    <a:pt x="201" y="629"/>
                  </a:lnTo>
                  <a:lnTo>
                    <a:pt x="211" y="604"/>
                  </a:lnTo>
                  <a:lnTo>
                    <a:pt x="220" y="580"/>
                  </a:lnTo>
                  <a:lnTo>
                    <a:pt x="231" y="555"/>
                  </a:lnTo>
                  <a:lnTo>
                    <a:pt x="242" y="531"/>
                  </a:lnTo>
                  <a:lnTo>
                    <a:pt x="255" y="507"/>
                  </a:lnTo>
                  <a:lnTo>
                    <a:pt x="269" y="484"/>
                  </a:lnTo>
                  <a:lnTo>
                    <a:pt x="283" y="462"/>
                  </a:lnTo>
                  <a:lnTo>
                    <a:pt x="300" y="438"/>
                  </a:lnTo>
                  <a:lnTo>
                    <a:pt x="317" y="417"/>
                  </a:lnTo>
                  <a:lnTo>
                    <a:pt x="337" y="395"/>
                  </a:lnTo>
                  <a:lnTo>
                    <a:pt x="386" y="361"/>
                  </a:lnTo>
                  <a:lnTo>
                    <a:pt x="434" y="324"/>
                  </a:lnTo>
                  <a:lnTo>
                    <a:pt x="483" y="285"/>
                  </a:lnTo>
                  <a:lnTo>
                    <a:pt x="531" y="245"/>
                  </a:lnTo>
                  <a:lnTo>
                    <a:pt x="580" y="207"/>
                  </a:lnTo>
                  <a:lnTo>
                    <a:pt x="629" y="168"/>
                  </a:lnTo>
                  <a:lnTo>
                    <a:pt x="655" y="149"/>
                  </a:lnTo>
                  <a:lnTo>
                    <a:pt x="680" y="132"/>
                  </a:lnTo>
                  <a:lnTo>
                    <a:pt x="705" y="114"/>
                  </a:lnTo>
                  <a:lnTo>
                    <a:pt x="731" y="98"/>
                  </a:lnTo>
                  <a:lnTo>
                    <a:pt x="757" y="83"/>
                  </a:lnTo>
                  <a:lnTo>
                    <a:pt x="782" y="68"/>
                  </a:lnTo>
                  <a:lnTo>
                    <a:pt x="809" y="55"/>
                  </a:lnTo>
                  <a:lnTo>
                    <a:pt x="836" y="42"/>
                  </a:lnTo>
                  <a:lnTo>
                    <a:pt x="863" y="31"/>
                  </a:lnTo>
                  <a:lnTo>
                    <a:pt x="890" y="22"/>
                  </a:lnTo>
                  <a:lnTo>
                    <a:pt x="918" y="14"/>
                  </a:lnTo>
                  <a:lnTo>
                    <a:pt x="946" y="8"/>
                  </a:lnTo>
                  <a:lnTo>
                    <a:pt x="974" y="3"/>
                  </a:lnTo>
                  <a:lnTo>
                    <a:pt x="1004" y="0"/>
                  </a:lnTo>
                  <a:lnTo>
                    <a:pt x="1034" y="0"/>
                  </a:lnTo>
                  <a:lnTo>
                    <a:pt x="1063" y="1"/>
                  </a:lnTo>
                  <a:lnTo>
                    <a:pt x="1095" y="4"/>
                  </a:lnTo>
                  <a:lnTo>
                    <a:pt x="1125" y="10"/>
                  </a:lnTo>
                  <a:lnTo>
                    <a:pt x="1158" y="18"/>
                  </a:lnTo>
                  <a:lnTo>
                    <a:pt x="1189" y="29"/>
                  </a:lnTo>
                  <a:lnTo>
                    <a:pt x="1635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280160" y="276228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37" y="0"/>
                  </a:moveTo>
                  <a:lnTo>
                    <a:pt x="0" y="4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042560" y="2970360"/>
              <a:ext cx="167760" cy="47520"/>
            </a:xfrm>
            <a:custGeom>
              <a:avLst/>
              <a:gdLst/>
              <a:ahLst/>
              <a:rect l="l" t="t" r="r" b="b"/>
              <a:pathLst>
                <a:path w="565" h="176">
                  <a:moveTo>
                    <a:pt x="482" y="21"/>
                  </a:moveTo>
                  <a:lnTo>
                    <a:pt x="490" y="20"/>
                  </a:lnTo>
                  <a:lnTo>
                    <a:pt x="497" y="20"/>
                  </a:lnTo>
                  <a:lnTo>
                    <a:pt x="505" y="21"/>
                  </a:lnTo>
                  <a:lnTo>
                    <a:pt x="514" y="22"/>
                  </a:lnTo>
                  <a:lnTo>
                    <a:pt x="521" y="23"/>
                  </a:lnTo>
                  <a:lnTo>
                    <a:pt x="529" y="26"/>
                  </a:lnTo>
                  <a:lnTo>
                    <a:pt x="535" y="29"/>
                  </a:lnTo>
                  <a:lnTo>
                    <a:pt x="542" y="34"/>
                  </a:lnTo>
                  <a:lnTo>
                    <a:pt x="548" y="37"/>
                  </a:lnTo>
                  <a:lnTo>
                    <a:pt x="552" y="43"/>
                  </a:lnTo>
                  <a:lnTo>
                    <a:pt x="557" y="49"/>
                  </a:lnTo>
                  <a:lnTo>
                    <a:pt x="560" y="55"/>
                  </a:lnTo>
                  <a:lnTo>
                    <a:pt x="564" y="62"/>
                  </a:lnTo>
                  <a:lnTo>
                    <a:pt x="565" y="70"/>
                  </a:lnTo>
                  <a:lnTo>
                    <a:pt x="565" y="78"/>
                  </a:lnTo>
                  <a:lnTo>
                    <a:pt x="565" y="86"/>
                  </a:lnTo>
                  <a:lnTo>
                    <a:pt x="553" y="100"/>
                  </a:lnTo>
                  <a:lnTo>
                    <a:pt x="542" y="112"/>
                  </a:lnTo>
                  <a:lnTo>
                    <a:pt x="530" y="122"/>
                  </a:lnTo>
                  <a:lnTo>
                    <a:pt x="517" y="131"/>
                  </a:lnTo>
                  <a:lnTo>
                    <a:pt x="503" y="138"/>
                  </a:lnTo>
                  <a:lnTo>
                    <a:pt x="490" y="144"/>
                  </a:lnTo>
                  <a:lnTo>
                    <a:pt x="476" y="150"/>
                  </a:lnTo>
                  <a:lnTo>
                    <a:pt x="461" y="153"/>
                  </a:lnTo>
                  <a:lnTo>
                    <a:pt x="447" y="155"/>
                  </a:lnTo>
                  <a:lnTo>
                    <a:pt x="432" y="158"/>
                  </a:lnTo>
                  <a:lnTo>
                    <a:pt x="417" y="159"/>
                  </a:lnTo>
                  <a:lnTo>
                    <a:pt x="401" y="159"/>
                  </a:lnTo>
                  <a:lnTo>
                    <a:pt x="370" y="159"/>
                  </a:lnTo>
                  <a:lnTo>
                    <a:pt x="338" y="157"/>
                  </a:lnTo>
                  <a:lnTo>
                    <a:pt x="307" y="153"/>
                  </a:lnTo>
                  <a:lnTo>
                    <a:pt x="274" y="151"/>
                  </a:lnTo>
                  <a:lnTo>
                    <a:pt x="242" y="148"/>
                  </a:lnTo>
                  <a:lnTo>
                    <a:pt x="212" y="147"/>
                  </a:lnTo>
                  <a:lnTo>
                    <a:pt x="197" y="148"/>
                  </a:lnTo>
                  <a:lnTo>
                    <a:pt x="181" y="150"/>
                  </a:lnTo>
                  <a:lnTo>
                    <a:pt x="166" y="151"/>
                  </a:lnTo>
                  <a:lnTo>
                    <a:pt x="152" y="154"/>
                  </a:lnTo>
                  <a:lnTo>
                    <a:pt x="138" y="158"/>
                  </a:lnTo>
                  <a:lnTo>
                    <a:pt x="124" y="164"/>
                  </a:lnTo>
                  <a:lnTo>
                    <a:pt x="111" y="169"/>
                  </a:lnTo>
                  <a:lnTo>
                    <a:pt x="98" y="176"/>
                  </a:lnTo>
                  <a:lnTo>
                    <a:pt x="81" y="169"/>
                  </a:lnTo>
                  <a:lnTo>
                    <a:pt x="61" y="161"/>
                  </a:lnTo>
                  <a:lnTo>
                    <a:pt x="51" y="157"/>
                  </a:lnTo>
                  <a:lnTo>
                    <a:pt x="41" y="152"/>
                  </a:lnTo>
                  <a:lnTo>
                    <a:pt x="32" y="146"/>
                  </a:lnTo>
                  <a:lnTo>
                    <a:pt x="22" y="140"/>
                  </a:lnTo>
                  <a:lnTo>
                    <a:pt x="15" y="134"/>
                  </a:lnTo>
                  <a:lnTo>
                    <a:pt x="8" y="127"/>
                  </a:lnTo>
                  <a:lnTo>
                    <a:pt x="4" y="119"/>
                  </a:lnTo>
                  <a:lnTo>
                    <a:pt x="1" y="111"/>
                  </a:lnTo>
                  <a:lnTo>
                    <a:pt x="0" y="107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1" y="93"/>
                  </a:lnTo>
                  <a:lnTo>
                    <a:pt x="5" y="84"/>
                  </a:lnTo>
                  <a:lnTo>
                    <a:pt x="12" y="72"/>
                  </a:lnTo>
                  <a:lnTo>
                    <a:pt x="14" y="63"/>
                  </a:lnTo>
                  <a:lnTo>
                    <a:pt x="18" y="54"/>
                  </a:lnTo>
                  <a:lnTo>
                    <a:pt x="21" y="45"/>
                  </a:lnTo>
                  <a:lnTo>
                    <a:pt x="25" y="40"/>
                  </a:lnTo>
                  <a:lnTo>
                    <a:pt x="29" y="34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46" y="23"/>
                  </a:lnTo>
                  <a:lnTo>
                    <a:pt x="52" y="22"/>
                  </a:lnTo>
                  <a:lnTo>
                    <a:pt x="58" y="21"/>
                  </a:lnTo>
                  <a:lnTo>
                    <a:pt x="63" y="20"/>
                  </a:lnTo>
                  <a:lnTo>
                    <a:pt x="70" y="20"/>
                  </a:lnTo>
                  <a:lnTo>
                    <a:pt x="84" y="21"/>
                  </a:lnTo>
                  <a:lnTo>
                    <a:pt x="98" y="23"/>
                  </a:lnTo>
                  <a:lnTo>
                    <a:pt x="114" y="27"/>
                  </a:lnTo>
                  <a:lnTo>
                    <a:pt x="129" y="29"/>
                  </a:lnTo>
                  <a:lnTo>
                    <a:pt x="144" y="30"/>
                  </a:lnTo>
                  <a:lnTo>
                    <a:pt x="158" y="30"/>
                  </a:lnTo>
                  <a:lnTo>
                    <a:pt x="165" y="29"/>
                  </a:lnTo>
                  <a:lnTo>
                    <a:pt x="172" y="28"/>
                  </a:lnTo>
                  <a:lnTo>
                    <a:pt x="179" y="26"/>
                  </a:lnTo>
                  <a:lnTo>
                    <a:pt x="186" y="22"/>
                  </a:lnTo>
                  <a:lnTo>
                    <a:pt x="192" y="19"/>
                  </a:lnTo>
                  <a:lnTo>
                    <a:pt x="198" y="14"/>
                  </a:lnTo>
                  <a:lnTo>
                    <a:pt x="204" y="8"/>
                  </a:lnTo>
                  <a:lnTo>
                    <a:pt x="210" y="0"/>
                  </a:lnTo>
                  <a:lnTo>
                    <a:pt x="226" y="2"/>
                  </a:lnTo>
                  <a:lnTo>
                    <a:pt x="242" y="5"/>
                  </a:lnTo>
                  <a:lnTo>
                    <a:pt x="260" y="8"/>
                  </a:lnTo>
                  <a:lnTo>
                    <a:pt x="276" y="12"/>
                  </a:lnTo>
                  <a:lnTo>
                    <a:pt x="310" y="21"/>
                  </a:lnTo>
                  <a:lnTo>
                    <a:pt x="344" y="30"/>
                  </a:lnTo>
                  <a:lnTo>
                    <a:pt x="362" y="34"/>
                  </a:lnTo>
                  <a:lnTo>
                    <a:pt x="378" y="37"/>
                  </a:lnTo>
                  <a:lnTo>
                    <a:pt x="396" y="38"/>
                  </a:lnTo>
                  <a:lnTo>
                    <a:pt x="413" y="38"/>
                  </a:lnTo>
                  <a:lnTo>
                    <a:pt x="429" y="37"/>
                  </a:lnTo>
                  <a:lnTo>
                    <a:pt x="447" y="34"/>
                  </a:lnTo>
                  <a:lnTo>
                    <a:pt x="464" y="29"/>
                  </a:lnTo>
                  <a:lnTo>
                    <a:pt x="48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78200" y="3019680"/>
              <a:ext cx="105480" cy="37800"/>
            </a:xfrm>
            <a:custGeom>
              <a:avLst/>
              <a:gdLst/>
              <a:ahLst/>
              <a:rect l="l" t="t" r="r" b="b"/>
              <a:pathLst>
                <a:path w="356" h="144">
                  <a:moveTo>
                    <a:pt x="338" y="110"/>
                  </a:moveTo>
                  <a:lnTo>
                    <a:pt x="290" y="122"/>
                  </a:lnTo>
                  <a:lnTo>
                    <a:pt x="243" y="132"/>
                  </a:lnTo>
                  <a:lnTo>
                    <a:pt x="221" y="137"/>
                  </a:lnTo>
                  <a:lnTo>
                    <a:pt x="199" y="140"/>
                  </a:lnTo>
                  <a:lnTo>
                    <a:pt x="178" y="143"/>
                  </a:lnTo>
                  <a:lnTo>
                    <a:pt x="157" y="144"/>
                  </a:lnTo>
                  <a:lnTo>
                    <a:pt x="136" y="143"/>
                  </a:lnTo>
                  <a:lnTo>
                    <a:pt x="115" y="140"/>
                  </a:lnTo>
                  <a:lnTo>
                    <a:pt x="95" y="137"/>
                  </a:lnTo>
                  <a:lnTo>
                    <a:pt x="75" y="131"/>
                  </a:lnTo>
                  <a:lnTo>
                    <a:pt x="65" y="127"/>
                  </a:lnTo>
                  <a:lnTo>
                    <a:pt x="56" y="123"/>
                  </a:lnTo>
                  <a:lnTo>
                    <a:pt x="46" y="118"/>
                  </a:lnTo>
                  <a:lnTo>
                    <a:pt x="36" y="112"/>
                  </a:lnTo>
                  <a:lnTo>
                    <a:pt x="27" y="106"/>
                  </a:lnTo>
                  <a:lnTo>
                    <a:pt x="18" y="99"/>
                  </a:lnTo>
                  <a:lnTo>
                    <a:pt x="9" y="91"/>
                  </a:lnTo>
                  <a:lnTo>
                    <a:pt x="0" y="83"/>
                  </a:lnTo>
                  <a:lnTo>
                    <a:pt x="1" y="71"/>
                  </a:lnTo>
                  <a:lnTo>
                    <a:pt x="4" y="62"/>
                  </a:lnTo>
                  <a:lnTo>
                    <a:pt x="8" y="54"/>
                  </a:lnTo>
                  <a:lnTo>
                    <a:pt x="14" y="47"/>
                  </a:lnTo>
                  <a:lnTo>
                    <a:pt x="29" y="36"/>
                  </a:lnTo>
                  <a:lnTo>
                    <a:pt x="48" y="25"/>
                  </a:lnTo>
                  <a:lnTo>
                    <a:pt x="56" y="21"/>
                  </a:lnTo>
                  <a:lnTo>
                    <a:pt x="65" y="20"/>
                  </a:lnTo>
                  <a:lnTo>
                    <a:pt x="75" y="19"/>
                  </a:lnTo>
                  <a:lnTo>
                    <a:pt x="85" y="18"/>
                  </a:lnTo>
                  <a:lnTo>
                    <a:pt x="108" y="18"/>
                  </a:lnTo>
                  <a:lnTo>
                    <a:pt x="131" y="19"/>
                  </a:lnTo>
                  <a:lnTo>
                    <a:pt x="154" y="19"/>
                  </a:lnTo>
                  <a:lnTo>
                    <a:pt x="178" y="16"/>
                  </a:lnTo>
                  <a:lnTo>
                    <a:pt x="189" y="14"/>
                  </a:lnTo>
                  <a:lnTo>
                    <a:pt x="200" y="11"/>
                  </a:lnTo>
                  <a:lnTo>
                    <a:pt x="211" y="6"/>
                  </a:lnTo>
                  <a:lnTo>
                    <a:pt x="221" y="0"/>
                  </a:lnTo>
                  <a:lnTo>
                    <a:pt x="225" y="5"/>
                  </a:lnTo>
                  <a:lnTo>
                    <a:pt x="228" y="9"/>
                  </a:lnTo>
                  <a:lnTo>
                    <a:pt x="233" y="13"/>
                  </a:lnTo>
                  <a:lnTo>
                    <a:pt x="237" y="15"/>
                  </a:lnTo>
                  <a:lnTo>
                    <a:pt x="249" y="21"/>
                  </a:lnTo>
                  <a:lnTo>
                    <a:pt x="262" y="25"/>
                  </a:lnTo>
                  <a:lnTo>
                    <a:pt x="290" y="28"/>
                  </a:lnTo>
                  <a:lnTo>
                    <a:pt x="317" y="32"/>
                  </a:lnTo>
                  <a:lnTo>
                    <a:pt x="330" y="35"/>
                  </a:lnTo>
                  <a:lnTo>
                    <a:pt x="340" y="39"/>
                  </a:lnTo>
                  <a:lnTo>
                    <a:pt x="344" y="41"/>
                  </a:lnTo>
                  <a:lnTo>
                    <a:pt x="348" y="44"/>
                  </a:lnTo>
                  <a:lnTo>
                    <a:pt x="351" y="48"/>
                  </a:lnTo>
                  <a:lnTo>
                    <a:pt x="353" y="51"/>
                  </a:lnTo>
                  <a:lnTo>
                    <a:pt x="356" y="56"/>
                  </a:lnTo>
                  <a:lnTo>
                    <a:pt x="356" y="62"/>
                  </a:lnTo>
                  <a:lnTo>
                    <a:pt x="356" y="68"/>
                  </a:lnTo>
                  <a:lnTo>
                    <a:pt x="354" y="75"/>
                  </a:lnTo>
                  <a:lnTo>
                    <a:pt x="352" y="82"/>
                  </a:lnTo>
                  <a:lnTo>
                    <a:pt x="348" y="90"/>
                  </a:lnTo>
                  <a:lnTo>
                    <a:pt x="344" y="101"/>
                  </a:lnTo>
                  <a:lnTo>
                    <a:pt x="338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151640" y="3033720"/>
              <a:ext cx="337680" cy="108000"/>
            </a:xfrm>
            <a:custGeom>
              <a:avLst/>
              <a:gdLst/>
              <a:ahLst/>
              <a:rect l="l" t="t" r="r" b="b"/>
              <a:pathLst>
                <a:path w="1132" h="410">
                  <a:moveTo>
                    <a:pt x="1132" y="135"/>
                  </a:moveTo>
                  <a:lnTo>
                    <a:pt x="1132" y="146"/>
                  </a:lnTo>
                  <a:lnTo>
                    <a:pt x="1130" y="158"/>
                  </a:lnTo>
                  <a:lnTo>
                    <a:pt x="1127" y="166"/>
                  </a:lnTo>
                  <a:lnTo>
                    <a:pt x="1123" y="174"/>
                  </a:lnTo>
                  <a:lnTo>
                    <a:pt x="1117" y="180"/>
                  </a:lnTo>
                  <a:lnTo>
                    <a:pt x="1111" y="185"/>
                  </a:lnTo>
                  <a:lnTo>
                    <a:pt x="1104" y="188"/>
                  </a:lnTo>
                  <a:lnTo>
                    <a:pt x="1097" y="191"/>
                  </a:lnTo>
                  <a:lnTo>
                    <a:pt x="1089" y="192"/>
                  </a:lnTo>
                  <a:lnTo>
                    <a:pt x="1079" y="192"/>
                  </a:lnTo>
                  <a:lnTo>
                    <a:pt x="1070" y="191"/>
                  </a:lnTo>
                  <a:lnTo>
                    <a:pt x="1061" y="190"/>
                  </a:lnTo>
                  <a:lnTo>
                    <a:pt x="1042" y="185"/>
                  </a:lnTo>
                  <a:lnTo>
                    <a:pt x="1022" y="179"/>
                  </a:lnTo>
                  <a:lnTo>
                    <a:pt x="1009" y="169"/>
                  </a:lnTo>
                  <a:lnTo>
                    <a:pt x="998" y="159"/>
                  </a:lnTo>
                  <a:lnTo>
                    <a:pt x="985" y="152"/>
                  </a:lnTo>
                  <a:lnTo>
                    <a:pt x="972" y="145"/>
                  </a:lnTo>
                  <a:lnTo>
                    <a:pt x="960" y="140"/>
                  </a:lnTo>
                  <a:lnTo>
                    <a:pt x="947" y="136"/>
                  </a:lnTo>
                  <a:lnTo>
                    <a:pt x="934" y="133"/>
                  </a:lnTo>
                  <a:lnTo>
                    <a:pt x="922" y="131"/>
                  </a:lnTo>
                  <a:lnTo>
                    <a:pt x="910" y="130"/>
                  </a:lnTo>
                  <a:lnTo>
                    <a:pt x="897" y="130"/>
                  </a:lnTo>
                  <a:lnTo>
                    <a:pt x="884" y="130"/>
                  </a:lnTo>
                  <a:lnTo>
                    <a:pt x="871" y="131"/>
                  </a:lnTo>
                  <a:lnTo>
                    <a:pt x="860" y="133"/>
                  </a:lnTo>
                  <a:lnTo>
                    <a:pt x="847" y="136"/>
                  </a:lnTo>
                  <a:lnTo>
                    <a:pt x="834" y="139"/>
                  </a:lnTo>
                  <a:lnTo>
                    <a:pt x="821" y="144"/>
                  </a:lnTo>
                  <a:lnTo>
                    <a:pt x="796" y="153"/>
                  </a:lnTo>
                  <a:lnTo>
                    <a:pt x="772" y="164"/>
                  </a:lnTo>
                  <a:lnTo>
                    <a:pt x="746" y="176"/>
                  </a:lnTo>
                  <a:lnTo>
                    <a:pt x="723" y="188"/>
                  </a:lnTo>
                  <a:lnTo>
                    <a:pt x="675" y="214"/>
                  </a:lnTo>
                  <a:lnTo>
                    <a:pt x="628" y="238"/>
                  </a:lnTo>
                  <a:lnTo>
                    <a:pt x="616" y="247"/>
                  </a:lnTo>
                  <a:lnTo>
                    <a:pt x="605" y="259"/>
                  </a:lnTo>
                  <a:lnTo>
                    <a:pt x="594" y="270"/>
                  </a:lnTo>
                  <a:lnTo>
                    <a:pt x="584" y="284"/>
                  </a:lnTo>
                  <a:lnTo>
                    <a:pt x="564" y="312"/>
                  </a:lnTo>
                  <a:lnTo>
                    <a:pt x="544" y="342"/>
                  </a:lnTo>
                  <a:lnTo>
                    <a:pt x="533" y="355"/>
                  </a:lnTo>
                  <a:lnTo>
                    <a:pt x="523" y="367"/>
                  </a:lnTo>
                  <a:lnTo>
                    <a:pt x="510" y="379"/>
                  </a:lnTo>
                  <a:lnTo>
                    <a:pt x="497" y="388"/>
                  </a:lnTo>
                  <a:lnTo>
                    <a:pt x="490" y="392"/>
                  </a:lnTo>
                  <a:lnTo>
                    <a:pt x="483" y="395"/>
                  </a:lnTo>
                  <a:lnTo>
                    <a:pt x="476" y="399"/>
                  </a:lnTo>
                  <a:lnTo>
                    <a:pt x="468" y="401"/>
                  </a:lnTo>
                  <a:lnTo>
                    <a:pt x="460" y="402"/>
                  </a:lnTo>
                  <a:lnTo>
                    <a:pt x="450" y="404"/>
                  </a:lnTo>
                  <a:lnTo>
                    <a:pt x="441" y="404"/>
                  </a:lnTo>
                  <a:lnTo>
                    <a:pt x="432" y="404"/>
                  </a:lnTo>
                  <a:lnTo>
                    <a:pt x="420" y="407"/>
                  </a:lnTo>
                  <a:lnTo>
                    <a:pt x="409" y="408"/>
                  </a:lnTo>
                  <a:lnTo>
                    <a:pt x="398" y="410"/>
                  </a:lnTo>
                  <a:lnTo>
                    <a:pt x="387" y="410"/>
                  </a:lnTo>
                  <a:lnTo>
                    <a:pt x="375" y="408"/>
                  </a:lnTo>
                  <a:lnTo>
                    <a:pt x="365" y="406"/>
                  </a:lnTo>
                  <a:lnTo>
                    <a:pt x="354" y="402"/>
                  </a:lnTo>
                  <a:lnTo>
                    <a:pt x="344" y="399"/>
                  </a:lnTo>
                  <a:lnTo>
                    <a:pt x="301" y="380"/>
                  </a:lnTo>
                  <a:lnTo>
                    <a:pt x="259" y="358"/>
                  </a:lnTo>
                  <a:lnTo>
                    <a:pt x="239" y="349"/>
                  </a:lnTo>
                  <a:lnTo>
                    <a:pt x="218" y="342"/>
                  </a:lnTo>
                  <a:lnTo>
                    <a:pt x="207" y="338"/>
                  </a:lnTo>
                  <a:lnTo>
                    <a:pt x="197" y="336"/>
                  </a:lnTo>
                  <a:lnTo>
                    <a:pt x="186" y="335"/>
                  </a:lnTo>
                  <a:lnTo>
                    <a:pt x="176" y="335"/>
                  </a:lnTo>
                  <a:lnTo>
                    <a:pt x="165" y="336"/>
                  </a:lnTo>
                  <a:lnTo>
                    <a:pt x="154" y="338"/>
                  </a:lnTo>
                  <a:lnTo>
                    <a:pt x="144" y="342"/>
                  </a:lnTo>
                  <a:lnTo>
                    <a:pt x="132" y="346"/>
                  </a:lnTo>
                  <a:lnTo>
                    <a:pt x="122" y="353"/>
                  </a:lnTo>
                  <a:lnTo>
                    <a:pt x="111" y="362"/>
                  </a:lnTo>
                  <a:lnTo>
                    <a:pt x="101" y="371"/>
                  </a:lnTo>
                  <a:lnTo>
                    <a:pt x="89" y="383"/>
                  </a:lnTo>
                  <a:lnTo>
                    <a:pt x="82" y="388"/>
                  </a:lnTo>
                  <a:lnTo>
                    <a:pt x="74" y="394"/>
                  </a:lnTo>
                  <a:lnTo>
                    <a:pt x="66" y="398"/>
                  </a:lnTo>
                  <a:lnTo>
                    <a:pt x="56" y="401"/>
                  </a:lnTo>
                  <a:lnTo>
                    <a:pt x="48" y="404"/>
                  </a:lnTo>
                  <a:lnTo>
                    <a:pt x="39" y="405"/>
                  </a:lnTo>
                  <a:lnTo>
                    <a:pt x="31" y="405"/>
                  </a:lnTo>
                  <a:lnTo>
                    <a:pt x="23" y="404"/>
                  </a:lnTo>
                  <a:lnTo>
                    <a:pt x="20" y="405"/>
                  </a:lnTo>
                  <a:lnTo>
                    <a:pt x="16" y="406"/>
                  </a:lnTo>
                  <a:lnTo>
                    <a:pt x="13" y="406"/>
                  </a:lnTo>
                  <a:lnTo>
                    <a:pt x="11" y="405"/>
                  </a:lnTo>
                  <a:lnTo>
                    <a:pt x="7" y="402"/>
                  </a:lnTo>
                  <a:lnTo>
                    <a:pt x="5" y="398"/>
                  </a:lnTo>
                  <a:lnTo>
                    <a:pt x="2" y="386"/>
                  </a:lnTo>
                  <a:lnTo>
                    <a:pt x="0" y="376"/>
                  </a:lnTo>
                  <a:lnTo>
                    <a:pt x="31" y="352"/>
                  </a:lnTo>
                  <a:lnTo>
                    <a:pt x="63" y="324"/>
                  </a:lnTo>
                  <a:lnTo>
                    <a:pt x="97" y="296"/>
                  </a:lnTo>
                  <a:lnTo>
                    <a:pt x="131" y="269"/>
                  </a:lnTo>
                  <a:lnTo>
                    <a:pt x="149" y="257"/>
                  </a:lnTo>
                  <a:lnTo>
                    <a:pt x="167" y="246"/>
                  </a:lnTo>
                  <a:lnTo>
                    <a:pt x="186" y="236"/>
                  </a:lnTo>
                  <a:lnTo>
                    <a:pt x="205" y="228"/>
                  </a:lnTo>
                  <a:lnTo>
                    <a:pt x="225" y="221"/>
                  </a:lnTo>
                  <a:lnTo>
                    <a:pt x="245" y="218"/>
                  </a:lnTo>
                  <a:lnTo>
                    <a:pt x="255" y="217"/>
                  </a:lnTo>
                  <a:lnTo>
                    <a:pt x="266" y="215"/>
                  </a:lnTo>
                  <a:lnTo>
                    <a:pt x="276" y="217"/>
                  </a:lnTo>
                  <a:lnTo>
                    <a:pt x="287" y="217"/>
                  </a:lnTo>
                  <a:lnTo>
                    <a:pt x="319" y="232"/>
                  </a:lnTo>
                  <a:lnTo>
                    <a:pt x="351" y="248"/>
                  </a:lnTo>
                  <a:lnTo>
                    <a:pt x="368" y="255"/>
                  </a:lnTo>
                  <a:lnTo>
                    <a:pt x="386" y="260"/>
                  </a:lnTo>
                  <a:lnTo>
                    <a:pt x="395" y="262"/>
                  </a:lnTo>
                  <a:lnTo>
                    <a:pt x="405" y="264"/>
                  </a:lnTo>
                  <a:lnTo>
                    <a:pt x="414" y="264"/>
                  </a:lnTo>
                  <a:lnTo>
                    <a:pt x="425" y="266"/>
                  </a:lnTo>
                  <a:lnTo>
                    <a:pt x="434" y="257"/>
                  </a:lnTo>
                  <a:lnTo>
                    <a:pt x="443" y="248"/>
                  </a:lnTo>
                  <a:lnTo>
                    <a:pt x="453" y="239"/>
                  </a:lnTo>
                  <a:lnTo>
                    <a:pt x="461" y="229"/>
                  </a:lnTo>
                  <a:lnTo>
                    <a:pt x="477" y="208"/>
                  </a:lnTo>
                  <a:lnTo>
                    <a:pt x="492" y="186"/>
                  </a:lnTo>
                  <a:lnTo>
                    <a:pt x="522" y="142"/>
                  </a:lnTo>
                  <a:lnTo>
                    <a:pt x="552" y="100"/>
                  </a:lnTo>
                  <a:lnTo>
                    <a:pt x="567" y="80"/>
                  </a:lnTo>
                  <a:lnTo>
                    <a:pt x="585" y="62"/>
                  </a:lnTo>
                  <a:lnTo>
                    <a:pt x="593" y="54"/>
                  </a:lnTo>
                  <a:lnTo>
                    <a:pt x="604" y="47"/>
                  </a:lnTo>
                  <a:lnTo>
                    <a:pt x="613" y="40"/>
                  </a:lnTo>
                  <a:lnTo>
                    <a:pt x="623" y="34"/>
                  </a:lnTo>
                  <a:lnTo>
                    <a:pt x="634" y="29"/>
                  </a:lnTo>
                  <a:lnTo>
                    <a:pt x="646" y="26"/>
                  </a:lnTo>
                  <a:lnTo>
                    <a:pt x="657" y="22"/>
                  </a:lnTo>
                  <a:lnTo>
                    <a:pt x="670" y="20"/>
                  </a:lnTo>
                  <a:lnTo>
                    <a:pt x="683" y="20"/>
                  </a:lnTo>
                  <a:lnTo>
                    <a:pt x="698" y="20"/>
                  </a:lnTo>
                  <a:lnTo>
                    <a:pt x="712" y="21"/>
                  </a:lnTo>
                  <a:lnTo>
                    <a:pt x="729" y="24"/>
                  </a:lnTo>
                  <a:lnTo>
                    <a:pt x="742" y="18"/>
                  </a:lnTo>
                  <a:lnTo>
                    <a:pt x="756" y="12"/>
                  </a:lnTo>
                  <a:lnTo>
                    <a:pt x="770" y="8"/>
                  </a:lnTo>
                  <a:lnTo>
                    <a:pt x="782" y="5"/>
                  </a:lnTo>
                  <a:lnTo>
                    <a:pt x="796" y="2"/>
                  </a:lnTo>
                  <a:lnTo>
                    <a:pt x="809" y="1"/>
                  </a:lnTo>
                  <a:lnTo>
                    <a:pt x="823" y="0"/>
                  </a:lnTo>
                  <a:lnTo>
                    <a:pt x="836" y="1"/>
                  </a:lnTo>
                  <a:lnTo>
                    <a:pt x="850" y="2"/>
                  </a:lnTo>
                  <a:lnTo>
                    <a:pt x="863" y="4"/>
                  </a:lnTo>
                  <a:lnTo>
                    <a:pt x="877" y="6"/>
                  </a:lnTo>
                  <a:lnTo>
                    <a:pt x="890" y="9"/>
                  </a:lnTo>
                  <a:lnTo>
                    <a:pt x="916" y="18"/>
                  </a:lnTo>
                  <a:lnTo>
                    <a:pt x="943" y="27"/>
                  </a:lnTo>
                  <a:lnTo>
                    <a:pt x="967" y="39"/>
                  </a:lnTo>
                  <a:lnTo>
                    <a:pt x="993" y="52"/>
                  </a:lnTo>
                  <a:lnTo>
                    <a:pt x="1018" y="64"/>
                  </a:lnTo>
                  <a:lnTo>
                    <a:pt x="1042" y="78"/>
                  </a:lnTo>
                  <a:lnTo>
                    <a:pt x="1089" y="108"/>
                  </a:lnTo>
                  <a:lnTo>
                    <a:pt x="113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73640" y="3054600"/>
              <a:ext cx="348840" cy="88920"/>
            </a:xfrm>
            <a:custGeom>
              <a:avLst/>
              <a:gdLst/>
              <a:ahLst/>
              <a:rect l="l" t="t" r="r" b="b"/>
              <a:pathLst>
                <a:path w="1172" h="339">
                  <a:moveTo>
                    <a:pt x="611" y="167"/>
                  </a:moveTo>
                  <a:lnTo>
                    <a:pt x="625" y="170"/>
                  </a:lnTo>
                  <a:lnTo>
                    <a:pt x="639" y="171"/>
                  </a:lnTo>
                  <a:lnTo>
                    <a:pt x="652" y="172"/>
                  </a:lnTo>
                  <a:lnTo>
                    <a:pt x="665" y="171"/>
                  </a:lnTo>
                  <a:lnTo>
                    <a:pt x="677" y="169"/>
                  </a:lnTo>
                  <a:lnTo>
                    <a:pt x="689" y="165"/>
                  </a:lnTo>
                  <a:lnTo>
                    <a:pt x="700" y="161"/>
                  </a:lnTo>
                  <a:lnTo>
                    <a:pt x="711" y="156"/>
                  </a:lnTo>
                  <a:lnTo>
                    <a:pt x="732" y="143"/>
                  </a:lnTo>
                  <a:lnTo>
                    <a:pt x="752" y="129"/>
                  </a:lnTo>
                  <a:lnTo>
                    <a:pt x="770" y="114"/>
                  </a:lnTo>
                  <a:lnTo>
                    <a:pt x="789" y="98"/>
                  </a:lnTo>
                  <a:lnTo>
                    <a:pt x="809" y="84"/>
                  </a:lnTo>
                  <a:lnTo>
                    <a:pt x="829" y="71"/>
                  </a:lnTo>
                  <a:lnTo>
                    <a:pt x="838" y="66"/>
                  </a:lnTo>
                  <a:lnTo>
                    <a:pt x="849" y="61"/>
                  </a:lnTo>
                  <a:lnTo>
                    <a:pt x="860" y="59"/>
                  </a:lnTo>
                  <a:lnTo>
                    <a:pt x="871" y="57"/>
                  </a:lnTo>
                  <a:lnTo>
                    <a:pt x="883" y="55"/>
                  </a:lnTo>
                  <a:lnTo>
                    <a:pt x="894" y="55"/>
                  </a:lnTo>
                  <a:lnTo>
                    <a:pt x="907" y="58"/>
                  </a:lnTo>
                  <a:lnTo>
                    <a:pt x="920" y="61"/>
                  </a:lnTo>
                  <a:lnTo>
                    <a:pt x="933" y="67"/>
                  </a:lnTo>
                  <a:lnTo>
                    <a:pt x="947" y="74"/>
                  </a:lnTo>
                  <a:lnTo>
                    <a:pt x="962" y="82"/>
                  </a:lnTo>
                  <a:lnTo>
                    <a:pt x="977" y="94"/>
                  </a:lnTo>
                  <a:lnTo>
                    <a:pt x="1172" y="287"/>
                  </a:lnTo>
                  <a:lnTo>
                    <a:pt x="1162" y="298"/>
                  </a:lnTo>
                  <a:lnTo>
                    <a:pt x="1154" y="305"/>
                  </a:lnTo>
                  <a:lnTo>
                    <a:pt x="1145" y="310"/>
                  </a:lnTo>
                  <a:lnTo>
                    <a:pt x="1136" y="315"/>
                  </a:lnTo>
                  <a:lnTo>
                    <a:pt x="1127" y="319"/>
                  </a:lnTo>
                  <a:lnTo>
                    <a:pt x="1118" y="321"/>
                  </a:lnTo>
                  <a:lnTo>
                    <a:pt x="1108" y="321"/>
                  </a:lnTo>
                  <a:lnTo>
                    <a:pt x="1098" y="321"/>
                  </a:lnTo>
                  <a:lnTo>
                    <a:pt x="1089" y="320"/>
                  </a:lnTo>
                  <a:lnTo>
                    <a:pt x="1079" y="317"/>
                  </a:lnTo>
                  <a:lnTo>
                    <a:pt x="1069" y="314"/>
                  </a:lnTo>
                  <a:lnTo>
                    <a:pt x="1058" y="310"/>
                  </a:lnTo>
                  <a:lnTo>
                    <a:pt x="1037" y="302"/>
                  </a:lnTo>
                  <a:lnTo>
                    <a:pt x="1016" y="292"/>
                  </a:lnTo>
                  <a:lnTo>
                    <a:pt x="995" y="281"/>
                  </a:lnTo>
                  <a:lnTo>
                    <a:pt x="973" y="272"/>
                  </a:lnTo>
                  <a:lnTo>
                    <a:pt x="949" y="262"/>
                  </a:lnTo>
                  <a:lnTo>
                    <a:pt x="927" y="257"/>
                  </a:lnTo>
                  <a:lnTo>
                    <a:pt x="915" y="254"/>
                  </a:lnTo>
                  <a:lnTo>
                    <a:pt x="904" y="253"/>
                  </a:lnTo>
                  <a:lnTo>
                    <a:pt x="892" y="253"/>
                  </a:lnTo>
                  <a:lnTo>
                    <a:pt x="880" y="254"/>
                  </a:lnTo>
                  <a:lnTo>
                    <a:pt x="869" y="255"/>
                  </a:lnTo>
                  <a:lnTo>
                    <a:pt x="857" y="259"/>
                  </a:lnTo>
                  <a:lnTo>
                    <a:pt x="844" y="264"/>
                  </a:lnTo>
                  <a:lnTo>
                    <a:pt x="832" y="271"/>
                  </a:lnTo>
                  <a:lnTo>
                    <a:pt x="816" y="284"/>
                  </a:lnTo>
                  <a:lnTo>
                    <a:pt x="798" y="295"/>
                  </a:lnTo>
                  <a:lnTo>
                    <a:pt x="782" y="305"/>
                  </a:lnTo>
                  <a:lnTo>
                    <a:pt x="766" y="314"/>
                  </a:lnTo>
                  <a:lnTo>
                    <a:pt x="748" y="321"/>
                  </a:lnTo>
                  <a:lnTo>
                    <a:pt x="731" y="327"/>
                  </a:lnTo>
                  <a:lnTo>
                    <a:pt x="714" y="333"/>
                  </a:lnTo>
                  <a:lnTo>
                    <a:pt x="697" y="335"/>
                  </a:lnTo>
                  <a:lnTo>
                    <a:pt x="679" y="337"/>
                  </a:lnTo>
                  <a:lnTo>
                    <a:pt x="662" y="339"/>
                  </a:lnTo>
                  <a:lnTo>
                    <a:pt x="644" y="337"/>
                  </a:lnTo>
                  <a:lnTo>
                    <a:pt x="627" y="336"/>
                  </a:lnTo>
                  <a:lnTo>
                    <a:pt x="608" y="333"/>
                  </a:lnTo>
                  <a:lnTo>
                    <a:pt x="590" y="328"/>
                  </a:lnTo>
                  <a:lnTo>
                    <a:pt x="572" y="322"/>
                  </a:lnTo>
                  <a:lnTo>
                    <a:pt x="553" y="315"/>
                  </a:lnTo>
                  <a:lnTo>
                    <a:pt x="535" y="309"/>
                  </a:lnTo>
                  <a:lnTo>
                    <a:pt x="518" y="302"/>
                  </a:lnTo>
                  <a:lnTo>
                    <a:pt x="501" y="293"/>
                  </a:lnTo>
                  <a:lnTo>
                    <a:pt x="486" y="281"/>
                  </a:lnTo>
                  <a:lnTo>
                    <a:pt x="456" y="258"/>
                  </a:lnTo>
                  <a:lnTo>
                    <a:pt x="425" y="232"/>
                  </a:lnTo>
                  <a:lnTo>
                    <a:pt x="410" y="219"/>
                  </a:lnTo>
                  <a:lnTo>
                    <a:pt x="394" y="209"/>
                  </a:lnTo>
                  <a:lnTo>
                    <a:pt x="377" y="198"/>
                  </a:lnTo>
                  <a:lnTo>
                    <a:pt x="361" y="190"/>
                  </a:lnTo>
                  <a:lnTo>
                    <a:pt x="353" y="185"/>
                  </a:lnTo>
                  <a:lnTo>
                    <a:pt x="345" y="183"/>
                  </a:lnTo>
                  <a:lnTo>
                    <a:pt x="335" y="179"/>
                  </a:lnTo>
                  <a:lnTo>
                    <a:pt x="326" y="178"/>
                  </a:lnTo>
                  <a:lnTo>
                    <a:pt x="317" y="177"/>
                  </a:lnTo>
                  <a:lnTo>
                    <a:pt x="307" y="176"/>
                  </a:lnTo>
                  <a:lnTo>
                    <a:pt x="297" y="176"/>
                  </a:lnTo>
                  <a:lnTo>
                    <a:pt x="287" y="177"/>
                  </a:lnTo>
                  <a:lnTo>
                    <a:pt x="256" y="192"/>
                  </a:lnTo>
                  <a:lnTo>
                    <a:pt x="224" y="205"/>
                  </a:lnTo>
                  <a:lnTo>
                    <a:pt x="193" y="218"/>
                  </a:lnTo>
                  <a:lnTo>
                    <a:pt x="160" y="230"/>
                  </a:lnTo>
                  <a:lnTo>
                    <a:pt x="127" y="241"/>
                  </a:lnTo>
                  <a:lnTo>
                    <a:pt x="94" y="251"/>
                  </a:lnTo>
                  <a:lnTo>
                    <a:pt x="62" y="261"/>
                  </a:lnTo>
                  <a:lnTo>
                    <a:pt x="28" y="271"/>
                  </a:lnTo>
                  <a:lnTo>
                    <a:pt x="20" y="252"/>
                  </a:lnTo>
                  <a:lnTo>
                    <a:pt x="13" y="234"/>
                  </a:lnTo>
                  <a:lnTo>
                    <a:pt x="7" y="217"/>
                  </a:lnTo>
                  <a:lnTo>
                    <a:pt x="2" y="201"/>
                  </a:lnTo>
                  <a:lnTo>
                    <a:pt x="1" y="192"/>
                  </a:lnTo>
                  <a:lnTo>
                    <a:pt x="0" y="184"/>
                  </a:lnTo>
                  <a:lnTo>
                    <a:pt x="0" y="176"/>
                  </a:lnTo>
                  <a:lnTo>
                    <a:pt x="2" y="167"/>
                  </a:lnTo>
                  <a:lnTo>
                    <a:pt x="3" y="158"/>
                  </a:lnTo>
                  <a:lnTo>
                    <a:pt x="7" y="149"/>
                  </a:lnTo>
                  <a:lnTo>
                    <a:pt x="11" y="139"/>
                  </a:lnTo>
                  <a:lnTo>
                    <a:pt x="17" y="129"/>
                  </a:lnTo>
                  <a:lnTo>
                    <a:pt x="24" y="113"/>
                  </a:lnTo>
                  <a:lnTo>
                    <a:pt x="33" y="98"/>
                  </a:lnTo>
                  <a:lnTo>
                    <a:pt x="43" y="85"/>
                  </a:lnTo>
                  <a:lnTo>
                    <a:pt x="54" y="72"/>
                  </a:lnTo>
                  <a:lnTo>
                    <a:pt x="65" y="61"/>
                  </a:lnTo>
                  <a:lnTo>
                    <a:pt x="78" y="52"/>
                  </a:lnTo>
                  <a:lnTo>
                    <a:pt x="91" y="43"/>
                  </a:lnTo>
                  <a:lnTo>
                    <a:pt x="105" y="34"/>
                  </a:lnTo>
                  <a:lnTo>
                    <a:pt x="120" y="29"/>
                  </a:lnTo>
                  <a:lnTo>
                    <a:pt x="135" y="23"/>
                  </a:lnTo>
                  <a:lnTo>
                    <a:pt x="151" y="17"/>
                  </a:lnTo>
                  <a:lnTo>
                    <a:pt x="167" y="12"/>
                  </a:lnTo>
                  <a:lnTo>
                    <a:pt x="199" y="5"/>
                  </a:lnTo>
                  <a:lnTo>
                    <a:pt x="231" y="0"/>
                  </a:lnTo>
                  <a:lnTo>
                    <a:pt x="279" y="12"/>
                  </a:lnTo>
                  <a:lnTo>
                    <a:pt x="327" y="26"/>
                  </a:lnTo>
                  <a:lnTo>
                    <a:pt x="351" y="34"/>
                  </a:lnTo>
                  <a:lnTo>
                    <a:pt x="375" y="44"/>
                  </a:lnTo>
                  <a:lnTo>
                    <a:pt x="400" y="53"/>
                  </a:lnTo>
                  <a:lnTo>
                    <a:pt x="424" y="62"/>
                  </a:lnTo>
                  <a:lnTo>
                    <a:pt x="449" y="74"/>
                  </a:lnTo>
                  <a:lnTo>
                    <a:pt x="472" y="85"/>
                  </a:lnTo>
                  <a:lnTo>
                    <a:pt x="497" y="98"/>
                  </a:lnTo>
                  <a:lnTo>
                    <a:pt x="520" y="109"/>
                  </a:lnTo>
                  <a:lnTo>
                    <a:pt x="544" y="123"/>
                  </a:lnTo>
                  <a:lnTo>
                    <a:pt x="567" y="137"/>
                  </a:lnTo>
                  <a:lnTo>
                    <a:pt x="589" y="151"/>
                  </a:lnTo>
                  <a:lnTo>
                    <a:pt x="611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115280" y="3068640"/>
              <a:ext cx="23400" cy="2376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78" y="16"/>
                  </a:moveTo>
                  <a:lnTo>
                    <a:pt x="80" y="25"/>
                  </a:lnTo>
                  <a:lnTo>
                    <a:pt x="80" y="35"/>
                  </a:lnTo>
                  <a:lnTo>
                    <a:pt x="79" y="44"/>
                  </a:lnTo>
                  <a:lnTo>
                    <a:pt x="77" y="52"/>
                  </a:lnTo>
                  <a:lnTo>
                    <a:pt x="74" y="59"/>
                  </a:lnTo>
                  <a:lnTo>
                    <a:pt x="70" y="65"/>
                  </a:lnTo>
                  <a:lnTo>
                    <a:pt x="66" y="70"/>
                  </a:lnTo>
                  <a:lnTo>
                    <a:pt x="60" y="72"/>
                  </a:lnTo>
                  <a:lnTo>
                    <a:pt x="59" y="77"/>
                  </a:lnTo>
                  <a:lnTo>
                    <a:pt x="57" y="80"/>
                  </a:lnTo>
                  <a:lnTo>
                    <a:pt x="55" y="84"/>
                  </a:lnTo>
                  <a:lnTo>
                    <a:pt x="52" y="86"/>
                  </a:lnTo>
                  <a:lnTo>
                    <a:pt x="49" y="87"/>
                  </a:lnTo>
                  <a:lnTo>
                    <a:pt x="46" y="87"/>
                  </a:lnTo>
                  <a:lnTo>
                    <a:pt x="44" y="87"/>
                  </a:lnTo>
                  <a:lnTo>
                    <a:pt x="41" y="86"/>
                  </a:lnTo>
                  <a:lnTo>
                    <a:pt x="29" y="79"/>
                  </a:lnTo>
                  <a:lnTo>
                    <a:pt x="16" y="72"/>
                  </a:lnTo>
                  <a:lnTo>
                    <a:pt x="11" y="70"/>
                  </a:lnTo>
                  <a:lnTo>
                    <a:pt x="8" y="66"/>
                  </a:lnTo>
                  <a:lnTo>
                    <a:pt x="5" y="64"/>
                  </a:lnTo>
                  <a:lnTo>
                    <a:pt x="3" y="60"/>
                  </a:lnTo>
                  <a:lnTo>
                    <a:pt x="1" y="53"/>
                  </a:lnTo>
                  <a:lnTo>
                    <a:pt x="0" y="44"/>
                  </a:lnTo>
                  <a:lnTo>
                    <a:pt x="1" y="27"/>
                  </a:lnTo>
                  <a:lnTo>
                    <a:pt x="2" y="9"/>
                  </a:lnTo>
                  <a:lnTo>
                    <a:pt x="7" y="10"/>
                  </a:lnTo>
                  <a:lnTo>
                    <a:pt x="11" y="10"/>
                  </a:lnTo>
                  <a:lnTo>
                    <a:pt x="16" y="9"/>
                  </a:lnTo>
                  <a:lnTo>
                    <a:pt x="22" y="8"/>
                  </a:lnTo>
                  <a:lnTo>
                    <a:pt x="32" y="4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71" y="5"/>
                  </a:lnTo>
                  <a:lnTo>
                    <a:pt x="74" y="10"/>
                  </a:lnTo>
                  <a:lnTo>
                    <a:pt x="7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183680" y="3068640"/>
              <a:ext cx="488520" cy="885960"/>
            </a:xfrm>
            <a:custGeom>
              <a:avLst/>
              <a:gdLst/>
              <a:ahLst/>
              <a:rect l="l" t="t" r="r" b="b"/>
              <a:pathLst>
                <a:path w="1638" h="3347">
                  <a:moveTo>
                    <a:pt x="1393" y="313"/>
                  </a:moveTo>
                  <a:lnTo>
                    <a:pt x="1395" y="335"/>
                  </a:lnTo>
                  <a:lnTo>
                    <a:pt x="1399" y="356"/>
                  </a:lnTo>
                  <a:lnTo>
                    <a:pt x="1400" y="379"/>
                  </a:lnTo>
                  <a:lnTo>
                    <a:pt x="1401" y="400"/>
                  </a:lnTo>
                  <a:lnTo>
                    <a:pt x="1403" y="444"/>
                  </a:lnTo>
                  <a:lnTo>
                    <a:pt x="1406" y="487"/>
                  </a:lnTo>
                  <a:lnTo>
                    <a:pt x="1408" y="508"/>
                  </a:lnTo>
                  <a:lnTo>
                    <a:pt x="1410" y="531"/>
                  </a:lnTo>
                  <a:lnTo>
                    <a:pt x="1414" y="552"/>
                  </a:lnTo>
                  <a:lnTo>
                    <a:pt x="1419" y="573"/>
                  </a:lnTo>
                  <a:lnTo>
                    <a:pt x="1424" y="594"/>
                  </a:lnTo>
                  <a:lnTo>
                    <a:pt x="1431" y="615"/>
                  </a:lnTo>
                  <a:lnTo>
                    <a:pt x="1441" y="636"/>
                  </a:lnTo>
                  <a:lnTo>
                    <a:pt x="1451" y="656"/>
                  </a:lnTo>
                  <a:lnTo>
                    <a:pt x="1471" y="751"/>
                  </a:lnTo>
                  <a:lnTo>
                    <a:pt x="1492" y="846"/>
                  </a:lnTo>
                  <a:lnTo>
                    <a:pt x="1512" y="942"/>
                  </a:lnTo>
                  <a:lnTo>
                    <a:pt x="1533" y="1038"/>
                  </a:lnTo>
                  <a:lnTo>
                    <a:pt x="1554" y="1134"/>
                  </a:lnTo>
                  <a:lnTo>
                    <a:pt x="1576" y="1229"/>
                  </a:lnTo>
                  <a:lnTo>
                    <a:pt x="1601" y="1322"/>
                  </a:lnTo>
                  <a:lnTo>
                    <a:pt x="1627" y="1416"/>
                  </a:lnTo>
                  <a:lnTo>
                    <a:pt x="1634" y="1494"/>
                  </a:lnTo>
                  <a:lnTo>
                    <a:pt x="1637" y="1574"/>
                  </a:lnTo>
                  <a:lnTo>
                    <a:pt x="1638" y="1655"/>
                  </a:lnTo>
                  <a:lnTo>
                    <a:pt x="1638" y="1735"/>
                  </a:lnTo>
                  <a:lnTo>
                    <a:pt x="1636" y="1818"/>
                  </a:lnTo>
                  <a:lnTo>
                    <a:pt x="1631" y="1900"/>
                  </a:lnTo>
                  <a:lnTo>
                    <a:pt x="1627" y="1983"/>
                  </a:lnTo>
                  <a:lnTo>
                    <a:pt x="1620" y="2066"/>
                  </a:lnTo>
                  <a:lnTo>
                    <a:pt x="1612" y="2148"/>
                  </a:lnTo>
                  <a:lnTo>
                    <a:pt x="1602" y="2231"/>
                  </a:lnTo>
                  <a:lnTo>
                    <a:pt x="1593" y="2313"/>
                  </a:lnTo>
                  <a:lnTo>
                    <a:pt x="1581" y="2394"/>
                  </a:lnTo>
                  <a:lnTo>
                    <a:pt x="1571" y="2475"/>
                  </a:lnTo>
                  <a:lnTo>
                    <a:pt x="1559" y="2553"/>
                  </a:lnTo>
                  <a:lnTo>
                    <a:pt x="1546" y="2631"/>
                  </a:lnTo>
                  <a:lnTo>
                    <a:pt x="1534" y="2708"/>
                  </a:lnTo>
                  <a:lnTo>
                    <a:pt x="1538" y="2713"/>
                  </a:lnTo>
                  <a:lnTo>
                    <a:pt x="1543" y="2720"/>
                  </a:lnTo>
                  <a:lnTo>
                    <a:pt x="1546" y="2728"/>
                  </a:lnTo>
                  <a:lnTo>
                    <a:pt x="1550" y="2739"/>
                  </a:lnTo>
                  <a:lnTo>
                    <a:pt x="1554" y="2761"/>
                  </a:lnTo>
                  <a:lnTo>
                    <a:pt x="1558" y="2786"/>
                  </a:lnTo>
                  <a:lnTo>
                    <a:pt x="1561" y="2813"/>
                  </a:lnTo>
                  <a:lnTo>
                    <a:pt x="1562" y="2838"/>
                  </a:lnTo>
                  <a:lnTo>
                    <a:pt x="1562" y="2863"/>
                  </a:lnTo>
                  <a:lnTo>
                    <a:pt x="1561" y="2884"/>
                  </a:lnTo>
                  <a:lnTo>
                    <a:pt x="1567" y="2912"/>
                  </a:lnTo>
                  <a:lnTo>
                    <a:pt x="1572" y="2940"/>
                  </a:lnTo>
                  <a:lnTo>
                    <a:pt x="1575" y="2968"/>
                  </a:lnTo>
                  <a:lnTo>
                    <a:pt x="1578" y="2997"/>
                  </a:lnTo>
                  <a:lnTo>
                    <a:pt x="1579" y="3027"/>
                  </a:lnTo>
                  <a:lnTo>
                    <a:pt x="1579" y="3056"/>
                  </a:lnTo>
                  <a:lnTo>
                    <a:pt x="1578" y="3086"/>
                  </a:lnTo>
                  <a:lnTo>
                    <a:pt x="1575" y="3116"/>
                  </a:lnTo>
                  <a:lnTo>
                    <a:pt x="1571" y="3146"/>
                  </a:lnTo>
                  <a:lnTo>
                    <a:pt x="1566" y="3175"/>
                  </a:lnTo>
                  <a:lnTo>
                    <a:pt x="1559" y="3204"/>
                  </a:lnTo>
                  <a:lnTo>
                    <a:pt x="1551" y="3234"/>
                  </a:lnTo>
                  <a:lnTo>
                    <a:pt x="1540" y="3263"/>
                  </a:lnTo>
                  <a:lnTo>
                    <a:pt x="1530" y="3292"/>
                  </a:lnTo>
                  <a:lnTo>
                    <a:pt x="1517" y="3320"/>
                  </a:lnTo>
                  <a:lnTo>
                    <a:pt x="1503" y="3347"/>
                  </a:lnTo>
                  <a:lnTo>
                    <a:pt x="1485" y="3347"/>
                  </a:lnTo>
                  <a:lnTo>
                    <a:pt x="1481" y="3301"/>
                  </a:lnTo>
                  <a:lnTo>
                    <a:pt x="1475" y="3258"/>
                  </a:lnTo>
                  <a:lnTo>
                    <a:pt x="1465" y="3214"/>
                  </a:lnTo>
                  <a:lnTo>
                    <a:pt x="1456" y="3172"/>
                  </a:lnTo>
                  <a:lnTo>
                    <a:pt x="1433" y="3087"/>
                  </a:lnTo>
                  <a:lnTo>
                    <a:pt x="1407" y="3004"/>
                  </a:lnTo>
                  <a:lnTo>
                    <a:pt x="1395" y="2962"/>
                  </a:lnTo>
                  <a:lnTo>
                    <a:pt x="1383" y="2919"/>
                  </a:lnTo>
                  <a:lnTo>
                    <a:pt x="1373" y="2876"/>
                  </a:lnTo>
                  <a:lnTo>
                    <a:pt x="1364" y="2831"/>
                  </a:lnTo>
                  <a:lnTo>
                    <a:pt x="1357" y="2787"/>
                  </a:lnTo>
                  <a:lnTo>
                    <a:pt x="1351" y="2740"/>
                  </a:lnTo>
                  <a:lnTo>
                    <a:pt x="1348" y="2717"/>
                  </a:lnTo>
                  <a:lnTo>
                    <a:pt x="1347" y="2692"/>
                  </a:lnTo>
                  <a:lnTo>
                    <a:pt x="1347" y="2668"/>
                  </a:lnTo>
                  <a:lnTo>
                    <a:pt x="1347" y="2642"/>
                  </a:lnTo>
                  <a:lnTo>
                    <a:pt x="1360" y="2551"/>
                  </a:lnTo>
                  <a:lnTo>
                    <a:pt x="1371" y="2458"/>
                  </a:lnTo>
                  <a:lnTo>
                    <a:pt x="1380" y="2365"/>
                  </a:lnTo>
                  <a:lnTo>
                    <a:pt x="1388" y="2270"/>
                  </a:lnTo>
                  <a:lnTo>
                    <a:pt x="1394" y="2175"/>
                  </a:lnTo>
                  <a:lnTo>
                    <a:pt x="1399" y="2079"/>
                  </a:lnTo>
                  <a:lnTo>
                    <a:pt x="1401" y="1984"/>
                  </a:lnTo>
                  <a:lnTo>
                    <a:pt x="1402" y="1889"/>
                  </a:lnTo>
                  <a:lnTo>
                    <a:pt x="1401" y="1793"/>
                  </a:lnTo>
                  <a:lnTo>
                    <a:pt x="1399" y="1697"/>
                  </a:lnTo>
                  <a:lnTo>
                    <a:pt x="1394" y="1601"/>
                  </a:lnTo>
                  <a:lnTo>
                    <a:pt x="1388" y="1505"/>
                  </a:lnTo>
                  <a:lnTo>
                    <a:pt x="1379" y="1410"/>
                  </a:lnTo>
                  <a:lnTo>
                    <a:pt x="1368" y="1315"/>
                  </a:lnTo>
                  <a:lnTo>
                    <a:pt x="1355" y="1222"/>
                  </a:lnTo>
                  <a:lnTo>
                    <a:pt x="1340" y="1129"/>
                  </a:lnTo>
                  <a:lnTo>
                    <a:pt x="1326" y="1086"/>
                  </a:lnTo>
                  <a:lnTo>
                    <a:pt x="1313" y="1044"/>
                  </a:lnTo>
                  <a:lnTo>
                    <a:pt x="1309" y="1034"/>
                  </a:lnTo>
                  <a:lnTo>
                    <a:pt x="1305" y="1024"/>
                  </a:lnTo>
                  <a:lnTo>
                    <a:pt x="1300" y="1014"/>
                  </a:lnTo>
                  <a:lnTo>
                    <a:pt x="1295" y="1004"/>
                  </a:lnTo>
                  <a:lnTo>
                    <a:pt x="1289" y="995"/>
                  </a:lnTo>
                  <a:lnTo>
                    <a:pt x="1282" y="987"/>
                  </a:lnTo>
                  <a:lnTo>
                    <a:pt x="1274" y="979"/>
                  </a:lnTo>
                  <a:lnTo>
                    <a:pt x="1264" y="970"/>
                  </a:lnTo>
                  <a:lnTo>
                    <a:pt x="1247" y="972"/>
                  </a:lnTo>
                  <a:lnTo>
                    <a:pt x="1229" y="972"/>
                  </a:lnTo>
                  <a:lnTo>
                    <a:pt x="1212" y="969"/>
                  </a:lnTo>
                  <a:lnTo>
                    <a:pt x="1195" y="965"/>
                  </a:lnTo>
                  <a:lnTo>
                    <a:pt x="1187" y="961"/>
                  </a:lnTo>
                  <a:lnTo>
                    <a:pt x="1180" y="958"/>
                  </a:lnTo>
                  <a:lnTo>
                    <a:pt x="1173" y="954"/>
                  </a:lnTo>
                  <a:lnTo>
                    <a:pt x="1166" y="949"/>
                  </a:lnTo>
                  <a:lnTo>
                    <a:pt x="1160" y="944"/>
                  </a:lnTo>
                  <a:lnTo>
                    <a:pt x="1154" y="938"/>
                  </a:lnTo>
                  <a:lnTo>
                    <a:pt x="1148" y="932"/>
                  </a:lnTo>
                  <a:lnTo>
                    <a:pt x="1144" y="925"/>
                  </a:lnTo>
                  <a:lnTo>
                    <a:pt x="1146" y="913"/>
                  </a:lnTo>
                  <a:lnTo>
                    <a:pt x="1148" y="901"/>
                  </a:lnTo>
                  <a:lnTo>
                    <a:pt x="1151" y="890"/>
                  </a:lnTo>
                  <a:lnTo>
                    <a:pt x="1152" y="877"/>
                  </a:lnTo>
                  <a:lnTo>
                    <a:pt x="1152" y="853"/>
                  </a:lnTo>
                  <a:lnTo>
                    <a:pt x="1150" y="830"/>
                  </a:lnTo>
                  <a:lnTo>
                    <a:pt x="1146" y="807"/>
                  </a:lnTo>
                  <a:lnTo>
                    <a:pt x="1140" y="784"/>
                  </a:lnTo>
                  <a:lnTo>
                    <a:pt x="1132" y="762"/>
                  </a:lnTo>
                  <a:lnTo>
                    <a:pt x="1123" y="740"/>
                  </a:lnTo>
                  <a:lnTo>
                    <a:pt x="1112" y="718"/>
                  </a:lnTo>
                  <a:lnTo>
                    <a:pt x="1099" y="697"/>
                  </a:lnTo>
                  <a:lnTo>
                    <a:pt x="1085" y="677"/>
                  </a:lnTo>
                  <a:lnTo>
                    <a:pt x="1070" y="657"/>
                  </a:lnTo>
                  <a:lnTo>
                    <a:pt x="1054" y="637"/>
                  </a:lnTo>
                  <a:lnTo>
                    <a:pt x="1036" y="618"/>
                  </a:lnTo>
                  <a:lnTo>
                    <a:pt x="1017" y="601"/>
                  </a:lnTo>
                  <a:lnTo>
                    <a:pt x="999" y="583"/>
                  </a:lnTo>
                  <a:lnTo>
                    <a:pt x="992" y="617"/>
                  </a:lnTo>
                  <a:lnTo>
                    <a:pt x="985" y="650"/>
                  </a:lnTo>
                  <a:lnTo>
                    <a:pt x="977" y="684"/>
                  </a:lnTo>
                  <a:lnTo>
                    <a:pt x="968" y="718"/>
                  </a:lnTo>
                  <a:lnTo>
                    <a:pt x="959" y="752"/>
                  </a:lnTo>
                  <a:lnTo>
                    <a:pt x="950" y="786"/>
                  </a:lnTo>
                  <a:lnTo>
                    <a:pt x="938" y="818"/>
                  </a:lnTo>
                  <a:lnTo>
                    <a:pt x="926" y="852"/>
                  </a:lnTo>
                  <a:lnTo>
                    <a:pt x="913" y="862"/>
                  </a:lnTo>
                  <a:lnTo>
                    <a:pt x="900" y="870"/>
                  </a:lnTo>
                  <a:lnTo>
                    <a:pt x="888" y="877"/>
                  </a:lnTo>
                  <a:lnTo>
                    <a:pt x="874" y="883"/>
                  </a:lnTo>
                  <a:lnTo>
                    <a:pt x="860" y="886"/>
                  </a:lnTo>
                  <a:lnTo>
                    <a:pt x="844" y="889"/>
                  </a:lnTo>
                  <a:lnTo>
                    <a:pt x="829" y="891"/>
                  </a:lnTo>
                  <a:lnTo>
                    <a:pt x="814" y="891"/>
                  </a:lnTo>
                  <a:lnTo>
                    <a:pt x="800" y="891"/>
                  </a:lnTo>
                  <a:lnTo>
                    <a:pt x="785" y="889"/>
                  </a:lnTo>
                  <a:lnTo>
                    <a:pt x="771" y="886"/>
                  </a:lnTo>
                  <a:lnTo>
                    <a:pt x="757" y="883"/>
                  </a:lnTo>
                  <a:lnTo>
                    <a:pt x="744" y="878"/>
                  </a:lnTo>
                  <a:lnTo>
                    <a:pt x="731" y="872"/>
                  </a:lnTo>
                  <a:lnTo>
                    <a:pt x="719" y="866"/>
                  </a:lnTo>
                  <a:lnTo>
                    <a:pt x="709" y="859"/>
                  </a:lnTo>
                  <a:lnTo>
                    <a:pt x="677" y="821"/>
                  </a:lnTo>
                  <a:lnTo>
                    <a:pt x="644" y="781"/>
                  </a:lnTo>
                  <a:lnTo>
                    <a:pt x="610" y="744"/>
                  </a:lnTo>
                  <a:lnTo>
                    <a:pt x="575" y="705"/>
                  </a:lnTo>
                  <a:lnTo>
                    <a:pt x="539" y="669"/>
                  </a:lnTo>
                  <a:lnTo>
                    <a:pt x="501" y="635"/>
                  </a:lnTo>
                  <a:lnTo>
                    <a:pt x="482" y="618"/>
                  </a:lnTo>
                  <a:lnTo>
                    <a:pt x="462" y="602"/>
                  </a:lnTo>
                  <a:lnTo>
                    <a:pt x="441" y="587"/>
                  </a:lnTo>
                  <a:lnTo>
                    <a:pt x="421" y="573"/>
                  </a:lnTo>
                  <a:lnTo>
                    <a:pt x="400" y="559"/>
                  </a:lnTo>
                  <a:lnTo>
                    <a:pt x="379" y="546"/>
                  </a:lnTo>
                  <a:lnTo>
                    <a:pt x="357" y="533"/>
                  </a:lnTo>
                  <a:lnTo>
                    <a:pt x="334" y="522"/>
                  </a:lnTo>
                  <a:lnTo>
                    <a:pt x="312" y="512"/>
                  </a:lnTo>
                  <a:lnTo>
                    <a:pt x="290" y="503"/>
                  </a:lnTo>
                  <a:lnTo>
                    <a:pt x="267" y="494"/>
                  </a:lnTo>
                  <a:lnTo>
                    <a:pt x="244" y="487"/>
                  </a:lnTo>
                  <a:lnTo>
                    <a:pt x="220" y="482"/>
                  </a:lnTo>
                  <a:lnTo>
                    <a:pt x="196" y="478"/>
                  </a:lnTo>
                  <a:lnTo>
                    <a:pt x="172" y="475"/>
                  </a:lnTo>
                  <a:lnTo>
                    <a:pt x="147" y="472"/>
                  </a:lnTo>
                  <a:lnTo>
                    <a:pt x="122" y="472"/>
                  </a:lnTo>
                  <a:lnTo>
                    <a:pt x="97" y="473"/>
                  </a:lnTo>
                  <a:lnTo>
                    <a:pt x="71" y="476"/>
                  </a:lnTo>
                  <a:lnTo>
                    <a:pt x="44" y="479"/>
                  </a:lnTo>
                  <a:lnTo>
                    <a:pt x="36" y="475"/>
                  </a:lnTo>
                  <a:lnTo>
                    <a:pt x="28" y="469"/>
                  </a:lnTo>
                  <a:lnTo>
                    <a:pt x="21" y="462"/>
                  </a:lnTo>
                  <a:lnTo>
                    <a:pt x="16" y="455"/>
                  </a:lnTo>
                  <a:lnTo>
                    <a:pt x="12" y="448"/>
                  </a:lnTo>
                  <a:lnTo>
                    <a:pt x="8" y="441"/>
                  </a:lnTo>
                  <a:lnTo>
                    <a:pt x="5" y="432"/>
                  </a:lnTo>
                  <a:lnTo>
                    <a:pt x="4" y="424"/>
                  </a:lnTo>
                  <a:lnTo>
                    <a:pt x="1" y="408"/>
                  </a:lnTo>
                  <a:lnTo>
                    <a:pt x="0" y="389"/>
                  </a:lnTo>
                  <a:lnTo>
                    <a:pt x="0" y="370"/>
                  </a:lnTo>
                  <a:lnTo>
                    <a:pt x="0" y="352"/>
                  </a:lnTo>
                  <a:lnTo>
                    <a:pt x="7" y="341"/>
                  </a:lnTo>
                  <a:lnTo>
                    <a:pt x="13" y="335"/>
                  </a:lnTo>
                  <a:lnTo>
                    <a:pt x="20" y="332"/>
                  </a:lnTo>
                  <a:lnTo>
                    <a:pt x="26" y="331"/>
                  </a:lnTo>
                  <a:lnTo>
                    <a:pt x="33" y="332"/>
                  </a:lnTo>
                  <a:lnTo>
                    <a:pt x="39" y="334"/>
                  </a:lnTo>
                  <a:lnTo>
                    <a:pt x="46" y="338"/>
                  </a:lnTo>
                  <a:lnTo>
                    <a:pt x="51" y="341"/>
                  </a:lnTo>
                  <a:lnTo>
                    <a:pt x="57" y="346"/>
                  </a:lnTo>
                  <a:lnTo>
                    <a:pt x="64" y="349"/>
                  </a:lnTo>
                  <a:lnTo>
                    <a:pt x="70" y="352"/>
                  </a:lnTo>
                  <a:lnTo>
                    <a:pt x="76" y="353"/>
                  </a:lnTo>
                  <a:lnTo>
                    <a:pt x="82" y="353"/>
                  </a:lnTo>
                  <a:lnTo>
                    <a:pt x="89" y="349"/>
                  </a:lnTo>
                  <a:lnTo>
                    <a:pt x="95" y="344"/>
                  </a:lnTo>
                  <a:lnTo>
                    <a:pt x="101" y="334"/>
                  </a:lnTo>
                  <a:lnTo>
                    <a:pt x="125" y="331"/>
                  </a:lnTo>
                  <a:lnTo>
                    <a:pt x="149" y="329"/>
                  </a:lnTo>
                  <a:lnTo>
                    <a:pt x="172" y="329"/>
                  </a:lnTo>
                  <a:lnTo>
                    <a:pt x="194" y="331"/>
                  </a:lnTo>
                  <a:lnTo>
                    <a:pt x="216" y="334"/>
                  </a:lnTo>
                  <a:lnTo>
                    <a:pt x="239" y="339"/>
                  </a:lnTo>
                  <a:lnTo>
                    <a:pt x="260" y="345"/>
                  </a:lnTo>
                  <a:lnTo>
                    <a:pt x="281" y="352"/>
                  </a:lnTo>
                  <a:lnTo>
                    <a:pt x="302" y="360"/>
                  </a:lnTo>
                  <a:lnTo>
                    <a:pt x="322" y="368"/>
                  </a:lnTo>
                  <a:lnTo>
                    <a:pt x="341" y="379"/>
                  </a:lnTo>
                  <a:lnTo>
                    <a:pt x="361" y="389"/>
                  </a:lnTo>
                  <a:lnTo>
                    <a:pt x="401" y="413"/>
                  </a:lnTo>
                  <a:lnTo>
                    <a:pt x="440" y="437"/>
                  </a:lnTo>
                  <a:lnTo>
                    <a:pt x="517" y="491"/>
                  </a:lnTo>
                  <a:lnTo>
                    <a:pt x="596" y="544"/>
                  </a:lnTo>
                  <a:lnTo>
                    <a:pt x="616" y="556"/>
                  </a:lnTo>
                  <a:lnTo>
                    <a:pt x="637" y="568"/>
                  </a:lnTo>
                  <a:lnTo>
                    <a:pt x="657" y="579"/>
                  </a:lnTo>
                  <a:lnTo>
                    <a:pt x="678" y="589"/>
                  </a:lnTo>
                  <a:lnTo>
                    <a:pt x="701" y="598"/>
                  </a:lnTo>
                  <a:lnTo>
                    <a:pt x="722" y="607"/>
                  </a:lnTo>
                  <a:lnTo>
                    <a:pt x="744" y="615"/>
                  </a:lnTo>
                  <a:lnTo>
                    <a:pt x="767" y="621"/>
                  </a:lnTo>
                  <a:lnTo>
                    <a:pt x="780" y="618"/>
                  </a:lnTo>
                  <a:lnTo>
                    <a:pt x="794" y="615"/>
                  </a:lnTo>
                  <a:lnTo>
                    <a:pt x="806" y="610"/>
                  </a:lnTo>
                  <a:lnTo>
                    <a:pt x="819" y="604"/>
                  </a:lnTo>
                  <a:lnTo>
                    <a:pt x="843" y="591"/>
                  </a:lnTo>
                  <a:lnTo>
                    <a:pt x="869" y="579"/>
                  </a:lnTo>
                  <a:lnTo>
                    <a:pt x="881" y="574"/>
                  </a:lnTo>
                  <a:lnTo>
                    <a:pt x="893" y="569"/>
                  </a:lnTo>
                  <a:lnTo>
                    <a:pt x="906" y="566"/>
                  </a:lnTo>
                  <a:lnTo>
                    <a:pt x="920" y="563"/>
                  </a:lnTo>
                  <a:lnTo>
                    <a:pt x="933" y="563"/>
                  </a:lnTo>
                  <a:lnTo>
                    <a:pt x="948" y="565"/>
                  </a:lnTo>
                  <a:lnTo>
                    <a:pt x="962" y="569"/>
                  </a:lnTo>
                  <a:lnTo>
                    <a:pt x="978" y="576"/>
                  </a:lnTo>
                  <a:lnTo>
                    <a:pt x="973" y="565"/>
                  </a:lnTo>
                  <a:lnTo>
                    <a:pt x="971" y="552"/>
                  </a:lnTo>
                  <a:lnTo>
                    <a:pt x="967" y="538"/>
                  </a:lnTo>
                  <a:lnTo>
                    <a:pt x="966" y="524"/>
                  </a:lnTo>
                  <a:lnTo>
                    <a:pt x="964" y="510"/>
                  </a:lnTo>
                  <a:lnTo>
                    <a:pt x="964" y="496"/>
                  </a:lnTo>
                  <a:lnTo>
                    <a:pt x="964" y="480"/>
                  </a:lnTo>
                  <a:lnTo>
                    <a:pt x="965" y="465"/>
                  </a:lnTo>
                  <a:lnTo>
                    <a:pt x="966" y="450"/>
                  </a:lnTo>
                  <a:lnTo>
                    <a:pt x="968" y="435"/>
                  </a:lnTo>
                  <a:lnTo>
                    <a:pt x="972" y="421"/>
                  </a:lnTo>
                  <a:lnTo>
                    <a:pt x="975" y="405"/>
                  </a:lnTo>
                  <a:lnTo>
                    <a:pt x="980" y="391"/>
                  </a:lnTo>
                  <a:lnTo>
                    <a:pt x="986" y="377"/>
                  </a:lnTo>
                  <a:lnTo>
                    <a:pt x="992" y="365"/>
                  </a:lnTo>
                  <a:lnTo>
                    <a:pt x="999" y="352"/>
                  </a:lnTo>
                  <a:lnTo>
                    <a:pt x="1007" y="344"/>
                  </a:lnTo>
                  <a:lnTo>
                    <a:pt x="1019" y="331"/>
                  </a:lnTo>
                  <a:lnTo>
                    <a:pt x="1031" y="315"/>
                  </a:lnTo>
                  <a:lnTo>
                    <a:pt x="1045" y="298"/>
                  </a:lnTo>
                  <a:lnTo>
                    <a:pt x="1051" y="289"/>
                  </a:lnTo>
                  <a:lnTo>
                    <a:pt x="1057" y="278"/>
                  </a:lnTo>
                  <a:lnTo>
                    <a:pt x="1062" y="269"/>
                  </a:lnTo>
                  <a:lnTo>
                    <a:pt x="1067" y="259"/>
                  </a:lnTo>
                  <a:lnTo>
                    <a:pt x="1070" y="249"/>
                  </a:lnTo>
                  <a:lnTo>
                    <a:pt x="1071" y="239"/>
                  </a:lnTo>
                  <a:lnTo>
                    <a:pt x="1072" y="230"/>
                  </a:lnTo>
                  <a:lnTo>
                    <a:pt x="1071" y="221"/>
                  </a:lnTo>
                  <a:lnTo>
                    <a:pt x="1065" y="204"/>
                  </a:lnTo>
                  <a:lnTo>
                    <a:pt x="1061" y="189"/>
                  </a:lnTo>
                  <a:lnTo>
                    <a:pt x="1060" y="174"/>
                  </a:lnTo>
                  <a:lnTo>
                    <a:pt x="1058" y="160"/>
                  </a:lnTo>
                  <a:lnTo>
                    <a:pt x="1060" y="145"/>
                  </a:lnTo>
                  <a:lnTo>
                    <a:pt x="1063" y="131"/>
                  </a:lnTo>
                  <a:lnTo>
                    <a:pt x="1067" y="115"/>
                  </a:lnTo>
                  <a:lnTo>
                    <a:pt x="1071" y="101"/>
                  </a:lnTo>
                  <a:lnTo>
                    <a:pt x="1084" y="74"/>
                  </a:lnTo>
                  <a:lnTo>
                    <a:pt x="1098" y="49"/>
                  </a:lnTo>
                  <a:lnTo>
                    <a:pt x="1112" y="23"/>
                  </a:lnTo>
                  <a:lnTo>
                    <a:pt x="1126" y="0"/>
                  </a:lnTo>
                  <a:lnTo>
                    <a:pt x="1144" y="0"/>
                  </a:lnTo>
                  <a:lnTo>
                    <a:pt x="1159" y="1"/>
                  </a:lnTo>
                  <a:lnTo>
                    <a:pt x="1174" y="3"/>
                  </a:lnTo>
                  <a:lnTo>
                    <a:pt x="1188" y="7"/>
                  </a:lnTo>
                  <a:lnTo>
                    <a:pt x="1202" y="10"/>
                  </a:lnTo>
                  <a:lnTo>
                    <a:pt x="1214" y="16"/>
                  </a:lnTo>
                  <a:lnTo>
                    <a:pt x="1226" y="23"/>
                  </a:lnTo>
                  <a:lnTo>
                    <a:pt x="1237" y="30"/>
                  </a:lnTo>
                  <a:lnTo>
                    <a:pt x="1247" y="38"/>
                  </a:lnTo>
                  <a:lnTo>
                    <a:pt x="1257" y="46"/>
                  </a:lnTo>
                  <a:lnTo>
                    <a:pt x="1265" y="56"/>
                  </a:lnTo>
                  <a:lnTo>
                    <a:pt x="1275" y="66"/>
                  </a:lnTo>
                  <a:lnTo>
                    <a:pt x="1282" y="77"/>
                  </a:lnTo>
                  <a:lnTo>
                    <a:pt x="1290" y="89"/>
                  </a:lnTo>
                  <a:lnTo>
                    <a:pt x="1297" y="100"/>
                  </a:lnTo>
                  <a:lnTo>
                    <a:pt x="1303" y="112"/>
                  </a:lnTo>
                  <a:lnTo>
                    <a:pt x="1316" y="138"/>
                  </a:lnTo>
                  <a:lnTo>
                    <a:pt x="1327" y="163"/>
                  </a:lnTo>
                  <a:lnTo>
                    <a:pt x="1338" y="190"/>
                  </a:lnTo>
                  <a:lnTo>
                    <a:pt x="1348" y="217"/>
                  </a:lnTo>
                  <a:lnTo>
                    <a:pt x="1358" y="243"/>
                  </a:lnTo>
                  <a:lnTo>
                    <a:pt x="1368" y="267"/>
                  </a:lnTo>
                  <a:lnTo>
                    <a:pt x="1380" y="292"/>
                  </a:lnTo>
                  <a:lnTo>
                    <a:pt x="1393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440" y="3114720"/>
              <a:ext cx="214560" cy="932040"/>
            </a:xfrm>
            <a:custGeom>
              <a:avLst/>
              <a:gdLst/>
              <a:ahLst/>
              <a:rect l="l" t="t" r="r" b="b"/>
              <a:pathLst>
                <a:path w="715" h="3518">
                  <a:moveTo>
                    <a:pt x="659" y="111"/>
                  </a:moveTo>
                  <a:lnTo>
                    <a:pt x="663" y="121"/>
                  </a:lnTo>
                  <a:lnTo>
                    <a:pt x="665" y="131"/>
                  </a:lnTo>
                  <a:lnTo>
                    <a:pt x="666" y="140"/>
                  </a:lnTo>
                  <a:lnTo>
                    <a:pt x="667" y="150"/>
                  </a:lnTo>
                  <a:lnTo>
                    <a:pt x="667" y="169"/>
                  </a:lnTo>
                  <a:lnTo>
                    <a:pt x="666" y="186"/>
                  </a:lnTo>
                  <a:lnTo>
                    <a:pt x="663" y="205"/>
                  </a:lnTo>
                  <a:lnTo>
                    <a:pt x="658" y="222"/>
                  </a:lnTo>
                  <a:lnTo>
                    <a:pt x="652" y="239"/>
                  </a:lnTo>
                  <a:lnTo>
                    <a:pt x="648" y="255"/>
                  </a:lnTo>
                  <a:lnTo>
                    <a:pt x="642" y="273"/>
                  </a:lnTo>
                  <a:lnTo>
                    <a:pt x="637" y="289"/>
                  </a:lnTo>
                  <a:lnTo>
                    <a:pt x="632" y="305"/>
                  </a:lnTo>
                  <a:lnTo>
                    <a:pt x="630" y="322"/>
                  </a:lnTo>
                  <a:lnTo>
                    <a:pt x="629" y="338"/>
                  </a:lnTo>
                  <a:lnTo>
                    <a:pt x="631" y="354"/>
                  </a:lnTo>
                  <a:lnTo>
                    <a:pt x="632" y="363"/>
                  </a:lnTo>
                  <a:lnTo>
                    <a:pt x="635" y="371"/>
                  </a:lnTo>
                  <a:lnTo>
                    <a:pt x="638" y="379"/>
                  </a:lnTo>
                  <a:lnTo>
                    <a:pt x="643" y="387"/>
                  </a:lnTo>
                  <a:lnTo>
                    <a:pt x="650" y="420"/>
                  </a:lnTo>
                  <a:lnTo>
                    <a:pt x="658" y="453"/>
                  </a:lnTo>
                  <a:lnTo>
                    <a:pt x="667" y="483"/>
                  </a:lnTo>
                  <a:lnTo>
                    <a:pt x="677" y="515"/>
                  </a:lnTo>
                  <a:lnTo>
                    <a:pt x="687" y="545"/>
                  </a:lnTo>
                  <a:lnTo>
                    <a:pt x="697" y="574"/>
                  </a:lnTo>
                  <a:lnTo>
                    <a:pt x="706" y="605"/>
                  </a:lnTo>
                  <a:lnTo>
                    <a:pt x="715" y="636"/>
                  </a:lnTo>
                  <a:lnTo>
                    <a:pt x="714" y="657"/>
                  </a:lnTo>
                  <a:lnTo>
                    <a:pt x="711" y="678"/>
                  </a:lnTo>
                  <a:lnTo>
                    <a:pt x="707" y="700"/>
                  </a:lnTo>
                  <a:lnTo>
                    <a:pt x="703" y="722"/>
                  </a:lnTo>
                  <a:lnTo>
                    <a:pt x="691" y="766"/>
                  </a:lnTo>
                  <a:lnTo>
                    <a:pt x="679" y="812"/>
                  </a:lnTo>
                  <a:lnTo>
                    <a:pt x="674" y="834"/>
                  </a:lnTo>
                  <a:lnTo>
                    <a:pt x="671" y="857"/>
                  </a:lnTo>
                  <a:lnTo>
                    <a:pt x="670" y="880"/>
                  </a:lnTo>
                  <a:lnTo>
                    <a:pt x="670" y="902"/>
                  </a:lnTo>
                  <a:lnTo>
                    <a:pt x="671" y="914"/>
                  </a:lnTo>
                  <a:lnTo>
                    <a:pt x="672" y="925"/>
                  </a:lnTo>
                  <a:lnTo>
                    <a:pt x="674" y="936"/>
                  </a:lnTo>
                  <a:lnTo>
                    <a:pt x="678" y="947"/>
                  </a:lnTo>
                  <a:lnTo>
                    <a:pt x="681" y="959"/>
                  </a:lnTo>
                  <a:lnTo>
                    <a:pt x="686" y="970"/>
                  </a:lnTo>
                  <a:lnTo>
                    <a:pt x="691" y="981"/>
                  </a:lnTo>
                  <a:lnTo>
                    <a:pt x="698" y="992"/>
                  </a:lnTo>
                  <a:lnTo>
                    <a:pt x="688" y="993"/>
                  </a:lnTo>
                  <a:lnTo>
                    <a:pt x="681" y="995"/>
                  </a:lnTo>
                  <a:lnTo>
                    <a:pt x="676" y="998"/>
                  </a:lnTo>
                  <a:lnTo>
                    <a:pt x="670" y="1001"/>
                  </a:lnTo>
                  <a:lnTo>
                    <a:pt x="665" y="1004"/>
                  </a:lnTo>
                  <a:lnTo>
                    <a:pt x="662" y="1007"/>
                  </a:lnTo>
                  <a:lnTo>
                    <a:pt x="658" y="1012"/>
                  </a:lnTo>
                  <a:lnTo>
                    <a:pt x="656" y="1016"/>
                  </a:lnTo>
                  <a:lnTo>
                    <a:pt x="652" y="1026"/>
                  </a:lnTo>
                  <a:lnTo>
                    <a:pt x="651" y="1036"/>
                  </a:lnTo>
                  <a:lnTo>
                    <a:pt x="652" y="1047"/>
                  </a:lnTo>
                  <a:lnTo>
                    <a:pt x="653" y="1059"/>
                  </a:lnTo>
                  <a:lnTo>
                    <a:pt x="659" y="1084"/>
                  </a:lnTo>
                  <a:lnTo>
                    <a:pt x="662" y="1109"/>
                  </a:lnTo>
                  <a:lnTo>
                    <a:pt x="662" y="1122"/>
                  </a:lnTo>
                  <a:lnTo>
                    <a:pt x="660" y="1133"/>
                  </a:lnTo>
                  <a:lnTo>
                    <a:pt x="658" y="1139"/>
                  </a:lnTo>
                  <a:lnTo>
                    <a:pt x="656" y="1144"/>
                  </a:lnTo>
                  <a:lnTo>
                    <a:pt x="653" y="1150"/>
                  </a:lnTo>
                  <a:lnTo>
                    <a:pt x="649" y="1155"/>
                  </a:lnTo>
                  <a:lnTo>
                    <a:pt x="638" y="1205"/>
                  </a:lnTo>
                  <a:lnTo>
                    <a:pt x="627" y="1256"/>
                  </a:lnTo>
                  <a:lnTo>
                    <a:pt x="614" y="1307"/>
                  </a:lnTo>
                  <a:lnTo>
                    <a:pt x="600" y="1358"/>
                  </a:lnTo>
                  <a:lnTo>
                    <a:pt x="587" y="1409"/>
                  </a:lnTo>
                  <a:lnTo>
                    <a:pt x="573" y="1462"/>
                  </a:lnTo>
                  <a:lnTo>
                    <a:pt x="560" y="1514"/>
                  </a:lnTo>
                  <a:lnTo>
                    <a:pt x="548" y="1567"/>
                  </a:lnTo>
                  <a:lnTo>
                    <a:pt x="536" y="1620"/>
                  </a:lnTo>
                  <a:lnTo>
                    <a:pt x="526" y="1674"/>
                  </a:lnTo>
                  <a:lnTo>
                    <a:pt x="518" y="1728"/>
                  </a:lnTo>
                  <a:lnTo>
                    <a:pt x="512" y="1783"/>
                  </a:lnTo>
                  <a:lnTo>
                    <a:pt x="510" y="1811"/>
                  </a:lnTo>
                  <a:lnTo>
                    <a:pt x="507" y="1838"/>
                  </a:lnTo>
                  <a:lnTo>
                    <a:pt x="506" y="1866"/>
                  </a:lnTo>
                  <a:lnTo>
                    <a:pt x="506" y="1894"/>
                  </a:lnTo>
                  <a:lnTo>
                    <a:pt x="506" y="1922"/>
                  </a:lnTo>
                  <a:lnTo>
                    <a:pt x="507" y="1951"/>
                  </a:lnTo>
                  <a:lnTo>
                    <a:pt x="508" y="1979"/>
                  </a:lnTo>
                  <a:lnTo>
                    <a:pt x="511" y="2008"/>
                  </a:lnTo>
                  <a:lnTo>
                    <a:pt x="506" y="2041"/>
                  </a:lnTo>
                  <a:lnTo>
                    <a:pt x="500" y="2074"/>
                  </a:lnTo>
                  <a:lnTo>
                    <a:pt x="493" y="2108"/>
                  </a:lnTo>
                  <a:lnTo>
                    <a:pt x="484" y="2140"/>
                  </a:lnTo>
                  <a:lnTo>
                    <a:pt x="474" y="2174"/>
                  </a:lnTo>
                  <a:lnTo>
                    <a:pt x="465" y="2207"/>
                  </a:lnTo>
                  <a:lnTo>
                    <a:pt x="453" y="2241"/>
                  </a:lnTo>
                  <a:lnTo>
                    <a:pt x="443" y="2274"/>
                  </a:lnTo>
                  <a:lnTo>
                    <a:pt x="418" y="2342"/>
                  </a:lnTo>
                  <a:lnTo>
                    <a:pt x="393" y="2410"/>
                  </a:lnTo>
                  <a:lnTo>
                    <a:pt x="368" y="2477"/>
                  </a:lnTo>
                  <a:lnTo>
                    <a:pt x="344" y="2545"/>
                  </a:lnTo>
                  <a:lnTo>
                    <a:pt x="332" y="2580"/>
                  </a:lnTo>
                  <a:lnTo>
                    <a:pt x="321" y="2614"/>
                  </a:lnTo>
                  <a:lnTo>
                    <a:pt x="311" y="2649"/>
                  </a:lnTo>
                  <a:lnTo>
                    <a:pt x="301" y="2683"/>
                  </a:lnTo>
                  <a:lnTo>
                    <a:pt x="292" y="2718"/>
                  </a:lnTo>
                  <a:lnTo>
                    <a:pt x="285" y="2753"/>
                  </a:lnTo>
                  <a:lnTo>
                    <a:pt x="278" y="2787"/>
                  </a:lnTo>
                  <a:lnTo>
                    <a:pt x="273" y="2822"/>
                  </a:lnTo>
                  <a:lnTo>
                    <a:pt x="269" y="2857"/>
                  </a:lnTo>
                  <a:lnTo>
                    <a:pt x="266" y="2893"/>
                  </a:lnTo>
                  <a:lnTo>
                    <a:pt x="266" y="2929"/>
                  </a:lnTo>
                  <a:lnTo>
                    <a:pt x="266" y="2964"/>
                  </a:lnTo>
                  <a:lnTo>
                    <a:pt x="270" y="2999"/>
                  </a:lnTo>
                  <a:lnTo>
                    <a:pt x="275" y="3035"/>
                  </a:lnTo>
                  <a:lnTo>
                    <a:pt x="282" y="3070"/>
                  </a:lnTo>
                  <a:lnTo>
                    <a:pt x="290" y="3107"/>
                  </a:lnTo>
                  <a:lnTo>
                    <a:pt x="283" y="3132"/>
                  </a:lnTo>
                  <a:lnTo>
                    <a:pt x="273" y="3158"/>
                  </a:lnTo>
                  <a:lnTo>
                    <a:pt x="263" y="3183"/>
                  </a:lnTo>
                  <a:lnTo>
                    <a:pt x="250" y="3207"/>
                  </a:lnTo>
                  <a:lnTo>
                    <a:pt x="224" y="3254"/>
                  </a:lnTo>
                  <a:lnTo>
                    <a:pt x="196" y="3302"/>
                  </a:lnTo>
                  <a:lnTo>
                    <a:pt x="183" y="3325"/>
                  </a:lnTo>
                  <a:lnTo>
                    <a:pt x="170" y="3349"/>
                  </a:lnTo>
                  <a:lnTo>
                    <a:pt x="159" y="3373"/>
                  </a:lnTo>
                  <a:lnTo>
                    <a:pt x="148" y="3398"/>
                  </a:lnTo>
                  <a:lnTo>
                    <a:pt x="139" y="3424"/>
                  </a:lnTo>
                  <a:lnTo>
                    <a:pt x="132" y="3449"/>
                  </a:lnTo>
                  <a:lnTo>
                    <a:pt x="129" y="3462"/>
                  </a:lnTo>
                  <a:lnTo>
                    <a:pt x="127" y="3476"/>
                  </a:lnTo>
                  <a:lnTo>
                    <a:pt x="125" y="3490"/>
                  </a:lnTo>
                  <a:lnTo>
                    <a:pt x="124" y="3504"/>
                  </a:lnTo>
                  <a:lnTo>
                    <a:pt x="106" y="3511"/>
                  </a:lnTo>
                  <a:lnTo>
                    <a:pt x="91" y="3517"/>
                  </a:lnTo>
                  <a:lnTo>
                    <a:pt x="84" y="3518"/>
                  </a:lnTo>
                  <a:lnTo>
                    <a:pt x="77" y="3518"/>
                  </a:lnTo>
                  <a:lnTo>
                    <a:pt x="69" y="3517"/>
                  </a:lnTo>
                  <a:lnTo>
                    <a:pt x="58" y="3515"/>
                  </a:lnTo>
                  <a:lnTo>
                    <a:pt x="46" y="3476"/>
                  </a:lnTo>
                  <a:lnTo>
                    <a:pt x="35" y="3438"/>
                  </a:lnTo>
                  <a:lnTo>
                    <a:pt x="25" y="3400"/>
                  </a:lnTo>
                  <a:lnTo>
                    <a:pt x="18" y="3362"/>
                  </a:lnTo>
                  <a:lnTo>
                    <a:pt x="11" y="3323"/>
                  </a:lnTo>
                  <a:lnTo>
                    <a:pt x="7" y="3284"/>
                  </a:lnTo>
                  <a:lnTo>
                    <a:pt x="3" y="3247"/>
                  </a:lnTo>
                  <a:lnTo>
                    <a:pt x="1" y="3208"/>
                  </a:lnTo>
                  <a:lnTo>
                    <a:pt x="0" y="3170"/>
                  </a:lnTo>
                  <a:lnTo>
                    <a:pt x="1" y="3132"/>
                  </a:lnTo>
                  <a:lnTo>
                    <a:pt x="2" y="3094"/>
                  </a:lnTo>
                  <a:lnTo>
                    <a:pt x="4" y="3055"/>
                  </a:lnTo>
                  <a:lnTo>
                    <a:pt x="8" y="3018"/>
                  </a:lnTo>
                  <a:lnTo>
                    <a:pt x="11" y="2979"/>
                  </a:lnTo>
                  <a:lnTo>
                    <a:pt x="17" y="2942"/>
                  </a:lnTo>
                  <a:lnTo>
                    <a:pt x="23" y="2903"/>
                  </a:lnTo>
                  <a:lnTo>
                    <a:pt x="30" y="2866"/>
                  </a:lnTo>
                  <a:lnTo>
                    <a:pt x="37" y="2827"/>
                  </a:lnTo>
                  <a:lnTo>
                    <a:pt x="45" y="2790"/>
                  </a:lnTo>
                  <a:lnTo>
                    <a:pt x="55" y="2752"/>
                  </a:lnTo>
                  <a:lnTo>
                    <a:pt x="75" y="2676"/>
                  </a:lnTo>
                  <a:lnTo>
                    <a:pt x="96" y="2601"/>
                  </a:lnTo>
                  <a:lnTo>
                    <a:pt x="118" y="2526"/>
                  </a:lnTo>
                  <a:lnTo>
                    <a:pt x="141" y="2453"/>
                  </a:lnTo>
                  <a:lnTo>
                    <a:pt x="166" y="2378"/>
                  </a:lnTo>
                  <a:lnTo>
                    <a:pt x="190" y="2305"/>
                  </a:lnTo>
                  <a:lnTo>
                    <a:pt x="202" y="2231"/>
                  </a:lnTo>
                  <a:lnTo>
                    <a:pt x="214" y="2156"/>
                  </a:lnTo>
                  <a:lnTo>
                    <a:pt x="224" y="2079"/>
                  </a:lnTo>
                  <a:lnTo>
                    <a:pt x="234" y="2000"/>
                  </a:lnTo>
                  <a:lnTo>
                    <a:pt x="242" y="1922"/>
                  </a:lnTo>
                  <a:lnTo>
                    <a:pt x="250" y="1842"/>
                  </a:lnTo>
                  <a:lnTo>
                    <a:pt x="258" y="1763"/>
                  </a:lnTo>
                  <a:lnTo>
                    <a:pt x="266" y="1682"/>
                  </a:lnTo>
                  <a:lnTo>
                    <a:pt x="275" y="1601"/>
                  </a:lnTo>
                  <a:lnTo>
                    <a:pt x="283" y="1521"/>
                  </a:lnTo>
                  <a:lnTo>
                    <a:pt x="293" y="1441"/>
                  </a:lnTo>
                  <a:lnTo>
                    <a:pt x="304" y="1360"/>
                  </a:lnTo>
                  <a:lnTo>
                    <a:pt x="315" y="1282"/>
                  </a:lnTo>
                  <a:lnTo>
                    <a:pt x="329" y="1204"/>
                  </a:lnTo>
                  <a:lnTo>
                    <a:pt x="345" y="1126"/>
                  </a:lnTo>
                  <a:lnTo>
                    <a:pt x="362" y="1050"/>
                  </a:lnTo>
                  <a:lnTo>
                    <a:pt x="354" y="1022"/>
                  </a:lnTo>
                  <a:lnTo>
                    <a:pt x="346" y="993"/>
                  </a:lnTo>
                  <a:lnTo>
                    <a:pt x="340" y="963"/>
                  </a:lnTo>
                  <a:lnTo>
                    <a:pt x="334" y="933"/>
                  </a:lnTo>
                  <a:lnTo>
                    <a:pt x="328" y="903"/>
                  </a:lnTo>
                  <a:lnTo>
                    <a:pt x="325" y="871"/>
                  </a:lnTo>
                  <a:lnTo>
                    <a:pt x="321" y="841"/>
                  </a:lnTo>
                  <a:lnTo>
                    <a:pt x="319" y="809"/>
                  </a:lnTo>
                  <a:lnTo>
                    <a:pt x="318" y="778"/>
                  </a:lnTo>
                  <a:lnTo>
                    <a:pt x="317" y="746"/>
                  </a:lnTo>
                  <a:lnTo>
                    <a:pt x="317" y="715"/>
                  </a:lnTo>
                  <a:lnTo>
                    <a:pt x="317" y="682"/>
                  </a:lnTo>
                  <a:lnTo>
                    <a:pt x="318" y="650"/>
                  </a:lnTo>
                  <a:lnTo>
                    <a:pt x="320" y="619"/>
                  </a:lnTo>
                  <a:lnTo>
                    <a:pt x="322" y="586"/>
                  </a:lnTo>
                  <a:lnTo>
                    <a:pt x="326" y="554"/>
                  </a:lnTo>
                  <a:lnTo>
                    <a:pt x="334" y="490"/>
                  </a:lnTo>
                  <a:lnTo>
                    <a:pt x="345" y="427"/>
                  </a:lnTo>
                  <a:lnTo>
                    <a:pt x="358" y="364"/>
                  </a:lnTo>
                  <a:lnTo>
                    <a:pt x="373" y="303"/>
                  </a:lnTo>
                  <a:lnTo>
                    <a:pt x="388" y="242"/>
                  </a:lnTo>
                  <a:lnTo>
                    <a:pt x="407" y="184"/>
                  </a:lnTo>
                  <a:lnTo>
                    <a:pt x="425" y="128"/>
                  </a:lnTo>
                  <a:lnTo>
                    <a:pt x="445" y="73"/>
                  </a:lnTo>
                  <a:lnTo>
                    <a:pt x="453" y="60"/>
                  </a:lnTo>
                  <a:lnTo>
                    <a:pt x="464" y="48"/>
                  </a:lnTo>
                  <a:lnTo>
                    <a:pt x="474" y="36"/>
                  </a:lnTo>
                  <a:lnTo>
                    <a:pt x="487" y="27"/>
                  </a:lnTo>
                  <a:lnTo>
                    <a:pt x="499" y="19"/>
                  </a:lnTo>
                  <a:lnTo>
                    <a:pt x="512" y="12"/>
                  </a:lnTo>
                  <a:lnTo>
                    <a:pt x="526" y="6"/>
                  </a:lnTo>
                  <a:lnTo>
                    <a:pt x="539" y="0"/>
                  </a:lnTo>
                  <a:lnTo>
                    <a:pt x="561" y="5"/>
                  </a:lnTo>
                  <a:lnTo>
                    <a:pt x="582" y="12"/>
                  </a:lnTo>
                  <a:lnTo>
                    <a:pt x="593" y="16"/>
                  </a:lnTo>
                  <a:lnTo>
                    <a:pt x="603" y="21"/>
                  </a:lnTo>
                  <a:lnTo>
                    <a:pt x="612" y="27"/>
                  </a:lnTo>
                  <a:lnTo>
                    <a:pt x="621" y="34"/>
                  </a:lnTo>
                  <a:lnTo>
                    <a:pt x="629" y="41"/>
                  </a:lnTo>
                  <a:lnTo>
                    <a:pt x="637" y="48"/>
                  </a:lnTo>
                  <a:lnTo>
                    <a:pt x="643" y="56"/>
                  </a:lnTo>
                  <a:lnTo>
                    <a:pt x="649" y="66"/>
                  </a:lnTo>
                  <a:lnTo>
                    <a:pt x="653" y="76"/>
                  </a:lnTo>
                  <a:lnTo>
                    <a:pt x="657" y="87"/>
                  </a:lnTo>
                  <a:lnTo>
                    <a:pt x="659" y="98"/>
                  </a:lnTo>
                  <a:lnTo>
                    <a:pt x="65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64640" y="3173400"/>
              <a:ext cx="318240" cy="150840"/>
            </a:xfrm>
            <a:custGeom>
              <a:avLst/>
              <a:gdLst/>
              <a:ahLst/>
              <a:rect l="l" t="t" r="r" b="b"/>
              <a:pathLst>
                <a:path w="1066" h="569">
                  <a:moveTo>
                    <a:pt x="1066" y="78"/>
                  </a:moveTo>
                  <a:lnTo>
                    <a:pt x="1045" y="196"/>
                  </a:lnTo>
                  <a:lnTo>
                    <a:pt x="1034" y="202"/>
                  </a:lnTo>
                  <a:lnTo>
                    <a:pt x="1025" y="207"/>
                  </a:lnTo>
                  <a:lnTo>
                    <a:pt x="1016" y="208"/>
                  </a:lnTo>
                  <a:lnTo>
                    <a:pt x="1006" y="208"/>
                  </a:lnTo>
                  <a:lnTo>
                    <a:pt x="998" y="207"/>
                  </a:lnTo>
                  <a:lnTo>
                    <a:pt x="989" y="204"/>
                  </a:lnTo>
                  <a:lnTo>
                    <a:pt x="981" y="201"/>
                  </a:lnTo>
                  <a:lnTo>
                    <a:pt x="971" y="197"/>
                  </a:lnTo>
                  <a:lnTo>
                    <a:pt x="963" y="194"/>
                  </a:lnTo>
                  <a:lnTo>
                    <a:pt x="955" y="190"/>
                  </a:lnTo>
                  <a:lnTo>
                    <a:pt x="946" y="187"/>
                  </a:lnTo>
                  <a:lnTo>
                    <a:pt x="936" y="186"/>
                  </a:lnTo>
                  <a:lnTo>
                    <a:pt x="927" y="186"/>
                  </a:lnTo>
                  <a:lnTo>
                    <a:pt x="918" y="187"/>
                  </a:lnTo>
                  <a:lnTo>
                    <a:pt x="907" y="190"/>
                  </a:lnTo>
                  <a:lnTo>
                    <a:pt x="896" y="196"/>
                  </a:lnTo>
                  <a:lnTo>
                    <a:pt x="881" y="204"/>
                  </a:lnTo>
                  <a:lnTo>
                    <a:pt x="868" y="215"/>
                  </a:lnTo>
                  <a:lnTo>
                    <a:pt x="856" y="226"/>
                  </a:lnTo>
                  <a:lnTo>
                    <a:pt x="843" y="236"/>
                  </a:lnTo>
                  <a:lnTo>
                    <a:pt x="832" y="248"/>
                  </a:lnTo>
                  <a:lnTo>
                    <a:pt x="820" y="259"/>
                  </a:lnTo>
                  <a:lnTo>
                    <a:pt x="810" y="271"/>
                  </a:lnTo>
                  <a:lnTo>
                    <a:pt x="801" y="284"/>
                  </a:lnTo>
                  <a:lnTo>
                    <a:pt x="782" y="310"/>
                  </a:lnTo>
                  <a:lnTo>
                    <a:pt x="764" y="337"/>
                  </a:lnTo>
                  <a:lnTo>
                    <a:pt x="748" y="362"/>
                  </a:lnTo>
                  <a:lnTo>
                    <a:pt x="730" y="389"/>
                  </a:lnTo>
                  <a:lnTo>
                    <a:pt x="714" y="415"/>
                  </a:lnTo>
                  <a:lnTo>
                    <a:pt x="697" y="440"/>
                  </a:lnTo>
                  <a:lnTo>
                    <a:pt x="687" y="451"/>
                  </a:lnTo>
                  <a:lnTo>
                    <a:pt x="678" y="462"/>
                  </a:lnTo>
                  <a:lnTo>
                    <a:pt x="667" y="474"/>
                  </a:lnTo>
                  <a:lnTo>
                    <a:pt x="657" y="483"/>
                  </a:lnTo>
                  <a:lnTo>
                    <a:pt x="645" y="492"/>
                  </a:lnTo>
                  <a:lnTo>
                    <a:pt x="633" y="502"/>
                  </a:lnTo>
                  <a:lnTo>
                    <a:pt x="622" y="510"/>
                  </a:lnTo>
                  <a:lnTo>
                    <a:pt x="609" y="517"/>
                  </a:lnTo>
                  <a:lnTo>
                    <a:pt x="595" y="524"/>
                  </a:lnTo>
                  <a:lnTo>
                    <a:pt x="580" y="530"/>
                  </a:lnTo>
                  <a:lnTo>
                    <a:pt x="564" y="534"/>
                  </a:lnTo>
                  <a:lnTo>
                    <a:pt x="547" y="538"/>
                  </a:lnTo>
                  <a:lnTo>
                    <a:pt x="514" y="545"/>
                  </a:lnTo>
                  <a:lnTo>
                    <a:pt x="480" y="550"/>
                  </a:lnTo>
                  <a:lnTo>
                    <a:pt x="447" y="553"/>
                  </a:lnTo>
                  <a:lnTo>
                    <a:pt x="414" y="555"/>
                  </a:lnTo>
                  <a:lnTo>
                    <a:pt x="347" y="558"/>
                  </a:lnTo>
                  <a:lnTo>
                    <a:pt x="280" y="559"/>
                  </a:lnTo>
                  <a:lnTo>
                    <a:pt x="214" y="559"/>
                  </a:lnTo>
                  <a:lnTo>
                    <a:pt x="146" y="559"/>
                  </a:lnTo>
                  <a:lnTo>
                    <a:pt x="112" y="560"/>
                  </a:lnTo>
                  <a:lnTo>
                    <a:pt x="78" y="562"/>
                  </a:lnTo>
                  <a:lnTo>
                    <a:pt x="43" y="565"/>
                  </a:lnTo>
                  <a:lnTo>
                    <a:pt x="9" y="569"/>
                  </a:lnTo>
                  <a:lnTo>
                    <a:pt x="5" y="559"/>
                  </a:lnTo>
                  <a:lnTo>
                    <a:pt x="3" y="548"/>
                  </a:lnTo>
                  <a:lnTo>
                    <a:pt x="1" y="538"/>
                  </a:lnTo>
                  <a:lnTo>
                    <a:pt x="0" y="527"/>
                  </a:lnTo>
                  <a:lnTo>
                    <a:pt x="0" y="516"/>
                  </a:lnTo>
                  <a:lnTo>
                    <a:pt x="1" y="504"/>
                  </a:lnTo>
                  <a:lnTo>
                    <a:pt x="2" y="492"/>
                  </a:lnTo>
                  <a:lnTo>
                    <a:pt x="3" y="481"/>
                  </a:lnTo>
                  <a:lnTo>
                    <a:pt x="8" y="458"/>
                  </a:lnTo>
                  <a:lnTo>
                    <a:pt x="15" y="435"/>
                  </a:lnTo>
                  <a:lnTo>
                    <a:pt x="22" y="413"/>
                  </a:lnTo>
                  <a:lnTo>
                    <a:pt x="29" y="393"/>
                  </a:lnTo>
                  <a:lnTo>
                    <a:pt x="56" y="399"/>
                  </a:lnTo>
                  <a:lnTo>
                    <a:pt x="84" y="404"/>
                  </a:lnTo>
                  <a:lnTo>
                    <a:pt x="113" y="410"/>
                  </a:lnTo>
                  <a:lnTo>
                    <a:pt x="145" y="415"/>
                  </a:lnTo>
                  <a:lnTo>
                    <a:pt x="176" y="419"/>
                  </a:lnTo>
                  <a:lnTo>
                    <a:pt x="209" y="422"/>
                  </a:lnTo>
                  <a:lnTo>
                    <a:pt x="243" y="424"/>
                  </a:lnTo>
                  <a:lnTo>
                    <a:pt x="276" y="426"/>
                  </a:lnTo>
                  <a:lnTo>
                    <a:pt x="309" y="426"/>
                  </a:lnTo>
                  <a:lnTo>
                    <a:pt x="342" y="423"/>
                  </a:lnTo>
                  <a:lnTo>
                    <a:pt x="375" y="420"/>
                  </a:lnTo>
                  <a:lnTo>
                    <a:pt x="406" y="414"/>
                  </a:lnTo>
                  <a:lnTo>
                    <a:pt x="422" y="409"/>
                  </a:lnTo>
                  <a:lnTo>
                    <a:pt x="437" y="406"/>
                  </a:lnTo>
                  <a:lnTo>
                    <a:pt x="452" y="400"/>
                  </a:lnTo>
                  <a:lnTo>
                    <a:pt x="466" y="394"/>
                  </a:lnTo>
                  <a:lnTo>
                    <a:pt x="480" y="388"/>
                  </a:lnTo>
                  <a:lnTo>
                    <a:pt x="494" y="381"/>
                  </a:lnTo>
                  <a:lnTo>
                    <a:pt x="507" y="374"/>
                  </a:lnTo>
                  <a:lnTo>
                    <a:pt x="520" y="365"/>
                  </a:lnTo>
                  <a:lnTo>
                    <a:pt x="564" y="318"/>
                  </a:lnTo>
                  <a:lnTo>
                    <a:pt x="612" y="269"/>
                  </a:lnTo>
                  <a:lnTo>
                    <a:pt x="663" y="221"/>
                  </a:lnTo>
                  <a:lnTo>
                    <a:pt x="716" y="172"/>
                  </a:lnTo>
                  <a:lnTo>
                    <a:pt x="743" y="148"/>
                  </a:lnTo>
                  <a:lnTo>
                    <a:pt x="771" y="125"/>
                  </a:lnTo>
                  <a:lnTo>
                    <a:pt x="799" y="103"/>
                  </a:lnTo>
                  <a:lnTo>
                    <a:pt x="827" y="81"/>
                  </a:lnTo>
                  <a:lnTo>
                    <a:pt x="856" y="59"/>
                  </a:lnTo>
                  <a:lnTo>
                    <a:pt x="884" y="40"/>
                  </a:lnTo>
                  <a:lnTo>
                    <a:pt x="913" y="21"/>
                  </a:lnTo>
                  <a:lnTo>
                    <a:pt x="941" y="2"/>
                  </a:lnTo>
                  <a:lnTo>
                    <a:pt x="953" y="1"/>
                  </a:lnTo>
                  <a:lnTo>
                    <a:pt x="963" y="0"/>
                  </a:lnTo>
                  <a:lnTo>
                    <a:pt x="974" y="0"/>
                  </a:lnTo>
                  <a:lnTo>
                    <a:pt x="985" y="0"/>
                  </a:lnTo>
                  <a:lnTo>
                    <a:pt x="996" y="2"/>
                  </a:lnTo>
                  <a:lnTo>
                    <a:pt x="1005" y="4"/>
                  </a:lnTo>
                  <a:lnTo>
                    <a:pt x="1015" y="9"/>
                  </a:lnTo>
                  <a:lnTo>
                    <a:pt x="1024" y="13"/>
                  </a:lnTo>
                  <a:lnTo>
                    <a:pt x="1032" y="19"/>
                  </a:lnTo>
                  <a:lnTo>
                    <a:pt x="1040" y="26"/>
                  </a:lnTo>
                  <a:lnTo>
                    <a:pt x="1047" y="33"/>
                  </a:lnTo>
                  <a:lnTo>
                    <a:pt x="1053" y="40"/>
                  </a:lnTo>
                  <a:lnTo>
                    <a:pt x="1058" y="49"/>
                  </a:lnTo>
                  <a:lnTo>
                    <a:pt x="1061" y="58"/>
                  </a:lnTo>
                  <a:lnTo>
                    <a:pt x="1064" y="68"/>
                  </a:lnTo>
                  <a:lnTo>
                    <a:pt x="106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203480" y="3173400"/>
              <a:ext cx="88920" cy="20880"/>
            </a:xfrm>
            <a:custGeom>
              <a:avLst/>
              <a:gdLst/>
              <a:ahLst/>
              <a:rect l="l" t="t" r="r" b="b"/>
              <a:pathLst>
                <a:path w="300" h="76">
                  <a:moveTo>
                    <a:pt x="300" y="76"/>
                  </a:moveTo>
                  <a:lnTo>
                    <a:pt x="283" y="71"/>
                  </a:lnTo>
                  <a:lnTo>
                    <a:pt x="265" y="68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189" y="57"/>
                  </a:lnTo>
                  <a:lnTo>
                    <a:pt x="150" y="54"/>
                  </a:lnTo>
                  <a:lnTo>
                    <a:pt x="112" y="49"/>
                  </a:lnTo>
                  <a:lnTo>
                    <a:pt x="73" y="45"/>
                  </a:lnTo>
                  <a:lnTo>
                    <a:pt x="54" y="42"/>
                  </a:lnTo>
                  <a:lnTo>
                    <a:pt x="36" y="38"/>
                  </a:lnTo>
                  <a:lnTo>
                    <a:pt x="17" y="34"/>
                  </a:lnTo>
                  <a:lnTo>
                    <a:pt x="0" y="28"/>
                  </a:lnTo>
                  <a:lnTo>
                    <a:pt x="0" y="0"/>
                  </a:lnTo>
                  <a:lnTo>
                    <a:pt x="21" y="5"/>
                  </a:lnTo>
                  <a:lnTo>
                    <a:pt x="40" y="7"/>
                  </a:lnTo>
                  <a:lnTo>
                    <a:pt x="61" y="8"/>
                  </a:lnTo>
                  <a:lnTo>
                    <a:pt x="81" y="9"/>
                  </a:lnTo>
                  <a:lnTo>
                    <a:pt x="121" y="11"/>
                  </a:lnTo>
                  <a:lnTo>
                    <a:pt x="161" y="13"/>
                  </a:lnTo>
                  <a:lnTo>
                    <a:pt x="180" y="14"/>
                  </a:lnTo>
                  <a:lnTo>
                    <a:pt x="198" y="18"/>
                  </a:lnTo>
                  <a:lnTo>
                    <a:pt x="216" y="22"/>
                  </a:lnTo>
                  <a:lnTo>
                    <a:pt x="233" y="28"/>
                  </a:lnTo>
                  <a:lnTo>
                    <a:pt x="251" y="36"/>
                  </a:lnTo>
                  <a:lnTo>
                    <a:pt x="268" y="47"/>
                  </a:lnTo>
                  <a:lnTo>
                    <a:pt x="277" y="54"/>
                  </a:lnTo>
                  <a:lnTo>
                    <a:pt x="285" y="61"/>
                  </a:lnTo>
                  <a:lnTo>
                    <a:pt x="292" y="68"/>
                  </a:lnTo>
                  <a:lnTo>
                    <a:pt x="300" y="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9960" y="3195720"/>
              <a:ext cx="10440" cy="4680"/>
            </a:xfrm>
            <a:custGeom>
              <a:avLst/>
              <a:gdLst/>
              <a:ahLst/>
              <a:rect l="l" t="t" r="r" b="b"/>
              <a:pathLst>
                <a:path w="38" h="18">
                  <a:moveTo>
                    <a:pt x="0" y="0"/>
                  </a:moveTo>
                  <a:lnTo>
                    <a:pt x="38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73240" y="3219840"/>
              <a:ext cx="330480" cy="192240"/>
            </a:xfrm>
            <a:custGeom>
              <a:avLst/>
              <a:gdLst/>
              <a:ahLst/>
              <a:rect l="l" t="t" r="r" b="b"/>
              <a:pathLst>
                <a:path w="1109" h="724">
                  <a:moveTo>
                    <a:pt x="462" y="159"/>
                  </a:moveTo>
                  <a:lnTo>
                    <a:pt x="479" y="163"/>
                  </a:lnTo>
                  <a:lnTo>
                    <a:pt x="495" y="166"/>
                  </a:lnTo>
                  <a:lnTo>
                    <a:pt x="511" y="172"/>
                  </a:lnTo>
                  <a:lnTo>
                    <a:pt x="525" y="178"/>
                  </a:lnTo>
                  <a:lnTo>
                    <a:pt x="538" y="185"/>
                  </a:lnTo>
                  <a:lnTo>
                    <a:pt x="550" y="193"/>
                  </a:lnTo>
                  <a:lnTo>
                    <a:pt x="561" y="201"/>
                  </a:lnTo>
                  <a:lnTo>
                    <a:pt x="571" y="211"/>
                  </a:lnTo>
                  <a:lnTo>
                    <a:pt x="582" y="221"/>
                  </a:lnTo>
                  <a:lnTo>
                    <a:pt x="590" y="232"/>
                  </a:lnTo>
                  <a:lnTo>
                    <a:pt x="598" y="242"/>
                  </a:lnTo>
                  <a:lnTo>
                    <a:pt x="607" y="254"/>
                  </a:lnTo>
                  <a:lnTo>
                    <a:pt x="621" y="279"/>
                  </a:lnTo>
                  <a:lnTo>
                    <a:pt x="633" y="304"/>
                  </a:lnTo>
                  <a:lnTo>
                    <a:pt x="657" y="358"/>
                  </a:lnTo>
                  <a:lnTo>
                    <a:pt x="680" y="412"/>
                  </a:lnTo>
                  <a:lnTo>
                    <a:pt x="693" y="438"/>
                  </a:lnTo>
                  <a:lnTo>
                    <a:pt x="708" y="462"/>
                  </a:lnTo>
                  <a:lnTo>
                    <a:pt x="716" y="474"/>
                  </a:lnTo>
                  <a:lnTo>
                    <a:pt x="726" y="484"/>
                  </a:lnTo>
                  <a:lnTo>
                    <a:pt x="735" y="495"/>
                  </a:lnTo>
                  <a:lnTo>
                    <a:pt x="746" y="504"/>
                  </a:lnTo>
                  <a:lnTo>
                    <a:pt x="761" y="509"/>
                  </a:lnTo>
                  <a:lnTo>
                    <a:pt x="776" y="510"/>
                  </a:lnTo>
                  <a:lnTo>
                    <a:pt x="791" y="510"/>
                  </a:lnTo>
                  <a:lnTo>
                    <a:pt x="807" y="507"/>
                  </a:lnTo>
                  <a:lnTo>
                    <a:pt x="822" y="501"/>
                  </a:lnTo>
                  <a:lnTo>
                    <a:pt x="836" y="494"/>
                  </a:lnTo>
                  <a:lnTo>
                    <a:pt x="851" y="484"/>
                  </a:lnTo>
                  <a:lnTo>
                    <a:pt x="865" y="475"/>
                  </a:lnTo>
                  <a:lnTo>
                    <a:pt x="878" y="463"/>
                  </a:lnTo>
                  <a:lnTo>
                    <a:pt x="892" y="452"/>
                  </a:lnTo>
                  <a:lnTo>
                    <a:pt x="905" y="439"/>
                  </a:lnTo>
                  <a:lnTo>
                    <a:pt x="918" y="426"/>
                  </a:lnTo>
                  <a:lnTo>
                    <a:pt x="943" y="399"/>
                  </a:lnTo>
                  <a:lnTo>
                    <a:pt x="967" y="375"/>
                  </a:lnTo>
                  <a:lnTo>
                    <a:pt x="978" y="364"/>
                  </a:lnTo>
                  <a:lnTo>
                    <a:pt x="989" y="353"/>
                  </a:lnTo>
                  <a:lnTo>
                    <a:pt x="1001" y="344"/>
                  </a:lnTo>
                  <a:lnTo>
                    <a:pt x="1010" y="337"/>
                  </a:lnTo>
                  <a:lnTo>
                    <a:pt x="1021" y="331"/>
                  </a:lnTo>
                  <a:lnTo>
                    <a:pt x="1030" y="328"/>
                  </a:lnTo>
                  <a:lnTo>
                    <a:pt x="1040" y="327"/>
                  </a:lnTo>
                  <a:lnTo>
                    <a:pt x="1049" y="328"/>
                  </a:lnTo>
                  <a:lnTo>
                    <a:pt x="1058" y="332"/>
                  </a:lnTo>
                  <a:lnTo>
                    <a:pt x="1066" y="339"/>
                  </a:lnTo>
                  <a:lnTo>
                    <a:pt x="1074" y="350"/>
                  </a:lnTo>
                  <a:lnTo>
                    <a:pt x="1081" y="364"/>
                  </a:lnTo>
                  <a:lnTo>
                    <a:pt x="1088" y="382"/>
                  </a:lnTo>
                  <a:lnTo>
                    <a:pt x="1095" y="404"/>
                  </a:lnTo>
                  <a:lnTo>
                    <a:pt x="1102" y="429"/>
                  </a:lnTo>
                  <a:lnTo>
                    <a:pt x="1108" y="460"/>
                  </a:lnTo>
                  <a:lnTo>
                    <a:pt x="1109" y="477"/>
                  </a:lnTo>
                  <a:lnTo>
                    <a:pt x="1109" y="495"/>
                  </a:lnTo>
                  <a:lnTo>
                    <a:pt x="1107" y="511"/>
                  </a:lnTo>
                  <a:lnTo>
                    <a:pt x="1105" y="529"/>
                  </a:lnTo>
                  <a:lnTo>
                    <a:pt x="1100" y="545"/>
                  </a:lnTo>
                  <a:lnTo>
                    <a:pt x="1094" y="562"/>
                  </a:lnTo>
                  <a:lnTo>
                    <a:pt x="1088" y="578"/>
                  </a:lnTo>
                  <a:lnTo>
                    <a:pt x="1080" y="593"/>
                  </a:lnTo>
                  <a:lnTo>
                    <a:pt x="1071" y="608"/>
                  </a:lnTo>
                  <a:lnTo>
                    <a:pt x="1060" y="622"/>
                  </a:lnTo>
                  <a:lnTo>
                    <a:pt x="1049" y="635"/>
                  </a:lnTo>
                  <a:lnTo>
                    <a:pt x="1037" y="648"/>
                  </a:lnTo>
                  <a:lnTo>
                    <a:pt x="1023" y="660"/>
                  </a:lnTo>
                  <a:lnTo>
                    <a:pt x="1009" y="670"/>
                  </a:lnTo>
                  <a:lnTo>
                    <a:pt x="994" y="680"/>
                  </a:lnTo>
                  <a:lnTo>
                    <a:pt x="977" y="688"/>
                  </a:lnTo>
                  <a:lnTo>
                    <a:pt x="957" y="689"/>
                  </a:lnTo>
                  <a:lnTo>
                    <a:pt x="939" y="691"/>
                  </a:lnTo>
                  <a:lnTo>
                    <a:pt x="920" y="695"/>
                  </a:lnTo>
                  <a:lnTo>
                    <a:pt x="900" y="700"/>
                  </a:lnTo>
                  <a:lnTo>
                    <a:pt x="861" y="709"/>
                  </a:lnTo>
                  <a:lnTo>
                    <a:pt x="823" y="717"/>
                  </a:lnTo>
                  <a:lnTo>
                    <a:pt x="804" y="721"/>
                  </a:lnTo>
                  <a:lnTo>
                    <a:pt x="785" y="723"/>
                  </a:lnTo>
                  <a:lnTo>
                    <a:pt x="766" y="724"/>
                  </a:lnTo>
                  <a:lnTo>
                    <a:pt x="747" y="723"/>
                  </a:lnTo>
                  <a:lnTo>
                    <a:pt x="728" y="721"/>
                  </a:lnTo>
                  <a:lnTo>
                    <a:pt x="709" y="716"/>
                  </a:lnTo>
                  <a:lnTo>
                    <a:pt x="700" y="713"/>
                  </a:lnTo>
                  <a:lnTo>
                    <a:pt x="691" y="708"/>
                  </a:lnTo>
                  <a:lnTo>
                    <a:pt x="681" y="703"/>
                  </a:lnTo>
                  <a:lnTo>
                    <a:pt x="673" y="699"/>
                  </a:lnTo>
                  <a:lnTo>
                    <a:pt x="640" y="641"/>
                  </a:lnTo>
                  <a:lnTo>
                    <a:pt x="607" y="582"/>
                  </a:lnTo>
                  <a:lnTo>
                    <a:pt x="588" y="551"/>
                  </a:lnTo>
                  <a:lnTo>
                    <a:pt x="569" y="521"/>
                  </a:lnTo>
                  <a:lnTo>
                    <a:pt x="549" y="491"/>
                  </a:lnTo>
                  <a:lnTo>
                    <a:pt x="528" y="462"/>
                  </a:lnTo>
                  <a:lnTo>
                    <a:pt x="506" y="433"/>
                  </a:lnTo>
                  <a:lnTo>
                    <a:pt x="483" y="406"/>
                  </a:lnTo>
                  <a:lnTo>
                    <a:pt x="458" y="379"/>
                  </a:lnTo>
                  <a:lnTo>
                    <a:pt x="432" y="353"/>
                  </a:lnTo>
                  <a:lnTo>
                    <a:pt x="405" y="330"/>
                  </a:lnTo>
                  <a:lnTo>
                    <a:pt x="376" y="308"/>
                  </a:lnTo>
                  <a:lnTo>
                    <a:pt x="361" y="297"/>
                  </a:lnTo>
                  <a:lnTo>
                    <a:pt x="346" y="288"/>
                  </a:lnTo>
                  <a:lnTo>
                    <a:pt x="329" y="279"/>
                  </a:lnTo>
                  <a:lnTo>
                    <a:pt x="313" y="269"/>
                  </a:lnTo>
                  <a:lnTo>
                    <a:pt x="304" y="265"/>
                  </a:lnTo>
                  <a:lnTo>
                    <a:pt x="294" y="261"/>
                  </a:lnTo>
                  <a:lnTo>
                    <a:pt x="284" y="258"/>
                  </a:lnTo>
                  <a:lnTo>
                    <a:pt x="273" y="254"/>
                  </a:lnTo>
                  <a:lnTo>
                    <a:pt x="251" y="251"/>
                  </a:lnTo>
                  <a:lnTo>
                    <a:pt x="228" y="247"/>
                  </a:lnTo>
                  <a:lnTo>
                    <a:pt x="181" y="244"/>
                  </a:lnTo>
                  <a:lnTo>
                    <a:pt x="134" y="240"/>
                  </a:lnTo>
                  <a:lnTo>
                    <a:pt x="112" y="235"/>
                  </a:lnTo>
                  <a:lnTo>
                    <a:pt x="91" y="231"/>
                  </a:lnTo>
                  <a:lnTo>
                    <a:pt x="80" y="227"/>
                  </a:lnTo>
                  <a:lnTo>
                    <a:pt x="70" y="222"/>
                  </a:lnTo>
                  <a:lnTo>
                    <a:pt x="60" y="218"/>
                  </a:lnTo>
                  <a:lnTo>
                    <a:pt x="51" y="212"/>
                  </a:lnTo>
                  <a:lnTo>
                    <a:pt x="43" y="206"/>
                  </a:lnTo>
                  <a:lnTo>
                    <a:pt x="35" y="199"/>
                  </a:lnTo>
                  <a:lnTo>
                    <a:pt x="28" y="190"/>
                  </a:lnTo>
                  <a:lnTo>
                    <a:pt x="21" y="180"/>
                  </a:lnTo>
                  <a:lnTo>
                    <a:pt x="14" y="170"/>
                  </a:lnTo>
                  <a:lnTo>
                    <a:pt x="8" y="158"/>
                  </a:lnTo>
                  <a:lnTo>
                    <a:pt x="3" y="145"/>
                  </a:lnTo>
                  <a:lnTo>
                    <a:pt x="0" y="131"/>
                  </a:lnTo>
                  <a:lnTo>
                    <a:pt x="23" y="7"/>
                  </a:lnTo>
                  <a:lnTo>
                    <a:pt x="38" y="4"/>
                  </a:lnTo>
                  <a:lnTo>
                    <a:pt x="53" y="3"/>
                  </a:lnTo>
                  <a:lnTo>
                    <a:pt x="67" y="1"/>
                  </a:lnTo>
                  <a:lnTo>
                    <a:pt x="83" y="0"/>
                  </a:lnTo>
                  <a:lnTo>
                    <a:pt x="97" y="1"/>
                  </a:lnTo>
                  <a:lnTo>
                    <a:pt x="111" y="1"/>
                  </a:lnTo>
                  <a:lnTo>
                    <a:pt x="125" y="4"/>
                  </a:lnTo>
                  <a:lnTo>
                    <a:pt x="140" y="6"/>
                  </a:lnTo>
                  <a:lnTo>
                    <a:pt x="168" y="12"/>
                  </a:lnTo>
                  <a:lnTo>
                    <a:pt x="195" y="20"/>
                  </a:lnTo>
                  <a:lnTo>
                    <a:pt x="223" y="31"/>
                  </a:lnTo>
                  <a:lnTo>
                    <a:pt x="250" y="41"/>
                  </a:lnTo>
                  <a:lnTo>
                    <a:pt x="278" y="54"/>
                  </a:lnTo>
                  <a:lnTo>
                    <a:pt x="305" y="68"/>
                  </a:lnTo>
                  <a:lnTo>
                    <a:pt x="331" y="83"/>
                  </a:lnTo>
                  <a:lnTo>
                    <a:pt x="357" y="98"/>
                  </a:lnTo>
                  <a:lnTo>
                    <a:pt x="410" y="129"/>
                  </a:lnTo>
                  <a:lnTo>
                    <a:pt x="462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4640" y="3242160"/>
              <a:ext cx="329400" cy="185760"/>
            </a:xfrm>
            <a:custGeom>
              <a:avLst/>
              <a:gdLst/>
              <a:ahLst/>
              <a:rect l="l" t="t" r="r" b="b"/>
              <a:pathLst>
                <a:path w="1106" h="699">
                  <a:moveTo>
                    <a:pt x="1104" y="65"/>
                  </a:moveTo>
                  <a:lnTo>
                    <a:pt x="1106" y="83"/>
                  </a:lnTo>
                  <a:lnTo>
                    <a:pt x="1106" y="99"/>
                  </a:lnTo>
                  <a:lnTo>
                    <a:pt x="1105" y="116"/>
                  </a:lnTo>
                  <a:lnTo>
                    <a:pt x="1102" y="131"/>
                  </a:lnTo>
                  <a:lnTo>
                    <a:pt x="1098" y="139"/>
                  </a:lnTo>
                  <a:lnTo>
                    <a:pt x="1095" y="145"/>
                  </a:lnTo>
                  <a:lnTo>
                    <a:pt x="1091" y="151"/>
                  </a:lnTo>
                  <a:lnTo>
                    <a:pt x="1086" y="157"/>
                  </a:lnTo>
                  <a:lnTo>
                    <a:pt x="1081" y="161"/>
                  </a:lnTo>
                  <a:lnTo>
                    <a:pt x="1075" y="165"/>
                  </a:lnTo>
                  <a:lnTo>
                    <a:pt x="1068" y="167"/>
                  </a:lnTo>
                  <a:lnTo>
                    <a:pt x="1060" y="169"/>
                  </a:lnTo>
                  <a:lnTo>
                    <a:pt x="1053" y="169"/>
                  </a:lnTo>
                  <a:lnTo>
                    <a:pt x="1048" y="168"/>
                  </a:lnTo>
                  <a:lnTo>
                    <a:pt x="1042" y="166"/>
                  </a:lnTo>
                  <a:lnTo>
                    <a:pt x="1038" y="162"/>
                  </a:lnTo>
                  <a:lnTo>
                    <a:pt x="1030" y="155"/>
                  </a:lnTo>
                  <a:lnTo>
                    <a:pt x="1024" y="148"/>
                  </a:lnTo>
                  <a:lnTo>
                    <a:pt x="994" y="172"/>
                  </a:lnTo>
                  <a:lnTo>
                    <a:pt x="964" y="197"/>
                  </a:lnTo>
                  <a:lnTo>
                    <a:pt x="934" y="223"/>
                  </a:lnTo>
                  <a:lnTo>
                    <a:pt x="908" y="249"/>
                  </a:lnTo>
                  <a:lnTo>
                    <a:pt x="881" y="277"/>
                  </a:lnTo>
                  <a:lnTo>
                    <a:pt x="856" y="305"/>
                  </a:lnTo>
                  <a:lnTo>
                    <a:pt x="831" y="335"/>
                  </a:lnTo>
                  <a:lnTo>
                    <a:pt x="809" y="365"/>
                  </a:lnTo>
                  <a:lnTo>
                    <a:pt x="787" y="396"/>
                  </a:lnTo>
                  <a:lnTo>
                    <a:pt x="767" y="428"/>
                  </a:lnTo>
                  <a:lnTo>
                    <a:pt x="747" y="459"/>
                  </a:lnTo>
                  <a:lnTo>
                    <a:pt x="730" y="492"/>
                  </a:lnTo>
                  <a:lnTo>
                    <a:pt x="712" y="525"/>
                  </a:lnTo>
                  <a:lnTo>
                    <a:pt x="697" y="559"/>
                  </a:lnTo>
                  <a:lnTo>
                    <a:pt x="682" y="594"/>
                  </a:lnTo>
                  <a:lnTo>
                    <a:pt x="669" y="628"/>
                  </a:lnTo>
                  <a:lnTo>
                    <a:pt x="579" y="695"/>
                  </a:lnTo>
                  <a:lnTo>
                    <a:pt x="575" y="691"/>
                  </a:lnTo>
                  <a:lnTo>
                    <a:pt x="570" y="686"/>
                  </a:lnTo>
                  <a:lnTo>
                    <a:pt x="567" y="685"/>
                  </a:lnTo>
                  <a:lnTo>
                    <a:pt x="564" y="683"/>
                  </a:lnTo>
                  <a:lnTo>
                    <a:pt x="561" y="683"/>
                  </a:lnTo>
                  <a:lnTo>
                    <a:pt x="558" y="684"/>
                  </a:lnTo>
                  <a:lnTo>
                    <a:pt x="556" y="689"/>
                  </a:lnTo>
                  <a:lnTo>
                    <a:pt x="553" y="693"/>
                  </a:lnTo>
                  <a:lnTo>
                    <a:pt x="551" y="696"/>
                  </a:lnTo>
                  <a:lnTo>
                    <a:pt x="547" y="698"/>
                  </a:lnTo>
                  <a:lnTo>
                    <a:pt x="545" y="699"/>
                  </a:lnTo>
                  <a:lnTo>
                    <a:pt x="543" y="699"/>
                  </a:lnTo>
                  <a:lnTo>
                    <a:pt x="540" y="699"/>
                  </a:lnTo>
                  <a:lnTo>
                    <a:pt x="537" y="698"/>
                  </a:lnTo>
                  <a:lnTo>
                    <a:pt x="526" y="691"/>
                  </a:lnTo>
                  <a:lnTo>
                    <a:pt x="513" y="684"/>
                  </a:lnTo>
                  <a:lnTo>
                    <a:pt x="482" y="683"/>
                  </a:lnTo>
                  <a:lnTo>
                    <a:pt x="449" y="682"/>
                  </a:lnTo>
                  <a:lnTo>
                    <a:pt x="415" y="683"/>
                  </a:lnTo>
                  <a:lnTo>
                    <a:pt x="380" y="683"/>
                  </a:lnTo>
                  <a:lnTo>
                    <a:pt x="345" y="684"/>
                  </a:lnTo>
                  <a:lnTo>
                    <a:pt x="310" y="683"/>
                  </a:lnTo>
                  <a:lnTo>
                    <a:pt x="274" y="682"/>
                  </a:lnTo>
                  <a:lnTo>
                    <a:pt x="239" y="679"/>
                  </a:lnTo>
                  <a:lnTo>
                    <a:pt x="221" y="677"/>
                  </a:lnTo>
                  <a:lnTo>
                    <a:pt x="204" y="675"/>
                  </a:lnTo>
                  <a:lnTo>
                    <a:pt x="187" y="672"/>
                  </a:lnTo>
                  <a:lnTo>
                    <a:pt x="171" y="668"/>
                  </a:lnTo>
                  <a:lnTo>
                    <a:pt x="154" y="664"/>
                  </a:lnTo>
                  <a:lnTo>
                    <a:pt x="138" y="658"/>
                  </a:lnTo>
                  <a:lnTo>
                    <a:pt x="123" y="652"/>
                  </a:lnTo>
                  <a:lnTo>
                    <a:pt x="108" y="645"/>
                  </a:lnTo>
                  <a:lnTo>
                    <a:pt x="92" y="638"/>
                  </a:lnTo>
                  <a:lnTo>
                    <a:pt x="78" y="630"/>
                  </a:lnTo>
                  <a:lnTo>
                    <a:pt x="64" y="620"/>
                  </a:lnTo>
                  <a:lnTo>
                    <a:pt x="51" y="609"/>
                  </a:lnTo>
                  <a:lnTo>
                    <a:pt x="39" y="597"/>
                  </a:lnTo>
                  <a:lnTo>
                    <a:pt x="27" y="585"/>
                  </a:lnTo>
                  <a:lnTo>
                    <a:pt x="16" y="571"/>
                  </a:lnTo>
                  <a:lnTo>
                    <a:pt x="6" y="555"/>
                  </a:lnTo>
                  <a:lnTo>
                    <a:pt x="2" y="543"/>
                  </a:lnTo>
                  <a:lnTo>
                    <a:pt x="0" y="530"/>
                  </a:lnTo>
                  <a:lnTo>
                    <a:pt x="0" y="517"/>
                  </a:lnTo>
                  <a:lnTo>
                    <a:pt x="1" y="505"/>
                  </a:lnTo>
                  <a:lnTo>
                    <a:pt x="4" y="493"/>
                  </a:lnTo>
                  <a:lnTo>
                    <a:pt x="7" y="483"/>
                  </a:lnTo>
                  <a:lnTo>
                    <a:pt x="12" y="472"/>
                  </a:lnTo>
                  <a:lnTo>
                    <a:pt x="18" y="462"/>
                  </a:lnTo>
                  <a:lnTo>
                    <a:pt x="25" y="452"/>
                  </a:lnTo>
                  <a:lnTo>
                    <a:pt x="32" y="443"/>
                  </a:lnTo>
                  <a:lnTo>
                    <a:pt x="40" y="435"/>
                  </a:lnTo>
                  <a:lnTo>
                    <a:pt x="49" y="427"/>
                  </a:lnTo>
                  <a:lnTo>
                    <a:pt x="67" y="410"/>
                  </a:lnTo>
                  <a:lnTo>
                    <a:pt x="85" y="397"/>
                  </a:lnTo>
                  <a:lnTo>
                    <a:pt x="97" y="401"/>
                  </a:lnTo>
                  <a:lnTo>
                    <a:pt x="109" y="407"/>
                  </a:lnTo>
                  <a:lnTo>
                    <a:pt x="119" y="414"/>
                  </a:lnTo>
                  <a:lnTo>
                    <a:pt x="129" y="421"/>
                  </a:lnTo>
                  <a:lnTo>
                    <a:pt x="146" y="438"/>
                  </a:lnTo>
                  <a:lnTo>
                    <a:pt x="161" y="457"/>
                  </a:lnTo>
                  <a:lnTo>
                    <a:pt x="177" y="476"/>
                  </a:lnTo>
                  <a:lnTo>
                    <a:pt x="192" y="495"/>
                  </a:lnTo>
                  <a:lnTo>
                    <a:pt x="201" y="503"/>
                  </a:lnTo>
                  <a:lnTo>
                    <a:pt x="209" y="511"/>
                  </a:lnTo>
                  <a:lnTo>
                    <a:pt x="220" y="518"/>
                  </a:lnTo>
                  <a:lnTo>
                    <a:pt x="230" y="525"/>
                  </a:lnTo>
                  <a:lnTo>
                    <a:pt x="274" y="538"/>
                  </a:lnTo>
                  <a:lnTo>
                    <a:pt x="313" y="547"/>
                  </a:lnTo>
                  <a:lnTo>
                    <a:pt x="351" y="552"/>
                  </a:lnTo>
                  <a:lnTo>
                    <a:pt x="386" y="552"/>
                  </a:lnTo>
                  <a:lnTo>
                    <a:pt x="419" y="548"/>
                  </a:lnTo>
                  <a:lnTo>
                    <a:pt x="450" y="540"/>
                  </a:lnTo>
                  <a:lnTo>
                    <a:pt x="478" y="530"/>
                  </a:lnTo>
                  <a:lnTo>
                    <a:pt x="505" y="517"/>
                  </a:lnTo>
                  <a:lnTo>
                    <a:pt x="531" y="500"/>
                  </a:lnTo>
                  <a:lnTo>
                    <a:pt x="554" y="482"/>
                  </a:lnTo>
                  <a:lnTo>
                    <a:pt x="577" y="461"/>
                  </a:lnTo>
                  <a:lnTo>
                    <a:pt x="598" y="437"/>
                  </a:lnTo>
                  <a:lnTo>
                    <a:pt x="619" y="413"/>
                  </a:lnTo>
                  <a:lnTo>
                    <a:pt x="639" y="387"/>
                  </a:lnTo>
                  <a:lnTo>
                    <a:pt x="657" y="360"/>
                  </a:lnTo>
                  <a:lnTo>
                    <a:pt x="676" y="332"/>
                  </a:lnTo>
                  <a:lnTo>
                    <a:pt x="712" y="275"/>
                  </a:lnTo>
                  <a:lnTo>
                    <a:pt x="750" y="219"/>
                  </a:lnTo>
                  <a:lnTo>
                    <a:pt x="768" y="190"/>
                  </a:lnTo>
                  <a:lnTo>
                    <a:pt x="788" y="164"/>
                  </a:lnTo>
                  <a:lnTo>
                    <a:pt x="809" y="138"/>
                  </a:lnTo>
                  <a:lnTo>
                    <a:pt x="830" y="113"/>
                  </a:lnTo>
                  <a:lnTo>
                    <a:pt x="854" y="90"/>
                  </a:lnTo>
                  <a:lnTo>
                    <a:pt x="877" y="69"/>
                  </a:lnTo>
                  <a:lnTo>
                    <a:pt x="903" y="50"/>
                  </a:lnTo>
                  <a:lnTo>
                    <a:pt x="930" y="34"/>
                  </a:lnTo>
                  <a:lnTo>
                    <a:pt x="959" y="21"/>
                  </a:lnTo>
                  <a:lnTo>
                    <a:pt x="991" y="10"/>
                  </a:lnTo>
                  <a:lnTo>
                    <a:pt x="1023" y="3"/>
                  </a:lnTo>
                  <a:lnTo>
                    <a:pt x="1060" y="0"/>
                  </a:lnTo>
                  <a:lnTo>
                    <a:pt x="110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66800" y="3310560"/>
              <a:ext cx="337680" cy="217440"/>
            </a:xfrm>
            <a:custGeom>
              <a:avLst/>
              <a:gdLst/>
              <a:ahLst/>
              <a:rect l="l" t="t" r="r" b="b"/>
              <a:pathLst>
                <a:path w="1135" h="823">
                  <a:moveTo>
                    <a:pt x="1135" y="159"/>
                  </a:moveTo>
                  <a:lnTo>
                    <a:pt x="1131" y="173"/>
                  </a:lnTo>
                  <a:lnTo>
                    <a:pt x="1128" y="185"/>
                  </a:lnTo>
                  <a:lnTo>
                    <a:pt x="1123" y="197"/>
                  </a:lnTo>
                  <a:lnTo>
                    <a:pt x="1117" y="206"/>
                  </a:lnTo>
                  <a:lnTo>
                    <a:pt x="1111" y="215"/>
                  </a:lnTo>
                  <a:lnTo>
                    <a:pt x="1104" y="224"/>
                  </a:lnTo>
                  <a:lnTo>
                    <a:pt x="1096" y="232"/>
                  </a:lnTo>
                  <a:lnTo>
                    <a:pt x="1089" y="239"/>
                  </a:lnTo>
                  <a:lnTo>
                    <a:pt x="1071" y="251"/>
                  </a:lnTo>
                  <a:lnTo>
                    <a:pt x="1053" y="261"/>
                  </a:lnTo>
                  <a:lnTo>
                    <a:pt x="1033" y="270"/>
                  </a:lnTo>
                  <a:lnTo>
                    <a:pt x="1013" y="279"/>
                  </a:lnTo>
                  <a:lnTo>
                    <a:pt x="993" y="288"/>
                  </a:lnTo>
                  <a:lnTo>
                    <a:pt x="973" y="296"/>
                  </a:lnTo>
                  <a:lnTo>
                    <a:pt x="954" y="307"/>
                  </a:lnTo>
                  <a:lnTo>
                    <a:pt x="938" y="320"/>
                  </a:lnTo>
                  <a:lnTo>
                    <a:pt x="930" y="327"/>
                  </a:lnTo>
                  <a:lnTo>
                    <a:pt x="923" y="334"/>
                  </a:lnTo>
                  <a:lnTo>
                    <a:pt x="916" y="342"/>
                  </a:lnTo>
                  <a:lnTo>
                    <a:pt x="909" y="351"/>
                  </a:lnTo>
                  <a:lnTo>
                    <a:pt x="904" y="362"/>
                  </a:lnTo>
                  <a:lnTo>
                    <a:pt x="900" y="372"/>
                  </a:lnTo>
                  <a:lnTo>
                    <a:pt x="895" y="385"/>
                  </a:lnTo>
                  <a:lnTo>
                    <a:pt x="892" y="398"/>
                  </a:lnTo>
                  <a:lnTo>
                    <a:pt x="888" y="417"/>
                  </a:lnTo>
                  <a:lnTo>
                    <a:pt x="883" y="434"/>
                  </a:lnTo>
                  <a:lnTo>
                    <a:pt x="877" y="453"/>
                  </a:lnTo>
                  <a:lnTo>
                    <a:pt x="870" y="472"/>
                  </a:lnTo>
                  <a:lnTo>
                    <a:pt x="856" y="508"/>
                  </a:lnTo>
                  <a:lnTo>
                    <a:pt x="839" y="544"/>
                  </a:lnTo>
                  <a:lnTo>
                    <a:pt x="820" y="579"/>
                  </a:lnTo>
                  <a:lnTo>
                    <a:pt x="799" y="613"/>
                  </a:lnTo>
                  <a:lnTo>
                    <a:pt x="777" y="645"/>
                  </a:lnTo>
                  <a:lnTo>
                    <a:pt x="754" y="674"/>
                  </a:lnTo>
                  <a:lnTo>
                    <a:pt x="743" y="694"/>
                  </a:lnTo>
                  <a:lnTo>
                    <a:pt x="731" y="711"/>
                  </a:lnTo>
                  <a:lnTo>
                    <a:pt x="717" y="728"/>
                  </a:lnTo>
                  <a:lnTo>
                    <a:pt x="703" y="742"/>
                  </a:lnTo>
                  <a:lnTo>
                    <a:pt x="688" y="755"/>
                  </a:lnTo>
                  <a:lnTo>
                    <a:pt x="671" y="766"/>
                  </a:lnTo>
                  <a:lnTo>
                    <a:pt x="654" y="777"/>
                  </a:lnTo>
                  <a:lnTo>
                    <a:pt x="636" y="786"/>
                  </a:lnTo>
                  <a:lnTo>
                    <a:pt x="618" y="794"/>
                  </a:lnTo>
                  <a:lnTo>
                    <a:pt x="599" y="801"/>
                  </a:lnTo>
                  <a:lnTo>
                    <a:pt x="579" y="807"/>
                  </a:lnTo>
                  <a:lnTo>
                    <a:pt x="559" y="812"/>
                  </a:lnTo>
                  <a:lnTo>
                    <a:pt x="539" y="816"/>
                  </a:lnTo>
                  <a:lnTo>
                    <a:pt x="519" y="819"/>
                  </a:lnTo>
                  <a:lnTo>
                    <a:pt x="498" y="821"/>
                  </a:lnTo>
                  <a:lnTo>
                    <a:pt x="477" y="823"/>
                  </a:lnTo>
                  <a:lnTo>
                    <a:pt x="462" y="821"/>
                  </a:lnTo>
                  <a:lnTo>
                    <a:pt x="448" y="819"/>
                  </a:lnTo>
                  <a:lnTo>
                    <a:pt x="433" y="816"/>
                  </a:lnTo>
                  <a:lnTo>
                    <a:pt x="419" y="812"/>
                  </a:lnTo>
                  <a:lnTo>
                    <a:pt x="391" y="803"/>
                  </a:lnTo>
                  <a:lnTo>
                    <a:pt x="363" y="792"/>
                  </a:lnTo>
                  <a:lnTo>
                    <a:pt x="336" y="780"/>
                  </a:lnTo>
                  <a:lnTo>
                    <a:pt x="309" y="768"/>
                  </a:lnTo>
                  <a:lnTo>
                    <a:pt x="282" y="754"/>
                  </a:lnTo>
                  <a:lnTo>
                    <a:pt x="256" y="741"/>
                  </a:lnTo>
                  <a:lnTo>
                    <a:pt x="231" y="727"/>
                  </a:lnTo>
                  <a:lnTo>
                    <a:pt x="204" y="713"/>
                  </a:lnTo>
                  <a:lnTo>
                    <a:pt x="178" y="700"/>
                  </a:lnTo>
                  <a:lnTo>
                    <a:pt x="152" y="688"/>
                  </a:lnTo>
                  <a:lnTo>
                    <a:pt x="125" y="677"/>
                  </a:lnTo>
                  <a:lnTo>
                    <a:pt x="98" y="668"/>
                  </a:lnTo>
                  <a:lnTo>
                    <a:pt x="84" y="665"/>
                  </a:lnTo>
                  <a:lnTo>
                    <a:pt x="70" y="662"/>
                  </a:lnTo>
                  <a:lnTo>
                    <a:pt x="56" y="659"/>
                  </a:lnTo>
                  <a:lnTo>
                    <a:pt x="42" y="658"/>
                  </a:lnTo>
                  <a:lnTo>
                    <a:pt x="33" y="648"/>
                  </a:lnTo>
                  <a:lnTo>
                    <a:pt x="25" y="639"/>
                  </a:lnTo>
                  <a:lnTo>
                    <a:pt x="18" y="630"/>
                  </a:lnTo>
                  <a:lnTo>
                    <a:pt x="12" y="619"/>
                  </a:lnTo>
                  <a:lnTo>
                    <a:pt x="7" y="608"/>
                  </a:lnTo>
                  <a:lnTo>
                    <a:pt x="4" y="597"/>
                  </a:lnTo>
                  <a:lnTo>
                    <a:pt x="1" y="586"/>
                  </a:lnTo>
                  <a:lnTo>
                    <a:pt x="0" y="575"/>
                  </a:lnTo>
                  <a:lnTo>
                    <a:pt x="0" y="563"/>
                  </a:lnTo>
                  <a:lnTo>
                    <a:pt x="0" y="551"/>
                  </a:lnTo>
                  <a:lnTo>
                    <a:pt x="1" y="539"/>
                  </a:lnTo>
                  <a:lnTo>
                    <a:pt x="4" y="527"/>
                  </a:lnTo>
                  <a:lnTo>
                    <a:pt x="10" y="503"/>
                  </a:lnTo>
                  <a:lnTo>
                    <a:pt x="18" y="481"/>
                  </a:lnTo>
                  <a:lnTo>
                    <a:pt x="31" y="470"/>
                  </a:lnTo>
                  <a:lnTo>
                    <a:pt x="43" y="462"/>
                  </a:lnTo>
                  <a:lnTo>
                    <a:pt x="55" y="455"/>
                  </a:lnTo>
                  <a:lnTo>
                    <a:pt x="67" y="449"/>
                  </a:lnTo>
                  <a:lnTo>
                    <a:pt x="77" y="447"/>
                  </a:lnTo>
                  <a:lnTo>
                    <a:pt x="88" y="445"/>
                  </a:lnTo>
                  <a:lnTo>
                    <a:pt x="98" y="445"/>
                  </a:lnTo>
                  <a:lnTo>
                    <a:pt x="109" y="446"/>
                  </a:lnTo>
                  <a:lnTo>
                    <a:pt x="118" y="448"/>
                  </a:lnTo>
                  <a:lnTo>
                    <a:pt x="128" y="452"/>
                  </a:lnTo>
                  <a:lnTo>
                    <a:pt x="138" y="456"/>
                  </a:lnTo>
                  <a:lnTo>
                    <a:pt x="146" y="461"/>
                  </a:lnTo>
                  <a:lnTo>
                    <a:pt x="165" y="475"/>
                  </a:lnTo>
                  <a:lnTo>
                    <a:pt x="183" y="492"/>
                  </a:lnTo>
                  <a:lnTo>
                    <a:pt x="218" y="528"/>
                  </a:lnTo>
                  <a:lnTo>
                    <a:pt x="255" y="564"/>
                  </a:lnTo>
                  <a:lnTo>
                    <a:pt x="265" y="572"/>
                  </a:lnTo>
                  <a:lnTo>
                    <a:pt x="274" y="580"/>
                  </a:lnTo>
                  <a:lnTo>
                    <a:pt x="284" y="587"/>
                  </a:lnTo>
                  <a:lnTo>
                    <a:pt x="295" y="594"/>
                  </a:lnTo>
                  <a:lnTo>
                    <a:pt x="305" y="600"/>
                  </a:lnTo>
                  <a:lnTo>
                    <a:pt x="316" y="605"/>
                  </a:lnTo>
                  <a:lnTo>
                    <a:pt x="328" y="610"/>
                  </a:lnTo>
                  <a:lnTo>
                    <a:pt x="339" y="612"/>
                  </a:lnTo>
                  <a:lnTo>
                    <a:pt x="376" y="614"/>
                  </a:lnTo>
                  <a:lnTo>
                    <a:pt x="414" y="618"/>
                  </a:lnTo>
                  <a:lnTo>
                    <a:pt x="453" y="621"/>
                  </a:lnTo>
                  <a:lnTo>
                    <a:pt x="491" y="624"/>
                  </a:lnTo>
                  <a:lnTo>
                    <a:pt x="511" y="623"/>
                  </a:lnTo>
                  <a:lnTo>
                    <a:pt x="531" y="621"/>
                  </a:lnTo>
                  <a:lnTo>
                    <a:pt x="550" y="618"/>
                  </a:lnTo>
                  <a:lnTo>
                    <a:pt x="569" y="614"/>
                  </a:lnTo>
                  <a:lnTo>
                    <a:pt x="586" y="607"/>
                  </a:lnTo>
                  <a:lnTo>
                    <a:pt x="604" y="599"/>
                  </a:lnTo>
                  <a:lnTo>
                    <a:pt x="612" y="593"/>
                  </a:lnTo>
                  <a:lnTo>
                    <a:pt x="621" y="587"/>
                  </a:lnTo>
                  <a:lnTo>
                    <a:pt x="628" y="582"/>
                  </a:lnTo>
                  <a:lnTo>
                    <a:pt x="636" y="575"/>
                  </a:lnTo>
                  <a:lnTo>
                    <a:pt x="663" y="538"/>
                  </a:lnTo>
                  <a:lnTo>
                    <a:pt x="688" y="502"/>
                  </a:lnTo>
                  <a:lnTo>
                    <a:pt x="711" y="463"/>
                  </a:lnTo>
                  <a:lnTo>
                    <a:pt x="735" y="425"/>
                  </a:lnTo>
                  <a:lnTo>
                    <a:pt x="777" y="345"/>
                  </a:lnTo>
                  <a:lnTo>
                    <a:pt x="821" y="267"/>
                  </a:lnTo>
                  <a:lnTo>
                    <a:pt x="843" y="228"/>
                  </a:lnTo>
                  <a:lnTo>
                    <a:pt x="868" y="191"/>
                  </a:lnTo>
                  <a:lnTo>
                    <a:pt x="881" y="172"/>
                  </a:lnTo>
                  <a:lnTo>
                    <a:pt x="894" y="155"/>
                  </a:lnTo>
                  <a:lnTo>
                    <a:pt x="907" y="137"/>
                  </a:lnTo>
                  <a:lnTo>
                    <a:pt x="922" y="120"/>
                  </a:lnTo>
                  <a:lnTo>
                    <a:pt x="936" y="103"/>
                  </a:lnTo>
                  <a:lnTo>
                    <a:pt x="952" y="87"/>
                  </a:lnTo>
                  <a:lnTo>
                    <a:pt x="967" y="70"/>
                  </a:lnTo>
                  <a:lnTo>
                    <a:pt x="985" y="55"/>
                  </a:lnTo>
                  <a:lnTo>
                    <a:pt x="1002" y="41"/>
                  </a:lnTo>
                  <a:lnTo>
                    <a:pt x="1021" y="27"/>
                  </a:lnTo>
                  <a:lnTo>
                    <a:pt x="1041" y="13"/>
                  </a:lnTo>
                  <a:lnTo>
                    <a:pt x="1062" y="0"/>
                  </a:lnTo>
                  <a:lnTo>
                    <a:pt x="1071" y="7"/>
                  </a:lnTo>
                  <a:lnTo>
                    <a:pt x="1080" y="14"/>
                  </a:lnTo>
                  <a:lnTo>
                    <a:pt x="1087" y="21"/>
                  </a:lnTo>
                  <a:lnTo>
                    <a:pt x="1095" y="30"/>
                  </a:lnTo>
                  <a:lnTo>
                    <a:pt x="1101" y="39"/>
                  </a:lnTo>
                  <a:lnTo>
                    <a:pt x="1106" y="48"/>
                  </a:lnTo>
                  <a:lnTo>
                    <a:pt x="1111" y="59"/>
                  </a:lnTo>
                  <a:lnTo>
                    <a:pt x="1116" y="68"/>
                  </a:lnTo>
                  <a:lnTo>
                    <a:pt x="1123" y="90"/>
                  </a:lnTo>
                  <a:lnTo>
                    <a:pt x="1129" y="113"/>
                  </a:lnTo>
                  <a:lnTo>
                    <a:pt x="1132" y="136"/>
                  </a:lnTo>
                  <a:lnTo>
                    <a:pt x="113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180080" y="3315240"/>
              <a:ext cx="298800" cy="183960"/>
            </a:xfrm>
            <a:custGeom>
              <a:avLst/>
              <a:gdLst/>
              <a:ahLst/>
              <a:rect l="l" t="t" r="r" b="b"/>
              <a:pathLst>
                <a:path w="1002" h="697">
                  <a:moveTo>
                    <a:pt x="198" y="38"/>
                  </a:moveTo>
                  <a:lnTo>
                    <a:pt x="215" y="49"/>
                  </a:lnTo>
                  <a:lnTo>
                    <a:pt x="233" y="61"/>
                  </a:lnTo>
                  <a:lnTo>
                    <a:pt x="249" y="74"/>
                  </a:lnTo>
                  <a:lnTo>
                    <a:pt x="265" y="86"/>
                  </a:lnTo>
                  <a:lnTo>
                    <a:pt x="279" y="100"/>
                  </a:lnTo>
                  <a:lnTo>
                    <a:pt x="294" y="116"/>
                  </a:lnTo>
                  <a:lnTo>
                    <a:pt x="308" y="131"/>
                  </a:lnTo>
                  <a:lnTo>
                    <a:pt x="319" y="147"/>
                  </a:lnTo>
                  <a:lnTo>
                    <a:pt x="343" y="180"/>
                  </a:lnTo>
                  <a:lnTo>
                    <a:pt x="365" y="214"/>
                  </a:lnTo>
                  <a:lnTo>
                    <a:pt x="386" y="248"/>
                  </a:lnTo>
                  <a:lnTo>
                    <a:pt x="407" y="283"/>
                  </a:lnTo>
                  <a:lnTo>
                    <a:pt x="428" y="317"/>
                  </a:lnTo>
                  <a:lnTo>
                    <a:pt x="450" y="350"/>
                  </a:lnTo>
                  <a:lnTo>
                    <a:pt x="461" y="365"/>
                  </a:lnTo>
                  <a:lnTo>
                    <a:pt x="474" y="380"/>
                  </a:lnTo>
                  <a:lnTo>
                    <a:pt x="485" y="395"/>
                  </a:lnTo>
                  <a:lnTo>
                    <a:pt x="498" y="409"/>
                  </a:lnTo>
                  <a:lnTo>
                    <a:pt x="512" y="423"/>
                  </a:lnTo>
                  <a:lnTo>
                    <a:pt x="526" y="435"/>
                  </a:lnTo>
                  <a:lnTo>
                    <a:pt x="541" y="447"/>
                  </a:lnTo>
                  <a:lnTo>
                    <a:pt x="558" y="458"/>
                  </a:lnTo>
                  <a:lnTo>
                    <a:pt x="574" y="468"/>
                  </a:lnTo>
                  <a:lnTo>
                    <a:pt x="593" y="477"/>
                  </a:lnTo>
                  <a:lnTo>
                    <a:pt x="612" y="484"/>
                  </a:lnTo>
                  <a:lnTo>
                    <a:pt x="633" y="491"/>
                  </a:lnTo>
                  <a:lnTo>
                    <a:pt x="649" y="486"/>
                  </a:lnTo>
                  <a:lnTo>
                    <a:pt x="667" y="483"/>
                  </a:lnTo>
                  <a:lnTo>
                    <a:pt x="685" y="481"/>
                  </a:lnTo>
                  <a:lnTo>
                    <a:pt x="704" y="478"/>
                  </a:lnTo>
                  <a:lnTo>
                    <a:pt x="743" y="475"/>
                  </a:lnTo>
                  <a:lnTo>
                    <a:pt x="780" y="470"/>
                  </a:lnTo>
                  <a:lnTo>
                    <a:pt x="798" y="465"/>
                  </a:lnTo>
                  <a:lnTo>
                    <a:pt x="815" y="459"/>
                  </a:lnTo>
                  <a:lnTo>
                    <a:pt x="822" y="456"/>
                  </a:lnTo>
                  <a:lnTo>
                    <a:pt x="830" y="451"/>
                  </a:lnTo>
                  <a:lnTo>
                    <a:pt x="837" y="447"/>
                  </a:lnTo>
                  <a:lnTo>
                    <a:pt x="844" y="442"/>
                  </a:lnTo>
                  <a:lnTo>
                    <a:pt x="850" y="436"/>
                  </a:lnTo>
                  <a:lnTo>
                    <a:pt x="857" y="429"/>
                  </a:lnTo>
                  <a:lnTo>
                    <a:pt x="862" y="422"/>
                  </a:lnTo>
                  <a:lnTo>
                    <a:pt x="867" y="414"/>
                  </a:lnTo>
                  <a:lnTo>
                    <a:pt x="871" y="405"/>
                  </a:lnTo>
                  <a:lnTo>
                    <a:pt x="876" y="395"/>
                  </a:lnTo>
                  <a:lnTo>
                    <a:pt x="878" y="385"/>
                  </a:lnTo>
                  <a:lnTo>
                    <a:pt x="882" y="373"/>
                  </a:lnTo>
                  <a:lnTo>
                    <a:pt x="882" y="369"/>
                  </a:lnTo>
                  <a:lnTo>
                    <a:pt x="883" y="367"/>
                  </a:lnTo>
                  <a:lnTo>
                    <a:pt x="884" y="365"/>
                  </a:lnTo>
                  <a:lnTo>
                    <a:pt x="886" y="362"/>
                  </a:lnTo>
                  <a:lnTo>
                    <a:pt x="892" y="360"/>
                  </a:lnTo>
                  <a:lnTo>
                    <a:pt x="898" y="360"/>
                  </a:lnTo>
                  <a:lnTo>
                    <a:pt x="913" y="360"/>
                  </a:lnTo>
                  <a:lnTo>
                    <a:pt x="926" y="359"/>
                  </a:lnTo>
                  <a:lnTo>
                    <a:pt x="941" y="369"/>
                  </a:lnTo>
                  <a:lnTo>
                    <a:pt x="954" y="381"/>
                  </a:lnTo>
                  <a:lnTo>
                    <a:pt x="966" y="395"/>
                  </a:lnTo>
                  <a:lnTo>
                    <a:pt x="976" y="409"/>
                  </a:lnTo>
                  <a:lnTo>
                    <a:pt x="985" y="424"/>
                  </a:lnTo>
                  <a:lnTo>
                    <a:pt x="991" y="440"/>
                  </a:lnTo>
                  <a:lnTo>
                    <a:pt x="996" y="457"/>
                  </a:lnTo>
                  <a:lnTo>
                    <a:pt x="1000" y="474"/>
                  </a:lnTo>
                  <a:lnTo>
                    <a:pt x="1002" y="491"/>
                  </a:lnTo>
                  <a:lnTo>
                    <a:pt x="1002" y="509"/>
                  </a:lnTo>
                  <a:lnTo>
                    <a:pt x="1002" y="527"/>
                  </a:lnTo>
                  <a:lnTo>
                    <a:pt x="1001" y="545"/>
                  </a:lnTo>
                  <a:lnTo>
                    <a:pt x="999" y="562"/>
                  </a:lnTo>
                  <a:lnTo>
                    <a:pt x="995" y="579"/>
                  </a:lnTo>
                  <a:lnTo>
                    <a:pt x="991" y="595"/>
                  </a:lnTo>
                  <a:lnTo>
                    <a:pt x="985" y="612"/>
                  </a:lnTo>
                  <a:lnTo>
                    <a:pt x="969" y="626"/>
                  </a:lnTo>
                  <a:lnTo>
                    <a:pt x="953" y="638"/>
                  </a:lnTo>
                  <a:lnTo>
                    <a:pt x="938" y="650"/>
                  </a:lnTo>
                  <a:lnTo>
                    <a:pt x="922" y="661"/>
                  </a:lnTo>
                  <a:lnTo>
                    <a:pt x="905" y="669"/>
                  </a:lnTo>
                  <a:lnTo>
                    <a:pt x="890" y="676"/>
                  </a:lnTo>
                  <a:lnTo>
                    <a:pt x="874" y="682"/>
                  </a:lnTo>
                  <a:lnTo>
                    <a:pt x="857" y="686"/>
                  </a:lnTo>
                  <a:lnTo>
                    <a:pt x="841" y="691"/>
                  </a:lnTo>
                  <a:lnTo>
                    <a:pt x="823" y="693"/>
                  </a:lnTo>
                  <a:lnTo>
                    <a:pt x="807" y="696"/>
                  </a:lnTo>
                  <a:lnTo>
                    <a:pt x="791" y="696"/>
                  </a:lnTo>
                  <a:lnTo>
                    <a:pt x="773" y="697"/>
                  </a:lnTo>
                  <a:lnTo>
                    <a:pt x="757" y="696"/>
                  </a:lnTo>
                  <a:lnTo>
                    <a:pt x="739" y="695"/>
                  </a:lnTo>
                  <a:lnTo>
                    <a:pt x="723" y="692"/>
                  </a:lnTo>
                  <a:lnTo>
                    <a:pt x="688" y="688"/>
                  </a:lnTo>
                  <a:lnTo>
                    <a:pt x="653" y="681"/>
                  </a:lnTo>
                  <a:lnTo>
                    <a:pt x="617" y="674"/>
                  </a:lnTo>
                  <a:lnTo>
                    <a:pt x="582" y="665"/>
                  </a:lnTo>
                  <a:lnTo>
                    <a:pt x="547" y="657"/>
                  </a:lnTo>
                  <a:lnTo>
                    <a:pt x="511" y="650"/>
                  </a:lnTo>
                  <a:lnTo>
                    <a:pt x="475" y="643"/>
                  </a:lnTo>
                  <a:lnTo>
                    <a:pt x="439" y="640"/>
                  </a:lnTo>
                  <a:lnTo>
                    <a:pt x="426" y="612"/>
                  </a:lnTo>
                  <a:lnTo>
                    <a:pt x="410" y="583"/>
                  </a:lnTo>
                  <a:lnTo>
                    <a:pt x="393" y="557"/>
                  </a:lnTo>
                  <a:lnTo>
                    <a:pt x="375" y="531"/>
                  </a:lnTo>
                  <a:lnTo>
                    <a:pt x="357" y="505"/>
                  </a:lnTo>
                  <a:lnTo>
                    <a:pt x="337" y="481"/>
                  </a:lnTo>
                  <a:lnTo>
                    <a:pt x="316" y="455"/>
                  </a:lnTo>
                  <a:lnTo>
                    <a:pt x="295" y="430"/>
                  </a:lnTo>
                  <a:lnTo>
                    <a:pt x="251" y="382"/>
                  </a:lnTo>
                  <a:lnTo>
                    <a:pt x="208" y="333"/>
                  </a:lnTo>
                  <a:lnTo>
                    <a:pt x="186" y="310"/>
                  </a:lnTo>
                  <a:lnTo>
                    <a:pt x="165" y="285"/>
                  </a:lnTo>
                  <a:lnTo>
                    <a:pt x="145" y="261"/>
                  </a:lnTo>
                  <a:lnTo>
                    <a:pt x="125" y="235"/>
                  </a:lnTo>
                  <a:lnTo>
                    <a:pt x="99" y="230"/>
                  </a:lnTo>
                  <a:lnTo>
                    <a:pt x="78" y="226"/>
                  </a:lnTo>
                  <a:lnTo>
                    <a:pt x="69" y="222"/>
                  </a:lnTo>
                  <a:lnTo>
                    <a:pt x="60" y="219"/>
                  </a:lnTo>
                  <a:lnTo>
                    <a:pt x="51" y="214"/>
                  </a:lnTo>
                  <a:lnTo>
                    <a:pt x="44" y="209"/>
                  </a:lnTo>
                  <a:lnTo>
                    <a:pt x="37" y="203"/>
                  </a:lnTo>
                  <a:lnTo>
                    <a:pt x="32" y="197"/>
                  </a:lnTo>
                  <a:lnTo>
                    <a:pt x="26" y="190"/>
                  </a:lnTo>
                  <a:lnTo>
                    <a:pt x="20" y="182"/>
                  </a:lnTo>
                  <a:lnTo>
                    <a:pt x="14" y="174"/>
                  </a:lnTo>
                  <a:lnTo>
                    <a:pt x="9" y="164"/>
                  </a:lnTo>
                  <a:lnTo>
                    <a:pt x="5" y="153"/>
                  </a:lnTo>
                  <a:lnTo>
                    <a:pt x="0" y="141"/>
                  </a:lnTo>
                  <a:lnTo>
                    <a:pt x="2" y="131"/>
                  </a:lnTo>
                  <a:lnTo>
                    <a:pt x="3" y="120"/>
                  </a:lnTo>
                  <a:lnTo>
                    <a:pt x="3" y="110"/>
                  </a:lnTo>
                  <a:lnTo>
                    <a:pt x="3" y="99"/>
                  </a:lnTo>
                  <a:lnTo>
                    <a:pt x="2" y="81"/>
                  </a:lnTo>
                  <a:lnTo>
                    <a:pt x="1" y="62"/>
                  </a:lnTo>
                  <a:lnTo>
                    <a:pt x="1" y="54"/>
                  </a:lnTo>
                  <a:lnTo>
                    <a:pt x="2" y="44"/>
                  </a:lnTo>
                  <a:lnTo>
                    <a:pt x="3" y="36"/>
                  </a:lnTo>
                  <a:lnTo>
                    <a:pt x="7" y="28"/>
                  </a:lnTo>
                  <a:lnTo>
                    <a:pt x="11" y="21"/>
                  </a:lnTo>
                  <a:lnTo>
                    <a:pt x="15" y="14"/>
                  </a:lnTo>
                  <a:lnTo>
                    <a:pt x="22" y="7"/>
                  </a:lnTo>
                  <a:lnTo>
                    <a:pt x="32" y="0"/>
                  </a:lnTo>
                  <a:lnTo>
                    <a:pt x="36" y="6"/>
                  </a:lnTo>
                  <a:lnTo>
                    <a:pt x="41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61" y="22"/>
                  </a:lnTo>
                  <a:lnTo>
                    <a:pt x="71" y="26"/>
                  </a:lnTo>
                  <a:lnTo>
                    <a:pt x="82" y="27"/>
                  </a:lnTo>
                  <a:lnTo>
                    <a:pt x="92" y="27"/>
                  </a:lnTo>
                  <a:lnTo>
                    <a:pt x="103" y="26"/>
                  </a:lnTo>
                  <a:lnTo>
                    <a:pt x="115" y="24"/>
                  </a:lnTo>
                  <a:lnTo>
                    <a:pt x="136" y="21"/>
                  </a:lnTo>
                  <a:lnTo>
                    <a:pt x="158" y="21"/>
                  </a:lnTo>
                  <a:lnTo>
                    <a:pt x="168" y="22"/>
                  </a:lnTo>
                  <a:lnTo>
                    <a:pt x="178" y="26"/>
                  </a:lnTo>
                  <a:lnTo>
                    <a:pt x="188" y="30"/>
                  </a:lnTo>
                  <a:lnTo>
                    <a:pt x="19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93800" y="3418200"/>
              <a:ext cx="309600" cy="212760"/>
            </a:xfrm>
            <a:custGeom>
              <a:avLst/>
              <a:gdLst/>
              <a:ahLst/>
              <a:rect l="l" t="t" r="r" b="b"/>
              <a:pathLst>
                <a:path w="1038" h="802">
                  <a:moveTo>
                    <a:pt x="1038" y="29"/>
                  </a:moveTo>
                  <a:lnTo>
                    <a:pt x="1036" y="38"/>
                  </a:lnTo>
                  <a:lnTo>
                    <a:pt x="1034" y="47"/>
                  </a:lnTo>
                  <a:lnTo>
                    <a:pt x="1032" y="57"/>
                  </a:lnTo>
                  <a:lnTo>
                    <a:pt x="1029" y="66"/>
                  </a:lnTo>
                  <a:lnTo>
                    <a:pt x="1021" y="84"/>
                  </a:lnTo>
                  <a:lnTo>
                    <a:pt x="1012" y="101"/>
                  </a:lnTo>
                  <a:lnTo>
                    <a:pt x="1001" y="117"/>
                  </a:lnTo>
                  <a:lnTo>
                    <a:pt x="990" y="134"/>
                  </a:lnTo>
                  <a:lnTo>
                    <a:pt x="977" y="149"/>
                  </a:lnTo>
                  <a:lnTo>
                    <a:pt x="964" y="165"/>
                  </a:lnTo>
                  <a:lnTo>
                    <a:pt x="951" y="181"/>
                  </a:lnTo>
                  <a:lnTo>
                    <a:pt x="938" y="197"/>
                  </a:lnTo>
                  <a:lnTo>
                    <a:pt x="926" y="213"/>
                  </a:lnTo>
                  <a:lnTo>
                    <a:pt x="917" y="230"/>
                  </a:lnTo>
                  <a:lnTo>
                    <a:pt x="908" y="247"/>
                  </a:lnTo>
                  <a:lnTo>
                    <a:pt x="902" y="265"/>
                  </a:lnTo>
                  <a:lnTo>
                    <a:pt x="898" y="274"/>
                  </a:lnTo>
                  <a:lnTo>
                    <a:pt x="897" y="285"/>
                  </a:lnTo>
                  <a:lnTo>
                    <a:pt x="896" y="294"/>
                  </a:lnTo>
                  <a:lnTo>
                    <a:pt x="896" y="305"/>
                  </a:lnTo>
                  <a:lnTo>
                    <a:pt x="876" y="342"/>
                  </a:lnTo>
                  <a:lnTo>
                    <a:pt x="857" y="381"/>
                  </a:lnTo>
                  <a:lnTo>
                    <a:pt x="840" y="420"/>
                  </a:lnTo>
                  <a:lnTo>
                    <a:pt x="822" y="460"/>
                  </a:lnTo>
                  <a:lnTo>
                    <a:pt x="805" y="500"/>
                  </a:lnTo>
                  <a:lnTo>
                    <a:pt x="787" y="540"/>
                  </a:lnTo>
                  <a:lnTo>
                    <a:pt x="767" y="578"/>
                  </a:lnTo>
                  <a:lnTo>
                    <a:pt x="748" y="615"/>
                  </a:lnTo>
                  <a:lnTo>
                    <a:pt x="737" y="632"/>
                  </a:lnTo>
                  <a:lnTo>
                    <a:pt x="725" y="650"/>
                  </a:lnTo>
                  <a:lnTo>
                    <a:pt x="714" y="666"/>
                  </a:lnTo>
                  <a:lnTo>
                    <a:pt x="701" y="682"/>
                  </a:lnTo>
                  <a:lnTo>
                    <a:pt x="688" y="696"/>
                  </a:lnTo>
                  <a:lnTo>
                    <a:pt x="674" y="712"/>
                  </a:lnTo>
                  <a:lnTo>
                    <a:pt x="660" y="724"/>
                  </a:lnTo>
                  <a:lnTo>
                    <a:pt x="645" y="737"/>
                  </a:lnTo>
                  <a:lnTo>
                    <a:pt x="628" y="749"/>
                  </a:lnTo>
                  <a:lnTo>
                    <a:pt x="611" y="758"/>
                  </a:lnTo>
                  <a:lnTo>
                    <a:pt x="593" y="768"/>
                  </a:lnTo>
                  <a:lnTo>
                    <a:pt x="574" y="776"/>
                  </a:lnTo>
                  <a:lnTo>
                    <a:pt x="555" y="783"/>
                  </a:lnTo>
                  <a:lnTo>
                    <a:pt x="534" y="789"/>
                  </a:lnTo>
                  <a:lnTo>
                    <a:pt x="511" y="792"/>
                  </a:lnTo>
                  <a:lnTo>
                    <a:pt x="488" y="795"/>
                  </a:lnTo>
                  <a:lnTo>
                    <a:pt x="443" y="790"/>
                  </a:lnTo>
                  <a:lnTo>
                    <a:pt x="401" y="788"/>
                  </a:lnTo>
                  <a:lnTo>
                    <a:pt x="363" y="785"/>
                  </a:lnTo>
                  <a:lnTo>
                    <a:pt x="324" y="784"/>
                  </a:lnTo>
                  <a:lnTo>
                    <a:pt x="287" y="785"/>
                  </a:lnTo>
                  <a:lnTo>
                    <a:pt x="249" y="789"/>
                  </a:lnTo>
                  <a:lnTo>
                    <a:pt x="210" y="795"/>
                  </a:lnTo>
                  <a:lnTo>
                    <a:pt x="166" y="802"/>
                  </a:lnTo>
                  <a:lnTo>
                    <a:pt x="149" y="789"/>
                  </a:lnTo>
                  <a:lnTo>
                    <a:pt x="132" y="774"/>
                  </a:lnTo>
                  <a:lnTo>
                    <a:pt x="116" y="758"/>
                  </a:lnTo>
                  <a:lnTo>
                    <a:pt x="101" y="742"/>
                  </a:lnTo>
                  <a:lnTo>
                    <a:pt x="87" y="726"/>
                  </a:lnTo>
                  <a:lnTo>
                    <a:pt x="74" y="708"/>
                  </a:lnTo>
                  <a:lnTo>
                    <a:pt x="62" y="689"/>
                  </a:lnTo>
                  <a:lnTo>
                    <a:pt x="52" y="670"/>
                  </a:lnTo>
                  <a:lnTo>
                    <a:pt x="41" y="651"/>
                  </a:lnTo>
                  <a:lnTo>
                    <a:pt x="32" y="630"/>
                  </a:lnTo>
                  <a:lnTo>
                    <a:pt x="25" y="610"/>
                  </a:lnTo>
                  <a:lnTo>
                    <a:pt x="18" y="589"/>
                  </a:lnTo>
                  <a:lnTo>
                    <a:pt x="12" y="567"/>
                  </a:lnTo>
                  <a:lnTo>
                    <a:pt x="7" y="546"/>
                  </a:lnTo>
                  <a:lnTo>
                    <a:pt x="4" y="523"/>
                  </a:lnTo>
                  <a:lnTo>
                    <a:pt x="0" y="501"/>
                  </a:lnTo>
                  <a:lnTo>
                    <a:pt x="3" y="484"/>
                  </a:lnTo>
                  <a:lnTo>
                    <a:pt x="6" y="466"/>
                  </a:lnTo>
                  <a:lnTo>
                    <a:pt x="11" y="448"/>
                  </a:lnTo>
                  <a:lnTo>
                    <a:pt x="17" y="432"/>
                  </a:lnTo>
                  <a:lnTo>
                    <a:pt x="24" y="416"/>
                  </a:lnTo>
                  <a:lnTo>
                    <a:pt x="32" y="402"/>
                  </a:lnTo>
                  <a:lnTo>
                    <a:pt x="41" y="389"/>
                  </a:lnTo>
                  <a:lnTo>
                    <a:pt x="53" y="377"/>
                  </a:lnTo>
                  <a:lnTo>
                    <a:pt x="61" y="392"/>
                  </a:lnTo>
                  <a:lnTo>
                    <a:pt x="69" y="409"/>
                  </a:lnTo>
                  <a:lnTo>
                    <a:pt x="76" y="426"/>
                  </a:lnTo>
                  <a:lnTo>
                    <a:pt x="82" y="445"/>
                  </a:lnTo>
                  <a:lnTo>
                    <a:pt x="95" y="481"/>
                  </a:lnTo>
                  <a:lnTo>
                    <a:pt x="110" y="516"/>
                  </a:lnTo>
                  <a:lnTo>
                    <a:pt x="118" y="533"/>
                  </a:lnTo>
                  <a:lnTo>
                    <a:pt x="128" y="549"/>
                  </a:lnTo>
                  <a:lnTo>
                    <a:pt x="138" y="563"/>
                  </a:lnTo>
                  <a:lnTo>
                    <a:pt x="151" y="576"/>
                  </a:lnTo>
                  <a:lnTo>
                    <a:pt x="158" y="582"/>
                  </a:lnTo>
                  <a:lnTo>
                    <a:pt x="165" y="588"/>
                  </a:lnTo>
                  <a:lnTo>
                    <a:pt x="173" y="592"/>
                  </a:lnTo>
                  <a:lnTo>
                    <a:pt x="182" y="597"/>
                  </a:lnTo>
                  <a:lnTo>
                    <a:pt x="191" y="601"/>
                  </a:lnTo>
                  <a:lnTo>
                    <a:pt x="200" y="604"/>
                  </a:lnTo>
                  <a:lnTo>
                    <a:pt x="211" y="606"/>
                  </a:lnTo>
                  <a:lnTo>
                    <a:pt x="222" y="609"/>
                  </a:lnTo>
                  <a:lnTo>
                    <a:pt x="259" y="615"/>
                  </a:lnTo>
                  <a:lnTo>
                    <a:pt x="297" y="622"/>
                  </a:lnTo>
                  <a:lnTo>
                    <a:pt x="337" y="629"/>
                  </a:lnTo>
                  <a:lnTo>
                    <a:pt x="378" y="634"/>
                  </a:lnTo>
                  <a:lnTo>
                    <a:pt x="398" y="637"/>
                  </a:lnTo>
                  <a:lnTo>
                    <a:pt x="418" y="638"/>
                  </a:lnTo>
                  <a:lnTo>
                    <a:pt x="439" y="638"/>
                  </a:lnTo>
                  <a:lnTo>
                    <a:pt x="459" y="637"/>
                  </a:lnTo>
                  <a:lnTo>
                    <a:pt x="479" y="634"/>
                  </a:lnTo>
                  <a:lnTo>
                    <a:pt x="498" y="631"/>
                  </a:lnTo>
                  <a:lnTo>
                    <a:pt x="517" y="626"/>
                  </a:lnTo>
                  <a:lnTo>
                    <a:pt x="536" y="619"/>
                  </a:lnTo>
                  <a:lnTo>
                    <a:pt x="551" y="601"/>
                  </a:lnTo>
                  <a:lnTo>
                    <a:pt x="565" y="581"/>
                  </a:lnTo>
                  <a:lnTo>
                    <a:pt x="578" y="561"/>
                  </a:lnTo>
                  <a:lnTo>
                    <a:pt x="591" y="540"/>
                  </a:lnTo>
                  <a:lnTo>
                    <a:pt x="614" y="499"/>
                  </a:lnTo>
                  <a:lnTo>
                    <a:pt x="636" y="455"/>
                  </a:lnTo>
                  <a:lnTo>
                    <a:pt x="679" y="369"/>
                  </a:lnTo>
                  <a:lnTo>
                    <a:pt x="721" y="282"/>
                  </a:lnTo>
                  <a:lnTo>
                    <a:pt x="744" y="240"/>
                  </a:lnTo>
                  <a:lnTo>
                    <a:pt x="769" y="199"/>
                  </a:lnTo>
                  <a:lnTo>
                    <a:pt x="781" y="179"/>
                  </a:lnTo>
                  <a:lnTo>
                    <a:pt x="794" y="161"/>
                  </a:lnTo>
                  <a:lnTo>
                    <a:pt x="808" y="141"/>
                  </a:lnTo>
                  <a:lnTo>
                    <a:pt x="824" y="123"/>
                  </a:lnTo>
                  <a:lnTo>
                    <a:pt x="840" y="105"/>
                  </a:lnTo>
                  <a:lnTo>
                    <a:pt x="856" y="88"/>
                  </a:lnTo>
                  <a:lnTo>
                    <a:pt x="874" y="72"/>
                  </a:lnTo>
                  <a:lnTo>
                    <a:pt x="893" y="55"/>
                  </a:lnTo>
                  <a:lnTo>
                    <a:pt x="912" y="40"/>
                  </a:lnTo>
                  <a:lnTo>
                    <a:pt x="933" y="26"/>
                  </a:lnTo>
                  <a:lnTo>
                    <a:pt x="956" y="13"/>
                  </a:lnTo>
                  <a:lnTo>
                    <a:pt x="978" y="0"/>
                  </a:lnTo>
                  <a:lnTo>
                    <a:pt x="103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194120" y="3432600"/>
              <a:ext cx="277560" cy="174600"/>
            </a:xfrm>
            <a:custGeom>
              <a:avLst/>
              <a:gdLst/>
              <a:ahLst/>
              <a:rect l="l" t="t" r="r" b="b"/>
              <a:pathLst>
                <a:path w="928" h="660">
                  <a:moveTo>
                    <a:pt x="195" y="48"/>
                  </a:moveTo>
                  <a:lnTo>
                    <a:pt x="211" y="53"/>
                  </a:lnTo>
                  <a:lnTo>
                    <a:pt x="225" y="57"/>
                  </a:lnTo>
                  <a:lnTo>
                    <a:pt x="238" y="64"/>
                  </a:lnTo>
                  <a:lnTo>
                    <a:pt x="249" y="73"/>
                  </a:lnTo>
                  <a:lnTo>
                    <a:pt x="259" y="82"/>
                  </a:lnTo>
                  <a:lnTo>
                    <a:pt x="268" y="91"/>
                  </a:lnTo>
                  <a:lnTo>
                    <a:pt x="276" y="103"/>
                  </a:lnTo>
                  <a:lnTo>
                    <a:pt x="282" y="114"/>
                  </a:lnTo>
                  <a:lnTo>
                    <a:pt x="287" y="126"/>
                  </a:lnTo>
                  <a:lnTo>
                    <a:pt x="292" y="139"/>
                  </a:lnTo>
                  <a:lnTo>
                    <a:pt x="297" y="152"/>
                  </a:lnTo>
                  <a:lnTo>
                    <a:pt x="300" y="165"/>
                  </a:lnTo>
                  <a:lnTo>
                    <a:pt x="306" y="194"/>
                  </a:lnTo>
                  <a:lnTo>
                    <a:pt x="311" y="222"/>
                  </a:lnTo>
                  <a:lnTo>
                    <a:pt x="316" y="252"/>
                  </a:lnTo>
                  <a:lnTo>
                    <a:pt x="321" y="280"/>
                  </a:lnTo>
                  <a:lnTo>
                    <a:pt x="325" y="294"/>
                  </a:lnTo>
                  <a:lnTo>
                    <a:pt x="328" y="307"/>
                  </a:lnTo>
                  <a:lnTo>
                    <a:pt x="333" y="319"/>
                  </a:lnTo>
                  <a:lnTo>
                    <a:pt x="339" y="332"/>
                  </a:lnTo>
                  <a:lnTo>
                    <a:pt x="345" y="344"/>
                  </a:lnTo>
                  <a:lnTo>
                    <a:pt x="352" y="355"/>
                  </a:lnTo>
                  <a:lnTo>
                    <a:pt x="360" y="365"/>
                  </a:lnTo>
                  <a:lnTo>
                    <a:pt x="369" y="373"/>
                  </a:lnTo>
                  <a:lnTo>
                    <a:pt x="380" y="383"/>
                  </a:lnTo>
                  <a:lnTo>
                    <a:pt x="392" y="390"/>
                  </a:lnTo>
                  <a:lnTo>
                    <a:pt x="404" y="395"/>
                  </a:lnTo>
                  <a:lnTo>
                    <a:pt x="420" y="400"/>
                  </a:lnTo>
                  <a:lnTo>
                    <a:pt x="431" y="404"/>
                  </a:lnTo>
                  <a:lnTo>
                    <a:pt x="443" y="406"/>
                  </a:lnTo>
                  <a:lnTo>
                    <a:pt x="455" y="408"/>
                  </a:lnTo>
                  <a:lnTo>
                    <a:pt x="466" y="409"/>
                  </a:lnTo>
                  <a:lnTo>
                    <a:pt x="490" y="409"/>
                  </a:lnTo>
                  <a:lnTo>
                    <a:pt x="512" y="407"/>
                  </a:lnTo>
                  <a:lnTo>
                    <a:pt x="555" y="398"/>
                  </a:lnTo>
                  <a:lnTo>
                    <a:pt x="599" y="388"/>
                  </a:lnTo>
                  <a:lnTo>
                    <a:pt x="620" y="385"/>
                  </a:lnTo>
                  <a:lnTo>
                    <a:pt x="641" y="383"/>
                  </a:lnTo>
                  <a:lnTo>
                    <a:pt x="650" y="383"/>
                  </a:lnTo>
                  <a:lnTo>
                    <a:pt x="660" y="384"/>
                  </a:lnTo>
                  <a:lnTo>
                    <a:pt x="671" y="385"/>
                  </a:lnTo>
                  <a:lnTo>
                    <a:pt x="682" y="387"/>
                  </a:lnTo>
                  <a:lnTo>
                    <a:pt x="691" y="391"/>
                  </a:lnTo>
                  <a:lnTo>
                    <a:pt x="701" y="395"/>
                  </a:lnTo>
                  <a:lnTo>
                    <a:pt x="711" y="401"/>
                  </a:lnTo>
                  <a:lnTo>
                    <a:pt x="721" y="407"/>
                  </a:lnTo>
                  <a:lnTo>
                    <a:pt x="732" y="415"/>
                  </a:lnTo>
                  <a:lnTo>
                    <a:pt x="741" y="425"/>
                  </a:lnTo>
                  <a:lnTo>
                    <a:pt x="752" y="436"/>
                  </a:lnTo>
                  <a:lnTo>
                    <a:pt x="762" y="448"/>
                  </a:lnTo>
                  <a:lnTo>
                    <a:pt x="772" y="445"/>
                  </a:lnTo>
                  <a:lnTo>
                    <a:pt x="782" y="440"/>
                  </a:lnTo>
                  <a:lnTo>
                    <a:pt x="794" y="434"/>
                  </a:lnTo>
                  <a:lnTo>
                    <a:pt x="806" y="428"/>
                  </a:lnTo>
                  <a:lnTo>
                    <a:pt x="830" y="414"/>
                  </a:lnTo>
                  <a:lnTo>
                    <a:pt x="855" y="402"/>
                  </a:lnTo>
                  <a:lnTo>
                    <a:pt x="866" y="399"/>
                  </a:lnTo>
                  <a:lnTo>
                    <a:pt x="878" y="395"/>
                  </a:lnTo>
                  <a:lnTo>
                    <a:pt x="884" y="395"/>
                  </a:lnTo>
                  <a:lnTo>
                    <a:pt x="889" y="395"/>
                  </a:lnTo>
                  <a:lnTo>
                    <a:pt x="893" y="395"/>
                  </a:lnTo>
                  <a:lnTo>
                    <a:pt x="899" y="397"/>
                  </a:lnTo>
                  <a:lnTo>
                    <a:pt x="904" y="399"/>
                  </a:lnTo>
                  <a:lnTo>
                    <a:pt x="907" y="401"/>
                  </a:lnTo>
                  <a:lnTo>
                    <a:pt x="912" y="405"/>
                  </a:lnTo>
                  <a:lnTo>
                    <a:pt x="915" y="409"/>
                  </a:lnTo>
                  <a:lnTo>
                    <a:pt x="919" y="414"/>
                  </a:lnTo>
                  <a:lnTo>
                    <a:pt x="922" y="420"/>
                  </a:lnTo>
                  <a:lnTo>
                    <a:pt x="925" y="427"/>
                  </a:lnTo>
                  <a:lnTo>
                    <a:pt x="927" y="435"/>
                  </a:lnTo>
                  <a:lnTo>
                    <a:pt x="927" y="456"/>
                  </a:lnTo>
                  <a:lnTo>
                    <a:pt x="928" y="481"/>
                  </a:lnTo>
                  <a:lnTo>
                    <a:pt x="927" y="505"/>
                  </a:lnTo>
                  <a:lnTo>
                    <a:pt x="926" y="531"/>
                  </a:lnTo>
                  <a:lnTo>
                    <a:pt x="924" y="543"/>
                  </a:lnTo>
                  <a:lnTo>
                    <a:pt x="922" y="556"/>
                  </a:lnTo>
                  <a:lnTo>
                    <a:pt x="919" y="567"/>
                  </a:lnTo>
                  <a:lnTo>
                    <a:pt x="915" y="579"/>
                  </a:lnTo>
                  <a:lnTo>
                    <a:pt x="912" y="591"/>
                  </a:lnTo>
                  <a:lnTo>
                    <a:pt x="906" y="601"/>
                  </a:lnTo>
                  <a:lnTo>
                    <a:pt x="900" y="612"/>
                  </a:lnTo>
                  <a:lnTo>
                    <a:pt x="893" y="621"/>
                  </a:lnTo>
                  <a:lnTo>
                    <a:pt x="883" y="631"/>
                  </a:lnTo>
                  <a:lnTo>
                    <a:pt x="873" y="638"/>
                  </a:lnTo>
                  <a:lnTo>
                    <a:pt x="863" y="645"/>
                  </a:lnTo>
                  <a:lnTo>
                    <a:pt x="853" y="649"/>
                  </a:lnTo>
                  <a:lnTo>
                    <a:pt x="843" y="654"/>
                  </a:lnTo>
                  <a:lnTo>
                    <a:pt x="832" y="656"/>
                  </a:lnTo>
                  <a:lnTo>
                    <a:pt x="823" y="659"/>
                  </a:lnTo>
                  <a:lnTo>
                    <a:pt x="813" y="660"/>
                  </a:lnTo>
                  <a:lnTo>
                    <a:pt x="802" y="660"/>
                  </a:lnTo>
                  <a:lnTo>
                    <a:pt x="791" y="660"/>
                  </a:lnTo>
                  <a:lnTo>
                    <a:pt x="781" y="659"/>
                  </a:lnTo>
                  <a:lnTo>
                    <a:pt x="770" y="656"/>
                  </a:lnTo>
                  <a:lnTo>
                    <a:pt x="749" y="652"/>
                  </a:lnTo>
                  <a:lnTo>
                    <a:pt x="728" y="645"/>
                  </a:lnTo>
                  <a:lnTo>
                    <a:pt x="685" y="629"/>
                  </a:lnTo>
                  <a:lnTo>
                    <a:pt x="642" y="615"/>
                  </a:lnTo>
                  <a:lnTo>
                    <a:pt x="621" y="611"/>
                  </a:lnTo>
                  <a:lnTo>
                    <a:pt x="600" y="607"/>
                  </a:lnTo>
                  <a:lnTo>
                    <a:pt x="589" y="607"/>
                  </a:lnTo>
                  <a:lnTo>
                    <a:pt x="579" y="607"/>
                  </a:lnTo>
                  <a:lnTo>
                    <a:pt x="568" y="608"/>
                  </a:lnTo>
                  <a:lnTo>
                    <a:pt x="558" y="611"/>
                  </a:lnTo>
                  <a:lnTo>
                    <a:pt x="539" y="609"/>
                  </a:lnTo>
                  <a:lnTo>
                    <a:pt x="520" y="608"/>
                  </a:lnTo>
                  <a:lnTo>
                    <a:pt x="500" y="609"/>
                  </a:lnTo>
                  <a:lnTo>
                    <a:pt x="479" y="609"/>
                  </a:lnTo>
                  <a:lnTo>
                    <a:pt x="459" y="611"/>
                  </a:lnTo>
                  <a:lnTo>
                    <a:pt x="439" y="612"/>
                  </a:lnTo>
                  <a:lnTo>
                    <a:pt x="420" y="612"/>
                  </a:lnTo>
                  <a:lnTo>
                    <a:pt x="400" y="612"/>
                  </a:lnTo>
                  <a:lnTo>
                    <a:pt x="381" y="609"/>
                  </a:lnTo>
                  <a:lnTo>
                    <a:pt x="363" y="605"/>
                  </a:lnTo>
                  <a:lnTo>
                    <a:pt x="355" y="602"/>
                  </a:lnTo>
                  <a:lnTo>
                    <a:pt x="347" y="599"/>
                  </a:lnTo>
                  <a:lnTo>
                    <a:pt x="339" y="594"/>
                  </a:lnTo>
                  <a:lnTo>
                    <a:pt x="332" y="590"/>
                  </a:lnTo>
                  <a:lnTo>
                    <a:pt x="325" y="585"/>
                  </a:lnTo>
                  <a:lnTo>
                    <a:pt x="318" y="578"/>
                  </a:lnTo>
                  <a:lnTo>
                    <a:pt x="312" y="571"/>
                  </a:lnTo>
                  <a:lnTo>
                    <a:pt x="306" y="563"/>
                  </a:lnTo>
                  <a:lnTo>
                    <a:pt x="300" y="555"/>
                  </a:lnTo>
                  <a:lnTo>
                    <a:pt x="296" y="544"/>
                  </a:lnTo>
                  <a:lnTo>
                    <a:pt x="292" y="533"/>
                  </a:lnTo>
                  <a:lnTo>
                    <a:pt x="289" y="521"/>
                  </a:lnTo>
                  <a:lnTo>
                    <a:pt x="279" y="510"/>
                  </a:lnTo>
                  <a:lnTo>
                    <a:pt x="271" y="498"/>
                  </a:lnTo>
                  <a:lnTo>
                    <a:pt x="264" y="486"/>
                  </a:lnTo>
                  <a:lnTo>
                    <a:pt x="257" y="474"/>
                  </a:lnTo>
                  <a:lnTo>
                    <a:pt x="243" y="447"/>
                  </a:lnTo>
                  <a:lnTo>
                    <a:pt x="231" y="420"/>
                  </a:lnTo>
                  <a:lnTo>
                    <a:pt x="209" y="365"/>
                  </a:lnTo>
                  <a:lnTo>
                    <a:pt x="188" y="310"/>
                  </a:lnTo>
                  <a:lnTo>
                    <a:pt x="175" y="283"/>
                  </a:lnTo>
                  <a:lnTo>
                    <a:pt x="162" y="259"/>
                  </a:lnTo>
                  <a:lnTo>
                    <a:pt x="155" y="247"/>
                  </a:lnTo>
                  <a:lnTo>
                    <a:pt x="147" y="235"/>
                  </a:lnTo>
                  <a:lnTo>
                    <a:pt x="139" y="225"/>
                  </a:lnTo>
                  <a:lnTo>
                    <a:pt x="131" y="214"/>
                  </a:lnTo>
                  <a:lnTo>
                    <a:pt x="121" y="205"/>
                  </a:lnTo>
                  <a:lnTo>
                    <a:pt x="111" y="195"/>
                  </a:lnTo>
                  <a:lnTo>
                    <a:pt x="100" y="187"/>
                  </a:lnTo>
                  <a:lnTo>
                    <a:pt x="89" y="180"/>
                  </a:lnTo>
                  <a:lnTo>
                    <a:pt x="76" y="173"/>
                  </a:lnTo>
                  <a:lnTo>
                    <a:pt x="63" y="167"/>
                  </a:lnTo>
                  <a:lnTo>
                    <a:pt x="48" y="163"/>
                  </a:lnTo>
                  <a:lnTo>
                    <a:pt x="33" y="158"/>
                  </a:lnTo>
                  <a:lnTo>
                    <a:pt x="23" y="151"/>
                  </a:lnTo>
                  <a:lnTo>
                    <a:pt x="16" y="143"/>
                  </a:lnTo>
                  <a:lnTo>
                    <a:pt x="10" y="135"/>
                  </a:lnTo>
                  <a:lnTo>
                    <a:pt x="6" y="125"/>
                  </a:lnTo>
                  <a:lnTo>
                    <a:pt x="3" y="115"/>
                  </a:lnTo>
                  <a:lnTo>
                    <a:pt x="1" y="105"/>
                  </a:lnTo>
                  <a:lnTo>
                    <a:pt x="1" y="94"/>
                  </a:lnTo>
                  <a:lnTo>
                    <a:pt x="0" y="83"/>
                  </a:lnTo>
                  <a:lnTo>
                    <a:pt x="1" y="61"/>
                  </a:lnTo>
                  <a:lnTo>
                    <a:pt x="3" y="40"/>
                  </a:lnTo>
                  <a:lnTo>
                    <a:pt x="3" y="29"/>
                  </a:lnTo>
                  <a:lnTo>
                    <a:pt x="3" y="20"/>
                  </a:lnTo>
                  <a:lnTo>
                    <a:pt x="3" y="11"/>
                  </a:lnTo>
                  <a:lnTo>
                    <a:pt x="2" y="2"/>
                  </a:lnTo>
                  <a:lnTo>
                    <a:pt x="16" y="1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2"/>
                  </a:lnTo>
                  <a:lnTo>
                    <a:pt x="66" y="6"/>
                  </a:lnTo>
                  <a:lnTo>
                    <a:pt x="78" y="9"/>
                  </a:lnTo>
                  <a:lnTo>
                    <a:pt x="90" y="13"/>
                  </a:lnTo>
                  <a:lnTo>
                    <a:pt x="102" y="18"/>
                  </a:lnTo>
                  <a:lnTo>
                    <a:pt x="124" y="27"/>
                  </a:lnTo>
                  <a:lnTo>
                    <a:pt x="146" y="36"/>
                  </a:lnTo>
                  <a:lnTo>
                    <a:pt x="158" y="40"/>
                  </a:lnTo>
                  <a:lnTo>
                    <a:pt x="171" y="43"/>
                  </a:lnTo>
                  <a:lnTo>
                    <a:pt x="182" y="46"/>
                  </a:lnTo>
                  <a:lnTo>
                    <a:pt x="195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067040" y="3443760"/>
              <a:ext cx="159480" cy="135000"/>
            </a:xfrm>
            <a:custGeom>
              <a:avLst/>
              <a:gdLst/>
              <a:ahLst/>
              <a:rect l="l" t="t" r="r" b="b"/>
              <a:pathLst>
                <a:path w="533" h="508">
                  <a:moveTo>
                    <a:pt x="152" y="128"/>
                  </a:moveTo>
                  <a:lnTo>
                    <a:pt x="142" y="132"/>
                  </a:lnTo>
                  <a:lnTo>
                    <a:pt x="130" y="138"/>
                  </a:lnTo>
                  <a:lnTo>
                    <a:pt x="121" y="145"/>
                  </a:lnTo>
                  <a:lnTo>
                    <a:pt x="112" y="152"/>
                  </a:lnTo>
                  <a:lnTo>
                    <a:pt x="102" y="160"/>
                  </a:lnTo>
                  <a:lnTo>
                    <a:pt x="94" y="168"/>
                  </a:lnTo>
                  <a:lnTo>
                    <a:pt x="86" y="178"/>
                  </a:lnTo>
                  <a:lnTo>
                    <a:pt x="79" y="187"/>
                  </a:lnTo>
                  <a:lnTo>
                    <a:pt x="73" y="198"/>
                  </a:lnTo>
                  <a:lnTo>
                    <a:pt x="67" y="208"/>
                  </a:lnTo>
                  <a:lnTo>
                    <a:pt x="61" y="219"/>
                  </a:lnTo>
                  <a:lnTo>
                    <a:pt x="57" y="230"/>
                  </a:lnTo>
                  <a:lnTo>
                    <a:pt x="48" y="253"/>
                  </a:lnTo>
                  <a:lnTo>
                    <a:pt x="43" y="276"/>
                  </a:lnTo>
                  <a:lnTo>
                    <a:pt x="40" y="287"/>
                  </a:lnTo>
                  <a:lnTo>
                    <a:pt x="40" y="296"/>
                  </a:lnTo>
                  <a:lnTo>
                    <a:pt x="40" y="306"/>
                  </a:lnTo>
                  <a:lnTo>
                    <a:pt x="40" y="317"/>
                  </a:lnTo>
                  <a:lnTo>
                    <a:pt x="44" y="338"/>
                  </a:lnTo>
                  <a:lnTo>
                    <a:pt x="50" y="359"/>
                  </a:lnTo>
                  <a:lnTo>
                    <a:pt x="57" y="380"/>
                  </a:lnTo>
                  <a:lnTo>
                    <a:pt x="66" y="401"/>
                  </a:lnTo>
                  <a:lnTo>
                    <a:pt x="75" y="422"/>
                  </a:lnTo>
                  <a:lnTo>
                    <a:pt x="87" y="442"/>
                  </a:lnTo>
                  <a:lnTo>
                    <a:pt x="100" y="433"/>
                  </a:lnTo>
                  <a:lnTo>
                    <a:pt x="112" y="426"/>
                  </a:lnTo>
                  <a:lnTo>
                    <a:pt x="123" y="419"/>
                  </a:lnTo>
                  <a:lnTo>
                    <a:pt x="136" y="412"/>
                  </a:lnTo>
                  <a:lnTo>
                    <a:pt x="148" y="406"/>
                  </a:lnTo>
                  <a:lnTo>
                    <a:pt x="159" y="401"/>
                  </a:lnTo>
                  <a:lnTo>
                    <a:pt x="172" y="397"/>
                  </a:lnTo>
                  <a:lnTo>
                    <a:pt x="184" y="393"/>
                  </a:lnTo>
                  <a:lnTo>
                    <a:pt x="209" y="387"/>
                  </a:lnTo>
                  <a:lnTo>
                    <a:pt x="232" y="384"/>
                  </a:lnTo>
                  <a:lnTo>
                    <a:pt x="257" y="383"/>
                  </a:lnTo>
                  <a:lnTo>
                    <a:pt x="280" y="383"/>
                  </a:lnTo>
                  <a:lnTo>
                    <a:pt x="304" y="384"/>
                  </a:lnTo>
                  <a:lnTo>
                    <a:pt x="329" y="385"/>
                  </a:lnTo>
                  <a:lnTo>
                    <a:pt x="354" y="388"/>
                  </a:lnTo>
                  <a:lnTo>
                    <a:pt x="378" y="392"/>
                  </a:lnTo>
                  <a:lnTo>
                    <a:pt x="428" y="400"/>
                  </a:lnTo>
                  <a:lnTo>
                    <a:pt x="481" y="407"/>
                  </a:lnTo>
                  <a:lnTo>
                    <a:pt x="486" y="398"/>
                  </a:lnTo>
                  <a:lnTo>
                    <a:pt x="488" y="388"/>
                  </a:lnTo>
                  <a:lnTo>
                    <a:pt x="490" y="380"/>
                  </a:lnTo>
                  <a:lnTo>
                    <a:pt x="492" y="372"/>
                  </a:lnTo>
                  <a:lnTo>
                    <a:pt x="493" y="364"/>
                  </a:lnTo>
                  <a:lnTo>
                    <a:pt x="492" y="357"/>
                  </a:lnTo>
                  <a:lnTo>
                    <a:pt x="490" y="349"/>
                  </a:lnTo>
                  <a:lnTo>
                    <a:pt x="489" y="342"/>
                  </a:lnTo>
                  <a:lnTo>
                    <a:pt x="483" y="329"/>
                  </a:lnTo>
                  <a:lnTo>
                    <a:pt x="476" y="316"/>
                  </a:lnTo>
                  <a:lnTo>
                    <a:pt x="467" y="303"/>
                  </a:lnTo>
                  <a:lnTo>
                    <a:pt x="457" y="291"/>
                  </a:lnTo>
                  <a:lnTo>
                    <a:pt x="434" y="268"/>
                  </a:lnTo>
                  <a:lnTo>
                    <a:pt x="414" y="243"/>
                  </a:lnTo>
                  <a:lnTo>
                    <a:pt x="405" y="229"/>
                  </a:lnTo>
                  <a:lnTo>
                    <a:pt x="398" y="215"/>
                  </a:lnTo>
                  <a:lnTo>
                    <a:pt x="396" y="207"/>
                  </a:lnTo>
                  <a:lnTo>
                    <a:pt x="393" y="200"/>
                  </a:lnTo>
                  <a:lnTo>
                    <a:pt x="392" y="192"/>
                  </a:lnTo>
                  <a:lnTo>
                    <a:pt x="391" y="183"/>
                  </a:lnTo>
                  <a:lnTo>
                    <a:pt x="369" y="172"/>
                  </a:lnTo>
                  <a:lnTo>
                    <a:pt x="345" y="159"/>
                  </a:lnTo>
                  <a:lnTo>
                    <a:pt x="322" y="146"/>
                  </a:lnTo>
                  <a:lnTo>
                    <a:pt x="297" y="135"/>
                  </a:lnTo>
                  <a:lnTo>
                    <a:pt x="286" y="130"/>
                  </a:lnTo>
                  <a:lnTo>
                    <a:pt x="274" y="125"/>
                  </a:lnTo>
                  <a:lnTo>
                    <a:pt x="262" y="123"/>
                  </a:lnTo>
                  <a:lnTo>
                    <a:pt x="251" y="121"/>
                  </a:lnTo>
                  <a:lnTo>
                    <a:pt x="239" y="121"/>
                  </a:lnTo>
                  <a:lnTo>
                    <a:pt x="227" y="121"/>
                  </a:lnTo>
                  <a:lnTo>
                    <a:pt x="216" y="123"/>
                  </a:lnTo>
                  <a:lnTo>
                    <a:pt x="205" y="128"/>
                  </a:lnTo>
                  <a:lnTo>
                    <a:pt x="199" y="123"/>
                  </a:lnTo>
                  <a:lnTo>
                    <a:pt x="195" y="117"/>
                  </a:lnTo>
                  <a:lnTo>
                    <a:pt x="191" y="111"/>
                  </a:lnTo>
                  <a:lnTo>
                    <a:pt x="189" y="104"/>
                  </a:lnTo>
                  <a:lnTo>
                    <a:pt x="189" y="98"/>
                  </a:lnTo>
                  <a:lnTo>
                    <a:pt x="189" y="92"/>
                  </a:lnTo>
                  <a:lnTo>
                    <a:pt x="191" y="85"/>
                  </a:lnTo>
                  <a:lnTo>
                    <a:pt x="195" y="80"/>
                  </a:lnTo>
                  <a:lnTo>
                    <a:pt x="206" y="74"/>
                  </a:lnTo>
                  <a:lnTo>
                    <a:pt x="218" y="70"/>
                  </a:lnTo>
                  <a:lnTo>
                    <a:pt x="231" y="68"/>
                  </a:lnTo>
                  <a:lnTo>
                    <a:pt x="244" y="69"/>
                  </a:lnTo>
                  <a:lnTo>
                    <a:pt x="258" y="70"/>
                  </a:lnTo>
                  <a:lnTo>
                    <a:pt x="271" y="74"/>
                  </a:lnTo>
                  <a:lnTo>
                    <a:pt x="285" y="78"/>
                  </a:lnTo>
                  <a:lnTo>
                    <a:pt x="299" y="84"/>
                  </a:lnTo>
                  <a:lnTo>
                    <a:pt x="327" y="97"/>
                  </a:lnTo>
                  <a:lnTo>
                    <a:pt x="355" y="112"/>
                  </a:lnTo>
                  <a:lnTo>
                    <a:pt x="382" y="126"/>
                  </a:lnTo>
                  <a:lnTo>
                    <a:pt x="409" y="138"/>
                  </a:lnTo>
                  <a:lnTo>
                    <a:pt x="410" y="149"/>
                  </a:lnTo>
                  <a:lnTo>
                    <a:pt x="413" y="159"/>
                  </a:lnTo>
                  <a:lnTo>
                    <a:pt x="417" y="170"/>
                  </a:lnTo>
                  <a:lnTo>
                    <a:pt x="421" y="180"/>
                  </a:lnTo>
                  <a:lnTo>
                    <a:pt x="432" y="200"/>
                  </a:lnTo>
                  <a:lnTo>
                    <a:pt x="445" y="220"/>
                  </a:lnTo>
                  <a:lnTo>
                    <a:pt x="473" y="260"/>
                  </a:lnTo>
                  <a:lnTo>
                    <a:pt x="502" y="298"/>
                  </a:lnTo>
                  <a:lnTo>
                    <a:pt x="514" y="318"/>
                  </a:lnTo>
                  <a:lnTo>
                    <a:pt x="523" y="338"/>
                  </a:lnTo>
                  <a:lnTo>
                    <a:pt x="527" y="347"/>
                  </a:lnTo>
                  <a:lnTo>
                    <a:pt x="530" y="358"/>
                  </a:lnTo>
                  <a:lnTo>
                    <a:pt x="531" y="368"/>
                  </a:lnTo>
                  <a:lnTo>
                    <a:pt x="533" y="379"/>
                  </a:lnTo>
                  <a:lnTo>
                    <a:pt x="533" y="390"/>
                  </a:lnTo>
                  <a:lnTo>
                    <a:pt x="531" y="400"/>
                  </a:lnTo>
                  <a:lnTo>
                    <a:pt x="528" y="411"/>
                  </a:lnTo>
                  <a:lnTo>
                    <a:pt x="524" y="421"/>
                  </a:lnTo>
                  <a:lnTo>
                    <a:pt x="518" y="432"/>
                  </a:lnTo>
                  <a:lnTo>
                    <a:pt x="511" y="443"/>
                  </a:lnTo>
                  <a:lnTo>
                    <a:pt x="502" y="455"/>
                  </a:lnTo>
                  <a:lnTo>
                    <a:pt x="492" y="467"/>
                  </a:lnTo>
                  <a:lnTo>
                    <a:pt x="474" y="457"/>
                  </a:lnTo>
                  <a:lnTo>
                    <a:pt x="458" y="450"/>
                  </a:lnTo>
                  <a:lnTo>
                    <a:pt x="440" y="443"/>
                  </a:lnTo>
                  <a:lnTo>
                    <a:pt x="423" y="437"/>
                  </a:lnTo>
                  <a:lnTo>
                    <a:pt x="405" y="433"/>
                  </a:lnTo>
                  <a:lnTo>
                    <a:pt x="388" y="429"/>
                  </a:lnTo>
                  <a:lnTo>
                    <a:pt x="370" y="426"/>
                  </a:lnTo>
                  <a:lnTo>
                    <a:pt x="351" y="425"/>
                  </a:lnTo>
                  <a:lnTo>
                    <a:pt x="334" y="423"/>
                  </a:lnTo>
                  <a:lnTo>
                    <a:pt x="316" y="423"/>
                  </a:lnTo>
                  <a:lnTo>
                    <a:pt x="297" y="425"/>
                  </a:lnTo>
                  <a:lnTo>
                    <a:pt x="279" y="426"/>
                  </a:lnTo>
                  <a:lnTo>
                    <a:pt x="260" y="428"/>
                  </a:lnTo>
                  <a:lnTo>
                    <a:pt x="243" y="432"/>
                  </a:lnTo>
                  <a:lnTo>
                    <a:pt x="224" y="436"/>
                  </a:lnTo>
                  <a:lnTo>
                    <a:pt x="205" y="442"/>
                  </a:lnTo>
                  <a:lnTo>
                    <a:pt x="169" y="463"/>
                  </a:lnTo>
                  <a:lnTo>
                    <a:pt x="134" y="485"/>
                  </a:lnTo>
                  <a:lnTo>
                    <a:pt x="115" y="495"/>
                  </a:lnTo>
                  <a:lnTo>
                    <a:pt x="95" y="502"/>
                  </a:lnTo>
                  <a:lnTo>
                    <a:pt x="86" y="505"/>
                  </a:lnTo>
                  <a:lnTo>
                    <a:pt x="75" y="507"/>
                  </a:lnTo>
                  <a:lnTo>
                    <a:pt x="64" y="508"/>
                  </a:lnTo>
                  <a:lnTo>
                    <a:pt x="53" y="508"/>
                  </a:lnTo>
                  <a:lnTo>
                    <a:pt x="38" y="463"/>
                  </a:lnTo>
                  <a:lnTo>
                    <a:pt x="23" y="418"/>
                  </a:lnTo>
                  <a:lnTo>
                    <a:pt x="16" y="394"/>
                  </a:lnTo>
                  <a:lnTo>
                    <a:pt x="10" y="370"/>
                  </a:lnTo>
                  <a:lnTo>
                    <a:pt x="5" y="346"/>
                  </a:lnTo>
                  <a:lnTo>
                    <a:pt x="2" y="323"/>
                  </a:lnTo>
                  <a:lnTo>
                    <a:pt x="0" y="298"/>
                  </a:lnTo>
                  <a:lnTo>
                    <a:pt x="0" y="275"/>
                  </a:lnTo>
                  <a:lnTo>
                    <a:pt x="0" y="263"/>
                  </a:lnTo>
                  <a:lnTo>
                    <a:pt x="2" y="252"/>
                  </a:lnTo>
                  <a:lnTo>
                    <a:pt x="4" y="241"/>
                  </a:lnTo>
                  <a:lnTo>
                    <a:pt x="6" y="229"/>
                  </a:lnTo>
                  <a:lnTo>
                    <a:pt x="10" y="218"/>
                  </a:lnTo>
                  <a:lnTo>
                    <a:pt x="13" y="207"/>
                  </a:lnTo>
                  <a:lnTo>
                    <a:pt x="18" y="197"/>
                  </a:lnTo>
                  <a:lnTo>
                    <a:pt x="23" y="186"/>
                  </a:lnTo>
                  <a:lnTo>
                    <a:pt x="30" y="175"/>
                  </a:lnTo>
                  <a:lnTo>
                    <a:pt x="37" y="165"/>
                  </a:lnTo>
                  <a:lnTo>
                    <a:pt x="44" y="154"/>
                  </a:lnTo>
                  <a:lnTo>
                    <a:pt x="53" y="145"/>
                  </a:lnTo>
                  <a:lnTo>
                    <a:pt x="88" y="117"/>
                  </a:lnTo>
                  <a:lnTo>
                    <a:pt x="123" y="88"/>
                  </a:lnTo>
                  <a:lnTo>
                    <a:pt x="130" y="80"/>
                  </a:lnTo>
                  <a:lnTo>
                    <a:pt x="137" y="70"/>
                  </a:lnTo>
                  <a:lnTo>
                    <a:pt x="143" y="61"/>
                  </a:lnTo>
                  <a:lnTo>
                    <a:pt x="148" y="50"/>
                  </a:lnTo>
                  <a:lnTo>
                    <a:pt x="151" y="40"/>
                  </a:lnTo>
                  <a:lnTo>
                    <a:pt x="154" y="27"/>
                  </a:lnTo>
                  <a:lnTo>
                    <a:pt x="154" y="14"/>
                  </a:lnTo>
                  <a:lnTo>
                    <a:pt x="152" y="0"/>
                  </a:lnTo>
                  <a:lnTo>
                    <a:pt x="161" y="4"/>
                  </a:lnTo>
                  <a:lnTo>
                    <a:pt x="165" y="8"/>
                  </a:lnTo>
                  <a:lnTo>
                    <a:pt x="169" y="14"/>
                  </a:lnTo>
                  <a:lnTo>
                    <a:pt x="171" y="21"/>
                  </a:lnTo>
                  <a:lnTo>
                    <a:pt x="172" y="28"/>
                  </a:lnTo>
                  <a:lnTo>
                    <a:pt x="172" y="36"/>
                  </a:lnTo>
                  <a:lnTo>
                    <a:pt x="171" y="45"/>
                  </a:lnTo>
                  <a:lnTo>
                    <a:pt x="170" y="54"/>
                  </a:lnTo>
                  <a:lnTo>
                    <a:pt x="164" y="73"/>
                  </a:lnTo>
                  <a:lnTo>
                    <a:pt x="159" y="91"/>
                  </a:lnTo>
                  <a:lnTo>
                    <a:pt x="156" y="101"/>
                  </a:lnTo>
                  <a:lnTo>
                    <a:pt x="155" y="110"/>
                  </a:lnTo>
                  <a:lnTo>
                    <a:pt x="154" y="119"/>
                  </a:lnTo>
                  <a:lnTo>
                    <a:pt x="152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74600" y="3569040"/>
              <a:ext cx="168120" cy="111240"/>
            </a:xfrm>
            <a:custGeom>
              <a:avLst/>
              <a:gdLst/>
              <a:ahLst/>
              <a:rect l="l" t="t" r="r" b="b"/>
              <a:pathLst>
                <a:path w="564" h="423">
                  <a:moveTo>
                    <a:pt x="471" y="75"/>
                  </a:moveTo>
                  <a:lnTo>
                    <a:pt x="490" y="112"/>
                  </a:lnTo>
                  <a:lnTo>
                    <a:pt x="512" y="150"/>
                  </a:lnTo>
                  <a:lnTo>
                    <a:pt x="522" y="170"/>
                  </a:lnTo>
                  <a:lnTo>
                    <a:pt x="533" y="191"/>
                  </a:lnTo>
                  <a:lnTo>
                    <a:pt x="542" y="212"/>
                  </a:lnTo>
                  <a:lnTo>
                    <a:pt x="550" y="233"/>
                  </a:lnTo>
                  <a:lnTo>
                    <a:pt x="556" y="254"/>
                  </a:lnTo>
                  <a:lnTo>
                    <a:pt x="562" y="275"/>
                  </a:lnTo>
                  <a:lnTo>
                    <a:pt x="563" y="286"/>
                  </a:lnTo>
                  <a:lnTo>
                    <a:pt x="564" y="296"/>
                  </a:lnTo>
                  <a:lnTo>
                    <a:pt x="564" y="307"/>
                  </a:lnTo>
                  <a:lnTo>
                    <a:pt x="564" y="316"/>
                  </a:lnTo>
                  <a:lnTo>
                    <a:pt x="564" y="327"/>
                  </a:lnTo>
                  <a:lnTo>
                    <a:pt x="562" y="337"/>
                  </a:lnTo>
                  <a:lnTo>
                    <a:pt x="559" y="348"/>
                  </a:lnTo>
                  <a:lnTo>
                    <a:pt x="557" y="357"/>
                  </a:lnTo>
                  <a:lnTo>
                    <a:pt x="552" y="368"/>
                  </a:lnTo>
                  <a:lnTo>
                    <a:pt x="548" y="377"/>
                  </a:lnTo>
                  <a:lnTo>
                    <a:pt x="543" y="386"/>
                  </a:lnTo>
                  <a:lnTo>
                    <a:pt x="536" y="396"/>
                  </a:lnTo>
                  <a:lnTo>
                    <a:pt x="506" y="383"/>
                  </a:lnTo>
                  <a:lnTo>
                    <a:pt x="476" y="370"/>
                  </a:lnTo>
                  <a:lnTo>
                    <a:pt x="447" y="359"/>
                  </a:lnTo>
                  <a:lnTo>
                    <a:pt x="418" y="350"/>
                  </a:lnTo>
                  <a:lnTo>
                    <a:pt x="390" y="343"/>
                  </a:lnTo>
                  <a:lnTo>
                    <a:pt x="362" y="337"/>
                  </a:lnTo>
                  <a:lnTo>
                    <a:pt x="334" y="334"/>
                  </a:lnTo>
                  <a:lnTo>
                    <a:pt x="306" y="333"/>
                  </a:lnTo>
                  <a:lnTo>
                    <a:pt x="292" y="333"/>
                  </a:lnTo>
                  <a:lnTo>
                    <a:pt x="278" y="334"/>
                  </a:lnTo>
                  <a:lnTo>
                    <a:pt x="265" y="335"/>
                  </a:lnTo>
                  <a:lnTo>
                    <a:pt x="251" y="337"/>
                  </a:lnTo>
                  <a:lnTo>
                    <a:pt x="237" y="340"/>
                  </a:lnTo>
                  <a:lnTo>
                    <a:pt x="223" y="343"/>
                  </a:lnTo>
                  <a:lnTo>
                    <a:pt x="209" y="347"/>
                  </a:lnTo>
                  <a:lnTo>
                    <a:pt x="196" y="351"/>
                  </a:lnTo>
                  <a:lnTo>
                    <a:pt x="182" y="357"/>
                  </a:lnTo>
                  <a:lnTo>
                    <a:pt x="168" y="363"/>
                  </a:lnTo>
                  <a:lnTo>
                    <a:pt x="154" y="370"/>
                  </a:lnTo>
                  <a:lnTo>
                    <a:pt x="140" y="378"/>
                  </a:lnTo>
                  <a:lnTo>
                    <a:pt x="126" y="386"/>
                  </a:lnTo>
                  <a:lnTo>
                    <a:pt x="112" y="396"/>
                  </a:lnTo>
                  <a:lnTo>
                    <a:pt x="98" y="406"/>
                  </a:lnTo>
                  <a:lnTo>
                    <a:pt x="84" y="417"/>
                  </a:lnTo>
                  <a:lnTo>
                    <a:pt x="76" y="419"/>
                  </a:lnTo>
                  <a:lnTo>
                    <a:pt x="71" y="421"/>
                  </a:lnTo>
                  <a:lnTo>
                    <a:pt x="64" y="423"/>
                  </a:lnTo>
                  <a:lnTo>
                    <a:pt x="58" y="423"/>
                  </a:lnTo>
                  <a:lnTo>
                    <a:pt x="52" y="421"/>
                  </a:lnTo>
                  <a:lnTo>
                    <a:pt x="46" y="420"/>
                  </a:lnTo>
                  <a:lnTo>
                    <a:pt x="40" y="418"/>
                  </a:lnTo>
                  <a:lnTo>
                    <a:pt x="34" y="416"/>
                  </a:lnTo>
                  <a:lnTo>
                    <a:pt x="29" y="412"/>
                  </a:lnTo>
                  <a:lnTo>
                    <a:pt x="24" y="409"/>
                  </a:lnTo>
                  <a:lnTo>
                    <a:pt x="19" y="404"/>
                  </a:lnTo>
                  <a:lnTo>
                    <a:pt x="15" y="399"/>
                  </a:lnTo>
                  <a:lnTo>
                    <a:pt x="6" y="388"/>
                  </a:lnTo>
                  <a:lnTo>
                    <a:pt x="0" y="376"/>
                  </a:lnTo>
                  <a:lnTo>
                    <a:pt x="4" y="322"/>
                  </a:lnTo>
                  <a:lnTo>
                    <a:pt x="7" y="269"/>
                  </a:lnTo>
                  <a:lnTo>
                    <a:pt x="10" y="243"/>
                  </a:lnTo>
                  <a:lnTo>
                    <a:pt x="13" y="217"/>
                  </a:lnTo>
                  <a:lnTo>
                    <a:pt x="18" y="191"/>
                  </a:lnTo>
                  <a:lnTo>
                    <a:pt x="24" y="165"/>
                  </a:lnTo>
                  <a:lnTo>
                    <a:pt x="32" y="142"/>
                  </a:lnTo>
                  <a:lnTo>
                    <a:pt x="41" y="119"/>
                  </a:lnTo>
                  <a:lnTo>
                    <a:pt x="46" y="108"/>
                  </a:lnTo>
                  <a:lnTo>
                    <a:pt x="52" y="97"/>
                  </a:lnTo>
                  <a:lnTo>
                    <a:pt x="59" y="87"/>
                  </a:lnTo>
                  <a:lnTo>
                    <a:pt x="66" y="78"/>
                  </a:lnTo>
                  <a:lnTo>
                    <a:pt x="74" y="68"/>
                  </a:lnTo>
                  <a:lnTo>
                    <a:pt x="82" y="59"/>
                  </a:lnTo>
                  <a:lnTo>
                    <a:pt x="92" y="51"/>
                  </a:lnTo>
                  <a:lnTo>
                    <a:pt x="101" y="43"/>
                  </a:lnTo>
                  <a:lnTo>
                    <a:pt x="112" y="36"/>
                  </a:lnTo>
                  <a:lnTo>
                    <a:pt x="123" y="28"/>
                  </a:lnTo>
                  <a:lnTo>
                    <a:pt x="136" y="21"/>
                  </a:lnTo>
                  <a:lnTo>
                    <a:pt x="149" y="16"/>
                  </a:lnTo>
                  <a:lnTo>
                    <a:pt x="191" y="11"/>
                  </a:lnTo>
                  <a:lnTo>
                    <a:pt x="234" y="6"/>
                  </a:lnTo>
                  <a:lnTo>
                    <a:pt x="255" y="4"/>
                  </a:lnTo>
                  <a:lnTo>
                    <a:pt x="278" y="2"/>
                  </a:lnTo>
                  <a:lnTo>
                    <a:pt x="299" y="0"/>
                  </a:lnTo>
                  <a:lnTo>
                    <a:pt x="320" y="2"/>
                  </a:lnTo>
                  <a:lnTo>
                    <a:pt x="341" y="3"/>
                  </a:lnTo>
                  <a:lnTo>
                    <a:pt x="362" y="6"/>
                  </a:lnTo>
                  <a:lnTo>
                    <a:pt x="382" y="12"/>
                  </a:lnTo>
                  <a:lnTo>
                    <a:pt x="400" y="19"/>
                  </a:lnTo>
                  <a:lnTo>
                    <a:pt x="410" y="24"/>
                  </a:lnTo>
                  <a:lnTo>
                    <a:pt x="419" y="28"/>
                  </a:lnTo>
                  <a:lnTo>
                    <a:pt x="428" y="34"/>
                  </a:lnTo>
                  <a:lnTo>
                    <a:pt x="437" y="41"/>
                  </a:lnTo>
                  <a:lnTo>
                    <a:pt x="446" y="48"/>
                  </a:lnTo>
                  <a:lnTo>
                    <a:pt x="454" y="57"/>
                  </a:lnTo>
                  <a:lnTo>
                    <a:pt x="462" y="65"/>
                  </a:lnTo>
                  <a:lnTo>
                    <a:pt x="471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74600" y="3672360"/>
              <a:ext cx="166320" cy="103320"/>
            </a:xfrm>
            <a:custGeom>
              <a:avLst/>
              <a:gdLst/>
              <a:ahLst/>
              <a:rect l="l" t="t" r="r" b="b"/>
              <a:pathLst>
                <a:path w="561" h="390">
                  <a:moveTo>
                    <a:pt x="552" y="207"/>
                  </a:moveTo>
                  <a:lnTo>
                    <a:pt x="556" y="221"/>
                  </a:lnTo>
                  <a:lnTo>
                    <a:pt x="560" y="236"/>
                  </a:lnTo>
                  <a:lnTo>
                    <a:pt x="561" y="247"/>
                  </a:lnTo>
                  <a:lnTo>
                    <a:pt x="561" y="260"/>
                  </a:lnTo>
                  <a:lnTo>
                    <a:pt x="559" y="272"/>
                  </a:lnTo>
                  <a:lnTo>
                    <a:pt x="555" y="282"/>
                  </a:lnTo>
                  <a:lnTo>
                    <a:pt x="550" y="295"/>
                  </a:lnTo>
                  <a:lnTo>
                    <a:pt x="545" y="307"/>
                  </a:lnTo>
                  <a:lnTo>
                    <a:pt x="513" y="310"/>
                  </a:lnTo>
                  <a:lnTo>
                    <a:pt x="483" y="312"/>
                  </a:lnTo>
                  <a:lnTo>
                    <a:pt x="452" y="313"/>
                  </a:lnTo>
                  <a:lnTo>
                    <a:pt x="422" y="313"/>
                  </a:lnTo>
                  <a:lnTo>
                    <a:pt x="365" y="314"/>
                  </a:lnTo>
                  <a:lnTo>
                    <a:pt x="307" y="315"/>
                  </a:lnTo>
                  <a:lnTo>
                    <a:pt x="278" y="317"/>
                  </a:lnTo>
                  <a:lnTo>
                    <a:pt x="250" y="321"/>
                  </a:lnTo>
                  <a:lnTo>
                    <a:pt x="221" y="326"/>
                  </a:lnTo>
                  <a:lnTo>
                    <a:pt x="193" y="334"/>
                  </a:lnTo>
                  <a:lnTo>
                    <a:pt x="179" y="338"/>
                  </a:lnTo>
                  <a:lnTo>
                    <a:pt x="163" y="343"/>
                  </a:lnTo>
                  <a:lnTo>
                    <a:pt x="149" y="349"/>
                  </a:lnTo>
                  <a:lnTo>
                    <a:pt x="134" y="356"/>
                  </a:lnTo>
                  <a:lnTo>
                    <a:pt x="119" y="363"/>
                  </a:lnTo>
                  <a:lnTo>
                    <a:pt x="105" y="371"/>
                  </a:lnTo>
                  <a:lnTo>
                    <a:pt x="90" y="381"/>
                  </a:lnTo>
                  <a:lnTo>
                    <a:pt x="74" y="390"/>
                  </a:lnTo>
                  <a:lnTo>
                    <a:pt x="9" y="383"/>
                  </a:lnTo>
                  <a:lnTo>
                    <a:pt x="5" y="369"/>
                  </a:lnTo>
                  <a:lnTo>
                    <a:pt x="3" y="356"/>
                  </a:lnTo>
                  <a:lnTo>
                    <a:pt x="1" y="342"/>
                  </a:lnTo>
                  <a:lnTo>
                    <a:pt x="1" y="329"/>
                  </a:lnTo>
                  <a:lnTo>
                    <a:pt x="0" y="316"/>
                  </a:lnTo>
                  <a:lnTo>
                    <a:pt x="0" y="302"/>
                  </a:lnTo>
                  <a:lnTo>
                    <a:pt x="1" y="290"/>
                  </a:lnTo>
                  <a:lnTo>
                    <a:pt x="2" y="278"/>
                  </a:lnTo>
                  <a:lnTo>
                    <a:pt x="7" y="252"/>
                  </a:lnTo>
                  <a:lnTo>
                    <a:pt x="13" y="228"/>
                  </a:lnTo>
                  <a:lnTo>
                    <a:pt x="22" y="204"/>
                  </a:lnTo>
                  <a:lnTo>
                    <a:pt x="31" y="181"/>
                  </a:lnTo>
                  <a:lnTo>
                    <a:pt x="43" y="158"/>
                  </a:lnTo>
                  <a:lnTo>
                    <a:pt x="56" y="136"/>
                  </a:lnTo>
                  <a:lnTo>
                    <a:pt x="69" y="114"/>
                  </a:lnTo>
                  <a:lnTo>
                    <a:pt x="84" y="93"/>
                  </a:lnTo>
                  <a:lnTo>
                    <a:pt x="114" y="51"/>
                  </a:lnTo>
                  <a:lnTo>
                    <a:pt x="147" y="10"/>
                  </a:lnTo>
                  <a:lnTo>
                    <a:pt x="162" y="6"/>
                  </a:lnTo>
                  <a:lnTo>
                    <a:pt x="177" y="4"/>
                  </a:lnTo>
                  <a:lnTo>
                    <a:pt x="194" y="2"/>
                  </a:lnTo>
                  <a:lnTo>
                    <a:pt x="209" y="0"/>
                  </a:lnTo>
                  <a:lnTo>
                    <a:pt x="224" y="0"/>
                  </a:lnTo>
                  <a:lnTo>
                    <a:pt x="239" y="0"/>
                  </a:lnTo>
                  <a:lnTo>
                    <a:pt x="255" y="2"/>
                  </a:lnTo>
                  <a:lnTo>
                    <a:pt x="269" y="4"/>
                  </a:lnTo>
                  <a:lnTo>
                    <a:pt x="284" y="6"/>
                  </a:lnTo>
                  <a:lnTo>
                    <a:pt x="298" y="10"/>
                  </a:lnTo>
                  <a:lnTo>
                    <a:pt x="313" y="13"/>
                  </a:lnTo>
                  <a:lnTo>
                    <a:pt x="327" y="18"/>
                  </a:lnTo>
                  <a:lnTo>
                    <a:pt x="341" y="23"/>
                  </a:lnTo>
                  <a:lnTo>
                    <a:pt x="355" y="28"/>
                  </a:lnTo>
                  <a:lnTo>
                    <a:pt x="368" y="34"/>
                  </a:lnTo>
                  <a:lnTo>
                    <a:pt x="382" y="41"/>
                  </a:lnTo>
                  <a:lnTo>
                    <a:pt x="408" y="57"/>
                  </a:lnTo>
                  <a:lnTo>
                    <a:pt x="432" y="73"/>
                  </a:lnTo>
                  <a:lnTo>
                    <a:pt x="456" y="92"/>
                  </a:lnTo>
                  <a:lnTo>
                    <a:pt x="478" y="112"/>
                  </a:lnTo>
                  <a:lnTo>
                    <a:pt x="499" y="134"/>
                  </a:lnTo>
                  <a:lnTo>
                    <a:pt x="518" y="157"/>
                  </a:lnTo>
                  <a:lnTo>
                    <a:pt x="535" y="182"/>
                  </a:lnTo>
                  <a:lnTo>
                    <a:pt x="552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88640" y="3765960"/>
              <a:ext cx="160920" cy="84240"/>
            </a:xfrm>
            <a:custGeom>
              <a:avLst/>
              <a:gdLst/>
              <a:ahLst/>
              <a:rect l="l" t="t" r="r" b="b"/>
              <a:pathLst>
                <a:path w="542" h="317">
                  <a:moveTo>
                    <a:pt x="460" y="101"/>
                  </a:moveTo>
                  <a:lnTo>
                    <a:pt x="475" y="117"/>
                  </a:lnTo>
                  <a:lnTo>
                    <a:pt x="493" y="133"/>
                  </a:lnTo>
                  <a:lnTo>
                    <a:pt x="509" y="152"/>
                  </a:lnTo>
                  <a:lnTo>
                    <a:pt x="524" y="170"/>
                  </a:lnTo>
                  <a:lnTo>
                    <a:pt x="530" y="181"/>
                  </a:lnTo>
                  <a:lnTo>
                    <a:pt x="535" y="191"/>
                  </a:lnTo>
                  <a:lnTo>
                    <a:pt x="538" y="202"/>
                  </a:lnTo>
                  <a:lnTo>
                    <a:pt x="542" y="214"/>
                  </a:lnTo>
                  <a:lnTo>
                    <a:pt x="542" y="225"/>
                  </a:lnTo>
                  <a:lnTo>
                    <a:pt x="541" y="237"/>
                  </a:lnTo>
                  <a:lnTo>
                    <a:pt x="538" y="249"/>
                  </a:lnTo>
                  <a:lnTo>
                    <a:pt x="533" y="260"/>
                  </a:lnTo>
                  <a:lnTo>
                    <a:pt x="524" y="269"/>
                  </a:lnTo>
                  <a:lnTo>
                    <a:pt x="516" y="276"/>
                  </a:lnTo>
                  <a:lnTo>
                    <a:pt x="507" y="282"/>
                  </a:lnTo>
                  <a:lnTo>
                    <a:pt x="499" y="286"/>
                  </a:lnTo>
                  <a:lnTo>
                    <a:pt x="490" y="290"/>
                  </a:lnTo>
                  <a:lnTo>
                    <a:pt x="481" y="293"/>
                  </a:lnTo>
                  <a:lnTo>
                    <a:pt x="473" y="294"/>
                  </a:lnTo>
                  <a:lnTo>
                    <a:pt x="464" y="297"/>
                  </a:lnTo>
                  <a:lnTo>
                    <a:pt x="455" y="297"/>
                  </a:lnTo>
                  <a:lnTo>
                    <a:pt x="446" y="297"/>
                  </a:lnTo>
                  <a:lnTo>
                    <a:pt x="437" y="297"/>
                  </a:lnTo>
                  <a:lnTo>
                    <a:pt x="428" y="296"/>
                  </a:lnTo>
                  <a:lnTo>
                    <a:pt x="411" y="292"/>
                  </a:lnTo>
                  <a:lnTo>
                    <a:pt x="392" y="286"/>
                  </a:lnTo>
                  <a:lnTo>
                    <a:pt x="356" y="273"/>
                  </a:lnTo>
                  <a:lnTo>
                    <a:pt x="321" y="259"/>
                  </a:lnTo>
                  <a:lnTo>
                    <a:pt x="302" y="252"/>
                  </a:lnTo>
                  <a:lnTo>
                    <a:pt x="285" y="246"/>
                  </a:lnTo>
                  <a:lnTo>
                    <a:pt x="267" y="242"/>
                  </a:lnTo>
                  <a:lnTo>
                    <a:pt x="250" y="239"/>
                  </a:lnTo>
                  <a:lnTo>
                    <a:pt x="240" y="239"/>
                  </a:lnTo>
                  <a:lnTo>
                    <a:pt x="232" y="239"/>
                  </a:lnTo>
                  <a:lnTo>
                    <a:pt x="223" y="241"/>
                  </a:lnTo>
                  <a:lnTo>
                    <a:pt x="214" y="243"/>
                  </a:lnTo>
                  <a:lnTo>
                    <a:pt x="197" y="249"/>
                  </a:lnTo>
                  <a:lnTo>
                    <a:pt x="181" y="256"/>
                  </a:lnTo>
                  <a:lnTo>
                    <a:pt x="148" y="276"/>
                  </a:lnTo>
                  <a:lnTo>
                    <a:pt x="117" y="294"/>
                  </a:lnTo>
                  <a:lnTo>
                    <a:pt x="102" y="304"/>
                  </a:lnTo>
                  <a:lnTo>
                    <a:pt x="87" y="311"/>
                  </a:lnTo>
                  <a:lnTo>
                    <a:pt x="80" y="313"/>
                  </a:lnTo>
                  <a:lnTo>
                    <a:pt x="73" y="315"/>
                  </a:lnTo>
                  <a:lnTo>
                    <a:pt x="66" y="317"/>
                  </a:lnTo>
                  <a:lnTo>
                    <a:pt x="58" y="317"/>
                  </a:lnTo>
                  <a:lnTo>
                    <a:pt x="51" y="317"/>
                  </a:lnTo>
                  <a:lnTo>
                    <a:pt x="44" y="315"/>
                  </a:lnTo>
                  <a:lnTo>
                    <a:pt x="37" y="313"/>
                  </a:lnTo>
                  <a:lnTo>
                    <a:pt x="30" y="311"/>
                  </a:lnTo>
                  <a:lnTo>
                    <a:pt x="23" y="306"/>
                  </a:lnTo>
                  <a:lnTo>
                    <a:pt x="16" y="300"/>
                  </a:lnTo>
                  <a:lnTo>
                    <a:pt x="7" y="293"/>
                  </a:lnTo>
                  <a:lnTo>
                    <a:pt x="0" y="285"/>
                  </a:lnTo>
                  <a:lnTo>
                    <a:pt x="5" y="258"/>
                  </a:lnTo>
                  <a:lnTo>
                    <a:pt x="7" y="231"/>
                  </a:lnTo>
                  <a:lnTo>
                    <a:pt x="10" y="203"/>
                  </a:lnTo>
                  <a:lnTo>
                    <a:pt x="12" y="175"/>
                  </a:lnTo>
                  <a:lnTo>
                    <a:pt x="13" y="162"/>
                  </a:lnTo>
                  <a:lnTo>
                    <a:pt x="17" y="148"/>
                  </a:lnTo>
                  <a:lnTo>
                    <a:pt x="19" y="135"/>
                  </a:lnTo>
                  <a:lnTo>
                    <a:pt x="23" y="122"/>
                  </a:lnTo>
                  <a:lnTo>
                    <a:pt x="27" y="110"/>
                  </a:lnTo>
                  <a:lnTo>
                    <a:pt x="34" y="97"/>
                  </a:lnTo>
                  <a:lnTo>
                    <a:pt x="41" y="85"/>
                  </a:lnTo>
                  <a:lnTo>
                    <a:pt x="50" y="74"/>
                  </a:lnTo>
                  <a:lnTo>
                    <a:pt x="65" y="60"/>
                  </a:lnTo>
                  <a:lnTo>
                    <a:pt x="81" y="48"/>
                  </a:lnTo>
                  <a:lnTo>
                    <a:pt x="97" y="37"/>
                  </a:lnTo>
                  <a:lnTo>
                    <a:pt x="115" y="27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2" y="5"/>
                  </a:lnTo>
                  <a:lnTo>
                    <a:pt x="192" y="2"/>
                  </a:lnTo>
                  <a:lnTo>
                    <a:pt x="212" y="0"/>
                  </a:lnTo>
                  <a:lnTo>
                    <a:pt x="232" y="0"/>
                  </a:lnTo>
                  <a:lnTo>
                    <a:pt x="252" y="1"/>
                  </a:lnTo>
                  <a:lnTo>
                    <a:pt x="272" y="3"/>
                  </a:lnTo>
                  <a:lnTo>
                    <a:pt x="292" y="9"/>
                  </a:lnTo>
                  <a:lnTo>
                    <a:pt x="311" y="16"/>
                  </a:lnTo>
                  <a:lnTo>
                    <a:pt x="330" y="25"/>
                  </a:lnTo>
                  <a:lnTo>
                    <a:pt x="350" y="36"/>
                  </a:lnTo>
                  <a:lnTo>
                    <a:pt x="354" y="44"/>
                  </a:lnTo>
                  <a:lnTo>
                    <a:pt x="358" y="51"/>
                  </a:lnTo>
                  <a:lnTo>
                    <a:pt x="363" y="58"/>
                  </a:lnTo>
                  <a:lnTo>
                    <a:pt x="369" y="65"/>
                  </a:lnTo>
                  <a:lnTo>
                    <a:pt x="376" y="71"/>
                  </a:lnTo>
                  <a:lnTo>
                    <a:pt x="383" y="77"/>
                  </a:lnTo>
                  <a:lnTo>
                    <a:pt x="390" y="83"/>
                  </a:lnTo>
                  <a:lnTo>
                    <a:pt x="397" y="87"/>
                  </a:lnTo>
                  <a:lnTo>
                    <a:pt x="405" y="91"/>
                  </a:lnTo>
                  <a:lnTo>
                    <a:pt x="413" y="94"/>
                  </a:lnTo>
                  <a:lnTo>
                    <a:pt x="421" y="98"/>
                  </a:lnTo>
                  <a:lnTo>
                    <a:pt x="430" y="100"/>
                  </a:lnTo>
                  <a:lnTo>
                    <a:pt x="438" y="101"/>
                  </a:lnTo>
                  <a:lnTo>
                    <a:pt x="445" y="103"/>
                  </a:lnTo>
                  <a:lnTo>
                    <a:pt x="453" y="103"/>
                  </a:lnTo>
                  <a:lnTo>
                    <a:pt x="46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600200" y="3815280"/>
              <a:ext cx="134280" cy="669960"/>
            </a:xfrm>
            <a:custGeom>
              <a:avLst/>
              <a:gdLst/>
              <a:ahLst/>
              <a:rect l="l" t="t" r="r" b="b"/>
              <a:pathLst>
                <a:path w="450" h="2528">
                  <a:moveTo>
                    <a:pt x="446" y="359"/>
                  </a:moveTo>
                  <a:lnTo>
                    <a:pt x="437" y="392"/>
                  </a:lnTo>
                  <a:lnTo>
                    <a:pt x="429" y="425"/>
                  </a:lnTo>
                  <a:lnTo>
                    <a:pt x="423" y="457"/>
                  </a:lnTo>
                  <a:lnTo>
                    <a:pt x="418" y="490"/>
                  </a:lnTo>
                  <a:lnTo>
                    <a:pt x="415" y="524"/>
                  </a:lnTo>
                  <a:lnTo>
                    <a:pt x="412" y="557"/>
                  </a:lnTo>
                  <a:lnTo>
                    <a:pt x="411" y="591"/>
                  </a:lnTo>
                  <a:lnTo>
                    <a:pt x="411" y="625"/>
                  </a:lnTo>
                  <a:lnTo>
                    <a:pt x="414" y="692"/>
                  </a:lnTo>
                  <a:lnTo>
                    <a:pt x="417" y="761"/>
                  </a:lnTo>
                  <a:lnTo>
                    <a:pt x="421" y="830"/>
                  </a:lnTo>
                  <a:lnTo>
                    <a:pt x="425" y="899"/>
                  </a:lnTo>
                  <a:lnTo>
                    <a:pt x="429" y="968"/>
                  </a:lnTo>
                  <a:lnTo>
                    <a:pt x="430" y="1037"/>
                  </a:lnTo>
                  <a:lnTo>
                    <a:pt x="430" y="1072"/>
                  </a:lnTo>
                  <a:lnTo>
                    <a:pt x="428" y="1106"/>
                  </a:lnTo>
                  <a:lnTo>
                    <a:pt x="425" y="1140"/>
                  </a:lnTo>
                  <a:lnTo>
                    <a:pt x="422" y="1174"/>
                  </a:lnTo>
                  <a:lnTo>
                    <a:pt x="417" y="1208"/>
                  </a:lnTo>
                  <a:lnTo>
                    <a:pt x="411" y="1242"/>
                  </a:lnTo>
                  <a:lnTo>
                    <a:pt x="403" y="1275"/>
                  </a:lnTo>
                  <a:lnTo>
                    <a:pt x="394" y="1308"/>
                  </a:lnTo>
                  <a:lnTo>
                    <a:pt x="382" y="1340"/>
                  </a:lnTo>
                  <a:lnTo>
                    <a:pt x="368" y="1373"/>
                  </a:lnTo>
                  <a:lnTo>
                    <a:pt x="353" y="1406"/>
                  </a:lnTo>
                  <a:lnTo>
                    <a:pt x="335" y="1437"/>
                  </a:lnTo>
                  <a:lnTo>
                    <a:pt x="317" y="1506"/>
                  </a:lnTo>
                  <a:lnTo>
                    <a:pt x="300" y="1575"/>
                  </a:lnTo>
                  <a:lnTo>
                    <a:pt x="287" y="1642"/>
                  </a:lnTo>
                  <a:lnTo>
                    <a:pt x="276" y="1709"/>
                  </a:lnTo>
                  <a:lnTo>
                    <a:pt x="265" y="1775"/>
                  </a:lnTo>
                  <a:lnTo>
                    <a:pt x="257" y="1840"/>
                  </a:lnTo>
                  <a:lnTo>
                    <a:pt x="249" y="1905"/>
                  </a:lnTo>
                  <a:lnTo>
                    <a:pt x="243" y="1970"/>
                  </a:lnTo>
                  <a:lnTo>
                    <a:pt x="236" y="2034"/>
                  </a:lnTo>
                  <a:lnTo>
                    <a:pt x="230" y="2098"/>
                  </a:lnTo>
                  <a:lnTo>
                    <a:pt x="224" y="2163"/>
                  </a:lnTo>
                  <a:lnTo>
                    <a:pt x="218" y="2228"/>
                  </a:lnTo>
                  <a:lnTo>
                    <a:pt x="211" y="2292"/>
                  </a:lnTo>
                  <a:lnTo>
                    <a:pt x="203" y="2358"/>
                  </a:lnTo>
                  <a:lnTo>
                    <a:pt x="194" y="2425"/>
                  </a:lnTo>
                  <a:lnTo>
                    <a:pt x="183" y="2491"/>
                  </a:lnTo>
                  <a:lnTo>
                    <a:pt x="179" y="2497"/>
                  </a:lnTo>
                  <a:lnTo>
                    <a:pt x="173" y="2503"/>
                  </a:lnTo>
                  <a:lnTo>
                    <a:pt x="167" y="2509"/>
                  </a:lnTo>
                  <a:lnTo>
                    <a:pt x="160" y="2513"/>
                  </a:lnTo>
                  <a:lnTo>
                    <a:pt x="153" y="2518"/>
                  </a:lnTo>
                  <a:lnTo>
                    <a:pt x="146" y="2522"/>
                  </a:lnTo>
                  <a:lnTo>
                    <a:pt x="139" y="2524"/>
                  </a:lnTo>
                  <a:lnTo>
                    <a:pt x="132" y="2526"/>
                  </a:lnTo>
                  <a:lnTo>
                    <a:pt x="124" y="2528"/>
                  </a:lnTo>
                  <a:lnTo>
                    <a:pt x="117" y="2528"/>
                  </a:lnTo>
                  <a:lnTo>
                    <a:pt x="110" y="2528"/>
                  </a:lnTo>
                  <a:lnTo>
                    <a:pt x="103" y="2525"/>
                  </a:lnTo>
                  <a:lnTo>
                    <a:pt x="96" y="2523"/>
                  </a:lnTo>
                  <a:lnTo>
                    <a:pt x="90" y="2519"/>
                  </a:lnTo>
                  <a:lnTo>
                    <a:pt x="85" y="2515"/>
                  </a:lnTo>
                  <a:lnTo>
                    <a:pt x="79" y="2509"/>
                  </a:lnTo>
                  <a:lnTo>
                    <a:pt x="59" y="2480"/>
                  </a:lnTo>
                  <a:lnTo>
                    <a:pt x="43" y="2450"/>
                  </a:lnTo>
                  <a:lnTo>
                    <a:pt x="29" y="2422"/>
                  </a:lnTo>
                  <a:lnTo>
                    <a:pt x="18" y="2393"/>
                  </a:lnTo>
                  <a:lnTo>
                    <a:pt x="10" y="2364"/>
                  </a:lnTo>
                  <a:lnTo>
                    <a:pt x="4" y="2335"/>
                  </a:lnTo>
                  <a:lnTo>
                    <a:pt x="1" y="2305"/>
                  </a:lnTo>
                  <a:lnTo>
                    <a:pt x="0" y="2276"/>
                  </a:lnTo>
                  <a:lnTo>
                    <a:pt x="0" y="2247"/>
                  </a:lnTo>
                  <a:lnTo>
                    <a:pt x="2" y="2216"/>
                  </a:lnTo>
                  <a:lnTo>
                    <a:pt x="6" y="2187"/>
                  </a:lnTo>
                  <a:lnTo>
                    <a:pt x="10" y="2158"/>
                  </a:lnTo>
                  <a:lnTo>
                    <a:pt x="17" y="2127"/>
                  </a:lnTo>
                  <a:lnTo>
                    <a:pt x="24" y="2098"/>
                  </a:lnTo>
                  <a:lnTo>
                    <a:pt x="32" y="2068"/>
                  </a:lnTo>
                  <a:lnTo>
                    <a:pt x="41" y="2037"/>
                  </a:lnTo>
                  <a:lnTo>
                    <a:pt x="58" y="1978"/>
                  </a:lnTo>
                  <a:lnTo>
                    <a:pt x="76" y="1917"/>
                  </a:lnTo>
                  <a:lnTo>
                    <a:pt x="84" y="1885"/>
                  </a:lnTo>
                  <a:lnTo>
                    <a:pt x="92" y="1855"/>
                  </a:lnTo>
                  <a:lnTo>
                    <a:pt x="99" y="1825"/>
                  </a:lnTo>
                  <a:lnTo>
                    <a:pt x="105" y="1793"/>
                  </a:lnTo>
                  <a:lnTo>
                    <a:pt x="111" y="1763"/>
                  </a:lnTo>
                  <a:lnTo>
                    <a:pt x="114" y="1731"/>
                  </a:lnTo>
                  <a:lnTo>
                    <a:pt x="117" y="1699"/>
                  </a:lnTo>
                  <a:lnTo>
                    <a:pt x="117" y="1668"/>
                  </a:lnTo>
                  <a:lnTo>
                    <a:pt x="115" y="1636"/>
                  </a:lnTo>
                  <a:lnTo>
                    <a:pt x="111" y="1605"/>
                  </a:lnTo>
                  <a:lnTo>
                    <a:pt x="105" y="1573"/>
                  </a:lnTo>
                  <a:lnTo>
                    <a:pt x="97" y="1542"/>
                  </a:lnTo>
                  <a:lnTo>
                    <a:pt x="91" y="1503"/>
                  </a:lnTo>
                  <a:lnTo>
                    <a:pt x="87" y="1465"/>
                  </a:lnTo>
                  <a:lnTo>
                    <a:pt x="84" y="1427"/>
                  </a:lnTo>
                  <a:lnTo>
                    <a:pt x="82" y="1389"/>
                  </a:lnTo>
                  <a:lnTo>
                    <a:pt x="82" y="1352"/>
                  </a:lnTo>
                  <a:lnTo>
                    <a:pt x="82" y="1315"/>
                  </a:lnTo>
                  <a:lnTo>
                    <a:pt x="83" y="1277"/>
                  </a:lnTo>
                  <a:lnTo>
                    <a:pt x="85" y="1240"/>
                  </a:lnTo>
                  <a:lnTo>
                    <a:pt x="89" y="1202"/>
                  </a:lnTo>
                  <a:lnTo>
                    <a:pt x="93" y="1165"/>
                  </a:lnTo>
                  <a:lnTo>
                    <a:pt x="98" y="1127"/>
                  </a:lnTo>
                  <a:lnTo>
                    <a:pt x="103" y="1090"/>
                  </a:lnTo>
                  <a:lnTo>
                    <a:pt x="115" y="1015"/>
                  </a:lnTo>
                  <a:lnTo>
                    <a:pt x="129" y="940"/>
                  </a:lnTo>
                  <a:lnTo>
                    <a:pt x="145" y="865"/>
                  </a:lnTo>
                  <a:lnTo>
                    <a:pt x="161" y="789"/>
                  </a:lnTo>
                  <a:lnTo>
                    <a:pt x="177" y="713"/>
                  </a:lnTo>
                  <a:lnTo>
                    <a:pt x="193" y="637"/>
                  </a:lnTo>
                  <a:lnTo>
                    <a:pt x="207" y="559"/>
                  </a:lnTo>
                  <a:lnTo>
                    <a:pt x="218" y="481"/>
                  </a:lnTo>
                  <a:lnTo>
                    <a:pt x="224" y="442"/>
                  </a:lnTo>
                  <a:lnTo>
                    <a:pt x="228" y="402"/>
                  </a:lnTo>
                  <a:lnTo>
                    <a:pt x="232" y="361"/>
                  </a:lnTo>
                  <a:lnTo>
                    <a:pt x="235" y="322"/>
                  </a:lnTo>
                  <a:lnTo>
                    <a:pt x="208" y="25"/>
                  </a:lnTo>
                  <a:lnTo>
                    <a:pt x="235" y="0"/>
                  </a:lnTo>
                  <a:lnTo>
                    <a:pt x="239" y="13"/>
                  </a:lnTo>
                  <a:lnTo>
                    <a:pt x="244" y="26"/>
                  </a:lnTo>
                  <a:lnTo>
                    <a:pt x="250" y="37"/>
                  </a:lnTo>
                  <a:lnTo>
                    <a:pt x="257" y="49"/>
                  </a:lnTo>
                  <a:lnTo>
                    <a:pt x="264" y="60"/>
                  </a:lnTo>
                  <a:lnTo>
                    <a:pt x="272" y="70"/>
                  </a:lnTo>
                  <a:lnTo>
                    <a:pt x="280" y="81"/>
                  </a:lnTo>
                  <a:lnTo>
                    <a:pt x="290" y="91"/>
                  </a:lnTo>
                  <a:lnTo>
                    <a:pt x="328" y="129"/>
                  </a:lnTo>
                  <a:lnTo>
                    <a:pt x="369" y="166"/>
                  </a:lnTo>
                  <a:lnTo>
                    <a:pt x="388" y="185"/>
                  </a:lnTo>
                  <a:lnTo>
                    <a:pt x="405" y="205"/>
                  </a:lnTo>
                  <a:lnTo>
                    <a:pt x="414" y="214"/>
                  </a:lnTo>
                  <a:lnTo>
                    <a:pt x="422" y="225"/>
                  </a:lnTo>
                  <a:lnTo>
                    <a:pt x="428" y="236"/>
                  </a:lnTo>
                  <a:lnTo>
                    <a:pt x="435" y="248"/>
                  </a:lnTo>
                  <a:lnTo>
                    <a:pt x="439" y="260"/>
                  </a:lnTo>
                  <a:lnTo>
                    <a:pt x="444" y="271"/>
                  </a:lnTo>
                  <a:lnTo>
                    <a:pt x="448" y="284"/>
                  </a:lnTo>
                  <a:lnTo>
                    <a:pt x="449" y="298"/>
                  </a:lnTo>
                  <a:lnTo>
                    <a:pt x="450" y="312"/>
                  </a:lnTo>
                  <a:lnTo>
                    <a:pt x="450" y="327"/>
                  </a:lnTo>
                  <a:lnTo>
                    <a:pt x="449" y="343"/>
                  </a:lnTo>
                  <a:lnTo>
                    <a:pt x="446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83240" y="3861360"/>
              <a:ext cx="155520" cy="77760"/>
            </a:xfrm>
            <a:custGeom>
              <a:avLst/>
              <a:gdLst/>
              <a:ahLst/>
              <a:rect l="l" t="t" r="r" b="b"/>
              <a:pathLst>
                <a:path w="525" h="294">
                  <a:moveTo>
                    <a:pt x="406" y="90"/>
                  </a:moveTo>
                  <a:lnTo>
                    <a:pt x="445" y="105"/>
                  </a:lnTo>
                  <a:lnTo>
                    <a:pt x="487" y="124"/>
                  </a:lnTo>
                  <a:lnTo>
                    <a:pt x="497" y="130"/>
                  </a:lnTo>
                  <a:lnTo>
                    <a:pt x="505" y="136"/>
                  </a:lnTo>
                  <a:lnTo>
                    <a:pt x="513" y="142"/>
                  </a:lnTo>
                  <a:lnTo>
                    <a:pt x="519" y="150"/>
                  </a:lnTo>
                  <a:lnTo>
                    <a:pt x="522" y="158"/>
                  </a:lnTo>
                  <a:lnTo>
                    <a:pt x="525" y="166"/>
                  </a:lnTo>
                  <a:lnTo>
                    <a:pt x="525" y="175"/>
                  </a:lnTo>
                  <a:lnTo>
                    <a:pt x="524" y="186"/>
                  </a:lnTo>
                  <a:lnTo>
                    <a:pt x="494" y="200"/>
                  </a:lnTo>
                  <a:lnTo>
                    <a:pt x="464" y="212"/>
                  </a:lnTo>
                  <a:lnTo>
                    <a:pt x="435" y="221"/>
                  </a:lnTo>
                  <a:lnTo>
                    <a:pt x="404" y="230"/>
                  </a:lnTo>
                  <a:lnTo>
                    <a:pt x="374" y="237"/>
                  </a:lnTo>
                  <a:lnTo>
                    <a:pt x="342" y="245"/>
                  </a:lnTo>
                  <a:lnTo>
                    <a:pt x="312" y="250"/>
                  </a:lnTo>
                  <a:lnTo>
                    <a:pt x="280" y="255"/>
                  </a:lnTo>
                  <a:lnTo>
                    <a:pt x="216" y="264"/>
                  </a:lnTo>
                  <a:lnTo>
                    <a:pt x="152" y="273"/>
                  </a:lnTo>
                  <a:lnTo>
                    <a:pt x="86" y="282"/>
                  </a:lnTo>
                  <a:lnTo>
                    <a:pt x="18" y="294"/>
                  </a:lnTo>
                  <a:lnTo>
                    <a:pt x="11" y="284"/>
                  </a:lnTo>
                  <a:lnTo>
                    <a:pt x="6" y="276"/>
                  </a:lnTo>
                  <a:lnTo>
                    <a:pt x="2" y="266"/>
                  </a:lnTo>
                  <a:lnTo>
                    <a:pt x="0" y="255"/>
                  </a:lnTo>
                  <a:lnTo>
                    <a:pt x="0" y="245"/>
                  </a:lnTo>
                  <a:lnTo>
                    <a:pt x="1" y="234"/>
                  </a:lnTo>
                  <a:lnTo>
                    <a:pt x="3" y="222"/>
                  </a:lnTo>
                  <a:lnTo>
                    <a:pt x="7" y="211"/>
                  </a:lnTo>
                  <a:lnTo>
                    <a:pt x="27" y="165"/>
                  </a:lnTo>
                  <a:lnTo>
                    <a:pt x="46" y="121"/>
                  </a:lnTo>
                  <a:lnTo>
                    <a:pt x="73" y="85"/>
                  </a:lnTo>
                  <a:lnTo>
                    <a:pt x="100" y="47"/>
                  </a:lnTo>
                  <a:lnTo>
                    <a:pt x="108" y="39"/>
                  </a:lnTo>
                  <a:lnTo>
                    <a:pt x="115" y="30"/>
                  </a:lnTo>
                  <a:lnTo>
                    <a:pt x="124" y="22"/>
                  </a:lnTo>
                  <a:lnTo>
                    <a:pt x="132" y="16"/>
                  </a:lnTo>
                  <a:lnTo>
                    <a:pt x="141" y="11"/>
                  </a:lnTo>
                  <a:lnTo>
                    <a:pt x="151" y="6"/>
                  </a:lnTo>
                  <a:lnTo>
                    <a:pt x="160" y="2"/>
                  </a:lnTo>
                  <a:lnTo>
                    <a:pt x="170" y="0"/>
                  </a:lnTo>
                  <a:lnTo>
                    <a:pt x="190" y="5"/>
                  </a:lnTo>
                  <a:lnTo>
                    <a:pt x="209" y="8"/>
                  </a:lnTo>
                  <a:lnTo>
                    <a:pt x="227" y="11"/>
                  </a:lnTo>
                  <a:lnTo>
                    <a:pt x="244" y="11"/>
                  </a:lnTo>
                  <a:lnTo>
                    <a:pt x="278" y="11"/>
                  </a:lnTo>
                  <a:lnTo>
                    <a:pt x="308" y="11"/>
                  </a:lnTo>
                  <a:lnTo>
                    <a:pt x="324" y="13"/>
                  </a:lnTo>
                  <a:lnTo>
                    <a:pt x="338" y="15"/>
                  </a:lnTo>
                  <a:lnTo>
                    <a:pt x="345" y="18"/>
                  </a:lnTo>
                  <a:lnTo>
                    <a:pt x="351" y="21"/>
                  </a:lnTo>
                  <a:lnTo>
                    <a:pt x="358" y="25"/>
                  </a:lnTo>
                  <a:lnTo>
                    <a:pt x="363" y="28"/>
                  </a:lnTo>
                  <a:lnTo>
                    <a:pt x="369" y="33"/>
                  </a:lnTo>
                  <a:lnTo>
                    <a:pt x="375" y="39"/>
                  </a:lnTo>
                  <a:lnTo>
                    <a:pt x="381" y="44"/>
                  </a:lnTo>
                  <a:lnTo>
                    <a:pt x="386" y="52"/>
                  </a:lnTo>
                  <a:lnTo>
                    <a:pt x="391" y="60"/>
                  </a:lnTo>
                  <a:lnTo>
                    <a:pt x="396" y="69"/>
                  </a:lnTo>
                  <a:lnTo>
                    <a:pt x="401" y="78"/>
                  </a:lnTo>
                  <a:lnTo>
                    <a:pt x="406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03400" y="3953520"/>
              <a:ext cx="115920" cy="50760"/>
            </a:xfrm>
            <a:custGeom>
              <a:avLst/>
              <a:gdLst/>
              <a:ahLst/>
              <a:rect l="l" t="t" r="r" b="b"/>
              <a:pathLst>
                <a:path w="388" h="191">
                  <a:moveTo>
                    <a:pt x="388" y="72"/>
                  </a:moveTo>
                  <a:lnTo>
                    <a:pt x="385" y="84"/>
                  </a:lnTo>
                  <a:lnTo>
                    <a:pt x="381" y="96"/>
                  </a:lnTo>
                  <a:lnTo>
                    <a:pt x="376" y="106"/>
                  </a:lnTo>
                  <a:lnTo>
                    <a:pt x="371" y="114"/>
                  </a:lnTo>
                  <a:lnTo>
                    <a:pt x="365" y="121"/>
                  </a:lnTo>
                  <a:lnTo>
                    <a:pt x="358" y="128"/>
                  </a:lnTo>
                  <a:lnTo>
                    <a:pt x="350" y="132"/>
                  </a:lnTo>
                  <a:lnTo>
                    <a:pt x="343" y="137"/>
                  </a:lnTo>
                  <a:lnTo>
                    <a:pt x="333" y="141"/>
                  </a:lnTo>
                  <a:lnTo>
                    <a:pt x="324" y="143"/>
                  </a:lnTo>
                  <a:lnTo>
                    <a:pt x="314" y="144"/>
                  </a:lnTo>
                  <a:lnTo>
                    <a:pt x="305" y="146"/>
                  </a:lnTo>
                  <a:lnTo>
                    <a:pt x="284" y="146"/>
                  </a:lnTo>
                  <a:lnTo>
                    <a:pt x="262" y="146"/>
                  </a:lnTo>
                  <a:lnTo>
                    <a:pt x="215" y="144"/>
                  </a:lnTo>
                  <a:lnTo>
                    <a:pt x="168" y="144"/>
                  </a:lnTo>
                  <a:lnTo>
                    <a:pt x="157" y="145"/>
                  </a:lnTo>
                  <a:lnTo>
                    <a:pt x="145" y="146"/>
                  </a:lnTo>
                  <a:lnTo>
                    <a:pt x="134" y="149"/>
                  </a:lnTo>
                  <a:lnTo>
                    <a:pt x="123" y="152"/>
                  </a:lnTo>
                  <a:lnTo>
                    <a:pt x="112" y="156"/>
                  </a:lnTo>
                  <a:lnTo>
                    <a:pt x="103" y="160"/>
                  </a:lnTo>
                  <a:lnTo>
                    <a:pt x="92" y="165"/>
                  </a:lnTo>
                  <a:lnTo>
                    <a:pt x="84" y="172"/>
                  </a:lnTo>
                  <a:lnTo>
                    <a:pt x="74" y="179"/>
                  </a:lnTo>
                  <a:lnTo>
                    <a:pt x="65" y="184"/>
                  </a:lnTo>
                  <a:lnTo>
                    <a:pt x="57" y="189"/>
                  </a:lnTo>
                  <a:lnTo>
                    <a:pt x="50" y="190"/>
                  </a:lnTo>
                  <a:lnTo>
                    <a:pt x="42" y="191"/>
                  </a:lnTo>
                  <a:lnTo>
                    <a:pt x="33" y="190"/>
                  </a:lnTo>
                  <a:lnTo>
                    <a:pt x="23" y="187"/>
                  </a:lnTo>
                  <a:lnTo>
                    <a:pt x="12" y="183"/>
                  </a:lnTo>
                  <a:lnTo>
                    <a:pt x="5" y="169"/>
                  </a:lnTo>
                  <a:lnTo>
                    <a:pt x="1" y="156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2" y="117"/>
                  </a:lnTo>
                  <a:lnTo>
                    <a:pt x="6" y="106"/>
                  </a:lnTo>
                  <a:lnTo>
                    <a:pt x="10" y="94"/>
                  </a:lnTo>
                  <a:lnTo>
                    <a:pt x="16" y="82"/>
                  </a:lnTo>
                  <a:lnTo>
                    <a:pt x="23" y="72"/>
                  </a:lnTo>
                  <a:lnTo>
                    <a:pt x="30" y="61"/>
                  </a:lnTo>
                  <a:lnTo>
                    <a:pt x="40" y="52"/>
                  </a:lnTo>
                  <a:lnTo>
                    <a:pt x="48" y="42"/>
                  </a:lnTo>
                  <a:lnTo>
                    <a:pt x="67" y="26"/>
                  </a:lnTo>
                  <a:lnTo>
                    <a:pt x="84" y="13"/>
                  </a:lnTo>
                  <a:lnTo>
                    <a:pt x="123" y="6"/>
                  </a:lnTo>
                  <a:lnTo>
                    <a:pt x="164" y="1"/>
                  </a:lnTo>
                  <a:lnTo>
                    <a:pt x="183" y="0"/>
                  </a:lnTo>
                  <a:lnTo>
                    <a:pt x="203" y="0"/>
                  </a:lnTo>
                  <a:lnTo>
                    <a:pt x="223" y="0"/>
                  </a:lnTo>
                  <a:lnTo>
                    <a:pt x="243" y="3"/>
                  </a:lnTo>
                  <a:lnTo>
                    <a:pt x="263" y="5"/>
                  </a:lnTo>
                  <a:lnTo>
                    <a:pt x="282" y="10"/>
                  </a:lnTo>
                  <a:lnTo>
                    <a:pt x="302" y="15"/>
                  </a:lnTo>
                  <a:lnTo>
                    <a:pt x="319" y="24"/>
                  </a:lnTo>
                  <a:lnTo>
                    <a:pt x="338" y="33"/>
                  </a:lnTo>
                  <a:lnTo>
                    <a:pt x="355" y="44"/>
                  </a:lnTo>
                  <a:lnTo>
                    <a:pt x="372" y="56"/>
                  </a:lnTo>
                  <a:lnTo>
                    <a:pt x="388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5040" y="3999240"/>
              <a:ext cx="87480" cy="666720"/>
            </a:xfrm>
            <a:custGeom>
              <a:avLst/>
              <a:gdLst/>
              <a:ahLst/>
              <a:rect l="l" t="t" r="r" b="b"/>
              <a:pathLst>
                <a:path w="290" h="2521">
                  <a:moveTo>
                    <a:pt x="258" y="8"/>
                  </a:moveTo>
                  <a:lnTo>
                    <a:pt x="250" y="10"/>
                  </a:lnTo>
                  <a:lnTo>
                    <a:pt x="245" y="14"/>
                  </a:lnTo>
                  <a:lnTo>
                    <a:pt x="242" y="17"/>
                  </a:lnTo>
                  <a:lnTo>
                    <a:pt x="240" y="22"/>
                  </a:lnTo>
                  <a:lnTo>
                    <a:pt x="240" y="25"/>
                  </a:lnTo>
                  <a:lnTo>
                    <a:pt x="241" y="31"/>
                  </a:lnTo>
                  <a:lnTo>
                    <a:pt x="243" y="36"/>
                  </a:lnTo>
                  <a:lnTo>
                    <a:pt x="245" y="40"/>
                  </a:lnTo>
                  <a:lnTo>
                    <a:pt x="251" y="52"/>
                  </a:lnTo>
                  <a:lnTo>
                    <a:pt x="257" y="64"/>
                  </a:lnTo>
                  <a:lnTo>
                    <a:pt x="259" y="70"/>
                  </a:lnTo>
                  <a:lnTo>
                    <a:pt x="261" y="76"/>
                  </a:lnTo>
                  <a:lnTo>
                    <a:pt x="261" y="81"/>
                  </a:lnTo>
                  <a:lnTo>
                    <a:pt x="258" y="87"/>
                  </a:lnTo>
                  <a:lnTo>
                    <a:pt x="251" y="114"/>
                  </a:lnTo>
                  <a:lnTo>
                    <a:pt x="245" y="142"/>
                  </a:lnTo>
                  <a:lnTo>
                    <a:pt x="241" y="169"/>
                  </a:lnTo>
                  <a:lnTo>
                    <a:pt x="237" y="196"/>
                  </a:lnTo>
                  <a:lnTo>
                    <a:pt x="234" y="224"/>
                  </a:lnTo>
                  <a:lnTo>
                    <a:pt x="231" y="251"/>
                  </a:lnTo>
                  <a:lnTo>
                    <a:pt x="230" y="278"/>
                  </a:lnTo>
                  <a:lnTo>
                    <a:pt x="229" y="305"/>
                  </a:lnTo>
                  <a:lnTo>
                    <a:pt x="229" y="359"/>
                  </a:lnTo>
                  <a:lnTo>
                    <a:pt x="230" y="411"/>
                  </a:lnTo>
                  <a:lnTo>
                    <a:pt x="234" y="465"/>
                  </a:lnTo>
                  <a:lnTo>
                    <a:pt x="238" y="519"/>
                  </a:lnTo>
                  <a:lnTo>
                    <a:pt x="243" y="571"/>
                  </a:lnTo>
                  <a:lnTo>
                    <a:pt x="247" y="625"/>
                  </a:lnTo>
                  <a:lnTo>
                    <a:pt x="250" y="678"/>
                  </a:lnTo>
                  <a:lnTo>
                    <a:pt x="252" y="732"/>
                  </a:lnTo>
                  <a:lnTo>
                    <a:pt x="254" y="786"/>
                  </a:lnTo>
                  <a:lnTo>
                    <a:pt x="252" y="839"/>
                  </a:lnTo>
                  <a:lnTo>
                    <a:pt x="251" y="866"/>
                  </a:lnTo>
                  <a:lnTo>
                    <a:pt x="249" y="893"/>
                  </a:lnTo>
                  <a:lnTo>
                    <a:pt x="245" y="920"/>
                  </a:lnTo>
                  <a:lnTo>
                    <a:pt x="241" y="947"/>
                  </a:lnTo>
                  <a:lnTo>
                    <a:pt x="244" y="981"/>
                  </a:lnTo>
                  <a:lnTo>
                    <a:pt x="245" y="1015"/>
                  </a:lnTo>
                  <a:lnTo>
                    <a:pt x="247" y="1050"/>
                  </a:lnTo>
                  <a:lnTo>
                    <a:pt x="248" y="1084"/>
                  </a:lnTo>
                  <a:lnTo>
                    <a:pt x="247" y="1153"/>
                  </a:lnTo>
                  <a:lnTo>
                    <a:pt x="244" y="1223"/>
                  </a:lnTo>
                  <a:lnTo>
                    <a:pt x="241" y="1293"/>
                  </a:lnTo>
                  <a:lnTo>
                    <a:pt x="237" y="1364"/>
                  </a:lnTo>
                  <a:lnTo>
                    <a:pt x="233" y="1436"/>
                  </a:lnTo>
                  <a:lnTo>
                    <a:pt x="229" y="1507"/>
                  </a:lnTo>
                  <a:lnTo>
                    <a:pt x="225" y="1580"/>
                  </a:lnTo>
                  <a:lnTo>
                    <a:pt x="224" y="1651"/>
                  </a:lnTo>
                  <a:lnTo>
                    <a:pt x="225" y="1687"/>
                  </a:lnTo>
                  <a:lnTo>
                    <a:pt x="225" y="1724"/>
                  </a:lnTo>
                  <a:lnTo>
                    <a:pt x="228" y="1760"/>
                  </a:lnTo>
                  <a:lnTo>
                    <a:pt x="230" y="1795"/>
                  </a:lnTo>
                  <a:lnTo>
                    <a:pt x="233" y="1831"/>
                  </a:lnTo>
                  <a:lnTo>
                    <a:pt x="237" y="1867"/>
                  </a:lnTo>
                  <a:lnTo>
                    <a:pt x="243" y="1903"/>
                  </a:lnTo>
                  <a:lnTo>
                    <a:pt x="249" y="1939"/>
                  </a:lnTo>
                  <a:lnTo>
                    <a:pt x="256" y="1974"/>
                  </a:lnTo>
                  <a:lnTo>
                    <a:pt x="265" y="2010"/>
                  </a:lnTo>
                  <a:lnTo>
                    <a:pt x="275" y="2045"/>
                  </a:lnTo>
                  <a:lnTo>
                    <a:pt x="286" y="2080"/>
                  </a:lnTo>
                  <a:lnTo>
                    <a:pt x="289" y="2122"/>
                  </a:lnTo>
                  <a:lnTo>
                    <a:pt x="290" y="2167"/>
                  </a:lnTo>
                  <a:lnTo>
                    <a:pt x="290" y="2211"/>
                  </a:lnTo>
                  <a:lnTo>
                    <a:pt x="289" y="2257"/>
                  </a:lnTo>
                  <a:lnTo>
                    <a:pt x="286" y="2303"/>
                  </a:lnTo>
                  <a:lnTo>
                    <a:pt x="283" y="2347"/>
                  </a:lnTo>
                  <a:lnTo>
                    <a:pt x="279" y="2388"/>
                  </a:lnTo>
                  <a:lnTo>
                    <a:pt x="276" y="2427"/>
                  </a:lnTo>
                  <a:lnTo>
                    <a:pt x="271" y="2432"/>
                  </a:lnTo>
                  <a:lnTo>
                    <a:pt x="269" y="2439"/>
                  </a:lnTo>
                  <a:lnTo>
                    <a:pt x="265" y="2448"/>
                  </a:lnTo>
                  <a:lnTo>
                    <a:pt x="264" y="2456"/>
                  </a:lnTo>
                  <a:lnTo>
                    <a:pt x="261" y="2473"/>
                  </a:lnTo>
                  <a:lnTo>
                    <a:pt x="256" y="2490"/>
                  </a:lnTo>
                  <a:lnTo>
                    <a:pt x="254" y="2498"/>
                  </a:lnTo>
                  <a:lnTo>
                    <a:pt x="250" y="2505"/>
                  </a:lnTo>
                  <a:lnTo>
                    <a:pt x="245" y="2511"/>
                  </a:lnTo>
                  <a:lnTo>
                    <a:pt x="241" y="2515"/>
                  </a:lnTo>
                  <a:lnTo>
                    <a:pt x="234" y="2519"/>
                  </a:lnTo>
                  <a:lnTo>
                    <a:pt x="225" y="2521"/>
                  </a:lnTo>
                  <a:lnTo>
                    <a:pt x="215" y="2521"/>
                  </a:lnTo>
                  <a:lnTo>
                    <a:pt x="203" y="2520"/>
                  </a:lnTo>
                  <a:lnTo>
                    <a:pt x="190" y="2497"/>
                  </a:lnTo>
                  <a:lnTo>
                    <a:pt x="179" y="2473"/>
                  </a:lnTo>
                  <a:lnTo>
                    <a:pt x="171" y="2450"/>
                  </a:lnTo>
                  <a:lnTo>
                    <a:pt x="164" y="2428"/>
                  </a:lnTo>
                  <a:lnTo>
                    <a:pt x="158" y="2404"/>
                  </a:lnTo>
                  <a:lnTo>
                    <a:pt x="153" y="2381"/>
                  </a:lnTo>
                  <a:lnTo>
                    <a:pt x="148" y="2357"/>
                  </a:lnTo>
                  <a:lnTo>
                    <a:pt x="145" y="2334"/>
                  </a:lnTo>
                  <a:lnTo>
                    <a:pt x="139" y="2287"/>
                  </a:lnTo>
                  <a:lnTo>
                    <a:pt x="131" y="2239"/>
                  </a:lnTo>
                  <a:lnTo>
                    <a:pt x="126" y="2215"/>
                  </a:lnTo>
                  <a:lnTo>
                    <a:pt x="120" y="2190"/>
                  </a:lnTo>
                  <a:lnTo>
                    <a:pt x="112" y="2166"/>
                  </a:lnTo>
                  <a:lnTo>
                    <a:pt x="103" y="2140"/>
                  </a:lnTo>
                  <a:lnTo>
                    <a:pt x="86" y="2097"/>
                  </a:lnTo>
                  <a:lnTo>
                    <a:pt x="72" y="2052"/>
                  </a:lnTo>
                  <a:lnTo>
                    <a:pt x="59" y="2008"/>
                  </a:lnTo>
                  <a:lnTo>
                    <a:pt x="49" y="1962"/>
                  </a:lnTo>
                  <a:lnTo>
                    <a:pt x="41" y="1917"/>
                  </a:lnTo>
                  <a:lnTo>
                    <a:pt x="34" y="1870"/>
                  </a:lnTo>
                  <a:lnTo>
                    <a:pt x="28" y="1822"/>
                  </a:lnTo>
                  <a:lnTo>
                    <a:pt x="23" y="1774"/>
                  </a:lnTo>
                  <a:lnTo>
                    <a:pt x="20" y="1726"/>
                  </a:lnTo>
                  <a:lnTo>
                    <a:pt x="17" y="1677"/>
                  </a:lnTo>
                  <a:lnTo>
                    <a:pt x="16" y="1628"/>
                  </a:lnTo>
                  <a:lnTo>
                    <a:pt x="16" y="1577"/>
                  </a:lnTo>
                  <a:lnTo>
                    <a:pt x="17" y="1478"/>
                  </a:lnTo>
                  <a:lnTo>
                    <a:pt x="21" y="1376"/>
                  </a:lnTo>
                  <a:lnTo>
                    <a:pt x="26" y="1276"/>
                  </a:lnTo>
                  <a:lnTo>
                    <a:pt x="30" y="1175"/>
                  </a:lnTo>
                  <a:lnTo>
                    <a:pt x="34" y="1074"/>
                  </a:lnTo>
                  <a:lnTo>
                    <a:pt x="35" y="975"/>
                  </a:lnTo>
                  <a:lnTo>
                    <a:pt x="34" y="926"/>
                  </a:lnTo>
                  <a:lnTo>
                    <a:pt x="33" y="878"/>
                  </a:lnTo>
                  <a:lnTo>
                    <a:pt x="30" y="830"/>
                  </a:lnTo>
                  <a:lnTo>
                    <a:pt x="27" y="782"/>
                  </a:lnTo>
                  <a:lnTo>
                    <a:pt x="22" y="735"/>
                  </a:lnTo>
                  <a:lnTo>
                    <a:pt x="16" y="688"/>
                  </a:lnTo>
                  <a:lnTo>
                    <a:pt x="8" y="643"/>
                  </a:lnTo>
                  <a:lnTo>
                    <a:pt x="0" y="598"/>
                  </a:lnTo>
                  <a:lnTo>
                    <a:pt x="2" y="559"/>
                  </a:lnTo>
                  <a:lnTo>
                    <a:pt x="7" y="519"/>
                  </a:lnTo>
                  <a:lnTo>
                    <a:pt x="14" y="480"/>
                  </a:lnTo>
                  <a:lnTo>
                    <a:pt x="23" y="442"/>
                  </a:lnTo>
                  <a:lnTo>
                    <a:pt x="33" y="404"/>
                  </a:lnTo>
                  <a:lnTo>
                    <a:pt x="44" y="368"/>
                  </a:lnTo>
                  <a:lnTo>
                    <a:pt x="57" y="332"/>
                  </a:lnTo>
                  <a:lnTo>
                    <a:pt x="70" y="295"/>
                  </a:lnTo>
                  <a:lnTo>
                    <a:pt x="99" y="225"/>
                  </a:lnTo>
                  <a:lnTo>
                    <a:pt x="131" y="155"/>
                  </a:lnTo>
                  <a:lnTo>
                    <a:pt x="162" y="85"/>
                  </a:lnTo>
                  <a:lnTo>
                    <a:pt x="193" y="15"/>
                  </a:lnTo>
                  <a:lnTo>
                    <a:pt x="209" y="9"/>
                  </a:lnTo>
                  <a:lnTo>
                    <a:pt x="227" y="2"/>
                  </a:lnTo>
                  <a:lnTo>
                    <a:pt x="235" y="0"/>
                  </a:lnTo>
                  <a:lnTo>
                    <a:pt x="244" y="0"/>
                  </a:lnTo>
                  <a:lnTo>
                    <a:pt x="248" y="1"/>
                  </a:lnTo>
                  <a:lnTo>
                    <a:pt x="251" y="2"/>
                  </a:lnTo>
                  <a:lnTo>
                    <a:pt x="255" y="4"/>
                  </a:lnTo>
                  <a:lnTo>
                    <a:pt x="25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22840" y="4001040"/>
              <a:ext cx="83880" cy="48960"/>
            </a:xfrm>
            <a:custGeom>
              <a:avLst/>
              <a:gdLst/>
              <a:ahLst/>
              <a:rect l="l" t="t" r="r" b="b"/>
              <a:pathLst>
                <a:path w="279" h="184">
                  <a:moveTo>
                    <a:pt x="278" y="52"/>
                  </a:moveTo>
                  <a:lnTo>
                    <a:pt x="279" y="85"/>
                  </a:lnTo>
                  <a:lnTo>
                    <a:pt x="276" y="115"/>
                  </a:lnTo>
                  <a:lnTo>
                    <a:pt x="275" y="124"/>
                  </a:lnTo>
                  <a:lnTo>
                    <a:pt x="274" y="131"/>
                  </a:lnTo>
                  <a:lnTo>
                    <a:pt x="272" y="136"/>
                  </a:lnTo>
                  <a:lnTo>
                    <a:pt x="269" y="143"/>
                  </a:lnTo>
                  <a:lnTo>
                    <a:pt x="266" y="149"/>
                  </a:lnTo>
                  <a:lnTo>
                    <a:pt x="261" y="155"/>
                  </a:lnTo>
                  <a:lnTo>
                    <a:pt x="256" y="161"/>
                  </a:lnTo>
                  <a:lnTo>
                    <a:pt x="249" y="167"/>
                  </a:lnTo>
                  <a:lnTo>
                    <a:pt x="238" y="173"/>
                  </a:lnTo>
                  <a:lnTo>
                    <a:pt x="225" y="177"/>
                  </a:lnTo>
                  <a:lnTo>
                    <a:pt x="212" y="181"/>
                  </a:lnTo>
                  <a:lnTo>
                    <a:pt x="198" y="183"/>
                  </a:lnTo>
                  <a:lnTo>
                    <a:pt x="184" y="184"/>
                  </a:lnTo>
                  <a:lnTo>
                    <a:pt x="170" y="184"/>
                  </a:lnTo>
                  <a:lnTo>
                    <a:pt x="156" y="183"/>
                  </a:lnTo>
                  <a:lnTo>
                    <a:pt x="141" y="182"/>
                  </a:lnTo>
                  <a:lnTo>
                    <a:pt x="111" y="179"/>
                  </a:lnTo>
                  <a:lnTo>
                    <a:pt x="82" y="173"/>
                  </a:lnTo>
                  <a:lnTo>
                    <a:pt x="54" y="169"/>
                  </a:lnTo>
                  <a:lnTo>
                    <a:pt x="28" y="167"/>
                  </a:lnTo>
                  <a:lnTo>
                    <a:pt x="20" y="160"/>
                  </a:lnTo>
                  <a:lnTo>
                    <a:pt x="13" y="154"/>
                  </a:lnTo>
                  <a:lnTo>
                    <a:pt x="7" y="146"/>
                  </a:lnTo>
                  <a:lnTo>
                    <a:pt x="4" y="139"/>
                  </a:lnTo>
                  <a:lnTo>
                    <a:pt x="2" y="131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2" y="105"/>
                  </a:lnTo>
                  <a:lnTo>
                    <a:pt x="4" y="97"/>
                  </a:lnTo>
                  <a:lnTo>
                    <a:pt x="6" y="87"/>
                  </a:lnTo>
                  <a:lnTo>
                    <a:pt x="10" y="79"/>
                  </a:lnTo>
                  <a:lnTo>
                    <a:pt x="14" y="72"/>
                  </a:lnTo>
                  <a:lnTo>
                    <a:pt x="19" y="64"/>
                  </a:lnTo>
                  <a:lnTo>
                    <a:pt x="25" y="57"/>
                  </a:lnTo>
                  <a:lnTo>
                    <a:pt x="30" y="51"/>
                  </a:lnTo>
                  <a:lnTo>
                    <a:pt x="35" y="45"/>
                  </a:lnTo>
                  <a:lnTo>
                    <a:pt x="45" y="46"/>
                  </a:lnTo>
                  <a:lnTo>
                    <a:pt x="54" y="48"/>
                  </a:lnTo>
                  <a:lnTo>
                    <a:pt x="64" y="46"/>
                  </a:lnTo>
                  <a:lnTo>
                    <a:pt x="72" y="45"/>
                  </a:lnTo>
                  <a:lnTo>
                    <a:pt x="89" y="42"/>
                  </a:lnTo>
                  <a:lnTo>
                    <a:pt x="107" y="36"/>
                  </a:lnTo>
                  <a:lnTo>
                    <a:pt x="140" y="23"/>
                  </a:lnTo>
                  <a:lnTo>
                    <a:pt x="170" y="9"/>
                  </a:lnTo>
                  <a:lnTo>
                    <a:pt x="184" y="3"/>
                  </a:lnTo>
                  <a:lnTo>
                    <a:pt x="199" y="0"/>
                  </a:lnTo>
                  <a:lnTo>
                    <a:pt x="206" y="0"/>
                  </a:lnTo>
                  <a:lnTo>
                    <a:pt x="212" y="0"/>
                  </a:lnTo>
                  <a:lnTo>
                    <a:pt x="219" y="0"/>
                  </a:lnTo>
                  <a:lnTo>
                    <a:pt x="226" y="1"/>
                  </a:lnTo>
                  <a:lnTo>
                    <a:pt x="233" y="3"/>
                  </a:lnTo>
                  <a:lnTo>
                    <a:pt x="239" y="7"/>
                  </a:lnTo>
                  <a:lnTo>
                    <a:pt x="246" y="11"/>
                  </a:lnTo>
                  <a:lnTo>
                    <a:pt x="253" y="17"/>
                  </a:lnTo>
                  <a:lnTo>
                    <a:pt x="259" y="24"/>
                  </a:lnTo>
                  <a:lnTo>
                    <a:pt x="265" y="32"/>
                  </a:lnTo>
                  <a:lnTo>
                    <a:pt x="272" y="42"/>
                  </a:lnTo>
                  <a:lnTo>
                    <a:pt x="27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39040" y="4062960"/>
              <a:ext cx="53280" cy="33120"/>
            </a:xfrm>
            <a:custGeom>
              <a:avLst/>
              <a:gdLst/>
              <a:ahLst/>
              <a:rect l="l" t="t" r="r" b="b"/>
              <a:pathLst>
                <a:path w="182" h="128">
                  <a:moveTo>
                    <a:pt x="180" y="45"/>
                  </a:moveTo>
                  <a:lnTo>
                    <a:pt x="181" y="54"/>
                  </a:lnTo>
                  <a:lnTo>
                    <a:pt x="182" y="61"/>
                  </a:lnTo>
                  <a:lnTo>
                    <a:pt x="181" y="69"/>
                  </a:lnTo>
                  <a:lnTo>
                    <a:pt x="180" y="76"/>
                  </a:lnTo>
                  <a:lnTo>
                    <a:pt x="178" y="82"/>
                  </a:lnTo>
                  <a:lnTo>
                    <a:pt x="174" y="88"/>
                  </a:lnTo>
                  <a:lnTo>
                    <a:pt x="171" y="93"/>
                  </a:lnTo>
                  <a:lnTo>
                    <a:pt x="166" y="99"/>
                  </a:lnTo>
                  <a:lnTo>
                    <a:pt x="145" y="115"/>
                  </a:lnTo>
                  <a:lnTo>
                    <a:pt x="124" y="128"/>
                  </a:lnTo>
                  <a:lnTo>
                    <a:pt x="108" y="128"/>
                  </a:lnTo>
                  <a:lnTo>
                    <a:pt x="90" y="128"/>
                  </a:lnTo>
                  <a:lnTo>
                    <a:pt x="74" y="125"/>
                  </a:lnTo>
                  <a:lnTo>
                    <a:pt x="57" y="123"/>
                  </a:lnTo>
                  <a:lnTo>
                    <a:pt x="49" y="121"/>
                  </a:lnTo>
                  <a:lnTo>
                    <a:pt x="41" y="118"/>
                  </a:lnTo>
                  <a:lnTo>
                    <a:pt x="34" y="116"/>
                  </a:lnTo>
                  <a:lnTo>
                    <a:pt x="27" y="111"/>
                  </a:lnTo>
                  <a:lnTo>
                    <a:pt x="19" y="108"/>
                  </a:lnTo>
                  <a:lnTo>
                    <a:pt x="13" y="102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21" y="0"/>
                  </a:lnTo>
                  <a:lnTo>
                    <a:pt x="33" y="6"/>
                  </a:lnTo>
                  <a:lnTo>
                    <a:pt x="44" y="11"/>
                  </a:lnTo>
                  <a:lnTo>
                    <a:pt x="56" y="13"/>
                  </a:lnTo>
                  <a:lnTo>
                    <a:pt x="67" y="14"/>
                  </a:lnTo>
                  <a:lnTo>
                    <a:pt x="88" y="12"/>
                  </a:lnTo>
                  <a:lnTo>
                    <a:pt x="108" y="10"/>
                  </a:lnTo>
                  <a:lnTo>
                    <a:pt x="118" y="8"/>
                  </a:lnTo>
                  <a:lnTo>
                    <a:pt x="127" y="8"/>
                  </a:lnTo>
                  <a:lnTo>
                    <a:pt x="136" y="10"/>
                  </a:lnTo>
                  <a:lnTo>
                    <a:pt x="145" y="12"/>
                  </a:lnTo>
                  <a:lnTo>
                    <a:pt x="154" y="17"/>
                  </a:lnTo>
                  <a:lnTo>
                    <a:pt x="163" y="23"/>
                  </a:lnTo>
                  <a:lnTo>
                    <a:pt x="171" y="32"/>
                  </a:lnTo>
                  <a:lnTo>
                    <a:pt x="18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56680" y="4134240"/>
              <a:ext cx="21240" cy="25560"/>
            </a:xfrm>
            <a:custGeom>
              <a:avLst/>
              <a:gdLst/>
              <a:ahLst/>
              <a:rect l="l" t="t" r="r" b="b"/>
              <a:pathLst>
                <a:path w="74" h="96">
                  <a:moveTo>
                    <a:pt x="73" y="45"/>
                  </a:moveTo>
                  <a:lnTo>
                    <a:pt x="74" y="52"/>
                  </a:lnTo>
                  <a:lnTo>
                    <a:pt x="74" y="61"/>
                  </a:lnTo>
                  <a:lnTo>
                    <a:pt x="73" y="69"/>
                  </a:lnTo>
                  <a:lnTo>
                    <a:pt x="71" y="77"/>
                  </a:lnTo>
                  <a:lnTo>
                    <a:pt x="67" y="84"/>
                  </a:lnTo>
                  <a:lnTo>
                    <a:pt x="62" y="89"/>
                  </a:lnTo>
                  <a:lnTo>
                    <a:pt x="59" y="92"/>
                  </a:lnTo>
                  <a:lnTo>
                    <a:pt x="55" y="94"/>
                  </a:lnTo>
                  <a:lnTo>
                    <a:pt x="51" y="95"/>
                  </a:lnTo>
                  <a:lnTo>
                    <a:pt x="46" y="96"/>
                  </a:lnTo>
                  <a:lnTo>
                    <a:pt x="39" y="96"/>
                  </a:lnTo>
                  <a:lnTo>
                    <a:pt x="34" y="95"/>
                  </a:lnTo>
                  <a:lnTo>
                    <a:pt x="30" y="93"/>
                  </a:lnTo>
                  <a:lnTo>
                    <a:pt x="25" y="91"/>
                  </a:lnTo>
                  <a:lnTo>
                    <a:pt x="18" y="86"/>
                  </a:lnTo>
                  <a:lnTo>
                    <a:pt x="13" y="78"/>
                  </a:lnTo>
                  <a:lnTo>
                    <a:pt x="6" y="61"/>
                  </a:lnTo>
                  <a:lnTo>
                    <a:pt x="0" y="45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8"/>
                  </a:lnTo>
                  <a:lnTo>
                    <a:pt x="12" y="12"/>
                  </a:lnTo>
                  <a:lnTo>
                    <a:pt x="18" y="8"/>
                  </a:lnTo>
                  <a:lnTo>
                    <a:pt x="24" y="4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1" y="3"/>
                  </a:lnTo>
                  <a:lnTo>
                    <a:pt x="57" y="6"/>
                  </a:lnTo>
                  <a:lnTo>
                    <a:pt x="62" y="11"/>
                  </a:lnTo>
                  <a:lnTo>
                    <a:pt x="67" y="17"/>
                  </a:lnTo>
                  <a:lnTo>
                    <a:pt x="71" y="24"/>
                  </a:lnTo>
                  <a:lnTo>
                    <a:pt x="73" y="33"/>
                  </a:lnTo>
                  <a:lnTo>
                    <a:pt x="7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82320" y="4352040"/>
              <a:ext cx="203400" cy="838440"/>
            </a:xfrm>
            <a:custGeom>
              <a:avLst/>
              <a:gdLst/>
              <a:ahLst/>
              <a:rect l="l" t="t" r="r" b="b"/>
              <a:pathLst>
                <a:path w="685" h="3166">
                  <a:moveTo>
                    <a:pt x="583" y="167"/>
                  </a:moveTo>
                  <a:lnTo>
                    <a:pt x="597" y="179"/>
                  </a:lnTo>
                  <a:lnTo>
                    <a:pt x="609" y="192"/>
                  </a:lnTo>
                  <a:lnTo>
                    <a:pt x="621" y="206"/>
                  </a:lnTo>
                  <a:lnTo>
                    <a:pt x="630" y="220"/>
                  </a:lnTo>
                  <a:lnTo>
                    <a:pt x="638" y="234"/>
                  </a:lnTo>
                  <a:lnTo>
                    <a:pt x="646" y="249"/>
                  </a:lnTo>
                  <a:lnTo>
                    <a:pt x="652" y="265"/>
                  </a:lnTo>
                  <a:lnTo>
                    <a:pt x="657" y="281"/>
                  </a:lnTo>
                  <a:lnTo>
                    <a:pt x="662" y="298"/>
                  </a:lnTo>
                  <a:lnTo>
                    <a:pt x="665" y="315"/>
                  </a:lnTo>
                  <a:lnTo>
                    <a:pt x="667" y="332"/>
                  </a:lnTo>
                  <a:lnTo>
                    <a:pt x="670" y="350"/>
                  </a:lnTo>
                  <a:lnTo>
                    <a:pt x="672" y="386"/>
                  </a:lnTo>
                  <a:lnTo>
                    <a:pt x="672" y="422"/>
                  </a:lnTo>
                  <a:lnTo>
                    <a:pt x="667" y="496"/>
                  </a:lnTo>
                  <a:lnTo>
                    <a:pt x="663" y="570"/>
                  </a:lnTo>
                  <a:lnTo>
                    <a:pt x="662" y="605"/>
                  </a:lnTo>
                  <a:lnTo>
                    <a:pt x="663" y="640"/>
                  </a:lnTo>
                  <a:lnTo>
                    <a:pt x="663" y="656"/>
                  </a:lnTo>
                  <a:lnTo>
                    <a:pt x="665" y="672"/>
                  </a:lnTo>
                  <a:lnTo>
                    <a:pt x="666" y="688"/>
                  </a:lnTo>
                  <a:lnTo>
                    <a:pt x="670" y="703"/>
                  </a:lnTo>
                  <a:lnTo>
                    <a:pt x="676" y="736"/>
                  </a:lnTo>
                  <a:lnTo>
                    <a:pt x="680" y="770"/>
                  </a:lnTo>
                  <a:lnTo>
                    <a:pt x="683" y="802"/>
                  </a:lnTo>
                  <a:lnTo>
                    <a:pt x="685" y="835"/>
                  </a:lnTo>
                  <a:lnTo>
                    <a:pt x="685" y="868"/>
                  </a:lnTo>
                  <a:lnTo>
                    <a:pt x="685" y="901"/>
                  </a:lnTo>
                  <a:lnTo>
                    <a:pt x="683" y="932"/>
                  </a:lnTo>
                  <a:lnTo>
                    <a:pt x="680" y="965"/>
                  </a:lnTo>
                  <a:lnTo>
                    <a:pt x="677" y="996"/>
                  </a:lnTo>
                  <a:lnTo>
                    <a:pt x="672" y="1029"/>
                  </a:lnTo>
                  <a:lnTo>
                    <a:pt x="667" y="1061"/>
                  </a:lnTo>
                  <a:lnTo>
                    <a:pt x="662" y="1094"/>
                  </a:lnTo>
                  <a:lnTo>
                    <a:pt x="650" y="1158"/>
                  </a:lnTo>
                  <a:lnTo>
                    <a:pt x="637" y="1222"/>
                  </a:lnTo>
                  <a:lnTo>
                    <a:pt x="624" y="1286"/>
                  </a:lnTo>
                  <a:lnTo>
                    <a:pt x="611" y="1352"/>
                  </a:lnTo>
                  <a:lnTo>
                    <a:pt x="607" y="1385"/>
                  </a:lnTo>
                  <a:lnTo>
                    <a:pt x="601" y="1417"/>
                  </a:lnTo>
                  <a:lnTo>
                    <a:pt x="596" y="1450"/>
                  </a:lnTo>
                  <a:lnTo>
                    <a:pt x="593" y="1483"/>
                  </a:lnTo>
                  <a:lnTo>
                    <a:pt x="589" y="1517"/>
                  </a:lnTo>
                  <a:lnTo>
                    <a:pt x="587" y="1550"/>
                  </a:lnTo>
                  <a:lnTo>
                    <a:pt x="586" y="1584"/>
                  </a:lnTo>
                  <a:lnTo>
                    <a:pt x="586" y="1617"/>
                  </a:lnTo>
                  <a:lnTo>
                    <a:pt x="586" y="1653"/>
                  </a:lnTo>
                  <a:lnTo>
                    <a:pt x="588" y="1687"/>
                  </a:lnTo>
                  <a:lnTo>
                    <a:pt x="591" y="1722"/>
                  </a:lnTo>
                  <a:lnTo>
                    <a:pt x="597" y="1757"/>
                  </a:lnTo>
                  <a:lnTo>
                    <a:pt x="595" y="1799"/>
                  </a:lnTo>
                  <a:lnTo>
                    <a:pt x="593" y="1842"/>
                  </a:lnTo>
                  <a:lnTo>
                    <a:pt x="593" y="1887"/>
                  </a:lnTo>
                  <a:lnTo>
                    <a:pt x="593" y="1930"/>
                  </a:lnTo>
                  <a:lnTo>
                    <a:pt x="595" y="2020"/>
                  </a:lnTo>
                  <a:lnTo>
                    <a:pt x="598" y="2110"/>
                  </a:lnTo>
                  <a:lnTo>
                    <a:pt x="603" y="2201"/>
                  </a:lnTo>
                  <a:lnTo>
                    <a:pt x="608" y="2292"/>
                  </a:lnTo>
                  <a:lnTo>
                    <a:pt x="614" y="2385"/>
                  </a:lnTo>
                  <a:lnTo>
                    <a:pt x="617" y="2476"/>
                  </a:lnTo>
                  <a:lnTo>
                    <a:pt x="618" y="2522"/>
                  </a:lnTo>
                  <a:lnTo>
                    <a:pt x="618" y="2566"/>
                  </a:lnTo>
                  <a:lnTo>
                    <a:pt x="618" y="2612"/>
                  </a:lnTo>
                  <a:lnTo>
                    <a:pt x="618" y="2656"/>
                  </a:lnTo>
                  <a:lnTo>
                    <a:pt x="616" y="2701"/>
                  </a:lnTo>
                  <a:lnTo>
                    <a:pt x="614" y="2745"/>
                  </a:lnTo>
                  <a:lnTo>
                    <a:pt x="610" y="2788"/>
                  </a:lnTo>
                  <a:lnTo>
                    <a:pt x="605" y="2832"/>
                  </a:lnTo>
                  <a:lnTo>
                    <a:pt x="600" y="2875"/>
                  </a:lnTo>
                  <a:lnTo>
                    <a:pt x="593" y="2917"/>
                  </a:lnTo>
                  <a:lnTo>
                    <a:pt x="584" y="2959"/>
                  </a:lnTo>
                  <a:lnTo>
                    <a:pt x="574" y="3000"/>
                  </a:lnTo>
                  <a:lnTo>
                    <a:pt x="562" y="3040"/>
                  </a:lnTo>
                  <a:lnTo>
                    <a:pt x="549" y="3080"/>
                  </a:lnTo>
                  <a:lnTo>
                    <a:pt x="534" y="3118"/>
                  </a:lnTo>
                  <a:lnTo>
                    <a:pt x="518" y="3156"/>
                  </a:lnTo>
                  <a:lnTo>
                    <a:pt x="511" y="3161"/>
                  </a:lnTo>
                  <a:lnTo>
                    <a:pt x="505" y="3164"/>
                  </a:lnTo>
                  <a:lnTo>
                    <a:pt x="498" y="3166"/>
                  </a:lnTo>
                  <a:lnTo>
                    <a:pt x="492" y="3166"/>
                  </a:lnTo>
                  <a:lnTo>
                    <a:pt x="485" y="3165"/>
                  </a:lnTo>
                  <a:lnTo>
                    <a:pt x="479" y="3163"/>
                  </a:lnTo>
                  <a:lnTo>
                    <a:pt x="473" y="3160"/>
                  </a:lnTo>
                  <a:lnTo>
                    <a:pt x="467" y="3156"/>
                  </a:lnTo>
                  <a:lnTo>
                    <a:pt x="445" y="3138"/>
                  </a:lnTo>
                  <a:lnTo>
                    <a:pt x="428" y="3125"/>
                  </a:lnTo>
                  <a:lnTo>
                    <a:pt x="430" y="3097"/>
                  </a:lnTo>
                  <a:lnTo>
                    <a:pt x="435" y="3065"/>
                  </a:lnTo>
                  <a:lnTo>
                    <a:pt x="439" y="3034"/>
                  </a:lnTo>
                  <a:lnTo>
                    <a:pt x="443" y="3000"/>
                  </a:lnTo>
                  <a:lnTo>
                    <a:pt x="446" y="2966"/>
                  </a:lnTo>
                  <a:lnTo>
                    <a:pt x="448" y="2932"/>
                  </a:lnTo>
                  <a:lnTo>
                    <a:pt x="446" y="2916"/>
                  </a:lnTo>
                  <a:lnTo>
                    <a:pt x="445" y="2898"/>
                  </a:lnTo>
                  <a:lnTo>
                    <a:pt x="442" y="2882"/>
                  </a:lnTo>
                  <a:lnTo>
                    <a:pt x="438" y="2865"/>
                  </a:lnTo>
                  <a:lnTo>
                    <a:pt x="433" y="2873"/>
                  </a:lnTo>
                  <a:lnTo>
                    <a:pt x="430" y="2880"/>
                  </a:lnTo>
                  <a:lnTo>
                    <a:pt x="429" y="2888"/>
                  </a:lnTo>
                  <a:lnTo>
                    <a:pt x="428" y="2897"/>
                  </a:lnTo>
                  <a:lnTo>
                    <a:pt x="428" y="2916"/>
                  </a:lnTo>
                  <a:lnTo>
                    <a:pt x="428" y="2934"/>
                  </a:lnTo>
                  <a:lnTo>
                    <a:pt x="426" y="2944"/>
                  </a:lnTo>
                  <a:lnTo>
                    <a:pt x="425" y="2952"/>
                  </a:lnTo>
                  <a:lnTo>
                    <a:pt x="424" y="2960"/>
                  </a:lnTo>
                  <a:lnTo>
                    <a:pt x="421" y="2966"/>
                  </a:lnTo>
                  <a:lnTo>
                    <a:pt x="417" y="2972"/>
                  </a:lnTo>
                  <a:lnTo>
                    <a:pt x="411" y="2977"/>
                  </a:lnTo>
                  <a:lnTo>
                    <a:pt x="403" y="2979"/>
                  </a:lnTo>
                  <a:lnTo>
                    <a:pt x="393" y="2980"/>
                  </a:lnTo>
                  <a:lnTo>
                    <a:pt x="393" y="2936"/>
                  </a:lnTo>
                  <a:lnTo>
                    <a:pt x="391" y="2891"/>
                  </a:lnTo>
                  <a:lnTo>
                    <a:pt x="389" y="2848"/>
                  </a:lnTo>
                  <a:lnTo>
                    <a:pt x="386" y="2803"/>
                  </a:lnTo>
                  <a:lnTo>
                    <a:pt x="381" y="2760"/>
                  </a:lnTo>
                  <a:lnTo>
                    <a:pt x="375" y="2716"/>
                  </a:lnTo>
                  <a:lnTo>
                    <a:pt x="369" y="2671"/>
                  </a:lnTo>
                  <a:lnTo>
                    <a:pt x="361" y="2628"/>
                  </a:lnTo>
                  <a:lnTo>
                    <a:pt x="353" y="2585"/>
                  </a:lnTo>
                  <a:lnTo>
                    <a:pt x="343" y="2540"/>
                  </a:lnTo>
                  <a:lnTo>
                    <a:pt x="333" y="2497"/>
                  </a:lnTo>
                  <a:lnTo>
                    <a:pt x="321" y="2454"/>
                  </a:lnTo>
                  <a:lnTo>
                    <a:pt x="310" y="2409"/>
                  </a:lnTo>
                  <a:lnTo>
                    <a:pt x="297" y="2366"/>
                  </a:lnTo>
                  <a:lnTo>
                    <a:pt x="284" y="2323"/>
                  </a:lnTo>
                  <a:lnTo>
                    <a:pt x="270" y="2280"/>
                  </a:lnTo>
                  <a:lnTo>
                    <a:pt x="241" y="2194"/>
                  </a:lnTo>
                  <a:lnTo>
                    <a:pt x="209" y="2108"/>
                  </a:lnTo>
                  <a:lnTo>
                    <a:pt x="176" y="2023"/>
                  </a:lnTo>
                  <a:lnTo>
                    <a:pt x="142" y="1939"/>
                  </a:lnTo>
                  <a:lnTo>
                    <a:pt x="107" y="1855"/>
                  </a:lnTo>
                  <a:lnTo>
                    <a:pt x="71" y="1772"/>
                  </a:lnTo>
                  <a:lnTo>
                    <a:pt x="35" y="1690"/>
                  </a:lnTo>
                  <a:lnTo>
                    <a:pt x="0" y="1608"/>
                  </a:lnTo>
                  <a:lnTo>
                    <a:pt x="0" y="1560"/>
                  </a:lnTo>
                  <a:lnTo>
                    <a:pt x="1" y="1511"/>
                  </a:lnTo>
                  <a:lnTo>
                    <a:pt x="3" y="1461"/>
                  </a:lnTo>
                  <a:lnTo>
                    <a:pt x="5" y="1409"/>
                  </a:lnTo>
                  <a:lnTo>
                    <a:pt x="9" y="1357"/>
                  </a:lnTo>
                  <a:lnTo>
                    <a:pt x="12" y="1303"/>
                  </a:lnTo>
                  <a:lnTo>
                    <a:pt x="17" y="1249"/>
                  </a:lnTo>
                  <a:lnTo>
                    <a:pt x="22" y="1195"/>
                  </a:lnTo>
                  <a:lnTo>
                    <a:pt x="25" y="1140"/>
                  </a:lnTo>
                  <a:lnTo>
                    <a:pt x="29" y="1085"/>
                  </a:lnTo>
                  <a:lnTo>
                    <a:pt x="31" y="1032"/>
                  </a:lnTo>
                  <a:lnTo>
                    <a:pt x="34" y="977"/>
                  </a:lnTo>
                  <a:lnTo>
                    <a:pt x="35" y="924"/>
                  </a:lnTo>
                  <a:lnTo>
                    <a:pt x="35" y="871"/>
                  </a:lnTo>
                  <a:lnTo>
                    <a:pt x="34" y="819"/>
                  </a:lnTo>
                  <a:lnTo>
                    <a:pt x="30" y="768"/>
                  </a:lnTo>
                  <a:lnTo>
                    <a:pt x="42" y="740"/>
                  </a:lnTo>
                  <a:lnTo>
                    <a:pt x="51" y="710"/>
                  </a:lnTo>
                  <a:lnTo>
                    <a:pt x="59" y="679"/>
                  </a:lnTo>
                  <a:lnTo>
                    <a:pt x="66" y="648"/>
                  </a:lnTo>
                  <a:lnTo>
                    <a:pt x="81" y="585"/>
                  </a:lnTo>
                  <a:lnTo>
                    <a:pt x="98" y="524"/>
                  </a:lnTo>
                  <a:lnTo>
                    <a:pt x="108" y="495"/>
                  </a:lnTo>
                  <a:lnTo>
                    <a:pt x="119" y="467"/>
                  </a:lnTo>
                  <a:lnTo>
                    <a:pt x="126" y="453"/>
                  </a:lnTo>
                  <a:lnTo>
                    <a:pt x="133" y="440"/>
                  </a:lnTo>
                  <a:lnTo>
                    <a:pt x="140" y="427"/>
                  </a:lnTo>
                  <a:lnTo>
                    <a:pt x="148" y="415"/>
                  </a:lnTo>
                  <a:lnTo>
                    <a:pt x="158" y="403"/>
                  </a:lnTo>
                  <a:lnTo>
                    <a:pt x="167" y="393"/>
                  </a:lnTo>
                  <a:lnTo>
                    <a:pt x="177" y="382"/>
                  </a:lnTo>
                  <a:lnTo>
                    <a:pt x="188" y="373"/>
                  </a:lnTo>
                  <a:lnTo>
                    <a:pt x="200" y="365"/>
                  </a:lnTo>
                  <a:lnTo>
                    <a:pt x="212" y="357"/>
                  </a:lnTo>
                  <a:lnTo>
                    <a:pt x="227" y="350"/>
                  </a:lnTo>
                  <a:lnTo>
                    <a:pt x="241" y="344"/>
                  </a:lnTo>
                  <a:lnTo>
                    <a:pt x="249" y="351"/>
                  </a:lnTo>
                  <a:lnTo>
                    <a:pt x="257" y="358"/>
                  </a:lnTo>
                  <a:lnTo>
                    <a:pt x="264" y="366"/>
                  </a:lnTo>
                  <a:lnTo>
                    <a:pt x="270" y="373"/>
                  </a:lnTo>
                  <a:lnTo>
                    <a:pt x="280" y="391"/>
                  </a:lnTo>
                  <a:lnTo>
                    <a:pt x="290" y="408"/>
                  </a:lnTo>
                  <a:lnTo>
                    <a:pt x="297" y="427"/>
                  </a:lnTo>
                  <a:lnTo>
                    <a:pt x="301" y="447"/>
                  </a:lnTo>
                  <a:lnTo>
                    <a:pt x="306" y="467"/>
                  </a:lnTo>
                  <a:lnTo>
                    <a:pt x="310" y="488"/>
                  </a:lnTo>
                  <a:lnTo>
                    <a:pt x="315" y="530"/>
                  </a:lnTo>
                  <a:lnTo>
                    <a:pt x="319" y="572"/>
                  </a:lnTo>
                  <a:lnTo>
                    <a:pt x="322" y="593"/>
                  </a:lnTo>
                  <a:lnTo>
                    <a:pt x="325" y="614"/>
                  </a:lnTo>
                  <a:lnTo>
                    <a:pt x="329" y="635"/>
                  </a:lnTo>
                  <a:lnTo>
                    <a:pt x="334" y="655"/>
                  </a:lnTo>
                  <a:lnTo>
                    <a:pt x="326" y="692"/>
                  </a:lnTo>
                  <a:lnTo>
                    <a:pt x="319" y="730"/>
                  </a:lnTo>
                  <a:lnTo>
                    <a:pt x="312" y="770"/>
                  </a:lnTo>
                  <a:lnTo>
                    <a:pt x="306" y="809"/>
                  </a:lnTo>
                  <a:lnTo>
                    <a:pt x="296" y="890"/>
                  </a:lnTo>
                  <a:lnTo>
                    <a:pt x="286" y="972"/>
                  </a:lnTo>
                  <a:lnTo>
                    <a:pt x="276" y="1055"/>
                  </a:lnTo>
                  <a:lnTo>
                    <a:pt x="265" y="1137"/>
                  </a:lnTo>
                  <a:lnTo>
                    <a:pt x="258" y="1178"/>
                  </a:lnTo>
                  <a:lnTo>
                    <a:pt x="251" y="1217"/>
                  </a:lnTo>
                  <a:lnTo>
                    <a:pt x="243" y="1258"/>
                  </a:lnTo>
                  <a:lnTo>
                    <a:pt x="235" y="1297"/>
                  </a:lnTo>
                  <a:lnTo>
                    <a:pt x="225" y="1323"/>
                  </a:lnTo>
                  <a:lnTo>
                    <a:pt x="218" y="1350"/>
                  </a:lnTo>
                  <a:lnTo>
                    <a:pt x="212" y="1375"/>
                  </a:lnTo>
                  <a:lnTo>
                    <a:pt x="208" y="1401"/>
                  </a:lnTo>
                  <a:lnTo>
                    <a:pt x="204" y="1428"/>
                  </a:lnTo>
                  <a:lnTo>
                    <a:pt x="202" y="1454"/>
                  </a:lnTo>
                  <a:lnTo>
                    <a:pt x="201" y="1479"/>
                  </a:lnTo>
                  <a:lnTo>
                    <a:pt x="201" y="1506"/>
                  </a:lnTo>
                  <a:lnTo>
                    <a:pt x="201" y="1532"/>
                  </a:lnTo>
                  <a:lnTo>
                    <a:pt x="203" y="1558"/>
                  </a:lnTo>
                  <a:lnTo>
                    <a:pt x="205" y="1585"/>
                  </a:lnTo>
                  <a:lnTo>
                    <a:pt x="209" y="1610"/>
                  </a:lnTo>
                  <a:lnTo>
                    <a:pt x="214" y="1636"/>
                  </a:lnTo>
                  <a:lnTo>
                    <a:pt x="218" y="1662"/>
                  </a:lnTo>
                  <a:lnTo>
                    <a:pt x="224" y="1688"/>
                  </a:lnTo>
                  <a:lnTo>
                    <a:pt x="231" y="1712"/>
                  </a:lnTo>
                  <a:lnTo>
                    <a:pt x="238" y="1738"/>
                  </a:lnTo>
                  <a:lnTo>
                    <a:pt x="246" y="1763"/>
                  </a:lnTo>
                  <a:lnTo>
                    <a:pt x="256" y="1787"/>
                  </a:lnTo>
                  <a:lnTo>
                    <a:pt x="264" y="1812"/>
                  </a:lnTo>
                  <a:lnTo>
                    <a:pt x="285" y="1861"/>
                  </a:lnTo>
                  <a:lnTo>
                    <a:pt x="306" y="1908"/>
                  </a:lnTo>
                  <a:lnTo>
                    <a:pt x="331" y="1953"/>
                  </a:lnTo>
                  <a:lnTo>
                    <a:pt x="355" y="1998"/>
                  </a:lnTo>
                  <a:lnTo>
                    <a:pt x="381" y="2041"/>
                  </a:lnTo>
                  <a:lnTo>
                    <a:pt x="407" y="2082"/>
                  </a:lnTo>
                  <a:lnTo>
                    <a:pt x="403" y="2033"/>
                  </a:lnTo>
                  <a:lnTo>
                    <a:pt x="400" y="1982"/>
                  </a:lnTo>
                  <a:lnTo>
                    <a:pt x="397" y="1933"/>
                  </a:lnTo>
                  <a:lnTo>
                    <a:pt x="395" y="1884"/>
                  </a:lnTo>
                  <a:lnTo>
                    <a:pt x="395" y="1834"/>
                  </a:lnTo>
                  <a:lnTo>
                    <a:pt x="395" y="1785"/>
                  </a:lnTo>
                  <a:lnTo>
                    <a:pt x="395" y="1734"/>
                  </a:lnTo>
                  <a:lnTo>
                    <a:pt x="396" y="1685"/>
                  </a:lnTo>
                  <a:lnTo>
                    <a:pt x="401" y="1585"/>
                  </a:lnTo>
                  <a:lnTo>
                    <a:pt x="405" y="1485"/>
                  </a:lnTo>
                  <a:lnTo>
                    <a:pt x="412" y="1385"/>
                  </a:lnTo>
                  <a:lnTo>
                    <a:pt x="419" y="1284"/>
                  </a:lnTo>
                  <a:lnTo>
                    <a:pt x="428" y="1184"/>
                  </a:lnTo>
                  <a:lnTo>
                    <a:pt x="435" y="1083"/>
                  </a:lnTo>
                  <a:lnTo>
                    <a:pt x="441" y="982"/>
                  </a:lnTo>
                  <a:lnTo>
                    <a:pt x="445" y="882"/>
                  </a:lnTo>
                  <a:lnTo>
                    <a:pt x="446" y="832"/>
                  </a:lnTo>
                  <a:lnTo>
                    <a:pt x="448" y="782"/>
                  </a:lnTo>
                  <a:lnTo>
                    <a:pt x="448" y="732"/>
                  </a:lnTo>
                  <a:lnTo>
                    <a:pt x="448" y="682"/>
                  </a:lnTo>
                  <a:lnTo>
                    <a:pt x="446" y="632"/>
                  </a:lnTo>
                  <a:lnTo>
                    <a:pt x="444" y="581"/>
                  </a:lnTo>
                  <a:lnTo>
                    <a:pt x="442" y="532"/>
                  </a:lnTo>
                  <a:lnTo>
                    <a:pt x="438" y="482"/>
                  </a:lnTo>
                  <a:lnTo>
                    <a:pt x="431" y="468"/>
                  </a:lnTo>
                  <a:lnTo>
                    <a:pt x="423" y="455"/>
                  </a:lnTo>
                  <a:lnTo>
                    <a:pt x="414" y="442"/>
                  </a:lnTo>
                  <a:lnTo>
                    <a:pt x="404" y="428"/>
                  </a:lnTo>
                  <a:lnTo>
                    <a:pt x="382" y="402"/>
                  </a:lnTo>
                  <a:lnTo>
                    <a:pt x="359" y="377"/>
                  </a:lnTo>
                  <a:lnTo>
                    <a:pt x="334" y="351"/>
                  </a:lnTo>
                  <a:lnTo>
                    <a:pt x="310" y="325"/>
                  </a:lnTo>
                  <a:lnTo>
                    <a:pt x="286" y="299"/>
                  </a:lnTo>
                  <a:lnTo>
                    <a:pt x="264" y="274"/>
                  </a:lnTo>
                  <a:lnTo>
                    <a:pt x="255" y="260"/>
                  </a:lnTo>
                  <a:lnTo>
                    <a:pt x="245" y="247"/>
                  </a:lnTo>
                  <a:lnTo>
                    <a:pt x="237" y="233"/>
                  </a:lnTo>
                  <a:lnTo>
                    <a:pt x="230" y="219"/>
                  </a:lnTo>
                  <a:lnTo>
                    <a:pt x="223" y="206"/>
                  </a:lnTo>
                  <a:lnTo>
                    <a:pt x="218" y="192"/>
                  </a:lnTo>
                  <a:lnTo>
                    <a:pt x="215" y="177"/>
                  </a:lnTo>
                  <a:lnTo>
                    <a:pt x="212" y="162"/>
                  </a:lnTo>
                  <a:lnTo>
                    <a:pt x="212" y="147"/>
                  </a:lnTo>
                  <a:lnTo>
                    <a:pt x="214" y="132"/>
                  </a:lnTo>
                  <a:lnTo>
                    <a:pt x="216" y="117"/>
                  </a:lnTo>
                  <a:lnTo>
                    <a:pt x="221" y="102"/>
                  </a:lnTo>
                  <a:lnTo>
                    <a:pt x="228" y="85"/>
                  </a:lnTo>
                  <a:lnTo>
                    <a:pt x="237" y="70"/>
                  </a:lnTo>
                  <a:lnTo>
                    <a:pt x="249" y="53"/>
                  </a:lnTo>
                  <a:lnTo>
                    <a:pt x="262" y="36"/>
                  </a:lnTo>
                  <a:lnTo>
                    <a:pt x="276" y="23"/>
                  </a:lnTo>
                  <a:lnTo>
                    <a:pt x="290" y="14"/>
                  </a:lnTo>
                  <a:lnTo>
                    <a:pt x="303" y="7"/>
                  </a:lnTo>
                  <a:lnTo>
                    <a:pt x="314" y="2"/>
                  </a:lnTo>
                  <a:lnTo>
                    <a:pt x="326" y="0"/>
                  </a:lnTo>
                  <a:lnTo>
                    <a:pt x="338" y="0"/>
                  </a:lnTo>
                  <a:lnTo>
                    <a:pt x="348" y="1"/>
                  </a:lnTo>
                  <a:lnTo>
                    <a:pt x="359" y="5"/>
                  </a:lnTo>
                  <a:lnTo>
                    <a:pt x="368" y="9"/>
                  </a:lnTo>
                  <a:lnTo>
                    <a:pt x="377" y="15"/>
                  </a:lnTo>
                  <a:lnTo>
                    <a:pt x="387" y="22"/>
                  </a:lnTo>
                  <a:lnTo>
                    <a:pt x="395" y="31"/>
                  </a:lnTo>
                  <a:lnTo>
                    <a:pt x="412" y="50"/>
                  </a:lnTo>
                  <a:lnTo>
                    <a:pt x="429" y="71"/>
                  </a:lnTo>
                  <a:lnTo>
                    <a:pt x="445" y="95"/>
                  </a:lnTo>
                  <a:lnTo>
                    <a:pt x="462" y="116"/>
                  </a:lnTo>
                  <a:lnTo>
                    <a:pt x="470" y="126"/>
                  </a:lnTo>
                  <a:lnTo>
                    <a:pt x="479" y="137"/>
                  </a:lnTo>
                  <a:lnTo>
                    <a:pt x="487" y="146"/>
                  </a:lnTo>
                  <a:lnTo>
                    <a:pt x="497" y="154"/>
                  </a:lnTo>
                  <a:lnTo>
                    <a:pt x="506" y="161"/>
                  </a:lnTo>
                  <a:lnTo>
                    <a:pt x="515" y="167"/>
                  </a:lnTo>
                  <a:lnTo>
                    <a:pt x="526" y="172"/>
                  </a:lnTo>
                  <a:lnTo>
                    <a:pt x="536" y="174"/>
                  </a:lnTo>
                  <a:lnTo>
                    <a:pt x="547" y="175"/>
                  </a:lnTo>
                  <a:lnTo>
                    <a:pt x="559" y="175"/>
                  </a:lnTo>
                  <a:lnTo>
                    <a:pt x="570" y="172"/>
                  </a:lnTo>
                  <a:lnTo>
                    <a:pt x="583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16840" y="4369680"/>
              <a:ext cx="158760" cy="817560"/>
            </a:xfrm>
            <a:custGeom>
              <a:avLst/>
              <a:gdLst/>
              <a:ahLst/>
              <a:rect l="l" t="t" r="r" b="b"/>
              <a:pathLst>
                <a:path w="535" h="3093">
                  <a:moveTo>
                    <a:pt x="430" y="0"/>
                  </a:moveTo>
                  <a:lnTo>
                    <a:pt x="437" y="12"/>
                  </a:lnTo>
                  <a:lnTo>
                    <a:pt x="446" y="22"/>
                  </a:lnTo>
                  <a:lnTo>
                    <a:pt x="455" y="34"/>
                  </a:lnTo>
                  <a:lnTo>
                    <a:pt x="466" y="45"/>
                  </a:lnTo>
                  <a:lnTo>
                    <a:pt x="487" y="68"/>
                  </a:lnTo>
                  <a:lnTo>
                    <a:pt x="506" y="92"/>
                  </a:lnTo>
                  <a:lnTo>
                    <a:pt x="516" y="104"/>
                  </a:lnTo>
                  <a:lnTo>
                    <a:pt x="523" y="117"/>
                  </a:lnTo>
                  <a:lnTo>
                    <a:pt x="529" y="131"/>
                  </a:lnTo>
                  <a:lnTo>
                    <a:pt x="532" y="144"/>
                  </a:lnTo>
                  <a:lnTo>
                    <a:pt x="533" y="151"/>
                  </a:lnTo>
                  <a:lnTo>
                    <a:pt x="535" y="159"/>
                  </a:lnTo>
                  <a:lnTo>
                    <a:pt x="535" y="166"/>
                  </a:lnTo>
                  <a:lnTo>
                    <a:pt x="533" y="173"/>
                  </a:lnTo>
                  <a:lnTo>
                    <a:pt x="532" y="181"/>
                  </a:lnTo>
                  <a:lnTo>
                    <a:pt x="530" y="188"/>
                  </a:lnTo>
                  <a:lnTo>
                    <a:pt x="528" y="197"/>
                  </a:lnTo>
                  <a:lnTo>
                    <a:pt x="524" y="205"/>
                  </a:lnTo>
                  <a:lnTo>
                    <a:pt x="494" y="237"/>
                  </a:lnTo>
                  <a:lnTo>
                    <a:pt x="467" y="273"/>
                  </a:lnTo>
                  <a:lnTo>
                    <a:pt x="440" y="309"/>
                  </a:lnTo>
                  <a:lnTo>
                    <a:pt x="415" y="346"/>
                  </a:lnTo>
                  <a:lnTo>
                    <a:pt x="393" y="384"/>
                  </a:lnTo>
                  <a:lnTo>
                    <a:pt x="372" y="422"/>
                  </a:lnTo>
                  <a:lnTo>
                    <a:pt x="352" y="462"/>
                  </a:lnTo>
                  <a:lnTo>
                    <a:pt x="335" y="503"/>
                  </a:lnTo>
                  <a:lnTo>
                    <a:pt x="318" y="544"/>
                  </a:lnTo>
                  <a:lnTo>
                    <a:pt x="303" y="586"/>
                  </a:lnTo>
                  <a:lnTo>
                    <a:pt x="289" y="629"/>
                  </a:lnTo>
                  <a:lnTo>
                    <a:pt x="276" y="673"/>
                  </a:lnTo>
                  <a:lnTo>
                    <a:pt x="264" y="716"/>
                  </a:lnTo>
                  <a:lnTo>
                    <a:pt x="254" y="760"/>
                  </a:lnTo>
                  <a:lnTo>
                    <a:pt x="246" y="805"/>
                  </a:lnTo>
                  <a:lnTo>
                    <a:pt x="237" y="849"/>
                  </a:lnTo>
                  <a:lnTo>
                    <a:pt x="230" y="895"/>
                  </a:lnTo>
                  <a:lnTo>
                    <a:pt x="223" y="940"/>
                  </a:lnTo>
                  <a:lnTo>
                    <a:pt x="219" y="986"/>
                  </a:lnTo>
                  <a:lnTo>
                    <a:pt x="214" y="1032"/>
                  </a:lnTo>
                  <a:lnTo>
                    <a:pt x="211" y="1077"/>
                  </a:lnTo>
                  <a:lnTo>
                    <a:pt x="208" y="1123"/>
                  </a:lnTo>
                  <a:lnTo>
                    <a:pt x="207" y="1167"/>
                  </a:lnTo>
                  <a:lnTo>
                    <a:pt x="205" y="1213"/>
                  </a:lnTo>
                  <a:lnTo>
                    <a:pt x="205" y="1303"/>
                  </a:lnTo>
                  <a:lnTo>
                    <a:pt x="206" y="1392"/>
                  </a:lnTo>
                  <a:lnTo>
                    <a:pt x="208" y="1478"/>
                  </a:lnTo>
                  <a:lnTo>
                    <a:pt x="213" y="1563"/>
                  </a:lnTo>
                  <a:lnTo>
                    <a:pt x="222" y="1598"/>
                  </a:lnTo>
                  <a:lnTo>
                    <a:pt x="233" y="1635"/>
                  </a:lnTo>
                  <a:lnTo>
                    <a:pt x="241" y="1673"/>
                  </a:lnTo>
                  <a:lnTo>
                    <a:pt x="249" y="1711"/>
                  </a:lnTo>
                  <a:lnTo>
                    <a:pt x="257" y="1750"/>
                  </a:lnTo>
                  <a:lnTo>
                    <a:pt x="263" y="1790"/>
                  </a:lnTo>
                  <a:lnTo>
                    <a:pt x="269" y="1831"/>
                  </a:lnTo>
                  <a:lnTo>
                    <a:pt x="275" y="1871"/>
                  </a:lnTo>
                  <a:lnTo>
                    <a:pt x="280" y="1912"/>
                  </a:lnTo>
                  <a:lnTo>
                    <a:pt x="283" y="1955"/>
                  </a:lnTo>
                  <a:lnTo>
                    <a:pt x="285" y="1997"/>
                  </a:lnTo>
                  <a:lnTo>
                    <a:pt x="288" y="2040"/>
                  </a:lnTo>
                  <a:lnTo>
                    <a:pt x="290" y="2082"/>
                  </a:lnTo>
                  <a:lnTo>
                    <a:pt x="291" y="2125"/>
                  </a:lnTo>
                  <a:lnTo>
                    <a:pt x="291" y="2169"/>
                  </a:lnTo>
                  <a:lnTo>
                    <a:pt x="290" y="2212"/>
                  </a:lnTo>
                  <a:lnTo>
                    <a:pt x="289" y="2256"/>
                  </a:lnTo>
                  <a:lnTo>
                    <a:pt x="287" y="2300"/>
                  </a:lnTo>
                  <a:lnTo>
                    <a:pt x="284" y="2343"/>
                  </a:lnTo>
                  <a:lnTo>
                    <a:pt x="281" y="2386"/>
                  </a:lnTo>
                  <a:lnTo>
                    <a:pt x="276" y="2429"/>
                  </a:lnTo>
                  <a:lnTo>
                    <a:pt x="271" y="2473"/>
                  </a:lnTo>
                  <a:lnTo>
                    <a:pt x="266" y="2515"/>
                  </a:lnTo>
                  <a:lnTo>
                    <a:pt x="260" y="2557"/>
                  </a:lnTo>
                  <a:lnTo>
                    <a:pt x="252" y="2599"/>
                  </a:lnTo>
                  <a:lnTo>
                    <a:pt x="245" y="2640"/>
                  </a:lnTo>
                  <a:lnTo>
                    <a:pt x="235" y="2681"/>
                  </a:lnTo>
                  <a:lnTo>
                    <a:pt x="226" y="2722"/>
                  </a:lnTo>
                  <a:lnTo>
                    <a:pt x="216" y="2760"/>
                  </a:lnTo>
                  <a:lnTo>
                    <a:pt x="205" y="2800"/>
                  </a:lnTo>
                  <a:lnTo>
                    <a:pt x="194" y="2838"/>
                  </a:lnTo>
                  <a:lnTo>
                    <a:pt x="181" y="2875"/>
                  </a:lnTo>
                  <a:lnTo>
                    <a:pt x="178" y="2884"/>
                  </a:lnTo>
                  <a:lnTo>
                    <a:pt x="176" y="2893"/>
                  </a:lnTo>
                  <a:lnTo>
                    <a:pt x="173" y="2902"/>
                  </a:lnTo>
                  <a:lnTo>
                    <a:pt x="173" y="2910"/>
                  </a:lnTo>
                  <a:lnTo>
                    <a:pt x="173" y="2919"/>
                  </a:lnTo>
                  <a:lnTo>
                    <a:pt x="173" y="2929"/>
                  </a:lnTo>
                  <a:lnTo>
                    <a:pt x="176" y="2938"/>
                  </a:lnTo>
                  <a:lnTo>
                    <a:pt x="177" y="2948"/>
                  </a:lnTo>
                  <a:lnTo>
                    <a:pt x="188" y="2984"/>
                  </a:lnTo>
                  <a:lnTo>
                    <a:pt x="200" y="3018"/>
                  </a:lnTo>
                  <a:lnTo>
                    <a:pt x="205" y="3034"/>
                  </a:lnTo>
                  <a:lnTo>
                    <a:pt x="208" y="3048"/>
                  </a:lnTo>
                  <a:lnTo>
                    <a:pt x="208" y="3054"/>
                  </a:lnTo>
                  <a:lnTo>
                    <a:pt x="208" y="3061"/>
                  </a:lnTo>
                  <a:lnTo>
                    <a:pt x="207" y="3067"/>
                  </a:lnTo>
                  <a:lnTo>
                    <a:pt x="206" y="3072"/>
                  </a:lnTo>
                  <a:lnTo>
                    <a:pt x="202" y="3076"/>
                  </a:lnTo>
                  <a:lnTo>
                    <a:pt x="199" y="3081"/>
                  </a:lnTo>
                  <a:lnTo>
                    <a:pt x="193" y="3084"/>
                  </a:lnTo>
                  <a:lnTo>
                    <a:pt x="187" y="3088"/>
                  </a:lnTo>
                  <a:lnTo>
                    <a:pt x="179" y="3090"/>
                  </a:lnTo>
                  <a:lnTo>
                    <a:pt x="170" y="3091"/>
                  </a:lnTo>
                  <a:lnTo>
                    <a:pt x="159" y="3093"/>
                  </a:lnTo>
                  <a:lnTo>
                    <a:pt x="147" y="3093"/>
                  </a:lnTo>
                  <a:lnTo>
                    <a:pt x="135" y="3068"/>
                  </a:lnTo>
                  <a:lnTo>
                    <a:pt x="124" y="3042"/>
                  </a:lnTo>
                  <a:lnTo>
                    <a:pt x="114" y="3017"/>
                  </a:lnTo>
                  <a:lnTo>
                    <a:pt x="105" y="2990"/>
                  </a:lnTo>
                  <a:lnTo>
                    <a:pt x="97" y="2963"/>
                  </a:lnTo>
                  <a:lnTo>
                    <a:pt x="91" y="2936"/>
                  </a:lnTo>
                  <a:lnTo>
                    <a:pt x="85" y="2908"/>
                  </a:lnTo>
                  <a:lnTo>
                    <a:pt x="81" y="2881"/>
                  </a:lnTo>
                  <a:lnTo>
                    <a:pt x="77" y="2853"/>
                  </a:lnTo>
                  <a:lnTo>
                    <a:pt x="74" y="2824"/>
                  </a:lnTo>
                  <a:lnTo>
                    <a:pt x="71" y="2795"/>
                  </a:lnTo>
                  <a:lnTo>
                    <a:pt x="70" y="2766"/>
                  </a:lnTo>
                  <a:lnTo>
                    <a:pt x="69" y="2708"/>
                  </a:lnTo>
                  <a:lnTo>
                    <a:pt x="71" y="2649"/>
                  </a:lnTo>
                  <a:lnTo>
                    <a:pt x="74" y="2590"/>
                  </a:lnTo>
                  <a:lnTo>
                    <a:pt x="78" y="2530"/>
                  </a:lnTo>
                  <a:lnTo>
                    <a:pt x="83" y="2470"/>
                  </a:lnTo>
                  <a:lnTo>
                    <a:pt x="89" y="2409"/>
                  </a:lnTo>
                  <a:lnTo>
                    <a:pt x="95" y="2350"/>
                  </a:lnTo>
                  <a:lnTo>
                    <a:pt x="101" y="2291"/>
                  </a:lnTo>
                  <a:lnTo>
                    <a:pt x="105" y="2232"/>
                  </a:lnTo>
                  <a:lnTo>
                    <a:pt x="109" y="2174"/>
                  </a:lnTo>
                  <a:lnTo>
                    <a:pt x="89" y="2053"/>
                  </a:lnTo>
                  <a:lnTo>
                    <a:pt x="69" y="1932"/>
                  </a:lnTo>
                  <a:lnTo>
                    <a:pt x="53" y="1812"/>
                  </a:lnTo>
                  <a:lnTo>
                    <a:pt x="36" y="1690"/>
                  </a:lnTo>
                  <a:lnTo>
                    <a:pt x="29" y="1631"/>
                  </a:lnTo>
                  <a:lnTo>
                    <a:pt x="23" y="1571"/>
                  </a:lnTo>
                  <a:lnTo>
                    <a:pt x="18" y="1510"/>
                  </a:lnTo>
                  <a:lnTo>
                    <a:pt x="13" y="1450"/>
                  </a:lnTo>
                  <a:lnTo>
                    <a:pt x="9" y="1391"/>
                  </a:lnTo>
                  <a:lnTo>
                    <a:pt x="6" y="1330"/>
                  </a:lnTo>
                  <a:lnTo>
                    <a:pt x="2" y="1270"/>
                  </a:lnTo>
                  <a:lnTo>
                    <a:pt x="1" y="1211"/>
                  </a:lnTo>
                  <a:lnTo>
                    <a:pt x="0" y="1151"/>
                  </a:lnTo>
                  <a:lnTo>
                    <a:pt x="1" y="1091"/>
                  </a:lnTo>
                  <a:lnTo>
                    <a:pt x="2" y="1032"/>
                  </a:lnTo>
                  <a:lnTo>
                    <a:pt x="5" y="972"/>
                  </a:lnTo>
                  <a:lnTo>
                    <a:pt x="7" y="912"/>
                  </a:lnTo>
                  <a:lnTo>
                    <a:pt x="12" y="854"/>
                  </a:lnTo>
                  <a:lnTo>
                    <a:pt x="18" y="794"/>
                  </a:lnTo>
                  <a:lnTo>
                    <a:pt x="25" y="735"/>
                  </a:lnTo>
                  <a:lnTo>
                    <a:pt x="33" y="675"/>
                  </a:lnTo>
                  <a:lnTo>
                    <a:pt x="42" y="616"/>
                  </a:lnTo>
                  <a:lnTo>
                    <a:pt x="54" y="557"/>
                  </a:lnTo>
                  <a:lnTo>
                    <a:pt x="66" y="498"/>
                  </a:lnTo>
                  <a:lnTo>
                    <a:pt x="80" y="440"/>
                  </a:lnTo>
                  <a:lnTo>
                    <a:pt x="95" y="380"/>
                  </a:lnTo>
                  <a:lnTo>
                    <a:pt x="111" y="322"/>
                  </a:lnTo>
                  <a:lnTo>
                    <a:pt x="130" y="263"/>
                  </a:lnTo>
                  <a:lnTo>
                    <a:pt x="128" y="257"/>
                  </a:lnTo>
                  <a:lnTo>
                    <a:pt x="126" y="252"/>
                  </a:lnTo>
                  <a:lnTo>
                    <a:pt x="126" y="245"/>
                  </a:lnTo>
                  <a:lnTo>
                    <a:pt x="126" y="237"/>
                  </a:lnTo>
                  <a:lnTo>
                    <a:pt x="128" y="232"/>
                  </a:lnTo>
                  <a:lnTo>
                    <a:pt x="130" y="225"/>
                  </a:lnTo>
                  <a:lnTo>
                    <a:pt x="132" y="218"/>
                  </a:lnTo>
                  <a:lnTo>
                    <a:pt x="136" y="212"/>
                  </a:lnTo>
                  <a:lnTo>
                    <a:pt x="143" y="199"/>
                  </a:lnTo>
                  <a:lnTo>
                    <a:pt x="152" y="187"/>
                  </a:lnTo>
                  <a:lnTo>
                    <a:pt x="163" y="178"/>
                  </a:lnTo>
                  <a:lnTo>
                    <a:pt x="174" y="170"/>
                  </a:lnTo>
                  <a:lnTo>
                    <a:pt x="184" y="177"/>
                  </a:lnTo>
                  <a:lnTo>
                    <a:pt x="193" y="183"/>
                  </a:lnTo>
                  <a:lnTo>
                    <a:pt x="204" y="187"/>
                  </a:lnTo>
                  <a:lnTo>
                    <a:pt x="214" y="191"/>
                  </a:lnTo>
                  <a:lnTo>
                    <a:pt x="223" y="194"/>
                  </a:lnTo>
                  <a:lnTo>
                    <a:pt x="234" y="197"/>
                  </a:lnTo>
                  <a:lnTo>
                    <a:pt x="246" y="198"/>
                  </a:lnTo>
                  <a:lnTo>
                    <a:pt x="256" y="199"/>
                  </a:lnTo>
                  <a:lnTo>
                    <a:pt x="267" y="198"/>
                  </a:lnTo>
                  <a:lnTo>
                    <a:pt x="277" y="197"/>
                  </a:lnTo>
                  <a:lnTo>
                    <a:pt x="289" y="194"/>
                  </a:lnTo>
                  <a:lnTo>
                    <a:pt x="299" y="191"/>
                  </a:lnTo>
                  <a:lnTo>
                    <a:pt x="310" y="187"/>
                  </a:lnTo>
                  <a:lnTo>
                    <a:pt x="321" y="183"/>
                  </a:lnTo>
                  <a:lnTo>
                    <a:pt x="330" y="177"/>
                  </a:lnTo>
                  <a:lnTo>
                    <a:pt x="340" y="170"/>
                  </a:lnTo>
                  <a:lnTo>
                    <a:pt x="406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84880" y="4452120"/>
              <a:ext cx="132120" cy="708120"/>
            </a:xfrm>
            <a:custGeom>
              <a:avLst/>
              <a:gdLst/>
              <a:ahLst/>
              <a:rect l="l" t="t" r="r" b="b"/>
              <a:pathLst>
                <a:path w="446" h="2675">
                  <a:moveTo>
                    <a:pt x="405" y="121"/>
                  </a:moveTo>
                  <a:lnTo>
                    <a:pt x="414" y="142"/>
                  </a:lnTo>
                  <a:lnTo>
                    <a:pt x="424" y="165"/>
                  </a:lnTo>
                  <a:lnTo>
                    <a:pt x="431" y="187"/>
                  </a:lnTo>
                  <a:lnTo>
                    <a:pt x="435" y="209"/>
                  </a:lnTo>
                  <a:lnTo>
                    <a:pt x="440" y="230"/>
                  </a:lnTo>
                  <a:lnTo>
                    <a:pt x="444" y="252"/>
                  </a:lnTo>
                  <a:lnTo>
                    <a:pt x="445" y="275"/>
                  </a:lnTo>
                  <a:lnTo>
                    <a:pt x="446" y="296"/>
                  </a:lnTo>
                  <a:lnTo>
                    <a:pt x="446" y="318"/>
                  </a:lnTo>
                  <a:lnTo>
                    <a:pt x="445" y="340"/>
                  </a:lnTo>
                  <a:lnTo>
                    <a:pt x="444" y="361"/>
                  </a:lnTo>
                  <a:lnTo>
                    <a:pt x="440" y="383"/>
                  </a:lnTo>
                  <a:lnTo>
                    <a:pt x="433" y="427"/>
                  </a:lnTo>
                  <a:lnTo>
                    <a:pt x="425" y="470"/>
                  </a:lnTo>
                  <a:lnTo>
                    <a:pt x="403" y="558"/>
                  </a:lnTo>
                  <a:lnTo>
                    <a:pt x="380" y="645"/>
                  </a:lnTo>
                  <a:lnTo>
                    <a:pt x="370" y="690"/>
                  </a:lnTo>
                  <a:lnTo>
                    <a:pt x="362" y="733"/>
                  </a:lnTo>
                  <a:lnTo>
                    <a:pt x="359" y="755"/>
                  </a:lnTo>
                  <a:lnTo>
                    <a:pt x="356" y="777"/>
                  </a:lnTo>
                  <a:lnTo>
                    <a:pt x="355" y="800"/>
                  </a:lnTo>
                  <a:lnTo>
                    <a:pt x="353" y="822"/>
                  </a:lnTo>
                  <a:lnTo>
                    <a:pt x="357" y="918"/>
                  </a:lnTo>
                  <a:lnTo>
                    <a:pt x="360" y="1011"/>
                  </a:lnTo>
                  <a:lnTo>
                    <a:pt x="364" y="1101"/>
                  </a:lnTo>
                  <a:lnTo>
                    <a:pt x="368" y="1190"/>
                  </a:lnTo>
                  <a:lnTo>
                    <a:pt x="370" y="1277"/>
                  </a:lnTo>
                  <a:lnTo>
                    <a:pt x="371" y="1361"/>
                  </a:lnTo>
                  <a:lnTo>
                    <a:pt x="371" y="1403"/>
                  </a:lnTo>
                  <a:lnTo>
                    <a:pt x="370" y="1444"/>
                  </a:lnTo>
                  <a:lnTo>
                    <a:pt x="369" y="1485"/>
                  </a:lnTo>
                  <a:lnTo>
                    <a:pt x="366" y="1526"/>
                  </a:lnTo>
                  <a:lnTo>
                    <a:pt x="364" y="1566"/>
                  </a:lnTo>
                  <a:lnTo>
                    <a:pt x="360" y="1606"/>
                  </a:lnTo>
                  <a:lnTo>
                    <a:pt x="356" y="1645"/>
                  </a:lnTo>
                  <a:lnTo>
                    <a:pt x="351" y="1684"/>
                  </a:lnTo>
                  <a:lnTo>
                    <a:pt x="345" y="1724"/>
                  </a:lnTo>
                  <a:lnTo>
                    <a:pt x="338" y="1762"/>
                  </a:lnTo>
                  <a:lnTo>
                    <a:pt x="330" y="1801"/>
                  </a:lnTo>
                  <a:lnTo>
                    <a:pt x="321" y="1840"/>
                  </a:lnTo>
                  <a:lnTo>
                    <a:pt x="310" y="1878"/>
                  </a:lnTo>
                  <a:lnTo>
                    <a:pt x="299" y="1917"/>
                  </a:lnTo>
                  <a:lnTo>
                    <a:pt x="286" y="1955"/>
                  </a:lnTo>
                  <a:lnTo>
                    <a:pt x="272" y="1993"/>
                  </a:lnTo>
                  <a:lnTo>
                    <a:pt x="256" y="2031"/>
                  </a:lnTo>
                  <a:lnTo>
                    <a:pt x="240" y="2070"/>
                  </a:lnTo>
                  <a:lnTo>
                    <a:pt x="221" y="2107"/>
                  </a:lnTo>
                  <a:lnTo>
                    <a:pt x="201" y="2146"/>
                  </a:lnTo>
                  <a:lnTo>
                    <a:pt x="182" y="2204"/>
                  </a:lnTo>
                  <a:lnTo>
                    <a:pt x="161" y="2266"/>
                  </a:lnTo>
                  <a:lnTo>
                    <a:pt x="139" y="2332"/>
                  </a:lnTo>
                  <a:lnTo>
                    <a:pt x="118" y="2400"/>
                  </a:lnTo>
                  <a:lnTo>
                    <a:pt x="97" y="2469"/>
                  </a:lnTo>
                  <a:lnTo>
                    <a:pt x="77" y="2538"/>
                  </a:lnTo>
                  <a:lnTo>
                    <a:pt x="58" y="2607"/>
                  </a:lnTo>
                  <a:lnTo>
                    <a:pt x="39" y="2675"/>
                  </a:lnTo>
                  <a:lnTo>
                    <a:pt x="0" y="2675"/>
                  </a:lnTo>
                  <a:lnTo>
                    <a:pt x="3" y="2636"/>
                  </a:lnTo>
                  <a:lnTo>
                    <a:pt x="5" y="2599"/>
                  </a:lnTo>
                  <a:lnTo>
                    <a:pt x="10" y="2561"/>
                  </a:lnTo>
                  <a:lnTo>
                    <a:pt x="16" y="2524"/>
                  </a:lnTo>
                  <a:lnTo>
                    <a:pt x="21" y="2487"/>
                  </a:lnTo>
                  <a:lnTo>
                    <a:pt x="30" y="2450"/>
                  </a:lnTo>
                  <a:lnTo>
                    <a:pt x="38" y="2414"/>
                  </a:lnTo>
                  <a:lnTo>
                    <a:pt x="47" y="2378"/>
                  </a:lnTo>
                  <a:lnTo>
                    <a:pt x="67" y="2305"/>
                  </a:lnTo>
                  <a:lnTo>
                    <a:pt x="88" y="2234"/>
                  </a:lnTo>
                  <a:lnTo>
                    <a:pt x="111" y="2162"/>
                  </a:lnTo>
                  <a:lnTo>
                    <a:pt x="135" y="2091"/>
                  </a:lnTo>
                  <a:lnTo>
                    <a:pt x="157" y="2020"/>
                  </a:lnTo>
                  <a:lnTo>
                    <a:pt x="178" y="1947"/>
                  </a:lnTo>
                  <a:lnTo>
                    <a:pt x="189" y="1912"/>
                  </a:lnTo>
                  <a:lnTo>
                    <a:pt x="198" y="1876"/>
                  </a:lnTo>
                  <a:lnTo>
                    <a:pt x="206" y="1838"/>
                  </a:lnTo>
                  <a:lnTo>
                    <a:pt x="213" y="1802"/>
                  </a:lnTo>
                  <a:lnTo>
                    <a:pt x="220" y="1766"/>
                  </a:lnTo>
                  <a:lnTo>
                    <a:pt x="226" y="1728"/>
                  </a:lnTo>
                  <a:lnTo>
                    <a:pt x="231" y="1691"/>
                  </a:lnTo>
                  <a:lnTo>
                    <a:pt x="234" y="1654"/>
                  </a:lnTo>
                  <a:lnTo>
                    <a:pt x="235" y="1615"/>
                  </a:lnTo>
                  <a:lnTo>
                    <a:pt x="237" y="1578"/>
                  </a:lnTo>
                  <a:lnTo>
                    <a:pt x="235" y="1539"/>
                  </a:lnTo>
                  <a:lnTo>
                    <a:pt x="232" y="1499"/>
                  </a:lnTo>
                  <a:lnTo>
                    <a:pt x="232" y="1454"/>
                  </a:lnTo>
                  <a:lnTo>
                    <a:pt x="231" y="1406"/>
                  </a:lnTo>
                  <a:lnTo>
                    <a:pt x="227" y="1359"/>
                  </a:lnTo>
                  <a:lnTo>
                    <a:pt x="223" y="1311"/>
                  </a:lnTo>
                  <a:lnTo>
                    <a:pt x="215" y="1262"/>
                  </a:lnTo>
                  <a:lnTo>
                    <a:pt x="208" y="1214"/>
                  </a:lnTo>
                  <a:lnTo>
                    <a:pt x="200" y="1165"/>
                  </a:lnTo>
                  <a:lnTo>
                    <a:pt x="192" y="1116"/>
                  </a:lnTo>
                  <a:lnTo>
                    <a:pt x="173" y="1016"/>
                  </a:lnTo>
                  <a:lnTo>
                    <a:pt x="155" y="918"/>
                  </a:lnTo>
                  <a:lnTo>
                    <a:pt x="146" y="868"/>
                  </a:lnTo>
                  <a:lnTo>
                    <a:pt x="138" y="818"/>
                  </a:lnTo>
                  <a:lnTo>
                    <a:pt x="130" y="769"/>
                  </a:lnTo>
                  <a:lnTo>
                    <a:pt x="123" y="720"/>
                  </a:lnTo>
                  <a:lnTo>
                    <a:pt x="118" y="671"/>
                  </a:lnTo>
                  <a:lnTo>
                    <a:pt x="114" y="623"/>
                  </a:lnTo>
                  <a:lnTo>
                    <a:pt x="111" y="574"/>
                  </a:lnTo>
                  <a:lnTo>
                    <a:pt x="110" y="526"/>
                  </a:lnTo>
                  <a:lnTo>
                    <a:pt x="111" y="479"/>
                  </a:lnTo>
                  <a:lnTo>
                    <a:pt x="114" y="432"/>
                  </a:lnTo>
                  <a:lnTo>
                    <a:pt x="120" y="386"/>
                  </a:lnTo>
                  <a:lnTo>
                    <a:pt x="128" y="340"/>
                  </a:lnTo>
                  <a:lnTo>
                    <a:pt x="138" y="294"/>
                  </a:lnTo>
                  <a:lnTo>
                    <a:pt x="151" y="250"/>
                  </a:lnTo>
                  <a:lnTo>
                    <a:pt x="168" y="207"/>
                  </a:lnTo>
                  <a:lnTo>
                    <a:pt x="189" y="163"/>
                  </a:lnTo>
                  <a:lnTo>
                    <a:pt x="212" y="121"/>
                  </a:lnTo>
                  <a:lnTo>
                    <a:pt x="239" y="79"/>
                  </a:lnTo>
                  <a:lnTo>
                    <a:pt x="269" y="39"/>
                  </a:lnTo>
                  <a:lnTo>
                    <a:pt x="304" y="0"/>
                  </a:lnTo>
                  <a:lnTo>
                    <a:pt x="314" y="3"/>
                  </a:lnTo>
                  <a:lnTo>
                    <a:pt x="323" y="8"/>
                  </a:lnTo>
                  <a:lnTo>
                    <a:pt x="331" y="13"/>
                  </a:lnTo>
                  <a:lnTo>
                    <a:pt x="341" y="20"/>
                  </a:lnTo>
                  <a:lnTo>
                    <a:pt x="349" y="27"/>
                  </a:lnTo>
                  <a:lnTo>
                    <a:pt x="357" y="35"/>
                  </a:lnTo>
                  <a:lnTo>
                    <a:pt x="364" y="43"/>
                  </a:lnTo>
                  <a:lnTo>
                    <a:pt x="372" y="51"/>
                  </a:lnTo>
                  <a:lnTo>
                    <a:pt x="385" y="70"/>
                  </a:lnTo>
                  <a:lnTo>
                    <a:pt x="394" y="87"/>
                  </a:lnTo>
                  <a:lnTo>
                    <a:pt x="399" y="97"/>
                  </a:lnTo>
                  <a:lnTo>
                    <a:pt x="401" y="105"/>
                  </a:lnTo>
                  <a:lnTo>
                    <a:pt x="404" y="113"/>
                  </a:lnTo>
                  <a:lnTo>
                    <a:pt x="405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4960" y="4633200"/>
              <a:ext cx="6840" cy="60120"/>
            </a:xfrm>
            <a:custGeom>
              <a:avLst/>
              <a:gdLst/>
              <a:ahLst/>
              <a:rect l="l" t="t" r="r" b="b"/>
              <a:pathLst>
                <a:path w="21" h="224">
                  <a:moveTo>
                    <a:pt x="21" y="224"/>
                  </a:moveTo>
                  <a:lnTo>
                    <a:pt x="0" y="0"/>
                  </a:lnTo>
                  <a:lnTo>
                    <a:pt x="21" y="86"/>
                  </a:lnTo>
                  <a:lnTo>
                    <a:pt x="21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200" y="4698360"/>
              <a:ext cx="9000" cy="82440"/>
            </a:xfrm>
            <a:custGeom>
              <a:avLst/>
              <a:gdLst/>
              <a:ahLst/>
              <a:rect l="l" t="t" r="r" b="b"/>
              <a:pathLst>
                <a:path w="26" h="315">
                  <a:moveTo>
                    <a:pt x="26" y="315"/>
                  </a:moveTo>
                  <a:lnTo>
                    <a:pt x="19" y="305"/>
                  </a:lnTo>
                  <a:lnTo>
                    <a:pt x="13" y="294"/>
                  </a:lnTo>
                  <a:lnTo>
                    <a:pt x="8" y="282"/>
                  </a:lnTo>
                  <a:lnTo>
                    <a:pt x="5" y="269"/>
                  </a:lnTo>
                  <a:lnTo>
                    <a:pt x="2" y="256"/>
                  </a:lnTo>
                  <a:lnTo>
                    <a:pt x="1" y="242"/>
                  </a:lnTo>
                  <a:lnTo>
                    <a:pt x="0" y="227"/>
                  </a:lnTo>
                  <a:lnTo>
                    <a:pt x="0" y="213"/>
                  </a:lnTo>
                  <a:lnTo>
                    <a:pt x="1" y="182"/>
                  </a:lnTo>
                  <a:lnTo>
                    <a:pt x="2" y="153"/>
                  </a:lnTo>
                  <a:lnTo>
                    <a:pt x="4" y="125"/>
                  </a:lnTo>
                  <a:lnTo>
                    <a:pt x="2" y="101"/>
                  </a:lnTo>
                  <a:lnTo>
                    <a:pt x="9" y="0"/>
                  </a:lnTo>
                  <a:lnTo>
                    <a:pt x="26" y="3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5720" y="4717440"/>
              <a:ext cx="105480" cy="252360"/>
            </a:xfrm>
            <a:custGeom>
              <a:avLst/>
              <a:gdLst/>
              <a:ahLst/>
              <a:rect l="l" t="t" r="r" b="b"/>
              <a:pathLst>
                <a:path w="353" h="959">
                  <a:moveTo>
                    <a:pt x="175" y="21"/>
                  </a:moveTo>
                  <a:lnTo>
                    <a:pt x="169" y="40"/>
                  </a:lnTo>
                  <a:lnTo>
                    <a:pt x="164" y="59"/>
                  </a:lnTo>
                  <a:lnTo>
                    <a:pt x="158" y="79"/>
                  </a:lnTo>
                  <a:lnTo>
                    <a:pt x="153" y="99"/>
                  </a:lnTo>
                  <a:lnTo>
                    <a:pt x="149" y="119"/>
                  </a:lnTo>
                  <a:lnTo>
                    <a:pt x="146" y="138"/>
                  </a:lnTo>
                  <a:lnTo>
                    <a:pt x="144" y="157"/>
                  </a:lnTo>
                  <a:lnTo>
                    <a:pt x="141" y="177"/>
                  </a:lnTo>
                  <a:lnTo>
                    <a:pt x="140" y="196"/>
                  </a:lnTo>
                  <a:lnTo>
                    <a:pt x="139" y="216"/>
                  </a:lnTo>
                  <a:lnTo>
                    <a:pt x="139" y="235"/>
                  </a:lnTo>
                  <a:lnTo>
                    <a:pt x="139" y="255"/>
                  </a:lnTo>
                  <a:lnTo>
                    <a:pt x="140" y="273"/>
                  </a:lnTo>
                  <a:lnTo>
                    <a:pt x="142" y="292"/>
                  </a:lnTo>
                  <a:lnTo>
                    <a:pt x="145" y="311"/>
                  </a:lnTo>
                  <a:lnTo>
                    <a:pt x="148" y="331"/>
                  </a:lnTo>
                  <a:lnTo>
                    <a:pt x="152" y="349"/>
                  </a:lnTo>
                  <a:lnTo>
                    <a:pt x="156" y="368"/>
                  </a:lnTo>
                  <a:lnTo>
                    <a:pt x="161" y="387"/>
                  </a:lnTo>
                  <a:lnTo>
                    <a:pt x="167" y="405"/>
                  </a:lnTo>
                  <a:lnTo>
                    <a:pt x="173" y="423"/>
                  </a:lnTo>
                  <a:lnTo>
                    <a:pt x="180" y="442"/>
                  </a:lnTo>
                  <a:lnTo>
                    <a:pt x="188" y="460"/>
                  </a:lnTo>
                  <a:lnTo>
                    <a:pt x="196" y="479"/>
                  </a:lnTo>
                  <a:lnTo>
                    <a:pt x="204" y="497"/>
                  </a:lnTo>
                  <a:lnTo>
                    <a:pt x="215" y="515"/>
                  </a:lnTo>
                  <a:lnTo>
                    <a:pt x="224" y="533"/>
                  </a:lnTo>
                  <a:lnTo>
                    <a:pt x="236" y="550"/>
                  </a:lnTo>
                  <a:lnTo>
                    <a:pt x="248" y="569"/>
                  </a:lnTo>
                  <a:lnTo>
                    <a:pt x="259" y="587"/>
                  </a:lnTo>
                  <a:lnTo>
                    <a:pt x="272" y="604"/>
                  </a:lnTo>
                  <a:lnTo>
                    <a:pt x="286" y="622"/>
                  </a:lnTo>
                  <a:lnTo>
                    <a:pt x="299" y="659"/>
                  </a:lnTo>
                  <a:lnTo>
                    <a:pt x="313" y="697"/>
                  </a:lnTo>
                  <a:lnTo>
                    <a:pt x="327" y="734"/>
                  </a:lnTo>
                  <a:lnTo>
                    <a:pt x="340" y="773"/>
                  </a:lnTo>
                  <a:lnTo>
                    <a:pt x="345" y="793"/>
                  </a:lnTo>
                  <a:lnTo>
                    <a:pt x="348" y="812"/>
                  </a:lnTo>
                  <a:lnTo>
                    <a:pt x="352" y="833"/>
                  </a:lnTo>
                  <a:lnTo>
                    <a:pt x="353" y="855"/>
                  </a:lnTo>
                  <a:lnTo>
                    <a:pt x="353" y="877"/>
                  </a:lnTo>
                  <a:lnTo>
                    <a:pt x="352" y="899"/>
                  </a:lnTo>
                  <a:lnTo>
                    <a:pt x="347" y="922"/>
                  </a:lnTo>
                  <a:lnTo>
                    <a:pt x="341" y="946"/>
                  </a:lnTo>
                  <a:lnTo>
                    <a:pt x="333" y="950"/>
                  </a:lnTo>
                  <a:lnTo>
                    <a:pt x="326" y="954"/>
                  </a:lnTo>
                  <a:lnTo>
                    <a:pt x="318" y="956"/>
                  </a:lnTo>
                  <a:lnTo>
                    <a:pt x="310" y="957"/>
                  </a:lnTo>
                  <a:lnTo>
                    <a:pt x="301" y="959"/>
                  </a:lnTo>
                  <a:lnTo>
                    <a:pt x="293" y="959"/>
                  </a:lnTo>
                  <a:lnTo>
                    <a:pt x="284" y="959"/>
                  </a:lnTo>
                  <a:lnTo>
                    <a:pt x="276" y="957"/>
                  </a:lnTo>
                  <a:lnTo>
                    <a:pt x="259" y="954"/>
                  </a:lnTo>
                  <a:lnTo>
                    <a:pt x="244" y="948"/>
                  </a:lnTo>
                  <a:lnTo>
                    <a:pt x="228" y="941"/>
                  </a:lnTo>
                  <a:lnTo>
                    <a:pt x="214" y="933"/>
                  </a:lnTo>
                  <a:lnTo>
                    <a:pt x="180" y="863"/>
                  </a:lnTo>
                  <a:lnTo>
                    <a:pt x="144" y="794"/>
                  </a:lnTo>
                  <a:lnTo>
                    <a:pt x="109" y="724"/>
                  </a:lnTo>
                  <a:lnTo>
                    <a:pt x="76" y="652"/>
                  </a:lnTo>
                  <a:lnTo>
                    <a:pt x="61" y="617"/>
                  </a:lnTo>
                  <a:lnTo>
                    <a:pt x="45" y="581"/>
                  </a:lnTo>
                  <a:lnTo>
                    <a:pt x="34" y="543"/>
                  </a:lnTo>
                  <a:lnTo>
                    <a:pt x="22" y="507"/>
                  </a:lnTo>
                  <a:lnTo>
                    <a:pt x="13" y="470"/>
                  </a:lnTo>
                  <a:lnTo>
                    <a:pt x="6" y="431"/>
                  </a:lnTo>
                  <a:lnTo>
                    <a:pt x="3" y="411"/>
                  </a:lnTo>
                  <a:lnTo>
                    <a:pt x="1" y="391"/>
                  </a:lnTo>
                  <a:lnTo>
                    <a:pt x="0" y="371"/>
                  </a:lnTo>
                  <a:lnTo>
                    <a:pt x="0" y="352"/>
                  </a:lnTo>
                  <a:lnTo>
                    <a:pt x="0" y="327"/>
                  </a:lnTo>
                  <a:lnTo>
                    <a:pt x="2" y="304"/>
                  </a:lnTo>
                  <a:lnTo>
                    <a:pt x="6" y="280"/>
                  </a:lnTo>
                  <a:lnTo>
                    <a:pt x="10" y="257"/>
                  </a:lnTo>
                  <a:lnTo>
                    <a:pt x="16" y="233"/>
                  </a:lnTo>
                  <a:lnTo>
                    <a:pt x="23" y="211"/>
                  </a:lnTo>
                  <a:lnTo>
                    <a:pt x="31" y="189"/>
                  </a:lnTo>
                  <a:lnTo>
                    <a:pt x="40" y="167"/>
                  </a:lnTo>
                  <a:lnTo>
                    <a:pt x="49" y="145"/>
                  </a:lnTo>
                  <a:lnTo>
                    <a:pt x="59" y="124"/>
                  </a:lnTo>
                  <a:lnTo>
                    <a:pt x="70" y="102"/>
                  </a:lnTo>
                  <a:lnTo>
                    <a:pt x="80" y="81"/>
                  </a:lnTo>
                  <a:lnTo>
                    <a:pt x="104" y="40"/>
                  </a:lnTo>
                  <a:lnTo>
                    <a:pt x="127" y="0"/>
                  </a:lnTo>
                  <a:lnTo>
                    <a:pt x="17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595160" y="4722120"/>
              <a:ext cx="68040" cy="131760"/>
            </a:xfrm>
            <a:custGeom>
              <a:avLst/>
              <a:gdLst/>
              <a:ahLst/>
              <a:rect l="l" t="t" r="r" b="b"/>
              <a:pathLst>
                <a:path w="232" h="497">
                  <a:moveTo>
                    <a:pt x="232" y="65"/>
                  </a:moveTo>
                  <a:lnTo>
                    <a:pt x="229" y="94"/>
                  </a:lnTo>
                  <a:lnTo>
                    <a:pt x="227" y="125"/>
                  </a:lnTo>
                  <a:lnTo>
                    <a:pt x="225" y="155"/>
                  </a:lnTo>
                  <a:lnTo>
                    <a:pt x="220" y="186"/>
                  </a:lnTo>
                  <a:lnTo>
                    <a:pt x="214" y="216"/>
                  </a:lnTo>
                  <a:lnTo>
                    <a:pt x="208" y="246"/>
                  </a:lnTo>
                  <a:lnTo>
                    <a:pt x="200" y="276"/>
                  </a:lnTo>
                  <a:lnTo>
                    <a:pt x="191" y="306"/>
                  </a:lnTo>
                  <a:lnTo>
                    <a:pt x="179" y="334"/>
                  </a:lnTo>
                  <a:lnTo>
                    <a:pt x="165" y="362"/>
                  </a:lnTo>
                  <a:lnTo>
                    <a:pt x="158" y="375"/>
                  </a:lnTo>
                  <a:lnTo>
                    <a:pt x="150" y="388"/>
                  </a:lnTo>
                  <a:lnTo>
                    <a:pt x="142" y="401"/>
                  </a:lnTo>
                  <a:lnTo>
                    <a:pt x="132" y="414"/>
                  </a:lnTo>
                  <a:lnTo>
                    <a:pt x="123" y="425"/>
                  </a:lnTo>
                  <a:lnTo>
                    <a:pt x="113" y="437"/>
                  </a:lnTo>
                  <a:lnTo>
                    <a:pt x="102" y="449"/>
                  </a:lnTo>
                  <a:lnTo>
                    <a:pt x="90" y="459"/>
                  </a:lnTo>
                  <a:lnTo>
                    <a:pt x="79" y="469"/>
                  </a:lnTo>
                  <a:lnTo>
                    <a:pt x="66" y="479"/>
                  </a:lnTo>
                  <a:lnTo>
                    <a:pt x="52" y="489"/>
                  </a:lnTo>
                  <a:lnTo>
                    <a:pt x="38" y="497"/>
                  </a:lnTo>
                  <a:lnTo>
                    <a:pt x="32" y="493"/>
                  </a:lnTo>
                  <a:lnTo>
                    <a:pt x="26" y="489"/>
                  </a:lnTo>
                  <a:lnTo>
                    <a:pt x="21" y="484"/>
                  </a:lnTo>
                  <a:lnTo>
                    <a:pt x="17" y="479"/>
                  </a:lnTo>
                  <a:lnTo>
                    <a:pt x="12" y="473"/>
                  </a:lnTo>
                  <a:lnTo>
                    <a:pt x="10" y="467"/>
                  </a:lnTo>
                  <a:lnTo>
                    <a:pt x="6" y="463"/>
                  </a:lnTo>
                  <a:lnTo>
                    <a:pt x="4" y="456"/>
                  </a:lnTo>
                  <a:lnTo>
                    <a:pt x="1" y="444"/>
                  </a:lnTo>
                  <a:lnTo>
                    <a:pt x="0" y="430"/>
                  </a:lnTo>
                  <a:lnTo>
                    <a:pt x="0" y="417"/>
                  </a:lnTo>
                  <a:lnTo>
                    <a:pt x="1" y="403"/>
                  </a:lnTo>
                  <a:lnTo>
                    <a:pt x="7" y="374"/>
                  </a:lnTo>
                  <a:lnTo>
                    <a:pt x="14" y="346"/>
                  </a:lnTo>
                  <a:lnTo>
                    <a:pt x="23" y="318"/>
                  </a:lnTo>
                  <a:lnTo>
                    <a:pt x="27" y="293"/>
                  </a:lnTo>
                  <a:lnTo>
                    <a:pt x="32" y="276"/>
                  </a:lnTo>
                  <a:lnTo>
                    <a:pt x="38" y="259"/>
                  </a:lnTo>
                  <a:lnTo>
                    <a:pt x="45" y="243"/>
                  </a:lnTo>
                  <a:lnTo>
                    <a:pt x="53" y="225"/>
                  </a:lnTo>
                  <a:lnTo>
                    <a:pt x="72" y="193"/>
                  </a:lnTo>
                  <a:lnTo>
                    <a:pt x="89" y="159"/>
                  </a:lnTo>
                  <a:lnTo>
                    <a:pt x="97" y="142"/>
                  </a:lnTo>
                  <a:lnTo>
                    <a:pt x="104" y="126"/>
                  </a:lnTo>
                  <a:lnTo>
                    <a:pt x="109" y="108"/>
                  </a:lnTo>
                  <a:lnTo>
                    <a:pt x="114" y="92"/>
                  </a:lnTo>
                  <a:lnTo>
                    <a:pt x="114" y="84"/>
                  </a:lnTo>
                  <a:lnTo>
                    <a:pt x="115" y="76"/>
                  </a:lnTo>
                  <a:lnTo>
                    <a:pt x="115" y="67"/>
                  </a:lnTo>
                  <a:lnTo>
                    <a:pt x="114" y="59"/>
                  </a:lnTo>
                  <a:lnTo>
                    <a:pt x="113" y="51"/>
                  </a:lnTo>
                  <a:lnTo>
                    <a:pt x="110" y="43"/>
                  </a:lnTo>
                  <a:lnTo>
                    <a:pt x="108" y="35"/>
                  </a:lnTo>
                  <a:lnTo>
                    <a:pt x="103" y="27"/>
                  </a:lnTo>
                  <a:lnTo>
                    <a:pt x="104" y="22"/>
                  </a:lnTo>
                  <a:lnTo>
                    <a:pt x="106" y="17"/>
                  </a:lnTo>
                  <a:lnTo>
                    <a:pt x="108" y="12"/>
                  </a:lnTo>
                  <a:lnTo>
                    <a:pt x="110" y="9"/>
                  </a:lnTo>
                  <a:lnTo>
                    <a:pt x="115" y="4"/>
                  </a:lnTo>
                  <a:lnTo>
                    <a:pt x="122" y="2"/>
                  </a:lnTo>
                  <a:lnTo>
                    <a:pt x="130" y="0"/>
                  </a:lnTo>
                  <a:lnTo>
                    <a:pt x="139" y="0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8" y="10"/>
                  </a:lnTo>
                  <a:lnTo>
                    <a:pt x="177" y="18"/>
                  </a:lnTo>
                  <a:lnTo>
                    <a:pt x="187" y="27"/>
                  </a:lnTo>
                  <a:lnTo>
                    <a:pt x="198" y="34"/>
                  </a:lnTo>
                  <a:lnTo>
                    <a:pt x="208" y="41"/>
                  </a:lnTo>
                  <a:lnTo>
                    <a:pt x="218" y="48"/>
                  </a:lnTo>
                  <a:lnTo>
                    <a:pt x="225" y="56"/>
                  </a:lnTo>
                  <a:lnTo>
                    <a:pt x="232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87960" y="4863240"/>
              <a:ext cx="46080" cy="3492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156" y="121"/>
                  </a:moveTo>
                  <a:lnTo>
                    <a:pt x="146" y="125"/>
                  </a:lnTo>
                  <a:lnTo>
                    <a:pt x="136" y="129"/>
                  </a:lnTo>
                  <a:lnTo>
                    <a:pt x="125" y="131"/>
                  </a:lnTo>
                  <a:lnTo>
                    <a:pt x="115" y="131"/>
                  </a:lnTo>
                  <a:lnTo>
                    <a:pt x="104" y="130"/>
                  </a:lnTo>
                  <a:lnTo>
                    <a:pt x="93" y="127"/>
                  </a:lnTo>
                  <a:lnTo>
                    <a:pt x="82" y="123"/>
                  </a:lnTo>
                  <a:lnTo>
                    <a:pt x="72" y="118"/>
                  </a:lnTo>
                  <a:lnTo>
                    <a:pt x="61" y="113"/>
                  </a:lnTo>
                  <a:lnTo>
                    <a:pt x="52" y="106"/>
                  </a:lnTo>
                  <a:lnTo>
                    <a:pt x="44" y="97"/>
                  </a:lnTo>
                  <a:lnTo>
                    <a:pt x="35" y="89"/>
                  </a:lnTo>
                  <a:lnTo>
                    <a:pt x="28" y="80"/>
                  </a:lnTo>
                  <a:lnTo>
                    <a:pt x="24" y="69"/>
                  </a:lnTo>
                  <a:lnTo>
                    <a:pt x="20" y="59"/>
                  </a:lnTo>
                  <a:lnTo>
                    <a:pt x="18" y="48"/>
                  </a:lnTo>
                  <a:lnTo>
                    <a:pt x="0" y="0"/>
                  </a:lnTo>
                  <a:lnTo>
                    <a:pt x="37" y="30"/>
                  </a:lnTo>
                  <a:lnTo>
                    <a:pt x="75" y="61"/>
                  </a:lnTo>
                  <a:lnTo>
                    <a:pt x="96" y="77"/>
                  </a:lnTo>
                  <a:lnTo>
                    <a:pt x="116" y="94"/>
                  </a:lnTo>
                  <a:lnTo>
                    <a:pt x="136" y="108"/>
                  </a:lnTo>
                  <a:lnTo>
                    <a:pt x="156" y="1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414440" y="5039640"/>
              <a:ext cx="360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403640" y="5169600"/>
              <a:ext cx="103680" cy="182520"/>
            </a:xfrm>
            <a:custGeom>
              <a:avLst/>
              <a:gdLst/>
              <a:ahLst/>
              <a:rect l="l" t="t" r="r" b="b"/>
              <a:pathLst>
                <a:path w="350" h="694">
                  <a:moveTo>
                    <a:pt x="349" y="56"/>
                  </a:moveTo>
                  <a:lnTo>
                    <a:pt x="350" y="95"/>
                  </a:lnTo>
                  <a:lnTo>
                    <a:pt x="350" y="135"/>
                  </a:lnTo>
                  <a:lnTo>
                    <a:pt x="350" y="176"/>
                  </a:lnTo>
                  <a:lnTo>
                    <a:pt x="349" y="217"/>
                  </a:lnTo>
                  <a:lnTo>
                    <a:pt x="344" y="300"/>
                  </a:lnTo>
                  <a:lnTo>
                    <a:pt x="337" y="383"/>
                  </a:lnTo>
                  <a:lnTo>
                    <a:pt x="330" y="464"/>
                  </a:lnTo>
                  <a:lnTo>
                    <a:pt x="322" y="545"/>
                  </a:lnTo>
                  <a:lnTo>
                    <a:pt x="315" y="621"/>
                  </a:lnTo>
                  <a:lnTo>
                    <a:pt x="310" y="694"/>
                  </a:lnTo>
                  <a:lnTo>
                    <a:pt x="302" y="693"/>
                  </a:lnTo>
                  <a:lnTo>
                    <a:pt x="295" y="691"/>
                  </a:lnTo>
                  <a:lnTo>
                    <a:pt x="288" y="688"/>
                  </a:lnTo>
                  <a:lnTo>
                    <a:pt x="281" y="685"/>
                  </a:lnTo>
                  <a:lnTo>
                    <a:pt x="276" y="681"/>
                  </a:lnTo>
                  <a:lnTo>
                    <a:pt x="270" y="678"/>
                  </a:lnTo>
                  <a:lnTo>
                    <a:pt x="267" y="673"/>
                  </a:lnTo>
                  <a:lnTo>
                    <a:pt x="262" y="669"/>
                  </a:lnTo>
                  <a:lnTo>
                    <a:pt x="255" y="658"/>
                  </a:lnTo>
                  <a:lnTo>
                    <a:pt x="249" y="648"/>
                  </a:lnTo>
                  <a:lnTo>
                    <a:pt x="245" y="636"/>
                  </a:lnTo>
                  <a:lnTo>
                    <a:pt x="240" y="623"/>
                  </a:lnTo>
                  <a:lnTo>
                    <a:pt x="235" y="610"/>
                  </a:lnTo>
                  <a:lnTo>
                    <a:pt x="229" y="597"/>
                  </a:lnTo>
                  <a:lnTo>
                    <a:pt x="224" y="586"/>
                  </a:lnTo>
                  <a:lnTo>
                    <a:pt x="215" y="573"/>
                  </a:lnTo>
                  <a:lnTo>
                    <a:pt x="206" y="562"/>
                  </a:lnTo>
                  <a:lnTo>
                    <a:pt x="194" y="552"/>
                  </a:lnTo>
                  <a:lnTo>
                    <a:pt x="187" y="547"/>
                  </a:lnTo>
                  <a:lnTo>
                    <a:pt x="179" y="543"/>
                  </a:lnTo>
                  <a:lnTo>
                    <a:pt x="171" y="539"/>
                  </a:lnTo>
                  <a:lnTo>
                    <a:pt x="162" y="535"/>
                  </a:lnTo>
                  <a:lnTo>
                    <a:pt x="155" y="550"/>
                  </a:lnTo>
                  <a:lnTo>
                    <a:pt x="149" y="561"/>
                  </a:lnTo>
                  <a:lnTo>
                    <a:pt x="144" y="564"/>
                  </a:lnTo>
                  <a:lnTo>
                    <a:pt x="139" y="568"/>
                  </a:lnTo>
                  <a:lnTo>
                    <a:pt x="135" y="571"/>
                  </a:lnTo>
                  <a:lnTo>
                    <a:pt x="128" y="574"/>
                  </a:lnTo>
                  <a:lnTo>
                    <a:pt x="62" y="508"/>
                  </a:lnTo>
                  <a:lnTo>
                    <a:pt x="67" y="500"/>
                  </a:lnTo>
                  <a:lnTo>
                    <a:pt x="72" y="493"/>
                  </a:lnTo>
                  <a:lnTo>
                    <a:pt x="76" y="486"/>
                  </a:lnTo>
                  <a:lnTo>
                    <a:pt x="79" y="479"/>
                  </a:lnTo>
                  <a:lnTo>
                    <a:pt x="81" y="472"/>
                  </a:lnTo>
                  <a:lnTo>
                    <a:pt x="82" y="465"/>
                  </a:lnTo>
                  <a:lnTo>
                    <a:pt x="83" y="458"/>
                  </a:lnTo>
                  <a:lnTo>
                    <a:pt x="83" y="451"/>
                  </a:lnTo>
                  <a:lnTo>
                    <a:pt x="81" y="438"/>
                  </a:lnTo>
                  <a:lnTo>
                    <a:pt x="77" y="425"/>
                  </a:lnTo>
                  <a:lnTo>
                    <a:pt x="72" y="411"/>
                  </a:lnTo>
                  <a:lnTo>
                    <a:pt x="65" y="398"/>
                  </a:lnTo>
                  <a:lnTo>
                    <a:pt x="48" y="373"/>
                  </a:lnTo>
                  <a:lnTo>
                    <a:pt x="31" y="345"/>
                  </a:lnTo>
                  <a:lnTo>
                    <a:pt x="21" y="332"/>
                  </a:lnTo>
                  <a:lnTo>
                    <a:pt x="14" y="317"/>
                  </a:lnTo>
                  <a:lnTo>
                    <a:pt x="7" y="302"/>
                  </a:lnTo>
                  <a:lnTo>
                    <a:pt x="3" y="287"/>
                  </a:lnTo>
                  <a:lnTo>
                    <a:pt x="1" y="276"/>
                  </a:lnTo>
                  <a:lnTo>
                    <a:pt x="0" y="265"/>
                  </a:lnTo>
                  <a:lnTo>
                    <a:pt x="0" y="255"/>
                  </a:lnTo>
                  <a:lnTo>
                    <a:pt x="1" y="245"/>
                  </a:lnTo>
                  <a:lnTo>
                    <a:pt x="5" y="236"/>
                  </a:lnTo>
                  <a:lnTo>
                    <a:pt x="7" y="226"/>
                  </a:lnTo>
                  <a:lnTo>
                    <a:pt x="12" y="217"/>
                  </a:lnTo>
                  <a:lnTo>
                    <a:pt x="17" y="209"/>
                  </a:lnTo>
                  <a:lnTo>
                    <a:pt x="21" y="201"/>
                  </a:lnTo>
                  <a:lnTo>
                    <a:pt x="27" y="193"/>
                  </a:lnTo>
                  <a:lnTo>
                    <a:pt x="34" y="186"/>
                  </a:lnTo>
                  <a:lnTo>
                    <a:pt x="40" y="180"/>
                  </a:lnTo>
                  <a:lnTo>
                    <a:pt x="54" y="168"/>
                  </a:lnTo>
                  <a:lnTo>
                    <a:pt x="68" y="159"/>
                  </a:lnTo>
                  <a:lnTo>
                    <a:pt x="98" y="153"/>
                  </a:lnTo>
                  <a:lnTo>
                    <a:pt x="128" y="145"/>
                  </a:lnTo>
                  <a:lnTo>
                    <a:pt x="143" y="142"/>
                  </a:lnTo>
                  <a:lnTo>
                    <a:pt x="159" y="140"/>
                  </a:lnTo>
                  <a:lnTo>
                    <a:pt x="176" y="140"/>
                  </a:lnTo>
                  <a:lnTo>
                    <a:pt x="193" y="141"/>
                  </a:lnTo>
                  <a:lnTo>
                    <a:pt x="199" y="134"/>
                  </a:lnTo>
                  <a:lnTo>
                    <a:pt x="204" y="125"/>
                  </a:lnTo>
                  <a:lnTo>
                    <a:pt x="207" y="115"/>
                  </a:lnTo>
                  <a:lnTo>
                    <a:pt x="211" y="106"/>
                  </a:lnTo>
                  <a:lnTo>
                    <a:pt x="215" y="85"/>
                  </a:lnTo>
                  <a:lnTo>
                    <a:pt x="220" y="65"/>
                  </a:lnTo>
                  <a:lnTo>
                    <a:pt x="222" y="55"/>
                  </a:lnTo>
                  <a:lnTo>
                    <a:pt x="226" y="45"/>
                  </a:lnTo>
                  <a:lnTo>
                    <a:pt x="229" y="36"/>
                  </a:lnTo>
                  <a:lnTo>
                    <a:pt x="234" y="28"/>
                  </a:lnTo>
                  <a:lnTo>
                    <a:pt x="240" y="21"/>
                  </a:lnTo>
                  <a:lnTo>
                    <a:pt x="247" y="14"/>
                  </a:lnTo>
                  <a:lnTo>
                    <a:pt x="255" y="8"/>
                  </a:lnTo>
                  <a:lnTo>
                    <a:pt x="266" y="3"/>
                  </a:lnTo>
                  <a:lnTo>
                    <a:pt x="272" y="1"/>
                  </a:lnTo>
                  <a:lnTo>
                    <a:pt x="279" y="0"/>
                  </a:lnTo>
                  <a:lnTo>
                    <a:pt x="286" y="0"/>
                  </a:lnTo>
                  <a:lnTo>
                    <a:pt x="291" y="0"/>
                  </a:lnTo>
                  <a:lnTo>
                    <a:pt x="298" y="1"/>
                  </a:lnTo>
                  <a:lnTo>
                    <a:pt x="304" y="3"/>
                  </a:lnTo>
                  <a:lnTo>
                    <a:pt x="310" y="5"/>
                  </a:lnTo>
                  <a:lnTo>
                    <a:pt x="316" y="9"/>
                  </a:lnTo>
                  <a:lnTo>
                    <a:pt x="322" y="12"/>
                  </a:lnTo>
                  <a:lnTo>
                    <a:pt x="327" y="17"/>
                  </a:lnTo>
                  <a:lnTo>
                    <a:pt x="331" y="22"/>
                  </a:lnTo>
                  <a:lnTo>
                    <a:pt x="336" y="28"/>
                  </a:lnTo>
                  <a:lnTo>
                    <a:pt x="339" y="33"/>
                  </a:lnTo>
                  <a:lnTo>
                    <a:pt x="343" y="40"/>
                  </a:lnTo>
                  <a:lnTo>
                    <a:pt x="346" y="48"/>
                  </a:lnTo>
                  <a:lnTo>
                    <a:pt x="34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809280" y="5198400"/>
              <a:ext cx="107280" cy="174600"/>
            </a:xfrm>
            <a:custGeom>
              <a:avLst/>
              <a:gdLst/>
              <a:ahLst/>
              <a:rect l="l" t="t" r="r" b="b"/>
              <a:pathLst>
                <a:path w="362" h="662">
                  <a:moveTo>
                    <a:pt x="297" y="62"/>
                  </a:moveTo>
                  <a:lnTo>
                    <a:pt x="316" y="110"/>
                  </a:lnTo>
                  <a:lnTo>
                    <a:pt x="333" y="164"/>
                  </a:lnTo>
                  <a:lnTo>
                    <a:pt x="341" y="191"/>
                  </a:lnTo>
                  <a:lnTo>
                    <a:pt x="348" y="219"/>
                  </a:lnTo>
                  <a:lnTo>
                    <a:pt x="354" y="248"/>
                  </a:lnTo>
                  <a:lnTo>
                    <a:pt x="359" y="276"/>
                  </a:lnTo>
                  <a:lnTo>
                    <a:pt x="361" y="304"/>
                  </a:lnTo>
                  <a:lnTo>
                    <a:pt x="362" y="332"/>
                  </a:lnTo>
                  <a:lnTo>
                    <a:pt x="361" y="345"/>
                  </a:lnTo>
                  <a:lnTo>
                    <a:pt x="360" y="359"/>
                  </a:lnTo>
                  <a:lnTo>
                    <a:pt x="359" y="372"/>
                  </a:lnTo>
                  <a:lnTo>
                    <a:pt x="355" y="385"/>
                  </a:lnTo>
                  <a:lnTo>
                    <a:pt x="353" y="398"/>
                  </a:lnTo>
                  <a:lnTo>
                    <a:pt x="348" y="411"/>
                  </a:lnTo>
                  <a:lnTo>
                    <a:pt x="344" y="422"/>
                  </a:lnTo>
                  <a:lnTo>
                    <a:pt x="338" y="434"/>
                  </a:lnTo>
                  <a:lnTo>
                    <a:pt x="332" y="446"/>
                  </a:lnTo>
                  <a:lnTo>
                    <a:pt x="325" y="456"/>
                  </a:lnTo>
                  <a:lnTo>
                    <a:pt x="317" y="467"/>
                  </a:lnTo>
                  <a:lnTo>
                    <a:pt x="307" y="477"/>
                  </a:lnTo>
                  <a:lnTo>
                    <a:pt x="297" y="480"/>
                  </a:lnTo>
                  <a:lnTo>
                    <a:pt x="288" y="484"/>
                  </a:lnTo>
                  <a:lnTo>
                    <a:pt x="279" y="489"/>
                  </a:lnTo>
                  <a:lnTo>
                    <a:pt x="271" y="495"/>
                  </a:lnTo>
                  <a:lnTo>
                    <a:pt x="264" y="501"/>
                  </a:lnTo>
                  <a:lnTo>
                    <a:pt x="257" y="508"/>
                  </a:lnTo>
                  <a:lnTo>
                    <a:pt x="251" y="516"/>
                  </a:lnTo>
                  <a:lnTo>
                    <a:pt x="245" y="523"/>
                  </a:lnTo>
                  <a:lnTo>
                    <a:pt x="236" y="541"/>
                  </a:lnTo>
                  <a:lnTo>
                    <a:pt x="228" y="558"/>
                  </a:lnTo>
                  <a:lnTo>
                    <a:pt x="220" y="577"/>
                  </a:lnTo>
                  <a:lnTo>
                    <a:pt x="213" y="594"/>
                  </a:lnTo>
                  <a:lnTo>
                    <a:pt x="206" y="612"/>
                  </a:lnTo>
                  <a:lnTo>
                    <a:pt x="198" y="627"/>
                  </a:lnTo>
                  <a:lnTo>
                    <a:pt x="194" y="634"/>
                  </a:lnTo>
                  <a:lnTo>
                    <a:pt x="189" y="641"/>
                  </a:lnTo>
                  <a:lnTo>
                    <a:pt x="185" y="647"/>
                  </a:lnTo>
                  <a:lnTo>
                    <a:pt x="179" y="652"/>
                  </a:lnTo>
                  <a:lnTo>
                    <a:pt x="173" y="655"/>
                  </a:lnTo>
                  <a:lnTo>
                    <a:pt x="167" y="659"/>
                  </a:lnTo>
                  <a:lnTo>
                    <a:pt x="160" y="661"/>
                  </a:lnTo>
                  <a:lnTo>
                    <a:pt x="152" y="662"/>
                  </a:lnTo>
                  <a:lnTo>
                    <a:pt x="144" y="661"/>
                  </a:lnTo>
                  <a:lnTo>
                    <a:pt x="134" y="660"/>
                  </a:lnTo>
                  <a:lnTo>
                    <a:pt x="125" y="657"/>
                  </a:lnTo>
                  <a:lnTo>
                    <a:pt x="113" y="653"/>
                  </a:lnTo>
                  <a:lnTo>
                    <a:pt x="106" y="636"/>
                  </a:lnTo>
                  <a:lnTo>
                    <a:pt x="100" y="619"/>
                  </a:lnTo>
                  <a:lnTo>
                    <a:pt x="95" y="601"/>
                  </a:lnTo>
                  <a:lnTo>
                    <a:pt x="89" y="584"/>
                  </a:lnTo>
                  <a:lnTo>
                    <a:pt x="81" y="550"/>
                  </a:lnTo>
                  <a:lnTo>
                    <a:pt x="74" y="515"/>
                  </a:lnTo>
                  <a:lnTo>
                    <a:pt x="68" y="479"/>
                  </a:lnTo>
                  <a:lnTo>
                    <a:pt x="63" y="443"/>
                  </a:lnTo>
                  <a:lnTo>
                    <a:pt x="60" y="407"/>
                  </a:lnTo>
                  <a:lnTo>
                    <a:pt x="57" y="372"/>
                  </a:lnTo>
                  <a:lnTo>
                    <a:pt x="54" y="335"/>
                  </a:lnTo>
                  <a:lnTo>
                    <a:pt x="50" y="298"/>
                  </a:lnTo>
                  <a:lnTo>
                    <a:pt x="45" y="261"/>
                  </a:lnTo>
                  <a:lnTo>
                    <a:pt x="40" y="224"/>
                  </a:lnTo>
                  <a:lnTo>
                    <a:pt x="33" y="186"/>
                  </a:lnTo>
                  <a:lnTo>
                    <a:pt x="24" y="148"/>
                  </a:lnTo>
                  <a:lnTo>
                    <a:pt x="13" y="109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2" y="29"/>
                  </a:lnTo>
                  <a:lnTo>
                    <a:pt x="3" y="25"/>
                  </a:lnTo>
                  <a:lnTo>
                    <a:pt x="6" y="20"/>
                  </a:lnTo>
                  <a:lnTo>
                    <a:pt x="8" y="17"/>
                  </a:lnTo>
                  <a:lnTo>
                    <a:pt x="12" y="13"/>
                  </a:lnTo>
                  <a:lnTo>
                    <a:pt x="15" y="11"/>
                  </a:lnTo>
                  <a:lnTo>
                    <a:pt x="20" y="8"/>
                  </a:lnTo>
                  <a:lnTo>
                    <a:pt x="24" y="7"/>
                  </a:lnTo>
                  <a:lnTo>
                    <a:pt x="30" y="7"/>
                  </a:lnTo>
                  <a:lnTo>
                    <a:pt x="40" y="4"/>
                  </a:lnTo>
                  <a:lnTo>
                    <a:pt x="49" y="1"/>
                  </a:lnTo>
                  <a:lnTo>
                    <a:pt x="58" y="1"/>
                  </a:lnTo>
                  <a:lnTo>
                    <a:pt x="68" y="0"/>
                  </a:lnTo>
                  <a:lnTo>
                    <a:pt x="77" y="1"/>
                  </a:lnTo>
                  <a:lnTo>
                    <a:pt x="85" y="2"/>
                  </a:lnTo>
                  <a:lnTo>
                    <a:pt x="95" y="4"/>
                  </a:lnTo>
                  <a:lnTo>
                    <a:pt x="103" y="6"/>
                  </a:lnTo>
                  <a:lnTo>
                    <a:pt x="120" y="13"/>
                  </a:lnTo>
                  <a:lnTo>
                    <a:pt x="138" y="20"/>
                  </a:lnTo>
                  <a:lnTo>
                    <a:pt x="154" y="29"/>
                  </a:lnTo>
                  <a:lnTo>
                    <a:pt x="172" y="39"/>
                  </a:lnTo>
                  <a:lnTo>
                    <a:pt x="188" y="48"/>
                  </a:lnTo>
                  <a:lnTo>
                    <a:pt x="205" y="56"/>
                  </a:lnTo>
                  <a:lnTo>
                    <a:pt x="220" y="63"/>
                  </a:lnTo>
                  <a:lnTo>
                    <a:pt x="236" y="69"/>
                  </a:lnTo>
                  <a:lnTo>
                    <a:pt x="243" y="70"/>
                  </a:lnTo>
                  <a:lnTo>
                    <a:pt x="251" y="71"/>
                  </a:lnTo>
                  <a:lnTo>
                    <a:pt x="258" y="73"/>
                  </a:lnTo>
                  <a:lnTo>
                    <a:pt x="267" y="73"/>
                  </a:lnTo>
                  <a:lnTo>
                    <a:pt x="275" y="71"/>
                  </a:lnTo>
                  <a:lnTo>
                    <a:pt x="282" y="69"/>
                  </a:lnTo>
                  <a:lnTo>
                    <a:pt x="289" y="67"/>
                  </a:lnTo>
                  <a:lnTo>
                    <a:pt x="29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68000" y="5314320"/>
              <a:ext cx="135720" cy="799920"/>
            </a:xfrm>
            <a:custGeom>
              <a:avLst/>
              <a:gdLst/>
              <a:ahLst/>
              <a:rect l="l" t="t" r="r" b="b"/>
              <a:pathLst>
                <a:path w="455" h="3021">
                  <a:moveTo>
                    <a:pt x="382" y="185"/>
                  </a:moveTo>
                  <a:lnTo>
                    <a:pt x="378" y="212"/>
                  </a:lnTo>
                  <a:lnTo>
                    <a:pt x="375" y="239"/>
                  </a:lnTo>
                  <a:lnTo>
                    <a:pt x="372" y="266"/>
                  </a:lnTo>
                  <a:lnTo>
                    <a:pt x="371" y="293"/>
                  </a:lnTo>
                  <a:lnTo>
                    <a:pt x="371" y="318"/>
                  </a:lnTo>
                  <a:lnTo>
                    <a:pt x="371" y="344"/>
                  </a:lnTo>
                  <a:lnTo>
                    <a:pt x="372" y="370"/>
                  </a:lnTo>
                  <a:lnTo>
                    <a:pt x="374" y="395"/>
                  </a:lnTo>
                  <a:lnTo>
                    <a:pt x="377" y="446"/>
                  </a:lnTo>
                  <a:lnTo>
                    <a:pt x="383" y="496"/>
                  </a:lnTo>
                  <a:lnTo>
                    <a:pt x="390" y="546"/>
                  </a:lnTo>
                  <a:lnTo>
                    <a:pt x="397" y="595"/>
                  </a:lnTo>
                  <a:lnTo>
                    <a:pt x="405" y="646"/>
                  </a:lnTo>
                  <a:lnTo>
                    <a:pt x="412" y="695"/>
                  </a:lnTo>
                  <a:lnTo>
                    <a:pt x="419" y="745"/>
                  </a:lnTo>
                  <a:lnTo>
                    <a:pt x="425" y="795"/>
                  </a:lnTo>
                  <a:lnTo>
                    <a:pt x="428" y="847"/>
                  </a:lnTo>
                  <a:lnTo>
                    <a:pt x="431" y="900"/>
                  </a:lnTo>
                  <a:lnTo>
                    <a:pt x="431" y="925"/>
                  </a:lnTo>
                  <a:lnTo>
                    <a:pt x="430" y="952"/>
                  </a:lnTo>
                  <a:lnTo>
                    <a:pt x="428" y="979"/>
                  </a:lnTo>
                  <a:lnTo>
                    <a:pt x="426" y="1007"/>
                  </a:lnTo>
                  <a:lnTo>
                    <a:pt x="431" y="1048"/>
                  </a:lnTo>
                  <a:lnTo>
                    <a:pt x="434" y="1089"/>
                  </a:lnTo>
                  <a:lnTo>
                    <a:pt x="437" y="1131"/>
                  </a:lnTo>
                  <a:lnTo>
                    <a:pt x="438" y="1173"/>
                  </a:lnTo>
                  <a:lnTo>
                    <a:pt x="439" y="1215"/>
                  </a:lnTo>
                  <a:lnTo>
                    <a:pt x="440" y="1257"/>
                  </a:lnTo>
                  <a:lnTo>
                    <a:pt x="440" y="1301"/>
                  </a:lnTo>
                  <a:lnTo>
                    <a:pt x="439" y="1344"/>
                  </a:lnTo>
                  <a:lnTo>
                    <a:pt x="437" y="1431"/>
                  </a:lnTo>
                  <a:lnTo>
                    <a:pt x="432" y="1518"/>
                  </a:lnTo>
                  <a:lnTo>
                    <a:pt x="426" y="1607"/>
                  </a:lnTo>
                  <a:lnTo>
                    <a:pt x="419" y="1696"/>
                  </a:lnTo>
                  <a:lnTo>
                    <a:pt x="411" y="1785"/>
                  </a:lnTo>
                  <a:lnTo>
                    <a:pt x="404" y="1874"/>
                  </a:lnTo>
                  <a:lnTo>
                    <a:pt x="396" y="1963"/>
                  </a:lnTo>
                  <a:lnTo>
                    <a:pt x="388" y="2052"/>
                  </a:lnTo>
                  <a:lnTo>
                    <a:pt x="381" y="2141"/>
                  </a:lnTo>
                  <a:lnTo>
                    <a:pt x="375" y="2228"/>
                  </a:lnTo>
                  <a:lnTo>
                    <a:pt x="370" y="2316"/>
                  </a:lnTo>
                  <a:lnTo>
                    <a:pt x="368" y="2403"/>
                  </a:lnTo>
                  <a:lnTo>
                    <a:pt x="386" y="2467"/>
                  </a:lnTo>
                  <a:lnTo>
                    <a:pt x="405" y="2530"/>
                  </a:lnTo>
                  <a:lnTo>
                    <a:pt x="416" y="2562"/>
                  </a:lnTo>
                  <a:lnTo>
                    <a:pt x="425" y="2593"/>
                  </a:lnTo>
                  <a:lnTo>
                    <a:pt x="433" y="2625"/>
                  </a:lnTo>
                  <a:lnTo>
                    <a:pt x="440" y="2655"/>
                  </a:lnTo>
                  <a:lnTo>
                    <a:pt x="447" y="2687"/>
                  </a:lnTo>
                  <a:lnTo>
                    <a:pt x="452" y="2718"/>
                  </a:lnTo>
                  <a:lnTo>
                    <a:pt x="454" y="2750"/>
                  </a:lnTo>
                  <a:lnTo>
                    <a:pt x="455" y="2781"/>
                  </a:lnTo>
                  <a:lnTo>
                    <a:pt x="455" y="2797"/>
                  </a:lnTo>
                  <a:lnTo>
                    <a:pt x="454" y="2813"/>
                  </a:lnTo>
                  <a:lnTo>
                    <a:pt x="453" y="2829"/>
                  </a:lnTo>
                  <a:lnTo>
                    <a:pt x="451" y="2846"/>
                  </a:lnTo>
                  <a:lnTo>
                    <a:pt x="447" y="2862"/>
                  </a:lnTo>
                  <a:lnTo>
                    <a:pt x="444" y="2877"/>
                  </a:lnTo>
                  <a:lnTo>
                    <a:pt x="439" y="2894"/>
                  </a:lnTo>
                  <a:lnTo>
                    <a:pt x="433" y="2911"/>
                  </a:lnTo>
                  <a:lnTo>
                    <a:pt x="388" y="2934"/>
                  </a:lnTo>
                  <a:lnTo>
                    <a:pt x="344" y="2955"/>
                  </a:lnTo>
                  <a:lnTo>
                    <a:pt x="303" y="2972"/>
                  </a:lnTo>
                  <a:lnTo>
                    <a:pt x="261" y="2987"/>
                  </a:lnTo>
                  <a:lnTo>
                    <a:pt x="240" y="2993"/>
                  </a:lnTo>
                  <a:lnTo>
                    <a:pt x="219" y="2999"/>
                  </a:lnTo>
                  <a:lnTo>
                    <a:pt x="198" y="3005"/>
                  </a:lnTo>
                  <a:lnTo>
                    <a:pt x="177" y="3008"/>
                  </a:lnTo>
                  <a:lnTo>
                    <a:pt x="155" y="3013"/>
                  </a:lnTo>
                  <a:lnTo>
                    <a:pt x="131" y="3017"/>
                  </a:lnTo>
                  <a:lnTo>
                    <a:pt x="108" y="3019"/>
                  </a:lnTo>
                  <a:lnTo>
                    <a:pt x="85" y="3021"/>
                  </a:lnTo>
                  <a:lnTo>
                    <a:pt x="89" y="3007"/>
                  </a:lnTo>
                  <a:lnTo>
                    <a:pt x="93" y="2992"/>
                  </a:lnTo>
                  <a:lnTo>
                    <a:pt x="96" y="2977"/>
                  </a:lnTo>
                  <a:lnTo>
                    <a:pt x="100" y="2962"/>
                  </a:lnTo>
                  <a:lnTo>
                    <a:pt x="105" y="2931"/>
                  </a:lnTo>
                  <a:lnTo>
                    <a:pt x="108" y="2900"/>
                  </a:lnTo>
                  <a:lnTo>
                    <a:pt x="110" y="2868"/>
                  </a:lnTo>
                  <a:lnTo>
                    <a:pt x="113" y="2835"/>
                  </a:lnTo>
                  <a:lnTo>
                    <a:pt x="115" y="2804"/>
                  </a:lnTo>
                  <a:lnTo>
                    <a:pt x="119" y="2772"/>
                  </a:lnTo>
                  <a:lnTo>
                    <a:pt x="127" y="2763"/>
                  </a:lnTo>
                  <a:lnTo>
                    <a:pt x="136" y="2755"/>
                  </a:lnTo>
                  <a:lnTo>
                    <a:pt x="147" y="2746"/>
                  </a:lnTo>
                  <a:lnTo>
                    <a:pt x="157" y="2739"/>
                  </a:lnTo>
                  <a:lnTo>
                    <a:pt x="178" y="2725"/>
                  </a:lnTo>
                  <a:lnTo>
                    <a:pt x="200" y="2711"/>
                  </a:lnTo>
                  <a:lnTo>
                    <a:pt x="212" y="2704"/>
                  </a:lnTo>
                  <a:lnTo>
                    <a:pt x="223" y="2696"/>
                  </a:lnTo>
                  <a:lnTo>
                    <a:pt x="232" y="2688"/>
                  </a:lnTo>
                  <a:lnTo>
                    <a:pt x="241" y="2680"/>
                  </a:lnTo>
                  <a:lnTo>
                    <a:pt x="250" y="2669"/>
                  </a:lnTo>
                  <a:lnTo>
                    <a:pt x="257" y="2659"/>
                  </a:lnTo>
                  <a:lnTo>
                    <a:pt x="262" y="2647"/>
                  </a:lnTo>
                  <a:lnTo>
                    <a:pt x="267" y="2634"/>
                  </a:lnTo>
                  <a:lnTo>
                    <a:pt x="252" y="2611"/>
                  </a:lnTo>
                  <a:lnTo>
                    <a:pt x="238" y="2586"/>
                  </a:lnTo>
                  <a:lnTo>
                    <a:pt x="225" y="2560"/>
                  </a:lnTo>
                  <a:lnTo>
                    <a:pt x="214" y="2534"/>
                  </a:lnTo>
                  <a:lnTo>
                    <a:pt x="205" y="2507"/>
                  </a:lnTo>
                  <a:lnTo>
                    <a:pt x="197" y="2479"/>
                  </a:lnTo>
                  <a:lnTo>
                    <a:pt x="190" y="2449"/>
                  </a:lnTo>
                  <a:lnTo>
                    <a:pt x="184" y="2420"/>
                  </a:lnTo>
                  <a:lnTo>
                    <a:pt x="181" y="2391"/>
                  </a:lnTo>
                  <a:lnTo>
                    <a:pt x="177" y="2360"/>
                  </a:lnTo>
                  <a:lnTo>
                    <a:pt x="175" y="2330"/>
                  </a:lnTo>
                  <a:lnTo>
                    <a:pt x="174" y="2298"/>
                  </a:lnTo>
                  <a:lnTo>
                    <a:pt x="172" y="2267"/>
                  </a:lnTo>
                  <a:lnTo>
                    <a:pt x="172" y="2235"/>
                  </a:lnTo>
                  <a:lnTo>
                    <a:pt x="174" y="2204"/>
                  </a:lnTo>
                  <a:lnTo>
                    <a:pt x="175" y="2171"/>
                  </a:lnTo>
                  <a:lnTo>
                    <a:pt x="177" y="2107"/>
                  </a:lnTo>
                  <a:lnTo>
                    <a:pt x="182" y="2043"/>
                  </a:lnTo>
                  <a:lnTo>
                    <a:pt x="186" y="1979"/>
                  </a:lnTo>
                  <a:lnTo>
                    <a:pt x="190" y="1917"/>
                  </a:lnTo>
                  <a:lnTo>
                    <a:pt x="192" y="1856"/>
                  </a:lnTo>
                  <a:lnTo>
                    <a:pt x="192" y="1798"/>
                  </a:lnTo>
                  <a:lnTo>
                    <a:pt x="192" y="1769"/>
                  </a:lnTo>
                  <a:lnTo>
                    <a:pt x="190" y="1741"/>
                  </a:lnTo>
                  <a:lnTo>
                    <a:pt x="188" y="1714"/>
                  </a:lnTo>
                  <a:lnTo>
                    <a:pt x="184" y="1688"/>
                  </a:lnTo>
                  <a:lnTo>
                    <a:pt x="193" y="1643"/>
                  </a:lnTo>
                  <a:lnTo>
                    <a:pt x="200" y="1598"/>
                  </a:lnTo>
                  <a:lnTo>
                    <a:pt x="207" y="1553"/>
                  </a:lnTo>
                  <a:lnTo>
                    <a:pt x="213" y="1508"/>
                  </a:lnTo>
                  <a:lnTo>
                    <a:pt x="217" y="1463"/>
                  </a:lnTo>
                  <a:lnTo>
                    <a:pt x="220" y="1418"/>
                  </a:lnTo>
                  <a:lnTo>
                    <a:pt x="223" y="1372"/>
                  </a:lnTo>
                  <a:lnTo>
                    <a:pt x="224" y="1325"/>
                  </a:lnTo>
                  <a:lnTo>
                    <a:pt x="225" y="1280"/>
                  </a:lnTo>
                  <a:lnTo>
                    <a:pt x="224" y="1234"/>
                  </a:lnTo>
                  <a:lnTo>
                    <a:pt x="224" y="1187"/>
                  </a:lnTo>
                  <a:lnTo>
                    <a:pt x="222" y="1142"/>
                  </a:lnTo>
                  <a:lnTo>
                    <a:pt x="216" y="1048"/>
                  </a:lnTo>
                  <a:lnTo>
                    <a:pt x="209" y="955"/>
                  </a:lnTo>
                  <a:lnTo>
                    <a:pt x="198" y="862"/>
                  </a:lnTo>
                  <a:lnTo>
                    <a:pt x="188" y="769"/>
                  </a:lnTo>
                  <a:lnTo>
                    <a:pt x="175" y="675"/>
                  </a:lnTo>
                  <a:lnTo>
                    <a:pt x="161" y="581"/>
                  </a:lnTo>
                  <a:lnTo>
                    <a:pt x="147" y="489"/>
                  </a:lnTo>
                  <a:lnTo>
                    <a:pt x="133" y="395"/>
                  </a:lnTo>
                  <a:lnTo>
                    <a:pt x="119" y="304"/>
                  </a:lnTo>
                  <a:lnTo>
                    <a:pt x="105" y="212"/>
                  </a:lnTo>
                  <a:lnTo>
                    <a:pt x="96" y="199"/>
                  </a:lnTo>
                  <a:lnTo>
                    <a:pt x="87" y="187"/>
                  </a:lnTo>
                  <a:lnTo>
                    <a:pt x="76" y="174"/>
                  </a:lnTo>
                  <a:lnTo>
                    <a:pt x="65" y="163"/>
                  </a:lnTo>
                  <a:lnTo>
                    <a:pt x="40" y="138"/>
                  </a:lnTo>
                  <a:lnTo>
                    <a:pt x="19" y="114"/>
                  </a:lnTo>
                  <a:lnTo>
                    <a:pt x="11" y="102"/>
                  </a:lnTo>
                  <a:lnTo>
                    <a:pt x="5" y="89"/>
                  </a:lnTo>
                  <a:lnTo>
                    <a:pt x="3" y="83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43"/>
                  </a:lnTo>
                  <a:lnTo>
                    <a:pt x="11" y="38"/>
                  </a:lnTo>
                  <a:lnTo>
                    <a:pt x="16" y="31"/>
                  </a:lnTo>
                  <a:lnTo>
                    <a:pt x="23" y="23"/>
                  </a:lnTo>
                  <a:lnTo>
                    <a:pt x="31" y="15"/>
                  </a:lnTo>
                  <a:lnTo>
                    <a:pt x="39" y="8"/>
                  </a:lnTo>
                  <a:lnTo>
                    <a:pt x="50" y="5"/>
                  </a:lnTo>
                  <a:lnTo>
                    <a:pt x="59" y="2"/>
                  </a:lnTo>
                  <a:lnTo>
                    <a:pt x="69" y="1"/>
                  </a:lnTo>
                  <a:lnTo>
                    <a:pt x="80" y="0"/>
                  </a:lnTo>
                  <a:lnTo>
                    <a:pt x="89" y="0"/>
                  </a:lnTo>
                  <a:lnTo>
                    <a:pt x="100" y="1"/>
                  </a:lnTo>
                  <a:lnTo>
                    <a:pt x="109" y="4"/>
                  </a:lnTo>
                  <a:lnTo>
                    <a:pt x="120" y="6"/>
                  </a:lnTo>
                  <a:lnTo>
                    <a:pt x="138" y="13"/>
                  </a:lnTo>
                  <a:lnTo>
                    <a:pt x="158" y="21"/>
                  </a:lnTo>
                  <a:lnTo>
                    <a:pt x="178" y="33"/>
                  </a:lnTo>
                  <a:lnTo>
                    <a:pt x="198" y="45"/>
                  </a:lnTo>
                  <a:lnTo>
                    <a:pt x="237" y="73"/>
                  </a:lnTo>
                  <a:lnTo>
                    <a:pt x="276" y="103"/>
                  </a:lnTo>
                  <a:lnTo>
                    <a:pt x="295" y="118"/>
                  </a:lnTo>
                  <a:lnTo>
                    <a:pt x="315" y="132"/>
                  </a:lnTo>
                  <a:lnTo>
                    <a:pt x="335" y="145"/>
                  </a:lnTo>
                  <a:lnTo>
                    <a:pt x="354" y="157"/>
                  </a:lnTo>
                  <a:lnTo>
                    <a:pt x="382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48880" y="5333400"/>
              <a:ext cx="134280" cy="823680"/>
            </a:xfrm>
            <a:custGeom>
              <a:avLst/>
              <a:gdLst/>
              <a:ahLst/>
              <a:rect l="l" t="t" r="r" b="b"/>
              <a:pathLst>
                <a:path w="451" h="3114">
                  <a:moveTo>
                    <a:pt x="407" y="84"/>
                  </a:moveTo>
                  <a:lnTo>
                    <a:pt x="408" y="108"/>
                  </a:lnTo>
                  <a:lnTo>
                    <a:pt x="407" y="133"/>
                  </a:lnTo>
                  <a:lnTo>
                    <a:pt x="406" y="155"/>
                  </a:lnTo>
                  <a:lnTo>
                    <a:pt x="401" y="176"/>
                  </a:lnTo>
                  <a:lnTo>
                    <a:pt x="396" y="196"/>
                  </a:lnTo>
                  <a:lnTo>
                    <a:pt x="391" y="216"/>
                  </a:lnTo>
                  <a:lnTo>
                    <a:pt x="385" y="236"/>
                  </a:lnTo>
                  <a:lnTo>
                    <a:pt x="378" y="255"/>
                  </a:lnTo>
                  <a:lnTo>
                    <a:pt x="364" y="293"/>
                  </a:lnTo>
                  <a:lnTo>
                    <a:pt x="352" y="334"/>
                  </a:lnTo>
                  <a:lnTo>
                    <a:pt x="347" y="355"/>
                  </a:lnTo>
                  <a:lnTo>
                    <a:pt x="344" y="377"/>
                  </a:lnTo>
                  <a:lnTo>
                    <a:pt x="342" y="401"/>
                  </a:lnTo>
                  <a:lnTo>
                    <a:pt x="340" y="425"/>
                  </a:lnTo>
                  <a:lnTo>
                    <a:pt x="346" y="473"/>
                  </a:lnTo>
                  <a:lnTo>
                    <a:pt x="350" y="519"/>
                  </a:lnTo>
                  <a:lnTo>
                    <a:pt x="353" y="565"/>
                  </a:lnTo>
                  <a:lnTo>
                    <a:pt x="356" y="610"/>
                  </a:lnTo>
                  <a:lnTo>
                    <a:pt x="359" y="698"/>
                  </a:lnTo>
                  <a:lnTo>
                    <a:pt x="361" y="786"/>
                  </a:lnTo>
                  <a:lnTo>
                    <a:pt x="361" y="871"/>
                  </a:lnTo>
                  <a:lnTo>
                    <a:pt x="359" y="955"/>
                  </a:lnTo>
                  <a:lnTo>
                    <a:pt x="357" y="1039"/>
                  </a:lnTo>
                  <a:lnTo>
                    <a:pt x="353" y="1122"/>
                  </a:lnTo>
                  <a:lnTo>
                    <a:pt x="349" y="1207"/>
                  </a:lnTo>
                  <a:lnTo>
                    <a:pt x="345" y="1291"/>
                  </a:lnTo>
                  <a:lnTo>
                    <a:pt x="340" y="1376"/>
                  </a:lnTo>
                  <a:lnTo>
                    <a:pt x="337" y="1463"/>
                  </a:lnTo>
                  <a:lnTo>
                    <a:pt x="334" y="1552"/>
                  </a:lnTo>
                  <a:lnTo>
                    <a:pt x="332" y="1643"/>
                  </a:lnTo>
                  <a:lnTo>
                    <a:pt x="332" y="1737"/>
                  </a:lnTo>
                  <a:lnTo>
                    <a:pt x="334" y="1832"/>
                  </a:lnTo>
                  <a:lnTo>
                    <a:pt x="329" y="1852"/>
                  </a:lnTo>
                  <a:lnTo>
                    <a:pt x="323" y="1872"/>
                  </a:lnTo>
                  <a:lnTo>
                    <a:pt x="319" y="1892"/>
                  </a:lnTo>
                  <a:lnTo>
                    <a:pt x="317" y="1913"/>
                  </a:lnTo>
                  <a:lnTo>
                    <a:pt x="315" y="1934"/>
                  </a:lnTo>
                  <a:lnTo>
                    <a:pt x="313" y="1955"/>
                  </a:lnTo>
                  <a:lnTo>
                    <a:pt x="312" y="1976"/>
                  </a:lnTo>
                  <a:lnTo>
                    <a:pt x="312" y="1999"/>
                  </a:lnTo>
                  <a:lnTo>
                    <a:pt x="312" y="2042"/>
                  </a:lnTo>
                  <a:lnTo>
                    <a:pt x="313" y="2086"/>
                  </a:lnTo>
                  <a:lnTo>
                    <a:pt x="313" y="2131"/>
                  </a:lnTo>
                  <a:lnTo>
                    <a:pt x="313" y="2174"/>
                  </a:lnTo>
                  <a:lnTo>
                    <a:pt x="303" y="2727"/>
                  </a:lnTo>
                  <a:lnTo>
                    <a:pt x="296" y="2737"/>
                  </a:lnTo>
                  <a:lnTo>
                    <a:pt x="290" y="2746"/>
                  </a:lnTo>
                  <a:lnTo>
                    <a:pt x="287" y="2754"/>
                  </a:lnTo>
                  <a:lnTo>
                    <a:pt x="285" y="2762"/>
                  </a:lnTo>
                  <a:lnTo>
                    <a:pt x="285" y="2772"/>
                  </a:lnTo>
                  <a:lnTo>
                    <a:pt x="287" y="2781"/>
                  </a:lnTo>
                  <a:lnTo>
                    <a:pt x="290" y="2792"/>
                  </a:lnTo>
                  <a:lnTo>
                    <a:pt x="296" y="2803"/>
                  </a:lnTo>
                  <a:lnTo>
                    <a:pt x="299" y="2808"/>
                  </a:lnTo>
                  <a:lnTo>
                    <a:pt x="303" y="2813"/>
                  </a:lnTo>
                  <a:lnTo>
                    <a:pt x="306" y="2816"/>
                  </a:lnTo>
                  <a:lnTo>
                    <a:pt x="311" y="2818"/>
                  </a:lnTo>
                  <a:lnTo>
                    <a:pt x="320" y="2823"/>
                  </a:lnTo>
                  <a:lnTo>
                    <a:pt x="330" y="2827"/>
                  </a:lnTo>
                  <a:lnTo>
                    <a:pt x="340" y="2828"/>
                  </a:lnTo>
                  <a:lnTo>
                    <a:pt x="351" y="2829"/>
                  </a:lnTo>
                  <a:lnTo>
                    <a:pt x="363" y="2828"/>
                  </a:lnTo>
                  <a:lnTo>
                    <a:pt x="374" y="2828"/>
                  </a:lnTo>
                  <a:lnTo>
                    <a:pt x="385" y="2828"/>
                  </a:lnTo>
                  <a:lnTo>
                    <a:pt x="396" y="2828"/>
                  </a:lnTo>
                  <a:lnTo>
                    <a:pt x="407" y="2828"/>
                  </a:lnTo>
                  <a:lnTo>
                    <a:pt x="418" y="2830"/>
                  </a:lnTo>
                  <a:lnTo>
                    <a:pt x="427" y="2834"/>
                  </a:lnTo>
                  <a:lnTo>
                    <a:pt x="436" y="2838"/>
                  </a:lnTo>
                  <a:lnTo>
                    <a:pt x="441" y="2842"/>
                  </a:lnTo>
                  <a:lnTo>
                    <a:pt x="444" y="2845"/>
                  </a:lnTo>
                  <a:lnTo>
                    <a:pt x="448" y="2850"/>
                  </a:lnTo>
                  <a:lnTo>
                    <a:pt x="451" y="2855"/>
                  </a:lnTo>
                  <a:lnTo>
                    <a:pt x="446" y="2868"/>
                  </a:lnTo>
                  <a:lnTo>
                    <a:pt x="441" y="2882"/>
                  </a:lnTo>
                  <a:lnTo>
                    <a:pt x="436" y="2897"/>
                  </a:lnTo>
                  <a:lnTo>
                    <a:pt x="434" y="2913"/>
                  </a:lnTo>
                  <a:lnTo>
                    <a:pt x="427" y="2945"/>
                  </a:lnTo>
                  <a:lnTo>
                    <a:pt x="421" y="2979"/>
                  </a:lnTo>
                  <a:lnTo>
                    <a:pt x="416" y="2995"/>
                  </a:lnTo>
                  <a:lnTo>
                    <a:pt x="412" y="3011"/>
                  </a:lnTo>
                  <a:lnTo>
                    <a:pt x="406" y="3027"/>
                  </a:lnTo>
                  <a:lnTo>
                    <a:pt x="399" y="3041"/>
                  </a:lnTo>
                  <a:lnTo>
                    <a:pt x="389" y="3055"/>
                  </a:lnTo>
                  <a:lnTo>
                    <a:pt x="379" y="3066"/>
                  </a:lnTo>
                  <a:lnTo>
                    <a:pt x="373" y="3072"/>
                  </a:lnTo>
                  <a:lnTo>
                    <a:pt x="366" y="3077"/>
                  </a:lnTo>
                  <a:lnTo>
                    <a:pt x="359" y="3082"/>
                  </a:lnTo>
                  <a:lnTo>
                    <a:pt x="351" y="3086"/>
                  </a:lnTo>
                  <a:lnTo>
                    <a:pt x="330" y="3087"/>
                  </a:lnTo>
                  <a:lnTo>
                    <a:pt x="308" y="3087"/>
                  </a:lnTo>
                  <a:lnTo>
                    <a:pt x="287" y="3085"/>
                  </a:lnTo>
                  <a:lnTo>
                    <a:pt x="265" y="3082"/>
                  </a:lnTo>
                  <a:lnTo>
                    <a:pt x="225" y="3076"/>
                  </a:lnTo>
                  <a:lnTo>
                    <a:pt x="185" y="3069"/>
                  </a:lnTo>
                  <a:lnTo>
                    <a:pt x="166" y="3068"/>
                  </a:lnTo>
                  <a:lnTo>
                    <a:pt x="146" y="3068"/>
                  </a:lnTo>
                  <a:lnTo>
                    <a:pt x="127" y="3069"/>
                  </a:lnTo>
                  <a:lnTo>
                    <a:pt x="109" y="3072"/>
                  </a:lnTo>
                  <a:lnTo>
                    <a:pt x="99" y="3075"/>
                  </a:lnTo>
                  <a:lnTo>
                    <a:pt x="90" y="3078"/>
                  </a:lnTo>
                  <a:lnTo>
                    <a:pt x="82" y="3082"/>
                  </a:lnTo>
                  <a:lnTo>
                    <a:pt x="73" y="3086"/>
                  </a:lnTo>
                  <a:lnTo>
                    <a:pt x="63" y="3092"/>
                  </a:lnTo>
                  <a:lnTo>
                    <a:pt x="55" y="3099"/>
                  </a:lnTo>
                  <a:lnTo>
                    <a:pt x="46" y="3106"/>
                  </a:lnTo>
                  <a:lnTo>
                    <a:pt x="37" y="3114"/>
                  </a:lnTo>
                  <a:lnTo>
                    <a:pt x="30" y="3112"/>
                  </a:lnTo>
                  <a:lnTo>
                    <a:pt x="23" y="3110"/>
                  </a:lnTo>
                  <a:lnTo>
                    <a:pt x="19" y="3107"/>
                  </a:lnTo>
                  <a:lnTo>
                    <a:pt x="14" y="3104"/>
                  </a:lnTo>
                  <a:lnTo>
                    <a:pt x="9" y="3100"/>
                  </a:lnTo>
                  <a:lnTo>
                    <a:pt x="7" y="3097"/>
                  </a:lnTo>
                  <a:lnTo>
                    <a:pt x="5" y="3092"/>
                  </a:lnTo>
                  <a:lnTo>
                    <a:pt x="2" y="3089"/>
                  </a:lnTo>
                  <a:lnTo>
                    <a:pt x="0" y="3079"/>
                  </a:lnTo>
                  <a:lnTo>
                    <a:pt x="0" y="3070"/>
                  </a:lnTo>
                  <a:lnTo>
                    <a:pt x="1" y="3059"/>
                  </a:lnTo>
                  <a:lnTo>
                    <a:pt x="4" y="3048"/>
                  </a:lnTo>
                  <a:lnTo>
                    <a:pt x="11" y="3025"/>
                  </a:lnTo>
                  <a:lnTo>
                    <a:pt x="19" y="3002"/>
                  </a:lnTo>
                  <a:lnTo>
                    <a:pt x="22" y="2990"/>
                  </a:lnTo>
                  <a:lnTo>
                    <a:pt x="25" y="2980"/>
                  </a:lnTo>
                  <a:lnTo>
                    <a:pt x="26" y="2969"/>
                  </a:lnTo>
                  <a:lnTo>
                    <a:pt x="27" y="2959"/>
                  </a:lnTo>
                  <a:lnTo>
                    <a:pt x="39" y="2889"/>
                  </a:lnTo>
                  <a:lnTo>
                    <a:pt x="50" y="2820"/>
                  </a:lnTo>
                  <a:lnTo>
                    <a:pt x="61" y="2749"/>
                  </a:lnTo>
                  <a:lnTo>
                    <a:pt x="70" y="2680"/>
                  </a:lnTo>
                  <a:lnTo>
                    <a:pt x="78" y="2611"/>
                  </a:lnTo>
                  <a:lnTo>
                    <a:pt x="85" y="2542"/>
                  </a:lnTo>
                  <a:lnTo>
                    <a:pt x="92" y="2475"/>
                  </a:lnTo>
                  <a:lnTo>
                    <a:pt x="98" y="2406"/>
                  </a:lnTo>
                  <a:lnTo>
                    <a:pt x="103" y="2337"/>
                  </a:lnTo>
                  <a:lnTo>
                    <a:pt x="108" y="2269"/>
                  </a:lnTo>
                  <a:lnTo>
                    <a:pt x="111" y="2201"/>
                  </a:lnTo>
                  <a:lnTo>
                    <a:pt x="115" y="2132"/>
                  </a:lnTo>
                  <a:lnTo>
                    <a:pt x="119" y="1995"/>
                  </a:lnTo>
                  <a:lnTo>
                    <a:pt x="123" y="1858"/>
                  </a:lnTo>
                  <a:lnTo>
                    <a:pt x="125" y="1721"/>
                  </a:lnTo>
                  <a:lnTo>
                    <a:pt x="127" y="1584"/>
                  </a:lnTo>
                  <a:lnTo>
                    <a:pt x="129" y="1446"/>
                  </a:lnTo>
                  <a:lnTo>
                    <a:pt x="131" y="1307"/>
                  </a:lnTo>
                  <a:lnTo>
                    <a:pt x="132" y="1167"/>
                  </a:lnTo>
                  <a:lnTo>
                    <a:pt x="136" y="1027"/>
                  </a:lnTo>
                  <a:lnTo>
                    <a:pt x="140" y="884"/>
                  </a:lnTo>
                  <a:lnTo>
                    <a:pt x="147" y="740"/>
                  </a:lnTo>
                  <a:lnTo>
                    <a:pt x="125" y="644"/>
                  </a:lnTo>
                  <a:lnTo>
                    <a:pt x="105" y="553"/>
                  </a:lnTo>
                  <a:lnTo>
                    <a:pt x="96" y="508"/>
                  </a:lnTo>
                  <a:lnTo>
                    <a:pt x="89" y="465"/>
                  </a:lnTo>
                  <a:lnTo>
                    <a:pt x="83" y="423"/>
                  </a:lnTo>
                  <a:lnTo>
                    <a:pt x="80" y="381"/>
                  </a:lnTo>
                  <a:lnTo>
                    <a:pt x="78" y="360"/>
                  </a:lnTo>
                  <a:lnTo>
                    <a:pt x="78" y="339"/>
                  </a:lnTo>
                  <a:lnTo>
                    <a:pt x="78" y="318"/>
                  </a:lnTo>
                  <a:lnTo>
                    <a:pt x="80" y="297"/>
                  </a:lnTo>
                  <a:lnTo>
                    <a:pt x="82" y="276"/>
                  </a:lnTo>
                  <a:lnTo>
                    <a:pt x="84" y="256"/>
                  </a:lnTo>
                  <a:lnTo>
                    <a:pt x="88" y="235"/>
                  </a:lnTo>
                  <a:lnTo>
                    <a:pt x="92" y="214"/>
                  </a:lnTo>
                  <a:lnTo>
                    <a:pt x="98" y="191"/>
                  </a:lnTo>
                  <a:lnTo>
                    <a:pt x="104" y="170"/>
                  </a:lnTo>
                  <a:lnTo>
                    <a:pt x="111" y="149"/>
                  </a:lnTo>
                  <a:lnTo>
                    <a:pt x="119" y="127"/>
                  </a:lnTo>
                  <a:lnTo>
                    <a:pt x="130" y="106"/>
                  </a:lnTo>
                  <a:lnTo>
                    <a:pt x="140" y="84"/>
                  </a:lnTo>
                  <a:lnTo>
                    <a:pt x="152" y="62"/>
                  </a:lnTo>
                  <a:lnTo>
                    <a:pt x="165" y="39"/>
                  </a:lnTo>
                  <a:lnTo>
                    <a:pt x="172" y="43"/>
                  </a:lnTo>
                  <a:lnTo>
                    <a:pt x="180" y="45"/>
                  </a:lnTo>
                  <a:lnTo>
                    <a:pt x="189" y="46"/>
                  </a:lnTo>
                  <a:lnTo>
                    <a:pt x="199" y="46"/>
                  </a:lnTo>
                  <a:lnTo>
                    <a:pt x="208" y="45"/>
                  </a:lnTo>
                  <a:lnTo>
                    <a:pt x="218" y="44"/>
                  </a:lnTo>
                  <a:lnTo>
                    <a:pt x="228" y="42"/>
                  </a:lnTo>
                  <a:lnTo>
                    <a:pt x="237" y="38"/>
                  </a:lnTo>
                  <a:lnTo>
                    <a:pt x="280" y="24"/>
                  </a:lnTo>
                  <a:lnTo>
                    <a:pt x="320" y="8"/>
                  </a:lnTo>
                  <a:lnTo>
                    <a:pt x="339" y="3"/>
                  </a:lnTo>
                  <a:lnTo>
                    <a:pt x="357" y="0"/>
                  </a:lnTo>
                  <a:lnTo>
                    <a:pt x="365" y="0"/>
                  </a:lnTo>
                  <a:lnTo>
                    <a:pt x="373" y="0"/>
                  </a:lnTo>
                  <a:lnTo>
                    <a:pt x="379" y="2"/>
                  </a:lnTo>
                  <a:lnTo>
                    <a:pt x="386" y="4"/>
                  </a:lnTo>
                  <a:lnTo>
                    <a:pt x="392" y="9"/>
                  </a:lnTo>
                  <a:lnTo>
                    <a:pt x="396" y="15"/>
                  </a:lnTo>
                  <a:lnTo>
                    <a:pt x="400" y="22"/>
                  </a:lnTo>
                  <a:lnTo>
                    <a:pt x="403" y="30"/>
                  </a:lnTo>
                  <a:lnTo>
                    <a:pt x="406" y="41"/>
                  </a:lnTo>
                  <a:lnTo>
                    <a:pt x="407" y="53"/>
                  </a:lnTo>
                  <a:lnTo>
                    <a:pt x="407" y="67"/>
                  </a:lnTo>
                  <a:lnTo>
                    <a:pt x="407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66200" y="6114600"/>
              <a:ext cx="489960" cy="214200"/>
            </a:xfrm>
            <a:custGeom>
              <a:avLst/>
              <a:gdLst/>
              <a:ahLst/>
              <a:rect l="l" t="t" r="r" b="b"/>
              <a:pathLst>
                <a:path w="1644" h="811">
                  <a:moveTo>
                    <a:pt x="546" y="79"/>
                  </a:moveTo>
                  <a:lnTo>
                    <a:pt x="550" y="92"/>
                  </a:lnTo>
                  <a:lnTo>
                    <a:pt x="553" y="106"/>
                  </a:lnTo>
                  <a:lnTo>
                    <a:pt x="558" y="118"/>
                  </a:lnTo>
                  <a:lnTo>
                    <a:pt x="564" y="131"/>
                  </a:lnTo>
                  <a:lnTo>
                    <a:pt x="570" y="142"/>
                  </a:lnTo>
                  <a:lnTo>
                    <a:pt x="577" y="154"/>
                  </a:lnTo>
                  <a:lnTo>
                    <a:pt x="585" y="166"/>
                  </a:lnTo>
                  <a:lnTo>
                    <a:pt x="592" y="178"/>
                  </a:lnTo>
                  <a:lnTo>
                    <a:pt x="609" y="200"/>
                  </a:lnTo>
                  <a:lnTo>
                    <a:pt x="628" y="221"/>
                  </a:lnTo>
                  <a:lnTo>
                    <a:pt x="648" y="242"/>
                  </a:lnTo>
                  <a:lnTo>
                    <a:pt x="669" y="262"/>
                  </a:lnTo>
                  <a:lnTo>
                    <a:pt x="711" y="303"/>
                  </a:lnTo>
                  <a:lnTo>
                    <a:pt x="751" y="344"/>
                  </a:lnTo>
                  <a:lnTo>
                    <a:pt x="770" y="365"/>
                  </a:lnTo>
                  <a:lnTo>
                    <a:pt x="787" y="386"/>
                  </a:lnTo>
                  <a:lnTo>
                    <a:pt x="795" y="397"/>
                  </a:lnTo>
                  <a:lnTo>
                    <a:pt x="802" y="408"/>
                  </a:lnTo>
                  <a:lnTo>
                    <a:pt x="809" y="420"/>
                  </a:lnTo>
                  <a:lnTo>
                    <a:pt x="815" y="431"/>
                  </a:lnTo>
                  <a:lnTo>
                    <a:pt x="844" y="427"/>
                  </a:lnTo>
                  <a:lnTo>
                    <a:pt x="875" y="423"/>
                  </a:lnTo>
                  <a:lnTo>
                    <a:pt x="905" y="422"/>
                  </a:lnTo>
                  <a:lnTo>
                    <a:pt x="937" y="421"/>
                  </a:lnTo>
                  <a:lnTo>
                    <a:pt x="970" y="422"/>
                  </a:lnTo>
                  <a:lnTo>
                    <a:pt x="1001" y="422"/>
                  </a:lnTo>
                  <a:lnTo>
                    <a:pt x="1033" y="422"/>
                  </a:lnTo>
                  <a:lnTo>
                    <a:pt x="1064" y="421"/>
                  </a:lnTo>
                  <a:lnTo>
                    <a:pt x="1082" y="433"/>
                  </a:lnTo>
                  <a:lnTo>
                    <a:pt x="1101" y="442"/>
                  </a:lnTo>
                  <a:lnTo>
                    <a:pt x="1119" y="451"/>
                  </a:lnTo>
                  <a:lnTo>
                    <a:pt x="1138" y="459"/>
                  </a:lnTo>
                  <a:lnTo>
                    <a:pt x="1157" y="466"/>
                  </a:lnTo>
                  <a:lnTo>
                    <a:pt x="1175" y="472"/>
                  </a:lnTo>
                  <a:lnTo>
                    <a:pt x="1194" y="477"/>
                  </a:lnTo>
                  <a:lnTo>
                    <a:pt x="1213" y="482"/>
                  </a:lnTo>
                  <a:lnTo>
                    <a:pt x="1250" y="490"/>
                  </a:lnTo>
                  <a:lnTo>
                    <a:pt x="1288" y="496"/>
                  </a:lnTo>
                  <a:lnTo>
                    <a:pt x="1326" y="502"/>
                  </a:lnTo>
                  <a:lnTo>
                    <a:pt x="1364" y="506"/>
                  </a:lnTo>
                  <a:lnTo>
                    <a:pt x="1401" y="512"/>
                  </a:lnTo>
                  <a:lnTo>
                    <a:pt x="1437" y="518"/>
                  </a:lnTo>
                  <a:lnTo>
                    <a:pt x="1456" y="521"/>
                  </a:lnTo>
                  <a:lnTo>
                    <a:pt x="1474" y="526"/>
                  </a:lnTo>
                  <a:lnTo>
                    <a:pt x="1492" y="531"/>
                  </a:lnTo>
                  <a:lnTo>
                    <a:pt x="1510" y="537"/>
                  </a:lnTo>
                  <a:lnTo>
                    <a:pt x="1527" y="542"/>
                  </a:lnTo>
                  <a:lnTo>
                    <a:pt x="1545" y="549"/>
                  </a:lnTo>
                  <a:lnTo>
                    <a:pt x="1561" y="558"/>
                  </a:lnTo>
                  <a:lnTo>
                    <a:pt x="1579" y="567"/>
                  </a:lnTo>
                  <a:lnTo>
                    <a:pt x="1595" y="578"/>
                  </a:lnTo>
                  <a:lnTo>
                    <a:pt x="1613" y="588"/>
                  </a:lnTo>
                  <a:lnTo>
                    <a:pt x="1628" y="601"/>
                  </a:lnTo>
                  <a:lnTo>
                    <a:pt x="1644" y="615"/>
                  </a:lnTo>
                  <a:lnTo>
                    <a:pt x="1644" y="623"/>
                  </a:lnTo>
                  <a:lnTo>
                    <a:pt x="1643" y="630"/>
                  </a:lnTo>
                  <a:lnTo>
                    <a:pt x="1641" y="637"/>
                  </a:lnTo>
                  <a:lnTo>
                    <a:pt x="1636" y="644"/>
                  </a:lnTo>
                  <a:lnTo>
                    <a:pt x="1631" y="650"/>
                  </a:lnTo>
                  <a:lnTo>
                    <a:pt x="1627" y="656"/>
                  </a:lnTo>
                  <a:lnTo>
                    <a:pt x="1620" y="661"/>
                  </a:lnTo>
                  <a:lnTo>
                    <a:pt x="1614" y="665"/>
                  </a:lnTo>
                  <a:lnTo>
                    <a:pt x="1599" y="675"/>
                  </a:lnTo>
                  <a:lnTo>
                    <a:pt x="1582" y="680"/>
                  </a:lnTo>
                  <a:lnTo>
                    <a:pt x="1566" y="686"/>
                  </a:lnTo>
                  <a:lnTo>
                    <a:pt x="1551" y="691"/>
                  </a:lnTo>
                  <a:lnTo>
                    <a:pt x="1516" y="691"/>
                  </a:lnTo>
                  <a:lnTo>
                    <a:pt x="1484" y="690"/>
                  </a:lnTo>
                  <a:lnTo>
                    <a:pt x="1455" y="686"/>
                  </a:lnTo>
                  <a:lnTo>
                    <a:pt x="1428" y="680"/>
                  </a:lnTo>
                  <a:lnTo>
                    <a:pt x="1401" y="675"/>
                  </a:lnTo>
                  <a:lnTo>
                    <a:pt x="1374" y="668"/>
                  </a:lnTo>
                  <a:lnTo>
                    <a:pt x="1345" y="661"/>
                  </a:lnTo>
                  <a:lnTo>
                    <a:pt x="1313" y="652"/>
                  </a:lnTo>
                  <a:lnTo>
                    <a:pt x="1318" y="672"/>
                  </a:lnTo>
                  <a:lnTo>
                    <a:pt x="1326" y="693"/>
                  </a:lnTo>
                  <a:lnTo>
                    <a:pt x="1336" y="718"/>
                  </a:lnTo>
                  <a:lnTo>
                    <a:pt x="1343" y="741"/>
                  </a:lnTo>
                  <a:lnTo>
                    <a:pt x="1345" y="753"/>
                  </a:lnTo>
                  <a:lnTo>
                    <a:pt x="1345" y="765"/>
                  </a:lnTo>
                  <a:lnTo>
                    <a:pt x="1345" y="769"/>
                  </a:lnTo>
                  <a:lnTo>
                    <a:pt x="1344" y="775"/>
                  </a:lnTo>
                  <a:lnTo>
                    <a:pt x="1343" y="780"/>
                  </a:lnTo>
                  <a:lnTo>
                    <a:pt x="1340" y="785"/>
                  </a:lnTo>
                  <a:lnTo>
                    <a:pt x="1337" y="789"/>
                  </a:lnTo>
                  <a:lnTo>
                    <a:pt x="1333" y="793"/>
                  </a:lnTo>
                  <a:lnTo>
                    <a:pt x="1330" y="797"/>
                  </a:lnTo>
                  <a:lnTo>
                    <a:pt x="1324" y="801"/>
                  </a:lnTo>
                  <a:lnTo>
                    <a:pt x="1318" y="804"/>
                  </a:lnTo>
                  <a:lnTo>
                    <a:pt x="1312" y="807"/>
                  </a:lnTo>
                  <a:lnTo>
                    <a:pt x="1304" y="809"/>
                  </a:lnTo>
                  <a:lnTo>
                    <a:pt x="1296" y="811"/>
                  </a:lnTo>
                  <a:lnTo>
                    <a:pt x="1277" y="803"/>
                  </a:lnTo>
                  <a:lnTo>
                    <a:pt x="1258" y="796"/>
                  </a:lnTo>
                  <a:lnTo>
                    <a:pt x="1237" y="792"/>
                  </a:lnTo>
                  <a:lnTo>
                    <a:pt x="1218" y="787"/>
                  </a:lnTo>
                  <a:lnTo>
                    <a:pt x="1195" y="782"/>
                  </a:lnTo>
                  <a:lnTo>
                    <a:pt x="1173" y="780"/>
                  </a:lnTo>
                  <a:lnTo>
                    <a:pt x="1151" y="778"/>
                  </a:lnTo>
                  <a:lnTo>
                    <a:pt x="1127" y="776"/>
                  </a:lnTo>
                  <a:lnTo>
                    <a:pt x="1029" y="774"/>
                  </a:lnTo>
                  <a:lnTo>
                    <a:pt x="929" y="774"/>
                  </a:lnTo>
                  <a:lnTo>
                    <a:pt x="878" y="773"/>
                  </a:lnTo>
                  <a:lnTo>
                    <a:pt x="829" y="769"/>
                  </a:lnTo>
                  <a:lnTo>
                    <a:pt x="806" y="767"/>
                  </a:lnTo>
                  <a:lnTo>
                    <a:pt x="781" y="764"/>
                  </a:lnTo>
                  <a:lnTo>
                    <a:pt x="758" y="759"/>
                  </a:lnTo>
                  <a:lnTo>
                    <a:pt x="736" y="753"/>
                  </a:lnTo>
                  <a:lnTo>
                    <a:pt x="713" y="747"/>
                  </a:lnTo>
                  <a:lnTo>
                    <a:pt x="691" y="739"/>
                  </a:lnTo>
                  <a:lnTo>
                    <a:pt x="671" y="731"/>
                  </a:lnTo>
                  <a:lnTo>
                    <a:pt x="652" y="720"/>
                  </a:lnTo>
                  <a:lnTo>
                    <a:pt x="632" y="709"/>
                  </a:lnTo>
                  <a:lnTo>
                    <a:pt x="614" y="696"/>
                  </a:lnTo>
                  <a:lnTo>
                    <a:pt x="597" y="680"/>
                  </a:lnTo>
                  <a:lnTo>
                    <a:pt x="580" y="663"/>
                  </a:lnTo>
                  <a:lnTo>
                    <a:pt x="571" y="628"/>
                  </a:lnTo>
                  <a:lnTo>
                    <a:pt x="560" y="593"/>
                  </a:lnTo>
                  <a:lnTo>
                    <a:pt x="554" y="575"/>
                  </a:lnTo>
                  <a:lnTo>
                    <a:pt x="549" y="558"/>
                  </a:lnTo>
                  <a:lnTo>
                    <a:pt x="543" y="541"/>
                  </a:lnTo>
                  <a:lnTo>
                    <a:pt x="536" y="524"/>
                  </a:lnTo>
                  <a:lnTo>
                    <a:pt x="528" y="507"/>
                  </a:lnTo>
                  <a:lnTo>
                    <a:pt x="518" y="492"/>
                  </a:lnTo>
                  <a:lnTo>
                    <a:pt x="508" y="477"/>
                  </a:lnTo>
                  <a:lnTo>
                    <a:pt x="496" y="462"/>
                  </a:lnTo>
                  <a:lnTo>
                    <a:pt x="483" y="448"/>
                  </a:lnTo>
                  <a:lnTo>
                    <a:pt x="469" y="435"/>
                  </a:lnTo>
                  <a:lnTo>
                    <a:pt x="453" y="422"/>
                  </a:lnTo>
                  <a:lnTo>
                    <a:pt x="435" y="411"/>
                  </a:lnTo>
                  <a:lnTo>
                    <a:pt x="425" y="416"/>
                  </a:lnTo>
                  <a:lnTo>
                    <a:pt x="413" y="420"/>
                  </a:lnTo>
                  <a:lnTo>
                    <a:pt x="407" y="421"/>
                  </a:lnTo>
                  <a:lnTo>
                    <a:pt x="401" y="422"/>
                  </a:lnTo>
                  <a:lnTo>
                    <a:pt x="395" y="422"/>
                  </a:lnTo>
                  <a:lnTo>
                    <a:pt x="391" y="421"/>
                  </a:lnTo>
                  <a:lnTo>
                    <a:pt x="390" y="458"/>
                  </a:lnTo>
                  <a:lnTo>
                    <a:pt x="390" y="495"/>
                  </a:lnTo>
                  <a:lnTo>
                    <a:pt x="390" y="512"/>
                  </a:lnTo>
                  <a:lnTo>
                    <a:pt x="387" y="531"/>
                  </a:lnTo>
                  <a:lnTo>
                    <a:pt x="383" y="549"/>
                  </a:lnTo>
                  <a:lnTo>
                    <a:pt x="377" y="569"/>
                  </a:lnTo>
                  <a:lnTo>
                    <a:pt x="360" y="586"/>
                  </a:lnTo>
                  <a:lnTo>
                    <a:pt x="345" y="602"/>
                  </a:lnTo>
                  <a:lnTo>
                    <a:pt x="328" y="616"/>
                  </a:lnTo>
                  <a:lnTo>
                    <a:pt x="310" y="629"/>
                  </a:lnTo>
                  <a:lnTo>
                    <a:pt x="292" y="641"/>
                  </a:lnTo>
                  <a:lnTo>
                    <a:pt x="274" y="651"/>
                  </a:lnTo>
                  <a:lnTo>
                    <a:pt x="255" y="661"/>
                  </a:lnTo>
                  <a:lnTo>
                    <a:pt x="235" y="669"/>
                  </a:lnTo>
                  <a:lnTo>
                    <a:pt x="215" y="675"/>
                  </a:lnTo>
                  <a:lnTo>
                    <a:pt x="194" y="679"/>
                  </a:lnTo>
                  <a:lnTo>
                    <a:pt x="173" y="683"/>
                  </a:lnTo>
                  <a:lnTo>
                    <a:pt x="151" y="684"/>
                  </a:lnTo>
                  <a:lnTo>
                    <a:pt x="128" y="684"/>
                  </a:lnTo>
                  <a:lnTo>
                    <a:pt x="104" y="683"/>
                  </a:lnTo>
                  <a:lnTo>
                    <a:pt x="81" y="679"/>
                  </a:lnTo>
                  <a:lnTo>
                    <a:pt x="55" y="673"/>
                  </a:lnTo>
                  <a:lnTo>
                    <a:pt x="0" y="645"/>
                  </a:lnTo>
                  <a:lnTo>
                    <a:pt x="5" y="629"/>
                  </a:lnTo>
                  <a:lnTo>
                    <a:pt x="9" y="613"/>
                  </a:lnTo>
                  <a:lnTo>
                    <a:pt x="13" y="595"/>
                  </a:lnTo>
                  <a:lnTo>
                    <a:pt x="15" y="576"/>
                  </a:lnTo>
                  <a:lnTo>
                    <a:pt x="18" y="539"/>
                  </a:lnTo>
                  <a:lnTo>
                    <a:pt x="19" y="500"/>
                  </a:lnTo>
                  <a:lnTo>
                    <a:pt x="17" y="421"/>
                  </a:lnTo>
                  <a:lnTo>
                    <a:pt x="17" y="340"/>
                  </a:lnTo>
                  <a:lnTo>
                    <a:pt x="17" y="320"/>
                  </a:lnTo>
                  <a:lnTo>
                    <a:pt x="18" y="302"/>
                  </a:lnTo>
                  <a:lnTo>
                    <a:pt x="20" y="282"/>
                  </a:lnTo>
                  <a:lnTo>
                    <a:pt x="22" y="263"/>
                  </a:lnTo>
                  <a:lnTo>
                    <a:pt x="26" y="244"/>
                  </a:lnTo>
                  <a:lnTo>
                    <a:pt x="31" y="227"/>
                  </a:lnTo>
                  <a:lnTo>
                    <a:pt x="35" y="209"/>
                  </a:lnTo>
                  <a:lnTo>
                    <a:pt x="42" y="192"/>
                  </a:lnTo>
                  <a:lnTo>
                    <a:pt x="50" y="175"/>
                  </a:lnTo>
                  <a:lnTo>
                    <a:pt x="60" y="159"/>
                  </a:lnTo>
                  <a:lnTo>
                    <a:pt x="70" y="144"/>
                  </a:lnTo>
                  <a:lnTo>
                    <a:pt x="82" y="130"/>
                  </a:lnTo>
                  <a:lnTo>
                    <a:pt x="96" y="116"/>
                  </a:lnTo>
                  <a:lnTo>
                    <a:pt x="111" y="103"/>
                  </a:lnTo>
                  <a:lnTo>
                    <a:pt x="129" y="91"/>
                  </a:lnTo>
                  <a:lnTo>
                    <a:pt x="149" y="79"/>
                  </a:lnTo>
                  <a:lnTo>
                    <a:pt x="160" y="79"/>
                  </a:lnTo>
                  <a:lnTo>
                    <a:pt x="171" y="79"/>
                  </a:lnTo>
                  <a:lnTo>
                    <a:pt x="183" y="78"/>
                  </a:lnTo>
                  <a:lnTo>
                    <a:pt x="193" y="77"/>
                  </a:lnTo>
                  <a:lnTo>
                    <a:pt x="213" y="72"/>
                  </a:lnTo>
                  <a:lnTo>
                    <a:pt x="233" y="65"/>
                  </a:lnTo>
                  <a:lnTo>
                    <a:pt x="269" y="47"/>
                  </a:lnTo>
                  <a:lnTo>
                    <a:pt x="304" y="28"/>
                  </a:lnTo>
                  <a:lnTo>
                    <a:pt x="322" y="18"/>
                  </a:lnTo>
                  <a:lnTo>
                    <a:pt x="340" y="10"/>
                  </a:lnTo>
                  <a:lnTo>
                    <a:pt x="358" y="4"/>
                  </a:lnTo>
                  <a:lnTo>
                    <a:pt x="378" y="1"/>
                  </a:lnTo>
                  <a:lnTo>
                    <a:pt x="387" y="0"/>
                  </a:lnTo>
                  <a:lnTo>
                    <a:pt x="398" y="0"/>
                  </a:lnTo>
                  <a:lnTo>
                    <a:pt x="407" y="0"/>
                  </a:lnTo>
                  <a:lnTo>
                    <a:pt x="418" y="1"/>
                  </a:lnTo>
                  <a:lnTo>
                    <a:pt x="428" y="3"/>
                  </a:lnTo>
                  <a:lnTo>
                    <a:pt x="440" y="7"/>
                  </a:lnTo>
                  <a:lnTo>
                    <a:pt x="452" y="11"/>
                  </a:lnTo>
                  <a:lnTo>
                    <a:pt x="463" y="17"/>
                  </a:lnTo>
                  <a:lnTo>
                    <a:pt x="54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0840" y="6168600"/>
              <a:ext cx="480960" cy="227160"/>
            </a:xfrm>
            <a:custGeom>
              <a:avLst/>
              <a:gdLst/>
              <a:ahLst/>
              <a:rect l="l" t="t" r="r" b="b"/>
              <a:pathLst>
                <a:path w="1609" h="857">
                  <a:moveTo>
                    <a:pt x="1545" y="37"/>
                  </a:moveTo>
                  <a:lnTo>
                    <a:pt x="1550" y="67"/>
                  </a:lnTo>
                  <a:lnTo>
                    <a:pt x="1556" y="96"/>
                  </a:lnTo>
                  <a:lnTo>
                    <a:pt x="1564" y="125"/>
                  </a:lnTo>
                  <a:lnTo>
                    <a:pt x="1571" y="154"/>
                  </a:lnTo>
                  <a:lnTo>
                    <a:pt x="1587" y="212"/>
                  </a:lnTo>
                  <a:lnTo>
                    <a:pt x="1600" y="269"/>
                  </a:lnTo>
                  <a:lnTo>
                    <a:pt x="1605" y="297"/>
                  </a:lnTo>
                  <a:lnTo>
                    <a:pt x="1608" y="325"/>
                  </a:lnTo>
                  <a:lnTo>
                    <a:pt x="1609" y="353"/>
                  </a:lnTo>
                  <a:lnTo>
                    <a:pt x="1609" y="380"/>
                  </a:lnTo>
                  <a:lnTo>
                    <a:pt x="1608" y="394"/>
                  </a:lnTo>
                  <a:lnTo>
                    <a:pt x="1606" y="408"/>
                  </a:lnTo>
                  <a:lnTo>
                    <a:pt x="1602" y="421"/>
                  </a:lnTo>
                  <a:lnTo>
                    <a:pt x="1599" y="435"/>
                  </a:lnTo>
                  <a:lnTo>
                    <a:pt x="1594" y="449"/>
                  </a:lnTo>
                  <a:lnTo>
                    <a:pt x="1589" y="463"/>
                  </a:lnTo>
                  <a:lnTo>
                    <a:pt x="1582" y="476"/>
                  </a:lnTo>
                  <a:lnTo>
                    <a:pt x="1575" y="490"/>
                  </a:lnTo>
                  <a:lnTo>
                    <a:pt x="1553" y="509"/>
                  </a:lnTo>
                  <a:lnTo>
                    <a:pt x="1530" y="526"/>
                  </a:lnTo>
                  <a:lnTo>
                    <a:pt x="1518" y="534"/>
                  </a:lnTo>
                  <a:lnTo>
                    <a:pt x="1505" y="541"/>
                  </a:lnTo>
                  <a:lnTo>
                    <a:pt x="1492" y="548"/>
                  </a:lnTo>
                  <a:lnTo>
                    <a:pt x="1480" y="553"/>
                  </a:lnTo>
                  <a:lnTo>
                    <a:pt x="1467" y="559"/>
                  </a:lnTo>
                  <a:lnTo>
                    <a:pt x="1454" y="563"/>
                  </a:lnTo>
                  <a:lnTo>
                    <a:pt x="1441" y="565"/>
                  </a:lnTo>
                  <a:lnTo>
                    <a:pt x="1427" y="566"/>
                  </a:lnTo>
                  <a:lnTo>
                    <a:pt x="1414" y="565"/>
                  </a:lnTo>
                  <a:lnTo>
                    <a:pt x="1400" y="564"/>
                  </a:lnTo>
                  <a:lnTo>
                    <a:pt x="1386" y="560"/>
                  </a:lnTo>
                  <a:lnTo>
                    <a:pt x="1372" y="555"/>
                  </a:lnTo>
                  <a:lnTo>
                    <a:pt x="1353" y="529"/>
                  </a:lnTo>
                  <a:lnTo>
                    <a:pt x="1336" y="501"/>
                  </a:lnTo>
                  <a:lnTo>
                    <a:pt x="1320" y="472"/>
                  </a:lnTo>
                  <a:lnTo>
                    <a:pt x="1306" y="443"/>
                  </a:lnTo>
                  <a:lnTo>
                    <a:pt x="1294" y="414"/>
                  </a:lnTo>
                  <a:lnTo>
                    <a:pt x="1282" y="384"/>
                  </a:lnTo>
                  <a:lnTo>
                    <a:pt x="1270" y="352"/>
                  </a:lnTo>
                  <a:lnTo>
                    <a:pt x="1261" y="320"/>
                  </a:lnTo>
                  <a:lnTo>
                    <a:pt x="1248" y="343"/>
                  </a:lnTo>
                  <a:lnTo>
                    <a:pt x="1236" y="366"/>
                  </a:lnTo>
                  <a:lnTo>
                    <a:pt x="1225" y="391"/>
                  </a:lnTo>
                  <a:lnTo>
                    <a:pt x="1212" y="416"/>
                  </a:lnTo>
                  <a:lnTo>
                    <a:pt x="1200" y="443"/>
                  </a:lnTo>
                  <a:lnTo>
                    <a:pt x="1187" y="469"/>
                  </a:lnTo>
                  <a:lnTo>
                    <a:pt x="1174" y="495"/>
                  </a:lnTo>
                  <a:lnTo>
                    <a:pt x="1160" y="519"/>
                  </a:lnTo>
                  <a:lnTo>
                    <a:pt x="1145" y="543"/>
                  </a:lnTo>
                  <a:lnTo>
                    <a:pt x="1129" y="565"/>
                  </a:lnTo>
                  <a:lnTo>
                    <a:pt x="1119" y="574"/>
                  </a:lnTo>
                  <a:lnTo>
                    <a:pt x="1111" y="584"/>
                  </a:lnTo>
                  <a:lnTo>
                    <a:pt x="1101" y="592"/>
                  </a:lnTo>
                  <a:lnTo>
                    <a:pt x="1091" y="600"/>
                  </a:lnTo>
                  <a:lnTo>
                    <a:pt x="1081" y="607"/>
                  </a:lnTo>
                  <a:lnTo>
                    <a:pt x="1070" y="613"/>
                  </a:lnTo>
                  <a:lnTo>
                    <a:pt x="1059" y="619"/>
                  </a:lnTo>
                  <a:lnTo>
                    <a:pt x="1046" y="622"/>
                  </a:lnTo>
                  <a:lnTo>
                    <a:pt x="1034" y="626"/>
                  </a:lnTo>
                  <a:lnTo>
                    <a:pt x="1020" y="628"/>
                  </a:lnTo>
                  <a:lnTo>
                    <a:pt x="1006" y="628"/>
                  </a:lnTo>
                  <a:lnTo>
                    <a:pt x="992" y="628"/>
                  </a:lnTo>
                  <a:lnTo>
                    <a:pt x="987" y="621"/>
                  </a:lnTo>
                  <a:lnTo>
                    <a:pt x="984" y="614"/>
                  </a:lnTo>
                  <a:lnTo>
                    <a:pt x="979" y="608"/>
                  </a:lnTo>
                  <a:lnTo>
                    <a:pt x="973" y="603"/>
                  </a:lnTo>
                  <a:lnTo>
                    <a:pt x="963" y="594"/>
                  </a:lnTo>
                  <a:lnTo>
                    <a:pt x="951" y="587"/>
                  </a:lnTo>
                  <a:lnTo>
                    <a:pt x="938" y="582"/>
                  </a:lnTo>
                  <a:lnTo>
                    <a:pt x="925" y="579"/>
                  </a:lnTo>
                  <a:lnTo>
                    <a:pt x="911" y="577"/>
                  </a:lnTo>
                  <a:lnTo>
                    <a:pt x="897" y="577"/>
                  </a:lnTo>
                  <a:lnTo>
                    <a:pt x="883" y="578"/>
                  </a:lnTo>
                  <a:lnTo>
                    <a:pt x="869" y="580"/>
                  </a:lnTo>
                  <a:lnTo>
                    <a:pt x="854" y="584"/>
                  </a:lnTo>
                  <a:lnTo>
                    <a:pt x="840" y="588"/>
                  </a:lnTo>
                  <a:lnTo>
                    <a:pt x="826" y="593"/>
                  </a:lnTo>
                  <a:lnTo>
                    <a:pt x="813" y="599"/>
                  </a:lnTo>
                  <a:lnTo>
                    <a:pt x="800" y="605"/>
                  </a:lnTo>
                  <a:lnTo>
                    <a:pt x="788" y="610"/>
                  </a:lnTo>
                  <a:lnTo>
                    <a:pt x="769" y="619"/>
                  </a:lnTo>
                  <a:lnTo>
                    <a:pt x="750" y="627"/>
                  </a:lnTo>
                  <a:lnTo>
                    <a:pt x="731" y="635"/>
                  </a:lnTo>
                  <a:lnTo>
                    <a:pt x="712" y="644"/>
                  </a:lnTo>
                  <a:lnTo>
                    <a:pt x="676" y="664"/>
                  </a:lnTo>
                  <a:lnTo>
                    <a:pt x="639" y="686"/>
                  </a:lnTo>
                  <a:lnTo>
                    <a:pt x="566" y="731"/>
                  </a:lnTo>
                  <a:lnTo>
                    <a:pt x="493" y="774"/>
                  </a:lnTo>
                  <a:lnTo>
                    <a:pt x="456" y="794"/>
                  </a:lnTo>
                  <a:lnTo>
                    <a:pt x="419" y="813"/>
                  </a:lnTo>
                  <a:lnTo>
                    <a:pt x="400" y="821"/>
                  </a:lnTo>
                  <a:lnTo>
                    <a:pt x="380" y="829"/>
                  </a:lnTo>
                  <a:lnTo>
                    <a:pt x="362" y="835"/>
                  </a:lnTo>
                  <a:lnTo>
                    <a:pt x="343" y="842"/>
                  </a:lnTo>
                  <a:lnTo>
                    <a:pt x="323" y="847"/>
                  </a:lnTo>
                  <a:lnTo>
                    <a:pt x="303" y="851"/>
                  </a:lnTo>
                  <a:lnTo>
                    <a:pt x="283" y="854"/>
                  </a:lnTo>
                  <a:lnTo>
                    <a:pt x="263" y="856"/>
                  </a:lnTo>
                  <a:lnTo>
                    <a:pt x="242" y="857"/>
                  </a:lnTo>
                  <a:lnTo>
                    <a:pt x="222" y="857"/>
                  </a:lnTo>
                  <a:lnTo>
                    <a:pt x="201" y="855"/>
                  </a:lnTo>
                  <a:lnTo>
                    <a:pt x="180" y="853"/>
                  </a:lnTo>
                  <a:lnTo>
                    <a:pt x="171" y="847"/>
                  </a:lnTo>
                  <a:lnTo>
                    <a:pt x="165" y="841"/>
                  </a:lnTo>
                  <a:lnTo>
                    <a:pt x="162" y="835"/>
                  </a:lnTo>
                  <a:lnTo>
                    <a:pt x="160" y="830"/>
                  </a:lnTo>
                  <a:lnTo>
                    <a:pt x="160" y="826"/>
                  </a:lnTo>
                  <a:lnTo>
                    <a:pt x="162" y="821"/>
                  </a:lnTo>
                  <a:lnTo>
                    <a:pt x="164" y="817"/>
                  </a:lnTo>
                  <a:lnTo>
                    <a:pt x="167" y="813"/>
                  </a:lnTo>
                  <a:lnTo>
                    <a:pt x="177" y="805"/>
                  </a:lnTo>
                  <a:lnTo>
                    <a:pt x="186" y="795"/>
                  </a:lnTo>
                  <a:lnTo>
                    <a:pt x="190" y="791"/>
                  </a:lnTo>
                  <a:lnTo>
                    <a:pt x="193" y="785"/>
                  </a:lnTo>
                  <a:lnTo>
                    <a:pt x="195" y="779"/>
                  </a:lnTo>
                  <a:lnTo>
                    <a:pt x="197" y="773"/>
                  </a:lnTo>
                  <a:lnTo>
                    <a:pt x="210" y="764"/>
                  </a:lnTo>
                  <a:lnTo>
                    <a:pt x="224" y="754"/>
                  </a:lnTo>
                  <a:lnTo>
                    <a:pt x="238" y="745"/>
                  </a:lnTo>
                  <a:lnTo>
                    <a:pt x="253" y="737"/>
                  </a:lnTo>
                  <a:lnTo>
                    <a:pt x="284" y="722"/>
                  </a:lnTo>
                  <a:lnTo>
                    <a:pt x="316" y="706"/>
                  </a:lnTo>
                  <a:lnTo>
                    <a:pt x="349" y="691"/>
                  </a:lnTo>
                  <a:lnTo>
                    <a:pt x="380" y="675"/>
                  </a:lnTo>
                  <a:lnTo>
                    <a:pt x="394" y="667"/>
                  </a:lnTo>
                  <a:lnTo>
                    <a:pt x="409" y="656"/>
                  </a:lnTo>
                  <a:lnTo>
                    <a:pt x="422" y="647"/>
                  </a:lnTo>
                  <a:lnTo>
                    <a:pt x="435" y="635"/>
                  </a:lnTo>
                  <a:lnTo>
                    <a:pt x="422" y="635"/>
                  </a:lnTo>
                  <a:lnTo>
                    <a:pt x="408" y="636"/>
                  </a:lnTo>
                  <a:lnTo>
                    <a:pt x="395" y="637"/>
                  </a:lnTo>
                  <a:lnTo>
                    <a:pt x="383" y="639"/>
                  </a:lnTo>
                  <a:lnTo>
                    <a:pt x="356" y="644"/>
                  </a:lnTo>
                  <a:lnTo>
                    <a:pt x="328" y="651"/>
                  </a:lnTo>
                  <a:lnTo>
                    <a:pt x="274" y="667"/>
                  </a:lnTo>
                  <a:lnTo>
                    <a:pt x="219" y="683"/>
                  </a:lnTo>
                  <a:lnTo>
                    <a:pt x="192" y="689"/>
                  </a:lnTo>
                  <a:lnTo>
                    <a:pt x="164" y="694"/>
                  </a:lnTo>
                  <a:lnTo>
                    <a:pt x="151" y="696"/>
                  </a:lnTo>
                  <a:lnTo>
                    <a:pt x="137" y="697"/>
                  </a:lnTo>
                  <a:lnTo>
                    <a:pt x="123" y="697"/>
                  </a:lnTo>
                  <a:lnTo>
                    <a:pt x="109" y="697"/>
                  </a:lnTo>
                  <a:lnTo>
                    <a:pt x="96" y="696"/>
                  </a:lnTo>
                  <a:lnTo>
                    <a:pt x="82" y="695"/>
                  </a:lnTo>
                  <a:lnTo>
                    <a:pt x="68" y="691"/>
                  </a:lnTo>
                  <a:lnTo>
                    <a:pt x="55" y="688"/>
                  </a:lnTo>
                  <a:lnTo>
                    <a:pt x="41" y="683"/>
                  </a:lnTo>
                  <a:lnTo>
                    <a:pt x="27" y="677"/>
                  </a:lnTo>
                  <a:lnTo>
                    <a:pt x="14" y="671"/>
                  </a:lnTo>
                  <a:lnTo>
                    <a:pt x="0" y="663"/>
                  </a:lnTo>
                  <a:lnTo>
                    <a:pt x="4" y="654"/>
                  </a:lnTo>
                  <a:lnTo>
                    <a:pt x="10" y="646"/>
                  </a:lnTo>
                  <a:lnTo>
                    <a:pt x="17" y="637"/>
                  </a:lnTo>
                  <a:lnTo>
                    <a:pt x="26" y="629"/>
                  </a:lnTo>
                  <a:lnTo>
                    <a:pt x="36" y="621"/>
                  </a:lnTo>
                  <a:lnTo>
                    <a:pt x="48" y="614"/>
                  </a:lnTo>
                  <a:lnTo>
                    <a:pt x="61" y="607"/>
                  </a:lnTo>
                  <a:lnTo>
                    <a:pt x="74" y="600"/>
                  </a:lnTo>
                  <a:lnTo>
                    <a:pt x="103" y="587"/>
                  </a:lnTo>
                  <a:lnTo>
                    <a:pt x="132" y="575"/>
                  </a:lnTo>
                  <a:lnTo>
                    <a:pt x="160" y="565"/>
                  </a:lnTo>
                  <a:lnTo>
                    <a:pt x="187" y="555"/>
                  </a:lnTo>
                  <a:lnTo>
                    <a:pt x="211" y="551"/>
                  </a:lnTo>
                  <a:lnTo>
                    <a:pt x="235" y="546"/>
                  </a:lnTo>
                  <a:lnTo>
                    <a:pt x="260" y="541"/>
                  </a:lnTo>
                  <a:lnTo>
                    <a:pt x="284" y="534"/>
                  </a:lnTo>
                  <a:lnTo>
                    <a:pt x="332" y="520"/>
                  </a:lnTo>
                  <a:lnTo>
                    <a:pt x="381" y="505"/>
                  </a:lnTo>
                  <a:lnTo>
                    <a:pt x="429" y="486"/>
                  </a:lnTo>
                  <a:lnTo>
                    <a:pt x="478" y="467"/>
                  </a:lnTo>
                  <a:lnTo>
                    <a:pt x="526" y="446"/>
                  </a:lnTo>
                  <a:lnTo>
                    <a:pt x="574" y="422"/>
                  </a:lnTo>
                  <a:lnTo>
                    <a:pt x="622" y="398"/>
                  </a:lnTo>
                  <a:lnTo>
                    <a:pt x="670" y="372"/>
                  </a:lnTo>
                  <a:lnTo>
                    <a:pt x="717" y="345"/>
                  </a:lnTo>
                  <a:lnTo>
                    <a:pt x="764" y="318"/>
                  </a:lnTo>
                  <a:lnTo>
                    <a:pt x="856" y="261"/>
                  </a:lnTo>
                  <a:lnTo>
                    <a:pt x="946" y="203"/>
                  </a:lnTo>
                  <a:lnTo>
                    <a:pt x="960" y="191"/>
                  </a:lnTo>
                  <a:lnTo>
                    <a:pt x="972" y="178"/>
                  </a:lnTo>
                  <a:lnTo>
                    <a:pt x="985" y="164"/>
                  </a:lnTo>
                  <a:lnTo>
                    <a:pt x="997" y="150"/>
                  </a:lnTo>
                  <a:lnTo>
                    <a:pt x="1019" y="120"/>
                  </a:lnTo>
                  <a:lnTo>
                    <a:pt x="1042" y="95"/>
                  </a:lnTo>
                  <a:lnTo>
                    <a:pt x="1055" y="83"/>
                  </a:lnTo>
                  <a:lnTo>
                    <a:pt x="1069" y="72"/>
                  </a:lnTo>
                  <a:lnTo>
                    <a:pt x="1083" y="64"/>
                  </a:lnTo>
                  <a:lnTo>
                    <a:pt x="1098" y="57"/>
                  </a:lnTo>
                  <a:lnTo>
                    <a:pt x="1106" y="55"/>
                  </a:lnTo>
                  <a:lnTo>
                    <a:pt x="1115" y="54"/>
                  </a:lnTo>
                  <a:lnTo>
                    <a:pt x="1124" y="53"/>
                  </a:lnTo>
                  <a:lnTo>
                    <a:pt x="1133" y="51"/>
                  </a:lnTo>
                  <a:lnTo>
                    <a:pt x="1143" y="53"/>
                  </a:lnTo>
                  <a:lnTo>
                    <a:pt x="1153" y="54"/>
                  </a:lnTo>
                  <a:lnTo>
                    <a:pt x="1164" y="55"/>
                  </a:lnTo>
                  <a:lnTo>
                    <a:pt x="1174" y="58"/>
                  </a:lnTo>
                  <a:lnTo>
                    <a:pt x="1185" y="46"/>
                  </a:lnTo>
                  <a:lnTo>
                    <a:pt x="1194" y="36"/>
                  </a:lnTo>
                  <a:lnTo>
                    <a:pt x="1205" y="27"/>
                  </a:lnTo>
                  <a:lnTo>
                    <a:pt x="1214" y="20"/>
                  </a:lnTo>
                  <a:lnTo>
                    <a:pt x="1225" y="14"/>
                  </a:lnTo>
                  <a:lnTo>
                    <a:pt x="1236" y="9"/>
                  </a:lnTo>
                  <a:lnTo>
                    <a:pt x="1247" y="6"/>
                  </a:lnTo>
                  <a:lnTo>
                    <a:pt x="1257" y="2"/>
                  </a:lnTo>
                  <a:lnTo>
                    <a:pt x="1269" y="1"/>
                  </a:lnTo>
                  <a:lnTo>
                    <a:pt x="1281" y="0"/>
                  </a:lnTo>
                  <a:lnTo>
                    <a:pt x="1292" y="0"/>
                  </a:lnTo>
                  <a:lnTo>
                    <a:pt x="1304" y="1"/>
                  </a:lnTo>
                  <a:lnTo>
                    <a:pt x="1327" y="5"/>
                  </a:lnTo>
                  <a:lnTo>
                    <a:pt x="1352" y="10"/>
                  </a:lnTo>
                  <a:lnTo>
                    <a:pt x="1401" y="23"/>
                  </a:lnTo>
                  <a:lnTo>
                    <a:pt x="1450" y="36"/>
                  </a:lnTo>
                  <a:lnTo>
                    <a:pt x="1474" y="41"/>
                  </a:lnTo>
                  <a:lnTo>
                    <a:pt x="1498" y="42"/>
                  </a:lnTo>
                  <a:lnTo>
                    <a:pt x="1510" y="42"/>
                  </a:lnTo>
                  <a:lnTo>
                    <a:pt x="1522" y="42"/>
                  </a:lnTo>
                  <a:lnTo>
                    <a:pt x="1533" y="40"/>
                  </a:lnTo>
                  <a:lnTo>
                    <a:pt x="154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97400" y="2190960"/>
              <a:ext cx="588240" cy="587160"/>
            </a:xfrm>
            <a:custGeom>
              <a:avLst/>
              <a:gdLst/>
              <a:ahLst/>
              <a:rect l="l" t="t" r="r" b="b"/>
              <a:pathLst>
                <a:path w="1970" h="2216">
                  <a:moveTo>
                    <a:pt x="1545" y="163"/>
                  </a:moveTo>
                  <a:lnTo>
                    <a:pt x="1567" y="186"/>
                  </a:lnTo>
                  <a:lnTo>
                    <a:pt x="1590" y="209"/>
                  </a:lnTo>
                  <a:lnTo>
                    <a:pt x="1609" y="233"/>
                  </a:lnTo>
                  <a:lnTo>
                    <a:pt x="1627" y="256"/>
                  </a:lnTo>
                  <a:lnTo>
                    <a:pt x="1645" y="279"/>
                  </a:lnTo>
                  <a:lnTo>
                    <a:pt x="1661" y="304"/>
                  </a:lnTo>
                  <a:lnTo>
                    <a:pt x="1676" y="327"/>
                  </a:lnTo>
                  <a:lnTo>
                    <a:pt x="1690" y="352"/>
                  </a:lnTo>
                  <a:lnTo>
                    <a:pt x="1704" y="375"/>
                  </a:lnTo>
                  <a:lnTo>
                    <a:pt x="1716" y="400"/>
                  </a:lnTo>
                  <a:lnTo>
                    <a:pt x="1728" y="424"/>
                  </a:lnTo>
                  <a:lnTo>
                    <a:pt x="1739" y="449"/>
                  </a:lnTo>
                  <a:lnTo>
                    <a:pt x="1760" y="498"/>
                  </a:lnTo>
                  <a:lnTo>
                    <a:pt x="1779" y="547"/>
                  </a:lnTo>
                  <a:lnTo>
                    <a:pt x="1798" y="596"/>
                  </a:lnTo>
                  <a:lnTo>
                    <a:pt x="1816" y="647"/>
                  </a:lnTo>
                  <a:lnTo>
                    <a:pt x="1836" y="697"/>
                  </a:lnTo>
                  <a:lnTo>
                    <a:pt x="1857" y="747"/>
                  </a:lnTo>
                  <a:lnTo>
                    <a:pt x="1868" y="772"/>
                  </a:lnTo>
                  <a:lnTo>
                    <a:pt x="1881" y="798"/>
                  </a:lnTo>
                  <a:lnTo>
                    <a:pt x="1892" y="822"/>
                  </a:lnTo>
                  <a:lnTo>
                    <a:pt x="1906" y="847"/>
                  </a:lnTo>
                  <a:lnTo>
                    <a:pt x="1921" y="872"/>
                  </a:lnTo>
                  <a:lnTo>
                    <a:pt x="1936" y="897"/>
                  </a:lnTo>
                  <a:lnTo>
                    <a:pt x="1952" y="923"/>
                  </a:lnTo>
                  <a:lnTo>
                    <a:pt x="1970" y="947"/>
                  </a:lnTo>
                  <a:lnTo>
                    <a:pt x="1956" y="996"/>
                  </a:lnTo>
                  <a:lnTo>
                    <a:pt x="1940" y="1047"/>
                  </a:lnTo>
                  <a:lnTo>
                    <a:pt x="1925" y="1096"/>
                  </a:lnTo>
                  <a:lnTo>
                    <a:pt x="1911" y="1146"/>
                  </a:lnTo>
                  <a:lnTo>
                    <a:pt x="1899" y="1195"/>
                  </a:lnTo>
                  <a:lnTo>
                    <a:pt x="1889" y="1246"/>
                  </a:lnTo>
                  <a:lnTo>
                    <a:pt x="1884" y="1270"/>
                  </a:lnTo>
                  <a:lnTo>
                    <a:pt x="1881" y="1295"/>
                  </a:lnTo>
                  <a:lnTo>
                    <a:pt x="1878" y="1320"/>
                  </a:lnTo>
                  <a:lnTo>
                    <a:pt x="1876" y="1345"/>
                  </a:lnTo>
                  <a:lnTo>
                    <a:pt x="1870" y="1361"/>
                  </a:lnTo>
                  <a:lnTo>
                    <a:pt x="1866" y="1379"/>
                  </a:lnTo>
                  <a:lnTo>
                    <a:pt x="1861" y="1398"/>
                  </a:lnTo>
                  <a:lnTo>
                    <a:pt x="1859" y="1416"/>
                  </a:lnTo>
                  <a:lnTo>
                    <a:pt x="1856" y="1436"/>
                  </a:lnTo>
                  <a:lnTo>
                    <a:pt x="1855" y="1457"/>
                  </a:lnTo>
                  <a:lnTo>
                    <a:pt x="1855" y="1477"/>
                  </a:lnTo>
                  <a:lnTo>
                    <a:pt x="1855" y="1498"/>
                  </a:lnTo>
                  <a:lnTo>
                    <a:pt x="1859" y="1586"/>
                  </a:lnTo>
                  <a:lnTo>
                    <a:pt x="1861" y="1674"/>
                  </a:lnTo>
                  <a:lnTo>
                    <a:pt x="1860" y="1695"/>
                  </a:lnTo>
                  <a:lnTo>
                    <a:pt x="1859" y="1717"/>
                  </a:lnTo>
                  <a:lnTo>
                    <a:pt x="1856" y="1738"/>
                  </a:lnTo>
                  <a:lnTo>
                    <a:pt x="1854" y="1758"/>
                  </a:lnTo>
                  <a:lnTo>
                    <a:pt x="1849" y="1778"/>
                  </a:lnTo>
                  <a:lnTo>
                    <a:pt x="1843" y="1798"/>
                  </a:lnTo>
                  <a:lnTo>
                    <a:pt x="1836" y="1816"/>
                  </a:lnTo>
                  <a:lnTo>
                    <a:pt x="1828" y="1834"/>
                  </a:lnTo>
                  <a:lnTo>
                    <a:pt x="1818" y="1851"/>
                  </a:lnTo>
                  <a:lnTo>
                    <a:pt x="1806" y="1868"/>
                  </a:lnTo>
                  <a:lnTo>
                    <a:pt x="1792" y="1884"/>
                  </a:lnTo>
                  <a:lnTo>
                    <a:pt x="1777" y="1898"/>
                  </a:lnTo>
                  <a:lnTo>
                    <a:pt x="1758" y="1912"/>
                  </a:lnTo>
                  <a:lnTo>
                    <a:pt x="1738" y="1924"/>
                  </a:lnTo>
                  <a:lnTo>
                    <a:pt x="1715" y="1936"/>
                  </a:lnTo>
                  <a:lnTo>
                    <a:pt x="1690" y="1946"/>
                  </a:lnTo>
                  <a:lnTo>
                    <a:pt x="1670" y="1982"/>
                  </a:lnTo>
                  <a:lnTo>
                    <a:pt x="1650" y="2021"/>
                  </a:lnTo>
                  <a:lnTo>
                    <a:pt x="1641" y="2041"/>
                  </a:lnTo>
                  <a:lnTo>
                    <a:pt x="1630" y="2061"/>
                  </a:lnTo>
                  <a:lnTo>
                    <a:pt x="1620" y="2080"/>
                  </a:lnTo>
                  <a:lnTo>
                    <a:pt x="1608" y="2097"/>
                  </a:lnTo>
                  <a:lnTo>
                    <a:pt x="1597" y="2115"/>
                  </a:lnTo>
                  <a:lnTo>
                    <a:pt x="1583" y="2130"/>
                  </a:lnTo>
                  <a:lnTo>
                    <a:pt x="1569" y="2145"/>
                  </a:lnTo>
                  <a:lnTo>
                    <a:pt x="1552" y="2157"/>
                  </a:lnTo>
                  <a:lnTo>
                    <a:pt x="1544" y="2163"/>
                  </a:lnTo>
                  <a:lnTo>
                    <a:pt x="1535" y="2167"/>
                  </a:lnTo>
                  <a:lnTo>
                    <a:pt x="1525" y="2172"/>
                  </a:lnTo>
                  <a:lnTo>
                    <a:pt x="1516" y="2175"/>
                  </a:lnTo>
                  <a:lnTo>
                    <a:pt x="1505" y="2179"/>
                  </a:lnTo>
                  <a:lnTo>
                    <a:pt x="1495" y="2181"/>
                  </a:lnTo>
                  <a:lnTo>
                    <a:pt x="1484" y="2184"/>
                  </a:lnTo>
                  <a:lnTo>
                    <a:pt x="1473" y="2185"/>
                  </a:lnTo>
                  <a:lnTo>
                    <a:pt x="1474" y="2171"/>
                  </a:lnTo>
                  <a:lnTo>
                    <a:pt x="1474" y="2156"/>
                  </a:lnTo>
                  <a:lnTo>
                    <a:pt x="1474" y="2142"/>
                  </a:lnTo>
                  <a:lnTo>
                    <a:pt x="1473" y="2126"/>
                  </a:lnTo>
                  <a:lnTo>
                    <a:pt x="1471" y="2111"/>
                  </a:lnTo>
                  <a:lnTo>
                    <a:pt x="1468" y="2096"/>
                  </a:lnTo>
                  <a:lnTo>
                    <a:pt x="1464" y="2081"/>
                  </a:lnTo>
                  <a:lnTo>
                    <a:pt x="1460" y="2065"/>
                  </a:lnTo>
                  <a:lnTo>
                    <a:pt x="1454" y="2051"/>
                  </a:lnTo>
                  <a:lnTo>
                    <a:pt x="1447" y="2037"/>
                  </a:lnTo>
                  <a:lnTo>
                    <a:pt x="1439" y="2025"/>
                  </a:lnTo>
                  <a:lnTo>
                    <a:pt x="1429" y="2012"/>
                  </a:lnTo>
                  <a:lnTo>
                    <a:pt x="1419" y="2001"/>
                  </a:lnTo>
                  <a:lnTo>
                    <a:pt x="1406" y="1991"/>
                  </a:lnTo>
                  <a:lnTo>
                    <a:pt x="1392" y="1981"/>
                  </a:lnTo>
                  <a:lnTo>
                    <a:pt x="1376" y="1973"/>
                  </a:lnTo>
                  <a:lnTo>
                    <a:pt x="1360" y="1967"/>
                  </a:lnTo>
                  <a:lnTo>
                    <a:pt x="1344" y="1961"/>
                  </a:lnTo>
                  <a:lnTo>
                    <a:pt x="1328" y="1957"/>
                  </a:lnTo>
                  <a:lnTo>
                    <a:pt x="1311" y="1953"/>
                  </a:lnTo>
                  <a:lnTo>
                    <a:pt x="1303" y="1952"/>
                  </a:lnTo>
                  <a:lnTo>
                    <a:pt x="1296" y="1952"/>
                  </a:lnTo>
                  <a:lnTo>
                    <a:pt x="1288" y="1952"/>
                  </a:lnTo>
                  <a:lnTo>
                    <a:pt x="1280" y="1954"/>
                  </a:lnTo>
                  <a:lnTo>
                    <a:pt x="1271" y="1957"/>
                  </a:lnTo>
                  <a:lnTo>
                    <a:pt x="1263" y="1961"/>
                  </a:lnTo>
                  <a:lnTo>
                    <a:pt x="1255" y="1966"/>
                  </a:lnTo>
                  <a:lnTo>
                    <a:pt x="1248" y="1973"/>
                  </a:lnTo>
                  <a:lnTo>
                    <a:pt x="1241" y="1988"/>
                  </a:lnTo>
                  <a:lnTo>
                    <a:pt x="1234" y="2002"/>
                  </a:lnTo>
                  <a:lnTo>
                    <a:pt x="1225" y="2016"/>
                  </a:lnTo>
                  <a:lnTo>
                    <a:pt x="1215" y="2030"/>
                  </a:lnTo>
                  <a:lnTo>
                    <a:pt x="1193" y="2056"/>
                  </a:lnTo>
                  <a:lnTo>
                    <a:pt x="1172" y="2084"/>
                  </a:lnTo>
                  <a:lnTo>
                    <a:pt x="1165" y="2077"/>
                  </a:lnTo>
                  <a:lnTo>
                    <a:pt x="1157" y="2071"/>
                  </a:lnTo>
                  <a:lnTo>
                    <a:pt x="1150" y="2068"/>
                  </a:lnTo>
                  <a:lnTo>
                    <a:pt x="1143" y="2064"/>
                  </a:lnTo>
                  <a:lnTo>
                    <a:pt x="1136" y="2063"/>
                  </a:lnTo>
                  <a:lnTo>
                    <a:pt x="1129" y="2062"/>
                  </a:lnTo>
                  <a:lnTo>
                    <a:pt x="1122" y="2062"/>
                  </a:lnTo>
                  <a:lnTo>
                    <a:pt x="1114" y="2062"/>
                  </a:lnTo>
                  <a:lnTo>
                    <a:pt x="1100" y="2065"/>
                  </a:lnTo>
                  <a:lnTo>
                    <a:pt x="1084" y="2070"/>
                  </a:lnTo>
                  <a:lnTo>
                    <a:pt x="1069" y="2077"/>
                  </a:lnTo>
                  <a:lnTo>
                    <a:pt x="1054" y="2083"/>
                  </a:lnTo>
                  <a:lnTo>
                    <a:pt x="1039" y="2090"/>
                  </a:lnTo>
                  <a:lnTo>
                    <a:pt x="1024" y="2095"/>
                  </a:lnTo>
                  <a:lnTo>
                    <a:pt x="1015" y="2097"/>
                  </a:lnTo>
                  <a:lnTo>
                    <a:pt x="1008" y="2098"/>
                  </a:lnTo>
                  <a:lnTo>
                    <a:pt x="1000" y="2099"/>
                  </a:lnTo>
                  <a:lnTo>
                    <a:pt x="992" y="2099"/>
                  </a:lnTo>
                  <a:lnTo>
                    <a:pt x="984" y="2098"/>
                  </a:lnTo>
                  <a:lnTo>
                    <a:pt x="976" y="2096"/>
                  </a:lnTo>
                  <a:lnTo>
                    <a:pt x="967" y="2094"/>
                  </a:lnTo>
                  <a:lnTo>
                    <a:pt x="959" y="2089"/>
                  </a:lnTo>
                  <a:lnTo>
                    <a:pt x="951" y="2084"/>
                  </a:lnTo>
                  <a:lnTo>
                    <a:pt x="943" y="2077"/>
                  </a:lnTo>
                  <a:lnTo>
                    <a:pt x="935" y="2069"/>
                  </a:lnTo>
                  <a:lnTo>
                    <a:pt x="926" y="2060"/>
                  </a:lnTo>
                  <a:lnTo>
                    <a:pt x="919" y="2060"/>
                  </a:lnTo>
                  <a:lnTo>
                    <a:pt x="914" y="2060"/>
                  </a:lnTo>
                  <a:lnTo>
                    <a:pt x="908" y="2062"/>
                  </a:lnTo>
                  <a:lnTo>
                    <a:pt x="903" y="2064"/>
                  </a:lnTo>
                  <a:lnTo>
                    <a:pt x="898" y="2068"/>
                  </a:lnTo>
                  <a:lnTo>
                    <a:pt x="895" y="2072"/>
                  </a:lnTo>
                  <a:lnTo>
                    <a:pt x="891" y="2077"/>
                  </a:lnTo>
                  <a:lnTo>
                    <a:pt x="888" y="2082"/>
                  </a:lnTo>
                  <a:lnTo>
                    <a:pt x="876" y="2104"/>
                  </a:lnTo>
                  <a:lnTo>
                    <a:pt x="865" y="2122"/>
                  </a:lnTo>
                  <a:lnTo>
                    <a:pt x="848" y="2104"/>
                  </a:lnTo>
                  <a:lnTo>
                    <a:pt x="833" y="2085"/>
                  </a:lnTo>
                  <a:lnTo>
                    <a:pt x="817" y="2064"/>
                  </a:lnTo>
                  <a:lnTo>
                    <a:pt x="801" y="2044"/>
                  </a:lnTo>
                  <a:lnTo>
                    <a:pt x="785" y="2026"/>
                  </a:lnTo>
                  <a:lnTo>
                    <a:pt x="766" y="2008"/>
                  </a:lnTo>
                  <a:lnTo>
                    <a:pt x="756" y="2000"/>
                  </a:lnTo>
                  <a:lnTo>
                    <a:pt x="745" y="1993"/>
                  </a:lnTo>
                  <a:lnTo>
                    <a:pt x="735" y="1986"/>
                  </a:lnTo>
                  <a:lnTo>
                    <a:pt x="723" y="1980"/>
                  </a:lnTo>
                  <a:lnTo>
                    <a:pt x="550" y="1994"/>
                  </a:lnTo>
                  <a:lnTo>
                    <a:pt x="545" y="2009"/>
                  </a:lnTo>
                  <a:lnTo>
                    <a:pt x="543" y="2023"/>
                  </a:lnTo>
                  <a:lnTo>
                    <a:pt x="542" y="2037"/>
                  </a:lnTo>
                  <a:lnTo>
                    <a:pt x="542" y="2051"/>
                  </a:lnTo>
                  <a:lnTo>
                    <a:pt x="543" y="2078"/>
                  </a:lnTo>
                  <a:lnTo>
                    <a:pt x="546" y="2105"/>
                  </a:lnTo>
                  <a:lnTo>
                    <a:pt x="548" y="2118"/>
                  </a:lnTo>
                  <a:lnTo>
                    <a:pt x="549" y="2131"/>
                  </a:lnTo>
                  <a:lnTo>
                    <a:pt x="550" y="2145"/>
                  </a:lnTo>
                  <a:lnTo>
                    <a:pt x="549" y="2158"/>
                  </a:lnTo>
                  <a:lnTo>
                    <a:pt x="548" y="2172"/>
                  </a:lnTo>
                  <a:lnTo>
                    <a:pt x="544" y="2186"/>
                  </a:lnTo>
                  <a:lnTo>
                    <a:pt x="539" y="2201"/>
                  </a:lnTo>
                  <a:lnTo>
                    <a:pt x="532" y="2215"/>
                  </a:lnTo>
                  <a:lnTo>
                    <a:pt x="523" y="2216"/>
                  </a:lnTo>
                  <a:lnTo>
                    <a:pt x="514" y="2216"/>
                  </a:lnTo>
                  <a:lnTo>
                    <a:pt x="504" y="2216"/>
                  </a:lnTo>
                  <a:lnTo>
                    <a:pt x="496" y="2215"/>
                  </a:lnTo>
                  <a:lnTo>
                    <a:pt x="487" y="2213"/>
                  </a:lnTo>
                  <a:lnTo>
                    <a:pt x="479" y="2211"/>
                  </a:lnTo>
                  <a:lnTo>
                    <a:pt x="470" y="2207"/>
                  </a:lnTo>
                  <a:lnTo>
                    <a:pt x="462" y="2202"/>
                  </a:lnTo>
                  <a:lnTo>
                    <a:pt x="447" y="2193"/>
                  </a:lnTo>
                  <a:lnTo>
                    <a:pt x="432" y="2181"/>
                  </a:lnTo>
                  <a:lnTo>
                    <a:pt x="417" y="2168"/>
                  </a:lnTo>
                  <a:lnTo>
                    <a:pt x="403" y="2153"/>
                  </a:lnTo>
                  <a:lnTo>
                    <a:pt x="375" y="2122"/>
                  </a:lnTo>
                  <a:lnTo>
                    <a:pt x="348" y="2090"/>
                  </a:lnTo>
                  <a:lnTo>
                    <a:pt x="334" y="2074"/>
                  </a:lnTo>
                  <a:lnTo>
                    <a:pt x="320" y="2058"/>
                  </a:lnTo>
                  <a:lnTo>
                    <a:pt x="306" y="2044"/>
                  </a:lnTo>
                  <a:lnTo>
                    <a:pt x="290" y="2033"/>
                  </a:lnTo>
                  <a:lnTo>
                    <a:pt x="281" y="2023"/>
                  </a:lnTo>
                  <a:lnTo>
                    <a:pt x="272" y="2015"/>
                  </a:lnTo>
                  <a:lnTo>
                    <a:pt x="261" y="2008"/>
                  </a:lnTo>
                  <a:lnTo>
                    <a:pt x="249" y="2001"/>
                  </a:lnTo>
                  <a:lnTo>
                    <a:pt x="227" y="1989"/>
                  </a:lnTo>
                  <a:lnTo>
                    <a:pt x="205" y="1978"/>
                  </a:lnTo>
                  <a:lnTo>
                    <a:pt x="193" y="1972"/>
                  </a:lnTo>
                  <a:lnTo>
                    <a:pt x="183" y="1965"/>
                  </a:lnTo>
                  <a:lnTo>
                    <a:pt x="172" y="1958"/>
                  </a:lnTo>
                  <a:lnTo>
                    <a:pt x="163" y="1951"/>
                  </a:lnTo>
                  <a:lnTo>
                    <a:pt x="153" y="1942"/>
                  </a:lnTo>
                  <a:lnTo>
                    <a:pt x="145" y="1932"/>
                  </a:lnTo>
                  <a:lnTo>
                    <a:pt x="138" y="1920"/>
                  </a:lnTo>
                  <a:lnTo>
                    <a:pt x="132" y="1908"/>
                  </a:lnTo>
                  <a:lnTo>
                    <a:pt x="141" y="1891"/>
                  </a:lnTo>
                  <a:lnTo>
                    <a:pt x="148" y="1874"/>
                  </a:lnTo>
                  <a:lnTo>
                    <a:pt x="153" y="1857"/>
                  </a:lnTo>
                  <a:lnTo>
                    <a:pt x="159" y="1840"/>
                  </a:lnTo>
                  <a:lnTo>
                    <a:pt x="164" y="1821"/>
                  </a:lnTo>
                  <a:lnTo>
                    <a:pt x="166" y="1803"/>
                  </a:lnTo>
                  <a:lnTo>
                    <a:pt x="169" y="1785"/>
                  </a:lnTo>
                  <a:lnTo>
                    <a:pt x="170" y="1767"/>
                  </a:lnTo>
                  <a:lnTo>
                    <a:pt x="171" y="1749"/>
                  </a:lnTo>
                  <a:lnTo>
                    <a:pt x="170" y="1730"/>
                  </a:lnTo>
                  <a:lnTo>
                    <a:pt x="169" y="1711"/>
                  </a:lnTo>
                  <a:lnTo>
                    <a:pt x="166" y="1692"/>
                  </a:lnTo>
                  <a:lnTo>
                    <a:pt x="164" y="1674"/>
                  </a:lnTo>
                  <a:lnTo>
                    <a:pt x="161" y="1655"/>
                  </a:lnTo>
                  <a:lnTo>
                    <a:pt x="156" y="1636"/>
                  </a:lnTo>
                  <a:lnTo>
                    <a:pt x="151" y="1618"/>
                  </a:lnTo>
                  <a:lnTo>
                    <a:pt x="145" y="1599"/>
                  </a:lnTo>
                  <a:lnTo>
                    <a:pt x="139" y="1580"/>
                  </a:lnTo>
                  <a:lnTo>
                    <a:pt x="132" y="1561"/>
                  </a:lnTo>
                  <a:lnTo>
                    <a:pt x="124" y="1543"/>
                  </a:lnTo>
                  <a:lnTo>
                    <a:pt x="108" y="1508"/>
                  </a:lnTo>
                  <a:lnTo>
                    <a:pt x="90" y="1472"/>
                  </a:lnTo>
                  <a:lnTo>
                    <a:pt x="70" y="1437"/>
                  </a:lnTo>
                  <a:lnTo>
                    <a:pt x="49" y="1405"/>
                  </a:lnTo>
                  <a:lnTo>
                    <a:pt x="27" y="1374"/>
                  </a:lnTo>
                  <a:lnTo>
                    <a:pt x="4" y="1345"/>
                  </a:lnTo>
                  <a:lnTo>
                    <a:pt x="1" y="1333"/>
                  </a:lnTo>
                  <a:lnTo>
                    <a:pt x="0" y="1322"/>
                  </a:lnTo>
                  <a:lnTo>
                    <a:pt x="0" y="1310"/>
                  </a:lnTo>
                  <a:lnTo>
                    <a:pt x="0" y="1299"/>
                  </a:lnTo>
                  <a:lnTo>
                    <a:pt x="1" y="1289"/>
                  </a:lnTo>
                  <a:lnTo>
                    <a:pt x="4" y="1278"/>
                  </a:lnTo>
                  <a:lnTo>
                    <a:pt x="6" y="1268"/>
                  </a:lnTo>
                  <a:lnTo>
                    <a:pt x="10" y="1258"/>
                  </a:lnTo>
                  <a:lnTo>
                    <a:pt x="18" y="1239"/>
                  </a:lnTo>
                  <a:lnTo>
                    <a:pt x="28" y="1220"/>
                  </a:lnTo>
                  <a:lnTo>
                    <a:pt x="40" y="1201"/>
                  </a:lnTo>
                  <a:lnTo>
                    <a:pt x="52" y="1184"/>
                  </a:lnTo>
                  <a:lnTo>
                    <a:pt x="63" y="1166"/>
                  </a:lnTo>
                  <a:lnTo>
                    <a:pt x="75" y="1147"/>
                  </a:lnTo>
                  <a:lnTo>
                    <a:pt x="86" y="1130"/>
                  </a:lnTo>
                  <a:lnTo>
                    <a:pt x="94" y="1111"/>
                  </a:lnTo>
                  <a:lnTo>
                    <a:pt x="99" y="1102"/>
                  </a:lnTo>
                  <a:lnTo>
                    <a:pt x="101" y="1092"/>
                  </a:lnTo>
                  <a:lnTo>
                    <a:pt x="104" y="1082"/>
                  </a:lnTo>
                  <a:lnTo>
                    <a:pt x="106" y="1072"/>
                  </a:lnTo>
                  <a:lnTo>
                    <a:pt x="107" y="1062"/>
                  </a:lnTo>
                  <a:lnTo>
                    <a:pt x="107" y="1051"/>
                  </a:lnTo>
                  <a:lnTo>
                    <a:pt x="106" y="1041"/>
                  </a:lnTo>
                  <a:lnTo>
                    <a:pt x="104" y="1030"/>
                  </a:lnTo>
                  <a:lnTo>
                    <a:pt x="114" y="1001"/>
                  </a:lnTo>
                  <a:lnTo>
                    <a:pt x="122" y="971"/>
                  </a:lnTo>
                  <a:lnTo>
                    <a:pt x="130" y="940"/>
                  </a:lnTo>
                  <a:lnTo>
                    <a:pt x="137" y="910"/>
                  </a:lnTo>
                  <a:lnTo>
                    <a:pt x="151" y="849"/>
                  </a:lnTo>
                  <a:lnTo>
                    <a:pt x="163" y="787"/>
                  </a:lnTo>
                  <a:lnTo>
                    <a:pt x="176" y="725"/>
                  </a:lnTo>
                  <a:lnTo>
                    <a:pt x="189" y="663"/>
                  </a:lnTo>
                  <a:lnTo>
                    <a:pt x="196" y="633"/>
                  </a:lnTo>
                  <a:lnTo>
                    <a:pt x="204" y="602"/>
                  </a:lnTo>
                  <a:lnTo>
                    <a:pt x="212" y="573"/>
                  </a:lnTo>
                  <a:lnTo>
                    <a:pt x="221" y="544"/>
                  </a:lnTo>
                  <a:lnTo>
                    <a:pt x="231" y="515"/>
                  </a:lnTo>
                  <a:lnTo>
                    <a:pt x="241" y="486"/>
                  </a:lnTo>
                  <a:lnTo>
                    <a:pt x="253" y="460"/>
                  </a:lnTo>
                  <a:lnTo>
                    <a:pt x="266" y="433"/>
                  </a:lnTo>
                  <a:lnTo>
                    <a:pt x="280" y="407"/>
                  </a:lnTo>
                  <a:lnTo>
                    <a:pt x="296" y="381"/>
                  </a:lnTo>
                  <a:lnTo>
                    <a:pt x="313" y="357"/>
                  </a:lnTo>
                  <a:lnTo>
                    <a:pt x="331" y="333"/>
                  </a:lnTo>
                  <a:lnTo>
                    <a:pt x="352" y="311"/>
                  </a:lnTo>
                  <a:lnTo>
                    <a:pt x="375" y="290"/>
                  </a:lnTo>
                  <a:lnTo>
                    <a:pt x="398" y="269"/>
                  </a:lnTo>
                  <a:lnTo>
                    <a:pt x="424" y="250"/>
                  </a:lnTo>
                  <a:lnTo>
                    <a:pt x="452" y="233"/>
                  </a:lnTo>
                  <a:lnTo>
                    <a:pt x="482" y="216"/>
                  </a:lnTo>
                  <a:lnTo>
                    <a:pt x="515" y="201"/>
                  </a:lnTo>
                  <a:lnTo>
                    <a:pt x="550" y="187"/>
                  </a:lnTo>
                  <a:lnTo>
                    <a:pt x="578" y="155"/>
                  </a:lnTo>
                  <a:lnTo>
                    <a:pt x="606" y="127"/>
                  </a:lnTo>
                  <a:lnTo>
                    <a:pt x="634" y="103"/>
                  </a:lnTo>
                  <a:lnTo>
                    <a:pt x="663" y="81"/>
                  </a:lnTo>
                  <a:lnTo>
                    <a:pt x="693" y="62"/>
                  </a:lnTo>
                  <a:lnTo>
                    <a:pt x="722" y="46"/>
                  </a:lnTo>
                  <a:lnTo>
                    <a:pt x="751" y="33"/>
                  </a:lnTo>
                  <a:lnTo>
                    <a:pt x="781" y="21"/>
                  </a:lnTo>
                  <a:lnTo>
                    <a:pt x="812" y="13"/>
                  </a:lnTo>
                  <a:lnTo>
                    <a:pt x="842" y="7"/>
                  </a:lnTo>
                  <a:lnTo>
                    <a:pt x="874" y="2"/>
                  </a:lnTo>
                  <a:lnTo>
                    <a:pt x="904" y="0"/>
                  </a:lnTo>
                  <a:lnTo>
                    <a:pt x="936" y="0"/>
                  </a:lnTo>
                  <a:lnTo>
                    <a:pt x="967" y="1"/>
                  </a:lnTo>
                  <a:lnTo>
                    <a:pt x="999" y="3"/>
                  </a:lnTo>
                  <a:lnTo>
                    <a:pt x="1031" y="8"/>
                  </a:lnTo>
                  <a:lnTo>
                    <a:pt x="1062" y="14"/>
                  </a:lnTo>
                  <a:lnTo>
                    <a:pt x="1095" y="20"/>
                  </a:lnTo>
                  <a:lnTo>
                    <a:pt x="1126" y="28"/>
                  </a:lnTo>
                  <a:lnTo>
                    <a:pt x="1159" y="36"/>
                  </a:lnTo>
                  <a:lnTo>
                    <a:pt x="1224" y="56"/>
                  </a:lnTo>
                  <a:lnTo>
                    <a:pt x="1288" y="78"/>
                  </a:lnTo>
                  <a:lnTo>
                    <a:pt x="1352" y="101"/>
                  </a:lnTo>
                  <a:lnTo>
                    <a:pt x="1416" y="123"/>
                  </a:lnTo>
                  <a:lnTo>
                    <a:pt x="1481" y="144"/>
                  </a:lnTo>
                  <a:lnTo>
                    <a:pt x="1545" y="163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20440" y="2444760"/>
              <a:ext cx="257400" cy="182520"/>
            </a:xfrm>
            <a:custGeom>
              <a:avLst/>
              <a:gdLst/>
              <a:ahLst/>
              <a:rect l="l" t="t" r="r" b="b"/>
              <a:pathLst>
                <a:path w="862" h="691">
                  <a:moveTo>
                    <a:pt x="815" y="359"/>
                  </a:moveTo>
                  <a:lnTo>
                    <a:pt x="826" y="388"/>
                  </a:lnTo>
                  <a:lnTo>
                    <a:pt x="836" y="419"/>
                  </a:lnTo>
                  <a:lnTo>
                    <a:pt x="847" y="448"/>
                  </a:lnTo>
                  <a:lnTo>
                    <a:pt x="855" y="477"/>
                  </a:lnTo>
                  <a:lnTo>
                    <a:pt x="859" y="492"/>
                  </a:lnTo>
                  <a:lnTo>
                    <a:pt x="861" y="507"/>
                  </a:lnTo>
                  <a:lnTo>
                    <a:pt x="862" y="523"/>
                  </a:lnTo>
                  <a:lnTo>
                    <a:pt x="861" y="538"/>
                  </a:lnTo>
                  <a:lnTo>
                    <a:pt x="860" y="553"/>
                  </a:lnTo>
                  <a:lnTo>
                    <a:pt x="856" y="568"/>
                  </a:lnTo>
                  <a:lnTo>
                    <a:pt x="850" y="585"/>
                  </a:lnTo>
                  <a:lnTo>
                    <a:pt x="843" y="601"/>
                  </a:lnTo>
                  <a:lnTo>
                    <a:pt x="750" y="681"/>
                  </a:lnTo>
                  <a:lnTo>
                    <a:pt x="731" y="677"/>
                  </a:lnTo>
                  <a:lnTo>
                    <a:pt x="712" y="675"/>
                  </a:lnTo>
                  <a:lnTo>
                    <a:pt x="693" y="674"/>
                  </a:lnTo>
                  <a:lnTo>
                    <a:pt x="673" y="672"/>
                  </a:lnTo>
                  <a:lnTo>
                    <a:pt x="632" y="674"/>
                  </a:lnTo>
                  <a:lnTo>
                    <a:pt x="591" y="676"/>
                  </a:lnTo>
                  <a:lnTo>
                    <a:pt x="504" y="684"/>
                  </a:lnTo>
                  <a:lnTo>
                    <a:pt x="419" y="691"/>
                  </a:lnTo>
                  <a:lnTo>
                    <a:pt x="398" y="691"/>
                  </a:lnTo>
                  <a:lnTo>
                    <a:pt x="377" y="691"/>
                  </a:lnTo>
                  <a:lnTo>
                    <a:pt x="356" y="690"/>
                  </a:lnTo>
                  <a:lnTo>
                    <a:pt x="335" y="688"/>
                  </a:lnTo>
                  <a:lnTo>
                    <a:pt x="315" y="684"/>
                  </a:lnTo>
                  <a:lnTo>
                    <a:pt x="295" y="681"/>
                  </a:lnTo>
                  <a:lnTo>
                    <a:pt x="275" y="675"/>
                  </a:lnTo>
                  <a:lnTo>
                    <a:pt x="256" y="669"/>
                  </a:lnTo>
                  <a:lnTo>
                    <a:pt x="238" y="661"/>
                  </a:lnTo>
                  <a:lnTo>
                    <a:pt x="219" y="651"/>
                  </a:lnTo>
                  <a:lnTo>
                    <a:pt x="201" y="640"/>
                  </a:lnTo>
                  <a:lnTo>
                    <a:pt x="184" y="627"/>
                  </a:lnTo>
                  <a:lnTo>
                    <a:pt x="168" y="613"/>
                  </a:lnTo>
                  <a:lnTo>
                    <a:pt x="151" y="595"/>
                  </a:lnTo>
                  <a:lnTo>
                    <a:pt x="136" y="576"/>
                  </a:lnTo>
                  <a:lnTo>
                    <a:pt x="122" y="555"/>
                  </a:lnTo>
                  <a:lnTo>
                    <a:pt x="113" y="541"/>
                  </a:lnTo>
                  <a:lnTo>
                    <a:pt x="102" y="527"/>
                  </a:lnTo>
                  <a:lnTo>
                    <a:pt x="90" y="512"/>
                  </a:lnTo>
                  <a:lnTo>
                    <a:pt x="79" y="498"/>
                  </a:lnTo>
                  <a:lnTo>
                    <a:pt x="55" y="468"/>
                  </a:lnTo>
                  <a:lnTo>
                    <a:pt x="33" y="436"/>
                  </a:lnTo>
                  <a:lnTo>
                    <a:pt x="23" y="420"/>
                  </a:lnTo>
                  <a:lnTo>
                    <a:pt x="14" y="403"/>
                  </a:lnTo>
                  <a:lnTo>
                    <a:pt x="7" y="386"/>
                  </a:lnTo>
                  <a:lnTo>
                    <a:pt x="3" y="368"/>
                  </a:lnTo>
                  <a:lnTo>
                    <a:pt x="1" y="360"/>
                  </a:lnTo>
                  <a:lnTo>
                    <a:pt x="0" y="351"/>
                  </a:lnTo>
                  <a:lnTo>
                    <a:pt x="0" y="341"/>
                  </a:lnTo>
                  <a:lnTo>
                    <a:pt x="1" y="332"/>
                  </a:lnTo>
                  <a:lnTo>
                    <a:pt x="3" y="323"/>
                  </a:lnTo>
                  <a:lnTo>
                    <a:pt x="4" y="313"/>
                  </a:lnTo>
                  <a:lnTo>
                    <a:pt x="7" y="303"/>
                  </a:lnTo>
                  <a:lnTo>
                    <a:pt x="11" y="293"/>
                  </a:lnTo>
                  <a:lnTo>
                    <a:pt x="32" y="255"/>
                  </a:lnTo>
                  <a:lnTo>
                    <a:pt x="52" y="212"/>
                  </a:lnTo>
                  <a:lnTo>
                    <a:pt x="74" y="168"/>
                  </a:lnTo>
                  <a:lnTo>
                    <a:pt x="99" y="124"/>
                  </a:lnTo>
                  <a:lnTo>
                    <a:pt x="111" y="104"/>
                  </a:lnTo>
                  <a:lnTo>
                    <a:pt x="125" y="84"/>
                  </a:lnTo>
                  <a:lnTo>
                    <a:pt x="139" y="65"/>
                  </a:lnTo>
                  <a:lnTo>
                    <a:pt x="156" y="48"/>
                  </a:lnTo>
                  <a:lnTo>
                    <a:pt x="164" y="40"/>
                  </a:lnTo>
                  <a:lnTo>
                    <a:pt x="172" y="33"/>
                  </a:lnTo>
                  <a:lnTo>
                    <a:pt x="182" y="26"/>
                  </a:lnTo>
                  <a:lnTo>
                    <a:pt x="191" y="19"/>
                  </a:lnTo>
                  <a:lnTo>
                    <a:pt x="200" y="14"/>
                  </a:lnTo>
                  <a:lnTo>
                    <a:pt x="211" y="8"/>
                  </a:lnTo>
                  <a:lnTo>
                    <a:pt x="221" y="3"/>
                  </a:lnTo>
                  <a:lnTo>
                    <a:pt x="232" y="0"/>
                  </a:lnTo>
                  <a:lnTo>
                    <a:pt x="255" y="2"/>
                  </a:lnTo>
                  <a:lnTo>
                    <a:pt x="277" y="5"/>
                  </a:lnTo>
                  <a:lnTo>
                    <a:pt x="300" y="8"/>
                  </a:lnTo>
                  <a:lnTo>
                    <a:pt x="322" y="13"/>
                  </a:lnTo>
                  <a:lnTo>
                    <a:pt x="344" y="17"/>
                  </a:lnTo>
                  <a:lnTo>
                    <a:pt x="366" y="22"/>
                  </a:lnTo>
                  <a:lnTo>
                    <a:pt x="387" y="28"/>
                  </a:lnTo>
                  <a:lnTo>
                    <a:pt x="410" y="34"/>
                  </a:lnTo>
                  <a:lnTo>
                    <a:pt x="431" y="42"/>
                  </a:lnTo>
                  <a:lnTo>
                    <a:pt x="452" y="49"/>
                  </a:lnTo>
                  <a:lnTo>
                    <a:pt x="473" y="57"/>
                  </a:lnTo>
                  <a:lnTo>
                    <a:pt x="493" y="65"/>
                  </a:lnTo>
                  <a:lnTo>
                    <a:pt x="514" y="75"/>
                  </a:lnTo>
                  <a:lnTo>
                    <a:pt x="534" y="85"/>
                  </a:lnTo>
                  <a:lnTo>
                    <a:pt x="552" y="96"/>
                  </a:lnTo>
                  <a:lnTo>
                    <a:pt x="572" y="106"/>
                  </a:lnTo>
                  <a:lnTo>
                    <a:pt x="591" y="118"/>
                  </a:lnTo>
                  <a:lnTo>
                    <a:pt x="610" y="131"/>
                  </a:lnTo>
                  <a:lnTo>
                    <a:pt x="627" y="144"/>
                  </a:lnTo>
                  <a:lnTo>
                    <a:pt x="645" y="157"/>
                  </a:lnTo>
                  <a:lnTo>
                    <a:pt x="662" y="171"/>
                  </a:lnTo>
                  <a:lnTo>
                    <a:pt x="679" y="185"/>
                  </a:lnTo>
                  <a:lnTo>
                    <a:pt x="695" y="200"/>
                  </a:lnTo>
                  <a:lnTo>
                    <a:pt x="710" y="215"/>
                  </a:lnTo>
                  <a:lnTo>
                    <a:pt x="725" y="231"/>
                  </a:lnTo>
                  <a:lnTo>
                    <a:pt x="741" y="248"/>
                  </a:lnTo>
                  <a:lnTo>
                    <a:pt x="755" y="265"/>
                  </a:lnTo>
                  <a:lnTo>
                    <a:pt x="767" y="283"/>
                  </a:lnTo>
                  <a:lnTo>
                    <a:pt x="780" y="302"/>
                  </a:lnTo>
                  <a:lnTo>
                    <a:pt x="793" y="320"/>
                  </a:lnTo>
                  <a:lnTo>
                    <a:pt x="805" y="339"/>
                  </a:lnTo>
                  <a:lnTo>
                    <a:pt x="815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142640" y="2454480"/>
              <a:ext cx="192960" cy="179280"/>
            </a:xfrm>
            <a:custGeom>
              <a:avLst/>
              <a:gdLst/>
              <a:ahLst/>
              <a:rect l="l" t="t" r="r" b="b"/>
              <a:pathLst>
                <a:path w="649" h="678">
                  <a:moveTo>
                    <a:pt x="627" y="120"/>
                  </a:moveTo>
                  <a:lnTo>
                    <a:pt x="631" y="167"/>
                  </a:lnTo>
                  <a:lnTo>
                    <a:pt x="638" y="215"/>
                  </a:lnTo>
                  <a:lnTo>
                    <a:pt x="642" y="240"/>
                  </a:lnTo>
                  <a:lnTo>
                    <a:pt x="645" y="265"/>
                  </a:lnTo>
                  <a:lnTo>
                    <a:pt x="648" y="290"/>
                  </a:lnTo>
                  <a:lnTo>
                    <a:pt x="649" y="316"/>
                  </a:lnTo>
                  <a:lnTo>
                    <a:pt x="649" y="340"/>
                  </a:lnTo>
                  <a:lnTo>
                    <a:pt x="648" y="365"/>
                  </a:lnTo>
                  <a:lnTo>
                    <a:pt x="644" y="389"/>
                  </a:lnTo>
                  <a:lnTo>
                    <a:pt x="640" y="413"/>
                  </a:lnTo>
                  <a:lnTo>
                    <a:pt x="636" y="425"/>
                  </a:lnTo>
                  <a:lnTo>
                    <a:pt x="631" y="436"/>
                  </a:lnTo>
                  <a:lnTo>
                    <a:pt x="627" y="447"/>
                  </a:lnTo>
                  <a:lnTo>
                    <a:pt x="621" y="458"/>
                  </a:lnTo>
                  <a:lnTo>
                    <a:pt x="615" y="469"/>
                  </a:lnTo>
                  <a:lnTo>
                    <a:pt x="608" y="479"/>
                  </a:lnTo>
                  <a:lnTo>
                    <a:pt x="600" y="490"/>
                  </a:lnTo>
                  <a:lnTo>
                    <a:pt x="592" y="501"/>
                  </a:lnTo>
                  <a:lnTo>
                    <a:pt x="560" y="518"/>
                  </a:lnTo>
                  <a:lnTo>
                    <a:pt x="528" y="538"/>
                  </a:lnTo>
                  <a:lnTo>
                    <a:pt x="496" y="559"/>
                  </a:lnTo>
                  <a:lnTo>
                    <a:pt x="464" y="579"/>
                  </a:lnTo>
                  <a:lnTo>
                    <a:pt x="433" y="600"/>
                  </a:lnTo>
                  <a:lnTo>
                    <a:pt x="400" y="619"/>
                  </a:lnTo>
                  <a:lnTo>
                    <a:pt x="367" y="636"/>
                  </a:lnTo>
                  <a:lnTo>
                    <a:pt x="334" y="651"/>
                  </a:lnTo>
                  <a:lnTo>
                    <a:pt x="317" y="658"/>
                  </a:lnTo>
                  <a:lnTo>
                    <a:pt x="300" y="664"/>
                  </a:lnTo>
                  <a:lnTo>
                    <a:pt x="284" y="669"/>
                  </a:lnTo>
                  <a:lnTo>
                    <a:pt x="266" y="672"/>
                  </a:lnTo>
                  <a:lnTo>
                    <a:pt x="250" y="676"/>
                  </a:lnTo>
                  <a:lnTo>
                    <a:pt x="233" y="677"/>
                  </a:lnTo>
                  <a:lnTo>
                    <a:pt x="215" y="678"/>
                  </a:lnTo>
                  <a:lnTo>
                    <a:pt x="197" y="678"/>
                  </a:lnTo>
                  <a:lnTo>
                    <a:pt x="180" y="676"/>
                  </a:lnTo>
                  <a:lnTo>
                    <a:pt x="162" y="674"/>
                  </a:lnTo>
                  <a:lnTo>
                    <a:pt x="145" y="669"/>
                  </a:lnTo>
                  <a:lnTo>
                    <a:pt x="126" y="662"/>
                  </a:lnTo>
                  <a:lnTo>
                    <a:pt x="109" y="655"/>
                  </a:lnTo>
                  <a:lnTo>
                    <a:pt x="90" y="646"/>
                  </a:lnTo>
                  <a:lnTo>
                    <a:pt x="71" y="634"/>
                  </a:lnTo>
                  <a:lnTo>
                    <a:pt x="52" y="621"/>
                  </a:lnTo>
                  <a:lnTo>
                    <a:pt x="47" y="619"/>
                  </a:lnTo>
                  <a:lnTo>
                    <a:pt x="41" y="615"/>
                  </a:lnTo>
                  <a:lnTo>
                    <a:pt x="36" y="612"/>
                  </a:lnTo>
                  <a:lnTo>
                    <a:pt x="31" y="608"/>
                  </a:lnTo>
                  <a:lnTo>
                    <a:pt x="24" y="601"/>
                  </a:lnTo>
                  <a:lnTo>
                    <a:pt x="21" y="592"/>
                  </a:lnTo>
                  <a:lnTo>
                    <a:pt x="17" y="582"/>
                  </a:lnTo>
                  <a:lnTo>
                    <a:pt x="16" y="573"/>
                  </a:lnTo>
                  <a:lnTo>
                    <a:pt x="16" y="563"/>
                  </a:lnTo>
                  <a:lnTo>
                    <a:pt x="16" y="552"/>
                  </a:lnTo>
                  <a:lnTo>
                    <a:pt x="17" y="531"/>
                  </a:lnTo>
                  <a:lnTo>
                    <a:pt x="17" y="510"/>
                  </a:lnTo>
                  <a:lnTo>
                    <a:pt x="16" y="499"/>
                  </a:lnTo>
                  <a:lnTo>
                    <a:pt x="13" y="490"/>
                  </a:lnTo>
                  <a:lnTo>
                    <a:pt x="8" y="481"/>
                  </a:lnTo>
                  <a:lnTo>
                    <a:pt x="1" y="472"/>
                  </a:lnTo>
                  <a:lnTo>
                    <a:pt x="0" y="442"/>
                  </a:lnTo>
                  <a:lnTo>
                    <a:pt x="0" y="413"/>
                  </a:lnTo>
                  <a:lnTo>
                    <a:pt x="3" y="382"/>
                  </a:lnTo>
                  <a:lnTo>
                    <a:pt x="8" y="353"/>
                  </a:lnTo>
                  <a:lnTo>
                    <a:pt x="15" y="323"/>
                  </a:lnTo>
                  <a:lnTo>
                    <a:pt x="23" y="294"/>
                  </a:lnTo>
                  <a:lnTo>
                    <a:pt x="35" y="265"/>
                  </a:lnTo>
                  <a:lnTo>
                    <a:pt x="48" y="237"/>
                  </a:lnTo>
                  <a:lnTo>
                    <a:pt x="62" y="210"/>
                  </a:lnTo>
                  <a:lnTo>
                    <a:pt x="79" y="185"/>
                  </a:lnTo>
                  <a:lnTo>
                    <a:pt x="98" y="159"/>
                  </a:lnTo>
                  <a:lnTo>
                    <a:pt x="118" y="136"/>
                  </a:lnTo>
                  <a:lnTo>
                    <a:pt x="141" y="112"/>
                  </a:lnTo>
                  <a:lnTo>
                    <a:pt x="165" y="91"/>
                  </a:lnTo>
                  <a:lnTo>
                    <a:pt x="178" y="82"/>
                  </a:lnTo>
                  <a:lnTo>
                    <a:pt x="190" y="72"/>
                  </a:lnTo>
                  <a:lnTo>
                    <a:pt x="205" y="63"/>
                  </a:lnTo>
                  <a:lnTo>
                    <a:pt x="219" y="55"/>
                  </a:lnTo>
                  <a:lnTo>
                    <a:pt x="271" y="36"/>
                  </a:lnTo>
                  <a:lnTo>
                    <a:pt x="328" y="20"/>
                  </a:lnTo>
                  <a:lnTo>
                    <a:pt x="359" y="12"/>
                  </a:lnTo>
                  <a:lnTo>
                    <a:pt x="389" y="6"/>
                  </a:lnTo>
                  <a:lnTo>
                    <a:pt x="419" y="2"/>
                  </a:lnTo>
                  <a:lnTo>
                    <a:pt x="448" y="0"/>
                  </a:lnTo>
                  <a:lnTo>
                    <a:pt x="463" y="1"/>
                  </a:lnTo>
                  <a:lnTo>
                    <a:pt x="477" y="1"/>
                  </a:lnTo>
                  <a:lnTo>
                    <a:pt x="491" y="3"/>
                  </a:lnTo>
                  <a:lnTo>
                    <a:pt x="505" y="6"/>
                  </a:lnTo>
                  <a:lnTo>
                    <a:pt x="518" y="9"/>
                  </a:lnTo>
                  <a:lnTo>
                    <a:pt x="531" y="13"/>
                  </a:lnTo>
                  <a:lnTo>
                    <a:pt x="542" y="19"/>
                  </a:lnTo>
                  <a:lnTo>
                    <a:pt x="554" y="24"/>
                  </a:lnTo>
                  <a:lnTo>
                    <a:pt x="566" y="33"/>
                  </a:lnTo>
                  <a:lnTo>
                    <a:pt x="576" y="41"/>
                  </a:lnTo>
                  <a:lnTo>
                    <a:pt x="587" y="50"/>
                  </a:lnTo>
                  <a:lnTo>
                    <a:pt x="596" y="62"/>
                  </a:lnTo>
                  <a:lnTo>
                    <a:pt x="604" y="75"/>
                  </a:lnTo>
                  <a:lnTo>
                    <a:pt x="613" y="88"/>
                  </a:lnTo>
                  <a:lnTo>
                    <a:pt x="620" y="103"/>
                  </a:lnTo>
                  <a:lnTo>
                    <a:pt x="627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9880" y="2459160"/>
              <a:ext cx="220320" cy="154080"/>
            </a:xfrm>
            <a:custGeom>
              <a:avLst/>
              <a:gdLst/>
              <a:ahLst/>
              <a:rect l="l" t="t" r="r" b="b"/>
              <a:pathLst>
                <a:path w="743" h="580">
                  <a:moveTo>
                    <a:pt x="708" y="332"/>
                  </a:moveTo>
                  <a:lnTo>
                    <a:pt x="715" y="359"/>
                  </a:lnTo>
                  <a:lnTo>
                    <a:pt x="724" y="385"/>
                  </a:lnTo>
                  <a:lnTo>
                    <a:pt x="734" y="410"/>
                  </a:lnTo>
                  <a:lnTo>
                    <a:pt x="741" y="436"/>
                  </a:lnTo>
                  <a:lnTo>
                    <a:pt x="743" y="449"/>
                  </a:lnTo>
                  <a:lnTo>
                    <a:pt x="743" y="461"/>
                  </a:lnTo>
                  <a:lnTo>
                    <a:pt x="743" y="474"/>
                  </a:lnTo>
                  <a:lnTo>
                    <a:pt x="741" y="486"/>
                  </a:lnTo>
                  <a:lnTo>
                    <a:pt x="736" y="498"/>
                  </a:lnTo>
                  <a:lnTo>
                    <a:pt x="729" y="511"/>
                  </a:lnTo>
                  <a:lnTo>
                    <a:pt x="720" y="523"/>
                  </a:lnTo>
                  <a:lnTo>
                    <a:pt x="708" y="536"/>
                  </a:lnTo>
                  <a:lnTo>
                    <a:pt x="703" y="543"/>
                  </a:lnTo>
                  <a:lnTo>
                    <a:pt x="697" y="548"/>
                  </a:lnTo>
                  <a:lnTo>
                    <a:pt x="693" y="554"/>
                  </a:lnTo>
                  <a:lnTo>
                    <a:pt x="687" y="559"/>
                  </a:lnTo>
                  <a:lnTo>
                    <a:pt x="680" y="562"/>
                  </a:lnTo>
                  <a:lnTo>
                    <a:pt x="674" y="565"/>
                  </a:lnTo>
                  <a:lnTo>
                    <a:pt x="667" y="567"/>
                  </a:lnTo>
                  <a:lnTo>
                    <a:pt x="660" y="569"/>
                  </a:lnTo>
                  <a:lnTo>
                    <a:pt x="632" y="575"/>
                  </a:lnTo>
                  <a:lnTo>
                    <a:pt x="604" y="580"/>
                  </a:lnTo>
                  <a:lnTo>
                    <a:pt x="604" y="567"/>
                  </a:lnTo>
                  <a:lnTo>
                    <a:pt x="591" y="561"/>
                  </a:lnTo>
                  <a:lnTo>
                    <a:pt x="578" y="558"/>
                  </a:lnTo>
                  <a:lnTo>
                    <a:pt x="565" y="554"/>
                  </a:lnTo>
                  <a:lnTo>
                    <a:pt x="551" y="552"/>
                  </a:lnTo>
                  <a:lnTo>
                    <a:pt x="537" y="551"/>
                  </a:lnTo>
                  <a:lnTo>
                    <a:pt x="524" y="551"/>
                  </a:lnTo>
                  <a:lnTo>
                    <a:pt x="510" y="551"/>
                  </a:lnTo>
                  <a:lnTo>
                    <a:pt x="496" y="551"/>
                  </a:lnTo>
                  <a:lnTo>
                    <a:pt x="440" y="558"/>
                  </a:lnTo>
                  <a:lnTo>
                    <a:pt x="383" y="567"/>
                  </a:lnTo>
                  <a:lnTo>
                    <a:pt x="355" y="571"/>
                  </a:lnTo>
                  <a:lnTo>
                    <a:pt x="327" y="572"/>
                  </a:lnTo>
                  <a:lnTo>
                    <a:pt x="313" y="572"/>
                  </a:lnTo>
                  <a:lnTo>
                    <a:pt x="299" y="572"/>
                  </a:lnTo>
                  <a:lnTo>
                    <a:pt x="285" y="571"/>
                  </a:lnTo>
                  <a:lnTo>
                    <a:pt x="271" y="568"/>
                  </a:lnTo>
                  <a:lnTo>
                    <a:pt x="257" y="565"/>
                  </a:lnTo>
                  <a:lnTo>
                    <a:pt x="243" y="560"/>
                  </a:lnTo>
                  <a:lnTo>
                    <a:pt x="228" y="555"/>
                  </a:lnTo>
                  <a:lnTo>
                    <a:pt x="216" y="548"/>
                  </a:lnTo>
                  <a:lnTo>
                    <a:pt x="202" y="540"/>
                  </a:lnTo>
                  <a:lnTo>
                    <a:pt x="189" y="531"/>
                  </a:lnTo>
                  <a:lnTo>
                    <a:pt x="175" y="520"/>
                  </a:lnTo>
                  <a:lnTo>
                    <a:pt x="162" y="507"/>
                  </a:lnTo>
                  <a:lnTo>
                    <a:pt x="135" y="483"/>
                  </a:lnTo>
                  <a:lnTo>
                    <a:pt x="103" y="457"/>
                  </a:lnTo>
                  <a:lnTo>
                    <a:pt x="87" y="443"/>
                  </a:lnTo>
                  <a:lnTo>
                    <a:pt x="72" y="428"/>
                  </a:lnTo>
                  <a:lnTo>
                    <a:pt x="57" y="413"/>
                  </a:lnTo>
                  <a:lnTo>
                    <a:pt x="43" y="396"/>
                  </a:lnTo>
                  <a:lnTo>
                    <a:pt x="30" y="380"/>
                  </a:lnTo>
                  <a:lnTo>
                    <a:pt x="19" y="362"/>
                  </a:lnTo>
                  <a:lnTo>
                    <a:pt x="14" y="353"/>
                  </a:lnTo>
                  <a:lnTo>
                    <a:pt x="10" y="344"/>
                  </a:lnTo>
                  <a:lnTo>
                    <a:pt x="7" y="334"/>
                  </a:lnTo>
                  <a:lnTo>
                    <a:pt x="4" y="324"/>
                  </a:lnTo>
                  <a:lnTo>
                    <a:pt x="3" y="314"/>
                  </a:lnTo>
                  <a:lnTo>
                    <a:pt x="2" y="304"/>
                  </a:lnTo>
                  <a:lnTo>
                    <a:pt x="0" y="293"/>
                  </a:lnTo>
                  <a:lnTo>
                    <a:pt x="2" y="283"/>
                  </a:lnTo>
                  <a:lnTo>
                    <a:pt x="3" y="272"/>
                  </a:lnTo>
                  <a:lnTo>
                    <a:pt x="5" y="261"/>
                  </a:lnTo>
                  <a:lnTo>
                    <a:pt x="9" y="250"/>
                  </a:lnTo>
                  <a:lnTo>
                    <a:pt x="13" y="238"/>
                  </a:lnTo>
                  <a:lnTo>
                    <a:pt x="31" y="205"/>
                  </a:lnTo>
                  <a:lnTo>
                    <a:pt x="47" y="171"/>
                  </a:lnTo>
                  <a:lnTo>
                    <a:pt x="66" y="137"/>
                  </a:lnTo>
                  <a:lnTo>
                    <a:pt x="85" y="105"/>
                  </a:lnTo>
                  <a:lnTo>
                    <a:pt x="95" y="90"/>
                  </a:lnTo>
                  <a:lnTo>
                    <a:pt x="107" y="75"/>
                  </a:lnTo>
                  <a:lnTo>
                    <a:pt x="119" y="59"/>
                  </a:lnTo>
                  <a:lnTo>
                    <a:pt x="130" y="47"/>
                  </a:lnTo>
                  <a:lnTo>
                    <a:pt x="144" y="34"/>
                  </a:lnTo>
                  <a:lnTo>
                    <a:pt x="158" y="21"/>
                  </a:lnTo>
                  <a:lnTo>
                    <a:pt x="174" y="10"/>
                  </a:lnTo>
                  <a:lnTo>
                    <a:pt x="190" y="0"/>
                  </a:lnTo>
                  <a:lnTo>
                    <a:pt x="230" y="6"/>
                  </a:lnTo>
                  <a:lnTo>
                    <a:pt x="269" y="14"/>
                  </a:lnTo>
                  <a:lnTo>
                    <a:pt x="309" y="24"/>
                  </a:lnTo>
                  <a:lnTo>
                    <a:pt x="348" y="36"/>
                  </a:lnTo>
                  <a:lnTo>
                    <a:pt x="385" y="49"/>
                  </a:lnTo>
                  <a:lnTo>
                    <a:pt x="423" y="65"/>
                  </a:lnTo>
                  <a:lnTo>
                    <a:pt x="458" y="83"/>
                  </a:lnTo>
                  <a:lnTo>
                    <a:pt x="493" y="103"/>
                  </a:lnTo>
                  <a:lnTo>
                    <a:pt x="510" y="113"/>
                  </a:lnTo>
                  <a:lnTo>
                    <a:pt x="527" y="124"/>
                  </a:lnTo>
                  <a:lnTo>
                    <a:pt x="542" y="135"/>
                  </a:lnTo>
                  <a:lnTo>
                    <a:pt x="558" y="147"/>
                  </a:lnTo>
                  <a:lnTo>
                    <a:pt x="573" y="160"/>
                  </a:lnTo>
                  <a:lnTo>
                    <a:pt x="588" y="173"/>
                  </a:lnTo>
                  <a:lnTo>
                    <a:pt x="603" y="187"/>
                  </a:lnTo>
                  <a:lnTo>
                    <a:pt x="617" y="201"/>
                  </a:lnTo>
                  <a:lnTo>
                    <a:pt x="630" y="215"/>
                  </a:lnTo>
                  <a:lnTo>
                    <a:pt x="642" y="230"/>
                  </a:lnTo>
                  <a:lnTo>
                    <a:pt x="655" y="245"/>
                  </a:lnTo>
                  <a:lnTo>
                    <a:pt x="667" y="262"/>
                  </a:lnTo>
                  <a:lnTo>
                    <a:pt x="678" y="278"/>
                  </a:lnTo>
                  <a:lnTo>
                    <a:pt x="688" y="296"/>
                  </a:lnTo>
                  <a:lnTo>
                    <a:pt x="699" y="313"/>
                  </a:lnTo>
                  <a:lnTo>
                    <a:pt x="708" y="33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153080" y="2468520"/>
              <a:ext cx="162720" cy="152640"/>
            </a:xfrm>
            <a:custGeom>
              <a:avLst/>
              <a:gdLst/>
              <a:ahLst/>
              <a:rect l="l" t="t" r="r" b="b"/>
              <a:pathLst>
                <a:path w="548" h="575">
                  <a:moveTo>
                    <a:pt x="536" y="86"/>
                  </a:moveTo>
                  <a:lnTo>
                    <a:pt x="541" y="127"/>
                  </a:lnTo>
                  <a:lnTo>
                    <a:pt x="546" y="166"/>
                  </a:lnTo>
                  <a:lnTo>
                    <a:pt x="548" y="204"/>
                  </a:lnTo>
                  <a:lnTo>
                    <a:pt x="548" y="243"/>
                  </a:lnTo>
                  <a:lnTo>
                    <a:pt x="548" y="280"/>
                  </a:lnTo>
                  <a:lnTo>
                    <a:pt x="546" y="318"/>
                  </a:lnTo>
                  <a:lnTo>
                    <a:pt x="541" y="354"/>
                  </a:lnTo>
                  <a:lnTo>
                    <a:pt x="536" y="390"/>
                  </a:lnTo>
                  <a:lnTo>
                    <a:pt x="488" y="428"/>
                  </a:lnTo>
                  <a:lnTo>
                    <a:pt x="436" y="466"/>
                  </a:lnTo>
                  <a:lnTo>
                    <a:pt x="408" y="485"/>
                  </a:lnTo>
                  <a:lnTo>
                    <a:pt x="381" y="503"/>
                  </a:lnTo>
                  <a:lnTo>
                    <a:pt x="353" y="519"/>
                  </a:lnTo>
                  <a:lnTo>
                    <a:pt x="324" y="534"/>
                  </a:lnTo>
                  <a:lnTo>
                    <a:pt x="295" y="548"/>
                  </a:lnTo>
                  <a:lnTo>
                    <a:pt x="265" y="559"/>
                  </a:lnTo>
                  <a:lnTo>
                    <a:pt x="250" y="563"/>
                  </a:lnTo>
                  <a:lnTo>
                    <a:pt x="235" y="568"/>
                  </a:lnTo>
                  <a:lnTo>
                    <a:pt x="220" y="571"/>
                  </a:lnTo>
                  <a:lnTo>
                    <a:pt x="205" y="573"/>
                  </a:lnTo>
                  <a:lnTo>
                    <a:pt x="189" y="574"/>
                  </a:lnTo>
                  <a:lnTo>
                    <a:pt x="174" y="575"/>
                  </a:lnTo>
                  <a:lnTo>
                    <a:pt x="159" y="575"/>
                  </a:lnTo>
                  <a:lnTo>
                    <a:pt x="144" y="573"/>
                  </a:lnTo>
                  <a:lnTo>
                    <a:pt x="129" y="571"/>
                  </a:lnTo>
                  <a:lnTo>
                    <a:pt x="113" y="567"/>
                  </a:lnTo>
                  <a:lnTo>
                    <a:pt x="98" y="562"/>
                  </a:lnTo>
                  <a:lnTo>
                    <a:pt x="83" y="556"/>
                  </a:lnTo>
                  <a:lnTo>
                    <a:pt x="71" y="552"/>
                  </a:lnTo>
                  <a:lnTo>
                    <a:pt x="61" y="545"/>
                  </a:lnTo>
                  <a:lnTo>
                    <a:pt x="53" y="537"/>
                  </a:lnTo>
                  <a:lnTo>
                    <a:pt x="46" y="527"/>
                  </a:lnTo>
                  <a:lnTo>
                    <a:pt x="40" y="517"/>
                  </a:lnTo>
                  <a:lnTo>
                    <a:pt x="35" y="506"/>
                  </a:lnTo>
                  <a:lnTo>
                    <a:pt x="32" y="494"/>
                  </a:lnTo>
                  <a:lnTo>
                    <a:pt x="28" y="482"/>
                  </a:lnTo>
                  <a:lnTo>
                    <a:pt x="22" y="456"/>
                  </a:lnTo>
                  <a:lnTo>
                    <a:pt x="16" y="429"/>
                  </a:lnTo>
                  <a:lnTo>
                    <a:pt x="14" y="416"/>
                  </a:lnTo>
                  <a:lnTo>
                    <a:pt x="10" y="404"/>
                  </a:lnTo>
                  <a:lnTo>
                    <a:pt x="6" y="392"/>
                  </a:lnTo>
                  <a:lnTo>
                    <a:pt x="0" y="381"/>
                  </a:lnTo>
                  <a:lnTo>
                    <a:pt x="7" y="352"/>
                  </a:lnTo>
                  <a:lnTo>
                    <a:pt x="16" y="324"/>
                  </a:lnTo>
                  <a:lnTo>
                    <a:pt x="26" y="296"/>
                  </a:lnTo>
                  <a:lnTo>
                    <a:pt x="39" y="266"/>
                  </a:lnTo>
                  <a:lnTo>
                    <a:pt x="53" y="238"/>
                  </a:lnTo>
                  <a:lnTo>
                    <a:pt x="68" y="210"/>
                  </a:lnTo>
                  <a:lnTo>
                    <a:pt x="85" y="183"/>
                  </a:lnTo>
                  <a:lnTo>
                    <a:pt x="104" y="158"/>
                  </a:lnTo>
                  <a:lnTo>
                    <a:pt x="124" y="134"/>
                  </a:lnTo>
                  <a:lnTo>
                    <a:pt x="146" y="111"/>
                  </a:lnTo>
                  <a:lnTo>
                    <a:pt x="158" y="100"/>
                  </a:lnTo>
                  <a:lnTo>
                    <a:pt x="170" y="90"/>
                  </a:lnTo>
                  <a:lnTo>
                    <a:pt x="181" y="80"/>
                  </a:lnTo>
                  <a:lnTo>
                    <a:pt x="194" y="71"/>
                  </a:lnTo>
                  <a:lnTo>
                    <a:pt x="207" y="63"/>
                  </a:lnTo>
                  <a:lnTo>
                    <a:pt x="221" y="55"/>
                  </a:lnTo>
                  <a:lnTo>
                    <a:pt x="234" y="47"/>
                  </a:lnTo>
                  <a:lnTo>
                    <a:pt x="248" y="41"/>
                  </a:lnTo>
                  <a:lnTo>
                    <a:pt x="263" y="35"/>
                  </a:lnTo>
                  <a:lnTo>
                    <a:pt x="277" y="29"/>
                  </a:lnTo>
                  <a:lnTo>
                    <a:pt x="292" y="24"/>
                  </a:lnTo>
                  <a:lnTo>
                    <a:pt x="308" y="21"/>
                  </a:lnTo>
                  <a:lnTo>
                    <a:pt x="338" y="13"/>
                  </a:lnTo>
                  <a:lnTo>
                    <a:pt x="371" y="4"/>
                  </a:lnTo>
                  <a:lnTo>
                    <a:pt x="388" y="2"/>
                  </a:lnTo>
                  <a:lnTo>
                    <a:pt x="407" y="0"/>
                  </a:lnTo>
                  <a:lnTo>
                    <a:pt x="424" y="0"/>
                  </a:lnTo>
                  <a:lnTo>
                    <a:pt x="441" y="1"/>
                  </a:lnTo>
                  <a:lnTo>
                    <a:pt x="458" y="3"/>
                  </a:lnTo>
                  <a:lnTo>
                    <a:pt x="474" y="8"/>
                  </a:lnTo>
                  <a:lnTo>
                    <a:pt x="482" y="11"/>
                  </a:lnTo>
                  <a:lnTo>
                    <a:pt x="489" y="15"/>
                  </a:lnTo>
                  <a:lnTo>
                    <a:pt x="496" y="18"/>
                  </a:lnTo>
                  <a:lnTo>
                    <a:pt x="502" y="23"/>
                  </a:lnTo>
                  <a:lnTo>
                    <a:pt x="507" y="29"/>
                  </a:lnTo>
                  <a:lnTo>
                    <a:pt x="513" y="35"/>
                  </a:lnTo>
                  <a:lnTo>
                    <a:pt x="518" y="42"/>
                  </a:lnTo>
                  <a:lnTo>
                    <a:pt x="523" y="49"/>
                  </a:lnTo>
                  <a:lnTo>
                    <a:pt x="527" y="57"/>
                  </a:lnTo>
                  <a:lnTo>
                    <a:pt x="531" y="66"/>
                  </a:lnTo>
                  <a:lnTo>
                    <a:pt x="533" y="76"/>
                  </a:lnTo>
                  <a:lnTo>
                    <a:pt x="536" y="8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925920" y="2766960"/>
              <a:ext cx="384480" cy="135000"/>
            </a:xfrm>
            <a:custGeom>
              <a:avLst/>
              <a:gdLst/>
              <a:ahLst/>
              <a:rect l="l" t="t" r="r" b="b"/>
              <a:pathLst>
                <a:path w="1292" h="507">
                  <a:moveTo>
                    <a:pt x="1088" y="276"/>
                  </a:moveTo>
                  <a:lnTo>
                    <a:pt x="1079" y="291"/>
                  </a:lnTo>
                  <a:lnTo>
                    <a:pt x="1068" y="304"/>
                  </a:lnTo>
                  <a:lnTo>
                    <a:pt x="1056" y="317"/>
                  </a:lnTo>
                  <a:lnTo>
                    <a:pt x="1045" y="328"/>
                  </a:lnTo>
                  <a:lnTo>
                    <a:pt x="1033" y="340"/>
                  </a:lnTo>
                  <a:lnTo>
                    <a:pt x="1020" y="349"/>
                  </a:lnTo>
                  <a:lnTo>
                    <a:pt x="1007" y="359"/>
                  </a:lnTo>
                  <a:lnTo>
                    <a:pt x="994" y="368"/>
                  </a:lnTo>
                  <a:lnTo>
                    <a:pt x="980" y="376"/>
                  </a:lnTo>
                  <a:lnTo>
                    <a:pt x="966" y="383"/>
                  </a:lnTo>
                  <a:lnTo>
                    <a:pt x="952" y="390"/>
                  </a:lnTo>
                  <a:lnTo>
                    <a:pt x="938" y="396"/>
                  </a:lnTo>
                  <a:lnTo>
                    <a:pt x="908" y="408"/>
                  </a:lnTo>
                  <a:lnTo>
                    <a:pt x="878" y="418"/>
                  </a:lnTo>
                  <a:lnTo>
                    <a:pt x="816" y="437"/>
                  </a:lnTo>
                  <a:lnTo>
                    <a:pt x="755" y="456"/>
                  </a:lnTo>
                  <a:lnTo>
                    <a:pt x="724" y="466"/>
                  </a:lnTo>
                  <a:lnTo>
                    <a:pt x="695" y="478"/>
                  </a:lnTo>
                  <a:lnTo>
                    <a:pt x="680" y="485"/>
                  </a:lnTo>
                  <a:lnTo>
                    <a:pt x="666" y="492"/>
                  </a:lnTo>
                  <a:lnTo>
                    <a:pt x="653" y="499"/>
                  </a:lnTo>
                  <a:lnTo>
                    <a:pt x="639" y="507"/>
                  </a:lnTo>
                  <a:lnTo>
                    <a:pt x="611" y="507"/>
                  </a:lnTo>
                  <a:lnTo>
                    <a:pt x="584" y="506"/>
                  </a:lnTo>
                  <a:lnTo>
                    <a:pt x="557" y="505"/>
                  </a:lnTo>
                  <a:lnTo>
                    <a:pt x="530" y="503"/>
                  </a:lnTo>
                  <a:lnTo>
                    <a:pt x="504" y="499"/>
                  </a:lnTo>
                  <a:lnTo>
                    <a:pt x="479" y="496"/>
                  </a:lnTo>
                  <a:lnTo>
                    <a:pt x="453" y="491"/>
                  </a:lnTo>
                  <a:lnTo>
                    <a:pt x="427" y="486"/>
                  </a:lnTo>
                  <a:lnTo>
                    <a:pt x="377" y="476"/>
                  </a:lnTo>
                  <a:lnTo>
                    <a:pt x="328" y="463"/>
                  </a:lnTo>
                  <a:lnTo>
                    <a:pt x="280" y="449"/>
                  </a:lnTo>
                  <a:lnTo>
                    <a:pt x="232" y="435"/>
                  </a:lnTo>
                  <a:lnTo>
                    <a:pt x="204" y="401"/>
                  </a:lnTo>
                  <a:lnTo>
                    <a:pt x="175" y="368"/>
                  </a:lnTo>
                  <a:lnTo>
                    <a:pt x="144" y="338"/>
                  </a:lnTo>
                  <a:lnTo>
                    <a:pt x="114" y="307"/>
                  </a:lnTo>
                  <a:lnTo>
                    <a:pt x="85" y="277"/>
                  </a:lnTo>
                  <a:lnTo>
                    <a:pt x="55" y="247"/>
                  </a:lnTo>
                  <a:lnTo>
                    <a:pt x="26" y="215"/>
                  </a:lnTo>
                  <a:lnTo>
                    <a:pt x="0" y="182"/>
                  </a:lnTo>
                  <a:lnTo>
                    <a:pt x="10" y="181"/>
                  </a:lnTo>
                  <a:lnTo>
                    <a:pt x="18" y="182"/>
                  </a:lnTo>
                  <a:lnTo>
                    <a:pt x="26" y="185"/>
                  </a:lnTo>
                  <a:lnTo>
                    <a:pt x="34" y="189"/>
                  </a:lnTo>
                  <a:lnTo>
                    <a:pt x="48" y="200"/>
                  </a:lnTo>
                  <a:lnTo>
                    <a:pt x="61" y="211"/>
                  </a:lnTo>
                  <a:lnTo>
                    <a:pt x="68" y="216"/>
                  </a:lnTo>
                  <a:lnTo>
                    <a:pt x="75" y="220"/>
                  </a:lnTo>
                  <a:lnTo>
                    <a:pt x="82" y="222"/>
                  </a:lnTo>
                  <a:lnTo>
                    <a:pt x="89" y="223"/>
                  </a:lnTo>
                  <a:lnTo>
                    <a:pt x="93" y="222"/>
                  </a:lnTo>
                  <a:lnTo>
                    <a:pt x="96" y="221"/>
                  </a:lnTo>
                  <a:lnTo>
                    <a:pt x="100" y="218"/>
                  </a:lnTo>
                  <a:lnTo>
                    <a:pt x="103" y="216"/>
                  </a:lnTo>
                  <a:lnTo>
                    <a:pt x="112" y="208"/>
                  </a:lnTo>
                  <a:lnTo>
                    <a:pt x="121" y="196"/>
                  </a:lnTo>
                  <a:lnTo>
                    <a:pt x="145" y="209"/>
                  </a:lnTo>
                  <a:lnTo>
                    <a:pt x="171" y="222"/>
                  </a:lnTo>
                  <a:lnTo>
                    <a:pt x="196" y="236"/>
                  </a:lnTo>
                  <a:lnTo>
                    <a:pt x="221" y="249"/>
                  </a:lnTo>
                  <a:lnTo>
                    <a:pt x="234" y="255"/>
                  </a:lnTo>
                  <a:lnTo>
                    <a:pt x="247" y="261"/>
                  </a:lnTo>
                  <a:lnTo>
                    <a:pt x="260" y="265"/>
                  </a:lnTo>
                  <a:lnTo>
                    <a:pt x="273" y="269"/>
                  </a:lnTo>
                  <a:lnTo>
                    <a:pt x="286" y="272"/>
                  </a:lnTo>
                  <a:lnTo>
                    <a:pt x="299" y="275"/>
                  </a:lnTo>
                  <a:lnTo>
                    <a:pt x="312" y="276"/>
                  </a:lnTo>
                  <a:lnTo>
                    <a:pt x="324" y="276"/>
                  </a:lnTo>
                  <a:lnTo>
                    <a:pt x="331" y="268"/>
                  </a:lnTo>
                  <a:lnTo>
                    <a:pt x="337" y="259"/>
                  </a:lnTo>
                  <a:lnTo>
                    <a:pt x="342" y="249"/>
                  </a:lnTo>
                  <a:lnTo>
                    <a:pt x="347" y="240"/>
                  </a:lnTo>
                  <a:lnTo>
                    <a:pt x="350" y="228"/>
                  </a:lnTo>
                  <a:lnTo>
                    <a:pt x="354" y="217"/>
                  </a:lnTo>
                  <a:lnTo>
                    <a:pt x="356" y="206"/>
                  </a:lnTo>
                  <a:lnTo>
                    <a:pt x="357" y="194"/>
                  </a:lnTo>
                  <a:lnTo>
                    <a:pt x="359" y="173"/>
                  </a:lnTo>
                  <a:lnTo>
                    <a:pt x="361" y="154"/>
                  </a:lnTo>
                  <a:lnTo>
                    <a:pt x="361" y="139"/>
                  </a:lnTo>
                  <a:lnTo>
                    <a:pt x="359" y="131"/>
                  </a:lnTo>
                  <a:lnTo>
                    <a:pt x="367" y="137"/>
                  </a:lnTo>
                  <a:lnTo>
                    <a:pt x="374" y="142"/>
                  </a:lnTo>
                  <a:lnTo>
                    <a:pt x="381" y="149"/>
                  </a:lnTo>
                  <a:lnTo>
                    <a:pt x="388" y="158"/>
                  </a:lnTo>
                  <a:lnTo>
                    <a:pt x="400" y="173"/>
                  </a:lnTo>
                  <a:lnTo>
                    <a:pt x="414" y="187"/>
                  </a:lnTo>
                  <a:lnTo>
                    <a:pt x="421" y="194"/>
                  </a:lnTo>
                  <a:lnTo>
                    <a:pt x="430" y="200"/>
                  </a:lnTo>
                  <a:lnTo>
                    <a:pt x="438" y="204"/>
                  </a:lnTo>
                  <a:lnTo>
                    <a:pt x="447" y="209"/>
                  </a:lnTo>
                  <a:lnTo>
                    <a:pt x="457" y="211"/>
                  </a:lnTo>
                  <a:lnTo>
                    <a:pt x="467" y="213"/>
                  </a:lnTo>
                  <a:lnTo>
                    <a:pt x="478" y="213"/>
                  </a:lnTo>
                  <a:lnTo>
                    <a:pt x="490" y="210"/>
                  </a:lnTo>
                  <a:lnTo>
                    <a:pt x="499" y="197"/>
                  </a:lnTo>
                  <a:lnTo>
                    <a:pt x="507" y="186"/>
                  </a:lnTo>
                  <a:lnTo>
                    <a:pt x="515" y="178"/>
                  </a:lnTo>
                  <a:lnTo>
                    <a:pt x="523" y="171"/>
                  </a:lnTo>
                  <a:lnTo>
                    <a:pt x="531" y="166"/>
                  </a:lnTo>
                  <a:lnTo>
                    <a:pt x="540" y="162"/>
                  </a:lnTo>
                  <a:lnTo>
                    <a:pt x="548" y="160"/>
                  </a:lnTo>
                  <a:lnTo>
                    <a:pt x="556" y="159"/>
                  </a:lnTo>
                  <a:lnTo>
                    <a:pt x="564" y="160"/>
                  </a:lnTo>
                  <a:lnTo>
                    <a:pt x="573" y="161"/>
                  </a:lnTo>
                  <a:lnTo>
                    <a:pt x="582" y="164"/>
                  </a:lnTo>
                  <a:lnTo>
                    <a:pt x="590" y="166"/>
                  </a:lnTo>
                  <a:lnTo>
                    <a:pt x="606" y="174"/>
                  </a:lnTo>
                  <a:lnTo>
                    <a:pt x="624" y="183"/>
                  </a:lnTo>
                  <a:lnTo>
                    <a:pt x="640" y="192"/>
                  </a:lnTo>
                  <a:lnTo>
                    <a:pt x="658" y="199"/>
                  </a:lnTo>
                  <a:lnTo>
                    <a:pt x="666" y="202"/>
                  </a:lnTo>
                  <a:lnTo>
                    <a:pt x="674" y="203"/>
                  </a:lnTo>
                  <a:lnTo>
                    <a:pt x="682" y="204"/>
                  </a:lnTo>
                  <a:lnTo>
                    <a:pt x="690" y="204"/>
                  </a:lnTo>
                  <a:lnTo>
                    <a:pt x="699" y="203"/>
                  </a:lnTo>
                  <a:lnTo>
                    <a:pt x="707" y="201"/>
                  </a:lnTo>
                  <a:lnTo>
                    <a:pt x="716" y="196"/>
                  </a:lnTo>
                  <a:lnTo>
                    <a:pt x="724" y="190"/>
                  </a:lnTo>
                  <a:lnTo>
                    <a:pt x="733" y="183"/>
                  </a:lnTo>
                  <a:lnTo>
                    <a:pt x="741" y="174"/>
                  </a:lnTo>
                  <a:lnTo>
                    <a:pt x="749" y="162"/>
                  </a:lnTo>
                  <a:lnTo>
                    <a:pt x="757" y="148"/>
                  </a:lnTo>
                  <a:lnTo>
                    <a:pt x="757" y="158"/>
                  </a:lnTo>
                  <a:lnTo>
                    <a:pt x="761" y="161"/>
                  </a:lnTo>
                  <a:lnTo>
                    <a:pt x="765" y="164"/>
                  </a:lnTo>
                  <a:lnTo>
                    <a:pt x="769" y="165"/>
                  </a:lnTo>
                  <a:lnTo>
                    <a:pt x="773" y="166"/>
                  </a:lnTo>
                  <a:lnTo>
                    <a:pt x="784" y="167"/>
                  </a:lnTo>
                  <a:lnTo>
                    <a:pt x="795" y="167"/>
                  </a:lnTo>
                  <a:lnTo>
                    <a:pt x="817" y="165"/>
                  </a:lnTo>
                  <a:lnTo>
                    <a:pt x="839" y="165"/>
                  </a:lnTo>
                  <a:lnTo>
                    <a:pt x="832" y="189"/>
                  </a:lnTo>
                  <a:lnTo>
                    <a:pt x="824" y="210"/>
                  </a:lnTo>
                  <a:lnTo>
                    <a:pt x="820" y="221"/>
                  </a:lnTo>
                  <a:lnTo>
                    <a:pt x="818" y="231"/>
                  </a:lnTo>
                  <a:lnTo>
                    <a:pt x="818" y="243"/>
                  </a:lnTo>
                  <a:lnTo>
                    <a:pt x="819" y="255"/>
                  </a:lnTo>
                  <a:lnTo>
                    <a:pt x="827" y="264"/>
                  </a:lnTo>
                  <a:lnTo>
                    <a:pt x="835" y="271"/>
                  </a:lnTo>
                  <a:lnTo>
                    <a:pt x="845" y="277"/>
                  </a:lnTo>
                  <a:lnTo>
                    <a:pt x="854" y="282"/>
                  </a:lnTo>
                  <a:lnTo>
                    <a:pt x="864" y="285"/>
                  </a:lnTo>
                  <a:lnTo>
                    <a:pt x="873" y="287"/>
                  </a:lnTo>
                  <a:lnTo>
                    <a:pt x="882" y="289"/>
                  </a:lnTo>
                  <a:lnTo>
                    <a:pt x="892" y="289"/>
                  </a:lnTo>
                  <a:lnTo>
                    <a:pt x="901" y="289"/>
                  </a:lnTo>
                  <a:lnTo>
                    <a:pt x="910" y="287"/>
                  </a:lnTo>
                  <a:lnTo>
                    <a:pt x="921" y="285"/>
                  </a:lnTo>
                  <a:lnTo>
                    <a:pt x="930" y="283"/>
                  </a:lnTo>
                  <a:lnTo>
                    <a:pt x="949" y="276"/>
                  </a:lnTo>
                  <a:lnTo>
                    <a:pt x="968" y="269"/>
                  </a:lnTo>
                  <a:lnTo>
                    <a:pt x="973" y="254"/>
                  </a:lnTo>
                  <a:lnTo>
                    <a:pt x="979" y="238"/>
                  </a:lnTo>
                  <a:lnTo>
                    <a:pt x="987" y="226"/>
                  </a:lnTo>
                  <a:lnTo>
                    <a:pt x="996" y="214"/>
                  </a:lnTo>
                  <a:lnTo>
                    <a:pt x="1005" y="203"/>
                  </a:lnTo>
                  <a:lnTo>
                    <a:pt x="1014" y="193"/>
                  </a:lnTo>
                  <a:lnTo>
                    <a:pt x="1025" y="185"/>
                  </a:lnTo>
                  <a:lnTo>
                    <a:pt x="1037" y="176"/>
                  </a:lnTo>
                  <a:lnTo>
                    <a:pt x="1048" y="169"/>
                  </a:lnTo>
                  <a:lnTo>
                    <a:pt x="1060" y="162"/>
                  </a:lnTo>
                  <a:lnTo>
                    <a:pt x="1073" y="156"/>
                  </a:lnTo>
                  <a:lnTo>
                    <a:pt x="1086" y="151"/>
                  </a:lnTo>
                  <a:lnTo>
                    <a:pt x="1111" y="141"/>
                  </a:lnTo>
                  <a:lnTo>
                    <a:pt x="1137" y="132"/>
                  </a:lnTo>
                  <a:lnTo>
                    <a:pt x="1163" y="123"/>
                  </a:lnTo>
                  <a:lnTo>
                    <a:pt x="1189" y="112"/>
                  </a:lnTo>
                  <a:lnTo>
                    <a:pt x="1200" y="107"/>
                  </a:lnTo>
                  <a:lnTo>
                    <a:pt x="1212" y="102"/>
                  </a:lnTo>
                  <a:lnTo>
                    <a:pt x="1224" y="95"/>
                  </a:lnTo>
                  <a:lnTo>
                    <a:pt x="1234" y="87"/>
                  </a:lnTo>
                  <a:lnTo>
                    <a:pt x="1245" y="80"/>
                  </a:lnTo>
                  <a:lnTo>
                    <a:pt x="1254" y="72"/>
                  </a:lnTo>
                  <a:lnTo>
                    <a:pt x="1262" y="63"/>
                  </a:lnTo>
                  <a:lnTo>
                    <a:pt x="1270" y="52"/>
                  </a:lnTo>
                  <a:lnTo>
                    <a:pt x="1277" y="41"/>
                  </a:lnTo>
                  <a:lnTo>
                    <a:pt x="1283" y="28"/>
                  </a:lnTo>
                  <a:lnTo>
                    <a:pt x="1288" y="15"/>
                  </a:lnTo>
                  <a:lnTo>
                    <a:pt x="1292" y="0"/>
                  </a:lnTo>
                  <a:lnTo>
                    <a:pt x="1289" y="9"/>
                  </a:lnTo>
                  <a:lnTo>
                    <a:pt x="1286" y="17"/>
                  </a:lnTo>
                  <a:lnTo>
                    <a:pt x="1282" y="27"/>
                  </a:lnTo>
                  <a:lnTo>
                    <a:pt x="1277" y="35"/>
                  </a:lnTo>
                  <a:lnTo>
                    <a:pt x="1267" y="52"/>
                  </a:lnTo>
                  <a:lnTo>
                    <a:pt x="1255" y="69"/>
                  </a:lnTo>
                  <a:lnTo>
                    <a:pt x="1241" y="85"/>
                  </a:lnTo>
                  <a:lnTo>
                    <a:pt x="1227" y="102"/>
                  </a:lnTo>
                  <a:lnTo>
                    <a:pt x="1211" y="118"/>
                  </a:lnTo>
                  <a:lnTo>
                    <a:pt x="1196" y="133"/>
                  </a:lnTo>
                  <a:lnTo>
                    <a:pt x="1179" y="149"/>
                  </a:lnTo>
                  <a:lnTo>
                    <a:pt x="1163" y="166"/>
                  </a:lnTo>
                  <a:lnTo>
                    <a:pt x="1148" y="183"/>
                  </a:lnTo>
                  <a:lnTo>
                    <a:pt x="1132" y="200"/>
                  </a:lnTo>
                  <a:lnTo>
                    <a:pt x="1118" y="217"/>
                  </a:lnTo>
                  <a:lnTo>
                    <a:pt x="1107" y="236"/>
                  </a:lnTo>
                  <a:lnTo>
                    <a:pt x="1096" y="256"/>
                  </a:lnTo>
                  <a:lnTo>
                    <a:pt x="1088" y="27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36800" y="2927520"/>
              <a:ext cx="164520" cy="33120"/>
            </a:xfrm>
            <a:custGeom>
              <a:avLst/>
              <a:gdLst/>
              <a:ahLst/>
              <a:rect l="l" t="t" r="r" b="b"/>
              <a:pathLst>
                <a:path w="550" h="127">
                  <a:moveTo>
                    <a:pt x="493" y="83"/>
                  </a:moveTo>
                  <a:lnTo>
                    <a:pt x="473" y="90"/>
                  </a:lnTo>
                  <a:lnTo>
                    <a:pt x="453" y="96"/>
                  </a:lnTo>
                  <a:lnTo>
                    <a:pt x="432" y="99"/>
                  </a:lnTo>
                  <a:lnTo>
                    <a:pt x="411" y="102"/>
                  </a:lnTo>
                  <a:lnTo>
                    <a:pt x="390" y="103"/>
                  </a:lnTo>
                  <a:lnTo>
                    <a:pt x="369" y="102"/>
                  </a:lnTo>
                  <a:lnTo>
                    <a:pt x="348" y="99"/>
                  </a:lnTo>
                  <a:lnTo>
                    <a:pt x="326" y="97"/>
                  </a:lnTo>
                  <a:lnTo>
                    <a:pt x="283" y="90"/>
                  </a:lnTo>
                  <a:lnTo>
                    <a:pt x="240" y="83"/>
                  </a:lnTo>
                  <a:lnTo>
                    <a:pt x="221" y="81"/>
                  </a:lnTo>
                  <a:lnTo>
                    <a:pt x="201" y="78"/>
                  </a:lnTo>
                  <a:lnTo>
                    <a:pt x="181" y="76"/>
                  </a:lnTo>
                  <a:lnTo>
                    <a:pt x="161" y="76"/>
                  </a:lnTo>
                  <a:lnTo>
                    <a:pt x="150" y="81"/>
                  </a:lnTo>
                  <a:lnTo>
                    <a:pt x="140" y="84"/>
                  </a:lnTo>
                  <a:lnTo>
                    <a:pt x="129" y="87"/>
                  </a:lnTo>
                  <a:lnTo>
                    <a:pt x="120" y="89"/>
                  </a:lnTo>
                  <a:lnTo>
                    <a:pt x="100" y="92"/>
                  </a:lnTo>
                  <a:lnTo>
                    <a:pt x="81" y="95"/>
                  </a:lnTo>
                  <a:lnTo>
                    <a:pt x="63" y="98"/>
                  </a:lnTo>
                  <a:lnTo>
                    <a:pt x="44" y="104"/>
                  </a:lnTo>
                  <a:lnTo>
                    <a:pt x="35" y="109"/>
                  </a:lnTo>
                  <a:lnTo>
                    <a:pt x="25" y="113"/>
                  </a:lnTo>
                  <a:lnTo>
                    <a:pt x="16" y="119"/>
                  </a:lnTo>
                  <a:lnTo>
                    <a:pt x="7" y="127"/>
                  </a:lnTo>
                  <a:lnTo>
                    <a:pt x="1" y="116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1" y="92"/>
                  </a:lnTo>
                  <a:lnTo>
                    <a:pt x="2" y="88"/>
                  </a:lnTo>
                  <a:lnTo>
                    <a:pt x="7" y="82"/>
                  </a:lnTo>
                  <a:lnTo>
                    <a:pt x="14" y="76"/>
                  </a:lnTo>
                  <a:lnTo>
                    <a:pt x="21" y="70"/>
                  </a:lnTo>
                  <a:lnTo>
                    <a:pt x="29" y="65"/>
                  </a:lnTo>
                  <a:lnTo>
                    <a:pt x="47" y="56"/>
                  </a:lnTo>
                  <a:lnTo>
                    <a:pt x="65" y="47"/>
                  </a:lnTo>
                  <a:lnTo>
                    <a:pt x="73" y="41"/>
                  </a:lnTo>
                  <a:lnTo>
                    <a:pt x="80" y="34"/>
                  </a:lnTo>
                  <a:lnTo>
                    <a:pt x="85" y="26"/>
                  </a:lnTo>
                  <a:lnTo>
                    <a:pt x="88" y="16"/>
                  </a:lnTo>
                  <a:lnTo>
                    <a:pt x="102" y="15"/>
                  </a:lnTo>
                  <a:lnTo>
                    <a:pt x="116" y="14"/>
                  </a:lnTo>
                  <a:lnTo>
                    <a:pt x="130" y="14"/>
                  </a:lnTo>
                  <a:lnTo>
                    <a:pt x="145" y="14"/>
                  </a:lnTo>
                  <a:lnTo>
                    <a:pt x="173" y="16"/>
                  </a:lnTo>
                  <a:lnTo>
                    <a:pt x="202" y="21"/>
                  </a:lnTo>
                  <a:lnTo>
                    <a:pt x="260" y="34"/>
                  </a:lnTo>
                  <a:lnTo>
                    <a:pt x="320" y="46"/>
                  </a:lnTo>
                  <a:lnTo>
                    <a:pt x="349" y="50"/>
                  </a:lnTo>
                  <a:lnTo>
                    <a:pt x="378" y="54"/>
                  </a:lnTo>
                  <a:lnTo>
                    <a:pt x="392" y="54"/>
                  </a:lnTo>
                  <a:lnTo>
                    <a:pt x="408" y="54"/>
                  </a:lnTo>
                  <a:lnTo>
                    <a:pt x="422" y="53"/>
                  </a:lnTo>
                  <a:lnTo>
                    <a:pt x="436" y="51"/>
                  </a:lnTo>
                  <a:lnTo>
                    <a:pt x="450" y="49"/>
                  </a:lnTo>
                  <a:lnTo>
                    <a:pt x="464" y="46"/>
                  </a:lnTo>
                  <a:lnTo>
                    <a:pt x="478" y="41"/>
                  </a:lnTo>
                  <a:lnTo>
                    <a:pt x="492" y="35"/>
                  </a:lnTo>
                  <a:lnTo>
                    <a:pt x="505" y="28"/>
                  </a:lnTo>
                  <a:lnTo>
                    <a:pt x="519" y="20"/>
                  </a:lnTo>
                  <a:lnTo>
                    <a:pt x="532" y="10"/>
                  </a:lnTo>
                  <a:lnTo>
                    <a:pt x="544" y="0"/>
                  </a:lnTo>
                  <a:lnTo>
                    <a:pt x="548" y="5"/>
                  </a:lnTo>
                  <a:lnTo>
                    <a:pt x="550" y="9"/>
                  </a:lnTo>
                  <a:lnTo>
                    <a:pt x="550" y="15"/>
                  </a:lnTo>
                  <a:lnTo>
                    <a:pt x="549" y="20"/>
                  </a:lnTo>
                  <a:lnTo>
                    <a:pt x="548" y="26"/>
                  </a:lnTo>
                  <a:lnTo>
                    <a:pt x="544" y="30"/>
                  </a:lnTo>
                  <a:lnTo>
                    <a:pt x="541" y="36"/>
                  </a:lnTo>
                  <a:lnTo>
                    <a:pt x="537" y="41"/>
                  </a:lnTo>
                  <a:lnTo>
                    <a:pt x="515" y="62"/>
                  </a:lnTo>
                  <a:lnTo>
                    <a:pt x="493" y="83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63800" y="2986200"/>
              <a:ext cx="123120" cy="17280"/>
            </a:xfrm>
            <a:custGeom>
              <a:avLst/>
              <a:gdLst/>
              <a:ahLst/>
              <a:rect l="l" t="t" r="r" b="b"/>
              <a:pathLst>
                <a:path w="412" h="67">
                  <a:moveTo>
                    <a:pt x="412" y="30"/>
                  </a:moveTo>
                  <a:lnTo>
                    <a:pt x="403" y="35"/>
                  </a:lnTo>
                  <a:lnTo>
                    <a:pt x="394" y="40"/>
                  </a:lnTo>
                  <a:lnTo>
                    <a:pt x="385" y="42"/>
                  </a:lnTo>
                  <a:lnTo>
                    <a:pt x="375" y="46"/>
                  </a:lnTo>
                  <a:lnTo>
                    <a:pt x="355" y="48"/>
                  </a:lnTo>
                  <a:lnTo>
                    <a:pt x="335" y="49"/>
                  </a:lnTo>
                  <a:lnTo>
                    <a:pt x="314" y="48"/>
                  </a:lnTo>
                  <a:lnTo>
                    <a:pt x="292" y="46"/>
                  </a:lnTo>
                  <a:lnTo>
                    <a:pt x="271" y="42"/>
                  </a:lnTo>
                  <a:lnTo>
                    <a:pt x="248" y="39"/>
                  </a:lnTo>
                  <a:lnTo>
                    <a:pt x="225" y="34"/>
                  </a:lnTo>
                  <a:lnTo>
                    <a:pt x="203" y="30"/>
                  </a:lnTo>
                  <a:lnTo>
                    <a:pt x="180" y="27"/>
                  </a:lnTo>
                  <a:lnTo>
                    <a:pt x="158" y="26"/>
                  </a:lnTo>
                  <a:lnTo>
                    <a:pt x="136" y="25"/>
                  </a:lnTo>
                  <a:lnTo>
                    <a:pt x="115" y="27"/>
                  </a:lnTo>
                  <a:lnTo>
                    <a:pt x="104" y="28"/>
                  </a:lnTo>
                  <a:lnTo>
                    <a:pt x="94" y="30"/>
                  </a:lnTo>
                  <a:lnTo>
                    <a:pt x="83" y="34"/>
                  </a:lnTo>
                  <a:lnTo>
                    <a:pt x="73" y="37"/>
                  </a:lnTo>
                  <a:lnTo>
                    <a:pt x="67" y="46"/>
                  </a:lnTo>
                  <a:lnTo>
                    <a:pt x="59" y="53"/>
                  </a:lnTo>
                  <a:lnTo>
                    <a:pt x="51" y="58"/>
                  </a:lnTo>
                  <a:lnTo>
                    <a:pt x="42" y="62"/>
                  </a:lnTo>
                  <a:lnTo>
                    <a:pt x="33" y="64"/>
                  </a:lnTo>
                  <a:lnTo>
                    <a:pt x="23" y="66"/>
                  </a:lnTo>
                  <a:lnTo>
                    <a:pt x="12" y="67"/>
                  </a:lnTo>
                  <a:lnTo>
                    <a:pt x="0" y="66"/>
                  </a:lnTo>
                  <a:lnTo>
                    <a:pt x="7" y="16"/>
                  </a:lnTo>
                  <a:lnTo>
                    <a:pt x="18" y="21"/>
                  </a:lnTo>
                  <a:lnTo>
                    <a:pt x="27" y="25"/>
                  </a:lnTo>
                  <a:lnTo>
                    <a:pt x="37" y="28"/>
                  </a:lnTo>
                  <a:lnTo>
                    <a:pt x="47" y="30"/>
                  </a:lnTo>
                  <a:lnTo>
                    <a:pt x="57" y="32"/>
                  </a:lnTo>
                  <a:lnTo>
                    <a:pt x="67" y="33"/>
                  </a:lnTo>
                  <a:lnTo>
                    <a:pt x="76" y="34"/>
                  </a:lnTo>
                  <a:lnTo>
                    <a:pt x="87" y="33"/>
                  </a:lnTo>
                  <a:lnTo>
                    <a:pt x="96" y="32"/>
                  </a:lnTo>
                  <a:lnTo>
                    <a:pt x="106" y="29"/>
                  </a:lnTo>
                  <a:lnTo>
                    <a:pt x="115" y="27"/>
                  </a:lnTo>
                  <a:lnTo>
                    <a:pt x="124" y="23"/>
                  </a:lnTo>
                  <a:lnTo>
                    <a:pt x="134" y="19"/>
                  </a:lnTo>
                  <a:lnTo>
                    <a:pt x="143" y="13"/>
                  </a:lnTo>
                  <a:lnTo>
                    <a:pt x="151" y="7"/>
                  </a:lnTo>
                  <a:lnTo>
                    <a:pt x="159" y="0"/>
                  </a:lnTo>
                  <a:lnTo>
                    <a:pt x="176" y="1"/>
                  </a:lnTo>
                  <a:lnTo>
                    <a:pt x="191" y="5"/>
                  </a:lnTo>
                  <a:lnTo>
                    <a:pt x="207" y="8"/>
                  </a:lnTo>
                  <a:lnTo>
                    <a:pt x="224" y="13"/>
                  </a:lnTo>
                  <a:lnTo>
                    <a:pt x="257" y="22"/>
                  </a:lnTo>
                  <a:lnTo>
                    <a:pt x="289" y="32"/>
                  </a:lnTo>
                  <a:lnTo>
                    <a:pt x="306" y="36"/>
                  </a:lnTo>
                  <a:lnTo>
                    <a:pt x="322" y="40"/>
                  </a:lnTo>
                  <a:lnTo>
                    <a:pt x="338" y="42"/>
                  </a:lnTo>
                  <a:lnTo>
                    <a:pt x="354" y="43"/>
                  </a:lnTo>
                  <a:lnTo>
                    <a:pt x="369" y="42"/>
                  </a:lnTo>
                  <a:lnTo>
                    <a:pt x="384" y="41"/>
                  </a:lnTo>
                  <a:lnTo>
                    <a:pt x="398" y="36"/>
                  </a:lnTo>
                  <a:lnTo>
                    <a:pt x="412" y="3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095840" y="3036960"/>
              <a:ext cx="56880" cy="4680"/>
            </a:xfrm>
            <a:custGeom>
              <a:avLst/>
              <a:gdLst/>
              <a:ahLst/>
              <a:rect l="l" t="t" r="r" b="b"/>
              <a:pathLst>
                <a:path w="190" h="21">
                  <a:moveTo>
                    <a:pt x="0" y="21"/>
                  </a:moveTo>
                  <a:lnTo>
                    <a:pt x="8" y="0"/>
                  </a:lnTo>
                  <a:lnTo>
                    <a:pt x="190" y="1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219320" y="3049560"/>
              <a:ext cx="212760" cy="76320"/>
            </a:xfrm>
            <a:custGeom>
              <a:avLst/>
              <a:gdLst/>
              <a:ahLst/>
              <a:rect l="l" t="t" r="r" b="b"/>
              <a:pathLst>
                <a:path w="715" h="288">
                  <a:moveTo>
                    <a:pt x="715" y="17"/>
                  </a:moveTo>
                  <a:lnTo>
                    <a:pt x="705" y="13"/>
                  </a:lnTo>
                  <a:lnTo>
                    <a:pt x="695" y="8"/>
                  </a:lnTo>
                  <a:lnTo>
                    <a:pt x="685" y="5"/>
                  </a:lnTo>
                  <a:lnTo>
                    <a:pt x="675" y="2"/>
                  </a:lnTo>
                  <a:lnTo>
                    <a:pt x="664" y="1"/>
                  </a:lnTo>
                  <a:lnTo>
                    <a:pt x="654" y="0"/>
                  </a:lnTo>
                  <a:lnTo>
                    <a:pt x="643" y="0"/>
                  </a:lnTo>
                  <a:lnTo>
                    <a:pt x="633" y="1"/>
                  </a:lnTo>
                  <a:lnTo>
                    <a:pt x="612" y="6"/>
                  </a:lnTo>
                  <a:lnTo>
                    <a:pt x="591" y="13"/>
                  </a:lnTo>
                  <a:lnTo>
                    <a:pt x="568" y="21"/>
                  </a:lnTo>
                  <a:lnTo>
                    <a:pt x="546" y="32"/>
                  </a:lnTo>
                  <a:lnTo>
                    <a:pt x="501" y="55"/>
                  </a:lnTo>
                  <a:lnTo>
                    <a:pt x="455" y="79"/>
                  </a:lnTo>
                  <a:lnTo>
                    <a:pt x="432" y="91"/>
                  </a:lnTo>
                  <a:lnTo>
                    <a:pt x="409" y="102"/>
                  </a:lnTo>
                  <a:lnTo>
                    <a:pt x="386" y="111"/>
                  </a:lnTo>
                  <a:lnTo>
                    <a:pt x="363" y="118"/>
                  </a:lnTo>
                  <a:lnTo>
                    <a:pt x="352" y="130"/>
                  </a:lnTo>
                  <a:lnTo>
                    <a:pt x="343" y="141"/>
                  </a:lnTo>
                  <a:lnTo>
                    <a:pt x="333" y="154"/>
                  </a:lnTo>
                  <a:lnTo>
                    <a:pt x="325" y="168"/>
                  </a:lnTo>
                  <a:lnTo>
                    <a:pt x="308" y="195"/>
                  </a:lnTo>
                  <a:lnTo>
                    <a:pt x="291" y="222"/>
                  </a:lnTo>
                  <a:lnTo>
                    <a:pt x="282" y="235"/>
                  </a:lnTo>
                  <a:lnTo>
                    <a:pt x="273" y="247"/>
                  </a:lnTo>
                  <a:lnTo>
                    <a:pt x="262" y="257"/>
                  </a:lnTo>
                  <a:lnTo>
                    <a:pt x="252" y="267"/>
                  </a:lnTo>
                  <a:lnTo>
                    <a:pt x="239" y="274"/>
                  </a:lnTo>
                  <a:lnTo>
                    <a:pt x="226" y="281"/>
                  </a:lnTo>
                  <a:lnTo>
                    <a:pt x="212" y="285"/>
                  </a:lnTo>
                  <a:lnTo>
                    <a:pt x="197" y="288"/>
                  </a:lnTo>
                  <a:lnTo>
                    <a:pt x="181" y="288"/>
                  </a:lnTo>
                  <a:lnTo>
                    <a:pt x="167" y="288"/>
                  </a:lnTo>
                  <a:lnTo>
                    <a:pt x="155" y="287"/>
                  </a:lnTo>
                  <a:lnTo>
                    <a:pt x="140" y="284"/>
                  </a:lnTo>
                  <a:lnTo>
                    <a:pt x="128" y="282"/>
                  </a:lnTo>
                  <a:lnTo>
                    <a:pt x="116" y="278"/>
                  </a:lnTo>
                  <a:lnTo>
                    <a:pt x="103" y="274"/>
                  </a:lnTo>
                  <a:lnTo>
                    <a:pt x="91" y="269"/>
                  </a:lnTo>
                  <a:lnTo>
                    <a:pt x="68" y="258"/>
                  </a:lnTo>
                  <a:lnTo>
                    <a:pt x="46" y="246"/>
                  </a:lnTo>
                  <a:lnTo>
                    <a:pt x="22" y="234"/>
                  </a:lnTo>
                  <a:lnTo>
                    <a:pt x="0" y="222"/>
                  </a:lnTo>
                  <a:lnTo>
                    <a:pt x="13" y="219"/>
                  </a:lnTo>
                  <a:lnTo>
                    <a:pt x="27" y="219"/>
                  </a:lnTo>
                  <a:lnTo>
                    <a:pt x="40" y="219"/>
                  </a:lnTo>
                  <a:lnTo>
                    <a:pt x="54" y="221"/>
                  </a:lnTo>
                  <a:lnTo>
                    <a:pt x="66" y="226"/>
                  </a:lnTo>
                  <a:lnTo>
                    <a:pt x="78" y="230"/>
                  </a:lnTo>
                  <a:lnTo>
                    <a:pt x="91" y="235"/>
                  </a:lnTo>
                  <a:lnTo>
                    <a:pt x="103" y="242"/>
                  </a:lnTo>
                  <a:lnTo>
                    <a:pt x="129" y="254"/>
                  </a:lnTo>
                  <a:lnTo>
                    <a:pt x="155" y="265"/>
                  </a:lnTo>
                  <a:lnTo>
                    <a:pt x="167" y="270"/>
                  </a:lnTo>
                  <a:lnTo>
                    <a:pt x="181" y="274"/>
                  </a:lnTo>
                  <a:lnTo>
                    <a:pt x="195" y="276"/>
                  </a:lnTo>
                  <a:lnTo>
                    <a:pt x="211" y="277"/>
                  </a:lnTo>
                  <a:lnTo>
                    <a:pt x="221" y="270"/>
                  </a:lnTo>
                  <a:lnTo>
                    <a:pt x="233" y="262"/>
                  </a:lnTo>
                  <a:lnTo>
                    <a:pt x="242" y="254"/>
                  </a:lnTo>
                  <a:lnTo>
                    <a:pt x="252" y="244"/>
                  </a:lnTo>
                  <a:lnTo>
                    <a:pt x="270" y="225"/>
                  </a:lnTo>
                  <a:lnTo>
                    <a:pt x="287" y="203"/>
                  </a:lnTo>
                  <a:lnTo>
                    <a:pt x="317" y="159"/>
                  </a:lnTo>
                  <a:lnTo>
                    <a:pt x="346" y="115"/>
                  </a:lnTo>
                  <a:lnTo>
                    <a:pt x="361" y="95"/>
                  </a:lnTo>
                  <a:lnTo>
                    <a:pt x="378" y="76"/>
                  </a:lnTo>
                  <a:lnTo>
                    <a:pt x="386" y="67"/>
                  </a:lnTo>
                  <a:lnTo>
                    <a:pt x="395" y="60"/>
                  </a:lnTo>
                  <a:lnTo>
                    <a:pt x="405" y="51"/>
                  </a:lnTo>
                  <a:lnTo>
                    <a:pt x="414" y="46"/>
                  </a:lnTo>
                  <a:lnTo>
                    <a:pt x="425" y="40"/>
                  </a:lnTo>
                  <a:lnTo>
                    <a:pt x="436" y="35"/>
                  </a:lnTo>
                  <a:lnTo>
                    <a:pt x="448" y="30"/>
                  </a:lnTo>
                  <a:lnTo>
                    <a:pt x="460" y="28"/>
                  </a:lnTo>
                  <a:lnTo>
                    <a:pt x="474" y="26"/>
                  </a:lnTo>
                  <a:lnTo>
                    <a:pt x="487" y="26"/>
                  </a:lnTo>
                  <a:lnTo>
                    <a:pt x="502" y="26"/>
                  </a:lnTo>
                  <a:lnTo>
                    <a:pt x="518" y="28"/>
                  </a:lnTo>
                  <a:lnTo>
                    <a:pt x="538" y="21"/>
                  </a:lnTo>
                  <a:lnTo>
                    <a:pt x="560" y="14"/>
                  </a:lnTo>
                  <a:lnTo>
                    <a:pt x="585" y="7"/>
                  </a:lnTo>
                  <a:lnTo>
                    <a:pt x="611" y="2"/>
                  </a:lnTo>
                  <a:lnTo>
                    <a:pt x="625" y="1"/>
                  </a:lnTo>
                  <a:lnTo>
                    <a:pt x="637" y="0"/>
                  </a:lnTo>
                  <a:lnTo>
                    <a:pt x="652" y="0"/>
                  </a:lnTo>
                  <a:lnTo>
                    <a:pt x="664" y="1"/>
                  </a:lnTo>
                  <a:lnTo>
                    <a:pt x="677" y="3"/>
                  </a:lnTo>
                  <a:lnTo>
                    <a:pt x="690" y="7"/>
                  </a:lnTo>
                  <a:lnTo>
                    <a:pt x="703" y="12"/>
                  </a:lnTo>
                  <a:lnTo>
                    <a:pt x="715" y="17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93800" y="3070440"/>
              <a:ext cx="294840" cy="56880"/>
            </a:xfrm>
            <a:custGeom>
              <a:avLst/>
              <a:gdLst/>
              <a:ahLst/>
              <a:rect l="l" t="t" r="r" b="b"/>
              <a:pathLst>
                <a:path w="988" h="218">
                  <a:moveTo>
                    <a:pt x="795" y="69"/>
                  </a:moveTo>
                  <a:lnTo>
                    <a:pt x="811" y="68"/>
                  </a:lnTo>
                  <a:lnTo>
                    <a:pt x="826" y="69"/>
                  </a:lnTo>
                  <a:lnTo>
                    <a:pt x="841" y="71"/>
                  </a:lnTo>
                  <a:lnTo>
                    <a:pt x="854" y="76"/>
                  </a:lnTo>
                  <a:lnTo>
                    <a:pt x="867" y="81"/>
                  </a:lnTo>
                  <a:lnTo>
                    <a:pt x="880" y="87"/>
                  </a:lnTo>
                  <a:lnTo>
                    <a:pt x="893" y="94"/>
                  </a:lnTo>
                  <a:lnTo>
                    <a:pt x="904" y="101"/>
                  </a:lnTo>
                  <a:lnTo>
                    <a:pt x="926" y="118"/>
                  </a:lnTo>
                  <a:lnTo>
                    <a:pt x="947" y="136"/>
                  </a:lnTo>
                  <a:lnTo>
                    <a:pt x="969" y="155"/>
                  </a:lnTo>
                  <a:lnTo>
                    <a:pt x="988" y="172"/>
                  </a:lnTo>
                  <a:lnTo>
                    <a:pt x="972" y="160"/>
                  </a:lnTo>
                  <a:lnTo>
                    <a:pt x="956" y="150"/>
                  </a:lnTo>
                  <a:lnTo>
                    <a:pt x="939" y="142"/>
                  </a:lnTo>
                  <a:lnTo>
                    <a:pt x="923" y="136"/>
                  </a:lnTo>
                  <a:lnTo>
                    <a:pt x="907" y="131"/>
                  </a:lnTo>
                  <a:lnTo>
                    <a:pt x="891" y="129"/>
                  </a:lnTo>
                  <a:lnTo>
                    <a:pt x="875" y="129"/>
                  </a:lnTo>
                  <a:lnTo>
                    <a:pt x="859" y="129"/>
                  </a:lnTo>
                  <a:lnTo>
                    <a:pt x="843" y="131"/>
                  </a:lnTo>
                  <a:lnTo>
                    <a:pt x="827" y="133"/>
                  </a:lnTo>
                  <a:lnTo>
                    <a:pt x="811" y="138"/>
                  </a:lnTo>
                  <a:lnTo>
                    <a:pt x="795" y="143"/>
                  </a:lnTo>
                  <a:lnTo>
                    <a:pt x="764" y="155"/>
                  </a:lnTo>
                  <a:lnTo>
                    <a:pt x="732" y="167"/>
                  </a:lnTo>
                  <a:lnTo>
                    <a:pt x="701" y="180"/>
                  </a:lnTo>
                  <a:lnTo>
                    <a:pt x="669" y="194"/>
                  </a:lnTo>
                  <a:lnTo>
                    <a:pt x="654" y="200"/>
                  </a:lnTo>
                  <a:lnTo>
                    <a:pt x="639" y="205"/>
                  </a:lnTo>
                  <a:lnTo>
                    <a:pt x="622" y="210"/>
                  </a:lnTo>
                  <a:lnTo>
                    <a:pt x="607" y="213"/>
                  </a:lnTo>
                  <a:lnTo>
                    <a:pt x="591" y="215"/>
                  </a:lnTo>
                  <a:lnTo>
                    <a:pt x="576" y="218"/>
                  </a:lnTo>
                  <a:lnTo>
                    <a:pt x="560" y="218"/>
                  </a:lnTo>
                  <a:lnTo>
                    <a:pt x="544" y="217"/>
                  </a:lnTo>
                  <a:lnTo>
                    <a:pt x="529" y="213"/>
                  </a:lnTo>
                  <a:lnTo>
                    <a:pt x="512" y="208"/>
                  </a:lnTo>
                  <a:lnTo>
                    <a:pt x="497" y="201"/>
                  </a:lnTo>
                  <a:lnTo>
                    <a:pt x="481" y="193"/>
                  </a:lnTo>
                  <a:lnTo>
                    <a:pt x="463" y="183"/>
                  </a:lnTo>
                  <a:lnTo>
                    <a:pt x="446" y="171"/>
                  </a:lnTo>
                  <a:lnTo>
                    <a:pt x="428" y="158"/>
                  </a:lnTo>
                  <a:lnTo>
                    <a:pt x="411" y="145"/>
                  </a:lnTo>
                  <a:lnTo>
                    <a:pt x="376" y="118"/>
                  </a:lnTo>
                  <a:lnTo>
                    <a:pt x="339" y="93"/>
                  </a:lnTo>
                  <a:lnTo>
                    <a:pt x="321" y="81"/>
                  </a:lnTo>
                  <a:lnTo>
                    <a:pt x="302" y="71"/>
                  </a:lnTo>
                  <a:lnTo>
                    <a:pt x="282" y="63"/>
                  </a:lnTo>
                  <a:lnTo>
                    <a:pt x="262" y="57"/>
                  </a:lnTo>
                  <a:lnTo>
                    <a:pt x="252" y="55"/>
                  </a:lnTo>
                  <a:lnTo>
                    <a:pt x="242" y="54"/>
                  </a:lnTo>
                  <a:lnTo>
                    <a:pt x="232" y="53"/>
                  </a:lnTo>
                  <a:lnTo>
                    <a:pt x="221" y="54"/>
                  </a:lnTo>
                  <a:lnTo>
                    <a:pt x="210" y="54"/>
                  </a:lnTo>
                  <a:lnTo>
                    <a:pt x="199" y="56"/>
                  </a:lnTo>
                  <a:lnTo>
                    <a:pt x="189" y="59"/>
                  </a:lnTo>
                  <a:lnTo>
                    <a:pt x="177" y="62"/>
                  </a:lnTo>
                  <a:lnTo>
                    <a:pt x="155" y="70"/>
                  </a:lnTo>
                  <a:lnTo>
                    <a:pt x="132" y="81"/>
                  </a:lnTo>
                  <a:lnTo>
                    <a:pt x="111" y="93"/>
                  </a:lnTo>
                  <a:lnTo>
                    <a:pt x="90" y="103"/>
                  </a:lnTo>
                  <a:lnTo>
                    <a:pt x="69" y="114"/>
                  </a:lnTo>
                  <a:lnTo>
                    <a:pt x="47" y="123"/>
                  </a:lnTo>
                  <a:lnTo>
                    <a:pt x="37" y="126"/>
                  </a:lnTo>
                  <a:lnTo>
                    <a:pt x="25" y="130"/>
                  </a:lnTo>
                  <a:lnTo>
                    <a:pt x="13" y="132"/>
                  </a:lnTo>
                  <a:lnTo>
                    <a:pt x="0" y="135"/>
                  </a:lnTo>
                  <a:lnTo>
                    <a:pt x="5" y="122"/>
                  </a:lnTo>
                  <a:lnTo>
                    <a:pt x="8" y="111"/>
                  </a:lnTo>
                  <a:lnTo>
                    <a:pt x="14" y="100"/>
                  </a:lnTo>
                  <a:lnTo>
                    <a:pt x="20" y="89"/>
                  </a:lnTo>
                  <a:lnTo>
                    <a:pt x="27" y="80"/>
                  </a:lnTo>
                  <a:lnTo>
                    <a:pt x="35" y="70"/>
                  </a:lnTo>
                  <a:lnTo>
                    <a:pt x="42" y="62"/>
                  </a:lnTo>
                  <a:lnTo>
                    <a:pt x="52" y="54"/>
                  </a:lnTo>
                  <a:lnTo>
                    <a:pt x="61" y="46"/>
                  </a:lnTo>
                  <a:lnTo>
                    <a:pt x="70" y="39"/>
                  </a:lnTo>
                  <a:lnTo>
                    <a:pt x="81" y="32"/>
                  </a:lnTo>
                  <a:lnTo>
                    <a:pt x="93" y="26"/>
                  </a:lnTo>
                  <a:lnTo>
                    <a:pt x="115" y="15"/>
                  </a:lnTo>
                  <a:lnTo>
                    <a:pt x="139" y="6"/>
                  </a:lnTo>
                  <a:lnTo>
                    <a:pt x="162" y="2"/>
                  </a:lnTo>
                  <a:lnTo>
                    <a:pt x="185" y="0"/>
                  </a:lnTo>
                  <a:lnTo>
                    <a:pt x="207" y="1"/>
                  </a:lnTo>
                  <a:lnTo>
                    <a:pt x="229" y="4"/>
                  </a:lnTo>
                  <a:lnTo>
                    <a:pt x="252" y="8"/>
                  </a:lnTo>
                  <a:lnTo>
                    <a:pt x="273" y="15"/>
                  </a:lnTo>
                  <a:lnTo>
                    <a:pt x="294" y="22"/>
                  </a:lnTo>
                  <a:lnTo>
                    <a:pt x="315" y="32"/>
                  </a:lnTo>
                  <a:lnTo>
                    <a:pt x="336" y="42"/>
                  </a:lnTo>
                  <a:lnTo>
                    <a:pt x="356" y="54"/>
                  </a:lnTo>
                  <a:lnTo>
                    <a:pt x="377" y="66"/>
                  </a:lnTo>
                  <a:lnTo>
                    <a:pt x="397" y="79"/>
                  </a:lnTo>
                  <a:lnTo>
                    <a:pt x="436" y="103"/>
                  </a:lnTo>
                  <a:lnTo>
                    <a:pt x="476" y="126"/>
                  </a:lnTo>
                  <a:lnTo>
                    <a:pt x="496" y="138"/>
                  </a:lnTo>
                  <a:lnTo>
                    <a:pt x="516" y="149"/>
                  </a:lnTo>
                  <a:lnTo>
                    <a:pt x="535" y="157"/>
                  </a:lnTo>
                  <a:lnTo>
                    <a:pt x="555" y="165"/>
                  </a:lnTo>
                  <a:lnTo>
                    <a:pt x="574" y="171"/>
                  </a:lnTo>
                  <a:lnTo>
                    <a:pt x="593" y="174"/>
                  </a:lnTo>
                  <a:lnTo>
                    <a:pt x="613" y="177"/>
                  </a:lnTo>
                  <a:lnTo>
                    <a:pt x="633" y="177"/>
                  </a:lnTo>
                  <a:lnTo>
                    <a:pt x="653" y="174"/>
                  </a:lnTo>
                  <a:lnTo>
                    <a:pt x="673" y="170"/>
                  </a:lnTo>
                  <a:lnTo>
                    <a:pt x="693" y="162"/>
                  </a:lnTo>
                  <a:lnTo>
                    <a:pt x="712" y="150"/>
                  </a:lnTo>
                  <a:lnTo>
                    <a:pt x="733" y="135"/>
                  </a:lnTo>
                  <a:lnTo>
                    <a:pt x="753" y="117"/>
                  </a:lnTo>
                  <a:lnTo>
                    <a:pt x="774" y="95"/>
                  </a:lnTo>
                  <a:lnTo>
                    <a:pt x="795" y="69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487880" y="3084480"/>
              <a:ext cx="167760" cy="820800"/>
            </a:xfrm>
            <a:custGeom>
              <a:avLst/>
              <a:gdLst/>
              <a:ahLst/>
              <a:rect l="l" t="t" r="r" b="b"/>
              <a:pathLst>
                <a:path w="569" h="3103">
                  <a:moveTo>
                    <a:pt x="342" y="328"/>
                  </a:moveTo>
                  <a:lnTo>
                    <a:pt x="336" y="340"/>
                  </a:lnTo>
                  <a:lnTo>
                    <a:pt x="330" y="353"/>
                  </a:lnTo>
                  <a:lnTo>
                    <a:pt x="327" y="366"/>
                  </a:lnTo>
                  <a:lnTo>
                    <a:pt x="323" y="379"/>
                  </a:lnTo>
                  <a:lnTo>
                    <a:pt x="322" y="392"/>
                  </a:lnTo>
                  <a:lnTo>
                    <a:pt x="321" y="405"/>
                  </a:lnTo>
                  <a:lnTo>
                    <a:pt x="321" y="417"/>
                  </a:lnTo>
                  <a:lnTo>
                    <a:pt x="321" y="429"/>
                  </a:lnTo>
                  <a:lnTo>
                    <a:pt x="324" y="454"/>
                  </a:lnTo>
                  <a:lnTo>
                    <a:pt x="329" y="478"/>
                  </a:lnTo>
                  <a:lnTo>
                    <a:pt x="336" y="503"/>
                  </a:lnTo>
                  <a:lnTo>
                    <a:pt x="345" y="528"/>
                  </a:lnTo>
                  <a:lnTo>
                    <a:pt x="364" y="577"/>
                  </a:lnTo>
                  <a:lnTo>
                    <a:pt x="382" y="626"/>
                  </a:lnTo>
                  <a:lnTo>
                    <a:pt x="389" y="652"/>
                  </a:lnTo>
                  <a:lnTo>
                    <a:pt x="393" y="676"/>
                  </a:lnTo>
                  <a:lnTo>
                    <a:pt x="396" y="689"/>
                  </a:lnTo>
                  <a:lnTo>
                    <a:pt x="397" y="703"/>
                  </a:lnTo>
                  <a:lnTo>
                    <a:pt x="397" y="716"/>
                  </a:lnTo>
                  <a:lnTo>
                    <a:pt x="397" y="729"/>
                  </a:lnTo>
                  <a:lnTo>
                    <a:pt x="417" y="806"/>
                  </a:lnTo>
                  <a:lnTo>
                    <a:pt x="436" y="882"/>
                  </a:lnTo>
                  <a:lnTo>
                    <a:pt x="456" y="958"/>
                  </a:lnTo>
                  <a:lnTo>
                    <a:pt x="475" y="1034"/>
                  </a:lnTo>
                  <a:lnTo>
                    <a:pt x="493" y="1110"/>
                  </a:lnTo>
                  <a:lnTo>
                    <a:pt x="509" y="1187"/>
                  </a:lnTo>
                  <a:lnTo>
                    <a:pt x="524" y="1263"/>
                  </a:lnTo>
                  <a:lnTo>
                    <a:pt x="537" y="1341"/>
                  </a:lnTo>
                  <a:lnTo>
                    <a:pt x="549" y="1418"/>
                  </a:lnTo>
                  <a:lnTo>
                    <a:pt x="557" y="1497"/>
                  </a:lnTo>
                  <a:lnTo>
                    <a:pt x="560" y="1537"/>
                  </a:lnTo>
                  <a:lnTo>
                    <a:pt x="564" y="1577"/>
                  </a:lnTo>
                  <a:lnTo>
                    <a:pt x="566" y="1617"/>
                  </a:lnTo>
                  <a:lnTo>
                    <a:pt x="569" y="1657"/>
                  </a:lnTo>
                  <a:lnTo>
                    <a:pt x="569" y="1697"/>
                  </a:lnTo>
                  <a:lnTo>
                    <a:pt x="569" y="1739"/>
                  </a:lnTo>
                  <a:lnTo>
                    <a:pt x="569" y="1780"/>
                  </a:lnTo>
                  <a:lnTo>
                    <a:pt x="567" y="1822"/>
                  </a:lnTo>
                  <a:lnTo>
                    <a:pt x="565" y="1865"/>
                  </a:lnTo>
                  <a:lnTo>
                    <a:pt x="562" y="1907"/>
                  </a:lnTo>
                  <a:lnTo>
                    <a:pt x="558" y="1950"/>
                  </a:lnTo>
                  <a:lnTo>
                    <a:pt x="552" y="1993"/>
                  </a:lnTo>
                  <a:lnTo>
                    <a:pt x="551" y="2036"/>
                  </a:lnTo>
                  <a:lnTo>
                    <a:pt x="548" y="2077"/>
                  </a:lnTo>
                  <a:lnTo>
                    <a:pt x="543" y="2118"/>
                  </a:lnTo>
                  <a:lnTo>
                    <a:pt x="536" y="2158"/>
                  </a:lnTo>
                  <a:lnTo>
                    <a:pt x="519" y="2238"/>
                  </a:lnTo>
                  <a:lnTo>
                    <a:pt x="501" y="2317"/>
                  </a:lnTo>
                  <a:lnTo>
                    <a:pt x="491" y="2356"/>
                  </a:lnTo>
                  <a:lnTo>
                    <a:pt x="483" y="2396"/>
                  </a:lnTo>
                  <a:lnTo>
                    <a:pt x="476" y="2435"/>
                  </a:lnTo>
                  <a:lnTo>
                    <a:pt x="470" y="2475"/>
                  </a:lnTo>
                  <a:lnTo>
                    <a:pt x="467" y="2515"/>
                  </a:lnTo>
                  <a:lnTo>
                    <a:pt x="466" y="2556"/>
                  </a:lnTo>
                  <a:lnTo>
                    <a:pt x="466" y="2577"/>
                  </a:lnTo>
                  <a:lnTo>
                    <a:pt x="466" y="2598"/>
                  </a:lnTo>
                  <a:lnTo>
                    <a:pt x="467" y="2619"/>
                  </a:lnTo>
                  <a:lnTo>
                    <a:pt x="469" y="2640"/>
                  </a:lnTo>
                  <a:lnTo>
                    <a:pt x="476" y="2697"/>
                  </a:lnTo>
                  <a:lnTo>
                    <a:pt x="483" y="2755"/>
                  </a:lnTo>
                  <a:lnTo>
                    <a:pt x="491" y="2813"/>
                  </a:lnTo>
                  <a:lnTo>
                    <a:pt x="498" y="2872"/>
                  </a:lnTo>
                  <a:lnTo>
                    <a:pt x="505" y="2930"/>
                  </a:lnTo>
                  <a:lnTo>
                    <a:pt x="509" y="2987"/>
                  </a:lnTo>
                  <a:lnTo>
                    <a:pt x="510" y="3017"/>
                  </a:lnTo>
                  <a:lnTo>
                    <a:pt x="510" y="3046"/>
                  </a:lnTo>
                  <a:lnTo>
                    <a:pt x="510" y="3074"/>
                  </a:lnTo>
                  <a:lnTo>
                    <a:pt x="508" y="3103"/>
                  </a:lnTo>
                  <a:lnTo>
                    <a:pt x="501" y="3087"/>
                  </a:lnTo>
                  <a:lnTo>
                    <a:pt x="494" y="3068"/>
                  </a:lnTo>
                  <a:lnTo>
                    <a:pt x="487" y="3047"/>
                  </a:lnTo>
                  <a:lnTo>
                    <a:pt x="480" y="3025"/>
                  </a:lnTo>
                  <a:lnTo>
                    <a:pt x="474" y="3001"/>
                  </a:lnTo>
                  <a:lnTo>
                    <a:pt x="469" y="2977"/>
                  </a:lnTo>
                  <a:lnTo>
                    <a:pt x="465" y="2951"/>
                  </a:lnTo>
                  <a:lnTo>
                    <a:pt x="462" y="2927"/>
                  </a:lnTo>
                  <a:lnTo>
                    <a:pt x="450" y="2902"/>
                  </a:lnTo>
                  <a:lnTo>
                    <a:pt x="441" y="2877"/>
                  </a:lnTo>
                  <a:lnTo>
                    <a:pt x="432" y="2852"/>
                  </a:lnTo>
                  <a:lnTo>
                    <a:pt x="424" y="2827"/>
                  </a:lnTo>
                  <a:lnTo>
                    <a:pt x="418" y="2801"/>
                  </a:lnTo>
                  <a:lnTo>
                    <a:pt x="412" y="2776"/>
                  </a:lnTo>
                  <a:lnTo>
                    <a:pt x="407" y="2750"/>
                  </a:lnTo>
                  <a:lnTo>
                    <a:pt x="404" y="2723"/>
                  </a:lnTo>
                  <a:lnTo>
                    <a:pt x="400" y="2697"/>
                  </a:lnTo>
                  <a:lnTo>
                    <a:pt x="399" y="2670"/>
                  </a:lnTo>
                  <a:lnTo>
                    <a:pt x="398" y="2643"/>
                  </a:lnTo>
                  <a:lnTo>
                    <a:pt x="397" y="2617"/>
                  </a:lnTo>
                  <a:lnTo>
                    <a:pt x="398" y="2563"/>
                  </a:lnTo>
                  <a:lnTo>
                    <a:pt x="401" y="2509"/>
                  </a:lnTo>
                  <a:lnTo>
                    <a:pt x="405" y="2455"/>
                  </a:lnTo>
                  <a:lnTo>
                    <a:pt x="411" y="2401"/>
                  </a:lnTo>
                  <a:lnTo>
                    <a:pt x="417" y="2348"/>
                  </a:lnTo>
                  <a:lnTo>
                    <a:pt x="422" y="2294"/>
                  </a:lnTo>
                  <a:lnTo>
                    <a:pt x="427" y="2241"/>
                  </a:lnTo>
                  <a:lnTo>
                    <a:pt x="432" y="2188"/>
                  </a:lnTo>
                  <a:lnTo>
                    <a:pt x="434" y="2137"/>
                  </a:lnTo>
                  <a:lnTo>
                    <a:pt x="435" y="2087"/>
                  </a:lnTo>
                  <a:lnTo>
                    <a:pt x="440" y="2015"/>
                  </a:lnTo>
                  <a:lnTo>
                    <a:pt x="442" y="1946"/>
                  </a:lnTo>
                  <a:lnTo>
                    <a:pt x="445" y="1880"/>
                  </a:lnTo>
                  <a:lnTo>
                    <a:pt x="446" y="1813"/>
                  </a:lnTo>
                  <a:lnTo>
                    <a:pt x="445" y="1749"/>
                  </a:lnTo>
                  <a:lnTo>
                    <a:pt x="443" y="1684"/>
                  </a:lnTo>
                  <a:lnTo>
                    <a:pt x="441" y="1621"/>
                  </a:lnTo>
                  <a:lnTo>
                    <a:pt x="438" y="1558"/>
                  </a:lnTo>
                  <a:lnTo>
                    <a:pt x="434" y="1496"/>
                  </a:lnTo>
                  <a:lnTo>
                    <a:pt x="429" y="1434"/>
                  </a:lnTo>
                  <a:lnTo>
                    <a:pt x="424" y="1371"/>
                  </a:lnTo>
                  <a:lnTo>
                    <a:pt x="417" y="1309"/>
                  </a:lnTo>
                  <a:lnTo>
                    <a:pt x="411" y="1246"/>
                  </a:lnTo>
                  <a:lnTo>
                    <a:pt x="403" y="1181"/>
                  </a:lnTo>
                  <a:lnTo>
                    <a:pt x="394" y="1116"/>
                  </a:lnTo>
                  <a:lnTo>
                    <a:pt x="386" y="1050"/>
                  </a:lnTo>
                  <a:lnTo>
                    <a:pt x="380" y="1038"/>
                  </a:lnTo>
                  <a:lnTo>
                    <a:pt x="374" y="1025"/>
                  </a:lnTo>
                  <a:lnTo>
                    <a:pt x="370" y="1011"/>
                  </a:lnTo>
                  <a:lnTo>
                    <a:pt x="365" y="995"/>
                  </a:lnTo>
                  <a:lnTo>
                    <a:pt x="355" y="964"/>
                  </a:lnTo>
                  <a:lnTo>
                    <a:pt x="344" y="932"/>
                  </a:lnTo>
                  <a:lnTo>
                    <a:pt x="337" y="918"/>
                  </a:lnTo>
                  <a:lnTo>
                    <a:pt x="329" y="903"/>
                  </a:lnTo>
                  <a:lnTo>
                    <a:pt x="320" y="890"/>
                  </a:lnTo>
                  <a:lnTo>
                    <a:pt x="309" y="879"/>
                  </a:lnTo>
                  <a:lnTo>
                    <a:pt x="303" y="873"/>
                  </a:lnTo>
                  <a:lnTo>
                    <a:pt x="297" y="868"/>
                  </a:lnTo>
                  <a:lnTo>
                    <a:pt x="290" y="863"/>
                  </a:lnTo>
                  <a:lnTo>
                    <a:pt x="283" y="859"/>
                  </a:lnTo>
                  <a:lnTo>
                    <a:pt x="275" y="855"/>
                  </a:lnTo>
                  <a:lnTo>
                    <a:pt x="267" y="852"/>
                  </a:lnTo>
                  <a:lnTo>
                    <a:pt x="258" y="848"/>
                  </a:lnTo>
                  <a:lnTo>
                    <a:pt x="248" y="847"/>
                  </a:lnTo>
                  <a:lnTo>
                    <a:pt x="204" y="847"/>
                  </a:lnTo>
                  <a:lnTo>
                    <a:pt x="210" y="824"/>
                  </a:lnTo>
                  <a:lnTo>
                    <a:pt x="213" y="800"/>
                  </a:lnTo>
                  <a:lnTo>
                    <a:pt x="213" y="778"/>
                  </a:lnTo>
                  <a:lnTo>
                    <a:pt x="212" y="757"/>
                  </a:lnTo>
                  <a:lnTo>
                    <a:pt x="207" y="736"/>
                  </a:lnTo>
                  <a:lnTo>
                    <a:pt x="200" y="716"/>
                  </a:lnTo>
                  <a:lnTo>
                    <a:pt x="191" y="696"/>
                  </a:lnTo>
                  <a:lnTo>
                    <a:pt x="182" y="676"/>
                  </a:lnTo>
                  <a:lnTo>
                    <a:pt x="170" y="656"/>
                  </a:lnTo>
                  <a:lnTo>
                    <a:pt x="157" y="638"/>
                  </a:lnTo>
                  <a:lnTo>
                    <a:pt x="143" y="619"/>
                  </a:lnTo>
                  <a:lnTo>
                    <a:pt x="129" y="601"/>
                  </a:lnTo>
                  <a:lnTo>
                    <a:pt x="100" y="565"/>
                  </a:lnTo>
                  <a:lnTo>
                    <a:pt x="70" y="529"/>
                  </a:lnTo>
                  <a:lnTo>
                    <a:pt x="56" y="511"/>
                  </a:lnTo>
                  <a:lnTo>
                    <a:pt x="44" y="494"/>
                  </a:lnTo>
                  <a:lnTo>
                    <a:pt x="32" y="476"/>
                  </a:lnTo>
                  <a:lnTo>
                    <a:pt x="21" y="459"/>
                  </a:lnTo>
                  <a:lnTo>
                    <a:pt x="13" y="441"/>
                  </a:lnTo>
                  <a:lnTo>
                    <a:pt x="6" y="424"/>
                  </a:lnTo>
                  <a:lnTo>
                    <a:pt x="3" y="405"/>
                  </a:lnTo>
                  <a:lnTo>
                    <a:pt x="0" y="387"/>
                  </a:lnTo>
                  <a:lnTo>
                    <a:pt x="0" y="369"/>
                  </a:lnTo>
                  <a:lnTo>
                    <a:pt x="4" y="350"/>
                  </a:lnTo>
                  <a:lnTo>
                    <a:pt x="11" y="330"/>
                  </a:lnTo>
                  <a:lnTo>
                    <a:pt x="20" y="310"/>
                  </a:lnTo>
                  <a:lnTo>
                    <a:pt x="34" y="290"/>
                  </a:lnTo>
                  <a:lnTo>
                    <a:pt x="52" y="270"/>
                  </a:lnTo>
                  <a:lnTo>
                    <a:pt x="74" y="249"/>
                  </a:lnTo>
                  <a:lnTo>
                    <a:pt x="100" y="228"/>
                  </a:lnTo>
                  <a:lnTo>
                    <a:pt x="103" y="213"/>
                  </a:lnTo>
                  <a:lnTo>
                    <a:pt x="106" y="199"/>
                  </a:lnTo>
                  <a:lnTo>
                    <a:pt x="107" y="184"/>
                  </a:lnTo>
                  <a:lnTo>
                    <a:pt x="108" y="170"/>
                  </a:lnTo>
                  <a:lnTo>
                    <a:pt x="108" y="142"/>
                  </a:lnTo>
                  <a:lnTo>
                    <a:pt x="109" y="114"/>
                  </a:lnTo>
                  <a:lnTo>
                    <a:pt x="109" y="100"/>
                  </a:lnTo>
                  <a:lnTo>
                    <a:pt x="110" y="86"/>
                  </a:lnTo>
                  <a:lnTo>
                    <a:pt x="111" y="71"/>
                  </a:lnTo>
                  <a:lnTo>
                    <a:pt x="115" y="57"/>
                  </a:lnTo>
                  <a:lnTo>
                    <a:pt x="118" y="43"/>
                  </a:lnTo>
                  <a:lnTo>
                    <a:pt x="123" y="29"/>
                  </a:lnTo>
                  <a:lnTo>
                    <a:pt x="130" y="14"/>
                  </a:lnTo>
                  <a:lnTo>
                    <a:pt x="138" y="0"/>
                  </a:lnTo>
                  <a:lnTo>
                    <a:pt x="158" y="13"/>
                  </a:lnTo>
                  <a:lnTo>
                    <a:pt x="177" y="28"/>
                  </a:lnTo>
                  <a:lnTo>
                    <a:pt x="196" y="45"/>
                  </a:lnTo>
                  <a:lnTo>
                    <a:pt x="213" y="62"/>
                  </a:lnTo>
                  <a:lnTo>
                    <a:pt x="229" y="80"/>
                  </a:lnTo>
                  <a:lnTo>
                    <a:pt x="245" y="100"/>
                  </a:lnTo>
                  <a:lnTo>
                    <a:pt x="260" y="119"/>
                  </a:lnTo>
                  <a:lnTo>
                    <a:pt x="274" y="140"/>
                  </a:lnTo>
                  <a:lnTo>
                    <a:pt x="287" y="163"/>
                  </a:lnTo>
                  <a:lnTo>
                    <a:pt x="298" y="185"/>
                  </a:lnTo>
                  <a:lnTo>
                    <a:pt x="308" y="207"/>
                  </a:lnTo>
                  <a:lnTo>
                    <a:pt x="317" y="232"/>
                  </a:lnTo>
                  <a:lnTo>
                    <a:pt x="325" y="255"/>
                  </a:lnTo>
                  <a:lnTo>
                    <a:pt x="332" y="280"/>
                  </a:lnTo>
                  <a:lnTo>
                    <a:pt x="338" y="303"/>
                  </a:lnTo>
                  <a:lnTo>
                    <a:pt x="342" y="328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50080" y="3129120"/>
              <a:ext cx="177120" cy="888840"/>
            </a:xfrm>
            <a:custGeom>
              <a:avLst/>
              <a:gdLst/>
              <a:ahLst/>
              <a:rect l="l" t="t" r="r" b="b"/>
              <a:pathLst>
                <a:path w="592" h="3360">
                  <a:moveTo>
                    <a:pt x="554" y="84"/>
                  </a:moveTo>
                  <a:lnTo>
                    <a:pt x="550" y="119"/>
                  </a:lnTo>
                  <a:lnTo>
                    <a:pt x="543" y="154"/>
                  </a:lnTo>
                  <a:lnTo>
                    <a:pt x="536" y="191"/>
                  </a:lnTo>
                  <a:lnTo>
                    <a:pt x="527" y="228"/>
                  </a:lnTo>
                  <a:lnTo>
                    <a:pt x="524" y="247"/>
                  </a:lnTo>
                  <a:lnTo>
                    <a:pt x="522" y="265"/>
                  </a:lnTo>
                  <a:lnTo>
                    <a:pt x="519" y="285"/>
                  </a:lnTo>
                  <a:lnTo>
                    <a:pt x="518" y="304"/>
                  </a:lnTo>
                  <a:lnTo>
                    <a:pt x="518" y="324"/>
                  </a:lnTo>
                  <a:lnTo>
                    <a:pt x="519" y="343"/>
                  </a:lnTo>
                  <a:lnTo>
                    <a:pt x="523" y="362"/>
                  </a:lnTo>
                  <a:lnTo>
                    <a:pt x="526" y="381"/>
                  </a:lnTo>
                  <a:lnTo>
                    <a:pt x="537" y="412"/>
                  </a:lnTo>
                  <a:lnTo>
                    <a:pt x="548" y="442"/>
                  </a:lnTo>
                  <a:lnTo>
                    <a:pt x="561" y="475"/>
                  </a:lnTo>
                  <a:lnTo>
                    <a:pt x="574" y="508"/>
                  </a:lnTo>
                  <a:lnTo>
                    <a:pt x="580" y="524"/>
                  </a:lnTo>
                  <a:lnTo>
                    <a:pt x="585" y="540"/>
                  </a:lnTo>
                  <a:lnTo>
                    <a:pt x="588" y="555"/>
                  </a:lnTo>
                  <a:lnTo>
                    <a:pt x="591" y="572"/>
                  </a:lnTo>
                  <a:lnTo>
                    <a:pt x="592" y="587"/>
                  </a:lnTo>
                  <a:lnTo>
                    <a:pt x="592" y="602"/>
                  </a:lnTo>
                  <a:lnTo>
                    <a:pt x="589" y="616"/>
                  </a:lnTo>
                  <a:lnTo>
                    <a:pt x="586" y="630"/>
                  </a:lnTo>
                  <a:lnTo>
                    <a:pt x="579" y="664"/>
                  </a:lnTo>
                  <a:lnTo>
                    <a:pt x="571" y="698"/>
                  </a:lnTo>
                  <a:lnTo>
                    <a:pt x="565" y="733"/>
                  </a:lnTo>
                  <a:lnTo>
                    <a:pt x="559" y="768"/>
                  </a:lnTo>
                  <a:lnTo>
                    <a:pt x="558" y="787"/>
                  </a:lnTo>
                  <a:lnTo>
                    <a:pt x="557" y="805"/>
                  </a:lnTo>
                  <a:lnTo>
                    <a:pt x="557" y="823"/>
                  </a:lnTo>
                  <a:lnTo>
                    <a:pt x="558" y="841"/>
                  </a:lnTo>
                  <a:lnTo>
                    <a:pt x="560" y="860"/>
                  </a:lnTo>
                  <a:lnTo>
                    <a:pt x="564" y="879"/>
                  </a:lnTo>
                  <a:lnTo>
                    <a:pt x="568" y="898"/>
                  </a:lnTo>
                  <a:lnTo>
                    <a:pt x="575" y="917"/>
                  </a:lnTo>
                  <a:lnTo>
                    <a:pt x="568" y="919"/>
                  </a:lnTo>
                  <a:lnTo>
                    <a:pt x="562" y="923"/>
                  </a:lnTo>
                  <a:lnTo>
                    <a:pt x="558" y="926"/>
                  </a:lnTo>
                  <a:lnTo>
                    <a:pt x="553" y="930"/>
                  </a:lnTo>
                  <a:lnTo>
                    <a:pt x="544" y="940"/>
                  </a:lnTo>
                  <a:lnTo>
                    <a:pt x="537" y="951"/>
                  </a:lnTo>
                  <a:lnTo>
                    <a:pt x="531" y="962"/>
                  </a:lnTo>
                  <a:lnTo>
                    <a:pt x="526" y="974"/>
                  </a:lnTo>
                  <a:lnTo>
                    <a:pt x="523" y="986"/>
                  </a:lnTo>
                  <a:lnTo>
                    <a:pt x="519" y="996"/>
                  </a:lnTo>
                  <a:lnTo>
                    <a:pt x="519" y="1007"/>
                  </a:lnTo>
                  <a:lnTo>
                    <a:pt x="519" y="1017"/>
                  </a:lnTo>
                  <a:lnTo>
                    <a:pt x="519" y="1027"/>
                  </a:lnTo>
                  <a:lnTo>
                    <a:pt x="522" y="1035"/>
                  </a:lnTo>
                  <a:lnTo>
                    <a:pt x="525" y="1043"/>
                  </a:lnTo>
                  <a:lnTo>
                    <a:pt x="531" y="1049"/>
                  </a:lnTo>
                  <a:lnTo>
                    <a:pt x="534" y="1051"/>
                  </a:lnTo>
                  <a:lnTo>
                    <a:pt x="538" y="1053"/>
                  </a:lnTo>
                  <a:lnTo>
                    <a:pt x="543" y="1055"/>
                  </a:lnTo>
                  <a:lnTo>
                    <a:pt x="547" y="1055"/>
                  </a:lnTo>
                  <a:lnTo>
                    <a:pt x="530" y="1091"/>
                  </a:lnTo>
                  <a:lnTo>
                    <a:pt x="513" y="1127"/>
                  </a:lnTo>
                  <a:lnTo>
                    <a:pt x="499" y="1164"/>
                  </a:lnTo>
                  <a:lnTo>
                    <a:pt x="486" y="1200"/>
                  </a:lnTo>
                  <a:lnTo>
                    <a:pt x="476" y="1236"/>
                  </a:lnTo>
                  <a:lnTo>
                    <a:pt x="465" y="1272"/>
                  </a:lnTo>
                  <a:lnTo>
                    <a:pt x="457" y="1310"/>
                  </a:lnTo>
                  <a:lnTo>
                    <a:pt x="450" y="1346"/>
                  </a:lnTo>
                  <a:lnTo>
                    <a:pt x="444" y="1382"/>
                  </a:lnTo>
                  <a:lnTo>
                    <a:pt x="439" y="1420"/>
                  </a:lnTo>
                  <a:lnTo>
                    <a:pt x="434" y="1456"/>
                  </a:lnTo>
                  <a:lnTo>
                    <a:pt x="430" y="1492"/>
                  </a:lnTo>
                  <a:lnTo>
                    <a:pt x="424" y="1566"/>
                  </a:lnTo>
                  <a:lnTo>
                    <a:pt x="420" y="1640"/>
                  </a:lnTo>
                  <a:lnTo>
                    <a:pt x="416" y="1715"/>
                  </a:lnTo>
                  <a:lnTo>
                    <a:pt x="412" y="1788"/>
                  </a:lnTo>
                  <a:lnTo>
                    <a:pt x="406" y="1862"/>
                  </a:lnTo>
                  <a:lnTo>
                    <a:pt x="398" y="1936"/>
                  </a:lnTo>
                  <a:lnTo>
                    <a:pt x="393" y="1973"/>
                  </a:lnTo>
                  <a:lnTo>
                    <a:pt x="387" y="2009"/>
                  </a:lnTo>
                  <a:lnTo>
                    <a:pt x="380" y="2047"/>
                  </a:lnTo>
                  <a:lnTo>
                    <a:pt x="372" y="2083"/>
                  </a:lnTo>
                  <a:lnTo>
                    <a:pt x="363" y="2120"/>
                  </a:lnTo>
                  <a:lnTo>
                    <a:pt x="352" y="2157"/>
                  </a:lnTo>
                  <a:lnTo>
                    <a:pt x="340" y="2194"/>
                  </a:lnTo>
                  <a:lnTo>
                    <a:pt x="326" y="2230"/>
                  </a:lnTo>
                  <a:lnTo>
                    <a:pt x="312" y="2279"/>
                  </a:lnTo>
                  <a:lnTo>
                    <a:pt x="296" y="2329"/>
                  </a:lnTo>
                  <a:lnTo>
                    <a:pt x="278" y="2378"/>
                  </a:lnTo>
                  <a:lnTo>
                    <a:pt x="260" y="2427"/>
                  </a:lnTo>
                  <a:lnTo>
                    <a:pt x="240" y="2477"/>
                  </a:lnTo>
                  <a:lnTo>
                    <a:pt x="221" y="2527"/>
                  </a:lnTo>
                  <a:lnTo>
                    <a:pt x="203" y="2578"/>
                  </a:lnTo>
                  <a:lnTo>
                    <a:pt x="187" y="2628"/>
                  </a:lnTo>
                  <a:lnTo>
                    <a:pt x="180" y="2653"/>
                  </a:lnTo>
                  <a:lnTo>
                    <a:pt x="173" y="2678"/>
                  </a:lnTo>
                  <a:lnTo>
                    <a:pt x="166" y="2703"/>
                  </a:lnTo>
                  <a:lnTo>
                    <a:pt x="161" y="2727"/>
                  </a:lnTo>
                  <a:lnTo>
                    <a:pt x="157" y="2753"/>
                  </a:lnTo>
                  <a:lnTo>
                    <a:pt x="152" y="2778"/>
                  </a:lnTo>
                  <a:lnTo>
                    <a:pt x="150" y="2803"/>
                  </a:lnTo>
                  <a:lnTo>
                    <a:pt x="147" y="2828"/>
                  </a:lnTo>
                  <a:lnTo>
                    <a:pt x="146" y="2853"/>
                  </a:lnTo>
                  <a:lnTo>
                    <a:pt x="147" y="2877"/>
                  </a:lnTo>
                  <a:lnTo>
                    <a:pt x="149" y="2903"/>
                  </a:lnTo>
                  <a:lnTo>
                    <a:pt x="152" y="2927"/>
                  </a:lnTo>
                  <a:lnTo>
                    <a:pt x="156" y="2952"/>
                  </a:lnTo>
                  <a:lnTo>
                    <a:pt x="161" y="2977"/>
                  </a:lnTo>
                  <a:lnTo>
                    <a:pt x="168" y="3001"/>
                  </a:lnTo>
                  <a:lnTo>
                    <a:pt x="178" y="3025"/>
                  </a:lnTo>
                  <a:lnTo>
                    <a:pt x="171" y="3047"/>
                  </a:lnTo>
                  <a:lnTo>
                    <a:pt x="163" y="3067"/>
                  </a:lnTo>
                  <a:lnTo>
                    <a:pt x="153" y="3088"/>
                  </a:lnTo>
                  <a:lnTo>
                    <a:pt x="144" y="3108"/>
                  </a:lnTo>
                  <a:lnTo>
                    <a:pt x="123" y="3149"/>
                  </a:lnTo>
                  <a:lnTo>
                    <a:pt x="102" y="3188"/>
                  </a:lnTo>
                  <a:lnTo>
                    <a:pt x="91" y="3209"/>
                  </a:lnTo>
                  <a:lnTo>
                    <a:pt x="82" y="3229"/>
                  </a:lnTo>
                  <a:lnTo>
                    <a:pt x="72" y="3250"/>
                  </a:lnTo>
                  <a:lnTo>
                    <a:pt x="63" y="3271"/>
                  </a:lnTo>
                  <a:lnTo>
                    <a:pt x="56" y="3292"/>
                  </a:lnTo>
                  <a:lnTo>
                    <a:pt x="49" y="3315"/>
                  </a:lnTo>
                  <a:lnTo>
                    <a:pt x="43" y="3337"/>
                  </a:lnTo>
                  <a:lnTo>
                    <a:pt x="40" y="3360"/>
                  </a:lnTo>
                  <a:lnTo>
                    <a:pt x="27" y="3313"/>
                  </a:lnTo>
                  <a:lnTo>
                    <a:pt x="16" y="3267"/>
                  </a:lnTo>
                  <a:lnTo>
                    <a:pt x="8" y="3219"/>
                  </a:lnTo>
                  <a:lnTo>
                    <a:pt x="3" y="3172"/>
                  </a:lnTo>
                  <a:lnTo>
                    <a:pt x="0" y="3125"/>
                  </a:lnTo>
                  <a:lnTo>
                    <a:pt x="0" y="3078"/>
                  </a:lnTo>
                  <a:lnTo>
                    <a:pt x="1" y="3032"/>
                  </a:lnTo>
                  <a:lnTo>
                    <a:pt x="5" y="2985"/>
                  </a:lnTo>
                  <a:lnTo>
                    <a:pt x="9" y="2937"/>
                  </a:lnTo>
                  <a:lnTo>
                    <a:pt x="16" y="2890"/>
                  </a:lnTo>
                  <a:lnTo>
                    <a:pt x="23" y="2843"/>
                  </a:lnTo>
                  <a:lnTo>
                    <a:pt x="33" y="2795"/>
                  </a:lnTo>
                  <a:lnTo>
                    <a:pt x="43" y="2749"/>
                  </a:lnTo>
                  <a:lnTo>
                    <a:pt x="55" y="2702"/>
                  </a:lnTo>
                  <a:lnTo>
                    <a:pt x="67" y="2654"/>
                  </a:lnTo>
                  <a:lnTo>
                    <a:pt x="80" y="2607"/>
                  </a:lnTo>
                  <a:lnTo>
                    <a:pt x="106" y="2512"/>
                  </a:lnTo>
                  <a:lnTo>
                    <a:pt x="133" y="2418"/>
                  </a:lnTo>
                  <a:lnTo>
                    <a:pt x="160" y="2323"/>
                  </a:lnTo>
                  <a:lnTo>
                    <a:pt x="185" y="2227"/>
                  </a:lnTo>
                  <a:lnTo>
                    <a:pt x="196" y="2179"/>
                  </a:lnTo>
                  <a:lnTo>
                    <a:pt x="207" y="2132"/>
                  </a:lnTo>
                  <a:lnTo>
                    <a:pt x="216" y="2084"/>
                  </a:lnTo>
                  <a:lnTo>
                    <a:pt x="226" y="2036"/>
                  </a:lnTo>
                  <a:lnTo>
                    <a:pt x="233" y="1988"/>
                  </a:lnTo>
                  <a:lnTo>
                    <a:pt x="237" y="1939"/>
                  </a:lnTo>
                  <a:lnTo>
                    <a:pt x="241" y="1891"/>
                  </a:lnTo>
                  <a:lnTo>
                    <a:pt x="243" y="1843"/>
                  </a:lnTo>
                  <a:lnTo>
                    <a:pt x="237" y="1808"/>
                  </a:lnTo>
                  <a:lnTo>
                    <a:pt x="234" y="1773"/>
                  </a:lnTo>
                  <a:lnTo>
                    <a:pt x="233" y="1738"/>
                  </a:lnTo>
                  <a:lnTo>
                    <a:pt x="233" y="1703"/>
                  </a:lnTo>
                  <a:lnTo>
                    <a:pt x="234" y="1669"/>
                  </a:lnTo>
                  <a:lnTo>
                    <a:pt x="236" y="1635"/>
                  </a:lnTo>
                  <a:lnTo>
                    <a:pt x="240" y="1601"/>
                  </a:lnTo>
                  <a:lnTo>
                    <a:pt x="244" y="1568"/>
                  </a:lnTo>
                  <a:lnTo>
                    <a:pt x="250" y="1534"/>
                  </a:lnTo>
                  <a:lnTo>
                    <a:pt x="257" y="1502"/>
                  </a:lnTo>
                  <a:lnTo>
                    <a:pt x="264" y="1469"/>
                  </a:lnTo>
                  <a:lnTo>
                    <a:pt x="272" y="1436"/>
                  </a:lnTo>
                  <a:lnTo>
                    <a:pt x="289" y="1372"/>
                  </a:lnTo>
                  <a:lnTo>
                    <a:pt x="305" y="1308"/>
                  </a:lnTo>
                  <a:lnTo>
                    <a:pt x="322" y="1243"/>
                  </a:lnTo>
                  <a:lnTo>
                    <a:pt x="337" y="1180"/>
                  </a:lnTo>
                  <a:lnTo>
                    <a:pt x="343" y="1148"/>
                  </a:lnTo>
                  <a:lnTo>
                    <a:pt x="348" y="1117"/>
                  </a:lnTo>
                  <a:lnTo>
                    <a:pt x="353" y="1085"/>
                  </a:lnTo>
                  <a:lnTo>
                    <a:pt x="355" y="1054"/>
                  </a:lnTo>
                  <a:lnTo>
                    <a:pt x="358" y="1022"/>
                  </a:lnTo>
                  <a:lnTo>
                    <a:pt x="359" y="991"/>
                  </a:lnTo>
                  <a:lnTo>
                    <a:pt x="358" y="959"/>
                  </a:lnTo>
                  <a:lnTo>
                    <a:pt x="355" y="927"/>
                  </a:lnTo>
                  <a:lnTo>
                    <a:pt x="351" y="896"/>
                  </a:lnTo>
                  <a:lnTo>
                    <a:pt x="345" y="864"/>
                  </a:lnTo>
                  <a:lnTo>
                    <a:pt x="337" y="831"/>
                  </a:lnTo>
                  <a:lnTo>
                    <a:pt x="326" y="800"/>
                  </a:lnTo>
                  <a:lnTo>
                    <a:pt x="323" y="744"/>
                  </a:lnTo>
                  <a:lnTo>
                    <a:pt x="319" y="688"/>
                  </a:lnTo>
                  <a:lnTo>
                    <a:pt x="316" y="630"/>
                  </a:lnTo>
                  <a:lnTo>
                    <a:pt x="313" y="573"/>
                  </a:lnTo>
                  <a:lnTo>
                    <a:pt x="313" y="545"/>
                  </a:lnTo>
                  <a:lnTo>
                    <a:pt x="315" y="517"/>
                  </a:lnTo>
                  <a:lnTo>
                    <a:pt x="317" y="488"/>
                  </a:lnTo>
                  <a:lnTo>
                    <a:pt x="320" y="460"/>
                  </a:lnTo>
                  <a:lnTo>
                    <a:pt x="326" y="431"/>
                  </a:lnTo>
                  <a:lnTo>
                    <a:pt x="332" y="403"/>
                  </a:lnTo>
                  <a:lnTo>
                    <a:pt x="340" y="375"/>
                  </a:lnTo>
                  <a:lnTo>
                    <a:pt x="351" y="347"/>
                  </a:lnTo>
                  <a:lnTo>
                    <a:pt x="371" y="347"/>
                  </a:lnTo>
                  <a:lnTo>
                    <a:pt x="375" y="298"/>
                  </a:lnTo>
                  <a:lnTo>
                    <a:pt x="378" y="251"/>
                  </a:lnTo>
                  <a:lnTo>
                    <a:pt x="380" y="229"/>
                  </a:lnTo>
                  <a:lnTo>
                    <a:pt x="381" y="207"/>
                  </a:lnTo>
                  <a:lnTo>
                    <a:pt x="385" y="185"/>
                  </a:lnTo>
                  <a:lnTo>
                    <a:pt x="388" y="164"/>
                  </a:lnTo>
                  <a:lnTo>
                    <a:pt x="393" y="143"/>
                  </a:lnTo>
                  <a:lnTo>
                    <a:pt x="399" y="123"/>
                  </a:lnTo>
                  <a:lnTo>
                    <a:pt x="406" y="102"/>
                  </a:lnTo>
                  <a:lnTo>
                    <a:pt x="415" y="82"/>
                  </a:lnTo>
                  <a:lnTo>
                    <a:pt x="427" y="62"/>
                  </a:lnTo>
                  <a:lnTo>
                    <a:pt x="440" y="42"/>
                  </a:lnTo>
                  <a:lnTo>
                    <a:pt x="456" y="22"/>
                  </a:lnTo>
                  <a:lnTo>
                    <a:pt x="475" y="1"/>
                  </a:lnTo>
                  <a:lnTo>
                    <a:pt x="485" y="0"/>
                  </a:lnTo>
                  <a:lnTo>
                    <a:pt x="495" y="0"/>
                  </a:lnTo>
                  <a:lnTo>
                    <a:pt x="503" y="1"/>
                  </a:lnTo>
                  <a:lnTo>
                    <a:pt x="510" y="3"/>
                  </a:lnTo>
                  <a:lnTo>
                    <a:pt x="516" y="8"/>
                  </a:lnTo>
                  <a:lnTo>
                    <a:pt x="522" y="13"/>
                  </a:lnTo>
                  <a:lnTo>
                    <a:pt x="526" y="19"/>
                  </a:lnTo>
                  <a:lnTo>
                    <a:pt x="530" y="24"/>
                  </a:lnTo>
                  <a:lnTo>
                    <a:pt x="543" y="55"/>
                  </a:lnTo>
                  <a:lnTo>
                    <a:pt x="554" y="8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82640" y="3189240"/>
              <a:ext cx="289800" cy="117720"/>
            </a:xfrm>
            <a:custGeom>
              <a:avLst/>
              <a:gdLst/>
              <a:ahLst/>
              <a:rect l="l" t="t" r="r" b="b"/>
              <a:pathLst>
                <a:path w="970" h="443">
                  <a:moveTo>
                    <a:pt x="970" y="42"/>
                  </a:moveTo>
                  <a:lnTo>
                    <a:pt x="949" y="79"/>
                  </a:lnTo>
                  <a:lnTo>
                    <a:pt x="940" y="73"/>
                  </a:lnTo>
                  <a:lnTo>
                    <a:pt x="930" y="67"/>
                  </a:lnTo>
                  <a:lnTo>
                    <a:pt x="919" y="64"/>
                  </a:lnTo>
                  <a:lnTo>
                    <a:pt x="910" y="60"/>
                  </a:lnTo>
                  <a:lnTo>
                    <a:pt x="899" y="59"/>
                  </a:lnTo>
                  <a:lnTo>
                    <a:pt x="890" y="59"/>
                  </a:lnTo>
                  <a:lnTo>
                    <a:pt x="879" y="60"/>
                  </a:lnTo>
                  <a:lnTo>
                    <a:pt x="870" y="62"/>
                  </a:lnTo>
                  <a:lnTo>
                    <a:pt x="849" y="66"/>
                  </a:lnTo>
                  <a:lnTo>
                    <a:pt x="828" y="73"/>
                  </a:lnTo>
                  <a:lnTo>
                    <a:pt x="807" y="81"/>
                  </a:lnTo>
                  <a:lnTo>
                    <a:pt x="785" y="90"/>
                  </a:lnTo>
                  <a:lnTo>
                    <a:pt x="772" y="100"/>
                  </a:lnTo>
                  <a:lnTo>
                    <a:pt x="760" y="111"/>
                  </a:lnTo>
                  <a:lnTo>
                    <a:pt x="749" y="122"/>
                  </a:lnTo>
                  <a:lnTo>
                    <a:pt x="739" y="134"/>
                  </a:lnTo>
                  <a:lnTo>
                    <a:pt x="720" y="158"/>
                  </a:lnTo>
                  <a:lnTo>
                    <a:pt x="701" y="182"/>
                  </a:lnTo>
                  <a:lnTo>
                    <a:pt x="668" y="234"/>
                  </a:lnTo>
                  <a:lnTo>
                    <a:pt x="634" y="284"/>
                  </a:lnTo>
                  <a:lnTo>
                    <a:pt x="617" y="308"/>
                  </a:lnTo>
                  <a:lnTo>
                    <a:pt x="599" y="333"/>
                  </a:lnTo>
                  <a:lnTo>
                    <a:pt x="589" y="343"/>
                  </a:lnTo>
                  <a:lnTo>
                    <a:pt x="579" y="354"/>
                  </a:lnTo>
                  <a:lnTo>
                    <a:pt x="568" y="365"/>
                  </a:lnTo>
                  <a:lnTo>
                    <a:pt x="558" y="375"/>
                  </a:lnTo>
                  <a:lnTo>
                    <a:pt x="546" y="384"/>
                  </a:lnTo>
                  <a:lnTo>
                    <a:pt x="533" y="393"/>
                  </a:lnTo>
                  <a:lnTo>
                    <a:pt x="520" y="401"/>
                  </a:lnTo>
                  <a:lnTo>
                    <a:pt x="507" y="409"/>
                  </a:lnTo>
                  <a:lnTo>
                    <a:pt x="493" y="416"/>
                  </a:lnTo>
                  <a:lnTo>
                    <a:pt x="478" y="422"/>
                  </a:lnTo>
                  <a:lnTo>
                    <a:pt x="462" y="428"/>
                  </a:lnTo>
                  <a:lnTo>
                    <a:pt x="445" y="432"/>
                  </a:lnTo>
                  <a:lnTo>
                    <a:pt x="0" y="443"/>
                  </a:lnTo>
                  <a:lnTo>
                    <a:pt x="5" y="436"/>
                  </a:lnTo>
                  <a:lnTo>
                    <a:pt x="8" y="429"/>
                  </a:lnTo>
                  <a:lnTo>
                    <a:pt x="9" y="421"/>
                  </a:lnTo>
                  <a:lnTo>
                    <a:pt x="9" y="414"/>
                  </a:lnTo>
                  <a:lnTo>
                    <a:pt x="10" y="405"/>
                  </a:lnTo>
                  <a:lnTo>
                    <a:pt x="12" y="397"/>
                  </a:lnTo>
                  <a:lnTo>
                    <a:pt x="13" y="390"/>
                  </a:lnTo>
                  <a:lnTo>
                    <a:pt x="17" y="383"/>
                  </a:lnTo>
                  <a:lnTo>
                    <a:pt x="26" y="389"/>
                  </a:lnTo>
                  <a:lnTo>
                    <a:pt x="36" y="393"/>
                  </a:lnTo>
                  <a:lnTo>
                    <a:pt x="45" y="397"/>
                  </a:lnTo>
                  <a:lnTo>
                    <a:pt x="56" y="401"/>
                  </a:lnTo>
                  <a:lnTo>
                    <a:pt x="78" y="407"/>
                  </a:lnTo>
                  <a:lnTo>
                    <a:pt x="103" y="410"/>
                  </a:lnTo>
                  <a:lnTo>
                    <a:pt x="127" y="413"/>
                  </a:lnTo>
                  <a:lnTo>
                    <a:pt x="153" y="415"/>
                  </a:lnTo>
                  <a:lnTo>
                    <a:pt x="180" y="415"/>
                  </a:lnTo>
                  <a:lnTo>
                    <a:pt x="207" y="415"/>
                  </a:lnTo>
                  <a:lnTo>
                    <a:pt x="261" y="413"/>
                  </a:lnTo>
                  <a:lnTo>
                    <a:pt x="313" y="409"/>
                  </a:lnTo>
                  <a:lnTo>
                    <a:pt x="361" y="405"/>
                  </a:lnTo>
                  <a:lnTo>
                    <a:pt x="404" y="404"/>
                  </a:lnTo>
                  <a:lnTo>
                    <a:pt x="427" y="390"/>
                  </a:lnTo>
                  <a:lnTo>
                    <a:pt x="449" y="374"/>
                  </a:lnTo>
                  <a:lnTo>
                    <a:pt x="471" y="358"/>
                  </a:lnTo>
                  <a:lnTo>
                    <a:pt x="492" y="340"/>
                  </a:lnTo>
                  <a:lnTo>
                    <a:pt x="535" y="304"/>
                  </a:lnTo>
                  <a:lnTo>
                    <a:pt x="576" y="266"/>
                  </a:lnTo>
                  <a:lnTo>
                    <a:pt x="617" y="229"/>
                  </a:lnTo>
                  <a:lnTo>
                    <a:pt x="658" y="191"/>
                  </a:lnTo>
                  <a:lnTo>
                    <a:pt x="699" y="155"/>
                  </a:lnTo>
                  <a:lnTo>
                    <a:pt x="739" y="121"/>
                  </a:lnTo>
                  <a:lnTo>
                    <a:pt x="765" y="98"/>
                  </a:lnTo>
                  <a:lnTo>
                    <a:pt x="794" y="71"/>
                  </a:lnTo>
                  <a:lnTo>
                    <a:pt x="810" y="57"/>
                  </a:lnTo>
                  <a:lnTo>
                    <a:pt x="825" y="44"/>
                  </a:lnTo>
                  <a:lnTo>
                    <a:pt x="842" y="31"/>
                  </a:lnTo>
                  <a:lnTo>
                    <a:pt x="858" y="21"/>
                  </a:lnTo>
                  <a:lnTo>
                    <a:pt x="875" y="11"/>
                  </a:lnTo>
                  <a:lnTo>
                    <a:pt x="891" y="4"/>
                  </a:lnTo>
                  <a:lnTo>
                    <a:pt x="899" y="2"/>
                  </a:lnTo>
                  <a:lnTo>
                    <a:pt x="906" y="1"/>
                  </a:lnTo>
                  <a:lnTo>
                    <a:pt x="914" y="0"/>
                  </a:lnTo>
                  <a:lnTo>
                    <a:pt x="921" y="0"/>
                  </a:lnTo>
                  <a:lnTo>
                    <a:pt x="928" y="1"/>
                  </a:lnTo>
                  <a:lnTo>
                    <a:pt x="935" y="3"/>
                  </a:lnTo>
                  <a:lnTo>
                    <a:pt x="942" y="7"/>
                  </a:lnTo>
                  <a:lnTo>
                    <a:pt x="948" y="11"/>
                  </a:lnTo>
                  <a:lnTo>
                    <a:pt x="954" y="17"/>
                  </a:lnTo>
                  <a:lnTo>
                    <a:pt x="960" y="24"/>
                  </a:lnTo>
                  <a:lnTo>
                    <a:pt x="966" y="32"/>
                  </a:lnTo>
                  <a:lnTo>
                    <a:pt x="970" y="42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330560" y="3213720"/>
              <a:ext cx="128520" cy="74520"/>
            </a:xfrm>
            <a:custGeom>
              <a:avLst/>
              <a:gdLst/>
              <a:ahLst/>
              <a:rect l="l" t="t" r="r" b="b"/>
              <a:pathLst>
                <a:path w="436" h="280">
                  <a:moveTo>
                    <a:pt x="424" y="76"/>
                  </a:moveTo>
                  <a:lnTo>
                    <a:pt x="430" y="89"/>
                  </a:lnTo>
                  <a:lnTo>
                    <a:pt x="434" y="100"/>
                  </a:lnTo>
                  <a:lnTo>
                    <a:pt x="436" y="113"/>
                  </a:lnTo>
                  <a:lnTo>
                    <a:pt x="436" y="125"/>
                  </a:lnTo>
                  <a:lnTo>
                    <a:pt x="434" y="138"/>
                  </a:lnTo>
                  <a:lnTo>
                    <a:pt x="431" y="149"/>
                  </a:lnTo>
                  <a:lnTo>
                    <a:pt x="428" y="161"/>
                  </a:lnTo>
                  <a:lnTo>
                    <a:pt x="422" y="174"/>
                  </a:lnTo>
                  <a:lnTo>
                    <a:pt x="411" y="197"/>
                  </a:lnTo>
                  <a:lnTo>
                    <a:pt x="398" y="221"/>
                  </a:lnTo>
                  <a:lnTo>
                    <a:pt x="388" y="244"/>
                  </a:lnTo>
                  <a:lnTo>
                    <a:pt x="380" y="266"/>
                  </a:lnTo>
                  <a:lnTo>
                    <a:pt x="373" y="271"/>
                  </a:lnTo>
                  <a:lnTo>
                    <a:pt x="367" y="275"/>
                  </a:lnTo>
                  <a:lnTo>
                    <a:pt x="361" y="278"/>
                  </a:lnTo>
                  <a:lnTo>
                    <a:pt x="355" y="279"/>
                  </a:lnTo>
                  <a:lnTo>
                    <a:pt x="343" y="280"/>
                  </a:lnTo>
                  <a:lnTo>
                    <a:pt x="332" y="279"/>
                  </a:lnTo>
                  <a:lnTo>
                    <a:pt x="320" y="278"/>
                  </a:lnTo>
                  <a:lnTo>
                    <a:pt x="307" y="277"/>
                  </a:lnTo>
                  <a:lnTo>
                    <a:pt x="300" y="276"/>
                  </a:lnTo>
                  <a:lnTo>
                    <a:pt x="294" y="277"/>
                  </a:lnTo>
                  <a:lnTo>
                    <a:pt x="286" y="278"/>
                  </a:lnTo>
                  <a:lnTo>
                    <a:pt x="279" y="280"/>
                  </a:lnTo>
                  <a:lnTo>
                    <a:pt x="267" y="273"/>
                  </a:lnTo>
                  <a:lnTo>
                    <a:pt x="256" y="266"/>
                  </a:lnTo>
                  <a:lnTo>
                    <a:pt x="245" y="259"/>
                  </a:lnTo>
                  <a:lnTo>
                    <a:pt x="235" y="252"/>
                  </a:lnTo>
                  <a:lnTo>
                    <a:pt x="216" y="235"/>
                  </a:lnTo>
                  <a:lnTo>
                    <a:pt x="197" y="217"/>
                  </a:lnTo>
                  <a:lnTo>
                    <a:pt x="181" y="200"/>
                  </a:lnTo>
                  <a:lnTo>
                    <a:pt x="166" y="180"/>
                  </a:lnTo>
                  <a:lnTo>
                    <a:pt x="151" y="160"/>
                  </a:lnTo>
                  <a:lnTo>
                    <a:pt x="135" y="140"/>
                  </a:lnTo>
                  <a:lnTo>
                    <a:pt x="120" y="120"/>
                  </a:lnTo>
                  <a:lnTo>
                    <a:pt x="106" y="100"/>
                  </a:lnTo>
                  <a:lnTo>
                    <a:pt x="91" y="80"/>
                  </a:lnTo>
                  <a:lnTo>
                    <a:pt x="75" y="62"/>
                  </a:lnTo>
                  <a:lnTo>
                    <a:pt x="58" y="44"/>
                  </a:lnTo>
                  <a:lnTo>
                    <a:pt x="39" y="28"/>
                  </a:lnTo>
                  <a:lnTo>
                    <a:pt x="21" y="14"/>
                  </a:lnTo>
                  <a:lnTo>
                    <a:pt x="0" y="0"/>
                  </a:lnTo>
                  <a:lnTo>
                    <a:pt x="13" y="3"/>
                  </a:lnTo>
                  <a:lnTo>
                    <a:pt x="25" y="8"/>
                  </a:lnTo>
                  <a:lnTo>
                    <a:pt x="39" y="13"/>
                  </a:lnTo>
                  <a:lnTo>
                    <a:pt x="52" y="18"/>
                  </a:lnTo>
                  <a:lnTo>
                    <a:pt x="78" y="31"/>
                  </a:lnTo>
                  <a:lnTo>
                    <a:pt x="105" y="46"/>
                  </a:lnTo>
                  <a:lnTo>
                    <a:pt x="158" y="78"/>
                  </a:lnTo>
                  <a:lnTo>
                    <a:pt x="210" y="107"/>
                  </a:lnTo>
                  <a:lnTo>
                    <a:pt x="223" y="113"/>
                  </a:lnTo>
                  <a:lnTo>
                    <a:pt x="237" y="118"/>
                  </a:lnTo>
                  <a:lnTo>
                    <a:pt x="250" y="124"/>
                  </a:lnTo>
                  <a:lnTo>
                    <a:pt x="263" y="127"/>
                  </a:lnTo>
                  <a:lnTo>
                    <a:pt x="277" y="130"/>
                  </a:lnTo>
                  <a:lnTo>
                    <a:pt x="290" y="132"/>
                  </a:lnTo>
                  <a:lnTo>
                    <a:pt x="303" y="133"/>
                  </a:lnTo>
                  <a:lnTo>
                    <a:pt x="317" y="133"/>
                  </a:lnTo>
                  <a:lnTo>
                    <a:pt x="329" y="131"/>
                  </a:lnTo>
                  <a:lnTo>
                    <a:pt x="343" y="128"/>
                  </a:lnTo>
                  <a:lnTo>
                    <a:pt x="356" y="124"/>
                  </a:lnTo>
                  <a:lnTo>
                    <a:pt x="370" y="118"/>
                  </a:lnTo>
                  <a:lnTo>
                    <a:pt x="383" y="110"/>
                  </a:lnTo>
                  <a:lnTo>
                    <a:pt x="397" y="100"/>
                  </a:lnTo>
                  <a:lnTo>
                    <a:pt x="410" y="90"/>
                  </a:lnTo>
                  <a:lnTo>
                    <a:pt x="424" y="7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188720" y="3235680"/>
              <a:ext cx="295200" cy="155520"/>
            </a:xfrm>
            <a:custGeom>
              <a:avLst/>
              <a:gdLst/>
              <a:ahLst/>
              <a:rect l="l" t="t" r="r" b="b"/>
              <a:pathLst>
                <a:path w="990" h="588">
                  <a:moveTo>
                    <a:pt x="486" y="206"/>
                  </a:moveTo>
                  <a:lnTo>
                    <a:pt x="494" y="216"/>
                  </a:lnTo>
                  <a:lnTo>
                    <a:pt x="501" y="225"/>
                  </a:lnTo>
                  <a:lnTo>
                    <a:pt x="508" y="234"/>
                  </a:lnTo>
                  <a:lnTo>
                    <a:pt x="514" y="244"/>
                  </a:lnTo>
                  <a:lnTo>
                    <a:pt x="525" y="265"/>
                  </a:lnTo>
                  <a:lnTo>
                    <a:pt x="533" y="286"/>
                  </a:lnTo>
                  <a:lnTo>
                    <a:pt x="548" y="330"/>
                  </a:lnTo>
                  <a:lnTo>
                    <a:pt x="563" y="374"/>
                  </a:lnTo>
                  <a:lnTo>
                    <a:pt x="571" y="395"/>
                  </a:lnTo>
                  <a:lnTo>
                    <a:pt x="580" y="416"/>
                  </a:lnTo>
                  <a:lnTo>
                    <a:pt x="585" y="425"/>
                  </a:lnTo>
                  <a:lnTo>
                    <a:pt x="591" y="434"/>
                  </a:lnTo>
                  <a:lnTo>
                    <a:pt x="597" y="443"/>
                  </a:lnTo>
                  <a:lnTo>
                    <a:pt x="603" y="451"/>
                  </a:lnTo>
                  <a:lnTo>
                    <a:pt x="611" y="459"/>
                  </a:lnTo>
                  <a:lnTo>
                    <a:pt x="618" y="466"/>
                  </a:lnTo>
                  <a:lnTo>
                    <a:pt x="628" y="473"/>
                  </a:lnTo>
                  <a:lnTo>
                    <a:pt x="637" y="479"/>
                  </a:lnTo>
                  <a:lnTo>
                    <a:pt x="647" y="485"/>
                  </a:lnTo>
                  <a:lnTo>
                    <a:pt x="658" y="489"/>
                  </a:lnTo>
                  <a:lnTo>
                    <a:pt x="671" y="494"/>
                  </a:lnTo>
                  <a:lnTo>
                    <a:pt x="684" y="497"/>
                  </a:lnTo>
                  <a:lnTo>
                    <a:pt x="695" y="499"/>
                  </a:lnTo>
                  <a:lnTo>
                    <a:pt x="708" y="500"/>
                  </a:lnTo>
                  <a:lnTo>
                    <a:pt x="720" y="500"/>
                  </a:lnTo>
                  <a:lnTo>
                    <a:pt x="730" y="500"/>
                  </a:lnTo>
                  <a:lnTo>
                    <a:pt x="742" y="499"/>
                  </a:lnTo>
                  <a:lnTo>
                    <a:pt x="753" y="497"/>
                  </a:lnTo>
                  <a:lnTo>
                    <a:pt x="763" y="495"/>
                  </a:lnTo>
                  <a:lnTo>
                    <a:pt x="774" y="492"/>
                  </a:lnTo>
                  <a:lnTo>
                    <a:pt x="792" y="485"/>
                  </a:lnTo>
                  <a:lnTo>
                    <a:pt x="811" y="475"/>
                  </a:lnTo>
                  <a:lnTo>
                    <a:pt x="829" y="464"/>
                  </a:lnTo>
                  <a:lnTo>
                    <a:pt x="845" y="452"/>
                  </a:lnTo>
                  <a:lnTo>
                    <a:pt x="860" y="438"/>
                  </a:lnTo>
                  <a:lnTo>
                    <a:pt x="875" y="424"/>
                  </a:lnTo>
                  <a:lnTo>
                    <a:pt x="891" y="409"/>
                  </a:lnTo>
                  <a:lnTo>
                    <a:pt x="905" y="392"/>
                  </a:lnTo>
                  <a:lnTo>
                    <a:pt x="933" y="361"/>
                  </a:lnTo>
                  <a:lnTo>
                    <a:pt x="960" y="331"/>
                  </a:lnTo>
                  <a:lnTo>
                    <a:pt x="968" y="337"/>
                  </a:lnTo>
                  <a:lnTo>
                    <a:pt x="974" y="345"/>
                  </a:lnTo>
                  <a:lnTo>
                    <a:pt x="980" y="355"/>
                  </a:lnTo>
                  <a:lnTo>
                    <a:pt x="984" y="364"/>
                  </a:lnTo>
                  <a:lnTo>
                    <a:pt x="987" y="375"/>
                  </a:lnTo>
                  <a:lnTo>
                    <a:pt x="989" y="386"/>
                  </a:lnTo>
                  <a:lnTo>
                    <a:pt x="990" y="399"/>
                  </a:lnTo>
                  <a:lnTo>
                    <a:pt x="990" y="411"/>
                  </a:lnTo>
                  <a:lnTo>
                    <a:pt x="990" y="424"/>
                  </a:lnTo>
                  <a:lnTo>
                    <a:pt x="989" y="437"/>
                  </a:lnTo>
                  <a:lnTo>
                    <a:pt x="987" y="448"/>
                  </a:lnTo>
                  <a:lnTo>
                    <a:pt x="983" y="461"/>
                  </a:lnTo>
                  <a:lnTo>
                    <a:pt x="980" y="473"/>
                  </a:lnTo>
                  <a:lnTo>
                    <a:pt x="976" y="483"/>
                  </a:lnTo>
                  <a:lnTo>
                    <a:pt x="971" y="494"/>
                  </a:lnTo>
                  <a:lnTo>
                    <a:pt x="967" y="503"/>
                  </a:lnTo>
                  <a:lnTo>
                    <a:pt x="959" y="513"/>
                  </a:lnTo>
                  <a:lnTo>
                    <a:pt x="950" y="522"/>
                  </a:lnTo>
                  <a:lnTo>
                    <a:pt x="942" y="530"/>
                  </a:lnTo>
                  <a:lnTo>
                    <a:pt x="934" y="537"/>
                  </a:lnTo>
                  <a:lnTo>
                    <a:pt x="918" y="550"/>
                  </a:lnTo>
                  <a:lnTo>
                    <a:pt x="900" y="561"/>
                  </a:lnTo>
                  <a:lnTo>
                    <a:pt x="881" y="569"/>
                  </a:lnTo>
                  <a:lnTo>
                    <a:pt x="863" y="575"/>
                  </a:lnTo>
                  <a:lnTo>
                    <a:pt x="844" y="579"/>
                  </a:lnTo>
                  <a:lnTo>
                    <a:pt x="824" y="583"/>
                  </a:lnTo>
                  <a:lnTo>
                    <a:pt x="804" y="585"/>
                  </a:lnTo>
                  <a:lnTo>
                    <a:pt x="784" y="586"/>
                  </a:lnTo>
                  <a:lnTo>
                    <a:pt x="763" y="586"/>
                  </a:lnTo>
                  <a:lnTo>
                    <a:pt x="742" y="588"/>
                  </a:lnTo>
                  <a:lnTo>
                    <a:pt x="699" y="586"/>
                  </a:lnTo>
                  <a:lnTo>
                    <a:pt x="656" y="586"/>
                  </a:lnTo>
                  <a:lnTo>
                    <a:pt x="642" y="555"/>
                  </a:lnTo>
                  <a:lnTo>
                    <a:pt x="625" y="524"/>
                  </a:lnTo>
                  <a:lnTo>
                    <a:pt x="609" y="494"/>
                  </a:lnTo>
                  <a:lnTo>
                    <a:pt x="592" y="464"/>
                  </a:lnTo>
                  <a:lnTo>
                    <a:pt x="574" y="434"/>
                  </a:lnTo>
                  <a:lnTo>
                    <a:pt x="555" y="406"/>
                  </a:lnTo>
                  <a:lnTo>
                    <a:pt x="534" y="378"/>
                  </a:lnTo>
                  <a:lnTo>
                    <a:pt x="513" y="351"/>
                  </a:lnTo>
                  <a:lnTo>
                    <a:pt x="491" y="324"/>
                  </a:lnTo>
                  <a:lnTo>
                    <a:pt x="467" y="299"/>
                  </a:lnTo>
                  <a:lnTo>
                    <a:pt x="443" y="274"/>
                  </a:lnTo>
                  <a:lnTo>
                    <a:pt x="418" y="250"/>
                  </a:lnTo>
                  <a:lnTo>
                    <a:pt x="391" y="226"/>
                  </a:lnTo>
                  <a:lnTo>
                    <a:pt x="363" y="204"/>
                  </a:lnTo>
                  <a:lnTo>
                    <a:pt x="334" y="183"/>
                  </a:lnTo>
                  <a:lnTo>
                    <a:pt x="304" y="162"/>
                  </a:lnTo>
                  <a:lnTo>
                    <a:pt x="293" y="157"/>
                  </a:lnTo>
                  <a:lnTo>
                    <a:pt x="283" y="152"/>
                  </a:lnTo>
                  <a:lnTo>
                    <a:pt x="272" y="149"/>
                  </a:lnTo>
                  <a:lnTo>
                    <a:pt x="260" y="145"/>
                  </a:lnTo>
                  <a:lnTo>
                    <a:pt x="237" y="141"/>
                  </a:lnTo>
                  <a:lnTo>
                    <a:pt x="214" y="137"/>
                  </a:lnTo>
                  <a:lnTo>
                    <a:pt x="164" y="134"/>
                  </a:lnTo>
                  <a:lnTo>
                    <a:pt x="118" y="129"/>
                  </a:lnTo>
                  <a:lnTo>
                    <a:pt x="95" y="126"/>
                  </a:lnTo>
                  <a:lnTo>
                    <a:pt x="74" y="120"/>
                  </a:lnTo>
                  <a:lnTo>
                    <a:pt x="65" y="117"/>
                  </a:lnTo>
                  <a:lnTo>
                    <a:pt x="56" y="113"/>
                  </a:lnTo>
                  <a:lnTo>
                    <a:pt x="48" y="108"/>
                  </a:lnTo>
                  <a:lnTo>
                    <a:pt x="39" y="102"/>
                  </a:lnTo>
                  <a:lnTo>
                    <a:pt x="31" y="96"/>
                  </a:lnTo>
                  <a:lnTo>
                    <a:pt x="24" y="89"/>
                  </a:lnTo>
                  <a:lnTo>
                    <a:pt x="18" y="81"/>
                  </a:lnTo>
                  <a:lnTo>
                    <a:pt x="12" y="72"/>
                  </a:lnTo>
                  <a:lnTo>
                    <a:pt x="8" y="61"/>
                  </a:lnTo>
                  <a:lnTo>
                    <a:pt x="4" y="51"/>
                  </a:lnTo>
                  <a:lnTo>
                    <a:pt x="2" y="38"/>
                  </a:lnTo>
                  <a:lnTo>
                    <a:pt x="0" y="24"/>
                  </a:lnTo>
                  <a:lnTo>
                    <a:pt x="10" y="18"/>
                  </a:lnTo>
                  <a:lnTo>
                    <a:pt x="22" y="12"/>
                  </a:lnTo>
                  <a:lnTo>
                    <a:pt x="32" y="9"/>
                  </a:lnTo>
                  <a:lnTo>
                    <a:pt x="44" y="5"/>
                  </a:lnTo>
                  <a:lnTo>
                    <a:pt x="55" y="3"/>
                  </a:lnTo>
                  <a:lnTo>
                    <a:pt x="66" y="2"/>
                  </a:lnTo>
                  <a:lnTo>
                    <a:pt x="78" y="0"/>
                  </a:lnTo>
                  <a:lnTo>
                    <a:pt x="88" y="2"/>
                  </a:lnTo>
                  <a:lnTo>
                    <a:pt x="100" y="2"/>
                  </a:lnTo>
                  <a:lnTo>
                    <a:pt x="112" y="4"/>
                  </a:lnTo>
                  <a:lnTo>
                    <a:pt x="122" y="6"/>
                  </a:lnTo>
                  <a:lnTo>
                    <a:pt x="134" y="10"/>
                  </a:lnTo>
                  <a:lnTo>
                    <a:pt x="156" y="17"/>
                  </a:lnTo>
                  <a:lnTo>
                    <a:pt x="178" y="27"/>
                  </a:lnTo>
                  <a:lnTo>
                    <a:pt x="201" y="39"/>
                  </a:lnTo>
                  <a:lnTo>
                    <a:pt x="223" y="51"/>
                  </a:lnTo>
                  <a:lnTo>
                    <a:pt x="245" y="65"/>
                  </a:lnTo>
                  <a:lnTo>
                    <a:pt x="266" y="79"/>
                  </a:lnTo>
                  <a:lnTo>
                    <a:pt x="308" y="108"/>
                  </a:lnTo>
                  <a:lnTo>
                    <a:pt x="348" y="134"/>
                  </a:lnTo>
                  <a:lnTo>
                    <a:pt x="486" y="20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82640" y="3258000"/>
              <a:ext cx="297000" cy="154080"/>
            </a:xfrm>
            <a:custGeom>
              <a:avLst/>
              <a:gdLst/>
              <a:ahLst/>
              <a:rect l="l" t="t" r="r" b="b"/>
              <a:pathLst>
                <a:path w="999" h="579">
                  <a:moveTo>
                    <a:pt x="999" y="14"/>
                  </a:moveTo>
                  <a:lnTo>
                    <a:pt x="999" y="35"/>
                  </a:lnTo>
                  <a:lnTo>
                    <a:pt x="942" y="14"/>
                  </a:lnTo>
                  <a:lnTo>
                    <a:pt x="912" y="40"/>
                  </a:lnTo>
                  <a:lnTo>
                    <a:pt x="880" y="67"/>
                  </a:lnTo>
                  <a:lnTo>
                    <a:pt x="850" y="95"/>
                  </a:lnTo>
                  <a:lnTo>
                    <a:pt x="821" y="124"/>
                  </a:lnTo>
                  <a:lnTo>
                    <a:pt x="793" y="154"/>
                  </a:lnTo>
                  <a:lnTo>
                    <a:pt x="766" y="185"/>
                  </a:lnTo>
                  <a:lnTo>
                    <a:pt x="739" y="217"/>
                  </a:lnTo>
                  <a:lnTo>
                    <a:pt x="714" y="249"/>
                  </a:lnTo>
                  <a:lnTo>
                    <a:pt x="690" y="283"/>
                  </a:lnTo>
                  <a:lnTo>
                    <a:pt x="668" y="318"/>
                  </a:lnTo>
                  <a:lnTo>
                    <a:pt x="647" y="354"/>
                  </a:lnTo>
                  <a:lnTo>
                    <a:pt x="627" y="390"/>
                  </a:lnTo>
                  <a:lnTo>
                    <a:pt x="608" y="427"/>
                  </a:lnTo>
                  <a:lnTo>
                    <a:pt x="592" y="465"/>
                  </a:lnTo>
                  <a:lnTo>
                    <a:pt x="576" y="503"/>
                  </a:lnTo>
                  <a:lnTo>
                    <a:pt x="562" y="543"/>
                  </a:lnTo>
                  <a:lnTo>
                    <a:pt x="553" y="549"/>
                  </a:lnTo>
                  <a:lnTo>
                    <a:pt x="542" y="555"/>
                  </a:lnTo>
                  <a:lnTo>
                    <a:pt x="532" y="561"/>
                  </a:lnTo>
                  <a:lnTo>
                    <a:pt x="520" y="564"/>
                  </a:lnTo>
                  <a:lnTo>
                    <a:pt x="498" y="571"/>
                  </a:lnTo>
                  <a:lnTo>
                    <a:pt x="473" y="576"/>
                  </a:lnTo>
                  <a:lnTo>
                    <a:pt x="450" y="578"/>
                  </a:lnTo>
                  <a:lnTo>
                    <a:pt x="426" y="579"/>
                  </a:lnTo>
                  <a:lnTo>
                    <a:pt x="401" y="579"/>
                  </a:lnTo>
                  <a:lnTo>
                    <a:pt x="375" y="578"/>
                  </a:lnTo>
                  <a:lnTo>
                    <a:pt x="326" y="573"/>
                  </a:lnTo>
                  <a:lnTo>
                    <a:pt x="278" y="568"/>
                  </a:lnTo>
                  <a:lnTo>
                    <a:pt x="256" y="565"/>
                  </a:lnTo>
                  <a:lnTo>
                    <a:pt x="234" y="564"/>
                  </a:lnTo>
                  <a:lnTo>
                    <a:pt x="213" y="563"/>
                  </a:lnTo>
                  <a:lnTo>
                    <a:pt x="193" y="564"/>
                  </a:lnTo>
                  <a:lnTo>
                    <a:pt x="169" y="557"/>
                  </a:lnTo>
                  <a:lnTo>
                    <a:pt x="144" y="552"/>
                  </a:lnTo>
                  <a:lnTo>
                    <a:pt x="117" y="545"/>
                  </a:lnTo>
                  <a:lnTo>
                    <a:pt x="89" y="537"/>
                  </a:lnTo>
                  <a:lnTo>
                    <a:pt x="75" y="532"/>
                  </a:lnTo>
                  <a:lnTo>
                    <a:pt x="62" y="527"/>
                  </a:lnTo>
                  <a:lnTo>
                    <a:pt x="50" y="520"/>
                  </a:lnTo>
                  <a:lnTo>
                    <a:pt x="37" y="511"/>
                  </a:lnTo>
                  <a:lnTo>
                    <a:pt x="27" y="502"/>
                  </a:lnTo>
                  <a:lnTo>
                    <a:pt x="16" y="492"/>
                  </a:lnTo>
                  <a:lnTo>
                    <a:pt x="8" y="480"/>
                  </a:lnTo>
                  <a:lnTo>
                    <a:pt x="0" y="467"/>
                  </a:lnTo>
                  <a:lnTo>
                    <a:pt x="7" y="453"/>
                  </a:lnTo>
                  <a:lnTo>
                    <a:pt x="14" y="440"/>
                  </a:lnTo>
                  <a:lnTo>
                    <a:pt x="17" y="433"/>
                  </a:lnTo>
                  <a:lnTo>
                    <a:pt x="23" y="426"/>
                  </a:lnTo>
                  <a:lnTo>
                    <a:pt x="29" y="420"/>
                  </a:lnTo>
                  <a:lnTo>
                    <a:pt x="37" y="415"/>
                  </a:lnTo>
                  <a:lnTo>
                    <a:pt x="44" y="425"/>
                  </a:lnTo>
                  <a:lnTo>
                    <a:pt x="50" y="435"/>
                  </a:lnTo>
                  <a:lnTo>
                    <a:pt x="57" y="444"/>
                  </a:lnTo>
                  <a:lnTo>
                    <a:pt x="64" y="453"/>
                  </a:lnTo>
                  <a:lnTo>
                    <a:pt x="71" y="460"/>
                  </a:lnTo>
                  <a:lnTo>
                    <a:pt x="79" y="468"/>
                  </a:lnTo>
                  <a:lnTo>
                    <a:pt x="88" y="474"/>
                  </a:lnTo>
                  <a:lnTo>
                    <a:pt x="96" y="481"/>
                  </a:lnTo>
                  <a:lnTo>
                    <a:pt x="113" y="492"/>
                  </a:lnTo>
                  <a:lnTo>
                    <a:pt x="131" y="501"/>
                  </a:lnTo>
                  <a:lnTo>
                    <a:pt x="151" y="508"/>
                  </a:lnTo>
                  <a:lnTo>
                    <a:pt x="171" y="514"/>
                  </a:lnTo>
                  <a:lnTo>
                    <a:pt x="190" y="518"/>
                  </a:lnTo>
                  <a:lnTo>
                    <a:pt x="212" y="522"/>
                  </a:lnTo>
                  <a:lnTo>
                    <a:pt x="234" y="525"/>
                  </a:lnTo>
                  <a:lnTo>
                    <a:pt x="255" y="528"/>
                  </a:lnTo>
                  <a:lnTo>
                    <a:pt x="298" y="530"/>
                  </a:lnTo>
                  <a:lnTo>
                    <a:pt x="341" y="532"/>
                  </a:lnTo>
                  <a:lnTo>
                    <a:pt x="374" y="529"/>
                  </a:lnTo>
                  <a:lnTo>
                    <a:pt x="403" y="523"/>
                  </a:lnTo>
                  <a:lnTo>
                    <a:pt x="431" y="516"/>
                  </a:lnTo>
                  <a:lnTo>
                    <a:pt x="458" y="506"/>
                  </a:lnTo>
                  <a:lnTo>
                    <a:pt x="483" y="494"/>
                  </a:lnTo>
                  <a:lnTo>
                    <a:pt x="505" y="481"/>
                  </a:lnTo>
                  <a:lnTo>
                    <a:pt x="527" y="466"/>
                  </a:lnTo>
                  <a:lnTo>
                    <a:pt x="547" y="449"/>
                  </a:lnTo>
                  <a:lnTo>
                    <a:pt x="566" y="432"/>
                  </a:lnTo>
                  <a:lnTo>
                    <a:pt x="585" y="413"/>
                  </a:lnTo>
                  <a:lnTo>
                    <a:pt x="601" y="394"/>
                  </a:lnTo>
                  <a:lnTo>
                    <a:pt x="617" y="373"/>
                  </a:lnTo>
                  <a:lnTo>
                    <a:pt x="649" y="330"/>
                  </a:lnTo>
                  <a:lnTo>
                    <a:pt x="678" y="286"/>
                  </a:lnTo>
                  <a:lnTo>
                    <a:pt x="706" y="240"/>
                  </a:lnTo>
                  <a:lnTo>
                    <a:pt x="735" y="196"/>
                  </a:lnTo>
                  <a:lnTo>
                    <a:pt x="751" y="173"/>
                  </a:lnTo>
                  <a:lnTo>
                    <a:pt x="766" y="152"/>
                  </a:lnTo>
                  <a:lnTo>
                    <a:pt x="782" y="132"/>
                  </a:lnTo>
                  <a:lnTo>
                    <a:pt x="800" y="113"/>
                  </a:lnTo>
                  <a:lnTo>
                    <a:pt x="817" y="94"/>
                  </a:lnTo>
                  <a:lnTo>
                    <a:pt x="836" y="75"/>
                  </a:lnTo>
                  <a:lnTo>
                    <a:pt x="856" y="59"/>
                  </a:lnTo>
                  <a:lnTo>
                    <a:pt x="877" y="44"/>
                  </a:lnTo>
                  <a:lnTo>
                    <a:pt x="900" y="31"/>
                  </a:lnTo>
                  <a:lnTo>
                    <a:pt x="924" y="19"/>
                  </a:lnTo>
                  <a:lnTo>
                    <a:pt x="949" y="8"/>
                  </a:lnTo>
                  <a:lnTo>
                    <a:pt x="977" y="0"/>
                  </a:lnTo>
                  <a:lnTo>
                    <a:pt x="999" y="1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4800" y="3331080"/>
              <a:ext cx="303840" cy="182520"/>
            </a:xfrm>
            <a:custGeom>
              <a:avLst/>
              <a:gdLst/>
              <a:ahLst/>
              <a:rect l="l" t="t" r="r" b="b"/>
              <a:pathLst>
                <a:path w="1018" h="690">
                  <a:moveTo>
                    <a:pt x="968" y="111"/>
                  </a:moveTo>
                  <a:lnTo>
                    <a:pt x="946" y="121"/>
                  </a:lnTo>
                  <a:lnTo>
                    <a:pt x="926" y="130"/>
                  </a:lnTo>
                  <a:lnTo>
                    <a:pt x="908" y="143"/>
                  </a:lnTo>
                  <a:lnTo>
                    <a:pt x="890" y="156"/>
                  </a:lnTo>
                  <a:lnTo>
                    <a:pt x="875" y="170"/>
                  </a:lnTo>
                  <a:lnTo>
                    <a:pt x="860" y="185"/>
                  </a:lnTo>
                  <a:lnTo>
                    <a:pt x="847" y="201"/>
                  </a:lnTo>
                  <a:lnTo>
                    <a:pt x="834" y="219"/>
                  </a:lnTo>
                  <a:lnTo>
                    <a:pt x="822" y="238"/>
                  </a:lnTo>
                  <a:lnTo>
                    <a:pt x="811" y="256"/>
                  </a:lnTo>
                  <a:lnTo>
                    <a:pt x="800" y="276"/>
                  </a:lnTo>
                  <a:lnTo>
                    <a:pt x="791" y="296"/>
                  </a:lnTo>
                  <a:lnTo>
                    <a:pt x="772" y="338"/>
                  </a:lnTo>
                  <a:lnTo>
                    <a:pt x="753" y="382"/>
                  </a:lnTo>
                  <a:lnTo>
                    <a:pt x="736" y="425"/>
                  </a:lnTo>
                  <a:lnTo>
                    <a:pt x="716" y="467"/>
                  </a:lnTo>
                  <a:lnTo>
                    <a:pt x="705" y="488"/>
                  </a:lnTo>
                  <a:lnTo>
                    <a:pt x="695" y="509"/>
                  </a:lnTo>
                  <a:lnTo>
                    <a:pt x="683" y="529"/>
                  </a:lnTo>
                  <a:lnTo>
                    <a:pt x="670" y="549"/>
                  </a:lnTo>
                  <a:lnTo>
                    <a:pt x="657" y="568"/>
                  </a:lnTo>
                  <a:lnTo>
                    <a:pt x="642" y="586"/>
                  </a:lnTo>
                  <a:lnTo>
                    <a:pt x="627" y="604"/>
                  </a:lnTo>
                  <a:lnTo>
                    <a:pt x="609" y="620"/>
                  </a:lnTo>
                  <a:lnTo>
                    <a:pt x="591" y="635"/>
                  </a:lnTo>
                  <a:lnTo>
                    <a:pt x="571" y="649"/>
                  </a:lnTo>
                  <a:lnTo>
                    <a:pt x="550" y="662"/>
                  </a:lnTo>
                  <a:lnTo>
                    <a:pt x="526" y="674"/>
                  </a:lnTo>
                  <a:lnTo>
                    <a:pt x="508" y="680"/>
                  </a:lnTo>
                  <a:lnTo>
                    <a:pt x="489" y="685"/>
                  </a:lnTo>
                  <a:lnTo>
                    <a:pt x="471" y="688"/>
                  </a:lnTo>
                  <a:lnTo>
                    <a:pt x="454" y="689"/>
                  </a:lnTo>
                  <a:lnTo>
                    <a:pt x="436" y="690"/>
                  </a:lnTo>
                  <a:lnTo>
                    <a:pt x="420" y="689"/>
                  </a:lnTo>
                  <a:lnTo>
                    <a:pt x="404" y="688"/>
                  </a:lnTo>
                  <a:lnTo>
                    <a:pt x="387" y="685"/>
                  </a:lnTo>
                  <a:lnTo>
                    <a:pt x="372" y="681"/>
                  </a:lnTo>
                  <a:lnTo>
                    <a:pt x="356" y="678"/>
                  </a:lnTo>
                  <a:lnTo>
                    <a:pt x="340" y="673"/>
                  </a:lnTo>
                  <a:lnTo>
                    <a:pt x="325" y="667"/>
                  </a:lnTo>
                  <a:lnTo>
                    <a:pt x="296" y="654"/>
                  </a:lnTo>
                  <a:lnTo>
                    <a:pt x="267" y="639"/>
                  </a:lnTo>
                  <a:lnTo>
                    <a:pt x="210" y="607"/>
                  </a:lnTo>
                  <a:lnTo>
                    <a:pt x="152" y="577"/>
                  </a:lnTo>
                  <a:lnTo>
                    <a:pt x="123" y="563"/>
                  </a:lnTo>
                  <a:lnTo>
                    <a:pt x="93" y="551"/>
                  </a:lnTo>
                  <a:lnTo>
                    <a:pt x="77" y="547"/>
                  </a:lnTo>
                  <a:lnTo>
                    <a:pt x="61" y="542"/>
                  </a:lnTo>
                  <a:lnTo>
                    <a:pt x="45" y="538"/>
                  </a:lnTo>
                  <a:lnTo>
                    <a:pt x="28" y="536"/>
                  </a:lnTo>
                  <a:lnTo>
                    <a:pt x="24" y="534"/>
                  </a:lnTo>
                  <a:lnTo>
                    <a:pt x="20" y="530"/>
                  </a:lnTo>
                  <a:lnTo>
                    <a:pt x="15" y="527"/>
                  </a:lnTo>
                  <a:lnTo>
                    <a:pt x="12" y="522"/>
                  </a:lnTo>
                  <a:lnTo>
                    <a:pt x="7" y="513"/>
                  </a:lnTo>
                  <a:lnTo>
                    <a:pt x="4" y="501"/>
                  </a:lnTo>
                  <a:lnTo>
                    <a:pt x="1" y="489"/>
                  </a:lnTo>
                  <a:lnTo>
                    <a:pt x="0" y="478"/>
                  </a:lnTo>
                  <a:lnTo>
                    <a:pt x="0" y="466"/>
                  </a:lnTo>
                  <a:lnTo>
                    <a:pt x="1" y="453"/>
                  </a:lnTo>
                  <a:lnTo>
                    <a:pt x="10" y="446"/>
                  </a:lnTo>
                  <a:lnTo>
                    <a:pt x="18" y="440"/>
                  </a:lnTo>
                  <a:lnTo>
                    <a:pt x="27" y="437"/>
                  </a:lnTo>
                  <a:lnTo>
                    <a:pt x="36" y="435"/>
                  </a:lnTo>
                  <a:lnTo>
                    <a:pt x="46" y="437"/>
                  </a:lnTo>
                  <a:lnTo>
                    <a:pt x="55" y="440"/>
                  </a:lnTo>
                  <a:lnTo>
                    <a:pt x="65" y="446"/>
                  </a:lnTo>
                  <a:lnTo>
                    <a:pt x="74" y="453"/>
                  </a:lnTo>
                  <a:lnTo>
                    <a:pt x="267" y="592"/>
                  </a:lnTo>
                  <a:lnTo>
                    <a:pt x="308" y="593"/>
                  </a:lnTo>
                  <a:lnTo>
                    <a:pt x="349" y="598"/>
                  </a:lnTo>
                  <a:lnTo>
                    <a:pt x="390" y="603"/>
                  </a:lnTo>
                  <a:lnTo>
                    <a:pt x="431" y="606"/>
                  </a:lnTo>
                  <a:lnTo>
                    <a:pt x="450" y="606"/>
                  </a:lnTo>
                  <a:lnTo>
                    <a:pt x="470" y="606"/>
                  </a:lnTo>
                  <a:lnTo>
                    <a:pt x="490" y="605"/>
                  </a:lnTo>
                  <a:lnTo>
                    <a:pt x="510" y="601"/>
                  </a:lnTo>
                  <a:lnTo>
                    <a:pt x="529" y="597"/>
                  </a:lnTo>
                  <a:lnTo>
                    <a:pt x="546" y="591"/>
                  </a:lnTo>
                  <a:lnTo>
                    <a:pt x="556" y="586"/>
                  </a:lnTo>
                  <a:lnTo>
                    <a:pt x="564" y="582"/>
                  </a:lnTo>
                  <a:lnTo>
                    <a:pt x="573" y="577"/>
                  </a:lnTo>
                  <a:lnTo>
                    <a:pt x="581" y="571"/>
                  </a:lnTo>
                  <a:lnTo>
                    <a:pt x="611" y="536"/>
                  </a:lnTo>
                  <a:lnTo>
                    <a:pt x="636" y="500"/>
                  </a:lnTo>
                  <a:lnTo>
                    <a:pt x="661" y="462"/>
                  </a:lnTo>
                  <a:lnTo>
                    <a:pt x="684" y="425"/>
                  </a:lnTo>
                  <a:lnTo>
                    <a:pt x="729" y="350"/>
                  </a:lnTo>
                  <a:lnTo>
                    <a:pt x="771" y="274"/>
                  </a:lnTo>
                  <a:lnTo>
                    <a:pt x="793" y="237"/>
                  </a:lnTo>
                  <a:lnTo>
                    <a:pt x="815" y="200"/>
                  </a:lnTo>
                  <a:lnTo>
                    <a:pt x="840" y="164"/>
                  </a:lnTo>
                  <a:lnTo>
                    <a:pt x="864" y="129"/>
                  </a:lnTo>
                  <a:lnTo>
                    <a:pt x="878" y="113"/>
                  </a:lnTo>
                  <a:lnTo>
                    <a:pt x="892" y="95"/>
                  </a:lnTo>
                  <a:lnTo>
                    <a:pt x="907" y="79"/>
                  </a:lnTo>
                  <a:lnTo>
                    <a:pt x="922" y="62"/>
                  </a:lnTo>
                  <a:lnTo>
                    <a:pt x="937" y="46"/>
                  </a:lnTo>
                  <a:lnTo>
                    <a:pt x="954" y="31"/>
                  </a:lnTo>
                  <a:lnTo>
                    <a:pt x="971" y="16"/>
                  </a:lnTo>
                  <a:lnTo>
                    <a:pt x="990" y="0"/>
                  </a:lnTo>
                  <a:lnTo>
                    <a:pt x="1000" y="10"/>
                  </a:lnTo>
                  <a:lnTo>
                    <a:pt x="1008" y="17"/>
                  </a:lnTo>
                  <a:lnTo>
                    <a:pt x="1014" y="24"/>
                  </a:lnTo>
                  <a:lnTo>
                    <a:pt x="1018" y="30"/>
                  </a:lnTo>
                  <a:lnTo>
                    <a:pt x="1018" y="35"/>
                  </a:lnTo>
                  <a:lnTo>
                    <a:pt x="1016" y="40"/>
                  </a:lnTo>
                  <a:lnTo>
                    <a:pt x="1014" y="46"/>
                  </a:lnTo>
                  <a:lnTo>
                    <a:pt x="1009" y="51"/>
                  </a:lnTo>
                  <a:lnTo>
                    <a:pt x="999" y="62"/>
                  </a:lnTo>
                  <a:lnTo>
                    <a:pt x="987" y="75"/>
                  </a:lnTo>
                  <a:lnTo>
                    <a:pt x="981" y="82"/>
                  </a:lnTo>
                  <a:lnTo>
                    <a:pt x="977" y="90"/>
                  </a:lnTo>
                  <a:lnTo>
                    <a:pt x="972" y="101"/>
                  </a:lnTo>
                  <a:lnTo>
                    <a:pt x="968" y="111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197720" y="3331080"/>
              <a:ext cx="264960" cy="154080"/>
            </a:xfrm>
            <a:custGeom>
              <a:avLst/>
              <a:gdLst/>
              <a:ahLst/>
              <a:rect l="l" t="t" r="r" b="b"/>
              <a:pathLst>
                <a:path w="889" h="583">
                  <a:moveTo>
                    <a:pt x="612" y="492"/>
                  </a:moveTo>
                  <a:lnTo>
                    <a:pt x="651" y="489"/>
                  </a:lnTo>
                  <a:lnTo>
                    <a:pt x="687" y="485"/>
                  </a:lnTo>
                  <a:lnTo>
                    <a:pt x="704" y="482"/>
                  </a:lnTo>
                  <a:lnTo>
                    <a:pt x="722" y="478"/>
                  </a:lnTo>
                  <a:lnTo>
                    <a:pt x="738" y="473"/>
                  </a:lnTo>
                  <a:lnTo>
                    <a:pt x="755" y="467"/>
                  </a:lnTo>
                  <a:lnTo>
                    <a:pt x="771" y="460"/>
                  </a:lnTo>
                  <a:lnTo>
                    <a:pt x="785" y="451"/>
                  </a:lnTo>
                  <a:lnTo>
                    <a:pt x="800" y="441"/>
                  </a:lnTo>
                  <a:lnTo>
                    <a:pt x="813" y="430"/>
                  </a:lnTo>
                  <a:lnTo>
                    <a:pt x="826" y="417"/>
                  </a:lnTo>
                  <a:lnTo>
                    <a:pt x="839" y="401"/>
                  </a:lnTo>
                  <a:lnTo>
                    <a:pt x="851" y="385"/>
                  </a:lnTo>
                  <a:lnTo>
                    <a:pt x="861" y="368"/>
                  </a:lnTo>
                  <a:lnTo>
                    <a:pt x="869" y="376"/>
                  </a:lnTo>
                  <a:lnTo>
                    <a:pt x="876" y="385"/>
                  </a:lnTo>
                  <a:lnTo>
                    <a:pt x="881" y="394"/>
                  </a:lnTo>
                  <a:lnTo>
                    <a:pt x="885" y="404"/>
                  </a:lnTo>
                  <a:lnTo>
                    <a:pt x="888" y="413"/>
                  </a:lnTo>
                  <a:lnTo>
                    <a:pt x="889" y="421"/>
                  </a:lnTo>
                  <a:lnTo>
                    <a:pt x="889" y="431"/>
                  </a:lnTo>
                  <a:lnTo>
                    <a:pt x="889" y="440"/>
                  </a:lnTo>
                  <a:lnTo>
                    <a:pt x="886" y="460"/>
                  </a:lnTo>
                  <a:lnTo>
                    <a:pt x="881" y="479"/>
                  </a:lnTo>
                  <a:lnTo>
                    <a:pt x="875" y="499"/>
                  </a:lnTo>
                  <a:lnTo>
                    <a:pt x="868" y="520"/>
                  </a:lnTo>
                  <a:lnTo>
                    <a:pt x="858" y="530"/>
                  </a:lnTo>
                  <a:lnTo>
                    <a:pt x="847" y="541"/>
                  </a:lnTo>
                  <a:lnTo>
                    <a:pt x="835" y="549"/>
                  </a:lnTo>
                  <a:lnTo>
                    <a:pt x="825" y="557"/>
                  </a:lnTo>
                  <a:lnTo>
                    <a:pt x="812" y="563"/>
                  </a:lnTo>
                  <a:lnTo>
                    <a:pt x="800" y="569"/>
                  </a:lnTo>
                  <a:lnTo>
                    <a:pt x="787" y="573"/>
                  </a:lnTo>
                  <a:lnTo>
                    <a:pt x="775" y="577"/>
                  </a:lnTo>
                  <a:lnTo>
                    <a:pt x="762" y="579"/>
                  </a:lnTo>
                  <a:lnTo>
                    <a:pt x="748" y="582"/>
                  </a:lnTo>
                  <a:lnTo>
                    <a:pt x="735" y="583"/>
                  </a:lnTo>
                  <a:lnTo>
                    <a:pt x="721" y="583"/>
                  </a:lnTo>
                  <a:lnTo>
                    <a:pt x="693" y="582"/>
                  </a:lnTo>
                  <a:lnTo>
                    <a:pt x="664" y="578"/>
                  </a:lnTo>
                  <a:lnTo>
                    <a:pt x="634" y="573"/>
                  </a:lnTo>
                  <a:lnTo>
                    <a:pt x="605" y="568"/>
                  </a:lnTo>
                  <a:lnTo>
                    <a:pt x="576" y="562"/>
                  </a:lnTo>
                  <a:lnTo>
                    <a:pt x="547" y="555"/>
                  </a:lnTo>
                  <a:lnTo>
                    <a:pt x="519" y="549"/>
                  </a:lnTo>
                  <a:lnTo>
                    <a:pt x="490" y="543"/>
                  </a:lnTo>
                  <a:lnTo>
                    <a:pt x="462" y="538"/>
                  </a:lnTo>
                  <a:lnTo>
                    <a:pt x="437" y="536"/>
                  </a:lnTo>
                  <a:lnTo>
                    <a:pt x="423" y="509"/>
                  </a:lnTo>
                  <a:lnTo>
                    <a:pt x="407" y="482"/>
                  </a:lnTo>
                  <a:lnTo>
                    <a:pt x="391" y="456"/>
                  </a:lnTo>
                  <a:lnTo>
                    <a:pt x="372" y="432"/>
                  </a:lnTo>
                  <a:lnTo>
                    <a:pt x="352" y="409"/>
                  </a:lnTo>
                  <a:lnTo>
                    <a:pt x="333" y="385"/>
                  </a:lnTo>
                  <a:lnTo>
                    <a:pt x="312" y="362"/>
                  </a:lnTo>
                  <a:lnTo>
                    <a:pt x="289" y="340"/>
                  </a:lnTo>
                  <a:lnTo>
                    <a:pt x="246" y="296"/>
                  </a:lnTo>
                  <a:lnTo>
                    <a:pt x="204" y="251"/>
                  </a:lnTo>
                  <a:lnTo>
                    <a:pt x="184" y="228"/>
                  </a:lnTo>
                  <a:lnTo>
                    <a:pt x="165" y="205"/>
                  </a:lnTo>
                  <a:lnTo>
                    <a:pt x="148" y="182"/>
                  </a:lnTo>
                  <a:lnTo>
                    <a:pt x="133" y="156"/>
                  </a:lnTo>
                  <a:lnTo>
                    <a:pt x="120" y="143"/>
                  </a:lnTo>
                  <a:lnTo>
                    <a:pt x="108" y="134"/>
                  </a:lnTo>
                  <a:lnTo>
                    <a:pt x="94" y="125"/>
                  </a:lnTo>
                  <a:lnTo>
                    <a:pt x="81" y="120"/>
                  </a:lnTo>
                  <a:lnTo>
                    <a:pt x="67" y="116"/>
                  </a:lnTo>
                  <a:lnTo>
                    <a:pt x="52" y="113"/>
                  </a:lnTo>
                  <a:lnTo>
                    <a:pt x="37" y="111"/>
                  </a:lnTo>
                  <a:lnTo>
                    <a:pt x="22" y="111"/>
                  </a:lnTo>
                  <a:lnTo>
                    <a:pt x="0" y="0"/>
                  </a:lnTo>
                  <a:lnTo>
                    <a:pt x="31" y="4"/>
                  </a:lnTo>
                  <a:lnTo>
                    <a:pt x="59" y="11"/>
                  </a:lnTo>
                  <a:lnTo>
                    <a:pt x="86" y="19"/>
                  </a:lnTo>
                  <a:lnTo>
                    <a:pt x="110" y="28"/>
                  </a:lnTo>
                  <a:lnTo>
                    <a:pt x="133" y="41"/>
                  </a:lnTo>
                  <a:lnTo>
                    <a:pt x="154" y="55"/>
                  </a:lnTo>
                  <a:lnTo>
                    <a:pt x="174" y="70"/>
                  </a:lnTo>
                  <a:lnTo>
                    <a:pt x="192" y="88"/>
                  </a:lnTo>
                  <a:lnTo>
                    <a:pt x="209" y="107"/>
                  </a:lnTo>
                  <a:lnTo>
                    <a:pt x="225" y="125"/>
                  </a:lnTo>
                  <a:lnTo>
                    <a:pt x="240" y="147"/>
                  </a:lnTo>
                  <a:lnTo>
                    <a:pt x="255" y="168"/>
                  </a:lnTo>
                  <a:lnTo>
                    <a:pt x="282" y="212"/>
                  </a:lnTo>
                  <a:lnTo>
                    <a:pt x="309" y="256"/>
                  </a:lnTo>
                  <a:lnTo>
                    <a:pt x="336" y="301"/>
                  </a:lnTo>
                  <a:lnTo>
                    <a:pt x="363" y="344"/>
                  </a:lnTo>
                  <a:lnTo>
                    <a:pt x="377" y="364"/>
                  </a:lnTo>
                  <a:lnTo>
                    <a:pt x="392" y="384"/>
                  </a:lnTo>
                  <a:lnTo>
                    <a:pt x="409" y="403"/>
                  </a:lnTo>
                  <a:lnTo>
                    <a:pt x="426" y="420"/>
                  </a:lnTo>
                  <a:lnTo>
                    <a:pt x="444" y="435"/>
                  </a:lnTo>
                  <a:lnTo>
                    <a:pt x="462" y="449"/>
                  </a:lnTo>
                  <a:lnTo>
                    <a:pt x="483" y="462"/>
                  </a:lnTo>
                  <a:lnTo>
                    <a:pt x="506" y="473"/>
                  </a:lnTo>
                  <a:lnTo>
                    <a:pt x="529" y="481"/>
                  </a:lnTo>
                  <a:lnTo>
                    <a:pt x="555" y="487"/>
                  </a:lnTo>
                  <a:lnTo>
                    <a:pt x="583" y="490"/>
                  </a:lnTo>
                  <a:lnTo>
                    <a:pt x="612" y="492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8280" y="3443760"/>
              <a:ext cx="254160" cy="168120"/>
            </a:xfrm>
            <a:custGeom>
              <a:avLst/>
              <a:gdLst/>
              <a:ahLst/>
              <a:rect l="l" t="t" r="r" b="b"/>
              <a:pathLst>
                <a:path w="850" h="638">
                  <a:moveTo>
                    <a:pt x="560" y="570"/>
                  </a:moveTo>
                  <a:lnTo>
                    <a:pt x="549" y="581"/>
                  </a:lnTo>
                  <a:lnTo>
                    <a:pt x="536" y="592"/>
                  </a:lnTo>
                  <a:lnTo>
                    <a:pt x="523" y="601"/>
                  </a:lnTo>
                  <a:lnTo>
                    <a:pt x="510" y="609"/>
                  </a:lnTo>
                  <a:lnTo>
                    <a:pt x="496" y="616"/>
                  </a:lnTo>
                  <a:lnTo>
                    <a:pt x="482" y="622"/>
                  </a:lnTo>
                  <a:lnTo>
                    <a:pt x="468" y="627"/>
                  </a:lnTo>
                  <a:lnTo>
                    <a:pt x="453" y="630"/>
                  </a:lnTo>
                  <a:lnTo>
                    <a:pt x="438" y="633"/>
                  </a:lnTo>
                  <a:lnTo>
                    <a:pt x="422" y="635"/>
                  </a:lnTo>
                  <a:lnTo>
                    <a:pt x="407" y="636"/>
                  </a:lnTo>
                  <a:lnTo>
                    <a:pt x="392" y="638"/>
                  </a:lnTo>
                  <a:lnTo>
                    <a:pt x="359" y="638"/>
                  </a:lnTo>
                  <a:lnTo>
                    <a:pt x="328" y="635"/>
                  </a:lnTo>
                  <a:lnTo>
                    <a:pt x="261" y="629"/>
                  </a:lnTo>
                  <a:lnTo>
                    <a:pt x="196" y="623"/>
                  </a:lnTo>
                  <a:lnTo>
                    <a:pt x="164" y="623"/>
                  </a:lnTo>
                  <a:lnTo>
                    <a:pt x="132" y="625"/>
                  </a:lnTo>
                  <a:lnTo>
                    <a:pt x="117" y="626"/>
                  </a:lnTo>
                  <a:lnTo>
                    <a:pt x="102" y="628"/>
                  </a:lnTo>
                  <a:lnTo>
                    <a:pt x="88" y="632"/>
                  </a:lnTo>
                  <a:lnTo>
                    <a:pt x="73" y="635"/>
                  </a:lnTo>
                  <a:lnTo>
                    <a:pt x="63" y="616"/>
                  </a:lnTo>
                  <a:lnTo>
                    <a:pt x="51" y="599"/>
                  </a:lnTo>
                  <a:lnTo>
                    <a:pt x="38" y="581"/>
                  </a:lnTo>
                  <a:lnTo>
                    <a:pt x="25" y="563"/>
                  </a:lnTo>
                  <a:lnTo>
                    <a:pt x="19" y="553"/>
                  </a:lnTo>
                  <a:lnTo>
                    <a:pt x="14" y="544"/>
                  </a:lnTo>
                  <a:lnTo>
                    <a:pt x="10" y="535"/>
                  </a:lnTo>
                  <a:lnTo>
                    <a:pt x="6" y="525"/>
                  </a:lnTo>
                  <a:lnTo>
                    <a:pt x="3" y="515"/>
                  </a:lnTo>
                  <a:lnTo>
                    <a:pt x="0" y="503"/>
                  </a:lnTo>
                  <a:lnTo>
                    <a:pt x="0" y="492"/>
                  </a:lnTo>
                  <a:lnTo>
                    <a:pt x="0" y="480"/>
                  </a:lnTo>
                  <a:lnTo>
                    <a:pt x="12" y="490"/>
                  </a:lnTo>
                  <a:lnTo>
                    <a:pt x="25" y="499"/>
                  </a:lnTo>
                  <a:lnTo>
                    <a:pt x="37" y="508"/>
                  </a:lnTo>
                  <a:lnTo>
                    <a:pt x="51" y="516"/>
                  </a:lnTo>
                  <a:lnTo>
                    <a:pt x="63" y="524"/>
                  </a:lnTo>
                  <a:lnTo>
                    <a:pt x="77" y="531"/>
                  </a:lnTo>
                  <a:lnTo>
                    <a:pt x="92" y="538"/>
                  </a:lnTo>
                  <a:lnTo>
                    <a:pt x="107" y="544"/>
                  </a:lnTo>
                  <a:lnTo>
                    <a:pt x="136" y="556"/>
                  </a:lnTo>
                  <a:lnTo>
                    <a:pt x="168" y="565"/>
                  </a:lnTo>
                  <a:lnTo>
                    <a:pt x="198" y="573"/>
                  </a:lnTo>
                  <a:lnTo>
                    <a:pt x="231" y="579"/>
                  </a:lnTo>
                  <a:lnTo>
                    <a:pt x="262" y="584"/>
                  </a:lnTo>
                  <a:lnTo>
                    <a:pt x="295" y="587"/>
                  </a:lnTo>
                  <a:lnTo>
                    <a:pt x="327" y="590"/>
                  </a:lnTo>
                  <a:lnTo>
                    <a:pt x="357" y="590"/>
                  </a:lnTo>
                  <a:lnTo>
                    <a:pt x="387" y="590"/>
                  </a:lnTo>
                  <a:lnTo>
                    <a:pt x="417" y="587"/>
                  </a:lnTo>
                  <a:lnTo>
                    <a:pt x="445" y="585"/>
                  </a:lnTo>
                  <a:lnTo>
                    <a:pt x="470" y="580"/>
                  </a:lnTo>
                  <a:lnTo>
                    <a:pt x="486" y="564"/>
                  </a:lnTo>
                  <a:lnTo>
                    <a:pt x="501" y="546"/>
                  </a:lnTo>
                  <a:lnTo>
                    <a:pt x="515" y="529"/>
                  </a:lnTo>
                  <a:lnTo>
                    <a:pt x="528" y="511"/>
                  </a:lnTo>
                  <a:lnTo>
                    <a:pt x="551" y="475"/>
                  </a:lnTo>
                  <a:lnTo>
                    <a:pt x="573" y="439"/>
                  </a:lnTo>
                  <a:lnTo>
                    <a:pt x="594" y="401"/>
                  </a:lnTo>
                  <a:lnTo>
                    <a:pt x="613" y="363"/>
                  </a:lnTo>
                  <a:lnTo>
                    <a:pt x="632" y="324"/>
                  </a:lnTo>
                  <a:lnTo>
                    <a:pt x="650" y="287"/>
                  </a:lnTo>
                  <a:lnTo>
                    <a:pt x="669" y="248"/>
                  </a:lnTo>
                  <a:lnTo>
                    <a:pt x="688" y="209"/>
                  </a:lnTo>
                  <a:lnTo>
                    <a:pt x="709" y="172"/>
                  </a:lnTo>
                  <a:lnTo>
                    <a:pt x="732" y="136"/>
                  </a:lnTo>
                  <a:lnTo>
                    <a:pt x="744" y="118"/>
                  </a:lnTo>
                  <a:lnTo>
                    <a:pt x="757" y="99"/>
                  </a:lnTo>
                  <a:lnTo>
                    <a:pt x="770" y="82"/>
                  </a:lnTo>
                  <a:lnTo>
                    <a:pt x="785" y="66"/>
                  </a:lnTo>
                  <a:lnTo>
                    <a:pt x="800" y="48"/>
                  </a:lnTo>
                  <a:lnTo>
                    <a:pt x="815" y="32"/>
                  </a:lnTo>
                  <a:lnTo>
                    <a:pt x="833" y="15"/>
                  </a:lnTo>
                  <a:lnTo>
                    <a:pt x="850" y="0"/>
                  </a:lnTo>
                  <a:lnTo>
                    <a:pt x="814" y="74"/>
                  </a:lnTo>
                  <a:lnTo>
                    <a:pt x="780" y="146"/>
                  </a:lnTo>
                  <a:lnTo>
                    <a:pt x="748" y="218"/>
                  </a:lnTo>
                  <a:lnTo>
                    <a:pt x="715" y="289"/>
                  </a:lnTo>
                  <a:lnTo>
                    <a:pt x="681" y="359"/>
                  </a:lnTo>
                  <a:lnTo>
                    <a:pt x="645" y="429"/>
                  </a:lnTo>
                  <a:lnTo>
                    <a:pt x="625" y="464"/>
                  </a:lnTo>
                  <a:lnTo>
                    <a:pt x="605" y="499"/>
                  </a:lnTo>
                  <a:lnTo>
                    <a:pt x="583" y="535"/>
                  </a:lnTo>
                  <a:lnTo>
                    <a:pt x="560" y="57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210320" y="3453120"/>
              <a:ext cx="64440" cy="71640"/>
            </a:xfrm>
            <a:custGeom>
              <a:avLst/>
              <a:gdLst/>
              <a:ahLst/>
              <a:rect l="l" t="t" r="r" b="b"/>
              <a:pathLst>
                <a:path w="214" h="270">
                  <a:moveTo>
                    <a:pt x="204" y="184"/>
                  </a:moveTo>
                  <a:lnTo>
                    <a:pt x="214" y="270"/>
                  </a:lnTo>
                  <a:lnTo>
                    <a:pt x="205" y="251"/>
                  </a:lnTo>
                  <a:lnTo>
                    <a:pt x="197" y="232"/>
                  </a:lnTo>
                  <a:lnTo>
                    <a:pt x="187" y="212"/>
                  </a:lnTo>
                  <a:lnTo>
                    <a:pt x="179" y="191"/>
                  </a:lnTo>
                  <a:lnTo>
                    <a:pt x="171" y="170"/>
                  </a:lnTo>
                  <a:lnTo>
                    <a:pt x="161" y="149"/>
                  </a:lnTo>
                  <a:lnTo>
                    <a:pt x="152" y="127"/>
                  </a:lnTo>
                  <a:lnTo>
                    <a:pt x="142" y="108"/>
                  </a:lnTo>
                  <a:lnTo>
                    <a:pt x="131" y="89"/>
                  </a:lnTo>
                  <a:lnTo>
                    <a:pt x="118" y="71"/>
                  </a:lnTo>
                  <a:lnTo>
                    <a:pt x="111" y="63"/>
                  </a:lnTo>
                  <a:lnTo>
                    <a:pt x="103" y="56"/>
                  </a:lnTo>
                  <a:lnTo>
                    <a:pt x="96" y="49"/>
                  </a:lnTo>
                  <a:lnTo>
                    <a:pt x="88" y="42"/>
                  </a:lnTo>
                  <a:lnTo>
                    <a:pt x="78" y="36"/>
                  </a:lnTo>
                  <a:lnTo>
                    <a:pt x="69" y="32"/>
                  </a:lnTo>
                  <a:lnTo>
                    <a:pt x="60" y="27"/>
                  </a:lnTo>
                  <a:lnTo>
                    <a:pt x="49" y="23"/>
                  </a:lnTo>
                  <a:lnTo>
                    <a:pt x="37" y="21"/>
                  </a:lnTo>
                  <a:lnTo>
                    <a:pt x="26" y="19"/>
                  </a:lnTo>
                  <a:lnTo>
                    <a:pt x="13" y="18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9" y="3"/>
                  </a:lnTo>
                  <a:lnTo>
                    <a:pt x="37" y="8"/>
                  </a:lnTo>
                  <a:lnTo>
                    <a:pt x="56" y="13"/>
                  </a:lnTo>
                  <a:lnTo>
                    <a:pt x="75" y="19"/>
                  </a:lnTo>
                  <a:lnTo>
                    <a:pt x="94" y="26"/>
                  </a:lnTo>
                  <a:lnTo>
                    <a:pt x="111" y="33"/>
                  </a:lnTo>
                  <a:lnTo>
                    <a:pt x="128" y="42"/>
                  </a:lnTo>
                  <a:lnTo>
                    <a:pt x="143" y="51"/>
                  </a:lnTo>
                  <a:lnTo>
                    <a:pt x="158" y="63"/>
                  </a:lnTo>
                  <a:lnTo>
                    <a:pt x="170" y="76"/>
                  </a:lnTo>
                  <a:lnTo>
                    <a:pt x="175" y="82"/>
                  </a:lnTo>
                  <a:lnTo>
                    <a:pt x="181" y="89"/>
                  </a:lnTo>
                  <a:lnTo>
                    <a:pt x="186" y="97"/>
                  </a:lnTo>
                  <a:lnTo>
                    <a:pt x="191" y="105"/>
                  </a:lnTo>
                  <a:lnTo>
                    <a:pt x="194" y="113"/>
                  </a:lnTo>
                  <a:lnTo>
                    <a:pt x="198" y="122"/>
                  </a:lnTo>
                  <a:lnTo>
                    <a:pt x="200" y="131"/>
                  </a:lnTo>
                  <a:lnTo>
                    <a:pt x="202" y="140"/>
                  </a:lnTo>
                  <a:lnTo>
                    <a:pt x="204" y="151"/>
                  </a:lnTo>
                  <a:lnTo>
                    <a:pt x="205" y="161"/>
                  </a:lnTo>
                  <a:lnTo>
                    <a:pt x="205" y="172"/>
                  </a:lnTo>
                  <a:lnTo>
                    <a:pt x="204" y="18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278720" y="3528000"/>
              <a:ext cx="178920" cy="63360"/>
            </a:xfrm>
            <a:custGeom>
              <a:avLst/>
              <a:gdLst/>
              <a:ahLst/>
              <a:rect l="l" t="t" r="r" b="b"/>
              <a:pathLst>
                <a:path w="601" h="237">
                  <a:moveTo>
                    <a:pt x="182" y="111"/>
                  </a:moveTo>
                  <a:lnTo>
                    <a:pt x="205" y="109"/>
                  </a:lnTo>
                  <a:lnTo>
                    <a:pt x="228" y="107"/>
                  </a:lnTo>
                  <a:lnTo>
                    <a:pt x="250" y="104"/>
                  </a:lnTo>
                  <a:lnTo>
                    <a:pt x="272" y="99"/>
                  </a:lnTo>
                  <a:lnTo>
                    <a:pt x="293" y="94"/>
                  </a:lnTo>
                  <a:lnTo>
                    <a:pt x="315" y="87"/>
                  </a:lnTo>
                  <a:lnTo>
                    <a:pt x="336" y="80"/>
                  </a:lnTo>
                  <a:lnTo>
                    <a:pt x="359" y="73"/>
                  </a:lnTo>
                  <a:lnTo>
                    <a:pt x="466" y="146"/>
                  </a:lnTo>
                  <a:lnTo>
                    <a:pt x="479" y="139"/>
                  </a:lnTo>
                  <a:lnTo>
                    <a:pt x="494" y="133"/>
                  </a:lnTo>
                  <a:lnTo>
                    <a:pt x="509" y="129"/>
                  </a:lnTo>
                  <a:lnTo>
                    <a:pt x="526" y="126"/>
                  </a:lnTo>
                  <a:lnTo>
                    <a:pt x="559" y="119"/>
                  </a:lnTo>
                  <a:lnTo>
                    <a:pt x="590" y="111"/>
                  </a:lnTo>
                  <a:lnTo>
                    <a:pt x="595" y="120"/>
                  </a:lnTo>
                  <a:lnTo>
                    <a:pt x="598" y="128"/>
                  </a:lnTo>
                  <a:lnTo>
                    <a:pt x="601" y="136"/>
                  </a:lnTo>
                  <a:lnTo>
                    <a:pt x="601" y="145"/>
                  </a:lnTo>
                  <a:lnTo>
                    <a:pt x="600" y="153"/>
                  </a:lnTo>
                  <a:lnTo>
                    <a:pt x="598" y="161"/>
                  </a:lnTo>
                  <a:lnTo>
                    <a:pt x="596" y="169"/>
                  </a:lnTo>
                  <a:lnTo>
                    <a:pt x="593" y="176"/>
                  </a:lnTo>
                  <a:lnTo>
                    <a:pt x="573" y="205"/>
                  </a:lnTo>
                  <a:lnTo>
                    <a:pt x="553" y="231"/>
                  </a:lnTo>
                  <a:lnTo>
                    <a:pt x="538" y="235"/>
                  </a:lnTo>
                  <a:lnTo>
                    <a:pt x="524" y="237"/>
                  </a:lnTo>
                  <a:lnTo>
                    <a:pt x="509" y="237"/>
                  </a:lnTo>
                  <a:lnTo>
                    <a:pt x="497" y="236"/>
                  </a:lnTo>
                  <a:lnTo>
                    <a:pt x="484" y="233"/>
                  </a:lnTo>
                  <a:lnTo>
                    <a:pt x="471" y="229"/>
                  </a:lnTo>
                  <a:lnTo>
                    <a:pt x="458" y="225"/>
                  </a:lnTo>
                  <a:lnTo>
                    <a:pt x="446" y="219"/>
                  </a:lnTo>
                  <a:lnTo>
                    <a:pt x="423" y="208"/>
                  </a:lnTo>
                  <a:lnTo>
                    <a:pt x="401" y="196"/>
                  </a:lnTo>
                  <a:lnTo>
                    <a:pt x="380" y="184"/>
                  </a:lnTo>
                  <a:lnTo>
                    <a:pt x="359" y="176"/>
                  </a:lnTo>
                  <a:lnTo>
                    <a:pt x="324" y="177"/>
                  </a:lnTo>
                  <a:lnTo>
                    <a:pt x="290" y="181"/>
                  </a:lnTo>
                  <a:lnTo>
                    <a:pt x="257" y="184"/>
                  </a:lnTo>
                  <a:lnTo>
                    <a:pt x="223" y="188"/>
                  </a:lnTo>
                  <a:lnTo>
                    <a:pt x="207" y="189"/>
                  </a:lnTo>
                  <a:lnTo>
                    <a:pt x="190" y="190"/>
                  </a:lnTo>
                  <a:lnTo>
                    <a:pt x="174" y="190"/>
                  </a:lnTo>
                  <a:lnTo>
                    <a:pt x="157" y="189"/>
                  </a:lnTo>
                  <a:lnTo>
                    <a:pt x="141" y="188"/>
                  </a:lnTo>
                  <a:lnTo>
                    <a:pt x="125" y="186"/>
                  </a:lnTo>
                  <a:lnTo>
                    <a:pt x="108" y="182"/>
                  </a:lnTo>
                  <a:lnTo>
                    <a:pt x="93" y="176"/>
                  </a:lnTo>
                  <a:lnTo>
                    <a:pt x="0" y="0"/>
                  </a:lnTo>
                  <a:lnTo>
                    <a:pt x="18" y="22"/>
                  </a:lnTo>
                  <a:lnTo>
                    <a:pt x="38" y="42"/>
                  </a:lnTo>
                  <a:lnTo>
                    <a:pt x="58" y="59"/>
                  </a:lnTo>
                  <a:lnTo>
                    <a:pt x="79" y="74"/>
                  </a:lnTo>
                  <a:lnTo>
                    <a:pt x="91" y="81"/>
                  </a:lnTo>
                  <a:lnTo>
                    <a:pt x="101" y="88"/>
                  </a:lnTo>
                  <a:lnTo>
                    <a:pt x="114" y="94"/>
                  </a:lnTo>
                  <a:lnTo>
                    <a:pt x="126" y="99"/>
                  </a:lnTo>
                  <a:lnTo>
                    <a:pt x="139" y="102"/>
                  </a:lnTo>
                  <a:lnTo>
                    <a:pt x="153" y="106"/>
                  </a:lnTo>
                  <a:lnTo>
                    <a:pt x="167" y="109"/>
                  </a:lnTo>
                  <a:lnTo>
                    <a:pt x="182" y="111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090800" y="3583440"/>
              <a:ext cx="133560" cy="77760"/>
            </a:xfrm>
            <a:custGeom>
              <a:avLst/>
              <a:gdLst/>
              <a:ahLst/>
              <a:rect l="l" t="t" r="r" b="b"/>
              <a:pathLst>
                <a:path w="449" h="296">
                  <a:moveTo>
                    <a:pt x="377" y="54"/>
                  </a:moveTo>
                  <a:lnTo>
                    <a:pt x="389" y="80"/>
                  </a:lnTo>
                  <a:lnTo>
                    <a:pt x="400" y="106"/>
                  </a:lnTo>
                  <a:lnTo>
                    <a:pt x="410" y="133"/>
                  </a:lnTo>
                  <a:lnTo>
                    <a:pt x="420" y="158"/>
                  </a:lnTo>
                  <a:lnTo>
                    <a:pt x="428" y="185"/>
                  </a:lnTo>
                  <a:lnTo>
                    <a:pt x="435" y="213"/>
                  </a:lnTo>
                  <a:lnTo>
                    <a:pt x="443" y="240"/>
                  </a:lnTo>
                  <a:lnTo>
                    <a:pt x="449" y="268"/>
                  </a:lnTo>
                  <a:lnTo>
                    <a:pt x="420" y="260"/>
                  </a:lnTo>
                  <a:lnTo>
                    <a:pt x="391" y="253"/>
                  </a:lnTo>
                  <a:lnTo>
                    <a:pt x="360" y="246"/>
                  </a:lnTo>
                  <a:lnTo>
                    <a:pt x="330" y="239"/>
                  </a:lnTo>
                  <a:lnTo>
                    <a:pt x="299" y="234"/>
                  </a:lnTo>
                  <a:lnTo>
                    <a:pt x="270" y="230"/>
                  </a:lnTo>
                  <a:lnTo>
                    <a:pt x="240" y="227"/>
                  </a:lnTo>
                  <a:lnTo>
                    <a:pt x="210" y="226"/>
                  </a:lnTo>
                  <a:lnTo>
                    <a:pt x="181" y="227"/>
                  </a:lnTo>
                  <a:lnTo>
                    <a:pt x="153" y="230"/>
                  </a:lnTo>
                  <a:lnTo>
                    <a:pt x="139" y="232"/>
                  </a:lnTo>
                  <a:lnTo>
                    <a:pt x="125" y="234"/>
                  </a:lnTo>
                  <a:lnTo>
                    <a:pt x="111" y="238"/>
                  </a:lnTo>
                  <a:lnTo>
                    <a:pt x="98" y="241"/>
                  </a:lnTo>
                  <a:lnTo>
                    <a:pt x="85" y="246"/>
                  </a:lnTo>
                  <a:lnTo>
                    <a:pt x="72" y="252"/>
                  </a:lnTo>
                  <a:lnTo>
                    <a:pt x="60" y="257"/>
                  </a:lnTo>
                  <a:lnTo>
                    <a:pt x="47" y="264"/>
                  </a:lnTo>
                  <a:lnTo>
                    <a:pt x="35" y="271"/>
                  </a:lnTo>
                  <a:lnTo>
                    <a:pt x="23" y="279"/>
                  </a:lnTo>
                  <a:lnTo>
                    <a:pt x="12" y="287"/>
                  </a:lnTo>
                  <a:lnTo>
                    <a:pt x="0" y="296"/>
                  </a:lnTo>
                  <a:lnTo>
                    <a:pt x="2" y="261"/>
                  </a:lnTo>
                  <a:lnTo>
                    <a:pt x="5" y="225"/>
                  </a:lnTo>
                  <a:lnTo>
                    <a:pt x="7" y="206"/>
                  </a:lnTo>
                  <a:lnTo>
                    <a:pt x="9" y="186"/>
                  </a:lnTo>
                  <a:lnTo>
                    <a:pt x="13" y="168"/>
                  </a:lnTo>
                  <a:lnTo>
                    <a:pt x="17" y="150"/>
                  </a:lnTo>
                  <a:lnTo>
                    <a:pt x="23" y="131"/>
                  </a:lnTo>
                  <a:lnTo>
                    <a:pt x="29" y="114"/>
                  </a:lnTo>
                  <a:lnTo>
                    <a:pt x="37" y="97"/>
                  </a:lnTo>
                  <a:lnTo>
                    <a:pt x="46" y="81"/>
                  </a:lnTo>
                  <a:lnTo>
                    <a:pt x="56" y="66"/>
                  </a:lnTo>
                  <a:lnTo>
                    <a:pt x="68" y="52"/>
                  </a:lnTo>
                  <a:lnTo>
                    <a:pt x="82" y="38"/>
                  </a:lnTo>
                  <a:lnTo>
                    <a:pt x="97" y="26"/>
                  </a:lnTo>
                  <a:lnTo>
                    <a:pt x="105" y="27"/>
                  </a:lnTo>
                  <a:lnTo>
                    <a:pt x="113" y="27"/>
                  </a:lnTo>
                  <a:lnTo>
                    <a:pt x="122" y="25"/>
                  </a:lnTo>
                  <a:lnTo>
                    <a:pt x="130" y="23"/>
                  </a:lnTo>
                  <a:lnTo>
                    <a:pt x="147" y="16"/>
                  </a:lnTo>
                  <a:lnTo>
                    <a:pt x="165" y="7"/>
                  </a:lnTo>
                  <a:lnTo>
                    <a:pt x="174" y="4"/>
                  </a:lnTo>
                  <a:lnTo>
                    <a:pt x="184" y="2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2" y="2"/>
                  </a:lnTo>
                  <a:lnTo>
                    <a:pt x="220" y="5"/>
                  </a:lnTo>
                  <a:lnTo>
                    <a:pt x="229" y="11"/>
                  </a:lnTo>
                  <a:lnTo>
                    <a:pt x="239" y="20"/>
                  </a:lnTo>
                  <a:lnTo>
                    <a:pt x="248" y="14"/>
                  </a:lnTo>
                  <a:lnTo>
                    <a:pt x="256" y="11"/>
                  </a:lnTo>
                  <a:lnTo>
                    <a:pt x="265" y="9"/>
                  </a:lnTo>
                  <a:lnTo>
                    <a:pt x="274" y="9"/>
                  </a:lnTo>
                  <a:lnTo>
                    <a:pt x="282" y="9"/>
                  </a:lnTo>
                  <a:lnTo>
                    <a:pt x="291" y="11"/>
                  </a:lnTo>
                  <a:lnTo>
                    <a:pt x="299" y="14"/>
                  </a:lnTo>
                  <a:lnTo>
                    <a:pt x="308" y="18"/>
                  </a:lnTo>
                  <a:lnTo>
                    <a:pt x="341" y="37"/>
                  </a:lnTo>
                  <a:lnTo>
                    <a:pt x="377" y="5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092240" y="3684960"/>
              <a:ext cx="132120" cy="76320"/>
            </a:xfrm>
            <a:custGeom>
              <a:avLst/>
              <a:gdLst/>
              <a:ahLst/>
              <a:rect l="l" t="t" r="r" b="b"/>
              <a:pathLst>
                <a:path w="446" h="290">
                  <a:moveTo>
                    <a:pt x="446" y="204"/>
                  </a:moveTo>
                  <a:lnTo>
                    <a:pt x="433" y="207"/>
                  </a:lnTo>
                  <a:lnTo>
                    <a:pt x="419" y="210"/>
                  </a:lnTo>
                  <a:lnTo>
                    <a:pt x="405" y="212"/>
                  </a:lnTo>
                  <a:lnTo>
                    <a:pt x="392" y="213"/>
                  </a:lnTo>
                  <a:lnTo>
                    <a:pt x="363" y="216"/>
                  </a:lnTo>
                  <a:lnTo>
                    <a:pt x="335" y="216"/>
                  </a:lnTo>
                  <a:lnTo>
                    <a:pt x="276" y="213"/>
                  </a:lnTo>
                  <a:lnTo>
                    <a:pt x="219" y="211"/>
                  </a:lnTo>
                  <a:lnTo>
                    <a:pt x="190" y="211"/>
                  </a:lnTo>
                  <a:lnTo>
                    <a:pt x="162" y="213"/>
                  </a:lnTo>
                  <a:lnTo>
                    <a:pt x="147" y="214"/>
                  </a:lnTo>
                  <a:lnTo>
                    <a:pt x="133" y="217"/>
                  </a:lnTo>
                  <a:lnTo>
                    <a:pt x="120" y="220"/>
                  </a:lnTo>
                  <a:lnTo>
                    <a:pt x="106" y="224"/>
                  </a:lnTo>
                  <a:lnTo>
                    <a:pt x="92" y="228"/>
                  </a:lnTo>
                  <a:lnTo>
                    <a:pt x="79" y="234"/>
                  </a:lnTo>
                  <a:lnTo>
                    <a:pt x="66" y="241"/>
                  </a:lnTo>
                  <a:lnTo>
                    <a:pt x="53" y="248"/>
                  </a:lnTo>
                  <a:lnTo>
                    <a:pt x="40" y="258"/>
                  </a:lnTo>
                  <a:lnTo>
                    <a:pt x="29" y="267"/>
                  </a:lnTo>
                  <a:lnTo>
                    <a:pt x="16" y="278"/>
                  </a:lnTo>
                  <a:lnTo>
                    <a:pt x="4" y="290"/>
                  </a:lnTo>
                  <a:lnTo>
                    <a:pt x="2" y="274"/>
                  </a:lnTo>
                  <a:lnTo>
                    <a:pt x="0" y="258"/>
                  </a:lnTo>
                  <a:lnTo>
                    <a:pt x="0" y="242"/>
                  </a:lnTo>
                  <a:lnTo>
                    <a:pt x="2" y="227"/>
                  </a:lnTo>
                  <a:lnTo>
                    <a:pt x="4" y="211"/>
                  </a:lnTo>
                  <a:lnTo>
                    <a:pt x="6" y="196"/>
                  </a:lnTo>
                  <a:lnTo>
                    <a:pt x="11" y="182"/>
                  </a:lnTo>
                  <a:lnTo>
                    <a:pt x="16" y="166"/>
                  </a:lnTo>
                  <a:lnTo>
                    <a:pt x="22" y="151"/>
                  </a:lnTo>
                  <a:lnTo>
                    <a:pt x="29" y="137"/>
                  </a:lnTo>
                  <a:lnTo>
                    <a:pt x="36" y="123"/>
                  </a:lnTo>
                  <a:lnTo>
                    <a:pt x="44" y="109"/>
                  </a:lnTo>
                  <a:lnTo>
                    <a:pt x="61" y="82"/>
                  </a:lnTo>
                  <a:lnTo>
                    <a:pt x="80" y="55"/>
                  </a:lnTo>
                  <a:lnTo>
                    <a:pt x="86" y="49"/>
                  </a:lnTo>
                  <a:lnTo>
                    <a:pt x="92" y="46"/>
                  </a:lnTo>
                  <a:lnTo>
                    <a:pt x="99" y="42"/>
                  </a:lnTo>
                  <a:lnTo>
                    <a:pt x="106" y="40"/>
                  </a:lnTo>
                  <a:lnTo>
                    <a:pt x="121" y="37"/>
                  </a:lnTo>
                  <a:lnTo>
                    <a:pt x="137" y="34"/>
                  </a:lnTo>
                  <a:lnTo>
                    <a:pt x="144" y="33"/>
                  </a:lnTo>
                  <a:lnTo>
                    <a:pt x="152" y="31"/>
                  </a:lnTo>
                  <a:lnTo>
                    <a:pt x="160" y="28"/>
                  </a:lnTo>
                  <a:lnTo>
                    <a:pt x="165" y="25"/>
                  </a:lnTo>
                  <a:lnTo>
                    <a:pt x="171" y="20"/>
                  </a:lnTo>
                  <a:lnTo>
                    <a:pt x="176" y="14"/>
                  </a:lnTo>
                  <a:lnTo>
                    <a:pt x="181" y="9"/>
                  </a:lnTo>
                  <a:lnTo>
                    <a:pt x="184" y="0"/>
                  </a:lnTo>
                  <a:lnTo>
                    <a:pt x="203" y="10"/>
                  </a:lnTo>
                  <a:lnTo>
                    <a:pt x="223" y="18"/>
                  </a:lnTo>
                  <a:lnTo>
                    <a:pt x="245" y="26"/>
                  </a:lnTo>
                  <a:lnTo>
                    <a:pt x="267" y="34"/>
                  </a:lnTo>
                  <a:lnTo>
                    <a:pt x="289" y="44"/>
                  </a:lnTo>
                  <a:lnTo>
                    <a:pt x="312" y="52"/>
                  </a:lnTo>
                  <a:lnTo>
                    <a:pt x="333" y="61"/>
                  </a:lnTo>
                  <a:lnTo>
                    <a:pt x="354" y="71"/>
                  </a:lnTo>
                  <a:lnTo>
                    <a:pt x="374" y="82"/>
                  </a:lnTo>
                  <a:lnTo>
                    <a:pt x="392" y="94"/>
                  </a:lnTo>
                  <a:lnTo>
                    <a:pt x="400" y="100"/>
                  </a:lnTo>
                  <a:lnTo>
                    <a:pt x="407" y="107"/>
                  </a:lnTo>
                  <a:lnTo>
                    <a:pt x="416" y="115"/>
                  </a:lnTo>
                  <a:lnTo>
                    <a:pt x="421" y="122"/>
                  </a:lnTo>
                  <a:lnTo>
                    <a:pt x="427" y="130"/>
                  </a:lnTo>
                  <a:lnTo>
                    <a:pt x="433" y="140"/>
                  </a:lnTo>
                  <a:lnTo>
                    <a:pt x="438" y="149"/>
                  </a:lnTo>
                  <a:lnTo>
                    <a:pt x="441" y="158"/>
                  </a:lnTo>
                  <a:lnTo>
                    <a:pt x="444" y="169"/>
                  </a:lnTo>
                  <a:lnTo>
                    <a:pt x="446" y="180"/>
                  </a:lnTo>
                  <a:lnTo>
                    <a:pt x="446" y="191"/>
                  </a:lnTo>
                  <a:lnTo>
                    <a:pt x="446" y="20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104840" y="3778560"/>
              <a:ext cx="128520" cy="55800"/>
            </a:xfrm>
            <a:custGeom>
              <a:avLst/>
              <a:gdLst/>
              <a:ahLst/>
              <a:rect l="l" t="t" r="r" b="b"/>
              <a:pathLst>
                <a:path w="431" h="210">
                  <a:moveTo>
                    <a:pt x="431" y="184"/>
                  </a:moveTo>
                  <a:lnTo>
                    <a:pt x="405" y="182"/>
                  </a:lnTo>
                  <a:lnTo>
                    <a:pt x="378" y="180"/>
                  </a:lnTo>
                  <a:lnTo>
                    <a:pt x="350" y="175"/>
                  </a:lnTo>
                  <a:lnTo>
                    <a:pt x="322" y="171"/>
                  </a:lnTo>
                  <a:lnTo>
                    <a:pt x="265" y="159"/>
                  </a:lnTo>
                  <a:lnTo>
                    <a:pt x="208" y="150"/>
                  </a:lnTo>
                  <a:lnTo>
                    <a:pt x="178" y="147"/>
                  </a:lnTo>
                  <a:lnTo>
                    <a:pt x="150" y="146"/>
                  </a:lnTo>
                  <a:lnTo>
                    <a:pt x="136" y="147"/>
                  </a:lnTo>
                  <a:lnTo>
                    <a:pt x="122" y="148"/>
                  </a:lnTo>
                  <a:lnTo>
                    <a:pt x="109" y="150"/>
                  </a:lnTo>
                  <a:lnTo>
                    <a:pt x="95" y="153"/>
                  </a:lnTo>
                  <a:lnTo>
                    <a:pt x="83" y="157"/>
                  </a:lnTo>
                  <a:lnTo>
                    <a:pt x="70" y="161"/>
                  </a:lnTo>
                  <a:lnTo>
                    <a:pt x="57" y="166"/>
                  </a:lnTo>
                  <a:lnTo>
                    <a:pt x="45" y="173"/>
                  </a:lnTo>
                  <a:lnTo>
                    <a:pt x="32" y="180"/>
                  </a:lnTo>
                  <a:lnTo>
                    <a:pt x="22" y="189"/>
                  </a:lnTo>
                  <a:lnTo>
                    <a:pt x="10" y="199"/>
                  </a:lnTo>
                  <a:lnTo>
                    <a:pt x="0" y="210"/>
                  </a:lnTo>
                  <a:lnTo>
                    <a:pt x="2" y="200"/>
                  </a:lnTo>
                  <a:lnTo>
                    <a:pt x="5" y="188"/>
                  </a:lnTo>
                  <a:lnTo>
                    <a:pt x="7" y="177"/>
                  </a:lnTo>
                  <a:lnTo>
                    <a:pt x="8" y="165"/>
                  </a:lnTo>
                  <a:lnTo>
                    <a:pt x="10" y="143"/>
                  </a:lnTo>
                  <a:lnTo>
                    <a:pt x="12" y="120"/>
                  </a:lnTo>
                  <a:lnTo>
                    <a:pt x="14" y="109"/>
                  </a:lnTo>
                  <a:lnTo>
                    <a:pt x="16" y="98"/>
                  </a:lnTo>
                  <a:lnTo>
                    <a:pt x="18" y="89"/>
                  </a:lnTo>
                  <a:lnTo>
                    <a:pt x="23" y="78"/>
                  </a:lnTo>
                  <a:lnTo>
                    <a:pt x="28" y="69"/>
                  </a:lnTo>
                  <a:lnTo>
                    <a:pt x="33" y="61"/>
                  </a:lnTo>
                  <a:lnTo>
                    <a:pt x="42" y="53"/>
                  </a:lnTo>
                  <a:lnTo>
                    <a:pt x="51" y="44"/>
                  </a:lnTo>
                  <a:lnTo>
                    <a:pt x="56" y="47"/>
                  </a:lnTo>
                  <a:lnTo>
                    <a:pt x="60" y="49"/>
                  </a:lnTo>
                  <a:lnTo>
                    <a:pt x="66" y="50"/>
                  </a:lnTo>
                  <a:lnTo>
                    <a:pt x="72" y="50"/>
                  </a:lnTo>
                  <a:lnTo>
                    <a:pt x="85" y="50"/>
                  </a:lnTo>
                  <a:lnTo>
                    <a:pt x="100" y="48"/>
                  </a:lnTo>
                  <a:lnTo>
                    <a:pt x="115" y="43"/>
                  </a:lnTo>
                  <a:lnTo>
                    <a:pt x="129" y="39"/>
                  </a:lnTo>
                  <a:lnTo>
                    <a:pt x="143" y="32"/>
                  </a:lnTo>
                  <a:lnTo>
                    <a:pt x="155" y="24"/>
                  </a:lnTo>
                  <a:lnTo>
                    <a:pt x="141" y="0"/>
                  </a:lnTo>
                  <a:lnTo>
                    <a:pt x="182" y="12"/>
                  </a:lnTo>
                  <a:lnTo>
                    <a:pt x="225" y="26"/>
                  </a:lnTo>
                  <a:lnTo>
                    <a:pt x="246" y="33"/>
                  </a:lnTo>
                  <a:lnTo>
                    <a:pt x="267" y="42"/>
                  </a:lnTo>
                  <a:lnTo>
                    <a:pt x="288" y="51"/>
                  </a:lnTo>
                  <a:lnTo>
                    <a:pt x="309" y="62"/>
                  </a:lnTo>
                  <a:lnTo>
                    <a:pt x="329" y="72"/>
                  </a:lnTo>
                  <a:lnTo>
                    <a:pt x="348" y="85"/>
                  </a:lnTo>
                  <a:lnTo>
                    <a:pt x="366" y="98"/>
                  </a:lnTo>
                  <a:lnTo>
                    <a:pt x="382" y="113"/>
                  </a:lnTo>
                  <a:lnTo>
                    <a:pt x="397" y="129"/>
                  </a:lnTo>
                  <a:lnTo>
                    <a:pt x="410" y="145"/>
                  </a:lnTo>
                  <a:lnTo>
                    <a:pt x="416" y="154"/>
                  </a:lnTo>
                  <a:lnTo>
                    <a:pt x="422" y="164"/>
                  </a:lnTo>
                  <a:lnTo>
                    <a:pt x="426" y="173"/>
                  </a:lnTo>
                  <a:lnTo>
                    <a:pt x="431" y="18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20360" y="3856680"/>
              <a:ext cx="94680" cy="610920"/>
            </a:xfrm>
            <a:custGeom>
              <a:avLst/>
              <a:gdLst/>
              <a:ahLst/>
              <a:rect l="l" t="t" r="r" b="b"/>
              <a:pathLst>
                <a:path w="320" h="2307">
                  <a:moveTo>
                    <a:pt x="296" y="546"/>
                  </a:moveTo>
                  <a:lnTo>
                    <a:pt x="295" y="584"/>
                  </a:lnTo>
                  <a:lnTo>
                    <a:pt x="296" y="625"/>
                  </a:lnTo>
                  <a:lnTo>
                    <a:pt x="299" y="667"/>
                  </a:lnTo>
                  <a:lnTo>
                    <a:pt x="301" y="709"/>
                  </a:lnTo>
                  <a:lnTo>
                    <a:pt x="306" y="797"/>
                  </a:lnTo>
                  <a:lnTo>
                    <a:pt x="308" y="886"/>
                  </a:lnTo>
                  <a:lnTo>
                    <a:pt x="308" y="931"/>
                  </a:lnTo>
                  <a:lnTo>
                    <a:pt x="307" y="974"/>
                  </a:lnTo>
                  <a:lnTo>
                    <a:pt x="305" y="995"/>
                  </a:lnTo>
                  <a:lnTo>
                    <a:pt x="302" y="1017"/>
                  </a:lnTo>
                  <a:lnTo>
                    <a:pt x="300" y="1037"/>
                  </a:lnTo>
                  <a:lnTo>
                    <a:pt x="296" y="1058"/>
                  </a:lnTo>
                  <a:lnTo>
                    <a:pt x="293" y="1079"/>
                  </a:lnTo>
                  <a:lnTo>
                    <a:pt x="288" y="1099"/>
                  </a:lnTo>
                  <a:lnTo>
                    <a:pt x="282" y="1118"/>
                  </a:lnTo>
                  <a:lnTo>
                    <a:pt x="275" y="1138"/>
                  </a:lnTo>
                  <a:lnTo>
                    <a:pt x="268" y="1156"/>
                  </a:lnTo>
                  <a:lnTo>
                    <a:pt x="260" y="1174"/>
                  </a:lnTo>
                  <a:lnTo>
                    <a:pt x="251" y="1191"/>
                  </a:lnTo>
                  <a:lnTo>
                    <a:pt x="240" y="1209"/>
                  </a:lnTo>
                  <a:lnTo>
                    <a:pt x="220" y="1340"/>
                  </a:lnTo>
                  <a:lnTo>
                    <a:pt x="213" y="1340"/>
                  </a:lnTo>
                  <a:lnTo>
                    <a:pt x="199" y="1400"/>
                  </a:lnTo>
                  <a:lnTo>
                    <a:pt x="186" y="1460"/>
                  </a:lnTo>
                  <a:lnTo>
                    <a:pt x="176" y="1521"/>
                  </a:lnTo>
                  <a:lnTo>
                    <a:pt x="165" y="1582"/>
                  </a:lnTo>
                  <a:lnTo>
                    <a:pt x="156" y="1644"/>
                  </a:lnTo>
                  <a:lnTo>
                    <a:pt x="148" y="1705"/>
                  </a:lnTo>
                  <a:lnTo>
                    <a:pt x="141" y="1767"/>
                  </a:lnTo>
                  <a:lnTo>
                    <a:pt x="133" y="1828"/>
                  </a:lnTo>
                  <a:lnTo>
                    <a:pt x="126" y="1890"/>
                  </a:lnTo>
                  <a:lnTo>
                    <a:pt x="117" y="1950"/>
                  </a:lnTo>
                  <a:lnTo>
                    <a:pt x="110" y="2011"/>
                  </a:lnTo>
                  <a:lnTo>
                    <a:pt x="101" y="2072"/>
                  </a:lnTo>
                  <a:lnTo>
                    <a:pt x="92" y="2132"/>
                  </a:lnTo>
                  <a:lnTo>
                    <a:pt x="82" y="2191"/>
                  </a:lnTo>
                  <a:lnTo>
                    <a:pt x="71" y="2250"/>
                  </a:lnTo>
                  <a:lnTo>
                    <a:pt x="58" y="2307"/>
                  </a:lnTo>
                  <a:lnTo>
                    <a:pt x="46" y="2290"/>
                  </a:lnTo>
                  <a:lnTo>
                    <a:pt x="36" y="2272"/>
                  </a:lnTo>
                  <a:lnTo>
                    <a:pt x="26" y="2255"/>
                  </a:lnTo>
                  <a:lnTo>
                    <a:pt x="19" y="2237"/>
                  </a:lnTo>
                  <a:lnTo>
                    <a:pt x="12" y="2218"/>
                  </a:lnTo>
                  <a:lnTo>
                    <a:pt x="7" y="2200"/>
                  </a:lnTo>
                  <a:lnTo>
                    <a:pt x="4" y="2182"/>
                  </a:lnTo>
                  <a:lnTo>
                    <a:pt x="2" y="2163"/>
                  </a:lnTo>
                  <a:lnTo>
                    <a:pt x="0" y="2145"/>
                  </a:lnTo>
                  <a:lnTo>
                    <a:pt x="0" y="2126"/>
                  </a:lnTo>
                  <a:lnTo>
                    <a:pt x="0" y="2107"/>
                  </a:lnTo>
                  <a:lnTo>
                    <a:pt x="2" y="2088"/>
                  </a:lnTo>
                  <a:lnTo>
                    <a:pt x="4" y="2070"/>
                  </a:lnTo>
                  <a:lnTo>
                    <a:pt x="6" y="2051"/>
                  </a:lnTo>
                  <a:lnTo>
                    <a:pt x="10" y="2032"/>
                  </a:lnTo>
                  <a:lnTo>
                    <a:pt x="15" y="2014"/>
                  </a:lnTo>
                  <a:lnTo>
                    <a:pt x="33" y="1939"/>
                  </a:lnTo>
                  <a:lnTo>
                    <a:pt x="54" y="1865"/>
                  </a:lnTo>
                  <a:lnTo>
                    <a:pt x="64" y="1829"/>
                  </a:lnTo>
                  <a:lnTo>
                    <a:pt x="72" y="1793"/>
                  </a:lnTo>
                  <a:lnTo>
                    <a:pt x="75" y="1775"/>
                  </a:lnTo>
                  <a:lnTo>
                    <a:pt x="79" y="1757"/>
                  </a:lnTo>
                  <a:lnTo>
                    <a:pt x="80" y="1741"/>
                  </a:lnTo>
                  <a:lnTo>
                    <a:pt x="82" y="1724"/>
                  </a:lnTo>
                  <a:lnTo>
                    <a:pt x="86" y="1672"/>
                  </a:lnTo>
                  <a:lnTo>
                    <a:pt x="89" y="1619"/>
                  </a:lnTo>
                  <a:lnTo>
                    <a:pt x="93" y="1566"/>
                  </a:lnTo>
                  <a:lnTo>
                    <a:pt x="94" y="1513"/>
                  </a:lnTo>
                  <a:lnTo>
                    <a:pt x="94" y="1486"/>
                  </a:lnTo>
                  <a:lnTo>
                    <a:pt x="93" y="1460"/>
                  </a:lnTo>
                  <a:lnTo>
                    <a:pt x="91" y="1433"/>
                  </a:lnTo>
                  <a:lnTo>
                    <a:pt x="88" y="1407"/>
                  </a:lnTo>
                  <a:lnTo>
                    <a:pt x="84" y="1381"/>
                  </a:lnTo>
                  <a:lnTo>
                    <a:pt x="79" y="1354"/>
                  </a:lnTo>
                  <a:lnTo>
                    <a:pt x="72" y="1328"/>
                  </a:lnTo>
                  <a:lnTo>
                    <a:pt x="65" y="1302"/>
                  </a:lnTo>
                  <a:lnTo>
                    <a:pt x="75" y="1302"/>
                  </a:lnTo>
                  <a:lnTo>
                    <a:pt x="74" y="1264"/>
                  </a:lnTo>
                  <a:lnTo>
                    <a:pt x="74" y="1225"/>
                  </a:lnTo>
                  <a:lnTo>
                    <a:pt x="75" y="1187"/>
                  </a:lnTo>
                  <a:lnTo>
                    <a:pt x="76" y="1149"/>
                  </a:lnTo>
                  <a:lnTo>
                    <a:pt x="79" y="1112"/>
                  </a:lnTo>
                  <a:lnTo>
                    <a:pt x="81" y="1074"/>
                  </a:lnTo>
                  <a:lnTo>
                    <a:pt x="85" y="1037"/>
                  </a:lnTo>
                  <a:lnTo>
                    <a:pt x="89" y="1000"/>
                  </a:lnTo>
                  <a:lnTo>
                    <a:pt x="99" y="927"/>
                  </a:lnTo>
                  <a:lnTo>
                    <a:pt x="110" y="855"/>
                  </a:lnTo>
                  <a:lnTo>
                    <a:pt x="123" y="782"/>
                  </a:lnTo>
                  <a:lnTo>
                    <a:pt x="137" y="711"/>
                  </a:lnTo>
                  <a:lnTo>
                    <a:pt x="151" y="639"/>
                  </a:lnTo>
                  <a:lnTo>
                    <a:pt x="167" y="569"/>
                  </a:lnTo>
                  <a:lnTo>
                    <a:pt x="181" y="498"/>
                  </a:lnTo>
                  <a:lnTo>
                    <a:pt x="196" y="428"/>
                  </a:lnTo>
                  <a:lnTo>
                    <a:pt x="209" y="357"/>
                  </a:lnTo>
                  <a:lnTo>
                    <a:pt x="222" y="286"/>
                  </a:lnTo>
                  <a:lnTo>
                    <a:pt x="232" y="216"/>
                  </a:lnTo>
                  <a:lnTo>
                    <a:pt x="240" y="145"/>
                  </a:lnTo>
                  <a:lnTo>
                    <a:pt x="220" y="0"/>
                  </a:lnTo>
                  <a:lnTo>
                    <a:pt x="237" y="11"/>
                  </a:lnTo>
                  <a:lnTo>
                    <a:pt x="251" y="23"/>
                  </a:lnTo>
                  <a:lnTo>
                    <a:pt x="265" y="36"/>
                  </a:lnTo>
                  <a:lnTo>
                    <a:pt x="275" y="50"/>
                  </a:lnTo>
                  <a:lnTo>
                    <a:pt x="286" y="63"/>
                  </a:lnTo>
                  <a:lnTo>
                    <a:pt x="294" y="78"/>
                  </a:lnTo>
                  <a:lnTo>
                    <a:pt x="301" y="92"/>
                  </a:lnTo>
                  <a:lnTo>
                    <a:pt x="307" y="107"/>
                  </a:lnTo>
                  <a:lnTo>
                    <a:pt x="312" y="122"/>
                  </a:lnTo>
                  <a:lnTo>
                    <a:pt x="315" y="139"/>
                  </a:lnTo>
                  <a:lnTo>
                    <a:pt x="317" y="155"/>
                  </a:lnTo>
                  <a:lnTo>
                    <a:pt x="319" y="171"/>
                  </a:lnTo>
                  <a:lnTo>
                    <a:pt x="320" y="189"/>
                  </a:lnTo>
                  <a:lnTo>
                    <a:pt x="320" y="207"/>
                  </a:lnTo>
                  <a:lnTo>
                    <a:pt x="319" y="224"/>
                  </a:lnTo>
                  <a:lnTo>
                    <a:pt x="317" y="242"/>
                  </a:lnTo>
                  <a:lnTo>
                    <a:pt x="309" y="315"/>
                  </a:lnTo>
                  <a:lnTo>
                    <a:pt x="299" y="391"/>
                  </a:lnTo>
                  <a:lnTo>
                    <a:pt x="295" y="430"/>
                  </a:lnTo>
                  <a:lnTo>
                    <a:pt x="293" y="469"/>
                  </a:lnTo>
                  <a:lnTo>
                    <a:pt x="292" y="488"/>
                  </a:lnTo>
                  <a:lnTo>
                    <a:pt x="293" y="507"/>
                  </a:lnTo>
                  <a:lnTo>
                    <a:pt x="294" y="526"/>
                  </a:lnTo>
                  <a:lnTo>
                    <a:pt x="296" y="54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103400" y="3875400"/>
              <a:ext cx="110520" cy="51120"/>
            </a:xfrm>
            <a:custGeom>
              <a:avLst/>
              <a:gdLst/>
              <a:ahLst/>
              <a:rect l="l" t="t" r="r" b="b"/>
              <a:pathLst>
                <a:path w="373" h="187">
                  <a:moveTo>
                    <a:pt x="279" y="55"/>
                  </a:moveTo>
                  <a:lnTo>
                    <a:pt x="373" y="101"/>
                  </a:lnTo>
                  <a:lnTo>
                    <a:pt x="353" y="108"/>
                  </a:lnTo>
                  <a:lnTo>
                    <a:pt x="334" y="113"/>
                  </a:lnTo>
                  <a:lnTo>
                    <a:pt x="314" y="118"/>
                  </a:lnTo>
                  <a:lnTo>
                    <a:pt x="293" y="123"/>
                  </a:lnTo>
                  <a:lnTo>
                    <a:pt x="252" y="131"/>
                  </a:lnTo>
                  <a:lnTo>
                    <a:pt x="210" y="138"/>
                  </a:lnTo>
                  <a:lnTo>
                    <a:pt x="169" y="146"/>
                  </a:lnTo>
                  <a:lnTo>
                    <a:pt x="128" y="153"/>
                  </a:lnTo>
                  <a:lnTo>
                    <a:pt x="108" y="158"/>
                  </a:lnTo>
                  <a:lnTo>
                    <a:pt x="88" y="164"/>
                  </a:lnTo>
                  <a:lnTo>
                    <a:pt x="70" y="170"/>
                  </a:lnTo>
                  <a:lnTo>
                    <a:pt x="51" y="177"/>
                  </a:lnTo>
                  <a:lnTo>
                    <a:pt x="37" y="177"/>
                  </a:lnTo>
                  <a:lnTo>
                    <a:pt x="23" y="177"/>
                  </a:lnTo>
                  <a:lnTo>
                    <a:pt x="16" y="177"/>
                  </a:lnTo>
                  <a:lnTo>
                    <a:pt x="9" y="178"/>
                  </a:lnTo>
                  <a:lnTo>
                    <a:pt x="4" y="181"/>
                  </a:lnTo>
                  <a:lnTo>
                    <a:pt x="0" y="187"/>
                  </a:lnTo>
                  <a:lnTo>
                    <a:pt x="5" y="161"/>
                  </a:lnTo>
                  <a:lnTo>
                    <a:pt x="12" y="136"/>
                  </a:lnTo>
                  <a:lnTo>
                    <a:pt x="22" y="111"/>
                  </a:lnTo>
                  <a:lnTo>
                    <a:pt x="32" y="87"/>
                  </a:lnTo>
                  <a:lnTo>
                    <a:pt x="39" y="75"/>
                  </a:lnTo>
                  <a:lnTo>
                    <a:pt x="46" y="63"/>
                  </a:lnTo>
                  <a:lnTo>
                    <a:pt x="55" y="53"/>
                  </a:lnTo>
                  <a:lnTo>
                    <a:pt x="63" y="41"/>
                  </a:lnTo>
                  <a:lnTo>
                    <a:pt x="71" y="30"/>
                  </a:lnTo>
                  <a:lnTo>
                    <a:pt x="81" y="20"/>
                  </a:lnTo>
                  <a:lnTo>
                    <a:pt x="92" y="11"/>
                  </a:lnTo>
                  <a:lnTo>
                    <a:pt x="102" y="0"/>
                  </a:lnTo>
                  <a:lnTo>
                    <a:pt x="108" y="7"/>
                  </a:lnTo>
                  <a:lnTo>
                    <a:pt x="114" y="14"/>
                  </a:lnTo>
                  <a:lnTo>
                    <a:pt x="120" y="19"/>
                  </a:lnTo>
                  <a:lnTo>
                    <a:pt x="126" y="22"/>
                  </a:lnTo>
                  <a:lnTo>
                    <a:pt x="133" y="26"/>
                  </a:lnTo>
                  <a:lnTo>
                    <a:pt x="139" y="28"/>
                  </a:lnTo>
                  <a:lnTo>
                    <a:pt x="146" y="29"/>
                  </a:lnTo>
                  <a:lnTo>
                    <a:pt x="152" y="29"/>
                  </a:lnTo>
                  <a:lnTo>
                    <a:pt x="164" y="29"/>
                  </a:lnTo>
                  <a:lnTo>
                    <a:pt x="178" y="27"/>
                  </a:lnTo>
                  <a:lnTo>
                    <a:pt x="191" y="22"/>
                  </a:lnTo>
                  <a:lnTo>
                    <a:pt x="204" y="19"/>
                  </a:lnTo>
                  <a:lnTo>
                    <a:pt x="216" y="15"/>
                  </a:lnTo>
                  <a:lnTo>
                    <a:pt x="228" y="12"/>
                  </a:lnTo>
                  <a:lnTo>
                    <a:pt x="233" y="12"/>
                  </a:lnTo>
                  <a:lnTo>
                    <a:pt x="239" y="11"/>
                  </a:lnTo>
                  <a:lnTo>
                    <a:pt x="244" y="12"/>
                  </a:lnTo>
                  <a:lnTo>
                    <a:pt x="250" y="12"/>
                  </a:lnTo>
                  <a:lnTo>
                    <a:pt x="254" y="14"/>
                  </a:lnTo>
                  <a:lnTo>
                    <a:pt x="259" y="16"/>
                  </a:lnTo>
                  <a:lnTo>
                    <a:pt x="263" y="20"/>
                  </a:lnTo>
                  <a:lnTo>
                    <a:pt x="267" y="25"/>
                  </a:lnTo>
                  <a:lnTo>
                    <a:pt x="271" y="30"/>
                  </a:lnTo>
                  <a:lnTo>
                    <a:pt x="273" y="37"/>
                  </a:lnTo>
                  <a:lnTo>
                    <a:pt x="277" y="46"/>
                  </a:lnTo>
                  <a:lnTo>
                    <a:pt x="279" y="55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122840" y="3967560"/>
              <a:ext cx="74880" cy="15840"/>
            </a:xfrm>
            <a:custGeom>
              <a:avLst/>
              <a:gdLst/>
              <a:ahLst/>
              <a:rect l="l" t="t" r="r" b="b"/>
              <a:pathLst>
                <a:path w="247" h="59">
                  <a:moveTo>
                    <a:pt x="247" y="21"/>
                  </a:moveTo>
                  <a:lnTo>
                    <a:pt x="219" y="24"/>
                  </a:lnTo>
                  <a:lnTo>
                    <a:pt x="189" y="28"/>
                  </a:lnTo>
                  <a:lnTo>
                    <a:pt x="157" y="30"/>
                  </a:lnTo>
                  <a:lnTo>
                    <a:pt x="125" y="33"/>
                  </a:lnTo>
                  <a:lnTo>
                    <a:pt x="92" y="37"/>
                  </a:lnTo>
                  <a:lnTo>
                    <a:pt x="60" y="43"/>
                  </a:lnTo>
                  <a:lnTo>
                    <a:pt x="44" y="46"/>
                  </a:lnTo>
                  <a:lnTo>
                    <a:pt x="29" y="50"/>
                  </a:lnTo>
                  <a:lnTo>
                    <a:pt x="14" y="55"/>
                  </a:lnTo>
                  <a:lnTo>
                    <a:pt x="0" y="59"/>
                  </a:lnTo>
                  <a:lnTo>
                    <a:pt x="4" y="48"/>
                  </a:lnTo>
                  <a:lnTo>
                    <a:pt x="12" y="36"/>
                  </a:lnTo>
                  <a:lnTo>
                    <a:pt x="22" y="24"/>
                  </a:lnTo>
                  <a:lnTo>
                    <a:pt x="32" y="14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0" y="5"/>
                  </a:lnTo>
                  <a:lnTo>
                    <a:pt x="56" y="5"/>
                  </a:lnTo>
                  <a:lnTo>
                    <a:pt x="62" y="7"/>
                  </a:lnTo>
                  <a:lnTo>
                    <a:pt x="67" y="9"/>
                  </a:lnTo>
                  <a:lnTo>
                    <a:pt x="73" y="14"/>
                  </a:lnTo>
                  <a:lnTo>
                    <a:pt x="79" y="21"/>
                  </a:lnTo>
                  <a:lnTo>
                    <a:pt x="100" y="11"/>
                  </a:lnTo>
                  <a:lnTo>
                    <a:pt x="121" y="5"/>
                  </a:lnTo>
                  <a:lnTo>
                    <a:pt x="132" y="3"/>
                  </a:lnTo>
                  <a:lnTo>
                    <a:pt x="142" y="2"/>
                  </a:lnTo>
                  <a:lnTo>
                    <a:pt x="153" y="1"/>
                  </a:lnTo>
                  <a:lnTo>
                    <a:pt x="163" y="0"/>
                  </a:lnTo>
                  <a:lnTo>
                    <a:pt x="174" y="1"/>
                  </a:lnTo>
                  <a:lnTo>
                    <a:pt x="184" y="2"/>
                  </a:lnTo>
                  <a:lnTo>
                    <a:pt x="195" y="3"/>
                  </a:lnTo>
                  <a:lnTo>
                    <a:pt x="205" y="5"/>
                  </a:lnTo>
                  <a:lnTo>
                    <a:pt x="226" y="11"/>
                  </a:lnTo>
                  <a:lnTo>
                    <a:pt x="247" y="21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142640" y="4016880"/>
              <a:ext cx="49680" cy="20520"/>
            </a:xfrm>
            <a:custGeom>
              <a:avLst/>
              <a:gdLst/>
              <a:ahLst/>
              <a:rect l="l" t="t" r="r" b="b"/>
              <a:pathLst>
                <a:path w="166" h="81">
                  <a:moveTo>
                    <a:pt x="158" y="60"/>
                  </a:moveTo>
                  <a:lnTo>
                    <a:pt x="149" y="68"/>
                  </a:lnTo>
                  <a:lnTo>
                    <a:pt x="140" y="74"/>
                  </a:lnTo>
                  <a:lnTo>
                    <a:pt x="131" y="77"/>
                  </a:lnTo>
                  <a:lnTo>
                    <a:pt x="122" y="80"/>
                  </a:lnTo>
                  <a:lnTo>
                    <a:pt x="112" y="81"/>
                  </a:lnTo>
                  <a:lnTo>
                    <a:pt x="103" y="80"/>
                  </a:lnTo>
                  <a:lnTo>
                    <a:pt x="93" y="78"/>
                  </a:lnTo>
                  <a:lnTo>
                    <a:pt x="84" y="77"/>
                  </a:lnTo>
                  <a:lnTo>
                    <a:pt x="64" y="73"/>
                  </a:lnTo>
                  <a:lnTo>
                    <a:pt x="43" y="68"/>
                  </a:lnTo>
                  <a:lnTo>
                    <a:pt x="32" y="67"/>
                  </a:lnTo>
                  <a:lnTo>
                    <a:pt x="23" y="67"/>
                  </a:lnTo>
                  <a:lnTo>
                    <a:pt x="13" y="68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1" y="54"/>
                  </a:lnTo>
                  <a:lnTo>
                    <a:pt x="4" y="47"/>
                  </a:lnTo>
                  <a:lnTo>
                    <a:pt x="10" y="41"/>
                  </a:lnTo>
                  <a:lnTo>
                    <a:pt x="17" y="36"/>
                  </a:lnTo>
                  <a:lnTo>
                    <a:pt x="23" y="30"/>
                  </a:lnTo>
                  <a:lnTo>
                    <a:pt x="25" y="27"/>
                  </a:lnTo>
                  <a:lnTo>
                    <a:pt x="28" y="23"/>
                  </a:lnTo>
                  <a:lnTo>
                    <a:pt x="29" y="20"/>
                  </a:lnTo>
                  <a:lnTo>
                    <a:pt x="30" y="15"/>
                  </a:lnTo>
                  <a:lnTo>
                    <a:pt x="28" y="20"/>
                  </a:lnTo>
                  <a:lnTo>
                    <a:pt x="27" y="23"/>
                  </a:lnTo>
                  <a:lnTo>
                    <a:pt x="25" y="27"/>
                  </a:lnTo>
                  <a:lnTo>
                    <a:pt x="27" y="29"/>
                  </a:lnTo>
                  <a:lnTo>
                    <a:pt x="29" y="35"/>
                  </a:lnTo>
                  <a:lnTo>
                    <a:pt x="32" y="40"/>
                  </a:lnTo>
                  <a:lnTo>
                    <a:pt x="44" y="46"/>
                  </a:lnTo>
                  <a:lnTo>
                    <a:pt x="53" y="53"/>
                  </a:lnTo>
                  <a:lnTo>
                    <a:pt x="71" y="41"/>
                  </a:lnTo>
                  <a:lnTo>
                    <a:pt x="91" y="27"/>
                  </a:lnTo>
                  <a:lnTo>
                    <a:pt x="103" y="20"/>
                  </a:lnTo>
                  <a:lnTo>
                    <a:pt x="113" y="13"/>
                  </a:lnTo>
                  <a:lnTo>
                    <a:pt x="124" y="7"/>
                  </a:lnTo>
                  <a:lnTo>
                    <a:pt x="134" y="4"/>
                  </a:lnTo>
                  <a:lnTo>
                    <a:pt x="144" y="1"/>
                  </a:lnTo>
                  <a:lnTo>
                    <a:pt x="152" y="0"/>
                  </a:lnTo>
                  <a:lnTo>
                    <a:pt x="155" y="1"/>
                  </a:lnTo>
                  <a:lnTo>
                    <a:pt x="158" y="2"/>
                  </a:lnTo>
                  <a:lnTo>
                    <a:pt x="160" y="5"/>
                  </a:lnTo>
                  <a:lnTo>
                    <a:pt x="162" y="7"/>
                  </a:lnTo>
                  <a:lnTo>
                    <a:pt x="165" y="11"/>
                  </a:lnTo>
                  <a:lnTo>
                    <a:pt x="165" y="15"/>
                  </a:lnTo>
                  <a:lnTo>
                    <a:pt x="166" y="20"/>
                  </a:lnTo>
                  <a:lnTo>
                    <a:pt x="166" y="26"/>
                  </a:lnTo>
                  <a:lnTo>
                    <a:pt x="163" y="41"/>
                  </a:lnTo>
                  <a:lnTo>
                    <a:pt x="158" y="6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60520" y="4032720"/>
              <a:ext cx="57600" cy="598320"/>
            </a:xfrm>
            <a:custGeom>
              <a:avLst/>
              <a:gdLst/>
              <a:ahLst/>
              <a:rect l="l" t="t" r="r" b="b"/>
              <a:pathLst>
                <a:path w="189" h="2263">
                  <a:moveTo>
                    <a:pt x="162" y="435"/>
                  </a:moveTo>
                  <a:lnTo>
                    <a:pt x="152" y="535"/>
                  </a:lnTo>
                  <a:lnTo>
                    <a:pt x="143" y="634"/>
                  </a:lnTo>
                  <a:lnTo>
                    <a:pt x="136" y="732"/>
                  </a:lnTo>
                  <a:lnTo>
                    <a:pt x="129" y="828"/>
                  </a:lnTo>
                  <a:lnTo>
                    <a:pt x="123" y="923"/>
                  </a:lnTo>
                  <a:lnTo>
                    <a:pt x="120" y="1016"/>
                  </a:lnTo>
                  <a:lnTo>
                    <a:pt x="116" y="1110"/>
                  </a:lnTo>
                  <a:lnTo>
                    <a:pt x="116" y="1202"/>
                  </a:lnTo>
                  <a:lnTo>
                    <a:pt x="116" y="1294"/>
                  </a:lnTo>
                  <a:lnTo>
                    <a:pt x="120" y="1387"/>
                  </a:lnTo>
                  <a:lnTo>
                    <a:pt x="122" y="1434"/>
                  </a:lnTo>
                  <a:lnTo>
                    <a:pt x="124" y="1479"/>
                  </a:lnTo>
                  <a:lnTo>
                    <a:pt x="128" y="1526"/>
                  </a:lnTo>
                  <a:lnTo>
                    <a:pt x="133" y="1573"/>
                  </a:lnTo>
                  <a:lnTo>
                    <a:pt x="137" y="1618"/>
                  </a:lnTo>
                  <a:lnTo>
                    <a:pt x="142" y="1665"/>
                  </a:lnTo>
                  <a:lnTo>
                    <a:pt x="148" y="1712"/>
                  </a:lnTo>
                  <a:lnTo>
                    <a:pt x="155" y="1759"/>
                  </a:lnTo>
                  <a:lnTo>
                    <a:pt x="162" y="1806"/>
                  </a:lnTo>
                  <a:lnTo>
                    <a:pt x="170" y="1854"/>
                  </a:lnTo>
                  <a:lnTo>
                    <a:pt x="179" y="1901"/>
                  </a:lnTo>
                  <a:lnTo>
                    <a:pt x="189" y="1948"/>
                  </a:lnTo>
                  <a:lnTo>
                    <a:pt x="175" y="2263"/>
                  </a:lnTo>
                  <a:lnTo>
                    <a:pt x="170" y="2234"/>
                  </a:lnTo>
                  <a:lnTo>
                    <a:pt x="164" y="2206"/>
                  </a:lnTo>
                  <a:lnTo>
                    <a:pt x="158" y="2176"/>
                  </a:lnTo>
                  <a:lnTo>
                    <a:pt x="151" y="2148"/>
                  </a:lnTo>
                  <a:lnTo>
                    <a:pt x="135" y="2092"/>
                  </a:lnTo>
                  <a:lnTo>
                    <a:pt x="117" y="2036"/>
                  </a:lnTo>
                  <a:lnTo>
                    <a:pt x="100" y="1981"/>
                  </a:lnTo>
                  <a:lnTo>
                    <a:pt x="81" y="1926"/>
                  </a:lnTo>
                  <a:lnTo>
                    <a:pt x="62" y="1871"/>
                  </a:lnTo>
                  <a:lnTo>
                    <a:pt x="46" y="1816"/>
                  </a:lnTo>
                  <a:lnTo>
                    <a:pt x="38" y="1789"/>
                  </a:lnTo>
                  <a:lnTo>
                    <a:pt x="31" y="1762"/>
                  </a:lnTo>
                  <a:lnTo>
                    <a:pt x="24" y="1734"/>
                  </a:lnTo>
                  <a:lnTo>
                    <a:pt x="18" y="1707"/>
                  </a:lnTo>
                  <a:lnTo>
                    <a:pt x="12" y="1679"/>
                  </a:lnTo>
                  <a:lnTo>
                    <a:pt x="9" y="1651"/>
                  </a:lnTo>
                  <a:lnTo>
                    <a:pt x="5" y="1623"/>
                  </a:lnTo>
                  <a:lnTo>
                    <a:pt x="3" y="1595"/>
                  </a:lnTo>
                  <a:lnTo>
                    <a:pt x="0" y="1567"/>
                  </a:lnTo>
                  <a:lnTo>
                    <a:pt x="0" y="1539"/>
                  </a:lnTo>
                  <a:lnTo>
                    <a:pt x="2" y="1511"/>
                  </a:lnTo>
                  <a:lnTo>
                    <a:pt x="5" y="1482"/>
                  </a:lnTo>
                  <a:lnTo>
                    <a:pt x="9" y="1454"/>
                  </a:lnTo>
                  <a:lnTo>
                    <a:pt x="14" y="1424"/>
                  </a:lnTo>
                  <a:lnTo>
                    <a:pt x="21" y="1395"/>
                  </a:lnTo>
                  <a:lnTo>
                    <a:pt x="30" y="1365"/>
                  </a:lnTo>
                  <a:lnTo>
                    <a:pt x="35" y="1327"/>
                  </a:lnTo>
                  <a:lnTo>
                    <a:pt x="39" y="1289"/>
                  </a:lnTo>
                  <a:lnTo>
                    <a:pt x="41" y="1251"/>
                  </a:lnTo>
                  <a:lnTo>
                    <a:pt x="43" y="1213"/>
                  </a:lnTo>
                  <a:lnTo>
                    <a:pt x="44" y="1174"/>
                  </a:lnTo>
                  <a:lnTo>
                    <a:pt x="43" y="1137"/>
                  </a:lnTo>
                  <a:lnTo>
                    <a:pt x="41" y="1098"/>
                  </a:lnTo>
                  <a:lnTo>
                    <a:pt x="39" y="1059"/>
                  </a:lnTo>
                  <a:lnTo>
                    <a:pt x="33" y="983"/>
                  </a:lnTo>
                  <a:lnTo>
                    <a:pt x="26" y="907"/>
                  </a:lnTo>
                  <a:lnTo>
                    <a:pt x="18" y="832"/>
                  </a:lnTo>
                  <a:lnTo>
                    <a:pt x="11" y="758"/>
                  </a:lnTo>
                  <a:lnTo>
                    <a:pt x="5" y="684"/>
                  </a:lnTo>
                  <a:lnTo>
                    <a:pt x="2" y="610"/>
                  </a:lnTo>
                  <a:lnTo>
                    <a:pt x="0" y="574"/>
                  </a:lnTo>
                  <a:lnTo>
                    <a:pt x="0" y="538"/>
                  </a:lnTo>
                  <a:lnTo>
                    <a:pt x="2" y="503"/>
                  </a:lnTo>
                  <a:lnTo>
                    <a:pt x="4" y="466"/>
                  </a:lnTo>
                  <a:lnTo>
                    <a:pt x="7" y="432"/>
                  </a:lnTo>
                  <a:lnTo>
                    <a:pt x="12" y="397"/>
                  </a:lnTo>
                  <a:lnTo>
                    <a:pt x="18" y="362"/>
                  </a:lnTo>
                  <a:lnTo>
                    <a:pt x="26" y="328"/>
                  </a:lnTo>
                  <a:lnTo>
                    <a:pt x="35" y="296"/>
                  </a:lnTo>
                  <a:lnTo>
                    <a:pt x="47" y="262"/>
                  </a:lnTo>
                  <a:lnTo>
                    <a:pt x="60" y="229"/>
                  </a:lnTo>
                  <a:lnTo>
                    <a:pt x="75" y="197"/>
                  </a:lnTo>
                  <a:lnTo>
                    <a:pt x="83" y="172"/>
                  </a:lnTo>
                  <a:lnTo>
                    <a:pt x="92" y="145"/>
                  </a:lnTo>
                  <a:lnTo>
                    <a:pt x="100" y="120"/>
                  </a:lnTo>
                  <a:lnTo>
                    <a:pt x="108" y="94"/>
                  </a:lnTo>
                  <a:lnTo>
                    <a:pt x="117" y="70"/>
                  </a:lnTo>
                  <a:lnTo>
                    <a:pt x="129" y="45"/>
                  </a:lnTo>
                  <a:lnTo>
                    <a:pt x="136" y="34"/>
                  </a:lnTo>
                  <a:lnTo>
                    <a:pt x="144" y="23"/>
                  </a:lnTo>
                  <a:lnTo>
                    <a:pt x="152" y="11"/>
                  </a:lnTo>
                  <a:lnTo>
                    <a:pt x="162" y="0"/>
                  </a:lnTo>
                  <a:lnTo>
                    <a:pt x="151" y="29"/>
                  </a:lnTo>
                  <a:lnTo>
                    <a:pt x="142" y="58"/>
                  </a:lnTo>
                  <a:lnTo>
                    <a:pt x="135" y="86"/>
                  </a:lnTo>
                  <a:lnTo>
                    <a:pt x="128" y="113"/>
                  </a:lnTo>
                  <a:lnTo>
                    <a:pt x="123" y="140"/>
                  </a:lnTo>
                  <a:lnTo>
                    <a:pt x="120" y="167"/>
                  </a:lnTo>
                  <a:lnTo>
                    <a:pt x="119" y="193"/>
                  </a:lnTo>
                  <a:lnTo>
                    <a:pt x="117" y="218"/>
                  </a:lnTo>
                  <a:lnTo>
                    <a:pt x="119" y="245"/>
                  </a:lnTo>
                  <a:lnTo>
                    <a:pt x="120" y="271"/>
                  </a:lnTo>
                  <a:lnTo>
                    <a:pt x="123" y="298"/>
                  </a:lnTo>
                  <a:lnTo>
                    <a:pt x="128" y="324"/>
                  </a:lnTo>
                  <a:lnTo>
                    <a:pt x="135" y="351"/>
                  </a:lnTo>
                  <a:lnTo>
                    <a:pt x="142" y="379"/>
                  </a:lnTo>
                  <a:lnTo>
                    <a:pt x="151" y="407"/>
                  </a:lnTo>
                  <a:lnTo>
                    <a:pt x="162" y="435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20440" y="4047120"/>
              <a:ext cx="680040" cy="334800"/>
            </a:xfrm>
            <a:custGeom>
              <a:avLst/>
              <a:gdLst/>
              <a:ahLst/>
              <a:rect l="l" t="t" r="r" b="b"/>
              <a:pathLst>
                <a:path w="2278" h="1264">
                  <a:moveTo>
                    <a:pt x="2254" y="396"/>
                  </a:moveTo>
                  <a:lnTo>
                    <a:pt x="2233" y="426"/>
                  </a:lnTo>
                  <a:lnTo>
                    <a:pt x="2213" y="456"/>
                  </a:lnTo>
                  <a:lnTo>
                    <a:pt x="2193" y="488"/>
                  </a:lnTo>
                  <a:lnTo>
                    <a:pt x="2175" y="519"/>
                  </a:lnTo>
                  <a:lnTo>
                    <a:pt x="2158" y="552"/>
                  </a:lnTo>
                  <a:lnTo>
                    <a:pt x="2143" y="586"/>
                  </a:lnTo>
                  <a:lnTo>
                    <a:pt x="2127" y="620"/>
                  </a:lnTo>
                  <a:lnTo>
                    <a:pt x="2114" y="655"/>
                  </a:lnTo>
                  <a:lnTo>
                    <a:pt x="2103" y="690"/>
                  </a:lnTo>
                  <a:lnTo>
                    <a:pt x="2093" y="726"/>
                  </a:lnTo>
                  <a:lnTo>
                    <a:pt x="2086" y="761"/>
                  </a:lnTo>
                  <a:lnTo>
                    <a:pt x="2081" y="798"/>
                  </a:lnTo>
                  <a:lnTo>
                    <a:pt x="2077" y="833"/>
                  </a:lnTo>
                  <a:lnTo>
                    <a:pt x="2076" y="869"/>
                  </a:lnTo>
                  <a:lnTo>
                    <a:pt x="2076" y="886"/>
                  </a:lnTo>
                  <a:lnTo>
                    <a:pt x="2077" y="904"/>
                  </a:lnTo>
                  <a:lnTo>
                    <a:pt x="2079" y="921"/>
                  </a:lnTo>
                  <a:lnTo>
                    <a:pt x="2082" y="939"/>
                  </a:lnTo>
                  <a:lnTo>
                    <a:pt x="2096" y="947"/>
                  </a:lnTo>
                  <a:lnTo>
                    <a:pt x="2109" y="957"/>
                  </a:lnTo>
                  <a:lnTo>
                    <a:pt x="2119" y="968"/>
                  </a:lnTo>
                  <a:lnTo>
                    <a:pt x="2127" y="979"/>
                  </a:lnTo>
                  <a:lnTo>
                    <a:pt x="2133" y="992"/>
                  </a:lnTo>
                  <a:lnTo>
                    <a:pt x="2138" y="1005"/>
                  </a:lnTo>
                  <a:lnTo>
                    <a:pt x="2141" y="1019"/>
                  </a:lnTo>
                  <a:lnTo>
                    <a:pt x="2144" y="1031"/>
                  </a:lnTo>
                  <a:lnTo>
                    <a:pt x="2146" y="1061"/>
                  </a:lnTo>
                  <a:lnTo>
                    <a:pt x="2146" y="1089"/>
                  </a:lnTo>
                  <a:lnTo>
                    <a:pt x="2146" y="1117"/>
                  </a:lnTo>
                  <a:lnTo>
                    <a:pt x="2147" y="1143"/>
                  </a:lnTo>
                  <a:lnTo>
                    <a:pt x="2126" y="1188"/>
                  </a:lnTo>
                  <a:lnTo>
                    <a:pt x="2116" y="1181"/>
                  </a:lnTo>
                  <a:lnTo>
                    <a:pt x="2107" y="1173"/>
                  </a:lnTo>
                  <a:lnTo>
                    <a:pt x="2100" y="1164"/>
                  </a:lnTo>
                  <a:lnTo>
                    <a:pt x="2095" y="1153"/>
                  </a:lnTo>
                  <a:lnTo>
                    <a:pt x="2086" y="1131"/>
                  </a:lnTo>
                  <a:lnTo>
                    <a:pt x="2079" y="1107"/>
                  </a:lnTo>
                  <a:lnTo>
                    <a:pt x="2076" y="1096"/>
                  </a:lnTo>
                  <a:lnTo>
                    <a:pt x="2072" y="1085"/>
                  </a:lnTo>
                  <a:lnTo>
                    <a:pt x="2068" y="1074"/>
                  </a:lnTo>
                  <a:lnTo>
                    <a:pt x="2062" y="1063"/>
                  </a:lnTo>
                  <a:lnTo>
                    <a:pt x="2055" y="1054"/>
                  </a:lnTo>
                  <a:lnTo>
                    <a:pt x="2047" y="1045"/>
                  </a:lnTo>
                  <a:lnTo>
                    <a:pt x="2036" y="1038"/>
                  </a:lnTo>
                  <a:lnTo>
                    <a:pt x="2022" y="1033"/>
                  </a:lnTo>
                  <a:lnTo>
                    <a:pt x="2008" y="1038"/>
                  </a:lnTo>
                  <a:lnTo>
                    <a:pt x="1994" y="1042"/>
                  </a:lnTo>
                  <a:lnTo>
                    <a:pt x="1981" y="1043"/>
                  </a:lnTo>
                  <a:lnTo>
                    <a:pt x="1967" y="1043"/>
                  </a:lnTo>
                  <a:lnTo>
                    <a:pt x="1954" y="1043"/>
                  </a:lnTo>
                  <a:lnTo>
                    <a:pt x="1940" y="1041"/>
                  </a:lnTo>
                  <a:lnTo>
                    <a:pt x="1927" y="1037"/>
                  </a:lnTo>
                  <a:lnTo>
                    <a:pt x="1914" y="1034"/>
                  </a:lnTo>
                  <a:lnTo>
                    <a:pt x="1889" y="1026"/>
                  </a:lnTo>
                  <a:lnTo>
                    <a:pt x="1863" y="1017"/>
                  </a:lnTo>
                  <a:lnTo>
                    <a:pt x="1850" y="1013"/>
                  </a:lnTo>
                  <a:lnTo>
                    <a:pt x="1837" y="1009"/>
                  </a:lnTo>
                  <a:lnTo>
                    <a:pt x="1824" y="1007"/>
                  </a:lnTo>
                  <a:lnTo>
                    <a:pt x="1812" y="1005"/>
                  </a:lnTo>
                  <a:lnTo>
                    <a:pt x="1803" y="1010"/>
                  </a:lnTo>
                  <a:lnTo>
                    <a:pt x="1795" y="1016"/>
                  </a:lnTo>
                  <a:lnTo>
                    <a:pt x="1788" y="1023"/>
                  </a:lnTo>
                  <a:lnTo>
                    <a:pt x="1780" y="1030"/>
                  </a:lnTo>
                  <a:lnTo>
                    <a:pt x="1767" y="1045"/>
                  </a:lnTo>
                  <a:lnTo>
                    <a:pt x="1755" y="1062"/>
                  </a:lnTo>
                  <a:lnTo>
                    <a:pt x="1732" y="1097"/>
                  </a:lnTo>
                  <a:lnTo>
                    <a:pt x="1711" y="1130"/>
                  </a:lnTo>
                  <a:lnTo>
                    <a:pt x="1700" y="1144"/>
                  </a:lnTo>
                  <a:lnTo>
                    <a:pt x="1689" y="1157"/>
                  </a:lnTo>
                  <a:lnTo>
                    <a:pt x="1682" y="1162"/>
                  </a:lnTo>
                  <a:lnTo>
                    <a:pt x="1676" y="1167"/>
                  </a:lnTo>
                  <a:lnTo>
                    <a:pt x="1669" y="1171"/>
                  </a:lnTo>
                  <a:lnTo>
                    <a:pt x="1662" y="1174"/>
                  </a:lnTo>
                  <a:lnTo>
                    <a:pt x="1654" y="1176"/>
                  </a:lnTo>
                  <a:lnTo>
                    <a:pt x="1647" y="1178"/>
                  </a:lnTo>
                  <a:lnTo>
                    <a:pt x="1637" y="1179"/>
                  </a:lnTo>
                  <a:lnTo>
                    <a:pt x="1629" y="1178"/>
                  </a:lnTo>
                  <a:lnTo>
                    <a:pt x="1620" y="1176"/>
                  </a:lnTo>
                  <a:lnTo>
                    <a:pt x="1609" y="1173"/>
                  </a:lnTo>
                  <a:lnTo>
                    <a:pt x="1599" y="1169"/>
                  </a:lnTo>
                  <a:lnTo>
                    <a:pt x="1587" y="1164"/>
                  </a:lnTo>
                  <a:lnTo>
                    <a:pt x="1558" y="1151"/>
                  </a:lnTo>
                  <a:lnTo>
                    <a:pt x="1530" y="1140"/>
                  </a:lnTo>
                  <a:lnTo>
                    <a:pt x="1503" y="1132"/>
                  </a:lnTo>
                  <a:lnTo>
                    <a:pt x="1476" y="1124"/>
                  </a:lnTo>
                  <a:lnTo>
                    <a:pt x="1449" y="1118"/>
                  </a:lnTo>
                  <a:lnTo>
                    <a:pt x="1423" y="1113"/>
                  </a:lnTo>
                  <a:lnTo>
                    <a:pt x="1398" y="1111"/>
                  </a:lnTo>
                  <a:lnTo>
                    <a:pt x="1372" y="1109"/>
                  </a:lnTo>
                  <a:lnTo>
                    <a:pt x="1345" y="1107"/>
                  </a:lnTo>
                  <a:lnTo>
                    <a:pt x="1318" y="1107"/>
                  </a:lnTo>
                  <a:lnTo>
                    <a:pt x="1290" y="1107"/>
                  </a:lnTo>
                  <a:lnTo>
                    <a:pt x="1262" y="1109"/>
                  </a:lnTo>
                  <a:lnTo>
                    <a:pt x="1201" y="1111"/>
                  </a:lnTo>
                  <a:lnTo>
                    <a:pt x="1134" y="1116"/>
                  </a:lnTo>
                  <a:lnTo>
                    <a:pt x="1115" y="1112"/>
                  </a:lnTo>
                  <a:lnTo>
                    <a:pt x="1095" y="1111"/>
                  </a:lnTo>
                  <a:lnTo>
                    <a:pt x="1075" y="1112"/>
                  </a:lnTo>
                  <a:lnTo>
                    <a:pt x="1054" y="1114"/>
                  </a:lnTo>
                  <a:lnTo>
                    <a:pt x="1034" y="1118"/>
                  </a:lnTo>
                  <a:lnTo>
                    <a:pt x="1013" y="1124"/>
                  </a:lnTo>
                  <a:lnTo>
                    <a:pt x="993" y="1131"/>
                  </a:lnTo>
                  <a:lnTo>
                    <a:pt x="972" y="1138"/>
                  </a:lnTo>
                  <a:lnTo>
                    <a:pt x="889" y="1175"/>
                  </a:lnTo>
                  <a:lnTo>
                    <a:pt x="808" y="1212"/>
                  </a:lnTo>
                  <a:lnTo>
                    <a:pt x="787" y="1220"/>
                  </a:lnTo>
                  <a:lnTo>
                    <a:pt x="767" y="1226"/>
                  </a:lnTo>
                  <a:lnTo>
                    <a:pt x="749" y="1231"/>
                  </a:lnTo>
                  <a:lnTo>
                    <a:pt x="729" y="1235"/>
                  </a:lnTo>
                  <a:lnTo>
                    <a:pt x="709" y="1237"/>
                  </a:lnTo>
                  <a:lnTo>
                    <a:pt x="690" y="1237"/>
                  </a:lnTo>
                  <a:lnTo>
                    <a:pt x="671" y="1236"/>
                  </a:lnTo>
                  <a:lnTo>
                    <a:pt x="654" y="1233"/>
                  </a:lnTo>
                  <a:lnTo>
                    <a:pt x="635" y="1227"/>
                  </a:lnTo>
                  <a:lnTo>
                    <a:pt x="618" y="1217"/>
                  </a:lnTo>
                  <a:lnTo>
                    <a:pt x="600" y="1206"/>
                  </a:lnTo>
                  <a:lnTo>
                    <a:pt x="584" y="1192"/>
                  </a:lnTo>
                  <a:lnTo>
                    <a:pt x="566" y="1173"/>
                  </a:lnTo>
                  <a:lnTo>
                    <a:pt x="551" y="1152"/>
                  </a:lnTo>
                  <a:lnTo>
                    <a:pt x="535" y="1127"/>
                  </a:lnTo>
                  <a:lnTo>
                    <a:pt x="519" y="1098"/>
                  </a:lnTo>
                  <a:lnTo>
                    <a:pt x="512" y="1091"/>
                  </a:lnTo>
                  <a:lnTo>
                    <a:pt x="505" y="1083"/>
                  </a:lnTo>
                  <a:lnTo>
                    <a:pt x="497" y="1077"/>
                  </a:lnTo>
                  <a:lnTo>
                    <a:pt x="488" y="1071"/>
                  </a:lnTo>
                  <a:lnTo>
                    <a:pt x="480" y="1065"/>
                  </a:lnTo>
                  <a:lnTo>
                    <a:pt x="469" y="1061"/>
                  </a:lnTo>
                  <a:lnTo>
                    <a:pt x="460" y="1057"/>
                  </a:lnTo>
                  <a:lnTo>
                    <a:pt x="449" y="1055"/>
                  </a:lnTo>
                  <a:lnTo>
                    <a:pt x="439" y="1052"/>
                  </a:lnTo>
                  <a:lnTo>
                    <a:pt x="429" y="1051"/>
                  </a:lnTo>
                  <a:lnTo>
                    <a:pt x="419" y="1051"/>
                  </a:lnTo>
                  <a:lnTo>
                    <a:pt x="408" y="1052"/>
                  </a:lnTo>
                  <a:lnTo>
                    <a:pt x="399" y="1055"/>
                  </a:lnTo>
                  <a:lnTo>
                    <a:pt x="390" y="1060"/>
                  </a:lnTo>
                  <a:lnTo>
                    <a:pt x="380" y="1064"/>
                  </a:lnTo>
                  <a:lnTo>
                    <a:pt x="371" y="1070"/>
                  </a:lnTo>
                  <a:lnTo>
                    <a:pt x="361" y="1079"/>
                  </a:lnTo>
                  <a:lnTo>
                    <a:pt x="352" y="1090"/>
                  </a:lnTo>
                  <a:lnTo>
                    <a:pt x="344" y="1100"/>
                  </a:lnTo>
                  <a:lnTo>
                    <a:pt x="336" y="1111"/>
                  </a:lnTo>
                  <a:lnTo>
                    <a:pt x="319" y="1134"/>
                  </a:lnTo>
                  <a:lnTo>
                    <a:pt x="304" y="1159"/>
                  </a:lnTo>
                  <a:lnTo>
                    <a:pt x="291" y="1185"/>
                  </a:lnTo>
                  <a:lnTo>
                    <a:pt x="278" y="1212"/>
                  </a:lnTo>
                  <a:lnTo>
                    <a:pt x="266" y="1237"/>
                  </a:lnTo>
                  <a:lnTo>
                    <a:pt x="254" y="1264"/>
                  </a:lnTo>
                  <a:lnTo>
                    <a:pt x="240" y="1249"/>
                  </a:lnTo>
                  <a:lnTo>
                    <a:pt x="227" y="1233"/>
                  </a:lnTo>
                  <a:lnTo>
                    <a:pt x="220" y="1223"/>
                  </a:lnTo>
                  <a:lnTo>
                    <a:pt x="214" y="1213"/>
                  </a:lnTo>
                  <a:lnTo>
                    <a:pt x="208" y="1203"/>
                  </a:lnTo>
                  <a:lnTo>
                    <a:pt x="204" y="1192"/>
                  </a:lnTo>
                  <a:lnTo>
                    <a:pt x="200" y="1181"/>
                  </a:lnTo>
                  <a:lnTo>
                    <a:pt x="198" y="1171"/>
                  </a:lnTo>
                  <a:lnTo>
                    <a:pt x="197" y="1159"/>
                  </a:lnTo>
                  <a:lnTo>
                    <a:pt x="197" y="1148"/>
                  </a:lnTo>
                  <a:lnTo>
                    <a:pt x="199" y="1137"/>
                  </a:lnTo>
                  <a:lnTo>
                    <a:pt x="202" y="1126"/>
                  </a:lnTo>
                  <a:lnTo>
                    <a:pt x="208" y="1116"/>
                  </a:lnTo>
                  <a:lnTo>
                    <a:pt x="215" y="1105"/>
                  </a:lnTo>
                  <a:lnTo>
                    <a:pt x="238" y="1084"/>
                  </a:lnTo>
                  <a:lnTo>
                    <a:pt x="260" y="1061"/>
                  </a:lnTo>
                  <a:lnTo>
                    <a:pt x="281" y="1037"/>
                  </a:lnTo>
                  <a:lnTo>
                    <a:pt x="301" y="1012"/>
                  </a:lnTo>
                  <a:lnTo>
                    <a:pt x="310" y="999"/>
                  </a:lnTo>
                  <a:lnTo>
                    <a:pt x="318" y="986"/>
                  </a:lnTo>
                  <a:lnTo>
                    <a:pt x="326" y="973"/>
                  </a:lnTo>
                  <a:lnTo>
                    <a:pt x="333" y="959"/>
                  </a:lnTo>
                  <a:lnTo>
                    <a:pt x="339" y="945"/>
                  </a:lnTo>
                  <a:lnTo>
                    <a:pt x="345" y="931"/>
                  </a:lnTo>
                  <a:lnTo>
                    <a:pt x="350" y="916"/>
                  </a:lnTo>
                  <a:lnTo>
                    <a:pt x="354" y="902"/>
                  </a:lnTo>
                  <a:lnTo>
                    <a:pt x="328" y="886"/>
                  </a:lnTo>
                  <a:lnTo>
                    <a:pt x="301" y="871"/>
                  </a:lnTo>
                  <a:lnTo>
                    <a:pt x="276" y="856"/>
                  </a:lnTo>
                  <a:lnTo>
                    <a:pt x="250" y="840"/>
                  </a:lnTo>
                  <a:lnTo>
                    <a:pt x="227" y="823"/>
                  </a:lnTo>
                  <a:lnTo>
                    <a:pt x="204" y="806"/>
                  </a:lnTo>
                  <a:lnTo>
                    <a:pt x="181" y="787"/>
                  </a:lnTo>
                  <a:lnTo>
                    <a:pt x="159" y="768"/>
                  </a:lnTo>
                  <a:lnTo>
                    <a:pt x="138" y="748"/>
                  </a:lnTo>
                  <a:lnTo>
                    <a:pt x="118" y="727"/>
                  </a:lnTo>
                  <a:lnTo>
                    <a:pt x="98" y="706"/>
                  </a:lnTo>
                  <a:lnTo>
                    <a:pt x="80" y="683"/>
                  </a:lnTo>
                  <a:lnTo>
                    <a:pt x="62" y="659"/>
                  </a:lnTo>
                  <a:lnTo>
                    <a:pt x="45" y="635"/>
                  </a:lnTo>
                  <a:lnTo>
                    <a:pt x="28" y="610"/>
                  </a:lnTo>
                  <a:lnTo>
                    <a:pt x="12" y="583"/>
                  </a:lnTo>
                  <a:lnTo>
                    <a:pt x="8" y="564"/>
                  </a:lnTo>
                  <a:lnTo>
                    <a:pt x="5" y="545"/>
                  </a:lnTo>
                  <a:lnTo>
                    <a:pt x="2" y="526"/>
                  </a:lnTo>
                  <a:lnTo>
                    <a:pt x="1" y="507"/>
                  </a:lnTo>
                  <a:lnTo>
                    <a:pt x="0" y="489"/>
                  </a:lnTo>
                  <a:lnTo>
                    <a:pt x="1" y="471"/>
                  </a:lnTo>
                  <a:lnTo>
                    <a:pt x="1" y="454"/>
                  </a:lnTo>
                  <a:lnTo>
                    <a:pt x="4" y="435"/>
                  </a:lnTo>
                  <a:lnTo>
                    <a:pt x="6" y="417"/>
                  </a:lnTo>
                  <a:lnTo>
                    <a:pt x="9" y="401"/>
                  </a:lnTo>
                  <a:lnTo>
                    <a:pt x="13" y="383"/>
                  </a:lnTo>
                  <a:lnTo>
                    <a:pt x="17" y="366"/>
                  </a:lnTo>
                  <a:lnTo>
                    <a:pt x="27" y="333"/>
                  </a:lnTo>
                  <a:lnTo>
                    <a:pt x="39" y="299"/>
                  </a:lnTo>
                  <a:lnTo>
                    <a:pt x="52" y="266"/>
                  </a:lnTo>
                  <a:lnTo>
                    <a:pt x="66" y="235"/>
                  </a:lnTo>
                  <a:lnTo>
                    <a:pt x="81" y="202"/>
                  </a:lnTo>
                  <a:lnTo>
                    <a:pt x="97" y="171"/>
                  </a:lnTo>
                  <a:lnTo>
                    <a:pt x="129" y="107"/>
                  </a:lnTo>
                  <a:lnTo>
                    <a:pt x="160" y="44"/>
                  </a:lnTo>
                  <a:lnTo>
                    <a:pt x="199" y="9"/>
                  </a:lnTo>
                  <a:lnTo>
                    <a:pt x="236" y="42"/>
                  </a:lnTo>
                  <a:lnTo>
                    <a:pt x="271" y="75"/>
                  </a:lnTo>
                  <a:lnTo>
                    <a:pt x="304" y="109"/>
                  </a:lnTo>
                  <a:lnTo>
                    <a:pt x="336" y="143"/>
                  </a:lnTo>
                  <a:lnTo>
                    <a:pt x="366" y="178"/>
                  </a:lnTo>
                  <a:lnTo>
                    <a:pt x="397" y="213"/>
                  </a:lnTo>
                  <a:lnTo>
                    <a:pt x="427" y="249"/>
                  </a:lnTo>
                  <a:lnTo>
                    <a:pt x="457" y="286"/>
                  </a:lnTo>
                  <a:lnTo>
                    <a:pt x="448" y="304"/>
                  </a:lnTo>
                  <a:lnTo>
                    <a:pt x="436" y="321"/>
                  </a:lnTo>
                  <a:lnTo>
                    <a:pt x="423" y="338"/>
                  </a:lnTo>
                  <a:lnTo>
                    <a:pt x="409" y="353"/>
                  </a:lnTo>
                  <a:lnTo>
                    <a:pt x="380" y="382"/>
                  </a:lnTo>
                  <a:lnTo>
                    <a:pt x="353" y="412"/>
                  </a:lnTo>
                  <a:lnTo>
                    <a:pt x="342" y="427"/>
                  </a:lnTo>
                  <a:lnTo>
                    <a:pt x="331" y="442"/>
                  </a:lnTo>
                  <a:lnTo>
                    <a:pt x="328" y="450"/>
                  </a:lnTo>
                  <a:lnTo>
                    <a:pt x="324" y="458"/>
                  </a:lnTo>
                  <a:lnTo>
                    <a:pt x="321" y="468"/>
                  </a:lnTo>
                  <a:lnTo>
                    <a:pt x="318" y="477"/>
                  </a:lnTo>
                  <a:lnTo>
                    <a:pt x="317" y="486"/>
                  </a:lnTo>
                  <a:lnTo>
                    <a:pt x="317" y="496"/>
                  </a:lnTo>
                  <a:lnTo>
                    <a:pt x="317" y="505"/>
                  </a:lnTo>
                  <a:lnTo>
                    <a:pt x="319" y="516"/>
                  </a:lnTo>
                  <a:lnTo>
                    <a:pt x="322" y="527"/>
                  </a:lnTo>
                  <a:lnTo>
                    <a:pt x="325" y="538"/>
                  </a:lnTo>
                  <a:lnTo>
                    <a:pt x="331" y="551"/>
                  </a:lnTo>
                  <a:lnTo>
                    <a:pt x="337" y="562"/>
                  </a:lnTo>
                  <a:lnTo>
                    <a:pt x="369" y="613"/>
                  </a:lnTo>
                  <a:lnTo>
                    <a:pt x="398" y="665"/>
                  </a:lnTo>
                  <a:lnTo>
                    <a:pt x="429" y="717"/>
                  </a:lnTo>
                  <a:lnTo>
                    <a:pt x="462" y="768"/>
                  </a:lnTo>
                  <a:lnTo>
                    <a:pt x="478" y="793"/>
                  </a:lnTo>
                  <a:lnTo>
                    <a:pt x="497" y="816"/>
                  </a:lnTo>
                  <a:lnTo>
                    <a:pt x="517" y="840"/>
                  </a:lnTo>
                  <a:lnTo>
                    <a:pt x="538" y="861"/>
                  </a:lnTo>
                  <a:lnTo>
                    <a:pt x="561" y="882"/>
                  </a:lnTo>
                  <a:lnTo>
                    <a:pt x="586" y="900"/>
                  </a:lnTo>
                  <a:lnTo>
                    <a:pt x="599" y="909"/>
                  </a:lnTo>
                  <a:lnTo>
                    <a:pt x="612" y="917"/>
                  </a:lnTo>
                  <a:lnTo>
                    <a:pt x="626" y="925"/>
                  </a:lnTo>
                  <a:lnTo>
                    <a:pt x="641" y="932"/>
                  </a:lnTo>
                  <a:lnTo>
                    <a:pt x="666" y="933"/>
                  </a:lnTo>
                  <a:lnTo>
                    <a:pt x="691" y="934"/>
                  </a:lnTo>
                  <a:lnTo>
                    <a:pt x="717" y="934"/>
                  </a:lnTo>
                  <a:lnTo>
                    <a:pt x="743" y="933"/>
                  </a:lnTo>
                  <a:lnTo>
                    <a:pt x="768" y="931"/>
                  </a:lnTo>
                  <a:lnTo>
                    <a:pt x="794" y="929"/>
                  </a:lnTo>
                  <a:lnTo>
                    <a:pt x="820" y="924"/>
                  </a:lnTo>
                  <a:lnTo>
                    <a:pt x="844" y="918"/>
                  </a:lnTo>
                  <a:lnTo>
                    <a:pt x="869" y="911"/>
                  </a:lnTo>
                  <a:lnTo>
                    <a:pt x="892" y="902"/>
                  </a:lnTo>
                  <a:lnTo>
                    <a:pt x="903" y="897"/>
                  </a:lnTo>
                  <a:lnTo>
                    <a:pt x="913" y="891"/>
                  </a:lnTo>
                  <a:lnTo>
                    <a:pt x="924" y="885"/>
                  </a:lnTo>
                  <a:lnTo>
                    <a:pt x="935" y="878"/>
                  </a:lnTo>
                  <a:lnTo>
                    <a:pt x="944" y="870"/>
                  </a:lnTo>
                  <a:lnTo>
                    <a:pt x="953" y="862"/>
                  </a:lnTo>
                  <a:lnTo>
                    <a:pt x="963" y="854"/>
                  </a:lnTo>
                  <a:lnTo>
                    <a:pt x="971" y="844"/>
                  </a:lnTo>
                  <a:lnTo>
                    <a:pt x="979" y="835"/>
                  </a:lnTo>
                  <a:lnTo>
                    <a:pt x="987" y="824"/>
                  </a:lnTo>
                  <a:lnTo>
                    <a:pt x="993" y="813"/>
                  </a:lnTo>
                  <a:lnTo>
                    <a:pt x="1000" y="801"/>
                  </a:lnTo>
                  <a:lnTo>
                    <a:pt x="1009" y="795"/>
                  </a:lnTo>
                  <a:lnTo>
                    <a:pt x="1019" y="789"/>
                  </a:lnTo>
                  <a:lnTo>
                    <a:pt x="1029" y="783"/>
                  </a:lnTo>
                  <a:lnTo>
                    <a:pt x="1040" y="780"/>
                  </a:lnTo>
                  <a:lnTo>
                    <a:pt x="1051" y="776"/>
                  </a:lnTo>
                  <a:lnTo>
                    <a:pt x="1063" y="775"/>
                  </a:lnTo>
                  <a:lnTo>
                    <a:pt x="1076" y="775"/>
                  </a:lnTo>
                  <a:lnTo>
                    <a:pt x="1090" y="776"/>
                  </a:lnTo>
                  <a:lnTo>
                    <a:pt x="1122" y="794"/>
                  </a:lnTo>
                  <a:lnTo>
                    <a:pt x="1153" y="812"/>
                  </a:lnTo>
                  <a:lnTo>
                    <a:pt x="1170" y="819"/>
                  </a:lnTo>
                  <a:lnTo>
                    <a:pt x="1186" y="826"/>
                  </a:lnTo>
                  <a:lnTo>
                    <a:pt x="1203" y="833"/>
                  </a:lnTo>
                  <a:lnTo>
                    <a:pt x="1220" y="837"/>
                  </a:lnTo>
                  <a:lnTo>
                    <a:pt x="1237" y="842"/>
                  </a:lnTo>
                  <a:lnTo>
                    <a:pt x="1255" y="845"/>
                  </a:lnTo>
                  <a:lnTo>
                    <a:pt x="1272" y="848"/>
                  </a:lnTo>
                  <a:lnTo>
                    <a:pt x="1291" y="849"/>
                  </a:lnTo>
                  <a:lnTo>
                    <a:pt x="1309" y="849"/>
                  </a:lnTo>
                  <a:lnTo>
                    <a:pt x="1327" y="847"/>
                  </a:lnTo>
                  <a:lnTo>
                    <a:pt x="1347" y="844"/>
                  </a:lnTo>
                  <a:lnTo>
                    <a:pt x="1366" y="838"/>
                  </a:lnTo>
                  <a:lnTo>
                    <a:pt x="1442" y="766"/>
                  </a:lnTo>
                  <a:lnTo>
                    <a:pt x="1443" y="776"/>
                  </a:lnTo>
                  <a:lnTo>
                    <a:pt x="1446" y="786"/>
                  </a:lnTo>
                  <a:lnTo>
                    <a:pt x="1450" y="795"/>
                  </a:lnTo>
                  <a:lnTo>
                    <a:pt x="1455" y="803"/>
                  </a:lnTo>
                  <a:lnTo>
                    <a:pt x="1460" y="813"/>
                  </a:lnTo>
                  <a:lnTo>
                    <a:pt x="1467" y="820"/>
                  </a:lnTo>
                  <a:lnTo>
                    <a:pt x="1474" y="828"/>
                  </a:lnTo>
                  <a:lnTo>
                    <a:pt x="1481" y="835"/>
                  </a:lnTo>
                  <a:lnTo>
                    <a:pt x="1512" y="864"/>
                  </a:lnTo>
                  <a:lnTo>
                    <a:pt x="1543" y="895"/>
                  </a:lnTo>
                  <a:lnTo>
                    <a:pt x="1564" y="897"/>
                  </a:lnTo>
                  <a:lnTo>
                    <a:pt x="1585" y="899"/>
                  </a:lnTo>
                  <a:lnTo>
                    <a:pt x="1605" y="899"/>
                  </a:lnTo>
                  <a:lnTo>
                    <a:pt x="1623" y="898"/>
                  </a:lnTo>
                  <a:lnTo>
                    <a:pt x="1642" y="895"/>
                  </a:lnTo>
                  <a:lnTo>
                    <a:pt x="1660" y="891"/>
                  </a:lnTo>
                  <a:lnTo>
                    <a:pt x="1676" y="885"/>
                  </a:lnTo>
                  <a:lnTo>
                    <a:pt x="1692" y="879"/>
                  </a:lnTo>
                  <a:lnTo>
                    <a:pt x="1708" y="872"/>
                  </a:lnTo>
                  <a:lnTo>
                    <a:pt x="1723" y="863"/>
                  </a:lnTo>
                  <a:lnTo>
                    <a:pt x="1737" y="854"/>
                  </a:lnTo>
                  <a:lnTo>
                    <a:pt x="1751" y="844"/>
                  </a:lnTo>
                  <a:lnTo>
                    <a:pt x="1764" y="833"/>
                  </a:lnTo>
                  <a:lnTo>
                    <a:pt x="1777" y="821"/>
                  </a:lnTo>
                  <a:lnTo>
                    <a:pt x="1788" y="809"/>
                  </a:lnTo>
                  <a:lnTo>
                    <a:pt x="1800" y="795"/>
                  </a:lnTo>
                  <a:lnTo>
                    <a:pt x="1822" y="768"/>
                  </a:lnTo>
                  <a:lnTo>
                    <a:pt x="1843" y="739"/>
                  </a:lnTo>
                  <a:lnTo>
                    <a:pt x="1864" y="709"/>
                  </a:lnTo>
                  <a:lnTo>
                    <a:pt x="1883" y="678"/>
                  </a:lnTo>
                  <a:lnTo>
                    <a:pt x="1902" y="648"/>
                  </a:lnTo>
                  <a:lnTo>
                    <a:pt x="1920" y="619"/>
                  </a:lnTo>
                  <a:lnTo>
                    <a:pt x="1938" y="589"/>
                  </a:lnTo>
                  <a:lnTo>
                    <a:pt x="1957" y="562"/>
                  </a:lnTo>
                  <a:lnTo>
                    <a:pt x="1962" y="547"/>
                  </a:lnTo>
                  <a:lnTo>
                    <a:pt x="1966" y="530"/>
                  </a:lnTo>
                  <a:lnTo>
                    <a:pt x="1971" y="513"/>
                  </a:lnTo>
                  <a:lnTo>
                    <a:pt x="1974" y="496"/>
                  </a:lnTo>
                  <a:lnTo>
                    <a:pt x="1976" y="478"/>
                  </a:lnTo>
                  <a:lnTo>
                    <a:pt x="1979" y="461"/>
                  </a:lnTo>
                  <a:lnTo>
                    <a:pt x="1980" y="442"/>
                  </a:lnTo>
                  <a:lnTo>
                    <a:pt x="1981" y="423"/>
                  </a:lnTo>
                  <a:lnTo>
                    <a:pt x="1980" y="405"/>
                  </a:lnTo>
                  <a:lnTo>
                    <a:pt x="1979" y="387"/>
                  </a:lnTo>
                  <a:lnTo>
                    <a:pt x="1978" y="368"/>
                  </a:lnTo>
                  <a:lnTo>
                    <a:pt x="1974" y="350"/>
                  </a:lnTo>
                  <a:lnTo>
                    <a:pt x="1969" y="332"/>
                  </a:lnTo>
                  <a:lnTo>
                    <a:pt x="1965" y="313"/>
                  </a:lnTo>
                  <a:lnTo>
                    <a:pt x="1958" y="296"/>
                  </a:lnTo>
                  <a:lnTo>
                    <a:pt x="1950" y="279"/>
                  </a:lnTo>
                  <a:lnTo>
                    <a:pt x="1944" y="266"/>
                  </a:lnTo>
                  <a:lnTo>
                    <a:pt x="1938" y="255"/>
                  </a:lnTo>
                  <a:lnTo>
                    <a:pt x="1934" y="243"/>
                  </a:lnTo>
                  <a:lnTo>
                    <a:pt x="1932" y="233"/>
                  </a:lnTo>
                  <a:lnTo>
                    <a:pt x="1932" y="222"/>
                  </a:lnTo>
                  <a:lnTo>
                    <a:pt x="1932" y="213"/>
                  </a:lnTo>
                  <a:lnTo>
                    <a:pt x="1933" y="202"/>
                  </a:lnTo>
                  <a:lnTo>
                    <a:pt x="1937" y="193"/>
                  </a:lnTo>
                  <a:lnTo>
                    <a:pt x="1940" y="185"/>
                  </a:lnTo>
                  <a:lnTo>
                    <a:pt x="1945" y="175"/>
                  </a:lnTo>
                  <a:lnTo>
                    <a:pt x="1950" y="167"/>
                  </a:lnTo>
                  <a:lnTo>
                    <a:pt x="1957" y="159"/>
                  </a:lnTo>
                  <a:lnTo>
                    <a:pt x="1971" y="143"/>
                  </a:lnTo>
                  <a:lnTo>
                    <a:pt x="1988" y="127"/>
                  </a:lnTo>
                  <a:lnTo>
                    <a:pt x="2026" y="98"/>
                  </a:lnTo>
                  <a:lnTo>
                    <a:pt x="2064" y="68"/>
                  </a:lnTo>
                  <a:lnTo>
                    <a:pt x="2083" y="52"/>
                  </a:lnTo>
                  <a:lnTo>
                    <a:pt x="2099" y="36"/>
                  </a:lnTo>
                  <a:lnTo>
                    <a:pt x="2107" y="27"/>
                  </a:lnTo>
                  <a:lnTo>
                    <a:pt x="2114" y="19"/>
                  </a:lnTo>
                  <a:lnTo>
                    <a:pt x="2120" y="9"/>
                  </a:lnTo>
                  <a:lnTo>
                    <a:pt x="2126" y="0"/>
                  </a:lnTo>
                  <a:lnTo>
                    <a:pt x="2157" y="42"/>
                  </a:lnTo>
                  <a:lnTo>
                    <a:pt x="2189" y="89"/>
                  </a:lnTo>
                  <a:lnTo>
                    <a:pt x="2206" y="112"/>
                  </a:lnTo>
                  <a:lnTo>
                    <a:pt x="2221" y="137"/>
                  </a:lnTo>
                  <a:lnTo>
                    <a:pt x="2235" y="162"/>
                  </a:lnTo>
                  <a:lnTo>
                    <a:pt x="2249" y="188"/>
                  </a:lnTo>
                  <a:lnTo>
                    <a:pt x="2259" y="214"/>
                  </a:lnTo>
                  <a:lnTo>
                    <a:pt x="2269" y="240"/>
                  </a:lnTo>
                  <a:lnTo>
                    <a:pt x="2272" y="252"/>
                  </a:lnTo>
                  <a:lnTo>
                    <a:pt x="2275" y="265"/>
                  </a:lnTo>
                  <a:lnTo>
                    <a:pt x="2277" y="278"/>
                  </a:lnTo>
                  <a:lnTo>
                    <a:pt x="2278" y="292"/>
                  </a:lnTo>
                  <a:lnTo>
                    <a:pt x="2278" y="305"/>
                  </a:lnTo>
                  <a:lnTo>
                    <a:pt x="2278" y="318"/>
                  </a:lnTo>
                  <a:lnTo>
                    <a:pt x="2277" y="331"/>
                  </a:lnTo>
                  <a:lnTo>
                    <a:pt x="2275" y="345"/>
                  </a:lnTo>
                  <a:lnTo>
                    <a:pt x="2271" y="358"/>
                  </a:lnTo>
                  <a:lnTo>
                    <a:pt x="2266" y="371"/>
                  </a:lnTo>
                  <a:lnTo>
                    <a:pt x="2261" y="383"/>
                  </a:lnTo>
                  <a:lnTo>
                    <a:pt x="2254" y="39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54880" y="4074120"/>
              <a:ext cx="23400" cy="11160"/>
            </a:xfrm>
            <a:custGeom>
              <a:avLst/>
              <a:gdLst/>
              <a:ahLst/>
              <a:rect l="l" t="t" r="r" b="b"/>
              <a:pathLst>
                <a:path w="75" h="38">
                  <a:moveTo>
                    <a:pt x="75" y="7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0" y="24"/>
                  </a:lnTo>
                  <a:lnTo>
                    <a:pt x="67" y="29"/>
                  </a:lnTo>
                  <a:lnTo>
                    <a:pt x="62" y="33"/>
                  </a:lnTo>
                  <a:lnTo>
                    <a:pt x="57" y="36"/>
                  </a:lnTo>
                  <a:lnTo>
                    <a:pt x="53" y="37"/>
                  </a:lnTo>
                  <a:lnTo>
                    <a:pt x="48" y="38"/>
                  </a:lnTo>
                  <a:lnTo>
                    <a:pt x="39" y="38"/>
                  </a:lnTo>
                  <a:lnTo>
                    <a:pt x="28" y="38"/>
                  </a:lnTo>
                  <a:lnTo>
                    <a:pt x="19" y="36"/>
                  </a:lnTo>
                  <a:lnTo>
                    <a:pt x="11" y="34"/>
                  </a:lnTo>
                  <a:lnTo>
                    <a:pt x="7" y="31"/>
                  </a:lnTo>
                  <a:lnTo>
                    <a:pt x="5" y="28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2" y="0"/>
                  </a:lnTo>
                  <a:lnTo>
                    <a:pt x="11" y="4"/>
                  </a:lnTo>
                  <a:lnTo>
                    <a:pt x="20" y="7"/>
                  </a:lnTo>
                  <a:lnTo>
                    <a:pt x="29" y="7"/>
                  </a:lnTo>
                  <a:lnTo>
                    <a:pt x="39" y="7"/>
                  </a:lnTo>
                  <a:lnTo>
                    <a:pt x="59" y="7"/>
                  </a:lnTo>
                  <a:lnTo>
                    <a:pt x="75" y="7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62600" y="4369680"/>
              <a:ext cx="107280" cy="790560"/>
            </a:xfrm>
            <a:custGeom>
              <a:avLst/>
              <a:gdLst/>
              <a:ahLst/>
              <a:rect l="l" t="t" r="r" b="b"/>
              <a:pathLst>
                <a:path w="357" h="2990">
                  <a:moveTo>
                    <a:pt x="297" y="159"/>
                  </a:moveTo>
                  <a:lnTo>
                    <a:pt x="305" y="170"/>
                  </a:lnTo>
                  <a:lnTo>
                    <a:pt x="312" y="181"/>
                  </a:lnTo>
                  <a:lnTo>
                    <a:pt x="319" y="193"/>
                  </a:lnTo>
                  <a:lnTo>
                    <a:pt x="324" y="205"/>
                  </a:lnTo>
                  <a:lnTo>
                    <a:pt x="328" y="216"/>
                  </a:lnTo>
                  <a:lnTo>
                    <a:pt x="333" y="229"/>
                  </a:lnTo>
                  <a:lnTo>
                    <a:pt x="335" y="242"/>
                  </a:lnTo>
                  <a:lnTo>
                    <a:pt x="339" y="256"/>
                  </a:lnTo>
                  <a:lnTo>
                    <a:pt x="341" y="284"/>
                  </a:lnTo>
                  <a:lnTo>
                    <a:pt x="342" y="312"/>
                  </a:lnTo>
                  <a:lnTo>
                    <a:pt x="342" y="343"/>
                  </a:lnTo>
                  <a:lnTo>
                    <a:pt x="340" y="373"/>
                  </a:lnTo>
                  <a:lnTo>
                    <a:pt x="335" y="435"/>
                  </a:lnTo>
                  <a:lnTo>
                    <a:pt x="331" y="498"/>
                  </a:lnTo>
                  <a:lnTo>
                    <a:pt x="329" y="530"/>
                  </a:lnTo>
                  <a:lnTo>
                    <a:pt x="329" y="561"/>
                  </a:lnTo>
                  <a:lnTo>
                    <a:pt x="331" y="592"/>
                  </a:lnTo>
                  <a:lnTo>
                    <a:pt x="335" y="622"/>
                  </a:lnTo>
                  <a:lnTo>
                    <a:pt x="341" y="649"/>
                  </a:lnTo>
                  <a:lnTo>
                    <a:pt x="346" y="675"/>
                  </a:lnTo>
                  <a:lnTo>
                    <a:pt x="350" y="700"/>
                  </a:lnTo>
                  <a:lnTo>
                    <a:pt x="354" y="724"/>
                  </a:lnTo>
                  <a:lnTo>
                    <a:pt x="355" y="749"/>
                  </a:lnTo>
                  <a:lnTo>
                    <a:pt x="356" y="773"/>
                  </a:lnTo>
                  <a:lnTo>
                    <a:pt x="357" y="797"/>
                  </a:lnTo>
                  <a:lnTo>
                    <a:pt x="357" y="820"/>
                  </a:lnTo>
                  <a:lnTo>
                    <a:pt x="356" y="842"/>
                  </a:lnTo>
                  <a:lnTo>
                    <a:pt x="354" y="866"/>
                  </a:lnTo>
                  <a:lnTo>
                    <a:pt x="352" y="888"/>
                  </a:lnTo>
                  <a:lnTo>
                    <a:pt x="349" y="910"/>
                  </a:lnTo>
                  <a:lnTo>
                    <a:pt x="342" y="953"/>
                  </a:lnTo>
                  <a:lnTo>
                    <a:pt x="334" y="998"/>
                  </a:lnTo>
                  <a:lnTo>
                    <a:pt x="313" y="1084"/>
                  </a:lnTo>
                  <a:lnTo>
                    <a:pt x="293" y="1172"/>
                  </a:lnTo>
                  <a:lnTo>
                    <a:pt x="283" y="1218"/>
                  </a:lnTo>
                  <a:lnTo>
                    <a:pt x="274" y="1264"/>
                  </a:lnTo>
                  <a:lnTo>
                    <a:pt x="267" y="1312"/>
                  </a:lnTo>
                  <a:lnTo>
                    <a:pt x="263" y="1362"/>
                  </a:lnTo>
                  <a:lnTo>
                    <a:pt x="259" y="1454"/>
                  </a:lnTo>
                  <a:lnTo>
                    <a:pt x="258" y="1544"/>
                  </a:lnTo>
                  <a:lnTo>
                    <a:pt x="257" y="1634"/>
                  </a:lnTo>
                  <a:lnTo>
                    <a:pt x="258" y="1723"/>
                  </a:lnTo>
                  <a:lnTo>
                    <a:pt x="260" y="1811"/>
                  </a:lnTo>
                  <a:lnTo>
                    <a:pt x="263" y="1898"/>
                  </a:lnTo>
                  <a:lnTo>
                    <a:pt x="266" y="1985"/>
                  </a:lnTo>
                  <a:lnTo>
                    <a:pt x="270" y="2071"/>
                  </a:lnTo>
                  <a:lnTo>
                    <a:pt x="273" y="2158"/>
                  </a:lnTo>
                  <a:lnTo>
                    <a:pt x="277" y="2243"/>
                  </a:lnTo>
                  <a:lnTo>
                    <a:pt x="280" y="2329"/>
                  </a:lnTo>
                  <a:lnTo>
                    <a:pt x="283" y="2415"/>
                  </a:lnTo>
                  <a:lnTo>
                    <a:pt x="285" y="2501"/>
                  </a:lnTo>
                  <a:lnTo>
                    <a:pt x="286" y="2586"/>
                  </a:lnTo>
                  <a:lnTo>
                    <a:pt x="287" y="2671"/>
                  </a:lnTo>
                  <a:lnTo>
                    <a:pt x="286" y="2758"/>
                  </a:lnTo>
                  <a:lnTo>
                    <a:pt x="235" y="2990"/>
                  </a:lnTo>
                  <a:lnTo>
                    <a:pt x="237" y="2928"/>
                  </a:lnTo>
                  <a:lnTo>
                    <a:pt x="241" y="2863"/>
                  </a:lnTo>
                  <a:lnTo>
                    <a:pt x="243" y="2798"/>
                  </a:lnTo>
                  <a:lnTo>
                    <a:pt x="246" y="2731"/>
                  </a:lnTo>
                  <a:lnTo>
                    <a:pt x="250" y="2663"/>
                  </a:lnTo>
                  <a:lnTo>
                    <a:pt x="252" y="2595"/>
                  </a:lnTo>
                  <a:lnTo>
                    <a:pt x="255" y="2526"/>
                  </a:lnTo>
                  <a:lnTo>
                    <a:pt x="256" y="2456"/>
                  </a:lnTo>
                  <a:lnTo>
                    <a:pt x="256" y="2387"/>
                  </a:lnTo>
                  <a:lnTo>
                    <a:pt x="253" y="2317"/>
                  </a:lnTo>
                  <a:lnTo>
                    <a:pt x="250" y="2248"/>
                  </a:lnTo>
                  <a:lnTo>
                    <a:pt x="245" y="2180"/>
                  </a:lnTo>
                  <a:lnTo>
                    <a:pt x="242" y="2146"/>
                  </a:lnTo>
                  <a:lnTo>
                    <a:pt x="237" y="2112"/>
                  </a:lnTo>
                  <a:lnTo>
                    <a:pt x="232" y="2080"/>
                  </a:lnTo>
                  <a:lnTo>
                    <a:pt x="226" y="2046"/>
                  </a:lnTo>
                  <a:lnTo>
                    <a:pt x="221" y="2014"/>
                  </a:lnTo>
                  <a:lnTo>
                    <a:pt x="214" y="1981"/>
                  </a:lnTo>
                  <a:lnTo>
                    <a:pt x="205" y="1950"/>
                  </a:lnTo>
                  <a:lnTo>
                    <a:pt x="197" y="1918"/>
                  </a:lnTo>
                  <a:lnTo>
                    <a:pt x="193" y="1873"/>
                  </a:lnTo>
                  <a:lnTo>
                    <a:pt x="189" y="1827"/>
                  </a:lnTo>
                  <a:lnTo>
                    <a:pt x="188" y="1780"/>
                  </a:lnTo>
                  <a:lnTo>
                    <a:pt x="187" y="1735"/>
                  </a:lnTo>
                  <a:lnTo>
                    <a:pt x="186" y="1688"/>
                  </a:lnTo>
                  <a:lnTo>
                    <a:pt x="187" y="1640"/>
                  </a:lnTo>
                  <a:lnTo>
                    <a:pt x="187" y="1593"/>
                  </a:lnTo>
                  <a:lnTo>
                    <a:pt x="189" y="1545"/>
                  </a:lnTo>
                  <a:lnTo>
                    <a:pt x="194" y="1450"/>
                  </a:lnTo>
                  <a:lnTo>
                    <a:pt x="200" y="1354"/>
                  </a:lnTo>
                  <a:lnTo>
                    <a:pt x="207" y="1257"/>
                  </a:lnTo>
                  <a:lnTo>
                    <a:pt x="215" y="1162"/>
                  </a:lnTo>
                  <a:lnTo>
                    <a:pt x="222" y="1064"/>
                  </a:lnTo>
                  <a:lnTo>
                    <a:pt x="229" y="967"/>
                  </a:lnTo>
                  <a:lnTo>
                    <a:pt x="235" y="871"/>
                  </a:lnTo>
                  <a:lnTo>
                    <a:pt x="238" y="776"/>
                  </a:lnTo>
                  <a:lnTo>
                    <a:pt x="239" y="729"/>
                  </a:lnTo>
                  <a:lnTo>
                    <a:pt x="239" y="681"/>
                  </a:lnTo>
                  <a:lnTo>
                    <a:pt x="239" y="634"/>
                  </a:lnTo>
                  <a:lnTo>
                    <a:pt x="238" y="586"/>
                  </a:lnTo>
                  <a:lnTo>
                    <a:pt x="236" y="540"/>
                  </a:lnTo>
                  <a:lnTo>
                    <a:pt x="233" y="494"/>
                  </a:lnTo>
                  <a:lnTo>
                    <a:pt x="229" y="447"/>
                  </a:lnTo>
                  <a:lnTo>
                    <a:pt x="224" y="401"/>
                  </a:lnTo>
                  <a:lnTo>
                    <a:pt x="214" y="380"/>
                  </a:lnTo>
                  <a:lnTo>
                    <a:pt x="200" y="359"/>
                  </a:lnTo>
                  <a:lnTo>
                    <a:pt x="184" y="338"/>
                  </a:lnTo>
                  <a:lnTo>
                    <a:pt x="168" y="318"/>
                  </a:lnTo>
                  <a:lnTo>
                    <a:pt x="132" y="278"/>
                  </a:lnTo>
                  <a:lnTo>
                    <a:pt x="94" y="239"/>
                  </a:lnTo>
                  <a:lnTo>
                    <a:pt x="76" y="218"/>
                  </a:lnTo>
                  <a:lnTo>
                    <a:pt x="58" y="198"/>
                  </a:lnTo>
                  <a:lnTo>
                    <a:pt x="43" y="177"/>
                  </a:lnTo>
                  <a:lnTo>
                    <a:pt x="29" y="154"/>
                  </a:lnTo>
                  <a:lnTo>
                    <a:pt x="23" y="144"/>
                  </a:lnTo>
                  <a:lnTo>
                    <a:pt x="17" y="132"/>
                  </a:lnTo>
                  <a:lnTo>
                    <a:pt x="12" y="121"/>
                  </a:lnTo>
                  <a:lnTo>
                    <a:pt x="8" y="109"/>
                  </a:lnTo>
                  <a:lnTo>
                    <a:pt x="4" y="97"/>
                  </a:lnTo>
                  <a:lnTo>
                    <a:pt x="2" y="84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0" y="67"/>
                  </a:lnTo>
                  <a:lnTo>
                    <a:pt x="45" y="0"/>
                  </a:lnTo>
                  <a:lnTo>
                    <a:pt x="52" y="4"/>
                  </a:lnTo>
                  <a:lnTo>
                    <a:pt x="60" y="7"/>
                  </a:lnTo>
                  <a:lnTo>
                    <a:pt x="67" y="11"/>
                  </a:lnTo>
                  <a:lnTo>
                    <a:pt x="74" y="15"/>
                  </a:lnTo>
                  <a:lnTo>
                    <a:pt x="88" y="27"/>
                  </a:lnTo>
                  <a:lnTo>
                    <a:pt x="103" y="40"/>
                  </a:lnTo>
                  <a:lnTo>
                    <a:pt x="129" y="69"/>
                  </a:lnTo>
                  <a:lnTo>
                    <a:pt x="157" y="99"/>
                  </a:lnTo>
                  <a:lnTo>
                    <a:pt x="173" y="115"/>
                  </a:lnTo>
                  <a:lnTo>
                    <a:pt x="187" y="128"/>
                  </a:lnTo>
                  <a:lnTo>
                    <a:pt x="203" y="139"/>
                  </a:lnTo>
                  <a:lnTo>
                    <a:pt x="219" y="150"/>
                  </a:lnTo>
                  <a:lnTo>
                    <a:pt x="228" y="153"/>
                  </a:lnTo>
                  <a:lnTo>
                    <a:pt x="237" y="157"/>
                  </a:lnTo>
                  <a:lnTo>
                    <a:pt x="246" y="160"/>
                  </a:lnTo>
                  <a:lnTo>
                    <a:pt x="256" y="161"/>
                  </a:lnTo>
                  <a:lnTo>
                    <a:pt x="265" y="163"/>
                  </a:lnTo>
                  <a:lnTo>
                    <a:pt x="276" y="163"/>
                  </a:lnTo>
                  <a:lnTo>
                    <a:pt x="286" y="161"/>
                  </a:lnTo>
                  <a:lnTo>
                    <a:pt x="297" y="159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30880" y="4393440"/>
              <a:ext cx="125280" cy="712800"/>
            </a:xfrm>
            <a:custGeom>
              <a:avLst/>
              <a:gdLst/>
              <a:ahLst/>
              <a:rect l="l" t="t" r="r" b="b"/>
              <a:pathLst>
                <a:path w="420" h="2692">
                  <a:moveTo>
                    <a:pt x="279" y="249"/>
                  </a:moveTo>
                  <a:lnTo>
                    <a:pt x="256" y="297"/>
                  </a:lnTo>
                  <a:lnTo>
                    <a:pt x="235" y="346"/>
                  </a:lnTo>
                  <a:lnTo>
                    <a:pt x="215" y="395"/>
                  </a:lnTo>
                  <a:lnTo>
                    <a:pt x="196" y="444"/>
                  </a:lnTo>
                  <a:lnTo>
                    <a:pt x="180" y="494"/>
                  </a:lnTo>
                  <a:lnTo>
                    <a:pt x="165" y="545"/>
                  </a:lnTo>
                  <a:lnTo>
                    <a:pt x="151" y="596"/>
                  </a:lnTo>
                  <a:lnTo>
                    <a:pt x="138" y="648"/>
                  </a:lnTo>
                  <a:lnTo>
                    <a:pt x="127" y="699"/>
                  </a:lnTo>
                  <a:lnTo>
                    <a:pt x="117" y="751"/>
                  </a:lnTo>
                  <a:lnTo>
                    <a:pt x="109" y="803"/>
                  </a:lnTo>
                  <a:lnTo>
                    <a:pt x="102" y="856"/>
                  </a:lnTo>
                  <a:lnTo>
                    <a:pt x="96" y="908"/>
                  </a:lnTo>
                  <a:lnTo>
                    <a:pt x="91" y="961"/>
                  </a:lnTo>
                  <a:lnTo>
                    <a:pt x="88" y="1014"/>
                  </a:lnTo>
                  <a:lnTo>
                    <a:pt x="85" y="1068"/>
                  </a:lnTo>
                  <a:lnTo>
                    <a:pt x="84" y="1120"/>
                  </a:lnTo>
                  <a:lnTo>
                    <a:pt x="83" y="1174"/>
                  </a:lnTo>
                  <a:lnTo>
                    <a:pt x="84" y="1227"/>
                  </a:lnTo>
                  <a:lnTo>
                    <a:pt x="85" y="1280"/>
                  </a:lnTo>
                  <a:lnTo>
                    <a:pt x="88" y="1334"/>
                  </a:lnTo>
                  <a:lnTo>
                    <a:pt x="91" y="1388"/>
                  </a:lnTo>
                  <a:lnTo>
                    <a:pt x="96" y="1441"/>
                  </a:lnTo>
                  <a:lnTo>
                    <a:pt x="100" y="1494"/>
                  </a:lnTo>
                  <a:lnTo>
                    <a:pt x="106" y="1547"/>
                  </a:lnTo>
                  <a:lnTo>
                    <a:pt x="113" y="1600"/>
                  </a:lnTo>
                  <a:lnTo>
                    <a:pt x="120" y="1653"/>
                  </a:lnTo>
                  <a:lnTo>
                    <a:pt x="129" y="1706"/>
                  </a:lnTo>
                  <a:lnTo>
                    <a:pt x="137" y="1759"/>
                  </a:lnTo>
                  <a:lnTo>
                    <a:pt x="146" y="1810"/>
                  </a:lnTo>
                  <a:lnTo>
                    <a:pt x="155" y="1863"/>
                  </a:lnTo>
                  <a:lnTo>
                    <a:pt x="166" y="1914"/>
                  </a:lnTo>
                  <a:lnTo>
                    <a:pt x="171" y="1939"/>
                  </a:lnTo>
                  <a:lnTo>
                    <a:pt x="175" y="1963"/>
                  </a:lnTo>
                  <a:lnTo>
                    <a:pt x="180" y="1988"/>
                  </a:lnTo>
                  <a:lnTo>
                    <a:pt x="182" y="2013"/>
                  </a:lnTo>
                  <a:lnTo>
                    <a:pt x="185" y="2036"/>
                  </a:lnTo>
                  <a:lnTo>
                    <a:pt x="186" y="2061"/>
                  </a:lnTo>
                  <a:lnTo>
                    <a:pt x="187" y="2085"/>
                  </a:lnTo>
                  <a:lnTo>
                    <a:pt x="187" y="2108"/>
                  </a:lnTo>
                  <a:lnTo>
                    <a:pt x="185" y="2158"/>
                  </a:lnTo>
                  <a:lnTo>
                    <a:pt x="180" y="2206"/>
                  </a:lnTo>
                  <a:lnTo>
                    <a:pt x="173" y="2254"/>
                  </a:lnTo>
                  <a:lnTo>
                    <a:pt x="166" y="2301"/>
                  </a:lnTo>
                  <a:lnTo>
                    <a:pt x="157" y="2349"/>
                  </a:lnTo>
                  <a:lnTo>
                    <a:pt x="146" y="2397"/>
                  </a:lnTo>
                  <a:lnTo>
                    <a:pt x="134" y="2446"/>
                  </a:lnTo>
                  <a:lnTo>
                    <a:pt x="124" y="2494"/>
                  </a:lnTo>
                  <a:lnTo>
                    <a:pt x="112" y="2544"/>
                  </a:lnTo>
                  <a:lnTo>
                    <a:pt x="102" y="2593"/>
                  </a:lnTo>
                  <a:lnTo>
                    <a:pt x="91" y="2642"/>
                  </a:lnTo>
                  <a:lnTo>
                    <a:pt x="83" y="2692"/>
                  </a:lnTo>
                  <a:lnTo>
                    <a:pt x="78" y="2669"/>
                  </a:lnTo>
                  <a:lnTo>
                    <a:pt x="75" y="2645"/>
                  </a:lnTo>
                  <a:lnTo>
                    <a:pt x="72" y="2622"/>
                  </a:lnTo>
                  <a:lnTo>
                    <a:pt x="71" y="2597"/>
                  </a:lnTo>
                  <a:lnTo>
                    <a:pt x="71" y="2574"/>
                  </a:lnTo>
                  <a:lnTo>
                    <a:pt x="71" y="2549"/>
                  </a:lnTo>
                  <a:lnTo>
                    <a:pt x="72" y="2525"/>
                  </a:lnTo>
                  <a:lnTo>
                    <a:pt x="75" y="2500"/>
                  </a:lnTo>
                  <a:lnTo>
                    <a:pt x="79" y="2451"/>
                  </a:lnTo>
                  <a:lnTo>
                    <a:pt x="86" y="2401"/>
                  </a:lnTo>
                  <a:lnTo>
                    <a:pt x="93" y="2351"/>
                  </a:lnTo>
                  <a:lnTo>
                    <a:pt x="102" y="2300"/>
                  </a:lnTo>
                  <a:lnTo>
                    <a:pt x="109" y="2250"/>
                  </a:lnTo>
                  <a:lnTo>
                    <a:pt x="116" y="2200"/>
                  </a:lnTo>
                  <a:lnTo>
                    <a:pt x="120" y="2149"/>
                  </a:lnTo>
                  <a:lnTo>
                    <a:pt x="124" y="2099"/>
                  </a:lnTo>
                  <a:lnTo>
                    <a:pt x="124" y="2073"/>
                  </a:lnTo>
                  <a:lnTo>
                    <a:pt x="123" y="2049"/>
                  </a:lnTo>
                  <a:lnTo>
                    <a:pt x="122" y="2024"/>
                  </a:lnTo>
                  <a:lnTo>
                    <a:pt x="119" y="2000"/>
                  </a:lnTo>
                  <a:lnTo>
                    <a:pt x="117" y="1975"/>
                  </a:lnTo>
                  <a:lnTo>
                    <a:pt x="112" y="1952"/>
                  </a:lnTo>
                  <a:lnTo>
                    <a:pt x="106" y="1927"/>
                  </a:lnTo>
                  <a:lnTo>
                    <a:pt x="99" y="1904"/>
                  </a:lnTo>
                  <a:lnTo>
                    <a:pt x="82" y="1806"/>
                  </a:lnTo>
                  <a:lnTo>
                    <a:pt x="65" y="1704"/>
                  </a:lnTo>
                  <a:lnTo>
                    <a:pt x="49" y="1600"/>
                  </a:lnTo>
                  <a:lnTo>
                    <a:pt x="35" y="1494"/>
                  </a:lnTo>
                  <a:lnTo>
                    <a:pt x="28" y="1441"/>
                  </a:lnTo>
                  <a:lnTo>
                    <a:pt x="22" y="1388"/>
                  </a:lnTo>
                  <a:lnTo>
                    <a:pt x="17" y="1333"/>
                  </a:lnTo>
                  <a:lnTo>
                    <a:pt x="13" y="1279"/>
                  </a:lnTo>
                  <a:lnTo>
                    <a:pt x="8" y="1225"/>
                  </a:lnTo>
                  <a:lnTo>
                    <a:pt x="5" y="1170"/>
                  </a:lnTo>
                  <a:lnTo>
                    <a:pt x="2" y="1117"/>
                  </a:lnTo>
                  <a:lnTo>
                    <a:pt x="1" y="1063"/>
                  </a:lnTo>
                  <a:lnTo>
                    <a:pt x="0" y="1008"/>
                  </a:lnTo>
                  <a:lnTo>
                    <a:pt x="0" y="954"/>
                  </a:lnTo>
                  <a:lnTo>
                    <a:pt x="1" y="900"/>
                  </a:lnTo>
                  <a:lnTo>
                    <a:pt x="3" y="846"/>
                  </a:lnTo>
                  <a:lnTo>
                    <a:pt x="7" y="794"/>
                  </a:lnTo>
                  <a:lnTo>
                    <a:pt x="12" y="740"/>
                  </a:lnTo>
                  <a:lnTo>
                    <a:pt x="16" y="687"/>
                  </a:lnTo>
                  <a:lnTo>
                    <a:pt x="23" y="636"/>
                  </a:lnTo>
                  <a:lnTo>
                    <a:pt x="31" y="584"/>
                  </a:lnTo>
                  <a:lnTo>
                    <a:pt x="41" y="533"/>
                  </a:lnTo>
                  <a:lnTo>
                    <a:pt x="51" y="483"/>
                  </a:lnTo>
                  <a:lnTo>
                    <a:pt x="64" y="432"/>
                  </a:lnTo>
                  <a:lnTo>
                    <a:pt x="77" y="383"/>
                  </a:lnTo>
                  <a:lnTo>
                    <a:pt x="92" y="335"/>
                  </a:lnTo>
                  <a:lnTo>
                    <a:pt x="109" y="289"/>
                  </a:lnTo>
                  <a:lnTo>
                    <a:pt x="127" y="242"/>
                  </a:lnTo>
                  <a:lnTo>
                    <a:pt x="127" y="148"/>
                  </a:lnTo>
                  <a:lnTo>
                    <a:pt x="154" y="149"/>
                  </a:lnTo>
                  <a:lnTo>
                    <a:pt x="179" y="151"/>
                  </a:lnTo>
                  <a:lnTo>
                    <a:pt x="203" y="153"/>
                  </a:lnTo>
                  <a:lnTo>
                    <a:pt x="227" y="153"/>
                  </a:lnTo>
                  <a:lnTo>
                    <a:pt x="238" y="152"/>
                  </a:lnTo>
                  <a:lnTo>
                    <a:pt x="251" y="151"/>
                  </a:lnTo>
                  <a:lnTo>
                    <a:pt x="263" y="148"/>
                  </a:lnTo>
                  <a:lnTo>
                    <a:pt x="275" y="146"/>
                  </a:lnTo>
                  <a:lnTo>
                    <a:pt x="286" y="141"/>
                  </a:lnTo>
                  <a:lnTo>
                    <a:pt x="299" y="135"/>
                  </a:lnTo>
                  <a:lnTo>
                    <a:pt x="311" y="129"/>
                  </a:lnTo>
                  <a:lnTo>
                    <a:pt x="324" y="121"/>
                  </a:lnTo>
                  <a:lnTo>
                    <a:pt x="376" y="0"/>
                  </a:lnTo>
                  <a:lnTo>
                    <a:pt x="387" y="9"/>
                  </a:lnTo>
                  <a:lnTo>
                    <a:pt x="398" y="18"/>
                  </a:lnTo>
                  <a:lnTo>
                    <a:pt x="405" y="28"/>
                  </a:lnTo>
                  <a:lnTo>
                    <a:pt x="410" y="36"/>
                  </a:lnTo>
                  <a:lnTo>
                    <a:pt x="415" y="45"/>
                  </a:lnTo>
                  <a:lnTo>
                    <a:pt x="417" y="53"/>
                  </a:lnTo>
                  <a:lnTo>
                    <a:pt x="420" y="62"/>
                  </a:lnTo>
                  <a:lnTo>
                    <a:pt x="420" y="69"/>
                  </a:lnTo>
                  <a:lnTo>
                    <a:pt x="419" y="77"/>
                  </a:lnTo>
                  <a:lnTo>
                    <a:pt x="416" y="84"/>
                  </a:lnTo>
                  <a:lnTo>
                    <a:pt x="413" y="91"/>
                  </a:lnTo>
                  <a:lnTo>
                    <a:pt x="409" y="99"/>
                  </a:lnTo>
                  <a:lnTo>
                    <a:pt x="398" y="113"/>
                  </a:lnTo>
                  <a:lnTo>
                    <a:pt x="385" y="127"/>
                  </a:lnTo>
                  <a:lnTo>
                    <a:pt x="354" y="155"/>
                  </a:lnTo>
                  <a:lnTo>
                    <a:pt x="321" y="183"/>
                  </a:lnTo>
                  <a:lnTo>
                    <a:pt x="307" y="198"/>
                  </a:lnTo>
                  <a:lnTo>
                    <a:pt x="295" y="215"/>
                  </a:lnTo>
                  <a:lnTo>
                    <a:pt x="290" y="223"/>
                  </a:lnTo>
                  <a:lnTo>
                    <a:pt x="285" y="231"/>
                  </a:lnTo>
                  <a:lnTo>
                    <a:pt x="282" y="239"/>
                  </a:lnTo>
                  <a:lnTo>
                    <a:pt x="279" y="249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301760" y="4460040"/>
              <a:ext cx="101520" cy="554040"/>
            </a:xfrm>
            <a:custGeom>
              <a:avLst/>
              <a:gdLst/>
              <a:ahLst/>
              <a:rect l="l" t="t" r="r" b="b"/>
              <a:pathLst>
                <a:path w="343" h="2093">
                  <a:moveTo>
                    <a:pt x="196" y="307"/>
                  </a:moveTo>
                  <a:lnTo>
                    <a:pt x="193" y="346"/>
                  </a:lnTo>
                  <a:lnTo>
                    <a:pt x="190" y="385"/>
                  </a:lnTo>
                  <a:lnTo>
                    <a:pt x="185" y="424"/>
                  </a:lnTo>
                  <a:lnTo>
                    <a:pt x="180" y="463"/>
                  </a:lnTo>
                  <a:lnTo>
                    <a:pt x="166" y="541"/>
                  </a:lnTo>
                  <a:lnTo>
                    <a:pt x="151" y="620"/>
                  </a:lnTo>
                  <a:lnTo>
                    <a:pt x="135" y="698"/>
                  </a:lnTo>
                  <a:lnTo>
                    <a:pt x="120" y="776"/>
                  </a:lnTo>
                  <a:lnTo>
                    <a:pt x="104" y="855"/>
                  </a:lnTo>
                  <a:lnTo>
                    <a:pt x="90" y="933"/>
                  </a:lnTo>
                  <a:lnTo>
                    <a:pt x="86" y="972"/>
                  </a:lnTo>
                  <a:lnTo>
                    <a:pt x="81" y="1010"/>
                  </a:lnTo>
                  <a:lnTo>
                    <a:pt x="77" y="1049"/>
                  </a:lnTo>
                  <a:lnTo>
                    <a:pt x="76" y="1088"/>
                  </a:lnTo>
                  <a:lnTo>
                    <a:pt x="75" y="1126"/>
                  </a:lnTo>
                  <a:lnTo>
                    <a:pt x="76" y="1164"/>
                  </a:lnTo>
                  <a:lnTo>
                    <a:pt x="79" y="1202"/>
                  </a:lnTo>
                  <a:lnTo>
                    <a:pt x="82" y="1240"/>
                  </a:lnTo>
                  <a:lnTo>
                    <a:pt x="89" y="1278"/>
                  </a:lnTo>
                  <a:lnTo>
                    <a:pt x="97" y="1316"/>
                  </a:lnTo>
                  <a:lnTo>
                    <a:pt x="107" y="1353"/>
                  </a:lnTo>
                  <a:lnTo>
                    <a:pt x="120" y="1390"/>
                  </a:lnTo>
                  <a:lnTo>
                    <a:pt x="135" y="1428"/>
                  </a:lnTo>
                  <a:lnTo>
                    <a:pt x="152" y="1464"/>
                  </a:lnTo>
                  <a:lnTo>
                    <a:pt x="172" y="1500"/>
                  </a:lnTo>
                  <a:lnTo>
                    <a:pt x="196" y="1538"/>
                  </a:lnTo>
                  <a:lnTo>
                    <a:pt x="217" y="1567"/>
                  </a:lnTo>
                  <a:lnTo>
                    <a:pt x="235" y="1597"/>
                  </a:lnTo>
                  <a:lnTo>
                    <a:pt x="254" y="1629"/>
                  </a:lnTo>
                  <a:lnTo>
                    <a:pt x="270" y="1661"/>
                  </a:lnTo>
                  <a:lnTo>
                    <a:pt x="284" y="1693"/>
                  </a:lnTo>
                  <a:lnTo>
                    <a:pt x="297" y="1727"/>
                  </a:lnTo>
                  <a:lnTo>
                    <a:pt x="309" y="1761"/>
                  </a:lnTo>
                  <a:lnTo>
                    <a:pt x="320" y="1796"/>
                  </a:lnTo>
                  <a:lnTo>
                    <a:pt x="328" y="1831"/>
                  </a:lnTo>
                  <a:lnTo>
                    <a:pt x="334" y="1868"/>
                  </a:lnTo>
                  <a:lnTo>
                    <a:pt x="338" y="1904"/>
                  </a:lnTo>
                  <a:lnTo>
                    <a:pt x="342" y="1941"/>
                  </a:lnTo>
                  <a:lnTo>
                    <a:pt x="343" y="1979"/>
                  </a:lnTo>
                  <a:lnTo>
                    <a:pt x="342" y="2016"/>
                  </a:lnTo>
                  <a:lnTo>
                    <a:pt x="338" y="2055"/>
                  </a:lnTo>
                  <a:lnTo>
                    <a:pt x="334" y="2093"/>
                  </a:lnTo>
                  <a:lnTo>
                    <a:pt x="301" y="1996"/>
                  </a:lnTo>
                  <a:lnTo>
                    <a:pt x="270" y="1902"/>
                  </a:lnTo>
                  <a:lnTo>
                    <a:pt x="240" y="1808"/>
                  </a:lnTo>
                  <a:lnTo>
                    <a:pt x="211" y="1716"/>
                  </a:lnTo>
                  <a:lnTo>
                    <a:pt x="196" y="1670"/>
                  </a:lnTo>
                  <a:lnTo>
                    <a:pt x="180" y="1624"/>
                  </a:lnTo>
                  <a:lnTo>
                    <a:pt x="163" y="1578"/>
                  </a:lnTo>
                  <a:lnTo>
                    <a:pt x="146" y="1532"/>
                  </a:lnTo>
                  <a:lnTo>
                    <a:pt x="128" y="1485"/>
                  </a:lnTo>
                  <a:lnTo>
                    <a:pt x="108" y="1438"/>
                  </a:lnTo>
                  <a:lnTo>
                    <a:pt x="87" y="1392"/>
                  </a:lnTo>
                  <a:lnTo>
                    <a:pt x="65" y="1344"/>
                  </a:lnTo>
                  <a:lnTo>
                    <a:pt x="53" y="1314"/>
                  </a:lnTo>
                  <a:lnTo>
                    <a:pt x="42" y="1284"/>
                  </a:lnTo>
                  <a:lnTo>
                    <a:pt x="33" y="1254"/>
                  </a:lnTo>
                  <a:lnTo>
                    <a:pt x="25" y="1223"/>
                  </a:lnTo>
                  <a:lnTo>
                    <a:pt x="19" y="1192"/>
                  </a:lnTo>
                  <a:lnTo>
                    <a:pt x="13" y="1160"/>
                  </a:lnTo>
                  <a:lnTo>
                    <a:pt x="8" y="1128"/>
                  </a:lnTo>
                  <a:lnTo>
                    <a:pt x="5" y="1097"/>
                  </a:lnTo>
                  <a:lnTo>
                    <a:pt x="3" y="1065"/>
                  </a:lnTo>
                  <a:lnTo>
                    <a:pt x="1" y="1033"/>
                  </a:lnTo>
                  <a:lnTo>
                    <a:pt x="0" y="1000"/>
                  </a:lnTo>
                  <a:lnTo>
                    <a:pt x="0" y="967"/>
                  </a:lnTo>
                  <a:lnTo>
                    <a:pt x="1" y="902"/>
                  </a:lnTo>
                  <a:lnTo>
                    <a:pt x="5" y="835"/>
                  </a:lnTo>
                  <a:lnTo>
                    <a:pt x="11" y="769"/>
                  </a:lnTo>
                  <a:lnTo>
                    <a:pt x="17" y="703"/>
                  </a:lnTo>
                  <a:lnTo>
                    <a:pt x="23" y="636"/>
                  </a:lnTo>
                  <a:lnTo>
                    <a:pt x="28" y="571"/>
                  </a:lnTo>
                  <a:lnTo>
                    <a:pt x="33" y="505"/>
                  </a:lnTo>
                  <a:lnTo>
                    <a:pt x="37" y="441"/>
                  </a:lnTo>
                  <a:lnTo>
                    <a:pt x="38" y="409"/>
                  </a:lnTo>
                  <a:lnTo>
                    <a:pt x="38" y="376"/>
                  </a:lnTo>
                  <a:lnTo>
                    <a:pt x="38" y="345"/>
                  </a:lnTo>
                  <a:lnTo>
                    <a:pt x="37" y="314"/>
                  </a:lnTo>
                  <a:lnTo>
                    <a:pt x="47" y="272"/>
                  </a:lnTo>
                  <a:lnTo>
                    <a:pt x="59" y="229"/>
                  </a:lnTo>
                  <a:lnTo>
                    <a:pt x="70" y="187"/>
                  </a:lnTo>
                  <a:lnTo>
                    <a:pt x="83" y="145"/>
                  </a:lnTo>
                  <a:lnTo>
                    <a:pt x="90" y="125"/>
                  </a:lnTo>
                  <a:lnTo>
                    <a:pt x="99" y="105"/>
                  </a:lnTo>
                  <a:lnTo>
                    <a:pt x="107" y="85"/>
                  </a:lnTo>
                  <a:lnTo>
                    <a:pt x="115" y="66"/>
                  </a:lnTo>
                  <a:lnTo>
                    <a:pt x="124" y="49"/>
                  </a:lnTo>
                  <a:lnTo>
                    <a:pt x="135" y="31"/>
                  </a:lnTo>
                  <a:lnTo>
                    <a:pt x="146" y="15"/>
                  </a:lnTo>
                  <a:lnTo>
                    <a:pt x="158" y="0"/>
                  </a:lnTo>
                  <a:lnTo>
                    <a:pt x="168" y="16"/>
                  </a:lnTo>
                  <a:lnTo>
                    <a:pt x="175" y="34"/>
                  </a:lnTo>
                  <a:lnTo>
                    <a:pt x="182" y="51"/>
                  </a:lnTo>
                  <a:lnTo>
                    <a:pt x="187" y="70"/>
                  </a:lnTo>
                  <a:lnTo>
                    <a:pt x="192" y="87"/>
                  </a:lnTo>
                  <a:lnTo>
                    <a:pt x="197" y="106"/>
                  </a:lnTo>
                  <a:lnTo>
                    <a:pt x="199" y="125"/>
                  </a:lnTo>
                  <a:lnTo>
                    <a:pt x="201" y="145"/>
                  </a:lnTo>
                  <a:lnTo>
                    <a:pt x="203" y="164"/>
                  </a:lnTo>
                  <a:lnTo>
                    <a:pt x="204" y="183"/>
                  </a:lnTo>
                  <a:lnTo>
                    <a:pt x="204" y="203"/>
                  </a:lnTo>
                  <a:lnTo>
                    <a:pt x="203" y="223"/>
                  </a:lnTo>
                  <a:lnTo>
                    <a:pt x="200" y="265"/>
                  </a:lnTo>
                  <a:lnTo>
                    <a:pt x="196" y="307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9960" y="4475880"/>
              <a:ext cx="56880" cy="449280"/>
            </a:xfrm>
            <a:custGeom>
              <a:avLst/>
              <a:gdLst/>
              <a:ahLst/>
              <a:rect l="l" t="t" r="r" b="b"/>
              <a:pathLst>
                <a:path w="190" h="1701">
                  <a:moveTo>
                    <a:pt x="106" y="709"/>
                  </a:moveTo>
                  <a:lnTo>
                    <a:pt x="101" y="775"/>
                  </a:lnTo>
                  <a:lnTo>
                    <a:pt x="100" y="839"/>
                  </a:lnTo>
                  <a:lnTo>
                    <a:pt x="100" y="903"/>
                  </a:lnTo>
                  <a:lnTo>
                    <a:pt x="102" y="969"/>
                  </a:lnTo>
                  <a:lnTo>
                    <a:pt x="105" y="1032"/>
                  </a:lnTo>
                  <a:lnTo>
                    <a:pt x="108" y="1096"/>
                  </a:lnTo>
                  <a:lnTo>
                    <a:pt x="111" y="1159"/>
                  </a:lnTo>
                  <a:lnTo>
                    <a:pt x="114" y="1221"/>
                  </a:lnTo>
                  <a:lnTo>
                    <a:pt x="117" y="1283"/>
                  </a:lnTo>
                  <a:lnTo>
                    <a:pt x="117" y="1345"/>
                  </a:lnTo>
                  <a:lnTo>
                    <a:pt x="117" y="1406"/>
                  </a:lnTo>
                  <a:lnTo>
                    <a:pt x="113" y="1466"/>
                  </a:lnTo>
                  <a:lnTo>
                    <a:pt x="111" y="1496"/>
                  </a:lnTo>
                  <a:lnTo>
                    <a:pt x="107" y="1525"/>
                  </a:lnTo>
                  <a:lnTo>
                    <a:pt x="104" y="1556"/>
                  </a:lnTo>
                  <a:lnTo>
                    <a:pt x="99" y="1585"/>
                  </a:lnTo>
                  <a:lnTo>
                    <a:pt x="93" y="1614"/>
                  </a:lnTo>
                  <a:lnTo>
                    <a:pt x="87" y="1644"/>
                  </a:lnTo>
                  <a:lnTo>
                    <a:pt x="79" y="1672"/>
                  </a:lnTo>
                  <a:lnTo>
                    <a:pt x="71" y="1701"/>
                  </a:lnTo>
                  <a:lnTo>
                    <a:pt x="77" y="1658"/>
                  </a:lnTo>
                  <a:lnTo>
                    <a:pt x="80" y="1615"/>
                  </a:lnTo>
                  <a:lnTo>
                    <a:pt x="83" y="1572"/>
                  </a:lnTo>
                  <a:lnTo>
                    <a:pt x="85" y="1529"/>
                  </a:lnTo>
                  <a:lnTo>
                    <a:pt x="85" y="1485"/>
                  </a:lnTo>
                  <a:lnTo>
                    <a:pt x="85" y="1441"/>
                  </a:lnTo>
                  <a:lnTo>
                    <a:pt x="83" y="1397"/>
                  </a:lnTo>
                  <a:lnTo>
                    <a:pt x="80" y="1352"/>
                  </a:lnTo>
                  <a:lnTo>
                    <a:pt x="73" y="1263"/>
                  </a:lnTo>
                  <a:lnTo>
                    <a:pt x="65" y="1173"/>
                  </a:lnTo>
                  <a:lnTo>
                    <a:pt x="55" y="1082"/>
                  </a:lnTo>
                  <a:lnTo>
                    <a:pt x="43" y="990"/>
                  </a:lnTo>
                  <a:lnTo>
                    <a:pt x="31" y="899"/>
                  </a:lnTo>
                  <a:lnTo>
                    <a:pt x="21" y="805"/>
                  </a:lnTo>
                  <a:lnTo>
                    <a:pt x="11" y="711"/>
                  </a:lnTo>
                  <a:lnTo>
                    <a:pt x="4" y="618"/>
                  </a:lnTo>
                  <a:lnTo>
                    <a:pt x="2" y="571"/>
                  </a:lnTo>
                  <a:lnTo>
                    <a:pt x="0" y="523"/>
                  </a:lnTo>
                  <a:lnTo>
                    <a:pt x="0" y="476"/>
                  </a:lnTo>
                  <a:lnTo>
                    <a:pt x="0" y="428"/>
                  </a:lnTo>
                  <a:lnTo>
                    <a:pt x="1" y="382"/>
                  </a:lnTo>
                  <a:lnTo>
                    <a:pt x="3" y="334"/>
                  </a:lnTo>
                  <a:lnTo>
                    <a:pt x="7" y="287"/>
                  </a:lnTo>
                  <a:lnTo>
                    <a:pt x="12" y="239"/>
                  </a:lnTo>
                  <a:lnTo>
                    <a:pt x="126" y="0"/>
                  </a:lnTo>
                  <a:lnTo>
                    <a:pt x="139" y="21"/>
                  </a:lnTo>
                  <a:lnTo>
                    <a:pt x="150" y="42"/>
                  </a:lnTo>
                  <a:lnTo>
                    <a:pt x="160" y="63"/>
                  </a:lnTo>
                  <a:lnTo>
                    <a:pt x="168" y="84"/>
                  </a:lnTo>
                  <a:lnTo>
                    <a:pt x="175" y="106"/>
                  </a:lnTo>
                  <a:lnTo>
                    <a:pt x="180" y="128"/>
                  </a:lnTo>
                  <a:lnTo>
                    <a:pt x="184" y="149"/>
                  </a:lnTo>
                  <a:lnTo>
                    <a:pt x="187" y="170"/>
                  </a:lnTo>
                  <a:lnTo>
                    <a:pt x="189" y="192"/>
                  </a:lnTo>
                  <a:lnTo>
                    <a:pt x="190" y="214"/>
                  </a:lnTo>
                  <a:lnTo>
                    <a:pt x="190" y="235"/>
                  </a:lnTo>
                  <a:lnTo>
                    <a:pt x="189" y="258"/>
                  </a:lnTo>
                  <a:lnTo>
                    <a:pt x="187" y="280"/>
                  </a:lnTo>
                  <a:lnTo>
                    <a:pt x="184" y="302"/>
                  </a:lnTo>
                  <a:lnTo>
                    <a:pt x="182" y="324"/>
                  </a:lnTo>
                  <a:lnTo>
                    <a:pt x="179" y="346"/>
                  </a:lnTo>
                  <a:lnTo>
                    <a:pt x="169" y="392"/>
                  </a:lnTo>
                  <a:lnTo>
                    <a:pt x="160" y="437"/>
                  </a:lnTo>
                  <a:lnTo>
                    <a:pt x="148" y="482"/>
                  </a:lnTo>
                  <a:lnTo>
                    <a:pt x="138" y="527"/>
                  </a:lnTo>
                  <a:lnTo>
                    <a:pt x="127" y="572"/>
                  </a:lnTo>
                  <a:lnTo>
                    <a:pt x="118" y="618"/>
                  </a:lnTo>
                  <a:lnTo>
                    <a:pt x="111" y="663"/>
                  </a:lnTo>
                  <a:lnTo>
                    <a:pt x="106" y="709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564560" y="4515840"/>
              <a:ext cx="142920" cy="266400"/>
            </a:xfrm>
            <a:custGeom>
              <a:avLst/>
              <a:gdLst/>
              <a:ahLst/>
              <a:rect l="l" t="t" r="r" b="b"/>
              <a:pathLst>
                <a:path w="480" h="1006">
                  <a:moveTo>
                    <a:pt x="314" y="120"/>
                  </a:moveTo>
                  <a:lnTo>
                    <a:pt x="333" y="131"/>
                  </a:lnTo>
                  <a:lnTo>
                    <a:pt x="349" y="141"/>
                  </a:lnTo>
                  <a:lnTo>
                    <a:pt x="363" y="153"/>
                  </a:lnTo>
                  <a:lnTo>
                    <a:pt x="376" y="166"/>
                  </a:lnTo>
                  <a:lnTo>
                    <a:pt x="387" y="180"/>
                  </a:lnTo>
                  <a:lnTo>
                    <a:pt x="396" y="194"/>
                  </a:lnTo>
                  <a:lnTo>
                    <a:pt x="404" y="209"/>
                  </a:lnTo>
                  <a:lnTo>
                    <a:pt x="411" y="224"/>
                  </a:lnTo>
                  <a:lnTo>
                    <a:pt x="417" y="241"/>
                  </a:lnTo>
                  <a:lnTo>
                    <a:pt x="422" y="258"/>
                  </a:lnTo>
                  <a:lnTo>
                    <a:pt x="425" y="276"/>
                  </a:lnTo>
                  <a:lnTo>
                    <a:pt x="428" y="293"/>
                  </a:lnTo>
                  <a:lnTo>
                    <a:pt x="431" y="330"/>
                  </a:lnTo>
                  <a:lnTo>
                    <a:pt x="432" y="368"/>
                  </a:lnTo>
                  <a:lnTo>
                    <a:pt x="432" y="407"/>
                  </a:lnTo>
                  <a:lnTo>
                    <a:pt x="432" y="445"/>
                  </a:lnTo>
                  <a:lnTo>
                    <a:pt x="432" y="484"/>
                  </a:lnTo>
                  <a:lnTo>
                    <a:pt x="435" y="521"/>
                  </a:lnTo>
                  <a:lnTo>
                    <a:pt x="437" y="540"/>
                  </a:lnTo>
                  <a:lnTo>
                    <a:pt x="441" y="558"/>
                  </a:lnTo>
                  <a:lnTo>
                    <a:pt x="444" y="575"/>
                  </a:lnTo>
                  <a:lnTo>
                    <a:pt x="449" y="593"/>
                  </a:lnTo>
                  <a:lnTo>
                    <a:pt x="455" y="609"/>
                  </a:lnTo>
                  <a:lnTo>
                    <a:pt x="462" y="626"/>
                  </a:lnTo>
                  <a:lnTo>
                    <a:pt x="470" y="642"/>
                  </a:lnTo>
                  <a:lnTo>
                    <a:pt x="480" y="656"/>
                  </a:lnTo>
                  <a:lnTo>
                    <a:pt x="475" y="700"/>
                  </a:lnTo>
                  <a:lnTo>
                    <a:pt x="471" y="745"/>
                  </a:lnTo>
                  <a:lnTo>
                    <a:pt x="469" y="788"/>
                  </a:lnTo>
                  <a:lnTo>
                    <a:pt x="465" y="833"/>
                  </a:lnTo>
                  <a:lnTo>
                    <a:pt x="460" y="876"/>
                  </a:lnTo>
                  <a:lnTo>
                    <a:pt x="455" y="919"/>
                  </a:lnTo>
                  <a:lnTo>
                    <a:pt x="450" y="941"/>
                  </a:lnTo>
                  <a:lnTo>
                    <a:pt x="445" y="962"/>
                  </a:lnTo>
                  <a:lnTo>
                    <a:pt x="439" y="983"/>
                  </a:lnTo>
                  <a:lnTo>
                    <a:pt x="431" y="1006"/>
                  </a:lnTo>
                  <a:lnTo>
                    <a:pt x="429" y="975"/>
                  </a:lnTo>
                  <a:lnTo>
                    <a:pt x="425" y="943"/>
                  </a:lnTo>
                  <a:lnTo>
                    <a:pt x="421" y="907"/>
                  </a:lnTo>
                  <a:lnTo>
                    <a:pt x="415" y="871"/>
                  </a:lnTo>
                  <a:lnTo>
                    <a:pt x="402" y="792"/>
                  </a:lnTo>
                  <a:lnTo>
                    <a:pt x="388" y="707"/>
                  </a:lnTo>
                  <a:lnTo>
                    <a:pt x="375" y="620"/>
                  </a:lnTo>
                  <a:lnTo>
                    <a:pt x="363" y="532"/>
                  </a:lnTo>
                  <a:lnTo>
                    <a:pt x="359" y="489"/>
                  </a:lnTo>
                  <a:lnTo>
                    <a:pt x="355" y="445"/>
                  </a:lnTo>
                  <a:lnTo>
                    <a:pt x="353" y="403"/>
                  </a:lnTo>
                  <a:lnTo>
                    <a:pt x="352" y="362"/>
                  </a:lnTo>
                  <a:lnTo>
                    <a:pt x="327" y="311"/>
                  </a:lnTo>
                  <a:lnTo>
                    <a:pt x="304" y="257"/>
                  </a:lnTo>
                  <a:lnTo>
                    <a:pt x="296" y="245"/>
                  </a:lnTo>
                  <a:lnTo>
                    <a:pt x="287" y="234"/>
                  </a:lnTo>
                  <a:lnTo>
                    <a:pt x="279" y="223"/>
                  </a:lnTo>
                  <a:lnTo>
                    <a:pt x="269" y="214"/>
                  </a:lnTo>
                  <a:lnTo>
                    <a:pt x="256" y="206"/>
                  </a:lnTo>
                  <a:lnTo>
                    <a:pt x="243" y="200"/>
                  </a:lnTo>
                  <a:lnTo>
                    <a:pt x="228" y="196"/>
                  </a:lnTo>
                  <a:lnTo>
                    <a:pt x="210" y="193"/>
                  </a:lnTo>
                  <a:lnTo>
                    <a:pt x="202" y="207"/>
                  </a:lnTo>
                  <a:lnTo>
                    <a:pt x="194" y="221"/>
                  </a:lnTo>
                  <a:lnTo>
                    <a:pt x="187" y="236"/>
                  </a:lnTo>
                  <a:lnTo>
                    <a:pt x="181" y="251"/>
                  </a:lnTo>
                  <a:lnTo>
                    <a:pt x="176" y="266"/>
                  </a:lnTo>
                  <a:lnTo>
                    <a:pt x="172" y="282"/>
                  </a:lnTo>
                  <a:lnTo>
                    <a:pt x="167" y="298"/>
                  </a:lnTo>
                  <a:lnTo>
                    <a:pt x="165" y="314"/>
                  </a:lnTo>
                  <a:lnTo>
                    <a:pt x="154" y="382"/>
                  </a:lnTo>
                  <a:lnTo>
                    <a:pt x="144" y="449"/>
                  </a:lnTo>
                  <a:lnTo>
                    <a:pt x="138" y="482"/>
                  </a:lnTo>
                  <a:lnTo>
                    <a:pt x="130" y="513"/>
                  </a:lnTo>
                  <a:lnTo>
                    <a:pt x="125" y="530"/>
                  </a:lnTo>
                  <a:lnTo>
                    <a:pt x="119" y="544"/>
                  </a:lnTo>
                  <a:lnTo>
                    <a:pt x="112" y="558"/>
                  </a:lnTo>
                  <a:lnTo>
                    <a:pt x="105" y="572"/>
                  </a:lnTo>
                  <a:lnTo>
                    <a:pt x="96" y="585"/>
                  </a:lnTo>
                  <a:lnTo>
                    <a:pt x="86" y="597"/>
                  </a:lnTo>
                  <a:lnTo>
                    <a:pt x="76" y="609"/>
                  </a:lnTo>
                  <a:lnTo>
                    <a:pt x="63" y="621"/>
                  </a:lnTo>
                  <a:lnTo>
                    <a:pt x="50" y="630"/>
                  </a:lnTo>
                  <a:lnTo>
                    <a:pt x="35" y="641"/>
                  </a:lnTo>
                  <a:lnTo>
                    <a:pt x="18" y="649"/>
                  </a:lnTo>
                  <a:lnTo>
                    <a:pt x="0" y="656"/>
                  </a:lnTo>
                  <a:lnTo>
                    <a:pt x="9" y="642"/>
                  </a:lnTo>
                  <a:lnTo>
                    <a:pt x="16" y="628"/>
                  </a:lnTo>
                  <a:lnTo>
                    <a:pt x="23" y="614"/>
                  </a:lnTo>
                  <a:lnTo>
                    <a:pt x="29" y="599"/>
                  </a:lnTo>
                  <a:lnTo>
                    <a:pt x="34" y="585"/>
                  </a:lnTo>
                  <a:lnTo>
                    <a:pt x="38" y="569"/>
                  </a:lnTo>
                  <a:lnTo>
                    <a:pt x="41" y="554"/>
                  </a:lnTo>
                  <a:lnTo>
                    <a:pt x="44" y="539"/>
                  </a:lnTo>
                  <a:lnTo>
                    <a:pt x="46" y="509"/>
                  </a:lnTo>
                  <a:lnTo>
                    <a:pt x="48" y="477"/>
                  </a:lnTo>
                  <a:lnTo>
                    <a:pt x="48" y="445"/>
                  </a:lnTo>
                  <a:lnTo>
                    <a:pt x="46" y="414"/>
                  </a:lnTo>
                  <a:lnTo>
                    <a:pt x="45" y="382"/>
                  </a:lnTo>
                  <a:lnTo>
                    <a:pt x="44" y="351"/>
                  </a:lnTo>
                  <a:lnTo>
                    <a:pt x="43" y="318"/>
                  </a:lnTo>
                  <a:lnTo>
                    <a:pt x="43" y="288"/>
                  </a:lnTo>
                  <a:lnTo>
                    <a:pt x="45" y="256"/>
                  </a:lnTo>
                  <a:lnTo>
                    <a:pt x="49" y="226"/>
                  </a:lnTo>
                  <a:lnTo>
                    <a:pt x="52" y="210"/>
                  </a:lnTo>
                  <a:lnTo>
                    <a:pt x="56" y="195"/>
                  </a:lnTo>
                  <a:lnTo>
                    <a:pt x="61" y="180"/>
                  </a:lnTo>
                  <a:lnTo>
                    <a:pt x="65" y="166"/>
                  </a:lnTo>
                  <a:lnTo>
                    <a:pt x="77" y="153"/>
                  </a:lnTo>
                  <a:lnTo>
                    <a:pt x="89" y="138"/>
                  </a:lnTo>
                  <a:lnTo>
                    <a:pt x="100" y="121"/>
                  </a:lnTo>
                  <a:lnTo>
                    <a:pt x="112" y="105"/>
                  </a:lnTo>
                  <a:lnTo>
                    <a:pt x="125" y="88"/>
                  </a:lnTo>
                  <a:lnTo>
                    <a:pt x="138" y="70"/>
                  </a:lnTo>
                  <a:lnTo>
                    <a:pt x="151" y="54"/>
                  </a:lnTo>
                  <a:lnTo>
                    <a:pt x="165" y="38"/>
                  </a:lnTo>
                  <a:lnTo>
                    <a:pt x="179" y="24"/>
                  </a:lnTo>
                  <a:lnTo>
                    <a:pt x="194" y="14"/>
                  </a:lnTo>
                  <a:lnTo>
                    <a:pt x="202" y="9"/>
                  </a:lnTo>
                  <a:lnTo>
                    <a:pt x="210" y="6"/>
                  </a:lnTo>
                  <a:lnTo>
                    <a:pt x="218" y="3"/>
                  </a:lnTo>
                  <a:lnTo>
                    <a:pt x="228" y="1"/>
                  </a:lnTo>
                  <a:lnTo>
                    <a:pt x="236" y="0"/>
                  </a:lnTo>
                  <a:lnTo>
                    <a:pt x="245" y="0"/>
                  </a:lnTo>
                  <a:lnTo>
                    <a:pt x="255" y="2"/>
                  </a:lnTo>
                  <a:lnTo>
                    <a:pt x="265" y="4"/>
                  </a:lnTo>
                  <a:lnTo>
                    <a:pt x="275" y="8"/>
                  </a:lnTo>
                  <a:lnTo>
                    <a:pt x="285" y="13"/>
                  </a:lnTo>
                  <a:lnTo>
                    <a:pt x="296" y="20"/>
                  </a:lnTo>
                  <a:lnTo>
                    <a:pt x="307" y="28"/>
                  </a:lnTo>
                  <a:lnTo>
                    <a:pt x="314" y="12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55560" y="4615560"/>
              <a:ext cx="55440" cy="192240"/>
            </a:xfrm>
            <a:custGeom>
              <a:avLst/>
              <a:gdLst/>
              <a:ahLst/>
              <a:rect l="l" t="t" r="r" b="b"/>
              <a:pathLst>
                <a:path w="189" h="722">
                  <a:moveTo>
                    <a:pt x="158" y="605"/>
                  </a:moveTo>
                  <a:lnTo>
                    <a:pt x="158" y="613"/>
                  </a:lnTo>
                  <a:lnTo>
                    <a:pt x="159" y="620"/>
                  </a:lnTo>
                  <a:lnTo>
                    <a:pt x="160" y="627"/>
                  </a:lnTo>
                  <a:lnTo>
                    <a:pt x="164" y="633"/>
                  </a:lnTo>
                  <a:lnTo>
                    <a:pt x="168" y="646"/>
                  </a:lnTo>
                  <a:lnTo>
                    <a:pt x="175" y="659"/>
                  </a:lnTo>
                  <a:lnTo>
                    <a:pt x="181" y="672"/>
                  </a:lnTo>
                  <a:lnTo>
                    <a:pt x="186" y="686"/>
                  </a:lnTo>
                  <a:lnTo>
                    <a:pt x="188" y="693"/>
                  </a:lnTo>
                  <a:lnTo>
                    <a:pt x="189" y="700"/>
                  </a:lnTo>
                  <a:lnTo>
                    <a:pt x="189" y="708"/>
                  </a:lnTo>
                  <a:lnTo>
                    <a:pt x="188" y="716"/>
                  </a:lnTo>
                  <a:lnTo>
                    <a:pt x="158" y="722"/>
                  </a:lnTo>
                  <a:lnTo>
                    <a:pt x="158" y="700"/>
                  </a:lnTo>
                  <a:lnTo>
                    <a:pt x="157" y="676"/>
                  </a:lnTo>
                  <a:lnTo>
                    <a:pt x="154" y="654"/>
                  </a:lnTo>
                  <a:lnTo>
                    <a:pt x="151" y="631"/>
                  </a:lnTo>
                  <a:lnTo>
                    <a:pt x="146" y="609"/>
                  </a:lnTo>
                  <a:lnTo>
                    <a:pt x="140" y="586"/>
                  </a:lnTo>
                  <a:lnTo>
                    <a:pt x="133" y="564"/>
                  </a:lnTo>
                  <a:lnTo>
                    <a:pt x="125" y="542"/>
                  </a:lnTo>
                  <a:lnTo>
                    <a:pt x="89" y="455"/>
                  </a:lnTo>
                  <a:lnTo>
                    <a:pt x="50" y="368"/>
                  </a:lnTo>
                  <a:lnTo>
                    <a:pt x="41" y="347"/>
                  </a:lnTo>
                  <a:lnTo>
                    <a:pt x="33" y="324"/>
                  </a:lnTo>
                  <a:lnTo>
                    <a:pt x="25" y="302"/>
                  </a:lnTo>
                  <a:lnTo>
                    <a:pt x="18" y="280"/>
                  </a:lnTo>
                  <a:lnTo>
                    <a:pt x="12" y="258"/>
                  </a:lnTo>
                  <a:lnTo>
                    <a:pt x="7" y="236"/>
                  </a:lnTo>
                  <a:lnTo>
                    <a:pt x="3" y="213"/>
                  </a:lnTo>
                  <a:lnTo>
                    <a:pt x="1" y="191"/>
                  </a:lnTo>
                  <a:lnTo>
                    <a:pt x="0" y="168"/>
                  </a:lnTo>
                  <a:lnTo>
                    <a:pt x="1" y="144"/>
                  </a:lnTo>
                  <a:lnTo>
                    <a:pt x="3" y="121"/>
                  </a:lnTo>
                  <a:lnTo>
                    <a:pt x="7" y="98"/>
                  </a:lnTo>
                  <a:lnTo>
                    <a:pt x="14" y="74"/>
                  </a:lnTo>
                  <a:lnTo>
                    <a:pt x="22" y="50"/>
                  </a:lnTo>
                  <a:lnTo>
                    <a:pt x="34" y="25"/>
                  </a:lnTo>
                  <a:lnTo>
                    <a:pt x="47" y="0"/>
                  </a:lnTo>
                  <a:lnTo>
                    <a:pt x="65" y="10"/>
                  </a:lnTo>
                  <a:lnTo>
                    <a:pt x="83" y="20"/>
                  </a:lnTo>
                  <a:lnTo>
                    <a:pt x="98" y="32"/>
                  </a:lnTo>
                  <a:lnTo>
                    <a:pt x="111" y="45"/>
                  </a:lnTo>
                  <a:lnTo>
                    <a:pt x="123" y="59"/>
                  </a:lnTo>
                  <a:lnTo>
                    <a:pt x="132" y="73"/>
                  </a:lnTo>
                  <a:lnTo>
                    <a:pt x="140" y="89"/>
                  </a:lnTo>
                  <a:lnTo>
                    <a:pt x="147" y="106"/>
                  </a:lnTo>
                  <a:lnTo>
                    <a:pt x="152" y="124"/>
                  </a:lnTo>
                  <a:lnTo>
                    <a:pt x="157" y="142"/>
                  </a:lnTo>
                  <a:lnTo>
                    <a:pt x="159" y="162"/>
                  </a:lnTo>
                  <a:lnTo>
                    <a:pt x="161" y="182"/>
                  </a:lnTo>
                  <a:lnTo>
                    <a:pt x="161" y="202"/>
                  </a:lnTo>
                  <a:lnTo>
                    <a:pt x="163" y="223"/>
                  </a:lnTo>
                  <a:lnTo>
                    <a:pt x="161" y="244"/>
                  </a:lnTo>
                  <a:lnTo>
                    <a:pt x="160" y="265"/>
                  </a:lnTo>
                  <a:lnTo>
                    <a:pt x="152" y="354"/>
                  </a:lnTo>
                  <a:lnTo>
                    <a:pt x="145" y="444"/>
                  </a:lnTo>
                  <a:lnTo>
                    <a:pt x="144" y="465"/>
                  </a:lnTo>
                  <a:lnTo>
                    <a:pt x="143" y="487"/>
                  </a:lnTo>
                  <a:lnTo>
                    <a:pt x="143" y="508"/>
                  </a:lnTo>
                  <a:lnTo>
                    <a:pt x="144" y="528"/>
                  </a:lnTo>
                  <a:lnTo>
                    <a:pt x="145" y="549"/>
                  </a:lnTo>
                  <a:lnTo>
                    <a:pt x="149" y="568"/>
                  </a:lnTo>
                  <a:lnTo>
                    <a:pt x="152" y="586"/>
                  </a:lnTo>
                  <a:lnTo>
                    <a:pt x="158" y="605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612800" y="4750560"/>
              <a:ext cx="28800" cy="76320"/>
            </a:xfrm>
            <a:custGeom>
              <a:avLst/>
              <a:gdLst/>
              <a:ahLst/>
              <a:rect l="l" t="t" r="r" b="b"/>
              <a:pathLst>
                <a:path w="98" h="286">
                  <a:moveTo>
                    <a:pt x="0" y="286"/>
                  </a:moveTo>
                  <a:lnTo>
                    <a:pt x="3" y="267"/>
                  </a:lnTo>
                  <a:lnTo>
                    <a:pt x="5" y="248"/>
                  </a:lnTo>
                  <a:lnTo>
                    <a:pt x="8" y="229"/>
                  </a:lnTo>
                  <a:lnTo>
                    <a:pt x="13" y="210"/>
                  </a:lnTo>
                  <a:lnTo>
                    <a:pt x="25" y="174"/>
                  </a:lnTo>
                  <a:lnTo>
                    <a:pt x="38" y="140"/>
                  </a:lnTo>
                  <a:lnTo>
                    <a:pt x="53" y="105"/>
                  </a:lnTo>
                  <a:lnTo>
                    <a:pt x="68" y="71"/>
                  </a:lnTo>
                  <a:lnTo>
                    <a:pt x="83" y="36"/>
                  </a:lnTo>
                  <a:lnTo>
                    <a:pt x="97" y="0"/>
                  </a:lnTo>
                  <a:lnTo>
                    <a:pt x="98" y="16"/>
                  </a:lnTo>
                  <a:lnTo>
                    <a:pt x="98" y="32"/>
                  </a:lnTo>
                  <a:lnTo>
                    <a:pt x="98" y="50"/>
                  </a:lnTo>
                  <a:lnTo>
                    <a:pt x="97" y="69"/>
                  </a:lnTo>
                  <a:lnTo>
                    <a:pt x="96" y="88"/>
                  </a:lnTo>
                  <a:lnTo>
                    <a:pt x="94" y="108"/>
                  </a:lnTo>
                  <a:lnTo>
                    <a:pt x="90" y="128"/>
                  </a:lnTo>
                  <a:lnTo>
                    <a:pt x="86" y="148"/>
                  </a:lnTo>
                  <a:lnTo>
                    <a:pt x="81" y="168"/>
                  </a:lnTo>
                  <a:lnTo>
                    <a:pt x="74" y="188"/>
                  </a:lnTo>
                  <a:lnTo>
                    <a:pt x="66" y="207"/>
                  </a:lnTo>
                  <a:lnTo>
                    <a:pt x="55" y="225"/>
                  </a:lnTo>
                  <a:lnTo>
                    <a:pt x="45" y="243"/>
                  </a:lnTo>
                  <a:lnTo>
                    <a:pt x="32" y="259"/>
                  </a:lnTo>
                  <a:lnTo>
                    <a:pt x="25" y="266"/>
                  </a:lnTo>
                  <a:lnTo>
                    <a:pt x="17" y="273"/>
                  </a:lnTo>
                  <a:lnTo>
                    <a:pt x="8" y="280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00120" y="4758480"/>
              <a:ext cx="78480" cy="198360"/>
            </a:xfrm>
            <a:custGeom>
              <a:avLst/>
              <a:gdLst/>
              <a:ahLst/>
              <a:rect l="l" t="t" r="r" b="b"/>
              <a:pathLst>
                <a:path w="259" h="748">
                  <a:moveTo>
                    <a:pt x="259" y="739"/>
                  </a:moveTo>
                  <a:lnTo>
                    <a:pt x="253" y="745"/>
                  </a:lnTo>
                  <a:lnTo>
                    <a:pt x="248" y="747"/>
                  </a:lnTo>
                  <a:lnTo>
                    <a:pt x="242" y="748"/>
                  </a:lnTo>
                  <a:lnTo>
                    <a:pt x="236" y="748"/>
                  </a:lnTo>
                  <a:lnTo>
                    <a:pt x="223" y="746"/>
                  </a:lnTo>
                  <a:lnTo>
                    <a:pt x="210" y="746"/>
                  </a:lnTo>
                  <a:lnTo>
                    <a:pt x="204" y="722"/>
                  </a:lnTo>
                  <a:lnTo>
                    <a:pt x="197" y="699"/>
                  </a:lnTo>
                  <a:lnTo>
                    <a:pt x="190" y="677"/>
                  </a:lnTo>
                  <a:lnTo>
                    <a:pt x="181" y="653"/>
                  </a:lnTo>
                  <a:lnTo>
                    <a:pt x="161" y="609"/>
                  </a:lnTo>
                  <a:lnTo>
                    <a:pt x="139" y="565"/>
                  </a:lnTo>
                  <a:lnTo>
                    <a:pt x="116" y="520"/>
                  </a:lnTo>
                  <a:lnTo>
                    <a:pt x="92" y="476"/>
                  </a:lnTo>
                  <a:lnTo>
                    <a:pt x="70" y="430"/>
                  </a:lnTo>
                  <a:lnTo>
                    <a:pt x="49" y="386"/>
                  </a:lnTo>
                  <a:lnTo>
                    <a:pt x="39" y="363"/>
                  </a:lnTo>
                  <a:lnTo>
                    <a:pt x="30" y="340"/>
                  </a:lnTo>
                  <a:lnTo>
                    <a:pt x="22" y="318"/>
                  </a:lnTo>
                  <a:lnTo>
                    <a:pt x="15" y="294"/>
                  </a:lnTo>
                  <a:lnTo>
                    <a:pt x="9" y="271"/>
                  </a:lnTo>
                  <a:lnTo>
                    <a:pt x="4" y="248"/>
                  </a:lnTo>
                  <a:lnTo>
                    <a:pt x="2" y="224"/>
                  </a:lnTo>
                  <a:lnTo>
                    <a:pt x="0" y="201"/>
                  </a:lnTo>
                  <a:lnTo>
                    <a:pt x="0" y="176"/>
                  </a:lnTo>
                  <a:lnTo>
                    <a:pt x="2" y="153"/>
                  </a:lnTo>
                  <a:lnTo>
                    <a:pt x="6" y="127"/>
                  </a:lnTo>
                  <a:lnTo>
                    <a:pt x="11" y="103"/>
                  </a:lnTo>
                  <a:lnTo>
                    <a:pt x="18" y="78"/>
                  </a:lnTo>
                  <a:lnTo>
                    <a:pt x="28" y="52"/>
                  </a:lnTo>
                  <a:lnTo>
                    <a:pt x="41" y="25"/>
                  </a:lnTo>
                  <a:lnTo>
                    <a:pt x="55" y="0"/>
                  </a:lnTo>
                  <a:lnTo>
                    <a:pt x="47" y="28"/>
                  </a:lnTo>
                  <a:lnTo>
                    <a:pt x="41" y="55"/>
                  </a:lnTo>
                  <a:lnTo>
                    <a:pt x="37" y="81"/>
                  </a:lnTo>
                  <a:lnTo>
                    <a:pt x="36" y="107"/>
                  </a:lnTo>
                  <a:lnTo>
                    <a:pt x="36" y="132"/>
                  </a:lnTo>
                  <a:lnTo>
                    <a:pt x="38" y="156"/>
                  </a:lnTo>
                  <a:lnTo>
                    <a:pt x="42" y="180"/>
                  </a:lnTo>
                  <a:lnTo>
                    <a:pt x="47" y="203"/>
                  </a:lnTo>
                  <a:lnTo>
                    <a:pt x="54" y="227"/>
                  </a:lnTo>
                  <a:lnTo>
                    <a:pt x="62" y="249"/>
                  </a:lnTo>
                  <a:lnTo>
                    <a:pt x="70" y="271"/>
                  </a:lnTo>
                  <a:lnTo>
                    <a:pt x="80" y="292"/>
                  </a:lnTo>
                  <a:lnTo>
                    <a:pt x="101" y="335"/>
                  </a:lnTo>
                  <a:lnTo>
                    <a:pt x="126" y="377"/>
                  </a:lnTo>
                  <a:lnTo>
                    <a:pt x="151" y="418"/>
                  </a:lnTo>
                  <a:lnTo>
                    <a:pt x="175" y="460"/>
                  </a:lnTo>
                  <a:lnTo>
                    <a:pt x="188" y="482"/>
                  </a:lnTo>
                  <a:lnTo>
                    <a:pt x="199" y="504"/>
                  </a:lnTo>
                  <a:lnTo>
                    <a:pt x="210" y="525"/>
                  </a:lnTo>
                  <a:lnTo>
                    <a:pt x="221" y="547"/>
                  </a:lnTo>
                  <a:lnTo>
                    <a:pt x="230" y="569"/>
                  </a:lnTo>
                  <a:lnTo>
                    <a:pt x="238" y="591"/>
                  </a:lnTo>
                  <a:lnTo>
                    <a:pt x="245" y="615"/>
                  </a:lnTo>
                  <a:lnTo>
                    <a:pt x="251" y="638"/>
                  </a:lnTo>
                  <a:lnTo>
                    <a:pt x="256" y="663"/>
                  </a:lnTo>
                  <a:lnTo>
                    <a:pt x="258" y="687"/>
                  </a:lnTo>
                  <a:lnTo>
                    <a:pt x="259" y="713"/>
                  </a:lnTo>
                  <a:lnTo>
                    <a:pt x="259" y="739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423440" y="5184000"/>
              <a:ext cx="64440" cy="135000"/>
            </a:xfrm>
            <a:custGeom>
              <a:avLst/>
              <a:gdLst/>
              <a:ahLst/>
              <a:rect l="l" t="t" r="r" b="b"/>
              <a:pathLst>
                <a:path w="216" h="511">
                  <a:moveTo>
                    <a:pt x="205" y="120"/>
                  </a:moveTo>
                  <a:lnTo>
                    <a:pt x="209" y="131"/>
                  </a:lnTo>
                  <a:lnTo>
                    <a:pt x="214" y="144"/>
                  </a:lnTo>
                  <a:lnTo>
                    <a:pt x="215" y="158"/>
                  </a:lnTo>
                  <a:lnTo>
                    <a:pt x="216" y="172"/>
                  </a:lnTo>
                  <a:lnTo>
                    <a:pt x="216" y="187"/>
                  </a:lnTo>
                  <a:lnTo>
                    <a:pt x="215" y="202"/>
                  </a:lnTo>
                  <a:lnTo>
                    <a:pt x="213" y="218"/>
                  </a:lnTo>
                  <a:lnTo>
                    <a:pt x="211" y="235"/>
                  </a:lnTo>
                  <a:lnTo>
                    <a:pt x="206" y="268"/>
                  </a:lnTo>
                  <a:lnTo>
                    <a:pt x="202" y="300"/>
                  </a:lnTo>
                  <a:lnTo>
                    <a:pt x="201" y="315"/>
                  </a:lnTo>
                  <a:lnTo>
                    <a:pt x="201" y="330"/>
                  </a:lnTo>
                  <a:lnTo>
                    <a:pt x="202" y="342"/>
                  </a:lnTo>
                  <a:lnTo>
                    <a:pt x="205" y="355"/>
                  </a:lnTo>
                  <a:lnTo>
                    <a:pt x="215" y="511"/>
                  </a:lnTo>
                  <a:lnTo>
                    <a:pt x="200" y="506"/>
                  </a:lnTo>
                  <a:lnTo>
                    <a:pt x="187" y="503"/>
                  </a:lnTo>
                  <a:lnTo>
                    <a:pt x="176" y="497"/>
                  </a:lnTo>
                  <a:lnTo>
                    <a:pt x="164" y="491"/>
                  </a:lnTo>
                  <a:lnTo>
                    <a:pt x="152" y="484"/>
                  </a:lnTo>
                  <a:lnTo>
                    <a:pt x="143" y="477"/>
                  </a:lnTo>
                  <a:lnTo>
                    <a:pt x="132" y="469"/>
                  </a:lnTo>
                  <a:lnTo>
                    <a:pt x="124" y="461"/>
                  </a:lnTo>
                  <a:lnTo>
                    <a:pt x="116" y="452"/>
                  </a:lnTo>
                  <a:lnTo>
                    <a:pt x="108" y="443"/>
                  </a:lnTo>
                  <a:lnTo>
                    <a:pt x="101" y="432"/>
                  </a:lnTo>
                  <a:lnTo>
                    <a:pt x="94" y="423"/>
                  </a:lnTo>
                  <a:lnTo>
                    <a:pt x="82" y="401"/>
                  </a:lnTo>
                  <a:lnTo>
                    <a:pt x="71" y="377"/>
                  </a:lnTo>
                  <a:lnTo>
                    <a:pt x="62" y="354"/>
                  </a:lnTo>
                  <a:lnTo>
                    <a:pt x="53" y="330"/>
                  </a:lnTo>
                  <a:lnTo>
                    <a:pt x="45" y="304"/>
                  </a:lnTo>
                  <a:lnTo>
                    <a:pt x="38" y="278"/>
                  </a:lnTo>
                  <a:lnTo>
                    <a:pt x="29" y="252"/>
                  </a:lnTo>
                  <a:lnTo>
                    <a:pt x="20" y="225"/>
                  </a:lnTo>
                  <a:lnTo>
                    <a:pt x="11" y="201"/>
                  </a:lnTo>
                  <a:lnTo>
                    <a:pt x="0" y="175"/>
                  </a:lnTo>
                  <a:lnTo>
                    <a:pt x="9" y="167"/>
                  </a:lnTo>
                  <a:lnTo>
                    <a:pt x="18" y="160"/>
                  </a:lnTo>
                  <a:lnTo>
                    <a:pt x="27" y="155"/>
                  </a:lnTo>
                  <a:lnTo>
                    <a:pt x="36" y="151"/>
                  </a:lnTo>
                  <a:lnTo>
                    <a:pt x="46" y="148"/>
                  </a:lnTo>
                  <a:lnTo>
                    <a:pt x="55" y="146"/>
                  </a:lnTo>
                  <a:lnTo>
                    <a:pt x="66" y="144"/>
                  </a:lnTo>
                  <a:lnTo>
                    <a:pt x="76" y="142"/>
                  </a:lnTo>
                  <a:lnTo>
                    <a:pt x="98" y="141"/>
                  </a:lnTo>
                  <a:lnTo>
                    <a:pt x="121" y="140"/>
                  </a:lnTo>
                  <a:lnTo>
                    <a:pt x="132" y="138"/>
                  </a:lnTo>
                  <a:lnTo>
                    <a:pt x="145" y="137"/>
                  </a:lnTo>
                  <a:lnTo>
                    <a:pt x="157" y="134"/>
                  </a:lnTo>
                  <a:lnTo>
                    <a:pt x="170" y="131"/>
                  </a:lnTo>
                  <a:lnTo>
                    <a:pt x="215" y="0"/>
                  </a:lnTo>
                  <a:lnTo>
                    <a:pt x="216" y="34"/>
                  </a:lnTo>
                  <a:lnTo>
                    <a:pt x="216" y="66"/>
                  </a:lnTo>
                  <a:lnTo>
                    <a:pt x="214" y="82"/>
                  </a:lnTo>
                  <a:lnTo>
                    <a:pt x="212" y="96"/>
                  </a:lnTo>
                  <a:lnTo>
                    <a:pt x="209" y="108"/>
                  </a:lnTo>
                  <a:lnTo>
                    <a:pt x="205" y="120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9440" y="5214240"/>
              <a:ext cx="71280" cy="136440"/>
            </a:xfrm>
            <a:custGeom>
              <a:avLst/>
              <a:gdLst/>
              <a:ahLst/>
              <a:rect l="l" t="t" r="r" b="b"/>
              <a:pathLst>
                <a:path w="241" h="518">
                  <a:moveTo>
                    <a:pt x="177" y="62"/>
                  </a:moveTo>
                  <a:lnTo>
                    <a:pt x="184" y="68"/>
                  </a:lnTo>
                  <a:lnTo>
                    <a:pt x="191" y="73"/>
                  </a:lnTo>
                  <a:lnTo>
                    <a:pt x="198" y="80"/>
                  </a:lnTo>
                  <a:lnTo>
                    <a:pt x="204" y="86"/>
                  </a:lnTo>
                  <a:lnTo>
                    <a:pt x="210" y="93"/>
                  </a:lnTo>
                  <a:lnTo>
                    <a:pt x="214" y="100"/>
                  </a:lnTo>
                  <a:lnTo>
                    <a:pt x="219" y="107"/>
                  </a:lnTo>
                  <a:lnTo>
                    <a:pt x="223" y="115"/>
                  </a:lnTo>
                  <a:lnTo>
                    <a:pt x="230" y="131"/>
                  </a:lnTo>
                  <a:lnTo>
                    <a:pt x="234" y="149"/>
                  </a:lnTo>
                  <a:lnTo>
                    <a:pt x="238" y="166"/>
                  </a:lnTo>
                  <a:lnTo>
                    <a:pt x="240" y="184"/>
                  </a:lnTo>
                  <a:lnTo>
                    <a:pt x="241" y="202"/>
                  </a:lnTo>
                  <a:lnTo>
                    <a:pt x="241" y="221"/>
                  </a:lnTo>
                  <a:lnTo>
                    <a:pt x="241" y="240"/>
                  </a:lnTo>
                  <a:lnTo>
                    <a:pt x="240" y="257"/>
                  </a:lnTo>
                  <a:lnTo>
                    <a:pt x="235" y="291"/>
                  </a:lnTo>
                  <a:lnTo>
                    <a:pt x="232" y="322"/>
                  </a:lnTo>
                  <a:lnTo>
                    <a:pt x="226" y="337"/>
                  </a:lnTo>
                  <a:lnTo>
                    <a:pt x="218" y="350"/>
                  </a:lnTo>
                  <a:lnTo>
                    <a:pt x="209" y="363"/>
                  </a:lnTo>
                  <a:lnTo>
                    <a:pt x="199" y="374"/>
                  </a:lnTo>
                  <a:lnTo>
                    <a:pt x="176" y="397"/>
                  </a:lnTo>
                  <a:lnTo>
                    <a:pt x="152" y="418"/>
                  </a:lnTo>
                  <a:lnTo>
                    <a:pt x="141" y="428"/>
                  </a:lnTo>
                  <a:lnTo>
                    <a:pt x="130" y="439"/>
                  </a:lnTo>
                  <a:lnTo>
                    <a:pt x="120" y="449"/>
                  </a:lnTo>
                  <a:lnTo>
                    <a:pt x="110" y="462"/>
                  </a:lnTo>
                  <a:lnTo>
                    <a:pt x="101" y="474"/>
                  </a:lnTo>
                  <a:lnTo>
                    <a:pt x="95" y="488"/>
                  </a:lnTo>
                  <a:lnTo>
                    <a:pt x="89" y="502"/>
                  </a:lnTo>
                  <a:lnTo>
                    <a:pt x="87" y="518"/>
                  </a:lnTo>
                  <a:lnTo>
                    <a:pt x="76" y="490"/>
                  </a:lnTo>
                  <a:lnTo>
                    <a:pt x="67" y="461"/>
                  </a:lnTo>
                  <a:lnTo>
                    <a:pt x="60" y="433"/>
                  </a:lnTo>
                  <a:lnTo>
                    <a:pt x="54" y="404"/>
                  </a:lnTo>
                  <a:lnTo>
                    <a:pt x="49" y="374"/>
                  </a:lnTo>
                  <a:lnTo>
                    <a:pt x="46" y="345"/>
                  </a:lnTo>
                  <a:lnTo>
                    <a:pt x="44" y="316"/>
                  </a:lnTo>
                  <a:lnTo>
                    <a:pt x="41" y="287"/>
                  </a:lnTo>
                  <a:lnTo>
                    <a:pt x="39" y="228"/>
                  </a:lnTo>
                  <a:lnTo>
                    <a:pt x="37" y="170"/>
                  </a:lnTo>
                  <a:lnTo>
                    <a:pt x="35" y="139"/>
                  </a:lnTo>
                  <a:lnTo>
                    <a:pt x="34" y="110"/>
                  </a:lnTo>
                  <a:lnTo>
                    <a:pt x="31" y="81"/>
                  </a:lnTo>
                  <a:lnTo>
                    <a:pt x="28" y="52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5" y="5"/>
                  </a:lnTo>
                  <a:lnTo>
                    <a:pt x="38" y="11"/>
                  </a:lnTo>
                  <a:lnTo>
                    <a:pt x="49" y="17"/>
                  </a:lnTo>
                  <a:lnTo>
                    <a:pt x="72" y="31"/>
                  </a:lnTo>
                  <a:lnTo>
                    <a:pt x="94" y="46"/>
                  </a:lnTo>
                  <a:lnTo>
                    <a:pt x="104" y="53"/>
                  </a:lnTo>
                  <a:lnTo>
                    <a:pt x="115" y="59"/>
                  </a:lnTo>
                  <a:lnTo>
                    <a:pt x="125" y="64"/>
                  </a:lnTo>
                  <a:lnTo>
                    <a:pt x="135" y="68"/>
                  </a:lnTo>
                  <a:lnTo>
                    <a:pt x="145" y="70"/>
                  </a:lnTo>
                  <a:lnTo>
                    <a:pt x="156" y="70"/>
                  </a:lnTo>
                  <a:lnTo>
                    <a:pt x="161" y="69"/>
                  </a:lnTo>
                  <a:lnTo>
                    <a:pt x="166" y="68"/>
                  </a:lnTo>
                  <a:lnTo>
                    <a:pt x="171" y="66"/>
                  </a:lnTo>
                  <a:lnTo>
                    <a:pt x="177" y="62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87800" y="5328360"/>
              <a:ext cx="97920" cy="765360"/>
            </a:xfrm>
            <a:custGeom>
              <a:avLst/>
              <a:gdLst/>
              <a:ahLst/>
              <a:rect l="l" t="t" r="r" b="b"/>
              <a:pathLst>
                <a:path w="326" h="2896">
                  <a:moveTo>
                    <a:pt x="256" y="148"/>
                  </a:moveTo>
                  <a:lnTo>
                    <a:pt x="252" y="168"/>
                  </a:lnTo>
                  <a:lnTo>
                    <a:pt x="247" y="187"/>
                  </a:lnTo>
                  <a:lnTo>
                    <a:pt x="245" y="206"/>
                  </a:lnTo>
                  <a:lnTo>
                    <a:pt x="242" y="224"/>
                  </a:lnTo>
                  <a:lnTo>
                    <a:pt x="241" y="243"/>
                  </a:lnTo>
                  <a:lnTo>
                    <a:pt x="241" y="263"/>
                  </a:lnTo>
                  <a:lnTo>
                    <a:pt x="241" y="282"/>
                  </a:lnTo>
                  <a:lnTo>
                    <a:pt x="242" y="300"/>
                  </a:lnTo>
                  <a:lnTo>
                    <a:pt x="245" y="339"/>
                  </a:lnTo>
                  <a:lnTo>
                    <a:pt x="250" y="378"/>
                  </a:lnTo>
                  <a:lnTo>
                    <a:pt x="256" y="416"/>
                  </a:lnTo>
                  <a:lnTo>
                    <a:pt x="264" y="456"/>
                  </a:lnTo>
                  <a:lnTo>
                    <a:pt x="280" y="533"/>
                  </a:lnTo>
                  <a:lnTo>
                    <a:pt x="294" y="611"/>
                  </a:lnTo>
                  <a:lnTo>
                    <a:pt x="298" y="650"/>
                  </a:lnTo>
                  <a:lnTo>
                    <a:pt x="302" y="690"/>
                  </a:lnTo>
                  <a:lnTo>
                    <a:pt x="302" y="709"/>
                  </a:lnTo>
                  <a:lnTo>
                    <a:pt x="302" y="728"/>
                  </a:lnTo>
                  <a:lnTo>
                    <a:pt x="302" y="748"/>
                  </a:lnTo>
                  <a:lnTo>
                    <a:pt x="301" y="767"/>
                  </a:lnTo>
                  <a:lnTo>
                    <a:pt x="298" y="857"/>
                  </a:lnTo>
                  <a:lnTo>
                    <a:pt x="297" y="945"/>
                  </a:lnTo>
                  <a:lnTo>
                    <a:pt x="296" y="1031"/>
                  </a:lnTo>
                  <a:lnTo>
                    <a:pt x="296" y="1116"/>
                  </a:lnTo>
                  <a:lnTo>
                    <a:pt x="296" y="1200"/>
                  </a:lnTo>
                  <a:lnTo>
                    <a:pt x="297" y="1283"/>
                  </a:lnTo>
                  <a:lnTo>
                    <a:pt x="297" y="1365"/>
                  </a:lnTo>
                  <a:lnTo>
                    <a:pt x="297" y="1447"/>
                  </a:lnTo>
                  <a:lnTo>
                    <a:pt x="297" y="1528"/>
                  </a:lnTo>
                  <a:lnTo>
                    <a:pt x="296" y="1610"/>
                  </a:lnTo>
                  <a:lnTo>
                    <a:pt x="294" y="1692"/>
                  </a:lnTo>
                  <a:lnTo>
                    <a:pt x="289" y="1775"/>
                  </a:lnTo>
                  <a:lnTo>
                    <a:pt x="284" y="1859"/>
                  </a:lnTo>
                  <a:lnTo>
                    <a:pt x="277" y="1944"/>
                  </a:lnTo>
                  <a:lnTo>
                    <a:pt x="268" y="2030"/>
                  </a:lnTo>
                  <a:lnTo>
                    <a:pt x="256" y="2118"/>
                  </a:lnTo>
                  <a:lnTo>
                    <a:pt x="249" y="2141"/>
                  </a:lnTo>
                  <a:lnTo>
                    <a:pt x="245" y="2165"/>
                  </a:lnTo>
                  <a:lnTo>
                    <a:pt x="241" y="2187"/>
                  </a:lnTo>
                  <a:lnTo>
                    <a:pt x="239" y="2209"/>
                  </a:lnTo>
                  <a:lnTo>
                    <a:pt x="238" y="2231"/>
                  </a:lnTo>
                  <a:lnTo>
                    <a:pt x="238" y="2254"/>
                  </a:lnTo>
                  <a:lnTo>
                    <a:pt x="239" y="2276"/>
                  </a:lnTo>
                  <a:lnTo>
                    <a:pt x="240" y="2297"/>
                  </a:lnTo>
                  <a:lnTo>
                    <a:pt x="242" y="2319"/>
                  </a:lnTo>
                  <a:lnTo>
                    <a:pt x="246" y="2340"/>
                  </a:lnTo>
                  <a:lnTo>
                    <a:pt x="249" y="2361"/>
                  </a:lnTo>
                  <a:lnTo>
                    <a:pt x="254" y="2382"/>
                  </a:lnTo>
                  <a:lnTo>
                    <a:pt x="263" y="2424"/>
                  </a:lnTo>
                  <a:lnTo>
                    <a:pt x="274" y="2466"/>
                  </a:lnTo>
                  <a:lnTo>
                    <a:pt x="285" y="2509"/>
                  </a:lnTo>
                  <a:lnTo>
                    <a:pt x="297" y="2550"/>
                  </a:lnTo>
                  <a:lnTo>
                    <a:pt x="307" y="2592"/>
                  </a:lnTo>
                  <a:lnTo>
                    <a:pt x="316" y="2635"/>
                  </a:lnTo>
                  <a:lnTo>
                    <a:pt x="319" y="2656"/>
                  </a:lnTo>
                  <a:lnTo>
                    <a:pt x="322" y="2677"/>
                  </a:lnTo>
                  <a:lnTo>
                    <a:pt x="324" y="2699"/>
                  </a:lnTo>
                  <a:lnTo>
                    <a:pt x="325" y="2720"/>
                  </a:lnTo>
                  <a:lnTo>
                    <a:pt x="326" y="2743"/>
                  </a:lnTo>
                  <a:lnTo>
                    <a:pt x="325" y="2765"/>
                  </a:lnTo>
                  <a:lnTo>
                    <a:pt x="324" y="2787"/>
                  </a:lnTo>
                  <a:lnTo>
                    <a:pt x="322" y="2809"/>
                  </a:lnTo>
                  <a:lnTo>
                    <a:pt x="309" y="2821"/>
                  </a:lnTo>
                  <a:lnTo>
                    <a:pt x="296" y="2831"/>
                  </a:lnTo>
                  <a:lnTo>
                    <a:pt x="283" y="2841"/>
                  </a:lnTo>
                  <a:lnTo>
                    <a:pt x="269" y="2848"/>
                  </a:lnTo>
                  <a:lnTo>
                    <a:pt x="254" y="2855"/>
                  </a:lnTo>
                  <a:lnTo>
                    <a:pt x="239" y="2859"/>
                  </a:lnTo>
                  <a:lnTo>
                    <a:pt x="224" y="2864"/>
                  </a:lnTo>
                  <a:lnTo>
                    <a:pt x="207" y="2868"/>
                  </a:lnTo>
                  <a:lnTo>
                    <a:pt x="176" y="2875"/>
                  </a:lnTo>
                  <a:lnTo>
                    <a:pt x="144" y="2881"/>
                  </a:lnTo>
                  <a:lnTo>
                    <a:pt x="128" y="2884"/>
                  </a:lnTo>
                  <a:lnTo>
                    <a:pt x="112" y="2886"/>
                  </a:lnTo>
                  <a:lnTo>
                    <a:pt x="97" y="2891"/>
                  </a:lnTo>
                  <a:lnTo>
                    <a:pt x="83" y="2896"/>
                  </a:lnTo>
                  <a:lnTo>
                    <a:pt x="91" y="2883"/>
                  </a:lnTo>
                  <a:lnTo>
                    <a:pt x="97" y="2869"/>
                  </a:lnTo>
                  <a:lnTo>
                    <a:pt x="102" y="2852"/>
                  </a:lnTo>
                  <a:lnTo>
                    <a:pt x="104" y="2836"/>
                  </a:lnTo>
                  <a:lnTo>
                    <a:pt x="110" y="2803"/>
                  </a:lnTo>
                  <a:lnTo>
                    <a:pt x="115" y="2769"/>
                  </a:lnTo>
                  <a:lnTo>
                    <a:pt x="118" y="2753"/>
                  </a:lnTo>
                  <a:lnTo>
                    <a:pt x="123" y="2738"/>
                  </a:lnTo>
                  <a:lnTo>
                    <a:pt x="126" y="2731"/>
                  </a:lnTo>
                  <a:lnTo>
                    <a:pt x="130" y="2724"/>
                  </a:lnTo>
                  <a:lnTo>
                    <a:pt x="133" y="2718"/>
                  </a:lnTo>
                  <a:lnTo>
                    <a:pt x="138" y="2712"/>
                  </a:lnTo>
                  <a:lnTo>
                    <a:pt x="143" y="2706"/>
                  </a:lnTo>
                  <a:lnTo>
                    <a:pt x="149" y="2700"/>
                  </a:lnTo>
                  <a:lnTo>
                    <a:pt x="156" y="2696"/>
                  </a:lnTo>
                  <a:lnTo>
                    <a:pt x="163" y="2692"/>
                  </a:lnTo>
                  <a:lnTo>
                    <a:pt x="171" y="2689"/>
                  </a:lnTo>
                  <a:lnTo>
                    <a:pt x="180" y="2685"/>
                  </a:lnTo>
                  <a:lnTo>
                    <a:pt x="190" y="2683"/>
                  </a:lnTo>
                  <a:lnTo>
                    <a:pt x="200" y="2682"/>
                  </a:lnTo>
                  <a:lnTo>
                    <a:pt x="213" y="2673"/>
                  </a:lnTo>
                  <a:lnTo>
                    <a:pt x="225" y="2665"/>
                  </a:lnTo>
                  <a:lnTo>
                    <a:pt x="235" y="2657"/>
                  </a:lnTo>
                  <a:lnTo>
                    <a:pt x="243" y="2649"/>
                  </a:lnTo>
                  <a:lnTo>
                    <a:pt x="250" y="2641"/>
                  </a:lnTo>
                  <a:lnTo>
                    <a:pt x="255" y="2631"/>
                  </a:lnTo>
                  <a:lnTo>
                    <a:pt x="260" y="2623"/>
                  </a:lnTo>
                  <a:lnTo>
                    <a:pt x="263" y="2615"/>
                  </a:lnTo>
                  <a:lnTo>
                    <a:pt x="266" y="2607"/>
                  </a:lnTo>
                  <a:lnTo>
                    <a:pt x="266" y="2597"/>
                  </a:lnTo>
                  <a:lnTo>
                    <a:pt x="266" y="2589"/>
                  </a:lnTo>
                  <a:lnTo>
                    <a:pt x="266" y="2581"/>
                  </a:lnTo>
                  <a:lnTo>
                    <a:pt x="262" y="2564"/>
                  </a:lnTo>
                  <a:lnTo>
                    <a:pt x="255" y="2546"/>
                  </a:lnTo>
                  <a:lnTo>
                    <a:pt x="238" y="2511"/>
                  </a:lnTo>
                  <a:lnTo>
                    <a:pt x="219" y="2476"/>
                  </a:lnTo>
                  <a:lnTo>
                    <a:pt x="209" y="2458"/>
                  </a:lnTo>
                  <a:lnTo>
                    <a:pt x="202" y="2441"/>
                  </a:lnTo>
                  <a:lnTo>
                    <a:pt x="199" y="2431"/>
                  </a:lnTo>
                  <a:lnTo>
                    <a:pt x="197" y="2423"/>
                  </a:lnTo>
                  <a:lnTo>
                    <a:pt x="194" y="2414"/>
                  </a:lnTo>
                  <a:lnTo>
                    <a:pt x="193" y="2406"/>
                  </a:lnTo>
                  <a:lnTo>
                    <a:pt x="190" y="2361"/>
                  </a:lnTo>
                  <a:lnTo>
                    <a:pt x="185" y="2318"/>
                  </a:lnTo>
                  <a:lnTo>
                    <a:pt x="183" y="2273"/>
                  </a:lnTo>
                  <a:lnTo>
                    <a:pt x="179" y="2230"/>
                  </a:lnTo>
                  <a:lnTo>
                    <a:pt x="176" y="2141"/>
                  </a:lnTo>
                  <a:lnTo>
                    <a:pt x="174" y="2052"/>
                  </a:lnTo>
                  <a:lnTo>
                    <a:pt x="174" y="1962"/>
                  </a:lnTo>
                  <a:lnTo>
                    <a:pt x="177" y="1872"/>
                  </a:lnTo>
                  <a:lnTo>
                    <a:pt x="179" y="1782"/>
                  </a:lnTo>
                  <a:lnTo>
                    <a:pt x="183" y="1691"/>
                  </a:lnTo>
                  <a:lnTo>
                    <a:pt x="186" y="1601"/>
                  </a:lnTo>
                  <a:lnTo>
                    <a:pt x="191" y="1511"/>
                  </a:lnTo>
                  <a:lnTo>
                    <a:pt x="194" y="1421"/>
                  </a:lnTo>
                  <a:lnTo>
                    <a:pt x="198" y="1331"/>
                  </a:lnTo>
                  <a:lnTo>
                    <a:pt x="200" y="1242"/>
                  </a:lnTo>
                  <a:lnTo>
                    <a:pt x="202" y="1153"/>
                  </a:lnTo>
                  <a:lnTo>
                    <a:pt x="202" y="1065"/>
                  </a:lnTo>
                  <a:lnTo>
                    <a:pt x="200" y="978"/>
                  </a:lnTo>
                  <a:lnTo>
                    <a:pt x="193" y="940"/>
                  </a:lnTo>
                  <a:lnTo>
                    <a:pt x="187" y="900"/>
                  </a:lnTo>
                  <a:lnTo>
                    <a:pt x="183" y="861"/>
                  </a:lnTo>
                  <a:lnTo>
                    <a:pt x="178" y="820"/>
                  </a:lnTo>
                  <a:lnTo>
                    <a:pt x="172" y="735"/>
                  </a:lnTo>
                  <a:lnTo>
                    <a:pt x="165" y="650"/>
                  </a:lnTo>
                  <a:lnTo>
                    <a:pt x="163" y="607"/>
                  </a:lnTo>
                  <a:lnTo>
                    <a:pt x="159" y="565"/>
                  </a:lnTo>
                  <a:lnTo>
                    <a:pt x="155" y="521"/>
                  </a:lnTo>
                  <a:lnTo>
                    <a:pt x="150" y="479"/>
                  </a:lnTo>
                  <a:lnTo>
                    <a:pt x="144" y="437"/>
                  </a:lnTo>
                  <a:lnTo>
                    <a:pt x="136" y="395"/>
                  </a:lnTo>
                  <a:lnTo>
                    <a:pt x="128" y="354"/>
                  </a:lnTo>
                  <a:lnTo>
                    <a:pt x="117" y="314"/>
                  </a:lnTo>
                  <a:lnTo>
                    <a:pt x="118" y="296"/>
                  </a:lnTo>
                  <a:lnTo>
                    <a:pt x="117" y="276"/>
                  </a:lnTo>
                  <a:lnTo>
                    <a:pt x="116" y="257"/>
                  </a:lnTo>
                  <a:lnTo>
                    <a:pt x="114" y="237"/>
                  </a:lnTo>
                  <a:lnTo>
                    <a:pt x="110" y="217"/>
                  </a:lnTo>
                  <a:lnTo>
                    <a:pt x="107" y="197"/>
                  </a:lnTo>
                  <a:lnTo>
                    <a:pt x="102" y="179"/>
                  </a:lnTo>
                  <a:lnTo>
                    <a:pt x="95" y="160"/>
                  </a:lnTo>
                  <a:lnTo>
                    <a:pt x="88" y="141"/>
                  </a:lnTo>
                  <a:lnTo>
                    <a:pt x="80" y="124"/>
                  </a:lnTo>
                  <a:lnTo>
                    <a:pt x="69" y="106"/>
                  </a:lnTo>
                  <a:lnTo>
                    <a:pt x="59" y="91"/>
                  </a:lnTo>
                  <a:lnTo>
                    <a:pt x="46" y="76"/>
                  </a:lnTo>
                  <a:lnTo>
                    <a:pt x="32" y="62"/>
                  </a:lnTo>
                  <a:lnTo>
                    <a:pt x="17" y="49"/>
                  </a:lnTo>
                  <a:lnTo>
                    <a:pt x="0" y="38"/>
                  </a:lnTo>
                  <a:lnTo>
                    <a:pt x="18" y="0"/>
                  </a:lnTo>
                  <a:lnTo>
                    <a:pt x="34" y="7"/>
                  </a:lnTo>
                  <a:lnTo>
                    <a:pt x="50" y="14"/>
                  </a:lnTo>
                  <a:lnTo>
                    <a:pt x="67" y="21"/>
                  </a:lnTo>
                  <a:lnTo>
                    <a:pt x="83" y="29"/>
                  </a:lnTo>
                  <a:lnTo>
                    <a:pt x="114" y="48"/>
                  </a:lnTo>
                  <a:lnTo>
                    <a:pt x="144" y="66"/>
                  </a:lnTo>
                  <a:lnTo>
                    <a:pt x="173" y="87"/>
                  </a:lnTo>
                  <a:lnTo>
                    <a:pt x="202" y="109"/>
                  </a:lnTo>
                  <a:lnTo>
                    <a:pt x="229" y="128"/>
                  </a:lnTo>
                  <a:lnTo>
                    <a:pt x="256" y="148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74080" y="5347800"/>
              <a:ext cx="89640" cy="787320"/>
            </a:xfrm>
            <a:custGeom>
              <a:avLst/>
              <a:gdLst/>
              <a:ahLst/>
              <a:rect l="l" t="t" r="r" b="b"/>
              <a:pathLst>
                <a:path w="301" h="2979">
                  <a:moveTo>
                    <a:pt x="190" y="329"/>
                  </a:moveTo>
                  <a:lnTo>
                    <a:pt x="196" y="399"/>
                  </a:lnTo>
                  <a:lnTo>
                    <a:pt x="200" y="470"/>
                  </a:lnTo>
                  <a:lnTo>
                    <a:pt x="204" y="542"/>
                  </a:lnTo>
                  <a:lnTo>
                    <a:pt x="206" y="613"/>
                  </a:lnTo>
                  <a:lnTo>
                    <a:pt x="209" y="686"/>
                  </a:lnTo>
                  <a:lnTo>
                    <a:pt x="211" y="758"/>
                  </a:lnTo>
                  <a:lnTo>
                    <a:pt x="211" y="831"/>
                  </a:lnTo>
                  <a:lnTo>
                    <a:pt x="212" y="903"/>
                  </a:lnTo>
                  <a:lnTo>
                    <a:pt x="211" y="1049"/>
                  </a:lnTo>
                  <a:lnTo>
                    <a:pt x="207" y="1196"/>
                  </a:lnTo>
                  <a:lnTo>
                    <a:pt x="204" y="1343"/>
                  </a:lnTo>
                  <a:lnTo>
                    <a:pt x="198" y="1490"/>
                  </a:lnTo>
                  <a:lnTo>
                    <a:pt x="192" y="1637"/>
                  </a:lnTo>
                  <a:lnTo>
                    <a:pt x="186" y="1784"/>
                  </a:lnTo>
                  <a:lnTo>
                    <a:pt x="180" y="1929"/>
                  </a:lnTo>
                  <a:lnTo>
                    <a:pt x="175" y="2074"/>
                  </a:lnTo>
                  <a:lnTo>
                    <a:pt x="169" y="2218"/>
                  </a:lnTo>
                  <a:lnTo>
                    <a:pt x="165" y="2361"/>
                  </a:lnTo>
                  <a:lnTo>
                    <a:pt x="163" y="2502"/>
                  </a:lnTo>
                  <a:lnTo>
                    <a:pt x="163" y="2640"/>
                  </a:lnTo>
                  <a:lnTo>
                    <a:pt x="164" y="2647"/>
                  </a:lnTo>
                  <a:lnTo>
                    <a:pt x="163" y="2654"/>
                  </a:lnTo>
                  <a:lnTo>
                    <a:pt x="162" y="2661"/>
                  </a:lnTo>
                  <a:lnTo>
                    <a:pt x="159" y="2668"/>
                  </a:lnTo>
                  <a:lnTo>
                    <a:pt x="152" y="2683"/>
                  </a:lnTo>
                  <a:lnTo>
                    <a:pt x="145" y="2699"/>
                  </a:lnTo>
                  <a:lnTo>
                    <a:pt x="142" y="2707"/>
                  </a:lnTo>
                  <a:lnTo>
                    <a:pt x="138" y="2715"/>
                  </a:lnTo>
                  <a:lnTo>
                    <a:pt x="136" y="2723"/>
                  </a:lnTo>
                  <a:lnTo>
                    <a:pt x="135" y="2731"/>
                  </a:lnTo>
                  <a:lnTo>
                    <a:pt x="135" y="2740"/>
                  </a:lnTo>
                  <a:lnTo>
                    <a:pt x="136" y="2748"/>
                  </a:lnTo>
                  <a:lnTo>
                    <a:pt x="140" y="2757"/>
                  </a:lnTo>
                  <a:lnTo>
                    <a:pt x="145" y="2765"/>
                  </a:lnTo>
                  <a:lnTo>
                    <a:pt x="154" y="2775"/>
                  </a:lnTo>
                  <a:lnTo>
                    <a:pt x="162" y="2783"/>
                  </a:lnTo>
                  <a:lnTo>
                    <a:pt x="170" y="2790"/>
                  </a:lnTo>
                  <a:lnTo>
                    <a:pt x="179" y="2796"/>
                  </a:lnTo>
                  <a:lnTo>
                    <a:pt x="189" y="2802"/>
                  </a:lnTo>
                  <a:lnTo>
                    <a:pt x="198" y="2806"/>
                  </a:lnTo>
                  <a:lnTo>
                    <a:pt x="207" y="2811"/>
                  </a:lnTo>
                  <a:lnTo>
                    <a:pt x="218" y="2814"/>
                  </a:lnTo>
                  <a:lnTo>
                    <a:pt x="238" y="2820"/>
                  </a:lnTo>
                  <a:lnTo>
                    <a:pt x="259" y="2825"/>
                  </a:lnTo>
                  <a:lnTo>
                    <a:pt x="280" y="2828"/>
                  </a:lnTo>
                  <a:lnTo>
                    <a:pt x="301" y="2831"/>
                  </a:lnTo>
                  <a:lnTo>
                    <a:pt x="295" y="2841"/>
                  </a:lnTo>
                  <a:lnTo>
                    <a:pt x="290" y="2851"/>
                  </a:lnTo>
                  <a:lnTo>
                    <a:pt x="287" y="2861"/>
                  </a:lnTo>
                  <a:lnTo>
                    <a:pt x="285" y="2871"/>
                  </a:lnTo>
                  <a:lnTo>
                    <a:pt x="282" y="2889"/>
                  </a:lnTo>
                  <a:lnTo>
                    <a:pt x="280" y="2908"/>
                  </a:lnTo>
                  <a:lnTo>
                    <a:pt x="278" y="2925"/>
                  </a:lnTo>
                  <a:lnTo>
                    <a:pt x="273" y="2943"/>
                  </a:lnTo>
                  <a:lnTo>
                    <a:pt x="268" y="2952"/>
                  </a:lnTo>
                  <a:lnTo>
                    <a:pt x="264" y="2962"/>
                  </a:lnTo>
                  <a:lnTo>
                    <a:pt x="258" y="2970"/>
                  </a:lnTo>
                  <a:lnTo>
                    <a:pt x="249" y="2979"/>
                  </a:lnTo>
                  <a:lnTo>
                    <a:pt x="220" y="2978"/>
                  </a:lnTo>
                  <a:lnTo>
                    <a:pt x="190" y="2973"/>
                  </a:lnTo>
                  <a:lnTo>
                    <a:pt x="158" y="2969"/>
                  </a:lnTo>
                  <a:lnTo>
                    <a:pt x="126" y="2964"/>
                  </a:lnTo>
                  <a:lnTo>
                    <a:pt x="109" y="2962"/>
                  </a:lnTo>
                  <a:lnTo>
                    <a:pt x="93" y="2961"/>
                  </a:lnTo>
                  <a:lnTo>
                    <a:pt x="76" y="2961"/>
                  </a:lnTo>
                  <a:lnTo>
                    <a:pt x="61" y="2962"/>
                  </a:lnTo>
                  <a:lnTo>
                    <a:pt x="45" y="2964"/>
                  </a:lnTo>
                  <a:lnTo>
                    <a:pt x="30" y="2968"/>
                  </a:lnTo>
                  <a:lnTo>
                    <a:pt x="14" y="2972"/>
                  </a:lnTo>
                  <a:lnTo>
                    <a:pt x="0" y="2979"/>
                  </a:lnTo>
                  <a:lnTo>
                    <a:pt x="13" y="2909"/>
                  </a:lnTo>
                  <a:lnTo>
                    <a:pt x="25" y="2839"/>
                  </a:lnTo>
                  <a:lnTo>
                    <a:pt x="35" y="2769"/>
                  </a:lnTo>
                  <a:lnTo>
                    <a:pt x="45" y="2697"/>
                  </a:lnTo>
                  <a:lnTo>
                    <a:pt x="54" y="2627"/>
                  </a:lnTo>
                  <a:lnTo>
                    <a:pt x="61" y="2556"/>
                  </a:lnTo>
                  <a:lnTo>
                    <a:pt x="68" y="2483"/>
                  </a:lnTo>
                  <a:lnTo>
                    <a:pt x="75" y="2412"/>
                  </a:lnTo>
                  <a:lnTo>
                    <a:pt x="80" y="2339"/>
                  </a:lnTo>
                  <a:lnTo>
                    <a:pt x="86" y="2268"/>
                  </a:lnTo>
                  <a:lnTo>
                    <a:pt x="89" y="2196"/>
                  </a:lnTo>
                  <a:lnTo>
                    <a:pt x="93" y="2123"/>
                  </a:lnTo>
                  <a:lnTo>
                    <a:pt x="99" y="1977"/>
                  </a:lnTo>
                  <a:lnTo>
                    <a:pt x="103" y="1832"/>
                  </a:lnTo>
                  <a:lnTo>
                    <a:pt x="106" y="1686"/>
                  </a:lnTo>
                  <a:lnTo>
                    <a:pt x="107" y="1539"/>
                  </a:lnTo>
                  <a:lnTo>
                    <a:pt x="108" y="1393"/>
                  </a:lnTo>
                  <a:lnTo>
                    <a:pt x="109" y="1248"/>
                  </a:lnTo>
                  <a:lnTo>
                    <a:pt x="110" y="1103"/>
                  </a:lnTo>
                  <a:lnTo>
                    <a:pt x="111" y="958"/>
                  </a:lnTo>
                  <a:lnTo>
                    <a:pt x="114" y="814"/>
                  </a:lnTo>
                  <a:lnTo>
                    <a:pt x="117" y="672"/>
                  </a:lnTo>
                  <a:lnTo>
                    <a:pt x="114" y="633"/>
                  </a:lnTo>
                  <a:lnTo>
                    <a:pt x="108" y="593"/>
                  </a:lnTo>
                  <a:lnTo>
                    <a:pt x="101" y="553"/>
                  </a:lnTo>
                  <a:lnTo>
                    <a:pt x="93" y="513"/>
                  </a:lnTo>
                  <a:lnTo>
                    <a:pt x="83" y="472"/>
                  </a:lnTo>
                  <a:lnTo>
                    <a:pt x="75" y="431"/>
                  </a:lnTo>
                  <a:lnTo>
                    <a:pt x="67" y="390"/>
                  </a:lnTo>
                  <a:lnTo>
                    <a:pt x="61" y="349"/>
                  </a:lnTo>
                  <a:lnTo>
                    <a:pt x="55" y="308"/>
                  </a:lnTo>
                  <a:lnTo>
                    <a:pt x="53" y="268"/>
                  </a:lnTo>
                  <a:lnTo>
                    <a:pt x="53" y="249"/>
                  </a:lnTo>
                  <a:lnTo>
                    <a:pt x="54" y="229"/>
                  </a:lnTo>
                  <a:lnTo>
                    <a:pt x="55" y="211"/>
                  </a:lnTo>
                  <a:lnTo>
                    <a:pt x="58" y="192"/>
                  </a:lnTo>
                  <a:lnTo>
                    <a:pt x="61" y="175"/>
                  </a:lnTo>
                  <a:lnTo>
                    <a:pt x="65" y="157"/>
                  </a:lnTo>
                  <a:lnTo>
                    <a:pt x="71" y="139"/>
                  </a:lnTo>
                  <a:lnTo>
                    <a:pt x="78" y="122"/>
                  </a:lnTo>
                  <a:lnTo>
                    <a:pt x="86" y="106"/>
                  </a:lnTo>
                  <a:lnTo>
                    <a:pt x="95" y="90"/>
                  </a:lnTo>
                  <a:lnTo>
                    <a:pt x="106" y="74"/>
                  </a:lnTo>
                  <a:lnTo>
                    <a:pt x="117" y="60"/>
                  </a:lnTo>
                  <a:lnTo>
                    <a:pt x="255" y="0"/>
                  </a:lnTo>
                  <a:lnTo>
                    <a:pt x="260" y="21"/>
                  </a:lnTo>
                  <a:lnTo>
                    <a:pt x="262" y="42"/>
                  </a:lnTo>
                  <a:lnTo>
                    <a:pt x="262" y="63"/>
                  </a:lnTo>
                  <a:lnTo>
                    <a:pt x="260" y="83"/>
                  </a:lnTo>
                  <a:lnTo>
                    <a:pt x="257" y="104"/>
                  </a:lnTo>
                  <a:lnTo>
                    <a:pt x="253" y="125"/>
                  </a:lnTo>
                  <a:lnTo>
                    <a:pt x="247" y="145"/>
                  </a:lnTo>
                  <a:lnTo>
                    <a:pt x="241" y="166"/>
                  </a:lnTo>
                  <a:lnTo>
                    <a:pt x="227" y="207"/>
                  </a:lnTo>
                  <a:lnTo>
                    <a:pt x="213" y="248"/>
                  </a:lnTo>
                  <a:lnTo>
                    <a:pt x="206" y="268"/>
                  </a:lnTo>
                  <a:lnTo>
                    <a:pt x="200" y="289"/>
                  </a:lnTo>
                  <a:lnTo>
                    <a:pt x="195" y="309"/>
                  </a:lnTo>
                  <a:lnTo>
                    <a:pt x="190" y="329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385640" y="6130440"/>
              <a:ext cx="451080" cy="184320"/>
            </a:xfrm>
            <a:custGeom>
              <a:avLst/>
              <a:gdLst/>
              <a:ahLst/>
              <a:rect l="l" t="t" r="r" b="b"/>
              <a:pathLst>
                <a:path w="1513" h="699">
                  <a:moveTo>
                    <a:pt x="666" y="354"/>
                  </a:moveTo>
                  <a:lnTo>
                    <a:pt x="673" y="367"/>
                  </a:lnTo>
                  <a:lnTo>
                    <a:pt x="681" y="379"/>
                  </a:lnTo>
                  <a:lnTo>
                    <a:pt x="690" y="388"/>
                  </a:lnTo>
                  <a:lnTo>
                    <a:pt x="699" y="398"/>
                  </a:lnTo>
                  <a:lnTo>
                    <a:pt x="708" y="405"/>
                  </a:lnTo>
                  <a:lnTo>
                    <a:pt x="719" y="411"/>
                  </a:lnTo>
                  <a:lnTo>
                    <a:pt x="729" y="415"/>
                  </a:lnTo>
                  <a:lnTo>
                    <a:pt x="741" y="418"/>
                  </a:lnTo>
                  <a:lnTo>
                    <a:pt x="753" y="421"/>
                  </a:lnTo>
                  <a:lnTo>
                    <a:pt x="764" y="422"/>
                  </a:lnTo>
                  <a:lnTo>
                    <a:pt x="777" y="423"/>
                  </a:lnTo>
                  <a:lnTo>
                    <a:pt x="790" y="423"/>
                  </a:lnTo>
                  <a:lnTo>
                    <a:pt x="816" y="422"/>
                  </a:lnTo>
                  <a:lnTo>
                    <a:pt x="843" y="419"/>
                  </a:lnTo>
                  <a:lnTo>
                    <a:pt x="871" y="416"/>
                  </a:lnTo>
                  <a:lnTo>
                    <a:pt x="899" y="413"/>
                  </a:lnTo>
                  <a:lnTo>
                    <a:pt x="926" y="412"/>
                  </a:lnTo>
                  <a:lnTo>
                    <a:pt x="954" y="412"/>
                  </a:lnTo>
                  <a:lnTo>
                    <a:pt x="967" y="413"/>
                  </a:lnTo>
                  <a:lnTo>
                    <a:pt x="981" y="415"/>
                  </a:lnTo>
                  <a:lnTo>
                    <a:pt x="994" y="418"/>
                  </a:lnTo>
                  <a:lnTo>
                    <a:pt x="1007" y="422"/>
                  </a:lnTo>
                  <a:lnTo>
                    <a:pt x="1018" y="427"/>
                  </a:lnTo>
                  <a:lnTo>
                    <a:pt x="1031" y="434"/>
                  </a:lnTo>
                  <a:lnTo>
                    <a:pt x="1042" y="441"/>
                  </a:lnTo>
                  <a:lnTo>
                    <a:pt x="1053" y="450"/>
                  </a:lnTo>
                  <a:lnTo>
                    <a:pt x="1067" y="456"/>
                  </a:lnTo>
                  <a:lnTo>
                    <a:pt x="1081" y="462"/>
                  </a:lnTo>
                  <a:lnTo>
                    <a:pt x="1095" y="467"/>
                  </a:lnTo>
                  <a:lnTo>
                    <a:pt x="1109" y="471"/>
                  </a:lnTo>
                  <a:lnTo>
                    <a:pt x="1140" y="477"/>
                  </a:lnTo>
                  <a:lnTo>
                    <a:pt x="1169" y="482"/>
                  </a:lnTo>
                  <a:lnTo>
                    <a:pt x="1231" y="488"/>
                  </a:lnTo>
                  <a:lnTo>
                    <a:pt x="1292" y="491"/>
                  </a:lnTo>
                  <a:lnTo>
                    <a:pt x="1322" y="494"/>
                  </a:lnTo>
                  <a:lnTo>
                    <a:pt x="1353" y="497"/>
                  </a:lnTo>
                  <a:lnTo>
                    <a:pt x="1382" y="501"/>
                  </a:lnTo>
                  <a:lnTo>
                    <a:pt x="1410" y="507"/>
                  </a:lnTo>
                  <a:lnTo>
                    <a:pt x="1424" y="511"/>
                  </a:lnTo>
                  <a:lnTo>
                    <a:pt x="1438" y="516"/>
                  </a:lnTo>
                  <a:lnTo>
                    <a:pt x="1451" y="521"/>
                  </a:lnTo>
                  <a:lnTo>
                    <a:pt x="1465" y="526"/>
                  </a:lnTo>
                  <a:lnTo>
                    <a:pt x="1477" y="533"/>
                  </a:lnTo>
                  <a:lnTo>
                    <a:pt x="1489" y="540"/>
                  </a:lnTo>
                  <a:lnTo>
                    <a:pt x="1501" y="549"/>
                  </a:lnTo>
                  <a:lnTo>
                    <a:pt x="1513" y="558"/>
                  </a:lnTo>
                  <a:lnTo>
                    <a:pt x="1504" y="563"/>
                  </a:lnTo>
                  <a:lnTo>
                    <a:pt x="1494" y="567"/>
                  </a:lnTo>
                  <a:lnTo>
                    <a:pt x="1485" y="571"/>
                  </a:lnTo>
                  <a:lnTo>
                    <a:pt x="1475" y="574"/>
                  </a:lnTo>
                  <a:lnTo>
                    <a:pt x="1467" y="577"/>
                  </a:lnTo>
                  <a:lnTo>
                    <a:pt x="1458" y="578"/>
                  </a:lnTo>
                  <a:lnTo>
                    <a:pt x="1450" y="579"/>
                  </a:lnTo>
                  <a:lnTo>
                    <a:pt x="1440" y="579"/>
                  </a:lnTo>
                  <a:lnTo>
                    <a:pt x="1424" y="578"/>
                  </a:lnTo>
                  <a:lnTo>
                    <a:pt x="1408" y="576"/>
                  </a:lnTo>
                  <a:lnTo>
                    <a:pt x="1391" y="571"/>
                  </a:lnTo>
                  <a:lnTo>
                    <a:pt x="1375" y="566"/>
                  </a:lnTo>
                  <a:lnTo>
                    <a:pt x="1342" y="554"/>
                  </a:lnTo>
                  <a:lnTo>
                    <a:pt x="1307" y="545"/>
                  </a:lnTo>
                  <a:lnTo>
                    <a:pt x="1290" y="542"/>
                  </a:lnTo>
                  <a:lnTo>
                    <a:pt x="1271" y="539"/>
                  </a:lnTo>
                  <a:lnTo>
                    <a:pt x="1251" y="538"/>
                  </a:lnTo>
                  <a:lnTo>
                    <a:pt x="1230" y="540"/>
                  </a:lnTo>
                  <a:lnTo>
                    <a:pt x="1174" y="531"/>
                  </a:lnTo>
                  <a:lnTo>
                    <a:pt x="1115" y="524"/>
                  </a:lnTo>
                  <a:lnTo>
                    <a:pt x="1086" y="521"/>
                  </a:lnTo>
                  <a:lnTo>
                    <a:pt x="1056" y="517"/>
                  </a:lnTo>
                  <a:lnTo>
                    <a:pt x="1026" y="515"/>
                  </a:lnTo>
                  <a:lnTo>
                    <a:pt x="996" y="514"/>
                  </a:lnTo>
                  <a:lnTo>
                    <a:pt x="966" y="512"/>
                  </a:lnTo>
                  <a:lnTo>
                    <a:pt x="935" y="512"/>
                  </a:lnTo>
                  <a:lnTo>
                    <a:pt x="905" y="515"/>
                  </a:lnTo>
                  <a:lnTo>
                    <a:pt x="874" y="517"/>
                  </a:lnTo>
                  <a:lnTo>
                    <a:pt x="844" y="521"/>
                  </a:lnTo>
                  <a:lnTo>
                    <a:pt x="815" y="525"/>
                  </a:lnTo>
                  <a:lnTo>
                    <a:pt x="785" y="532"/>
                  </a:lnTo>
                  <a:lnTo>
                    <a:pt x="756" y="540"/>
                  </a:lnTo>
                  <a:lnTo>
                    <a:pt x="753" y="544"/>
                  </a:lnTo>
                  <a:lnTo>
                    <a:pt x="750" y="547"/>
                  </a:lnTo>
                  <a:lnTo>
                    <a:pt x="749" y="552"/>
                  </a:lnTo>
                  <a:lnTo>
                    <a:pt x="749" y="557"/>
                  </a:lnTo>
                  <a:lnTo>
                    <a:pt x="750" y="566"/>
                  </a:lnTo>
                  <a:lnTo>
                    <a:pt x="749" y="576"/>
                  </a:lnTo>
                  <a:lnTo>
                    <a:pt x="775" y="574"/>
                  </a:lnTo>
                  <a:lnTo>
                    <a:pt x="801" y="574"/>
                  </a:lnTo>
                  <a:lnTo>
                    <a:pt x="826" y="574"/>
                  </a:lnTo>
                  <a:lnTo>
                    <a:pt x="853" y="576"/>
                  </a:lnTo>
                  <a:lnTo>
                    <a:pt x="881" y="577"/>
                  </a:lnTo>
                  <a:lnTo>
                    <a:pt x="909" y="579"/>
                  </a:lnTo>
                  <a:lnTo>
                    <a:pt x="938" y="581"/>
                  </a:lnTo>
                  <a:lnTo>
                    <a:pt x="966" y="585"/>
                  </a:lnTo>
                  <a:lnTo>
                    <a:pt x="994" y="590"/>
                  </a:lnTo>
                  <a:lnTo>
                    <a:pt x="1023" y="594"/>
                  </a:lnTo>
                  <a:lnTo>
                    <a:pt x="1051" y="599"/>
                  </a:lnTo>
                  <a:lnTo>
                    <a:pt x="1078" y="605"/>
                  </a:lnTo>
                  <a:lnTo>
                    <a:pt x="1106" y="611"/>
                  </a:lnTo>
                  <a:lnTo>
                    <a:pt x="1133" y="618"/>
                  </a:lnTo>
                  <a:lnTo>
                    <a:pt x="1159" y="626"/>
                  </a:lnTo>
                  <a:lnTo>
                    <a:pt x="1184" y="634"/>
                  </a:lnTo>
                  <a:lnTo>
                    <a:pt x="1219" y="699"/>
                  </a:lnTo>
                  <a:lnTo>
                    <a:pt x="1197" y="690"/>
                  </a:lnTo>
                  <a:lnTo>
                    <a:pt x="1174" y="683"/>
                  </a:lnTo>
                  <a:lnTo>
                    <a:pt x="1149" y="677"/>
                  </a:lnTo>
                  <a:lnTo>
                    <a:pt x="1123" y="673"/>
                  </a:lnTo>
                  <a:lnTo>
                    <a:pt x="1098" y="668"/>
                  </a:lnTo>
                  <a:lnTo>
                    <a:pt x="1071" y="666"/>
                  </a:lnTo>
                  <a:lnTo>
                    <a:pt x="1044" y="664"/>
                  </a:lnTo>
                  <a:lnTo>
                    <a:pt x="1017" y="663"/>
                  </a:lnTo>
                  <a:lnTo>
                    <a:pt x="906" y="662"/>
                  </a:lnTo>
                  <a:lnTo>
                    <a:pt x="797" y="660"/>
                  </a:lnTo>
                  <a:lnTo>
                    <a:pt x="771" y="657"/>
                  </a:lnTo>
                  <a:lnTo>
                    <a:pt x="746" y="654"/>
                  </a:lnTo>
                  <a:lnTo>
                    <a:pt x="721" y="649"/>
                  </a:lnTo>
                  <a:lnTo>
                    <a:pt x="697" y="643"/>
                  </a:lnTo>
                  <a:lnTo>
                    <a:pt x="673" y="636"/>
                  </a:lnTo>
                  <a:lnTo>
                    <a:pt x="651" y="628"/>
                  </a:lnTo>
                  <a:lnTo>
                    <a:pt x="630" y="618"/>
                  </a:lnTo>
                  <a:lnTo>
                    <a:pt x="610" y="606"/>
                  </a:lnTo>
                  <a:lnTo>
                    <a:pt x="593" y="592"/>
                  </a:lnTo>
                  <a:lnTo>
                    <a:pt x="575" y="574"/>
                  </a:lnTo>
                  <a:lnTo>
                    <a:pt x="560" y="556"/>
                  </a:lnTo>
                  <a:lnTo>
                    <a:pt x="546" y="535"/>
                  </a:lnTo>
                  <a:lnTo>
                    <a:pt x="533" y="510"/>
                  </a:lnTo>
                  <a:lnTo>
                    <a:pt x="522" y="483"/>
                  </a:lnTo>
                  <a:lnTo>
                    <a:pt x="514" y="453"/>
                  </a:lnTo>
                  <a:lnTo>
                    <a:pt x="507" y="420"/>
                  </a:lnTo>
                  <a:lnTo>
                    <a:pt x="494" y="401"/>
                  </a:lnTo>
                  <a:lnTo>
                    <a:pt x="481" y="384"/>
                  </a:lnTo>
                  <a:lnTo>
                    <a:pt x="469" y="367"/>
                  </a:lnTo>
                  <a:lnTo>
                    <a:pt x="455" y="352"/>
                  </a:lnTo>
                  <a:lnTo>
                    <a:pt x="439" y="338"/>
                  </a:lnTo>
                  <a:lnTo>
                    <a:pt x="424" y="325"/>
                  </a:lnTo>
                  <a:lnTo>
                    <a:pt x="408" y="311"/>
                  </a:lnTo>
                  <a:lnTo>
                    <a:pt x="390" y="298"/>
                  </a:lnTo>
                  <a:lnTo>
                    <a:pt x="381" y="304"/>
                  </a:lnTo>
                  <a:lnTo>
                    <a:pt x="373" y="309"/>
                  </a:lnTo>
                  <a:lnTo>
                    <a:pt x="364" y="311"/>
                  </a:lnTo>
                  <a:lnTo>
                    <a:pt x="357" y="314"/>
                  </a:lnTo>
                  <a:lnTo>
                    <a:pt x="350" y="314"/>
                  </a:lnTo>
                  <a:lnTo>
                    <a:pt x="343" y="314"/>
                  </a:lnTo>
                  <a:lnTo>
                    <a:pt x="339" y="312"/>
                  </a:lnTo>
                  <a:lnTo>
                    <a:pt x="333" y="310"/>
                  </a:lnTo>
                  <a:lnTo>
                    <a:pt x="328" y="307"/>
                  </a:lnTo>
                  <a:lnTo>
                    <a:pt x="324" y="303"/>
                  </a:lnTo>
                  <a:lnTo>
                    <a:pt x="320" y="298"/>
                  </a:lnTo>
                  <a:lnTo>
                    <a:pt x="315" y="294"/>
                  </a:lnTo>
                  <a:lnTo>
                    <a:pt x="308" y="283"/>
                  </a:lnTo>
                  <a:lnTo>
                    <a:pt x="301" y="271"/>
                  </a:lnTo>
                  <a:lnTo>
                    <a:pt x="295" y="260"/>
                  </a:lnTo>
                  <a:lnTo>
                    <a:pt x="288" y="249"/>
                  </a:lnTo>
                  <a:lnTo>
                    <a:pt x="285" y="245"/>
                  </a:lnTo>
                  <a:lnTo>
                    <a:pt x="280" y="241"/>
                  </a:lnTo>
                  <a:lnTo>
                    <a:pt x="277" y="237"/>
                  </a:lnTo>
                  <a:lnTo>
                    <a:pt x="272" y="234"/>
                  </a:lnTo>
                  <a:lnTo>
                    <a:pt x="267" y="232"/>
                  </a:lnTo>
                  <a:lnTo>
                    <a:pt x="263" y="230"/>
                  </a:lnTo>
                  <a:lnTo>
                    <a:pt x="257" y="230"/>
                  </a:lnTo>
                  <a:lnTo>
                    <a:pt x="251" y="232"/>
                  </a:lnTo>
                  <a:lnTo>
                    <a:pt x="244" y="233"/>
                  </a:lnTo>
                  <a:lnTo>
                    <a:pt x="237" y="236"/>
                  </a:lnTo>
                  <a:lnTo>
                    <a:pt x="229" y="241"/>
                  </a:lnTo>
                  <a:lnTo>
                    <a:pt x="221" y="247"/>
                  </a:lnTo>
                  <a:lnTo>
                    <a:pt x="232" y="259"/>
                  </a:lnTo>
                  <a:lnTo>
                    <a:pt x="243" y="273"/>
                  </a:lnTo>
                  <a:lnTo>
                    <a:pt x="251" y="287"/>
                  </a:lnTo>
                  <a:lnTo>
                    <a:pt x="257" y="302"/>
                  </a:lnTo>
                  <a:lnTo>
                    <a:pt x="262" y="318"/>
                  </a:lnTo>
                  <a:lnTo>
                    <a:pt x="265" y="335"/>
                  </a:lnTo>
                  <a:lnTo>
                    <a:pt x="267" y="352"/>
                  </a:lnTo>
                  <a:lnTo>
                    <a:pt x="269" y="370"/>
                  </a:lnTo>
                  <a:lnTo>
                    <a:pt x="269" y="405"/>
                  </a:lnTo>
                  <a:lnTo>
                    <a:pt x="265" y="439"/>
                  </a:lnTo>
                  <a:lnTo>
                    <a:pt x="262" y="473"/>
                  </a:lnTo>
                  <a:lnTo>
                    <a:pt x="259" y="503"/>
                  </a:lnTo>
                  <a:lnTo>
                    <a:pt x="246" y="515"/>
                  </a:lnTo>
                  <a:lnTo>
                    <a:pt x="232" y="525"/>
                  </a:lnTo>
                  <a:lnTo>
                    <a:pt x="218" y="535"/>
                  </a:lnTo>
                  <a:lnTo>
                    <a:pt x="203" y="543"/>
                  </a:lnTo>
                  <a:lnTo>
                    <a:pt x="187" y="550"/>
                  </a:lnTo>
                  <a:lnTo>
                    <a:pt x="170" y="556"/>
                  </a:lnTo>
                  <a:lnTo>
                    <a:pt x="154" y="560"/>
                  </a:lnTo>
                  <a:lnTo>
                    <a:pt x="138" y="564"/>
                  </a:lnTo>
                  <a:lnTo>
                    <a:pt x="120" y="567"/>
                  </a:lnTo>
                  <a:lnTo>
                    <a:pt x="103" y="568"/>
                  </a:lnTo>
                  <a:lnTo>
                    <a:pt x="85" y="568"/>
                  </a:lnTo>
                  <a:lnTo>
                    <a:pt x="67" y="567"/>
                  </a:lnTo>
                  <a:lnTo>
                    <a:pt x="50" y="565"/>
                  </a:lnTo>
                  <a:lnTo>
                    <a:pt x="34" y="561"/>
                  </a:lnTo>
                  <a:lnTo>
                    <a:pt x="16" y="557"/>
                  </a:lnTo>
                  <a:lnTo>
                    <a:pt x="0" y="551"/>
                  </a:lnTo>
                  <a:lnTo>
                    <a:pt x="4" y="521"/>
                  </a:lnTo>
                  <a:lnTo>
                    <a:pt x="7" y="490"/>
                  </a:lnTo>
                  <a:lnTo>
                    <a:pt x="8" y="459"/>
                  </a:lnTo>
                  <a:lnTo>
                    <a:pt x="8" y="427"/>
                  </a:lnTo>
                  <a:lnTo>
                    <a:pt x="8" y="364"/>
                  </a:lnTo>
                  <a:lnTo>
                    <a:pt x="9" y="302"/>
                  </a:lnTo>
                  <a:lnTo>
                    <a:pt x="10" y="270"/>
                  </a:lnTo>
                  <a:lnTo>
                    <a:pt x="14" y="240"/>
                  </a:lnTo>
                  <a:lnTo>
                    <a:pt x="18" y="211"/>
                  </a:lnTo>
                  <a:lnTo>
                    <a:pt x="25" y="181"/>
                  </a:lnTo>
                  <a:lnTo>
                    <a:pt x="30" y="167"/>
                  </a:lnTo>
                  <a:lnTo>
                    <a:pt x="35" y="153"/>
                  </a:lnTo>
                  <a:lnTo>
                    <a:pt x="41" y="140"/>
                  </a:lnTo>
                  <a:lnTo>
                    <a:pt x="48" y="128"/>
                  </a:lnTo>
                  <a:lnTo>
                    <a:pt x="55" y="115"/>
                  </a:lnTo>
                  <a:lnTo>
                    <a:pt x="63" y="102"/>
                  </a:lnTo>
                  <a:lnTo>
                    <a:pt x="72" y="89"/>
                  </a:lnTo>
                  <a:lnTo>
                    <a:pt x="83" y="77"/>
                  </a:lnTo>
                  <a:lnTo>
                    <a:pt x="93" y="80"/>
                  </a:lnTo>
                  <a:lnTo>
                    <a:pt x="104" y="81"/>
                  </a:lnTo>
                  <a:lnTo>
                    <a:pt x="114" y="81"/>
                  </a:lnTo>
                  <a:lnTo>
                    <a:pt x="125" y="81"/>
                  </a:lnTo>
                  <a:lnTo>
                    <a:pt x="134" y="80"/>
                  </a:lnTo>
                  <a:lnTo>
                    <a:pt x="145" y="77"/>
                  </a:lnTo>
                  <a:lnTo>
                    <a:pt x="154" y="75"/>
                  </a:lnTo>
                  <a:lnTo>
                    <a:pt x="163" y="71"/>
                  </a:lnTo>
                  <a:lnTo>
                    <a:pt x="181" y="64"/>
                  </a:lnTo>
                  <a:lnTo>
                    <a:pt x="198" y="55"/>
                  </a:lnTo>
                  <a:lnTo>
                    <a:pt x="216" y="46"/>
                  </a:lnTo>
                  <a:lnTo>
                    <a:pt x="234" y="35"/>
                  </a:lnTo>
                  <a:lnTo>
                    <a:pt x="250" y="26"/>
                  </a:lnTo>
                  <a:lnTo>
                    <a:pt x="267" y="18"/>
                  </a:lnTo>
                  <a:lnTo>
                    <a:pt x="285" y="9"/>
                  </a:lnTo>
                  <a:lnTo>
                    <a:pt x="301" y="5"/>
                  </a:lnTo>
                  <a:lnTo>
                    <a:pt x="311" y="2"/>
                  </a:lnTo>
                  <a:lnTo>
                    <a:pt x="320" y="1"/>
                  </a:lnTo>
                  <a:lnTo>
                    <a:pt x="328" y="0"/>
                  </a:lnTo>
                  <a:lnTo>
                    <a:pt x="338" y="1"/>
                  </a:lnTo>
                  <a:lnTo>
                    <a:pt x="347" y="2"/>
                  </a:lnTo>
                  <a:lnTo>
                    <a:pt x="356" y="5"/>
                  </a:lnTo>
                  <a:lnTo>
                    <a:pt x="367" y="7"/>
                  </a:lnTo>
                  <a:lnTo>
                    <a:pt x="376" y="12"/>
                  </a:lnTo>
                  <a:lnTo>
                    <a:pt x="412" y="53"/>
                  </a:lnTo>
                  <a:lnTo>
                    <a:pt x="446" y="96"/>
                  </a:lnTo>
                  <a:lnTo>
                    <a:pt x="481" y="140"/>
                  </a:lnTo>
                  <a:lnTo>
                    <a:pt x="517" y="186"/>
                  </a:lnTo>
                  <a:lnTo>
                    <a:pt x="552" y="230"/>
                  </a:lnTo>
                  <a:lnTo>
                    <a:pt x="588" y="274"/>
                  </a:lnTo>
                  <a:lnTo>
                    <a:pt x="607" y="295"/>
                  </a:lnTo>
                  <a:lnTo>
                    <a:pt x="626" y="315"/>
                  </a:lnTo>
                  <a:lnTo>
                    <a:pt x="646" y="335"/>
                  </a:lnTo>
                  <a:lnTo>
                    <a:pt x="666" y="354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48640" y="6186240"/>
              <a:ext cx="423720" cy="196560"/>
            </a:xfrm>
            <a:custGeom>
              <a:avLst/>
              <a:gdLst/>
              <a:ahLst/>
              <a:rect l="l" t="t" r="r" b="b"/>
              <a:pathLst>
                <a:path w="1421" h="744">
                  <a:moveTo>
                    <a:pt x="1375" y="35"/>
                  </a:moveTo>
                  <a:lnTo>
                    <a:pt x="1387" y="80"/>
                  </a:lnTo>
                  <a:lnTo>
                    <a:pt x="1400" y="126"/>
                  </a:lnTo>
                  <a:lnTo>
                    <a:pt x="1405" y="148"/>
                  </a:lnTo>
                  <a:lnTo>
                    <a:pt x="1410" y="172"/>
                  </a:lnTo>
                  <a:lnTo>
                    <a:pt x="1414" y="194"/>
                  </a:lnTo>
                  <a:lnTo>
                    <a:pt x="1417" y="217"/>
                  </a:lnTo>
                  <a:lnTo>
                    <a:pt x="1420" y="241"/>
                  </a:lnTo>
                  <a:lnTo>
                    <a:pt x="1421" y="263"/>
                  </a:lnTo>
                  <a:lnTo>
                    <a:pt x="1421" y="286"/>
                  </a:lnTo>
                  <a:lnTo>
                    <a:pt x="1419" y="310"/>
                  </a:lnTo>
                  <a:lnTo>
                    <a:pt x="1415" y="333"/>
                  </a:lnTo>
                  <a:lnTo>
                    <a:pt x="1410" y="356"/>
                  </a:lnTo>
                  <a:lnTo>
                    <a:pt x="1402" y="381"/>
                  </a:lnTo>
                  <a:lnTo>
                    <a:pt x="1393" y="404"/>
                  </a:lnTo>
                  <a:lnTo>
                    <a:pt x="1367" y="417"/>
                  </a:lnTo>
                  <a:lnTo>
                    <a:pt x="1341" y="430"/>
                  </a:lnTo>
                  <a:lnTo>
                    <a:pt x="1327" y="436"/>
                  </a:lnTo>
                  <a:lnTo>
                    <a:pt x="1313" y="440"/>
                  </a:lnTo>
                  <a:lnTo>
                    <a:pt x="1306" y="442"/>
                  </a:lnTo>
                  <a:lnTo>
                    <a:pt x="1298" y="443"/>
                  </a:lnTo>
                  <a:lnTo>
                    <a:pt x="1290" y="443"/>
                  </a:lnTo>
                  <a:lnTo>
                    <a:pt x="1282" y="443"/>
                  </a:lnTo>
                  <a:lnTo>
                    <a:pt x="1265" y="404"/>
                  </a:lnTo>
                  <a:lnTo>
                    <a:pt x="1248" y="367"/>
                  </a:lnTo>
                  <a:lnTo>
                    <a:pt x="1232" y="330"/>
                  </a:lnTo>
                  <a:lnTo>
                    <a:pt x="1216" y="291"/>
                  </a:lnTo>
                  <a:lnTo>
                    <a:pt x="1209" y="271"/>
                  </a:lnTo>
                  <a:lnTo>
                    <a:pt x="1203" y="251"/>
                  </a:lnTo>
                  <a:lnTo>
                    <a:pt x="1198" y="231"/>
                  </a:lnTo>
                  <a:lnTo>
                    <a:pt x="1193" y="211"/>
                  </a:lnTo>
                  <a:lnTo>
                    <a:pt x="1188" y="190"/>
                  </a:lnTo>
                  <a:lnTo>
                    <a:pt x="1186" y="171"/>
                  </a:lnTo>
                  <a:lnTo>
                    <a:pt x="1184" y="149"/>
                  </a:lnTo>
                  <a:lnTo>
                    <a:pt x="1182" y="128"/>
                  </a:lnTo>
                  <a:lnTo>
                    <a:pt x="1179" y="120"/>
                  </a:lnTo>
                  <a:lnTo>
                    <a:pt x="1175" y="114"/>
                  </a:lnTo>
                  <a:lnTo>
                    <a:pt x="1171" y="110"/>
                  </a:lnTo>
                  <a:lnTo>
                    <a:pt x="1166" y="105"/>
                  </a:lnTo>
                  <a:lnTo>
                    <a:pt x="1161" y="103"/>
                  </a:lnTo>
                  <a:lnTo>
                    <a:pt x="1156" y="100"/>
                  </a:lnTo>
                  <a:lnTo>
                    <a:pt x="1150" y="99"/>
                  </a:lnTo>
                  <a:lnTo>
                    <a:pt x="1143" y="98"/>
                  </a:lnTo>
                  <a:lnTo>
                    <a:pt x="1131" y="97"/>
                  </a:lnTo>
                  <a:lnTo>
                    <a:pt x="1119" y="96"/>
                  </a:lnTo>
                  <a:lnTo>
                    <a:pt x="1113" y="95"/>
                  </a:lnTo>
                  <a:lnTo>
                    <a:pt x="1108" y="92"/>
                  </a:lnTo>
                  <a:lnTo>
                    <a:pt x="1103" y="90"/>
                  </a:lnTo>
                  <a:lnTo>
                    <a:pt x="1099" y="86"/>
                  </a:lnTo>
                  <a:lnTo>
                    <a:pt x="1090" y="97"/>
                  </a:lnTo>
                  <a:lnTo>
                    <a:pt x="1083" y="109"/>
                  </a:lnTo>
                  <a:lnTo>
                    <a:pt x="1078" y="121"/>
                  </a:lnTo>
                  <a:lnTo>
                    <a:pt x="1074" y="133"/>
                  </a:lnTo>
                  <a:lnTo>
                    <a:pt x="1070" y="147"/>
                  </a:lnTo>
                  <a:lnTo>
                    <a:pt x="1068" y="160"/>
                  </a:lnTo>
                  <a:lnTo>
                    <a:pt x="1067" y="174"/>
                  </a:lnTo>
                  <a:lnTo>
                    <a:pt x="1065" y="187"/>
                  </a:lnTo>
                  <a:lnTo>
                    <a:pt x="1064" y="215"/>
                  </a:lnTo>
                  <a:lnTo>
                    <a:pt x="1063" y="242"/>
                  </a:lnTo>
                  <a:lnTo>
                    <a:pt x="1061" y="255"/>
                  </a:lnTo>
                  <a:lnTo>
                    <a:pt x="1058" y="268"/>
                  </a:lnTo>
                  <a:lnTo>
                    <a:pt x="1055" y="279"/>
                  </a:lnTo>
                  <a:lnTo>
                    <a:pt x="1050" y="291"/>
                  </a:lnTo>
                  <a:lnTo>
                    <a:pt x="1040" y="303"/>
                  </a:lnTo>
                  <a:lnTo>
                    <a:pt x="1030" y="317"/>
                  </a:lnTo>
                  <a:lnTo>
                    <a:pt x="1022" y="331"/>
                  </a:lnTo>
                  <a:lnTo>
                    <a:pt x="1014" y="345"/>
                  </a:lnTo>
                  <a:lnTo>
                    <a:pt x="1001" y="375"/>
                  </a:lnTo>
                  <a:lnTo>
                    <a:pt x="988" y="404"/>
                  </a:lnTo>
                  <a:lnTo>
                    <a:pt x="982" y="420"/>
                  </a:lnTo>
                  <a:lnTo>
                    <a:pt x="974" y="434"/>
                  </a:lnTo>
                  <a:lnTo>
                    <a:pt x="966" y="448"/>
                  </a:lnTo>
                  <a:lnTo>
                    <a:pt x="958" y="461"/>
                  </a:lnTo>
                  <a:lnTo>
                    <a:pt x="947" y="472"/>
                  </a:lnTo>
                  <a:lnTo>
                    <a:pt x="936" y="483"/>
                  </a:lnTo>
                  <a:lnTo>
                    <a:pt x="922" y="493"/>
                  </a:lnTo>
                  <a:lnTo>
                    <a:pt x="905" y="502"/>
                  </a:lnTo>
                  <a:lnTo>
                    <a:pt x="895" y="490"/>
                  </a:lnTo>
                  <a:lnTo>
                    <a:pt x="884" y="480"/>
                  </a:lnTo>
                  <a:lnTo>
                    <a:pt x="873" y="472"/>
                  </a:lnTo>
                  <a:lnTo>
                    <a:pt x="862" y="466"/>
                  </a:lnTo>
                  <a:lnTo>
                    <a:pt x="850" y="461"/>
                  </a:lnTo>
                  <a:lnTo>
                    <a:pt x="840" y="456"/>
                  </a:lnTo>
                  <a:lnTo>
                    <a:pt x="828" y="452"/>
                  </a:lnTo>
                  <a:lnTo>
                    <a:pt x="816" y="451"/>
                  </a:lnTo>
                  <a:lnTo>
                    <a:pt x="805" y="450"/>
                  </a:lnTo>
                  <a:lnTo>
                    <a:pt x="793" y="449"/>
                  </a:lnTo>
                  <a:lnTo>
                    <a:pt x="781" y="450"/>
                  </a:lnTo>
                  <a:lnTo>
                    <a:pt x="770" y="451"/>
                  </a:lnTo>
                  <a:lnTo>
                    <a:pt x="745" y="456"/>
                  </a:lnTo>
                  <a:lnTo>
                    <a:pt x="722" y="463"/>
                  </a:lnTo>
                  <a:lnTo>
                    <a:pt x="674" y="480"/>
                  </a:lnTo>
                  <a:lnTo>
                    <a:pt x="626" y="502"/>
                  </a:lnTo>
                  <a:lnTo>
                    <a:pt x="602" y="511"/>
                  </a:lnTo>
                  <a:lnTo>
                    <a:pt x="579" y="520"/>
                  </a:lnTo>
                  <a:lnTo>
                    <a:pt x="556" y="527"/>
                  </a:lnTo>
                  <a:lnTo>
                    <a:pt x="532" y="532"/>
                  </a:lnTo>
                  <a:lnTo>
                    <a:pt x="484" y="565"/>
                  </a:lnTo>
                  <a:lnTo>
                    <a:pt x="436" y="596"/>
                  </a:lnTo>
                  <a:lnTo>
                    <a:pt x="388" y="628"/>
                  </a:lnTo>
                  <a:lnTo>
                    <a:pt x="339" y="658"/>
                  </a:lnTo>
                  <a:lnTo>
                    <a:pt x="315" y="672"/>
                  </a:lnTo>
                  <a:lnTo>
                    <a:pt x="289" y="686"/>
                  </a:lnTo>
                  <a:lnTo>
                    <a:pt x="263" y="699"/>
                  </a:lnTo>
                  <a:lnTo>
                    <a:pt x="238" y="710"/>
                  </a:lnTo>
                  <a:lnTo>
                    <a:pt x="211" y="720"/>
                  </a:lnTo>
                  <a:lnTo>
                    <a:pt x="184" y="730"/>
                  </a:lnTo>
                  <a:lnTo>
                    <a:pt x="157" y="737"/>
                  </a:lnTo>
                  <a:lnTo>
                    <a:pt x="129" y="744"/>
                  </a:lnTo>
                  <a:lnTo>
                    <a:pt x="150" y="730"/>
                  </a:lnTo>
                  <a:lnTo>
                    <a:pt x="171" y="717"/>
                  </a:lnTo>
                  <a:lnTo>
                    <a:pt x="192" y="705"/>
                  </a:lnTo>
                  <a:lnTo>
                    <a:pt x="214" y="693"/>
                  </a:lnTo>
                  <a:lnTo>
                    <a:pt x="259" y="671"/>
                  </a:lnTo>
                  <a:lnTo>
                    <a:pt x="302" y="648"/>
                  </a:lnTo>
                  <a:lnTo>
                    <a:pt x="324" y="636"/>
                  </a:lnTo>
                  <a:lnTo>
                    <a:pt x="345" y="623"/>
                  </a:lnTo>
                  <a:lnTo>
                    <a:pt x="365" y="610"/>
                  </a:lnTo>
                  <a:lnTo>
                    <a:pt x="386" y="595"/>
                  </a:lnTo>
                  <a:lnTo>
                    <a:pt x="406" y="580"/>
                  </a:lnTo>
                  <a:lnTo>
                    <a:pt x="425" y="562"/>
                  </a:lnTo>
                  <a:lnTo>
                    <a:pt x="442" y="542"/>
                  </a:lnTo>
                  <a:lnTo>
                    <a:pt x="460" y="523"/>
                  </a:lnTo>
                  <a:lnTo>
                    <a:pt x="457" y="516"/>
                  </a:lnTo>
                  <a:lnTo>
                    <a:pt x="455" y="511"/>
                  </a:lnTo>
                  <a:lnTo>
                    <a:pt x="452" y="505"/>
                  </a:lnTo>
                  <a:lnTo>
                    <a:pt x="447" y="502"/>
                  </a:lnTo>
                  <a:lnTo>
                    <a:pt x="442" y="497"/>
                  </a:lnTo>
                  <a:lnTo>
                    <a:pt x="438" y="493"/>
                  </a:lnTo>
                  <a:lnTo>
                    <a:pt x="433" y="491"/>
                  </a:lnTo>
                  <a:lnTo>
                    <a:pt x="427" y="489"/>
                  </a:lnTo>
                  <a:lnTo>
                    <a:pt x="415" y="485"/>
                  </a:lnTo>
                  <a:lnTo>
                    <a:pt x="402" y="483"/>
                  </a:lnTo>
                  <a:lnTo>
                    <a:pt x="390" y="483"/>
                  </a:lnTo>
                  <a:lnTo>
                    <a:pt x="376" y="483"/>
                  </a:lnTo>
                  <a:lnTo>
                    <a:pt x="345" y="486"/>
                  </a:lnTo>
                  <a:lnTo>
                    <a:pt x="317" y="492"/>
                  </a:lnTo>
                  <a:lnTo>
                    <a:pt x="290" y="497"/>
                  </a:lnTo>
                  <a:lnTo>
                    <a:pt x="267" y="502"/>
                  </a:lnTo>
                  <a:lnTo>
                    <a:pt x="249" y="505"/>
                  </a:lnTo>
                  <a:lnTo>
                    <a:pt x="232" y="510"/>
                  </a:lnTo>
                  <a:lnTo>
                    <a:pt x="214" y="516"/>
                  </a:lnTo>
                  <a:lnTo>
                    <a:pt x="195" y="523"/>
                  </a:lnTo>
                  <a:lnTo>
                    <a:pt x="160" y="538"/>
                  </a:lnTo>
                  <a:lnTo>
                    <a:pt x="125" y="552"/>
                  </a:lnTo>
                  <a:lnTo>
                    <a:pt x="109" y="559"/>
                  </a:lnTo>
                  <a:lnTo>
                    <a:pt x="93" y="565"/>
                  </a:lnTo>
                  <a:lnTo>
                    <a:pt x="76" y="569"/>
                  </a:lnTo>
                  <a:lnTo>
                    <a:pt x="60" y="573"/>
                  </a:lnTo>
                  <a:lnTo>
                    <a:pt x="45" y="575"/>
                  </a:lnTo>
                  <a:lnTo>
                    <a:pt x="29" y="574"/>
                  </a:lnTo>
                  <a:lnTo>
                    <a:pt x="21" y="574"/>
                  </a:lnTo>
                  <a:lnTo>
                    <a:pt x="14" y="572"/>
                  </a:lnTo>
                  <a:lnTo>
                    <a:pt x="7" y="569"/>
                  </a:lnTo>
                  <a:lnTo>
                    <a:pt x="0" y="567"/>
                  </a:lnTo>
                  <a:lnTo>
                    <a:pt x="34" y="552"/>
                  </a:lnTo>
                  <a:lnTo>
                    <a:pt x="68" y="539"/>
                  </a:lnTo>
                  <a:lnTo>
                    <a:pt x="102" y="527"/>
                  </a:lnTo>
                  <a:lnTo>
                    <a:pt x="137" y="517"/>
                  </a:lnTo>
                  <a:lnTo>
                    <a:pt x="209" y="498"/>
                  </a:lnTo>
                  <a:lnTo>
                    <a:pt x="282" y="482"/>
                  </a:lnTo>
                  <a:lnTo>
                    <a:pt x="318" y="473"/>
                  </a:lnTo>
                  <a:lnTo>
                    <a:pt x="354" y="464"/>
                  </a:lnTo>
                  <a:lnTo>
                    <a:pt x="390" y="455"/>
                  </a:lnTo>
                  <a:lnTo>
                    <a:pt x="425" y="444"/>
                  </a:lnTo>
                  <a:lnTo>
                    <a:pt x="459" y="431"/>
                  </a:lnTo>
                  <a:lnTo>
                    <a:pt x="491" y="418"/>
                  </a:lnTo>
                  <a:lnTo>
                    <a:pt x="507" y="410"/>
                  </a:lnTo>
                  <a:lnTo>
                    <a:pt x="523" y="402"/>
                  </a:lnTo>
                  <a:lnTo>
                    <a:pt x="538" y="393"/>
                  </a:lnTo>
                  <a:lnTo>
                    <a:pt x="553" y="383"/>
                  </a:lnTo>
                  <a:lnTo>
                    <a:pt x="564" y="372"/>
                  </a:lnTo>
                  <a:lnTo>
                    <a:pt x="576" y="360"/>
                  </a:lnTo>
                  <a:lnTo>
                    <a:pt x="588" y="349"/>
                  </a:lnTo>
                  <a:lnTo>
                    <a:pt x="601" y="339"/>
                  </a:lnTo>
                  <a:lnTo>
                    <a:pt x="627" y="320"/>
                  </a:lnTo>
                  <a:lnTo>
                    <a:pt x="655" y="303"/>
                  </a:lnTo>
                  <a:lnTo>
                    <a:pt x="715" y="272"/>
                  </a:lnTo>
                  <a:lnTo>
                    <a:pt x="774" y="243"/>
                  </a:lnTo>
                  <a:lnTo>
                    <a:pt x="804" y="227"/>
                  </a:lnTo>
                  <a:lnTo>
                    <a:pt x="832" y="210"/>
                  </a:lnTo>
                  <a:lnTo>
                    <a:pt x="846" y="202"/>
                  </a:lnTo>
                  <a:lnTo>
                    <a:pt x="859" y="193"/>
                  </a:lnTo>
                  <a:lnTo>
                    <a:pt x="871" y="182"/>
                  </a:lnTo>
                  <a:lnTo>
                    <a:pt x="884" y="173"/>
                  </a:lnTo>
                  <a:lnTo>
                    <a:pt x="896" y="161"/>
                  </a:lnTo>
                  <a:lnTo>
                    <a:pt x="908" y="149"/>
                  </a:lnTo>
                  <a:lnTo>
                    <a:pt x="918" y="138"/>
                  </a:lnTo>
                  <a:lnTo>
                    <a:pt x="929" y="124"/>
                  </a:lnTo>
                  <a:lnTo>
                    <a:pt x="938" y="111"/>
                  </a:lnTo>
                  <a:lnTo>
                    <a:pt x="946" y="96"/>
                  </a:lnTo>
                  <a:lnTo>
                    <a:pt x="954" y="79"/>
                  </a:lnTo>
                  <a:lnTo>
                    <a:pt x="961" y="63"/>
                  </a:lnTo>
                  <a:lnTo>
                    <a:pt x="977" y="66"/>
                  </a:lnTo>
                  <a:lnTo>
                    <a:pt x="991" y="69"/>
                  </a:lnTo>
                  <a:lnTo>
                    <a:pt x="1005" y="70"/>
                  </a:lnTo>
                  <a:lnTo>
                    <a:pt x="1018" y="70"/>
                  </a:lnTo>
                  <a:lnTo>
                    <a:pt x="1030" y="69"/>
                  </a:lnTo>
                  <a:lnTo>
                    <a:pt x="1042" y="68"/>
                  </a:lnTo>
                  <a:lnTo>
                    <a:pt x="1054" y="65"/>
                  </a:lnTo>
                  <a:lnTo>
                    <a:pt x="1064" y="62"/>
                  </a:lnTo>
                  <a:lnTo>
                    <a:pt x="1085" y="55"/>
                  </a:lnTo>
                  <a:lnTo>
                    <a:pt x="1105" y="45"/>
                  </a:lnTo>
                  <a:lnTo>
                    <a:pt x="1124" y="35"/>
                  </a:lnTo>
                  <a:lnTo>
                    <a:pt x="1142" y="25"/>
                  </a:lnTo>
                  <a:lnTo>
                    <a:pt x="1160" y="16"/>
                  </a:lnTo>
                  <a:lnTo>
                    <a:pt x="1178" y="8"/>
                  </a:lnTo>
                  <a:lnTo>
                    <a:pt x="1187" y="6"/>
                  </a:lnTo>
                  <a:lnTo>
                    <a:pt x="1196" y="3"/>
                  </a:lnTo>
                  <a:lnTo>
                    <a:pt x="1206" y="1"/>
                  </a:lnTo>
                  <a:lnTo>
                    <a:pt x="1216" y="0"/>
                  </a:lnTo>
                  <a:lnTo>
                    <a:pt x="1226" y="1"/>
                  </a:lnTo>
                  <a:lnTo>
                    <a:pt x="1236" y="1"/>
                  </a:lnTo>
                  <a:lnTo>
                    <a:pt x="1248" y="3"/>
                  </a:lnTo>
                  <a:lnTo>
                    <a:pt x="1258" y="7"/>
                  </a:lnTo>
                  <a:lnTo>
                    <a:pt x="1271" y="11"/>
                  </a:lnTo>
                  <a:lnTo>
                    <a:pt x="1283" y="18"/>
                  </a:lnTo>
                  <a:lnTo>
                    <a:pt x="1296" y="25"/>
                  </a:lnTo>
                  <a:lnTo>
                    <a:pt x="1310" y="35"/>
                  </a:lnTo>
                  <a:lnTo>
                    <a:pt x="1375" y="35"/>
                  </a:lnTo>
                  <a:close/>
                </a:path>
              </a:pathLst>
            </a:custGeom>
            <a:solidFill>
              <a:srgbClr val="f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05E-F817-4726-8D2E-D9FD5951F71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5649840" y="304920"/>
            <a:ext cx="1670040" cy="4189320"/>
          </a:xfrm>
          <a:custGeom>
            <a:avLst/>
            <a:gdLst/>
            <a:ahLst/>
            <a:rect l="l" t="t" r="r" b="b"/>
            <a:pathLst>
              <a:path w="1344" h="4080">
                <a:moveTo>
                  <a:pt x="0" y="0"/>
                </a:moveTo>
                <a:lnTo>
                  <a:pt x="0" y="2784"/>
                </a:lnTo>
                <a:lnTo>
                  <a:pt x="1344" y="4080"/>
                </a:lnTo>
                <a:lnTo>
                  <a:pt x="1344" y="12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649840" y="304920"/>
            <a:ext cx="2131920" cy="1322280"/>
          </a:xfrm>
          <a:custGeom>
            <a:avLst/>
            <a:gdLst/>
            <a:ahLst/>
            <a:rect l="l" t="t" r="r" b="b"/>
            <a:pathLst>
              <a:path w="1719" h="1289">
                <a:moveTo>
                  <a:pt x="0" y="0"/>
                </a:moveTo>
                <a:lnTo>
                  <a:pt x="384" y="0"/>
                </a:lnTo>
                <a:lnTo>
                  <a:pt x="1719" y="1289"/>
                </a:lnTo>
                <a:lnTo>
                  <a:pt x="1355" y="128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6126120" y="304920"/>
            <a:ext cx="0" cy="2859120"/>
          </a:xfrm>
          <a:prstGeom prst="line">
            <a:avLst/>
          </a:prstGeom>
          <a:ln w="3816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649840" y="3164040"/>
            <a:ext cx="476280" cy="0"/>
          </a:xfrm>
          <a:prstGeom prst="line">
            <a:avLst/>
          </a:prstGeom>
          <a:ln w="38160">
            <a:solidFill>
              <a:srgbClr val="99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126120" y="3164040"/>
            <a:ext cx="1670040" cy="1290600"/>
          </a:xfrm>
          <a:custGeom>
            <a:avLst/>
            <a:gdLst/>
            <a:ahLst/>
            <a:rect l="l" t="t" r="r" b="b"/>
            <a:pathLst>
              <a:path w="1347" h="1256">
                <a:moveTo>
                  <a:pt x="0" y="0"/>
                </a:moveTo>
                <a:lnTo>
                  <a:pt x="1347" y="1256"/>
                </a:lnTo>
              </a:path>
            </a:pathLst>
          </a:custGeom>
          <a:noFill/>
          <a:ln w="38160">
            <a:solidFill>
              <a:srgbClr val="99cc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3602160" y="1771560"/>
            <a:ext cx="5827320" cy="909360"/>
            <a:chOff x="3602160" y="1771560"/>
            <a:chExt cx="5827320" cy="909360"/>
          </a:xfrm>
        </p:grpSpPr>
        <p:grpSp>
          <p:nvGrpSpPr>
            <p:cNvPr id="901" name=""/>
            <p:cNvGrpSpPr/>
            <p:nvPr/>
          </p:nvGrpSpPr>
          <p:grpSpPr>
            <a:xfrm>
              <a:off x="3602160" y="1771560"/>
              <a:ext cx="1028520" cy="840600"/>
              <a:chOff x="3602160" y="1771560"/>
              <a:chExt cx="1028520" cy="840600"/>
            </a:xfrm>
          </p:grpSpPr>
          <p:sp>
            <p:nvSpPr>
              <p:cNvPr id="902" name=""/>
              <p:cNvSpPr/>
              <p:nvPr/>
            </p:nvSpPr>
            <p:spPr>
              <a:xfrm>
                <a:off x="3602160" y="1922400"/>
                <a:ext cx="541440" cy="68976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4089240" y="1771560"/>
                <a:ext cx="541440" cy="68976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533120" y="1771560"/>
              <a:ext cx="1026720" cy="840600"/>
              <a:chOff x="4533120" y="1771560"/>
              <a:chExt cx="1026720" cy="840600"/>
            </a:xfrm>
          </p:grpSpPr>
          <p:sp>
            <p:nvSpPr>
              <p:cNvPr id="905" name=""/>
              <p:cNvSpPr/>
              <p:nvPr/>
            </p:nvSpPr>
            <p:spPr>
              <a:xfrm>
                <a:off x="4533120" y="1922400"/>
                <a:ext cx="540360" cy="68976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5019480" y="1771560"/>
                <a:ext cx="540360" cy="68976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5557680" y="1771560"/>
              <a:ext cx="1028520" cy="840600"/>
              <a:chOff x="5557680" y="1771560"/>
              <a:chExt cx="1028520" cy="840600"/>
            </a:xfrm>
          </p:grpSpPr>
          <p:sp>
            <p:nvSpPr>
              <p:cNvPr id="908" name=""/>
              <p:cNvSpPr/>
              <p:nvPr/>
            </p:nvSpPr>
            <p:spPr>
              <a:xfrm>
                <a:off x="5557680" y="1922400"/>
                <a:ext cx="541440" cy="68976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V="1">
                <a:off x="6044760" y="1771560"/>
                <a:ext cx="541440" cy="68976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7511400" y="1840320"/>
              <a:ext cx="1028520" cy="840600"/>
              <a:chOff x="7511400" y="1840320"/>
              <a:chExt cx="1028520" cy="840600"/>
            </a:xfrm>
          </p:grpSpPr>
          <p:sp>
            <p:nvSpPr>
              <p:cNvPr id="911" name=""/>
              <p:cNvSpPr/>
              <p:nvPr/>
            </p:nvSpPr>
            <p:spPr>
              <a:xfrm>
                <a:off x="7511400" y="1991520"/>
                <a:ext cx="541440" cy="68940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7998480" y="1839960"/>
                <a:ext cx="541440" cy="68940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rot="16200000">
              <a:off x="8723160" y="1844280"/>
              <a:ext cx="462240" cy="95040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950400"/>
                <a:gd name="textAreaBottom" fmla="*/ 950760 h 95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55" y="8026"/>
                  </a:moveTo>
                  <a:arcTo wR="-9652" hR="-9652" stAng="-9797876" swAng="-6264064"/>
                  <a:lnTo>
                    <a:pt x="11234" y="9"/>
                  </a:lnTo>
                  <a:arcTo wR="10800" hR="10800" stAng="-5261939" swAng="6264064"/>
                  <a:lnTo>
                    <a:pt x="23730" y="14680"/>
                  </a:lnTo>
                  <a:lnTo>
                    <a:pt x="19654" y="16875"/>
                  </a:lnTo>
                  <a:lnTo>
                    <a:pt x="17459" y="1279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7045560" y="1771560"/>
              <a:ext cx="558720" cy="689760"/>
            </a:xfrm>
            <a:prstGeom prst="blockArc">
              <a:avLst>
                <a:gd name="adj1" fmla="val 11563700"/>
                <a:gd name="adj2" fmla="val 20836300"/>
                <a:gd name="adj3" fmla="val 8042"/>
              </a:avLst>
            </a:prstGeom>
            <a:solidFill>
              <a:srgbClr val="3333cc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580080" y="1911240"/>
              <a:ext cx="541800" cy="689760"/>
            </a:xfrm>
            <a:prstGeom prst="blockArc">
              <a:avLst>
                <a:gd name="adj1" fmla="val 11563700"/>
                <a:gd name="adj2" fmla="val 20836300"/>
                <a:gd name="adj3" fmla="val 8042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66ccff"/>
                </a:gs>
                <a:gs pos="100000">
                  <a:srgbClr val="3333cc"/>
                </a:gs>
              </a:gsLst>
              <a:lin ang="10800000"/>
            </a:gra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>
            <a:off x="7319880" y="1638360"/>
            <a:ext cx="473040" cy="2855880"/>
          </a:xfrm>
          <a:custGeom>
            <a:avLst/>
            <a:gdLst/>
            <a:ahLst/>
            <a:rect l="l" t="t" r="r" b="b"/>
            <a:pathLst>
              <a:path w="384" h="2784">
                <a:moveTo>
                  <a:pt x="0" y="0"/>
                </a:moveTo>
                <a:lnTo>
                  <a:pt x="384" y="0"/>
                </a:lnTo>
                <a:lnTo>
                  <a:pt x="384" y="2784"/>
                </a:lnTo>
                <a:lnTo>
                  <a:pt x="0" y="27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14560" y="4343400"/>
            <a:ext cx="848808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Le rayonnement solaire traverse les matériaux transparents,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944640" y="5427720"/>
            <a:ext cx="839772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sans les échauffer de façon import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514440" y="1219320"/>
            <a:ext cx="2149560" cy="178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0E0C-5399-4A32-A42E-C030825EB1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971640" y="981000"/>
            <a:ext cx="82310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Ainsi, l'air est relativement transparent au  rayonnement solaire dir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qui le traverse sans l'échauffer de </a:t>
            </a: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façon </a:t>
            </a:r>
            <a:r>
              <a:rPr b="1" lang="en-US" sz="2600" spc="-1" strike="noStrike">
                <a:solidFill>
                  <a:srgbClr val="ffffff"/>
                </a:solidFill>
                <a:latin typeface="Comic Sans MS"/>
              </a:rPr>
              <a:t>importante</a:t>
            </a:r>
            <a:r>
              <a:rPr b="1" lang="en-US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88DF-5008-4B88-895E-A7DAD50B955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771480" y="2058840"/>
            <a:ext cx="2149560" cy="178128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 flipH="1">
            <a:off x="7716240" y="380880"/>
            <a:ext cx="1625400" cy="4418280"/>
          </a:xfrm>
          <a:prstGeom prst="cube">
            <a:avLst>
              <a:gd name="adj" fmla="val 7718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716960" y="380880"/>
            <a:ext cx="1288800" cy="4454640"/>
          </a:xfrm>
          <a:custGeom>
            <a:avLst/>
            <a:gdLst/>
            <a:ahLst/>
            <a:rect l="l" t="t" r="r" b="b"/>
            <a:pathLst>
              <a:path w="723" h="2805">
                <a:moveTo>
                  <a:pt x="0" y="0"/>
                </a:moveTo>
                <a:lnTo>
                  <a:pt x="0" y="2095"/>
                </a:lnTo>
                <a:lnTo>
                  <a:pt x="711" y="2805"/>
                </a:lnTo>
                <a:lnTo>
                  <a:pt x="723" y="7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3859200" y="2363760"/>
            <a:ext cx="4371480" cy="988560"/>
            <a:chOff x="3859200" y="2363760"/>
            <a:chExt cx="4371480" cy="988560"/>
          </a:xfrm>
        </p:grpSpPr>
        <p:sp>
          <p:nvSpPr>
            <p:cNvPr id="926" name=""/>
            <p:cNvSpPr/>
            <p:nvPr/>
          </p:nvSpPr>
          <p:spPr>
            <a:xfrm>
              <a:off x="3859200" y="2602800"/>
              <a:ext cx="497880" cy="749520"/>
            </a:xfrm>
            <a:prstGeom prst="blockArc">
              <a:avLst>
                <a:gd name="adj1" fmla="val 11563700"/>
                <a:gd name="adj2" fmla="val 20836300"/>
                <a:gd name="adj3" fmla="val 8042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5050"/>
                </a:gs>
                <a:gs pos="100000">
                  <a:srgbClr val="cc00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287600" y="2363760"/>
              <a:ext cx="497880" cy="749520"/>
            </a:xfrm>
            <a:prstGeom prst="blockArc">
              <a:avLst>
                <a:gd name="adj1" fmla="val 11563700"/>
                <a:gd name="adj2" fmla="val 20836300"/>
                <a:gd name="adj3" fmla="val 8042"/>
              </a:avLst>
            </a:prstGeom>
            <a:gradFill rotWithShape="0">
              <a:gsLst>
                <a:gs pos="0">
                  <a:srgbClr val="ff3300"/>
                </a:gs>
                <a:gs pos="50000">
                  <a:srgbClr val="ff9933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733640" y="2439720"/>
              <a:ext cx="946800" cy="912600"/>
              <a:chOff x="4733640" y="2439720"/>
              <a:chExt cx="946800" cy="912600"/>
            </a:xfrm>
          </p:grpSpPr>
          <p:sp>
            <p:nvSpPr>
              <p:cNvPr id="929" name=""/>
              <p:cNvSpPr/>
              <p:nvPr/>
            </p:nvSpPr>
            <p:spPr>
              <a:xfrm>
                <a:off x="4733640" y="2603520"/>
                <a:ext cx="498240" cy="74880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5182200" y="2439720"/>
                <a:ext cx="498240" cy="74880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607360" y="2439720"/>
              <a:ext cx="947880" cy="912600"/>
              <a:chOff x="5607360" y="2439720"/>
              <a:chExt cx="947880" cy="912600"/>
            </a:xfrm>
          </p:grpSpPr>
          <p:sp>
            <p:nvSpPr>
              <p:cNvPr id="932" name=""/>
              <p:cNvSpPr/>
              <p:nvPr/>
            </p:nvSpPr>
            <p:spPr>
              <a:xfrm>
                <a:off x="5607360" y="2603520"/>
                <a:ext cx="498960" cy="74880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6056280" y="2439720"/>
                <a:ext cx="498960" cy="74880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6482520" y="2439720"/>
              <a:ext cx="946440" cy="912600"/>
              <a:chOff x="6482520" y="2439720"/>
              <a:chExt cx="946440" cy="912600"/>
            </a:xfrm>
          </p:grpSpPr>
          <p:sp>
            <p:nvSpPr>
              <p:cNvPr id="935" name=""/>
              <p:cNvSpPr/>
              <p:nvPr/>
            </p:nvSpPr>
            <p:spPr>
              <a:xfrm>
                <a:off x="6482520" y="2603520"/>
                <a:ext cx="498240" cy="74880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6930720" y="2439720"/>
                <a:ext cx="498240" cy="748800"/>
              </a:xfrm>
              <a:prstGeom prst="blockArc">
                <a:avLst>
                  <a:gd name="adj1" fmla="val 11563700"/>
                  <a:gd name="adj2" fmla="val 20836300"/>
                  <a:gd name="adj3" fmla="val 8042"/>
                </a:avLst>
              </a:prstGeom>
              <a:gradFill rotWithShape="0">
                <a:gsLst>
                  <a:gs pos="0">
                    <a:srgbClr val="ff3300"/>
                  </a:gs>
                  <a:gs pos="50000">
                    <a:srgbClr val="ff9933"/>
                  </a:gs>
                  <a:gs pos="100000">
                    <a:srgbClr val="ff3300"/>
                  </a:gs>
                </a:gsLst>
                <a:lin ang="10800000"/>
              </a:gradFill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"/>
            <p:cNvSpPr/>
            <p:nvPr/>
          </p:nvSpPr>
          <p:spPr>
            <a:xfrm rot="16200000">
              <a:off x="7542000" y="2481120"/>
              <a:ext cx="502200" cy="87516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875160"/>
                <a:gd name="textAreaBottom" fmla="*/ 875520 h 87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55" y="8026"/>
                  </a:moveTo>
                  <a:arcTo wR="-9652" hR="-9652" stAng="-9797876" swAng="-6264064"/>
                  <a:lnTo>
                    <a:pt x="11234" y="9"/>
                  </a:lnTo>
                  <a:arcTo wR="10800" hR="10800" stAng="-5261939" swAng="6264064"/>
                  <a:lnTo>
                    <a:pt x="23730" y="14680"/>
                  </a:lnTo>
                  <a:lnTo>
                    <a:pt x="19654" y="16875"/>
                  </a:lnTo>
                  <a:lnTo>
                    <a:pt x="17459" y="1279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f3300"/>
                </a:gs>
              </a:gsLst>
              <a:lin ang="10800000"/>
            </a:gra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944640" y="5103720"/>
            <a:ext cx="831384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… </a:t>
            </a: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par les matériaux sombres qui alors s’échauffent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26960" y="380880"/>
            <a:ext cx="625788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Le rayonnement solaire est fortement absorbé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674-1EE6-4D5F-8D20-C64D92FCDCD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0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7373880" y="838080"/>
            <a:ext cx="1292400" cy="3810240"/>
          </a:xfrm>
          <a:custGeom>
            <a:avLst/>
            <a:gdLst/>
            <a:ahLst/>
            <a:rect l="l" t="t" r="r" b="b"/>
            <a:pathLst>
              <a:path w="1344" h="4080">
                <a:moveTo>
                  <a:pt x="0" y="0"/>
                </a:moveTo>
                <a:lnTo>
                  <a:pt x="0" y="2784"/>
                </a:lnTo>
                <a:lnTo>
                  <a:pt x="1344" y="4080"/>
                </a:lnTo>
                <a:lnTo>
                  <a:pt x="1344" y="129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66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75C-19E3-4077-97E2-4B9A5A5F77C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3F3-6BE6-46E6-AE58-FDEBC13FF5B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1A3-4BAA-4454-A7A6-7795DFBA339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6097-ED7A-4EE7-9099-E5E822938C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1BC-ACA4-418E-858B-CDCDB8A8EFF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3DC-5B8B-42A3-B643-5CDC9E8D306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10363320" cy="81442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3200" spc="-1" strike="noStrike">
                <a:solidFill>
                  <a:srgbClr val="000066"/>
                </a:solidFill>
                <a:latin typeface="Comic Sans MS"/>
              </a:rPr>
              <a:t>Chapitre I : Quelques propriétés de l ’atmosph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I-1: Composition de l ’air atmosph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fr-FR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I-2: la température et transmission de la ch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I-3: La pression atmosphé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20040" y="227664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3D8-CC4F-48DB-AC7B-FFA52F7DAB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AE2-C13C-48F7-9CC3-A525C679400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959-BAF2-4CA9-88C9-EEBE80307B8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F017-9257-4A04-A4D5-FB294EE763E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818-F1D8-4FDA-84BB-CB6650B7653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6FB5-4E33-46F6-BA25-D60DF17B89C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28B3-7EE2-4FA3-80B0-46EC81D7F43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36A0-38E6-46F2-84F2-19693F96FA8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490-48B4-4A7C-918D-C068D79D488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909-3F29-464F-8B82-0A4583A02F8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657-58E9-4260-8598-787C0751692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>
            <a:lum contrast="-10000"/>
          </a:blip>
          <a:stretch/>
        </p:blipFill>
        <p:spPr>
          <a:xfrm>
            <a:off x="0" y="-4140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083520" y="23972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28240" y="42116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320040" y="37339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12200" y="47196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447120" y="3240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00" y="-22320"/>
            <a:ext cx="10287000" cy="73278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I-2 : la température et transmission de la chal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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-2-1 : Dé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-2-2: Les processus mis en j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- La con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B- La conv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C- le rayonnement ther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-2-3: Bilan radiatif-convectif moy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de la Terre et de son atmosphè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-2-4: Répartition verticale de la tempé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et atmosphère « standard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9453600" y="1521000"/>
            <a:ext cx="493560" cy="50616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06160"/>
              <a:gd name="textAreaBottom" fmla="*/ 474480 h 506160"/>
            </a:gdLst>
            <a:ahLst/>
            <a:rect l="textAreaLeft" t="textAreaTop" r="textAreaRight" b="textAreaBottom"/>
            <a:pathLst>
              <a:path w="21600" h="22151">
                <a:moveTo>
                  <a:pt x="0" y="0"/>
                </a:moveTo>
                <a:lnTo>
                  <a:pt x="21600" y="0"/>
                </a:lnTo>
                <a:lnTo>
                  <a:pt x="21600" y="22151"/>
                </a:lnTo>
                <a:lnTo>
                  <a:pt x="0" y="22151"/>
                </a:lnTo>
                <a:close/>
              </a:path>
              <a:path fill="lightenLess" w="21600" h="221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51">
                <a:moveTo>
                  <a:pt x="21600" y="0"/>
                </a:moveTo>
                <a:lnTo>
                  <a:pt x="21600" y="22151"/>
                </a:lnTo>
                <a:lnTo>
                  <a:pt x="20200" y="20751"/>
                </a:lnTo>
                <a:lnTo>
                  <a:pt x="20200" y="1400"/>
                </a:lnTo>
                <a:close/>
              </a:path>
              <a:path fill="darkenLess" w="21600" h="22151">
                <a:moveTo>
                  <a:pt x="21600" y="22151"/>
                </a:moveTo>
                <a:lnTo>
                  <a:pt x="0" y="22151"/>
                </a:lnTo>
                <a:lnTo>
                  <a:pt x="1400" y="20751"/>
                </a:lnTo>
                <a:lnTo>
                  <a:pt x="20200" y="20751"/>
                </a:lnTo>
                <a:close/>
              </a:path>
              <a:path fill="lighten" w="21600" h="22151">
                <a:moveTo>
                  <a:pt x="0" y="221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51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9469440" y="2208240"/>
            <a:ext cx="493560" cy="50652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06520"/>
              <a:gd name="textAreaBottom" fmla="*/ 474840 h 506520"/>
            </a:gdLst>
            <a:ahLst/>
            <a:rect l="textAreaLeft" t="textAreaTop" r="textAreaRight" b="textAreaBottom"/>
            <a:pathLst>
              <a:path w="21600" h="22167">
                <a:moveTo>
                  <a:pt x="0" y="0"/>
                </a:moveTo>
                <a:lnTo>
                  <a:pt x="21600" y="0"/>
                </a:lnTo>
                <a:lnTo>
                  <a:pt x="21600" y="22167"/>
                </a:lnTo>
                <a:lnTo>
                  <a:pt x="0" y="22167"/>
                </a:lnTo>
                <a:close/>
              </a:path>
              <a:path fill="lightenLess" w="21600" h="221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67">
                <a:moveTo>
                  <a:pt x="21600" y="0"/>
                </a:moveTo>
                <a:lnTo>
                  <a:pt x="21600" y="22167"/>
                </a:lnTo>
                <a:lnTo>
                  <a:pt x="20200" y="20767"/>
                </a:lnTo>
                <a:lnTo>
                  <a:pt x="20200" y="1400"/>
                </a:lnTo>
                <a:close/>
              </a:path>
              <a:path fill="darkenLess" w="21600" h="22167">
                <a:moveTo>
                  <a:pt x="21600" y="22167"/>
                </a:moveTo>
                <a:lnTo>
                  <a:pt x="0" y="22167"/>
                </a:lnTo>
                <a:lnTo>
                  <a:pt x="1400" y="20767"/>
                </a:lnTo>
                <a:lnTo>
                  <a:pt x="20200" y="20767"/>
                </a:lnTo>
                <a:close/>
              </a:path>
              <a:path fill="lighten" w="21600" h="22167">
                <a:moveTo>
                  <a:pt x="0" y="221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67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4" action="ppaction://hlinksldjump"/>
          </p:cNvPr>
          <p:cNvSpPr/>
          <p:nvPr/>
        </p:nvSpPr>
        <p:spPr>
          <a:xfrm>
            <a:off x="9456840" y="3395520"/>
            <a:ext cx="493560" cy="50652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06520"/>
              <a:gd name="textAreaBottom" fmla="*/ 474840 h 506520"/>
            </a:gdLst>
            <a:ahLst/>
            <a:rect l="textAreaLeft" t="textAreaTop" r="textAreaRight" b="textAreaBottom"/>
            <a:pathLst>
              <a:path w="21600" h="22167">
                <a:moveTo>
                  <a:pt x="0" y="0"/>
                </a:moveTo>
                <a:lnTo>
                  <a:pt x="21600" y="0"/>
                </a:lnTo>
                <a:lnTo>
                  <a:pt x="21600" y="22167"/>
                </a:lnTo>
                <a:lnTo>
                  <a:pt x="0" y="22167"/>
                </a:lnTo>
                <a:close/>
              </a:path>
              <a:path fill="lightenLess" w="21600" h="221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67">
                <a:moveTo>
                  <a:pt x="21600" y="0"/>
                </a:moveTo>
                <a:lnTo>
                  <a:pt x="21600" y="22167"/>
                </a:lnTo>
                <a:lnTo>
                  <a:pt x="20200" y="20767"/>
                </a:lnTo>
                <a:lnTo>
                  <a:pt x="20200" y="1400"/>
                </a:lnTo>
                <a:close/>
              </a:path>
              <a:path fill="darkenLess" w="21600" h="22167">
                <a:moveTo>
                  <a:pt x="21600" y="22167"/>
                </a:moveTo>
                <a:lnTo>
                  <a:pt x="0" y="22167"/>
                </a:lnTo>
                <a:lnTo>
                  <a:pt x="1400" y="20767"/>
                </a:lnTo>
                <a:lnTo>
                  <a:pt x="20200" y="20767"/>
                </a:lnTo>
                <a:close/>
              </a:path>
              <a:path fill="lighten" w="21600" h="22167">
                <a:moveTo>
                  <a:pt x="0" y="221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67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9439200" y="5749920"/>
            <a:ext cx="492120" cy="506520"/>
          </a:xfrm>
          <a:custGeom>
            <a:avLst/>
            <a:gdLst>
              <a:gd name="textAreaLeft" fmla="*/ 31680 w 492120"/>
              <a:gd name="textAreaRight" fmla="*/ 460440 w 492120"/>
              <a:gd name="textAreaTop" fmla="*/ 31680 h 506520"/>
              <a:gd name="textAreaBottom" fmla="*/ 474840 h 506520"/>
            </a:gdLst>
            <a:ahLst/>
            <a:rect l="textAreaLeft" t="textAreaTop" r="textAreaRight" b="textAreaBottom"/>
            <a:pathLst>
              <a:path w="21600" h="22232">
                <a:moveTo>
                  <a:pt x="0" y="0"/>
                </a:moveTo>
                <a:lnTo>
                  <a:pt x="21600" y="0"/>
                </a:lnTo>
                <a:lnTo>
                  <a:pt x="21600" y="22232"/>
                </a:lnTo>
                <a:lnTo>
                  <a:pt x="0" y="22232"/>
                </a:lnTo>
                <a:close/>
              </a:path>
              <a:path fill="lightenLess" w="21600" h="222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32">
                <a:moveTo>
                  <a:pt x="21600" y="0"/>
                </a:moveTo>
                <a:lnTo>
                  <a:pt x="21600" y="22232"/>
                </a:lnTo>
                <a:lnTo>
                  <a:pt x="20200" y="20832"/>
                </a:lnTo>
                <a:lnTo>
                  <a:pt x="20200" y="1400"/>
                </a:lnTo>
                <a:close/>
              </a:path>
              <a:path fill="darkenLess" w="21600" h="22232">
                <a:moveTo>
                  <a:pt x="21600" y="22232"/>
                </a:moveTo>
                <a:lnTo>
                  <a:pt x="0" y="22232"/>
                </a:lnTo>
                <a:lnTo>
                  <a:pt x="1400" y="20832"/>
                </a:lnTo>
                <a:lnTo>
                  <a:pt x="20200" y="20832"/>
                </a:lnTo>
                <a:close/>
              </a:path>
              <a:path fill="lighten" w="21600" h="22232">
                <a:moveTo>
                  <a:pt x="0" y="222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32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9453600" y="2835360"/>
            <a:ext cx="493560" cy="506160"/>
          </a:xfrm>
          <a:custGeom>
            <a:avLst/>
            <a:gdLst>
              <a:gd name="textAreaLeft" fmla="*/ 31680 w 493560"/>
              <a:gd name="textAreaRight" fmla="*/ 461880 w 493560"/>
              <a:gd name="textAreaTop" fmla="*/ 31680 h 506160"/>
              <a:gd name="textAreaBottom" fmla="*/ 474480 h 506160"/>
            </a:gdLst>
            <a:ahLst/>
            <a:rect l="textAreaLeft" t="textAreaTop" r="textAreaRight" b="textAreaBottom"/>
            <a:pathLst>
              <a:path w="21600" h="22151">
                <a:moveTo>
                  <a:pt x="0" y="0"/>
                </a:moveTo>
                <a:lnTo>
                  <a:pt x="21600" y="0"/>
                </a:lnTo>
                <a:lnTo>
                  <a:pt x="21600" y="22151"/>
                </a:lnTo>
                <a:lnTo>
                  <a:pt x="0" y="22151"/>
                </a:lnTo>
                <a:close/>
              </a:path>
              <a:path fill="lightenLess" w="21600" h="221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51">
                <a:moveTo>
                  <a:pt x="21600" y="0"/>
                </a:moveTo>
                <a:lnTo>
                  <a:pt x="21600" y="22151"/>
                </a:lnTo>
                <a:lnTo>
                  <a:pt x="20200" y="20751"/>
                </a:lnTo>
                <a:lnTo>
                  <a:pt x="20200" y="1400"/>
                </a:lnTo>
                <a:close/>
              </a:path>
              <a:path fill="darkenLess" w="21600" h="22151">
                <a:moveTo>
                  <a:pt x="21600" y="22151"/>
                </a:moveTo>
                <a:lnTo>
                  <a:pt x="0" y="22151"/>
                </a:lnTo>
                <a:lnTo>
                  <a:pt x="1400" y="20751"/>
                </a:lnTo>
                <a:lnTo>
                  <a:pt x="20200" y="20751"/>
                </a:lnTo>
                <a:close/>
              </a:path>
              <a:path fill="lighten" w="21600" h="22151">
                <a:moveTo>
                  <a:pt x="0" y="221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51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7" action="ppaction://hlinksldjump"/>
          </p:cNvPr>
          <p:cNvSpPr/>
          <p:nvPr/>
        </p:nvSpPr>
        <p:spPr>
          <a:xfrm>
            <a:off x="9441000" y="4637160"/>
            <a:ext cx="492120" cy="506520"/>
          </a:xfrm>
          <a:custGeom>
            <a:avLst/>
            <a:gdLst>
              <a:gd name="textAreaLeft" fmla="*/ 31680 w 492120"/>
              <a:gd name="textAreaRight" fmla="*/ 460440 w 492120"/>
              <a:gd name="textAreaTop" fmla="*/ 31680 h 506520"/>
              <a:gd name="textAreaBottom" fmla="*/ 474840 h 506520"/>
            </a:gdLst>
            <a:ahLst/>
            <a:rect l="textAreaLeft" t="textAreaTop" r="textAreaRight" b="textAreaBottom"/>
            <a:pathLst>
              <a:path w="21600" h="22232">
                <a:moveTo>
                  <a:pt x="0" y="0"/>
                </a:moveTo>
                <a:lnTo>
                  <a:pt x="21600" y="0"/>
                </a:lnTo>
                <a:lnTo>
                  <a:pt x="21600" y="22232"/>
                </a:lnTo>
                <a:lnTo>
                  <a:pt x="0" y="22232"/>
                </a:lnTo>
                <a:close/>
              </a:path>
              <a:path fill="lightenLess" w="21600" h="222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32">
                <a:moveTo>
                  <a:pt x="21600" y="0"/>
                </a:moveTo>
                <a:lnTo>
                  <a:pt x="21600" y="22232"/>
                </a:lnTo>
                <a:lnTo>
                  <a:pt x="20200" y="20832"/>
                </a:lnTo>
                <a:lnTo>
                  <a:pt x="20200" y="1400"/>
                </a:lnTo>
                <a:close/>
              </a:path>
              <a:path fill="darkenLess" w="21600" h="22232">
                <a:moveTo>
                  <a:pt x="21600" y="22232"/>
                </a:moveTo>
                <a:lnTo>
                  <a:pt x="0" y="22232"/>
                </a:lnTo>
                <a:lnTo>
                  <a:pt x="1400" y="20832"/>
                </a:lnTo>
                <a:lnTo>
                  <a:pt x="20200" y="20832"/>
                </a:lnTo>
                <a:close/>
              </a:path>
              <a:path fill="lighten" w="21600" h="22232">
                <a:moveTo>
                  <a:pt x="0" y="222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32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8" action="ppaction://hlinksldjump"/>
          </p:cNvPr>
          <p:cNvSpPr/>
          <p:nvPr/>
        </p:nvSpPr>
        <p:spPr>
          <a:xfrm>
            <a:off x="9443880" y="3940200"/>
            <a:ext cx="492120" cy="506520"/>
          </a:xfrm>
          <a:custGeom>
            <a:avLst/>
            <a:gdLst>
              <a:gd name="textAreaLeft" fmla="*/ 31680 w 492120"/>
              <a:gd name="textAreaRight" fmla="*/ 460440 w 492120"/>
              <a:gd name="textAreaTop" fmla="*/ 31680 h 506520"/>
              <a:gd name="textAreaBottom" fmla="*/ 474840 h 506520"/>
            </a:gdLst>
            <a:ahLst/>
            <a:rect l="textAreaLeft" t="textAreaTop" r="textAreaRight" b="textAreaBottom"/>
            <a:pathLst>
              <a:path w="21600" h="22232">
                <a:moveTo>
                  <a:pt x="0" y="0"/>
                </a:moveTo>
                <a:lnTo>
                  <a:pt x="21600" y="0"/>
                </a:lnTo>
                <a:lnTo>
                  <a:pt x="21600" y="22232"/>
                </a:lnTo>
                <a:lnTo>
                  <a:pt x="0" y="22232"/>
                </a:lnTo>
                <a:close/>
              </a:path>
              <a:path fill="lightenLess" w="21600" h="222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32">
                <a:moveTo>
                  <a:pt x="21600" y="0"/>
                </a:moveTo>
                <a:lnTo>
                  <a:pt x="21600" y="22232"/>
                </a:lnTo>
                <a:lnTo>
                  <a:pt x="20200" y="20832"/>
                </a:lnTo>
                <a:lnTo>
                  <a:pt x="20200" y="1400"/>
                </a:lnTo>
                <a:close/>
              </a:path>
              <a:path fill="darkenLess" w="21600" h="22232">
                <a:moveTo>
                  <a:pt x="21600" y="22232"/>
                </a:moveTo>
                <a:lnTo>
                  <a:pt x="0" y="22232"/>
                </a:lnTo>
                <a:lnTo>
                  <a:pt x="1400" y="20832"/>
                </a:lnTo>
                <a:lnTo>
                  <a:pt x="20200" y="20832"/>
                </a:lnTo>
                <a:close/>
              </a:path>
              <a:path fill="lighten" w="21600" h="22232">
                <a:moveTo>
                  <a:pt x="0" y="222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32"/>
                </a:ln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3933-1CF6-4EFD-82A0-3986A06C4B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A8AE-F717-430C-B10C-6CC2275C0F2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2555-3533-46E0-B8C8-4F43AC6E214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2B9-7CD1-43FF-AC88-FD351DE9D0C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0CC9-7302-4858-A536-9572325421F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93EB-9DFB-48FF-80F4-170F4E88525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4D6-94A0-4DAD-B5DA-6EF0F9A6F78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034-79F9-473B-AAC5-8659F2A96E40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1BC-36BA-4DDD-86FA-1375791FAD5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BBE1-D8A4-448B-A1E1-D13CA377788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4C0-6DC6-407C-81C0-BA0E2CE999E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4520" y="304920"/>
            <a:ext cx="9772560" cy="6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La température, exprime la notion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44520" y="1219320"/>
            <a:ext cx="5142960" cy="3163680"/>
            <a:chOff x="344520" y="1219320"/>
            <a:chExt cx="5142960" cy="31636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344520" y="1219320"/>
              <a:ext cx="505728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801440" y="1523880"/>
              <a:ext cx="368604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5200" spc="-1" strike="noStrike">
                  <a:solidFill>
                    <a:srgbClr val="3333cc"/>
                  </a:solidFill>
                  <a:latin typeface="Comic Sans MS"/>
                </a:rPr>
                <a:t>de chaud,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944640" y="3124080"/>
            <a:ext cx="8865720" cy="3389040"/>
            <a:chOff x="944640" y="3124080"/>
            <a:chExt cx="8865720" cy="338904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43800" y="3124080"/>
              <a:ext cx="4066560" cy="33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944640" y="4953600"/>
              <a:ext cx="479916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 algn="ctr">
                <a:lnSpc>
                  <a:spcPct val="100000"/>
                </a:lnSpc>
                <a:spcBef>
                  <a:spcPts val="3251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5200" spc="-1" strike="noStrike">
                  <a:solidFill>
                    <a:srgbClr val="ffffff"/>
                  </a:solidFill>
                  <a:latin typeface="Comic Sans MS"/>
                </a:rPr>
                <a:t>et de froid.</a:t>
              </a:r>
              <a:endParaRPr b="0" lang="en-US" sz="5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F22-CB10-4F8A-A324-69BF55EC57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81A-A858-4C2A-BDD6-E8B1834E044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3B4-A251-4E38-9FA0-92569524876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7B0-FA2E-497B-85AB-6347C58A1CBB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CE3-40B3-4A8E-B110-8321EBA05C5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E820-E421-49ED-A8C1-C6AA70C6C5F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F702-F8EE-4E2D-8F15-535EBC53E30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C6E-92AA-4B73-93E7-E6D07066B15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74B6-70BF-4B41-BF88-765D2AB4224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D5A-8812-4553-812F-8D91298912E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F89D-6A02-4B29-BD59-AD78329516C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1560" y="2438280"/>
            <a:ext cx="3635640" cy="3402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150840"/>
            <a:ext cx="1028700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Elle illustre le niveau d'agitation des atomes et des molécules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41760" y="3200400"/>
            <a:ext cx="5400720" cy="24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9933"/>
                </a:solidFill>
                <a:latin typeface="Comic Sans MS"/>
              </a:rPr>
              <a:t>Plus l'agitation est grande, plus la température est élevée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D2B-0ECD-4113-8F76-E1650EF582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231C-82A3-46DA-91F7-75A823743D2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9842-3894-48E1-A353-4E7F6ABAA89D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B69-0646-4FF5-A3D0-FB773EC28D7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54C-4FCC-44F5-A712-D04A9C7A28BF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EDA-40C3-47EA-B6D6-1BE0F4109FA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E71-C218-4A9F-986C-A270B6D2E3F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8DE-CC87-4065-8E15-BCEBBAA7C50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D82-90B0-430B-80CA-B7720B28F37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CC02-FCDE-4912-B0FB-26554E9C261C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8A6F-C4AD-402F-A616-8A68F11932C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4360" y="533520"/>
            <a:ext cx="85741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Comic Sans MS"/>
              </a:rPr>
              <a:t>Si l'agitation cesse,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Comic Sans MS"/>
              </a:rPr>
              <a:t>la température est minimale 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4520" y="2590920"/>
            <a:ext cx="582768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39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6300" spc="-1" strike="noStrike">
                <a:solidFill>
                  <a:srgbClr val="ffffcc"/>
                </a:solidFill>
                <a:latin typeface="Comic Sans MS"/>
              </a:rPr>
              <a:t>C'est le zéro 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00840" y="2590920"/>
            <a:ext cx="42861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spcBef>
                <a:spcPts val="3937"/>
              </a:spcBef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6300" spc="-1" strike="noStrike">
                <a:solidFill>
                  <a:srgbClr val="ffffcc"/>
                </a:solidFill>
                <a:latin typeface="Comic Sans MS"/>
              </a:rPr>
              <a:t>"absolu".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44640" y="4189320"/>
            <a:ext cx="4285800" cy="2517480"/>
            <a:chOff x="944640" y="4189320"/>
            <a:chExt cx="4285800" cy="2517480"/>
          </a:xfrm>
        </p:grpSpPr>
        <p:sp>
          <p:nvSpPr>
            <p:cNvPr id="116" name=""/>
            <p:cNvSpPr/>
            <p:nvPr/>
          </p:nvSpPr>
          <p:spPr>
            <a:xfrm>
              <a:off x="1201680" y="4189320"/>
              <a:ext cx="3857040" cy="2517480"/>
            </a:xfrm>
            <a:prstGeom prst="ellipse">
              <a:avLst/>
            </a:prstGeom>
            <a:noFill/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44640" y="4494240"/>
              <a:ext cx="4285800" cy="18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 algn="ctr">
                <a:spcBef>
                  <a:spcPts val="3626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5800" spc="-1" strike="noStrike">
                  <a:solidFill>
                    <a:srgbClr val="cc0000"/>
                  </a:solidFill>
                  <a:latin typeface="Times New Roman"/>
                </a:rPr>
                <a:t>0° K </a:t>
              </a:r>
              <a:endParaRPr b="0" lang="en-US" sz="5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spcBef>
                  <a:spcPts val="1451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5800" spc="-1" strike="noStrike">
                  <a:solidFill>
                    <a:srgbClr val="cc0000"/>
                  </a:solidFill>
                  <a:latin typeface="Times New Roman"/>
                </a:rPr>
                <a:t>(</a:t>
              </a:r>
              <a:r>
                <a:rPr b="1" i="1" lang="en-US" sz="5800" spc="-1" strike="noStrike">
                  <a:solidFill>
                    <a:srgbClr val="cc0000"/>
                  </a:solidFill>
                  <a:latin typeface="Times New Roman"/>
                </a:rPr>
                <a:t>Kelvin)</a:t>
              </a:r>
              <a:endParaRPr b="0" lang="en-US" sz="5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57040" y="2363760"/>
            <a:ext cx="9772920" cy="1446120"/>
          </a:xfrm>
          <a:prstGeom prst="rect">
            <a:avLst/>
          </a:prstGeom>
          <a:noFill/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570640" y="4114800"/>
            <a:ext cx="3858840" cy="2514600"/>
            <a:chOff x="5570640" y="4114800"/>
            <a:chExt cx="3858840" cy="2514600"/>
          </a:xfrm>
        </p:grpSpPr>
        <p:sp>
          <p:nvSpPr>
            <p:cNvPr id="120" name=""/>
            <p:cNvSpPr/>
            <p:nvPr/>
          </p:nvSpPr>
          <p:spPr>
            <a:xfrm>
              <a:off x="5913720" y="4419720"/>
              <a:ext cx="3344400" cy="18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7920" rIns="97920" tIns="48960" bIns="48960" anchor="t">
              <a:spAutoFit/>
            </a:bodyPr>
            <a:p>
              <a:pPr algn="ctr">
                <a:spcBef>
                  <a:spcPts val="3626"/>
                </a:spcBef>
                <a:tabLst>
                  <a:tab algn="l" pos="0"/>
                  <a:tab algn="l" pos="979560"/>
                  <a:tab algn="l" pos="1959120"/>
                  <a:tab algn="l" pos="2938320"/>
                  <a:tab algn="l" pos="3917880"/>
                  <a:tab algn="l" pos="4897440"/>
                  <a:tab algn="l" pos="5877000"/>
                  <a:tab algn="l" pos="6856560"/>
                  <a:tab algn="l" pos="7835760"/>
                  <a:tab algn="l" pos="8815320"/>
                  <a:tab algn="l" pos="9794880"/>
                  <a:tab algn="l" pos="10774440"/>
                </a:tabLst>
              </a:pPr>
              <a:r>
                <a:rPr b="1" lang="en-US" sz="5800" spc="-1" strike="noStrike">
                  <a:solidFill>
                    <a:srgbClr val="ff6600"/>
                  </a:solidFill>
                  <a:latin typeface="Times New Roman"/>
                </a:rPr>
                <a:t>-273° C (</a:t>
              </a:r>
              <a:r>
                <a:rPr b="1" i="1" lang="en-US" sz="5800" spc="-1" strike="noStrike">
                  <a:solidFill>
                    <a:srgbClr val="ff6600"/>
                  </a:solidFill>
                  <a:latin typeface="Times New Roman"/>
                </a:rPr>
                <a:t>Celsius)</a:t>
              </a:r>
              <a:endParaRPr b="0" lang="en-US" sz="5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70640" y="4114800"/>
              <a:ext cx="3858840" cy="2514600"/>
            </a:xfrm>
            <a:prstGeom prst="ellipse">
              <a:avLst/>
            </a:prstGeom>
            <a:noFill/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BF8-11B5-4717-B3EA-6A17EEDE18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6263-7B68-497F-B5C1-0713BA980E6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D85-421C-487E-95A5-FD0F78DFAD9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DC0-2AC8-4235-A15F-D0C4D9D830C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849-5135-4E98-981D-C19FF8B41FD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B38-61CE-4A4D-B0A3-559110A946C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D07-822A-4B7A-A9C5-03C033FC59C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B17B-4BA4-4C4C-A9EE-94271A4B942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986-1540-4B8D-9475-0C16DA38539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805-9C78-4F8C-BC4E-04A6DB6D4C1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AB49-E4E6-4BCB-A82B-85998DCE9B72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9T08:50:59Z</dcterms:created>
  <dc:creator>Michel Mioche et al.</dc:creator>
  <dc:description/>
  <dc:language>en-US</dc:language>
  <cp:lastModifiedBy>denise cruette</cp:lastModifiedBy>
  <dcterms:modified xsi:type="dcterms:W3CDTF">2003-11-21T17:31:24Z</dcterms:modified>
  <cp:revision>439</cp:revision>
  <dc:subject>Météorologie et Vol à Voile</dc:subject>
  <dc:title>Présentation PowerPoint</dc:title>
</cp:coreProperties>
</file>